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7200" y="2255760"/>
            <a:ext cx="8956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a respiration et sa rég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Trebuchet MS"/>
              </a:rPr>
              <a:t>Le contrôle du </a:t>
            </a:r>
            <a:r>
              <a:rPr b="1" i="1" lang="fr-FR" sz="2800" spc="-1" strike="noStrike">
                <a:solidFill>
                  <a:srgbClr val="000066"/>
                </a:solidFill>
                <a:latin typeface="Trebuchet MS"/>
              </a:rPr>
              <a:t>système respirato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73120" y="1117440"/>
            <a:ext cx="6134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14880" y="1120680"/>
            <a:ext cx="63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UE physiologie, pharmacologie, path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1688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79600" y="281160"/>
            <a:ext cx="41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aster Biologie cellulai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et et path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70120" cy="1514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31640" y="4722840"/>
            <a:ext cx="78184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Adaptation cardiovasculaire à l’ischémie INSERM U 10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Bordeaux Seg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330880" y="725400"/>
            <a:ext cx="3435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ôle du tronc céréb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9160" y="15145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périences de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5680" y="2289240"/>
            <a:ext cx="1671480" cy="292896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ec064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0480" y="25099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mésencéph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720" y="354636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20" y="46594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bulbe rachid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16080" y="2305080"/>
            <a:ext cx="181440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5960" y="3021120"/>
            <a:ext cx="242424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85840" y="4346640"/>
            <a:ext cx="265248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11040" y="5200560"/>
            <a:ext cx="285120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413080" y="4968720"/>
            <a:ext cx="3702240" cy="398880"/>
            <a:chOff x="2413080" y="4968720"/>
            <a:chExt cx="3702240" cy="398880"/>
          </a:xfrm>
        </p:grpSpPr>
        <p:sp>
          <p:nvSpPr>
            <p:cNvPr id="333" name=""/>
            <p:cNvSpPr/>
            <p:nvPr/>
          </p:nvSpPr>
          <p:spPr>
            <a:xfrm>
              <a:off x="3395520" y="4968720"/>
              <a:ext cx="271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1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 arrêt respirato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13080" y="5194440"/>
              <a:ext cx="9396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701720" y="2600280"/>
            <a:ext cx="4443480" cy="491760"/>
            <a:chOff x="1701720" y="2600280"/>
            <a:chExt cx="4443480" cy="491760"/>
          </a:xfrm>
        </p:grpSpPr>
        <p:sp>
          <p:nvSpPr>
            <p:cNvPr id="336" name=""/>
            <p:cNvSpPr/>
            <p:nvPr/>
          </p:nvSpPr>
          <p:spPr>
            <a:xfrm flipV="1">
              <a:off x="1701720" y="2825280"/>
              <a:ext cx="1155960" cy="2667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86120" y="2600280"/>
              <a:ext cx="325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2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 respiration conserv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365120" y="3216240"/>
            <a:ext cx="4587480" cy="631800"/>
            <a:chOff x="1365120" y="3216240"/>
            <a:chExt cx="4587480" cy="631800"/>
          </a:xfrm>
        </p:grpSpPr>
        <p:sp>
          <p:nvSpPr>
            <p:cNvPr id="339" name=""/>
            <p:cNvSpPr/>
            <p:nvPr/>
          </p:nvSpPr>
          <p:spPr>
            <a:xfrm flipV="1">
              <a:off x="1365120" y="3460680"/>
              <a:ext cx="1632240" cy="387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98080" y="3216240"/>
              <a:ext cx="295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3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 respiration ralent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593720" y="3876840"/>
            <a:ext cx="4946760" cy="618840"/>
            <a:chOff x="1593720" y="3876840"/>
            <a:chExt cx="4946760" cy="618840"/>
          </a:xfrm>
        </p:grpSpPr>
        <p:sp>
          <p:nvSpPr>
            <p:cNvPr id="342" name=""/>
            <p:cNvSpPr/>
            <p:nvPr/>
          </p:nvSpPr>
          <p:spPr>
            <a:xfrm flipV="1">
              <a:off x="1593720" y="4108320"/>
              <a:ext cx="1632240" cy="387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44680" y="3876840"/>
              <a:ext cx="329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3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 respiration irréguliè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092600" y="5575320"/>
            <a:ext cx="620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bulbe rachidien : génèse du rythme respi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nt : modulation du rythme respi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7200" y="695160"/>
            <a:ext cx="2765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tronc céréb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87200" y="695160"/>
            <a:ext cx="2727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class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98000" y="589284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82880" y="5308560"/>
            <a:ext cx="0" cy="52092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8080" y="144288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ronc céréb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25680" y="2289240"/>
            <a:ext cx="1671480" cy="292896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ec064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0480" y="25099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mésencéph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720" y="354636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4720" y="46594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bulbe rachid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16080" y="2305080"/>
            <a:ext cx="181440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45960" y="3021120"/>
            <a:ext cx="242424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85840" y="4346640"/>
            <a:ext cx="265248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11040" y="5200560"/>
            <a:ext cx="285120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2760" y="3078000"/>
            <a:ext cx="365040" cy="457200"/>
          </a:xfrm>
          <a:prstGeom prst="ellipse">
            <a:avLst/>
          </a:prstGeom>
          <a:gradFill rotWithShape="0">
            <a:gsLst>
              <a:gs pos="0">
                <a:srgbClr val="fe7755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05160" y="4389480"/>
            <a:ext cx="212760" cy="334800"/>
          </a:xfrm>
          <a:prstGeom prst="ellipse">
            <a:avLst/>
          </a:prstGeom>
          <a:gradFill rotWithShape="0">
            <a:gsLst>
              <a:gs pos="0">
                <a:srgbClr val="fe7755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24120" y="4479840"/>
            <a:ext cx="214200" cy="336600"/>
          </a:xfrm>
          <a:prstGeom prst="ellipse">
            <a:avLst/>
          </a:prstGeom>
          <a:gradFill rotWithShape="0">
            <a:gsLst>
              <a:gs pos="0">
                <a:srgbClr val="fe7755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92800" y="2298600"/>
            <a:ext cx="4374720" cy="703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 respiratoire du pont (PRG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entre pneumotax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23400" y="3340080"/>
            <a:ext cx="2676960" cy="398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entre apneustiqu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5400" y="3719520"/>
            <a:ext cx="339480" cy="425520"/>
          </a:xfrm>
          <a:prstGeom prst="ellipse">
            <a:avLst/>
          </a:prstGeom>
          <a:gradFill rotWithShape="0">
            <a:gsLst>
              <a:gs pos="0">
                <a:srgbClr val="fe9074">
                  <a:alpha val="70196"/>
                </a:srgbClr>
              </a:gs>
              <a:gs pos="100000">
                <a:srgbClr val="ff3300">
                  <a:alpha val="68235"/>
                </a:srgbClr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98920" y="4191120"/>
            <a:ext cx="4135680" cy="398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 respiratoire ventral (V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66960" y="4673520"/>
            <a:ext cx="4013280" cy="703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 respiratoire dorsal (D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629080" y="2598840"/>
            <a:ext cx="1012680" cy="576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781360" y="3594240"/>
            <a:ext cx="860400" cy="25380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552400" y="4432320"/>
            <a:ext cx="1089000" cy="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933280" y="4698720"/>
            <a:ext cx="708120" cy="22860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265640" y="1130400"/>
            <a:ext cx="2546280" cy="45511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87360" y="6060960"/>
            <a:ext cx="80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ue dorsale du tronc cérébral et de la moelle épinière cervi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6360" y="2619360"/>
            <a:ext cx="31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mplexe de pre-Bötzinger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54160" y="468324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11560" y="2838600"/>
            <a:ext cx="15526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0960" y="2309760"/>
            <a:ext cx="27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mplexe de Bötzinger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47880" y="2562120"/>
            <a:ext cx="1967040" cy="5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2960" y="3138480"/>
            <a:ext cx="38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roupe respiratoire ventral ros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6480" y="4125960"/>
            <a:ext cx="38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roupe respiratoire ventral cau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48120" y="3335400"/>
            <a:ext cx="946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52800" y="4311720"/>
            <a:ext cx="12542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3680" y="51624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oyau du nerf phré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65320" y="5367240"/>
            <a:ext cx="2286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5560" y="200664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oyau rétrotrapézoï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06560" y="2200320"/>
            <a:ext cx="1893960" cy="255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7169400" y="264636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reBötz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180560" y="23702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Böt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7183800" y="314172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V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7195320" y="410688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V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7147440" y="515448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hrénic 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183080" y="204300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357600" y="2832120"/>
            <a:ext cx="847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384600" y="2568600"/>
            <a:ext cx="839880" cy="42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242040" y="3328920"/>
            <a:ext cx="982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981400" y="4305240"/>
            <a:ext cx="1243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958000" y="5361120"/>
            <a:ext cx="12477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391080" y="2243160"/>
            <a:ext cx="833400" cy="206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59200" y="3695760"/>
            <a:ext cx="16002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17000" y="351144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oyau du tractus soli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11760" y="3692520"/>
            <a:ext cx="1513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59680" y="3508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TS (D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7200" y="695160"/>
            <a:ext cx="375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anatomo-fonction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974880" y="1641600"/>
            <a:ext cx="769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oyau rétrotrapézoïdal/groupe respiratoire parafacial (RN/pF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mplexe Bötzinger (Bö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mplexe pré-Bötzinger (preBö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groupe respiratoire ventral crâ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groupe respiraroire ventral cau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62040" y="1816200"/>
            <a:ext cx="0" cy="143496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0120" y="17240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rân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5520" y="29685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au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4840" y="361800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eurones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eurones ex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47240" y="3454560"/>
            <a:ext cx="481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énèse du rythme respiratoi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mplexe pré-Bötzinger (preBö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RTN/ pFRG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5120" y="1155600"/>
            <a:ext cx="4135680" cy="398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 respiratoire ventral (V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3520" y="4648320"/>
            <a:ext cx="4000680" cy="703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 respiratoire dorsal (D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4840" y="566244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eurones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55880" y="3451320"/>
            <a:ext cx="4876920" cy="1022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23120" y="522756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oyau du tractus soli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7200" y="695160"/>
            <a:ext cx="375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anatomo-fonction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54080" y="1155600"/>
            <a:ext cx="6240240" cy="398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s respiratoires ventral (VRG) et dorsal (D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9840" y="175248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entre bulbaire inspi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8840" y="5372280"/>
            <a:ext cx="33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entre bulbaire expi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00" y="2206800"/>
            <a:ext cx="9100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déclenchement périodique intrinsèque : génèse du rythme in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bouffées répétitives de PA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muscles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ron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1. période de la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2. apparition et augmentation progressive des PA (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inspiration ac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3. arrêt des PA (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expiration pass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78080" y="5810400"/>
            <a:ext cx="51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espiration calme : aire expiratoire silenci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hyperventilation : aire expiratoire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745800" y="3108240"/>
            <a:ext cx="4887000" cy="1022400"/>
            <a:chOff x="3745800" y="3108240"/>
            <a:chExt cx="4887000" cy="1022400"/>
          </a:xfrm>
        </p:grpSpPr>
        <p:sp>
          <p:nvSpPr>
            <p:cNvPr id="432" name=""/>
            <p:cNvSpPr/>
            <p:nvPr/>
          </p:nvSpPr>
          <p:spPr>
            <a:xfrm>
              <a:off x="3745800" y="3111480"/>
              <a:ext cx="413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génèse du rythme respiratoire :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55880" y="3108240"/>
              <a:ext cx="4876920" cy="1022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7200" y="695160"/>
            <a:ext cx="375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anatomo-fonction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4786200" y="1130400"/>
            <a:ext cx="2546640" cy="45511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 flipH="1">
            <a:off x="7689960" y="264636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reBötz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7701120" y="23702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Böt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7706880" y="204300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TN/pF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878160" y="2832120"/>
            <a:ext cx="847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905160" y="2568600"/>
            <a:ext cx="839880" cy="42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6911640" y="2243160"/>
            <a:ext cx="833400" cy="206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704360" y="314172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V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7715880" y="410688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V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762600" y="3328920"/>
            <a:ext cx="982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6501960" y="4305240"/>
            <a:ext cx="1243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9320" y="1712880"/>
            <a:ext cx="424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énèse du rythme respiratoi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mplexe pré-Bötzinger (preBö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RTN/ pFRG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7960" y="1709640"/>
            <a:ext cx="4178520" cy="1022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genèse du rythme respira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0880" y="725400"/>
            <a:ext cx="3587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ôle du complexe pré-Bötzi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99320" y="1712880"/>
            <a:ext cx="424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énèse du rythme respiratoi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mplexe pré-Bötzinger (preBö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RTN/ pFRG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07960" y="1709640"/>
            <a:ext cx="4178520" cy="1022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9680" y="2968560"/>
            <a:ext cx="8988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RG: destruction des neuron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persistance du rythme respiratoire (R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BötC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eurones déclenchant avant l’i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eurones avec hyperpolarisation post-inspiratoire prolong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hibition des canaux N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procaïne)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arrêt du 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genèse du rythme respira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30880" y="725400"/>
            <a:ext cx="3587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ôle du complexe pré-Bötzi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89440" y="109044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écanismes cellulaires de la génèse du R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200" y="1612800"/>
            <a:ext cx="856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B : assez spéculatif, par manque de données de physiologie cellulaire et de connectivité intercell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0600" y="2324160"/>
            <a:ext cx="844560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ise en évidence de neurones de type « pacemaker »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aibles oscillations intrinsèques du potentiel membra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-45 à -55 m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« conditional bursting pacemakers » : l’activité « pacemaker » est amplifiée par les stimulus excit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urants sodiques a inactivation lente (persistant) : I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Na</a:t>
            </a:r>
            <a:r>
              <a:rPr b="0" i="1" lang="fr-FR" sz="2000" spc="-1" strike="noStrike" baseline="-25000">
                <a:solidFill>
                  <a:srgbClr val="000066"/>
                </a:solidFill>
                <a:latin typeface="Trebuchet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urants potassiques de fuite : I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K</a:t>
            </a:r>
            <a:r>
              <a:rPr b="0" i="1" lang="fr-FR" sz="2000" spc="-1" strike="noStrike" baseline="-25000">
                <a:solidFill>
                  <a:srgbClr val="000066"/>
                </a:solidFill>
                <a:latin typeface="Trebuchet MS"/>
              </a:rPr>
              <a:t>L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98880" y="5969160"/>
            <a:ext cx="749160" cy="393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51240" y="5689440"/>
            <a:ext cx="68256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5920" y="5457960"/>
            <a:ext cx="19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stimulus excit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19640" y="5857920"/>
            <a:ext cx="3301920" cy="339840"/>
          </a:xfrm>
          <a:custGeom>
            <a:avLst/>
            <a:gdLst/>
            <a:ahLst/>
            <a:rect l="l" t="t" r="r" b="b"/>
            <a:pathLst>
              <a:path w="2080" h="262">
                <a:moveTo>
                  <a:pt x="0" y="254"/>
                </a:moveTo>
                <a:lnTo>
                  <a:pt x="440" y="254"/>
                </a:lnTo>
                <a:lnTo>
                  <a:pt x="880" y="0"/>
                </a:lnTo>
                <a:lnTo>
                  <a:pt x="1200" y="0"/>
                </a:lnTo>
                <a:lnTo>
                  <a:pt x="1654" y="262"/>
                </a:lnTo>
                <a:lnTo>
                  <a:pt x="2080" y="2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40800" y="600408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-55 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78960" y="568656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-45 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630840" y="534348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64320" y="5313240"/>
            <a:ext cx="0" cy="52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07160" y="532620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53240" y="53355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96080" y="53355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38920" y="53308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81760" y="53308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915240" y="531504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58080" y="531504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04160" y="532440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47000" y="532440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80120" y="532440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22960" y="532440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genèse du rythme respira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30880" y="725400"/>
            <a:ext cx="3587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mécanismes cellulair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13440" y="123048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ypothèse « pacemaker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496800" y="2779560"/>
            <a:ext cx="3529080" cy="33991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4976640" y="2714760"/>
            <a:ext cx="3463920" cy="360684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4317840" y="1230480"/>
            <a:ext cx="42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ypothèse « réseau de neurones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90480" y="1751040"/>
            <a:ext cx="363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décharge neuronale individu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synchronisation partielle par connection interneur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13080" y="1755720"/>
            <a:ext cx="439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décharge neuronale individuelle im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décharge synchronisée due aux connections interneur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genèse du rythme respira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0880" y="725400"/>
            <a:ext cx="3587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mécanismes cellulair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701640" y="1141560"/>
            <a:ext cx="657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ypothèse du modèle hybride « pacemaker - réseau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8160" y="1635120"/>
            <a:ext cx="50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opulation cellulaire du pre-BötC hétér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678040" y="3498840"/>
            <a:ext cx="308160" cy="29700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71440" y="4287960"/>
            <a:ext cx="308160" cy="2966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14440" y="4876920"/>
            <a:ext cx="308160" cy="2966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467000" y="3709800"/>
            <a:ext cx="1212840" cy="6490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512720" y="3776400"/>
            <a:ext cx="1212840" cy="6490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30360" y="4508640"/>
            <a:ext cx="755640" cy="434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1488600" y="4583160"/>
            <a:ext cx="776520" cy="457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498760" y="3849840"/>
            <a:ext cx="276120" cy="955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572920" y="3890880"/>
            <a:ext cx="276120" cy="957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38160" y="2981160"/>
            <a:ext cx="308160" cy="297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57520" y="2630520"/>
            <a:ext cx="307800" cy="297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24080" y="2906640"/>
            <a:ext cx="308160" cy="297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52760" y="2365200"/>
            <a:ext cx="307800" cy="297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5480" y="3349800"/>
            <a:ext cx="190440" cy="90324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11520" y="2700360"/>
            <a:ext cx="117360" cy="73332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60520" y="3306600"/>
            <a:ext cx="63720" cy="150984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414440" y="3008160"/>
            <a:ext cx="425520" cy="125604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12840" y="5794200"/>
            <a:ext cx="339840" cy="341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16160" y="5840280"/>
            <a:ext cx="339840" cy="341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81160" y="5383080"/>
            <a:ext cx="339840" cy="341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19040" y="4635360"/>
            <a:ext cx="73080" cy="1106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2413080" y="5241960"/>
            <a:ext cx="22320" cy="54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616120" y="5156280"/>
            <a:ext cx="37152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944800" y="3849840"/>
            <a:ext cx="203040" cy="1466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10040" y="57578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« followers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30440" y="3890880"/>
            <a:ext cx="143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« intrinsic bursters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noya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995200" y="2320920"/>
            <a:ext cx="346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« tonic excitatory neurons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16440" y="3087720"/>
            <a:ext cx="240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29200" y="28177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84640" y="28177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45120" y="28224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200560" y="28224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45200" y="280044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00640" y="280044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61120" y="28051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16560" y="28051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8480" y="28116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33920" y="28116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94400" y="28162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649840" y="28162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94480" y="279396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749920" y="279396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0400" y="279864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65840" y="279864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923080" y="28224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978520" y="28224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39000" y="282744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94440" y="282744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38720" y="28051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94520" y="28051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4640" y="28098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310440" y="28098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72360" y="28162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427800" y="28162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488280" y="282096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543720" y="282096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88000" y="279864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43800" y="279864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3920" y="28036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59720" y="28036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15160" y="281448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70600" y="281448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915240" y="279252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970680" y="279252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31160" y="27972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086600" y="27972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130880" y="27972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186680" y="27972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805280" y="3913200"/>
            <a:ext cx="2314800" cy="414360"/>
            <a:chOff x="4805280" y="3913200"/>
            <a:chExt cx="2314800" cy="414360"/>
          </a:xfrm>
        </p:grpSpPr>
        <p:sp>
          <p:nvSpPr>
            <p:cNvPr id="573" name=""/>
            <p:cNvSpPr/>
            <p:nvPr/>
          </p:nvSpPr>
          <p:spPr>
            <a:xfrm>
              <a:off x="5522760" y="4305240"/>
              <a:ext cx="88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11560" y="404496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83280" y="397188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83360" y="394956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5343480" y="3932280"/>
              <a:ext cx="152280" cy="303120"/>
              <a:chOff x="5343480" y="3932280"/>
              <a:chExt cx="152280" cy="303120"/>
            </a:xfrm>
          </p:grpSpPr>
          <p:sp>
            <p:nvSpPr>
              <p:cNvPr id="578" name=""/>
              <p:cNvSpPr/>
              <p:nvPr/>
            </p:nvSpPr>
            <p:spPr>
              <a:xfrm>
                <a:off x="5343480" y="39430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360040" y="39430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378760" y="394956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395680" y="394956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13680" y="395424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30600" y="395424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43920" y="393228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60840" y="393228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79200" y="393696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95760" y="393696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6550200" y="401472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721560" y="394164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21640" y="391968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6881760" y="3913200"/>
              <a:ext cx="152280" cy="303120"/>
              <a:chOff x="6881760" y="3913200"/>
              <a:chExt cx="152280" cy="303120"/>
            </a:xfrm>
          </p:grpSpPr>
          <p:sp>
            <p:nvSpPr>
              <p:cNvPr id="592" name=""/>
              <p:cNvSpPr/>
              <p:nvPr/>
            </p:nvSpPr>
            <p:spPr>
              <a:xfrm>
                <a:off x="6881760" y="392400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898320" y="392400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917040" y="39304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933960" y="39304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951960" y="393516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968880" y="393516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982200" y="391320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999120" y="391320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017480" y="391788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034040" y="391788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4805280" y="4232160"/>
              <a:ext cx="733680" cy="95400"/>
            </a:xfrm>
            <a:custGeom>
              <a:avLst/>
              <a:gdLst/>
              <a:ahLst/>
              <a:rect l="l" t="t" r="r" b="b"/>
              <a:pathLst>
                <a:path w="462" h="60">
                  <a:moveTo>
                    <a:pt x="0" y="60"/>
                  </a:moveTo>
                  <a:lnTo>
                    <a:pt x="134" y="60"/>
                  </a:lnTo>
                  <a:lnTo>
                    <a:pt x="204" y="20"/>
                  </a:lnTo>
                  <a:lnTo>
                    <a:pt x="279" y="0"/>
                  </a:lnTo>
                  <a:lnTo>
                    <a:pt x="429" y="0"/>
                  </a:lnTo>
                  <a:lnTo>
                    <a:pt x="462" y="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86400" y="4200480"/>
              <a:ext cx="733680" cy="95400"/>
            </a:xfrm>
            <a:custGeom>
              <a:avLst/>
              <a:gdLst/>
              <a:ahLst/>
              <a:rect l="l" t="t" r="r" b="b"/>
              <a:pathLst>
                <a:path w="462" h="60">
                  <a:moveTo>
                    <a:pt x="0" y="60"/>
                  </a:moveTo>
                  <a:lnTo>
                    <a:pt x="134" y="60"/>
                  </a:lnTo>
                  <a:lnTo>
                    <a:pt x="204" y="20"/>
                  </a:lnTo>
                  <a:lnTo>
                    <a:pt x="279" y="0"/>
                  </a:lnTo>
                  <a:lnTo>
                    <a:pt x="429" y="0"/>
                  </a:lnTo>
                  <a:lnTo>
                    <a:pt x="462" y="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4805280" y="5527800"/>
            <a:ext cx="2541600" cy="500040"/>
          </a:xfrm>
          <a:custGeom>
            <a:avLst/>
            <a:gdLst/>
            <a:ahLst/>
            <a:rect l="l" t="t" r="r" b="b"/>
            <a:pathLst>
              <a:path w="1601" h="315">
                <a:moveTo>
                  <a:pt x="0" y="315"/>
                </a:moveTo>
                <a:lnTo>
                  <a:pt x="302" y="315"/>
                </a:lnTo>
                <a:lnTo>
                  <a:pt x="302" y="67"/>
                </a:lnTo>
                <a:lnTo>
                  <a:pt x="325" y="27"/>
                </a:lnTo>
                <a:lnTo>
                  <a:pt x="405" y="47"/>
                </a:lnTo>
                <a:lnTo>
                  <a:pt x="422" y="114"/>
                </a:lnTo>
                <a:lnTo>
                  <a:pt x="422" y="174"/>
                </a:lnTo>
                <a:lnTo>
                  <a:pt x="442" y="209"/>
                </a:lnTo>
                <a:lnTo>
                  <a:pt x="462" y="285"/>
                </a:lnTo>
                <a:lnTo>
                  <a:pt x="1112" y="285"/>
                </a:lnTo>
                <a:lnTo>
                  <a:pt x="1293" y="285"/>
                </a:lnTo>
                <a:lnTo>
                  <a:pt x="1293" y="214"/>
                </a:lnTo>
                <a:lnTo>
                  <a:pt x="1293" y="154"/>
                </a:lnTo>
                <a:lnTo>
                  <a:pt x="1306" y="104"/>
                </a:lnTo>
                <a:lnTo>
                  <a:pt x="1306" y="40"/>
                </a:lnTo>
                <a:lnTo>
                  <a:pt x="1338" y="0"/>
                </a:lnTo>
                <a:lnTo>
                  <a:pt x="1385" y="27"/>
                </a:lnTo>
                <a:lnTo>
                  <a:pt x="1393" y="107"/>
                </a:lnTo>
                <a:lnTo>
                  <a:pt x="1400" y="201"/>
                </a:lnTo>
                <a:lnTo>
                  <a:pt x="1414" y="302"/>
                </a:lnTo>
                <a:lnTo>
                  <a:pt x="1601" y="31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genèse du rythme respira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0880" y="712800"/>
            <a:ext cx="35877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mécanismes cellulaire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6880" y="1420920"/>
            <a:ext cx="85410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s échanges gazeux (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et 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 entre le milieu extérieur et l’a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interface milieu-animal : barrière alvéolo-capil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 renouvellement du milieu au niveau de la surface d’é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pompe : ventilation ; tuyauterie :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 transport des gaz dans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  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a libération et la captation d’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et de 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circulation sanguine, pi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aire du bon trav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ajuster les échanges en fonction des besoins : ré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optimiser les coû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7840" y="4357800"/>
            <a:ext cx="8407440" cy="15494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360" y="127080"/>
            <a:ext cx="343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osition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960200" y="3137040"/>
            <a:ext cx="1901160" cy="14349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. expirato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Bö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.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58080" y="3137040"/>
            <a:ext cx="1789920" cy="14043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.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892160" y="3860640"/>
            <a:ext cx="5257800" cy="660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49600" y="3556080"/>
            <a:ext cx="2158920" cy="228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81240" y="391176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Trebuchet MS"/>
              </a:rPr>
              <a:t>R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74920" y="3936960"/>
            <a:ext cx="965160" cy="343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52680" y="4114800"/>
            <a:ext cx="69876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162920" y="4203720"/>
            <a:ext cx="27936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03400" y="400068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i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5000" y="345456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ex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1447920" y="3670200"/>
            <a:ext cx="27936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70680" y="4521240"/>
            <a:ext cx="0" cy="777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95720" y="572292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uscles intercostaux exter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96800" y="539100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diaphragme (n. phré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57680" y="4524480"/>
            <a:ext cx="0" cy="77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15480" y="538308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uscles laryngé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et pharyng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68680" y="4572000"/>
            <a:ext cx="1879560" cy="584280"/>
          </a:xfrm>
          <a:custGeom>
            <a:avLst/>
            <a:gdLst/>
            <a:ahLst/>
            <a:rect l="l" t="t" r="r" b="b"/>
            <a:pathLst>
              <a:path w="1184" h="368">
                <a:moveTo>
                  <a:pt x="0" y="16"/>
                </a:moveTo>
                <a:lnTo>
                  <a:pt x="0" y="368"/>
                </a:lnTo>
                <a:lnTo>
                  <a:pt x="1184" y="368"/>
                </a:lnTo>
                <a:lnTo>
                  <a:pt x="1184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780000" y="4902120"/>
            <a:ext cx="1468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erf v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36040" y="619776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. intercostaux inter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790640" y="3800520"/>
            <a:ext cx="0" cy="2425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mmande bulbaire de la venti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98560" y="1650960"/>
            <a:ext cx="32544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groupe respiratoire vent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34000" y="1663560"/>
            <a:ext cx="31352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groupe respiratoire dors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426440" y="1209600"/>
            <a:ext cx="1497960" cy="2212560"/>
            <a:chOff x="7426440" y="1209600"/>
            <a:chExt cx="1497960" cy="2212560"/>
          </a:xfrm>
        </p:grpSpPr>
        <p:sp>
          <p:nvSpPr>
            <p:cNvPr id="637" name=""/>
            <p:cNvSpPr/>
            <p:nvPr/>
          </p:nvSpPr>
          <p:spPr>
            <a:xfrm>
              <a:off x="7810200" y="1209600"/>
              <a:ext cx="1114200" cy="2166840"/>
            </a:xfrm>
            <a:custGeom>
              <a:avLst/>
              <a:gdLst/>
              <a:ahLst/>
              <a:rect l="l" t="t" r="r" b="b"/>
              <a:pathLst>
                <a:path w="730" h="1280">
                  <a:moveTo>
                    <a:pt x="52" y="92"/>
                  </a:moveTo>
                  <a:cubicBezTo>
                    <a:pt x="45" y="85"/>
                    <a:pt x="46" y="61"/>
                    <a:pt x="52" y="47"/>
                  </a:cubicBezTo>
                  <a:cubicBezTo>
                    <a:pt x="58" y="33"/>
                    <a:pt x="76" y="17"/>
                    <a:pt x="91" y="9"/>
                  </a:cubicBezTo>
                  <a:cubicBezTo>
                    <a:pt x="106" y="1"/>
                    <a:pt x="111" y="0"/>
                    <a:pt x="143" y="1"/>
                  </a:cubicBezTo>
                  <a:cubicBezTo>
                    <a:pt x="175" y="2"/>
                    <a:pt x="245" y="5"/>
                    <a:pt x="283" y="13"/>
                  </a:cubicBezTo>
                  <a:cubicBezTo>
                    <a:pt x="321" y="21"/>
                    <a:pt x="333" y="19"/>
                    <a:pt x="370" y="47"/>
                  </a:cubicBezTo>
                  <a:cubicBezTo>
                    <a:pt x="407" y="75"/>
                    <a:pt x="476" y="145"/>
                    <a:pt x="506" y="183"/>
                  </a:cubicBezTo>
                  <a:cubicBezTo>
                    <a:pt x="536" y="221"/>
                    <a:pt x="543" y="235"/>
                    <a:pt x="551" y="273"/>
                  </a:cubicBezTo>
                  <a:cubicBezTo>
                    <a:pt x="559" y="311"/>
                    <a:pt x="551" y="371"/>
                    <a:pt x="551" y="409"/>
                  </a:cubicBezTo>
                  <a:cubicBezTo>
                    <a:pt x="551" y="447"/>
                    <a:pt x="551" y="477"/>
                    <a:pt x="551" y="500"/>
                  </a:cubicBezTo>
                  <a:cubicBezTo>
                    <a:pt x="551" y="523"/>
                    <a:pt x="551" y="531"/>
                    <a:pt x="551" y="546"/>
                  </a:cubicBezTo>
                  <a:cubicBezTo>
                    <a:pt x="551" y="561"/>
                    <a:pt x="543" y="553"/>
                    <a:pt x="551" y="591"/>
                  </a:cubicBezTo>
                  <a:cubicBezTo>
                    <a:pt x="559" y="629"/>
                    <a:pt x="585" y="725"/>
                    <a:pt x="596" y="772"/>
                  </a:cubicBezTo>
                  <a:cubicBezTo>
                    <a:pt x="607" y="819"/>
                    <a:pt x="607" y="843"/>
                    <a:pt x="615" y="873"/>
                  </a:cubicBezTo>
                  <a:cubicBezTo>
                    <a:pt x="623" y="903"/>
                    <a:pt x="630" y="925"/>
                    <a:pt x="642" y="954"/>
                  </a:cubicBezTo>
                  <a:cubicBezTo>
                    <a:pt x="654" y="983"/>
                    <a:pt x="674" y="1000"/>
                    <a:pt x="687" y="1045"/>
                  </a:cubicBezTo>
                  <a:cubicBezTo>
                    <a:pt x="700" y="1090"/>
                    <a:pt x="713" y="1188"/>
                    <a:pt x="719" y="1225"/>
                  </a:cubicBezTo>
                  <a:cubicBezTo>
                    <a:pt x="725" y="1262"/>
                    <a:pt x="728" y="1261"/>
                    <a:pt x="723" y="1269"/>
                  </a:cubicBezTo>
                  <a:cubicBezTo>
                    <a:pt x="718" y="1277"/>
                    <a:pt x="730" y="1271"/>
                    <a:pt x="687" y="1271"/>
                  </a:cubicBezTo>
                  <a:cubicBezTo>
                    <a:pt x="644" y="1271"/>
                    <a:pt x="510" y="1269"/>
                    <a:pt x="467" y="1269"/>
                  </a:cubicBezTo>
                  <a:cubicBezTo>
                    <a:pt x="424" y="1269"/>
                    <a:pt x="440" y="1280"/>
                    <a:pt x="431" y="1269"/>
                  </a:cubicBezTo>
                  <a:cubicBezTo>
                    <a:pt x="422" y="1258"/>
                    <a:pt x="429" y="1250"/>
                    <a:pt x="411" y="1205"/>
                  </a:cubicBezTo>
                  <a:cubicBezTo>
                    <a:pt x="393" y="1160"/>
                    <a:pt x="346" y="1045"/>
                    <a:pt x="324" y="999"/>
                  </a:cubicBezTo>
                  <a:cubicBezTo>
                    <a:pt x="302" y="953"/>
                    <a:pt x="287" y="949"/>
                    <a:pt x="279" y="929"/>
                  </a:cubicBezTo>
                  <a:cubicBezTo>
                    <a:pt x="271" y="909"/>
                    <a:pt x="283" y="884"/>
                    <a:pt x="275" y="881"/>
                  </a:cubicBezTo>
                  <a:cubicBezTo>
                    <a:pt x="267" y="878"/>
                    <a:pt x="254" y="913"/>
                    <a:pt x="233" y="908"/>
                  </a:cubicBezTo>
                  <a:cubicBezTo>
                    <a:pt x="212" y="903"/>
                    <a:pt x="173" y="875"/>
                    <a:pt x="147" y="853"/>
                  </a:cubicBezTo>
                  <a:cubicBezTo>
                    <a:pt x="121" y="831"/>
                    <a:pt x="91" y="794"/>
                    <a:pt x="75" y="773"/>
                  </a:cubicBezTo>
                  <a:cubicBezTo>
                    <a:pt x="59" y="752"/>
                    <a:pt x="62" y="750"/>
                    <a:pt x="52" y="727"/>
                  </a:cubicBezTo>
                  <a:cubicBezTo>
                    <a:pt x="42" y="704"/>
                    <a:pt x="22" y="675"/>
                    <a:pt x="15" y="637"/>
                  </a:cubicBezTo>
                  <a:cubicBezTo>
                    <a:pt x="8" y="599"/>
                    <a:pt x="0" y="536"/>
                    <a:pt x="7" y="500"/>
                  </a:cubicBezTo>
                  <a:cubicBezTo>
                    <a:pt x="14" y="464"/>
                    <a:pt x="44" y="441"/>
                    <a:pt x="59" y="421"/>
                  </a:cubicBezTo>
                  <a:cubicBezTo>
                    <a:pt x="74" y="401"/>
                    <a:pt x="82" y="393"/>
                    <a:pt x="95" y="381"/>
                  </a:cubicBezTo>
                  <a:cubicBezTo>
                    <a:pt x="108" y="369"/>
                    <a:pt x="120" y="358"/>
                    <a:pt x="135" y="349"/>
                  </a:cubicBezTo>
                  <a:cubicBezTo>
                    <a:pt x="150" y="340"/>
                    <a:pt x="171" y="334"/>
                    <a:pt x="187" y="329"/>
                  </a:cubicBezTo>
                  <a:cubicBezTo>
                    <a:pt x="203" y="324"/>
                    <a:pt x="225" y="328"/>
                    <a:pt x="233" y="319"/>
                  </a:cubicBezTo>
                  <a:cubicBezTo>
                    <a:pt x="241" y="310"/>
                    <a:pt x="235" y="288"/>
                    <a:pt x="233" y="273"/>
                  </a:cubicBezTo>
                  <a:cubicBezTo>
                    <a:pt x="231" y="258"/>
                    <a:pt x="230" y="244"/>
                    <a:pt x="223" y="229"/>
                  </a:cubicBezTo>
                  <a:cubicBezTo>
                    <a:pt x="216" y="214"/>
                    <a:pt x="199" y="198"/>
                    <a:pt x="188" y="183"/>
                  </a:cubicBezTo>
                  <a:cubicBezTo>
                    <a:pt x="177" y="168"/>
                    <a:pt x="169" y="147"/>
                    <a:pt x="159" y="137"/>
                  </a:cubicBezTo>
                  <a:cubicBezTo>
                    <a:pt x="149" y="127"/>
                    <a:pt x="141" y="128"/>
                    <a:pt x="131" y="121"/>
                  </a:cubicBezTo>
                  <a:cubicBezTo>
                    <a:pt x="121" y="114"/>
                    <a:pt x="110" y="97"/>
                    <a:pt x="97" y="92"/>
                  </a:cubicBezTo>
                  <a:cubicBezTo>
                    <a:pt x="84" y="87"/>
                    <a:pt x="59" y="99"/>
                    <a:pt x="52" y="9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50000">
                  <a:srgbClr val="fec064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426440" y="2963160"/>
              <a:ext cx="84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990000"/>
                  </a:solidFill>
                  <a:latin typeface="Trebuchet MS"/>
                </a:rPr>
                <a:t>bulbe rachid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96640" y="2763360"/>
              <a:ext cx="141480" cy="247680"/>
            </a:xfrm>
            <a:prstGeom prst="ellipse">
              <a:avLst/>
            </a:prstGeom>
            <a:gradFill rotWithShape="0">
              <a:gsLst>
                <a:gs pos="0">
                  <a:srgbClr val="fe7755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609400" y="2830320"/>
              <a:ext cx="142560" cy="248760"/>
            </a:xfrm>
            <a:prstGeom prst="ellipse">
              <a:avLst/>
            </a:prstGeom>
            <a:gradFill rotWithShape="0">
              <a:gsLst>
                <a:gs pos="0">
                  <a:srgbClr val="fe7755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746280" y="4073400"/>
            <a:ext cx="385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rtie inférieure du p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effet excitateur sur la zone inspiratoire bulba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rôle dans la respiration normale 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63520" y="1384200"/>
            <a:ext cx="61466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groupe respiratoire du pont : centre pneumotax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63520" y="3467160"/>
            <a:ext cx="40006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entre apneustique 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97040" y="2016000"/>
            <a:ext cx="43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rtie supérieure du p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inhibition de la rampe inspiratoire du centre respiratoire bulb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ntrôle du volume in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87200" y="695160"/>
            <a:ext cx="488628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dulation pontique de la venti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024680" y="2327400"/>
            <a:ext cx="1671480" cy="292896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ec064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96720" y="358452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844960" y="3059280"/>
            <a:ext cx="242388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784480" y="4384800"/>
            <a:ext cx="265284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781760" y="3116160"/>
            <a:ext cx="365400" cy="457200"/>
          </a:xfrm>
          <a:prstGeom prst="ellipse">
            <a:avLst/>
          </a:prstGeom>
          <a:gradFill rotWithShape="0">
            <a:gsLst>
              <a:gs pos="0">
                <a:srgbClr val="fe7755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934400" y="3757680"/>
            <a:ext cx="339480" cy="425520"/>
          </a:xfrm>
          <a:prstGeom prst="ellipse">
            <a:avLst/>
          </a:prstGeom>
          <a:gradFill rotWithShape="0">
            <a:gsLst>
              <a:gs pos="0">
                <a:srgbClr val="fe9074">
                  <a:alpha val="70196"/>
                </a:srgbClr>
              </a:gs>
              <a:gs pos="100000">
                <a:srgbClr val="ff3300">
                  <a:alpha val="68235"/>
                </a:srgbClr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495360" y="139716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émoti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volon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comporte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105520" y="995400"/>
            <a:ext cx="3467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spiration : mécanisme involontaire sous contrôle volon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perventilation volontaire hypoventilation volontaire (diffic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79360" y="622440"/>
            <a:ext cx="400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rtex et hypothalam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79360" y="3708360"/>
            <a:ext cx="82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égration de la commande automatique bulbopontique et du contrôle suprapo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43320" y="4962600"/>
            <a:ext cx="169236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31720" y="4251240"/>
            <a:ext cx="259020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hypothalamus - 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991600" y="6040440"/>
            <a:ext cx="23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00280" y="6010200"/>
            <a:ext cx="3168720" cy="503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84640" y="5329080"/>
            <a:ext cx="0" cy="66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184640" y="4630680"/>
            <a:ext cx="0" cy="319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04640" y="446868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intégrateu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centre bulbopo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266440" y="492588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intégrateu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uscle ventil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(diaphrag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62400" y="4643280"/>
            <a:ext cx="0" cy="1360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95320" y="135000"/>
            <a:ext cx="3570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supra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79360" y="308628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intégration de la comman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159000" y="1905120"/>
            <a:ext cx="2905560" cy="703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entre pneumotax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P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60200" y="3137040"/>
            <a:ext cx="1901160" cy="14349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. expirato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Bö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.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58080" y="3137040"/>
            <a:ext cx="1789920" cy="14043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.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3860640"/>
            <a:ext cx="5257800" cy="660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49600" y="3556080"/>
            <a:ext cx="2158920" cy="228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81240" y="391176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Trebuchet MS"/>
              </a:rPr>
              <a:t>R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74920" y="3936960"/>
            <a:ext cx="965160" cy="343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352680" y="4114800"/>
            <a:ext cx="69876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162920" y="4203720"/>
            <a:ext cx="27936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403400" y="400068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i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194960" y="2082960"/>
            <a:ext cx="1674360" cy="703800"/>
          </a:xfrm>
          <a:prstGeom prst="rect">
            <a:avLst/>
          </a:prstGeom>
          <a:noFill/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pneus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35000" y="345456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ex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1447920" y="3670200"/>
            <a:ext cx="27936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070680" y="4521240"/>
            <a:ext cx="0" cy="777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95720" y="572292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uscles intercostaux exter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996800" y="539100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diaphragme (n. phré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57680" y="4524480"/>
            <a:ext cx="0" cy="77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815480" y="538308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uscles laryngé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et pharyng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3835080" y="2641680"/>
            <a:ext cx="622440" cy="495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546440" y="2641680"/>
            <a:ext cx="622440" cy="495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6896160" y="2854440"/>
            <a:ext cx="355680" cy="282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86600" y="289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28320" y="26542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931640" y="26542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60640" y="3327480"/>
            <a:ext cx="1308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3848040" y="3467160"/>
            <a:ext cx="1308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5320" y="1143000"/>
            <a:ext cx="2858400" cy="398880"/>
          </a:xfrm>
          <a:prstGeom prst="rect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hypothalamus - co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584600" y="15494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68680" y="4572000"/>
            <a:ext cx="1879560" cy="584280"/>
          </a:xfrm>
          <a:custGeom>
            <a:avLst/>
            <a:gdLst/>
            <a:ahLst/>
            <a:rect l="l" t="t" r="r" b="b"/>
            <a:pathLst>
              <a:path w="1184" h="368">
                <a:moveTo>
                  <a:pt x="0" y="16"/>
                </a:moveTo>
                <a:lnTo>
                  <a:pt x="0" y="368"/>
                </a:lnTo>
                <a:lnTo>
                  <a:pt x="1184" y="368"/>
                </a:lnTo>
                <a:lnTo>
                  <a:pt x="1184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780000" y="4902120"/>
            <a:ext cx="1468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erf v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36040" y="619776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. intercostaux inter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790640" y="3800520"/>
            <a:ext cx="0" cy="2425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7200" y="695160"/>
            <a:ext cx="66898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Trebuchet MS"/>
              </a:rPr>
              <a:t>centres de contrôle : relations fonctionnel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58200" y="135000"/>
            <a:ext cx="5138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relations entre centres de 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724200" y="1940040"/>
            <a:ext cx="169236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5160" y="4253040"/>
            <a:ext cx="207504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42520" y="1228680"/>
            <a:ext cx="855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372480" y="3017880"/>
            <a:ext cx="23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25480" y="4876920"/>
            <a:ext cx="1698480" cy="370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Pa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aC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36600" y="3598920"/>
            <a:ext cx="1454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ent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4480" y="3598920"/>
            <a:ext cx="1125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54400" y="4856040"/>
            <a:ext cx="131904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4200" y="4254480"/>
            <a:ext cx="226260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54480" y="4786200"/>
            <a:ext cx="211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extension thorac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irr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81160" y="2987640"/>
            <a:ext cx="3168720" cy="1074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795840" y="3987720"/>
            <a:ext cx="0" cy="8604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00480" y="3976560"/>
            <a:ext cx="1636920" cy="5428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68880" y="3978360"/>
            <a:ext cx="660600" cy="3826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552680" y="2127240"/>
            <a:ext cx="2168280" cy="2102040"/>
          </a:xfrm>
          <a:custGeom>
            <a:avLst/>
            <a:gdLst/>
            <a:ahLst/>
            <a:rect l="l" t="t" r="r" b="b"/>
            <a:pathLst>
              <a:path w="1366" h="1319">
                <a:moveTo>
                  <a:pt x="0" y="1319"/>
                </a:moveTo>
                <a:lnTo>
                  <a:pt x="0" y="0"/>
                </a:lnTo>
                <a:lnTo>
                  <a:pt x="1366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997520" y="1403280"/>
            <a:ext cx="1903320" cy="2849760"/>
          </a:xfrm>
          <a:custGeom>
            <a:avLst/>
            <a:gdLst/>
            <a:ahLst/>
            <a:rect l="l" t="t" r="r" b="b"/>
            <a:pathLst>
              <a:path w="1199" h="1795">
                <a:moveTo>
                  <a:pt x="1199" y="1795"/>
                </a:moveTo>
                <a:lnTo>
                  <a:pt x="119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5400360" y="2136600"/>
            <a:ext cx="150012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519280" y="5054760"/>
            <a:ext cx="73368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65520" y="2306520"/>
            <a:ext cx="0" cy="66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565520" y="1608120"/>
            <a:ext cx="0" cy="318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552680" y="4624200"/>
            <a:ext cx="0" cy="245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7520" y="3773520"/>
            <a:ext cx="2476440" cy="1981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187200" y="695160"/>
            <a:ext cx="66898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ableau géné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390600" y="1144440"/>
          <a:ext cx="8447040" cy="3948120"/>
        </p:xfrm>
        <a:graphic>
          <a:graphicData uri="http://schemas.openxmlformats.org/drawingml/2006/table">
            <a:tbl>
              <a:tblPr/>
              <a:tblGrid>
                <a:gridCol w="2266920"/>
                <a:gridCol w="3166920"/>
                <a:gridCol w="3013200"/>
              </a:tblGrid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variables régul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cap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effec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hémorécepteurs centr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venti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95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[ 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hémorécepteurs périphér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venti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débit sangu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résistances vascul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apteurs rén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érythropoïè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249480" y="1219320"/>
            <a:ext cx="31982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ocalis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face ventrale du bul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ff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modulation de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49760" y="1731960"/>
            <a:ext cx="3008520" cy="1920960"/>
          </a:xfrm>
          <a:custGeom>
            <a:avLst/>
            <a:gdLst/>
            <a:ahLst/>
            <a:rect l="l" t="t" r="r" b="b"/>
            <a:pathLst>
              <a:path w="2368" h="1200">
                <a:moveTo>
                  <a:pt x="0" y="0"/>
                </a:moveTo>
                <a:lnTo>
                  <a:pt x="0" y="776"/>
                </a:lnTo>
                <a:lnTo>
                  <a:pt x="0" y="976"/>
                </a:lnTo>
                <a:lnTo>
                  <a:pt x="388" y="1200"/>
                </a:lnTo>
                <a:lnTo>
                  <a:pt x="2008" y="1200"/>
                </a:lnTo>
                <a:lnTo>
                  <a:pt x="2368" y="992"/>
                </a:lnTo>
                <a:lnTo>
                  <a:pt x="2368" y="664"/>
                </a:lnTo>
                <a:lnTo>
                  <a:pt x="2368" y="24"/>
                </a:lnTo>
              </a:path>
            </a:pathLst>
          </a:custGeom>
          <a:gradFill rotWithShape="0">
            <a:gsLst>
              <a:gs pos="0">
                <a:srgbClr val="e9e9fe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918040" y="1797120"/>
            <a:ext cx="2175120" cy="676080"/>
          </a:xfrm>
          <a:custGeom>
            <a:avLst/>
            <a:gdLst/>
            <a:ahLst/>
            <a:rect l="l" t="t" r="r" b="b"/>
            <a:pathLst>
              <a:path w="1712" h="533">
                <a:moveTo>
                  <a:pt x="0" y="533"/>
                </a:moveTo>
                <a:cubicBezTo>
                  <a:pt x="35" y="461"/>
                  <a:pt x="109" y="165"/>
                  <a:pt x="208" y="93"/>
                </a:cubicBezTo>
                <a:cubicBezTo>
                  <a:pt x="307" y="21"/>
                  <a:pt x="480" y="94"/>
                  <a:pt x="592" y="101"/>
                </a:cubicBezTo>
                <a:cubicBezTo>
                  <a:pt x="704" y="108"/>
                  <a:pt x="787" y="137"/>
                  <a:pt x="880" y="133"/>
                </a:cubicBezTo>
                <a:cubicBezTo>
                  <a:pt x="973" y="129"/>
                  <a:pt x="1073" y="96"/>
                  <a:pt x="1152" y="77"/>
                </a:cubicBezTo>
                <a:cubicBezTo>
                  <a:pt x="1231" y="58"/>
                  <a:pt x="1296" y="26"/>
                  <a:pt x="1352" y="21"/>
                </a:cubicBezTo>
                <a:cubicBezTo>
                  <a:pt x="1408" y="16"/>
                  <a:pt x="1437" y="0"/>
                  <a:pt x="1488" y="45"/>
                </a:cubicBezTo>
                <a:cubicBezTo>
                  <a:pt x="1539" y="90"/>
                  <a:pt x="1619" y="224"/>
                  <a:pt x="1656" y="293"/>
                </a:cubicBezTo>
                <a:cubicBezTo>
                  <a:pt x="1693" y="362"/>
                  <a:pt x="1700" y="426"/>
                  <a:pt x="1712" y="461"/>
                </a:cubicBezTo>
              </a:path>
            </a:pathLst>
          </a:custGeom>
          <a:solidFill>
            <a:srgbClr val="ffa5a5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6172200" y="1776240"/>
            <a:ext cx="1676520" cy="392400"/>
          </a:xfrm>
          <a:custGeom>
            <a:avLst/>
            <a:gdLst/>
            <a:ahLst/>
            <a:rect l="l" t="t" r="r" b="b"/>
            <a:pathLst>
              <a:path w="1320" h="309">
                <a:moveTo>
                  <a:pt x="0" y="309"/>
                </a:moveTo>
                <a:cubicBezTo>
                  <a:pt x="20" y="269"/>
                  <a:pt x="45" y="117"/>
                  <a:pt x="118" y="77"/>
                </a:cubicBezTo>
                <a:cubicBezTo>
                  <a:pt x="191" y="37"/>
                  <a:pt x="342" y="62"/>
                  <a:pt x="437" y="69"/>
                </a:cubicBezTo>
                <a:cubicBezTo>
                  <a:pt x="533" y="76"/>
                  <a:pt x="608" y="118"/>
                  <a:pt x="689" y="117"/>
                </a:cubicBezTo>
                <a:cubicBezTo>
                  <a:pt x="770" y="116"/>
                  <a:pt x="853" y="80"/>
                  <a:pt x="920" y="61"/>
                </a:cubicBezTo>
                <a:cubicBezTo>
                  <a:pt x="987" y="42"/>
                  <a:pt x="1043" y="10"/>
                  <a:pt x="1090" y="5"/>
                </a:cubicBezTo>
                <a:cubicBezTo>
                  <a:pt x="1138" y="0"/>
                  <a:pt x="1176" y="9"/>
                  <a:pt x="1206" y="29"/>
                </a:cubicBezTo>
                <a:cubicBezTo>
                  <a:pt x="1236" y="49"/>
                  <a:pt x="1253" y="89"/>
                  <a:pt x="1272" y="125"/>
                </a:cubicBezTo>
                <a:cubicBezTo>
                  <a:pt x="1291" y="161"/>
                  <a:pt x="1310" y="220"/>
                  <a:pt x="1320" y="245"/>
                </a:cubicBezTo>
              </a:path>
            </a:pathLst>
          </a:custGeom>
          <a:solidFill>
            <a:srgbClr val="cccc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06960" y="2843280"/>
            <a:ext cx="1290600" cy="731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8f8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chém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49760" y="3784680"/>
            <a:ext cx="2998800" cy="328680"/>
          </a:xfrm>
          <a:custGeom>
            <a:avLst/>
            <a:gdLst/>
            <a:ahLst/>
            <a:rect l="l" t="t" r="r" b="b"/>
            <a:pathLst>
              <a:path w="2360" h="226">
                <a:moveTo>
                  <a:pt x="0" y="0"/>
                </a:moveTo>
                <a:lnTo>
                  <a:pt x="392" y="226"/>
                </a:lnTo>
                <a:lnTo>
                  <a:pt x="2008" y="226"/>
                </a:lnTo>
                <a:lnTo>
                  <a:pt x="23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86480" y="2127240"/>
            <a:ext cx="73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7156440" y="2484360"/>
            <a:ext cx="3240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64400" y="251460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55160" y="24354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L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661720" y="1419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1313"/>
                </a:solidFill>
                <a:latin typeface="Trebuchet MS"/>
                <a:ea typeface="Arial"/>
              </a:rPr>
              <a:t>vaiss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486560" y="3776760"/>
            <a:ext cx="45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143400" y="37162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L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835760" y="3835440"/>
            <a:ext cx="10188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59120" y="2070000"/>
            <a:ext cx="994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H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  <a:ea typeface="Arial"/>
              </a:rPr>
              <a:t>+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 H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3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37040" y="5100480"/>
            <a:ext cx="81903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 : passage dans le LCR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effet sur le pH du LCR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effet sur le pH du L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diminution pH ; aumentation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hyper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ugmentation pH ; diminution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hypo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24280" y="1668600"/>
            <a:ext cx="817560" cy="674640"/>
          </a:xfrm>
          <a:custGeom>
            <a:avLst/>
            <a:gdLst/>
            <a:ahLst/>
            <a:rect l="l" t="t" r="r" b="b"/>
            <a:pathLst>
              <a:path w="645" h="532">
                <a:moveTo>
                  <a:pt x="495" y="41"/>
                </a:moveTo>
                <a:cubicBezTo>
                  <a:pt x="491" y="34"/>
                  <a:pt x="488" y="27"/>
                  <a:pt x="467" y="21"/>
                </a:cubicBezTo>
                <a:cubicBezTo>
                  <a:pt x="446" y="15"/>
                  <a:pt x="422" y="0"/>
                  <a:pt x="371" y="5"/>
                </a:cubicBezTo>
                <a:cubicBezTo>
                  <a:pt x="320" y="10"/>
                  <a:pt x="212" y="29"/>
                  <a:pt x="159" y="53"/>
                </a:cubicBezTo>
                <a:cubicBezTo>
                  <a:pt x="106" y="77"/>
                  <a:pt x="81" y="112"/>
                  <a:pt x="55" y="149"/>
                </a:cubicBezTo>
                <a:cubicBezTo>
                  <a:pt x="29" y="186"/>
                  <a:pt x="6" y="226"/>
                  <a:pt x="3" y="277"/>
                </a:cubicBezTo>
                <a:cubicBezTo>
                  <a:pt x="0" y="328"/>
                  <a:pt x="18" y="415"/>
                  <a:pt x="39" y="453"/>
                </a:cubicBezTo>
                <a:cubicBezTo>
                  <a:pt x="60" y="491"/>
                  <a:pt x="92" y="500"/>
                  <a:pt x="127" y="505"/>
                </a:cubicBezTo>
                <a:cubicBezTo>
                  <a:pt x="162" y="510"/>
                  <a:pt x="213" y="480"/>
                  <a:pt x="247" y="481"/>
                </a:cubicBezTo>
                <a:cubicBezTo>
                  <a:pt x="281" y="482"/>
                  <a:pt x="265" y="532"/>
                  <a:pt x="331" y="513"/>
                </a:cubicBezTo>
                <a:cubicBezTo>
                  <a:pt x="397" y="494"/>
                  <a:pt x="580" y="396"/>
                  <a:pt x="645" y="365"/>
                </a:cubicBezTo>
              </a:path>
            </a:pathLst>
          </a:custGeom>
          <a:gradFill rotWithShape="0">
            <a:gsLst>
              <a:gs pos="0">
                <a:srgbClr val="aeaeae"/>
              </a:gs>
              <a:gs pos="50000">
                <a:srgbClr val="dddddd"/>
              </a:gs>
              <a:gs pos="100000">
                <a:srgbClr val="aeaeae"/>
              </a:gs>
            </a:gsLst>
            <a:lin ang="54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260960" y="2298600"/>
            <a:ext cx="326880" cy="53820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solidFill>
            <a:srgbClr val="ff99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440240" y="2313000"/>
            <a:ext cx="474840" cy="304920"/>
          </a:xfrm>
          <a:custGeom>
            <a:avLst/>
            <a:gdLst/>
            <a:ahLst/>
            <a:rect l="l" t="t" r="r" b="b"/>
            <a:pathLst>
              <a:path w="374" h="241">
                <a:moveTo>
                  <a:pt x="12" y="28"/>
                </a:moveTo>
                <a:cubicBezTo>
                  <a:pt x="24" y="17"/>
                  <a:pt x="66" y="17"/>
                  <a:pt x="93" y="13"/>
                </a:cubicBezTo>
                <a:cubicBezTo>
                  <a:pt x="120" y="9"/>
                  <a:pt x="148" y="0"/>
                  <a:pt x="177" y="1"/>
                </a:cubicBezTo>
                <a:cubicBezTo>
                  <a:pt x="206" y="2"/>
                  <a:pt x="240" y="12"/>
                  <a:pt x="265" y="17"/>
                </a:cubicBezTo>
                <a:cubicBezTo>
                  <a:pt x="290" y="22"/>
                  <a:pt x="310" y="27"/>
                  <a:pt x="325" y="29"/>
                </a:cubicBezTo>
                <a:cubicBezTo>
                  <a:pt x="340" y="31"/>
                  <a:pt x="346" y="21"/>
                  <a:pt x="354" y="31"/>
                </a:cubicBezTo>
                <a:cubicBezTo>
                  <a:pt x="362" y="41"/>
                  <a:pt x="372" y="67"/>
                  <a:pt x="373" y="89"/>
                </a:cubicBezTo>
                <a:cubicBezTo>
                  <a:pt x="374" y="111"/>
                  <a:pt x="365" y="148"/>
                  <a:pt x="361" y="165"/>
                </a:cubicBezTo>
                <a:cubicBezTo>
                  <a:pt x="357" y="182"/>
                  <a:pt x="362" y="179"/>
                  <a:pt x="349" y="189"/>
                </a:cubicBezTo>
                <a:cubicBezTo>
                  <a:pt x="336" y="199"/>
                  <a:pt x="307" y="217"/>
                  <a:pt x="281" y="225"/>
                </a:cubicBezTo>
                <a:cubicBezTo>
                  <a:pt x="255" y="233"/>
                  <a:pt x="212" y="236"/>
                  <a:pt x="193" y="237"/>
                </a:cubicBezTo>
                <a:cubicBezTo>
                  <a:pt x="174" y="238"/>
                  <a:pt x="184" y="241"/>
                  <a:pt x="165" y="233"/>
                </a:cubicBezTo>
                <a:cubicBezTo>
                  <a:pt x="146" y="225"/>
                  <a:pt x="100" y="198"/>
                  <a:pt x="77" y="189"/>
                </a:cubicBezTo>
                <a:cubicBezTo>
                  <a:pt x="54" y="180"/>
                  <a:pt x="40" y="185"/>
                  <a:pt x="29" y="177"/>
                </a:cubicBezTo>
                <a:cubicBezTo>
                  <a:pt x="18" y="169"/>
                  <a:pt x="16" y="153"/>
                  <a:pt x="13" y="141"/>
                </a:cubicBezTo>
                <a:cubicBezTo>
                  <a:pt x="10" y="129"/>
                  <a:pt x="12" y="116"/>
                  <a:pt x="13" y="105"/>
                </a:cubicBezTo>
                <a:cubicBezTo>
                  <a:pt x="14" y="94"/>
                  <a:pt x="21" y="90"/>
                  <a:pt x="21" y="77"/>
                </a:cubicBezTo>
                <a:cubicBezTo>
                  <a:pt x="21" y="64"/>
                  <a:pt x="0" y="39"/>
                  <a:pt x="12" y="28"/>
                </a:cubicBezTo>
                <a:close/>
              </a:path>
            </a:pathLst>
          </a:custGeom>
          <a:solidFill>
            <a:srgbClr val="808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259160" y="1695600"/>
            <a:ext cx="709560" cy="672840"/>
          </a:xfrm>
          <a:custGeom>
            <a:avLst/>
            <a:gdLst/>
            <a:ahLst/>
            <a:rect l="l" t="t" r="r" b="b"/>
            <a:pathLst>
              <a:path w="560" h="531">
                <a:moveTo>
                  <a:pt x="256" y="232"/>
                </a:moveTo>
                <a:cubicBezTo>
                  <a:pt x="180" y="242"/>
                  <a:pt x="105" y="252"/>
                  <a:pt x="64" y="284"/>
                </a:cubicBezTo>
                <a:cubicBezTo>
                  <a:pt x="23" y="316"/>
                  <a:pt x="0" y="385"/>
                  <a:pt x="8" y="424"/>
                </a:cubicBezTo>
                <a:cubicBezTo>
                  <a:pt x="16" y="463"/>
                  <a:pt x="61" y="509"/>
                  <a:pt x="112" y="520"/>
                </a:cubicBezTo>
                <a:cubicBezTo>
                  <a:pt x="163" y="531"/>
                  <a:pt x="249" y="493"/>
                  <a:pt x="312" y="492"/>
                </a:cubicBezTo>
                <a:cubicBezTo>
                  <a:pt x="375" y="491"/>
                  <a:pt x="453" y="518"/>
                  <a:pt x="492" y="516"/>
                </a:cubicBezTo>
                <a:cubicBezTo>
                  <a:pt x="531" y="514"/>
                  <a:pt x="533" y="495"/>
                  <a:pt x="544" y="480"/>
                </a:cubicBezTo>
                <a:cubicBezTo>
                  <a:pt x="555" y="465"/>
                  <a:pt x="557" y="459"/>
                  <a:pt x="556" y="428"/>
                </a:cubicBezTo>
                <a:cubicBezTo>
                  <a:pt x="555" y="397"/>
                  <a:pt x="560" y="349"/>
                  <a:pt x="540" y="292"/>
                </a:cubicBezTo>
                <a:cubicBezTo>
                  <a:pt x="520" y="235"/>
                  <a:pt x="483" y="135"/>
                  <a:pt x="436" y="88"/>
                </a:cubicBezTo>
                <a:cubicBezTo>
                  <a:pt x="389" y="41"/>
                  <a:pt x="306" y="23"/>
                  <a:pt x="260" y="12"/>
                </a:cubicBezTo>
                <a:cubicBezTo>
                  <a:pt x="214" y="1"/>
                  <a:pt x="193" y="0"/>
                  <a:pt x="160" y="20"/>
                </a:cubicBezTo>
                <a:cubicBezTo>
                  <a:pt x="127" y="40"/>
                  <a:pt x="83" y="101"/>
                  <a:pt x="60" y="132"/>
                </a:cubicBezTo>
                <a:cubicBezTo>
                  <a:pt x="37" y="163"/>
                  <a:pt x="31" y="192"/>
                  <a:pt x="24" y="208"/>
                </a:cubicBezTo>
              </a:path>
            </a:pathLst>
          </a:custGeom>
          <a:gradFill rotWithShape="0">
            <a:gsLst>
              <a:gs pos="0">
                <a:srgbClr val="aeaeae"/>
              </a:gs>
              <a:gs pos="50000">
                <a:srgbClr val="dddddd"/>
              </a:gs>
              <a:gs pos="100000">
                <a:srgbClr val="aeaeae"/>
              </a:gs>
            </a:gsLst>
            <a:lin ang="54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22840" y="2768760"/>
            <a:ext cx="419040" cy="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centra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5800" y="4205160"/>
            <a:ext cx="41338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ensibilité et nature des capteur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06720" y="4608360"/>
            <a:ext cx="115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H,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61360" y="104940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nature moléculaire du cap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71480" y="1407960"/>
            <a:ext cx="7191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hydrase carbonique (AC) nécess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pteurs moléculaires : canaux ioniques sensibles au pH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naux Kir (canaux K+ rectifiants entra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naux TASK (canaux K+ faiblement rectifia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canaux K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inhibés par H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utres récepteurs : P2X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, 5-HT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06360" y="4146480"/>
            <a:ext cx="2749680" cy="2022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270440" y="5432400"/>
            <a:ext cx="1132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655360" y="543240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CO3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2760840" y="3760920"/>
            <a:ext cx="315360" cy="761760"/>
            <a:chOff x="2760840" y="3760920"/>
            <a:chExt cx="315360" cy="761760"/>
          </a:xfrm>
        </p:grpSpPr>
        <p:grpSp>
          <p:nvGrpSpPr>
            <p:cNvPr id="771" name=""/>
            <p:cNvGrpSpPr/>
            <p:nvPr/>
          </p:nvGrpSpPr>
          <p:grpSpPr>
            <a:xfrm>
              <a:off x="2760840" y="3989520"/>
              <a:ext cx="315360" cy="297720"/>
              <a:chOff x="2760840" y="3989520"/>
              <a:chExt cx="315360" cy="297720"/>
            </a:xfrm>
          </p:grpSpPr>
          <p:sp>
            <p:nvSpPr>
              <p:cNvPr id="772" name=""/>
              <p:cNvSpPr/>
              <p:nvPr/>
            </p:nvSpPr>
            <p:spPr>
              <a:xfrm rot="16200000">
                <a:off x="2825640" y="4081680"/>
                <a:ext cx="180000" cy="13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6200000">
                <a:off x="2881800" y="4089600"/>
                <a:ext cx="29448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6200000">
                <a:off x="2660400" y="4092840"/>
                <a:ext cx="29448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2914560" y="3760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3306600" y="4002120"/>
            <a:ext cx="315360" cy="298080"/>
            <a:chOff x="3306600" y="4002120"/>
            <a:chExt cx="315360" cy="298080"/>
          </a:xfrm>
        </p:grpSpPr>
        <p:sp>
          <p:nvSpPr>
            <p:cNvPr id="777" name=""/>
            <p:cNvSpPr/>
            <p:nvPr/>
          </p:nvSpPr>
          <p:spPr>
            <a:xfrm rot="16200000">
              <a:off x="3371400" y="4094280"/>
              <a:ext cx="180360" cy="13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6200000">
              <a:off x="3427560" y="410256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6200000">
              <a:off x="3206160" y="410580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3460680" y="3773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2227320" y="3760920"/>
            <a:ext cx="315360" cy="761760"/>
            <a:chOff x="2227320" y="3760920"/>
            <a:chExt cx="315360" cy="761760"/>
          </a:xfrm>
        </p:grpSpPr>
        <p:grpSp>
          <p:nvGrpSpPr>
            <p:cNvPr id="782" name=""/>
            <p:cNvGrpSpPr/>
            <p:nvPr/>
          </p:nvGrpSpPr>
          <p:grpSpPr>
            <a:xfrm>
              <a:off x="2227320" y="3989520"/>
              <a:ext cx="315360" cy="297720"/>
              <a:chOff x="2227320" y="3989520"/>
              <a:chExt cx="315360" cy="297720"/>
            </a:xfrm>
          </p:grpSpPr>
          <p:sp>
            <p:nvSpPr>
              <p:cNvPr id="783" name=""/>
              <p:cNvSpPr/>
              <p:nvPr/>
            </p:nvSpPr>
            <p:spPr>
              <a:xfrm rot="16200000">
                <a:off x="2292120" y="4081680"/>
                <a:ext cx="180000" cy="13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6200000">
                <a:off x="2348280" y="4089600"/>
                <a:ext cx="29448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6200000">
                <a:off x="2126880" y="4092840"/>
                <a:ext cx="29448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2381040" y="3760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374560" y="5584680"/>
            <a:ext cx="327240" cy="88920"/>
            <a:chOff x="2374560" y="5584680"/>
            <a:chExt cx="327240" cy="88920"/>
          </a:xfrm>
        </p:grpSpPr>
        <p:sp>
          <p:nvSpPr>
            <p:cNvPr id="788" name=""/>
            <p:cNvSpPr/>
            <p:nvPr/>
          </p:nvSpPr>
          <p:spPr>
            <a:xfrm>
              <a:off x="2382480" y="5584680"/>
              <a:ext cx="319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2374560" y="5673600"/>
              <a:ext cx="319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4087080" y="3384720"/>
            <a:ext cx="46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canaux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dépolaris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 flipV="1">
            <a:off x="2450880" y="5003640"/>
            <a:ext cx="36828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844720" y="5003640"/>
            <a:ext cx="2556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933640" y="4978440"/>
            <a:ext cx="35568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353680" y="499104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05000" y="455760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043080" y="45957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 N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700000" y="457056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45640" y="49528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41720" y="5016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901160" y="338760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K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64640" y="34005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154040" y="4240080"/>
            <a:ext cx="3530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d’un neurone isol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= 1 mmHg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 : 1,5 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359280" y="5668920"/>
            <a:ext cx="1011240" cy="632880"/>
            <a:chOff x="359280" y="5668920"/>
            <a:chExt cx="1011240" cy="632880"/>
          </a:xfrm>
        </p:grpSpPr>
        <p:sp>
          <p:nvSpPr>
            <p:cNvPr id="804" name=""/>
            <p:cNvSpPr/>
            <p:nvPr/>
          </p:nvSpPr>
          <p:spPr>
            <a:xfrm>
              <a:off x="359280" y="5931000"/>
              <a:ext cx="534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Trebuchet MS"/>
                </a:rPr>
                <a:t>CO</a:t>
              </a:r>
              <a:r>
                <a:rPr b="0" lang="fr-FR" sz="1600" spc="-1" strike="noStrike" baseline="-25000">
                  <a:solidFill>
                    <a:srgbClr val="000066"/>
                  </a:solidFill>
                  <a:latin typeface="Trebuchet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815760" y="5668920"/>
              <a:ext cx="554760" cy="478800"/>
              <a:chOff x="815760" y="5668920"/>
              <a:chExt cx="554760" cy="478800"/>
            </a:xfrm>
          </p:grpSpPr>
          <p:sp>
            <p:nvSpPr>
              <p:cNvPr id="806" name=""/>
              <p:cNvSpPr/>
              <p:nvPr/>
            </p:nvSpPr>
            <p:spPr>
              <a:xfrm flipH="1">
                <a:off x="858240" y="574848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815760" y="566892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8" name=""/>
          <p:cNvSpPr/>
          <p:nvPr/>
        </p:nvSpPr>
        <p:spPr>
          <a:xfrm>
            <a:off x="2425680" y="563868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centra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784760" y="712800"/>
            <a:ext cx="41338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ensibilité et nature des capteur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2235240" y="3616200"/>
            <a:ext cx="571320" cy="190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400480" y="3616200"/>
            <a:ext cx="253800" cy="1901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43560" y="4254480"/>
            <a:ext cx="39132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un seul capteur ne peut pas expliquer la sensibilité et la bande passante de la chémosensibilité à la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296720" y="5584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898280" y="5584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500200" y="5584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099240" y="5584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698640" y="5584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50320" y="52070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50320" y="48610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50320" y="45133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320" y="416556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50320" y="381780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50320" y="34718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1338120" y="5522400"/>
            <a:ext cx="1800" cy="4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1638360" y="5522760"/>
            <a:ext cx="144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1936800" y="5522400"/>
            <a:ext cx="1440" cy="4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236680" y="5522760"/>
            <a:ext cx="324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2538360" y="5522400"/>
            <a:ext cx="1800" cy="4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838600" y="5522760"/>
            <a:ext cx="288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3139920" y="5522400"/>
            <a:ext cx="1800" cy="4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3438360" y="5522760"/>
            <a:ext cx="180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3738600" y="5522400"/>
            <a:ext cx="3240" cy="4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346040" y="5522760"/>
            <a:ext cx="24019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189080" y="534996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19320" y="5176800"/>
            <a:ext cx="331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89080" y="500220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19320" y="4829040"/>
            <a:ext cx="331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89080" y="4654440"/>
            <a:ext cx="63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219320" y="4481640"/>
            <a:ext cx="331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189080" y="430848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219320" y="4133880"/>
            <a:ext cx="331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189080" y="3960720"/>
            <a:ext cx="63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219320" y="3787920"/>
            <a:ext cx="331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189080" y="361332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1252440" y="3611520"/>
            <a:ext cx="1800" cy="1727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35240" y="3616200"/>
            <a:ext cx="2406600" cy="1733760"/>
          </a:xfrm>
          <a:custGeom>
            <a:avLst/>
            <a:gdLst/>
            <a:ahLst/>
            <a:rect l="l" t="t" r="r" b="b"/>
            <a:pathLst>
              <a:path w="4563" h="3276">
                <a:moveTo>
                  <a:pt x="0" y="3276"/>
                </a:moveTo>
                <a:lnTo>
                  <a:pt x="77" y="3276"/>
                </a:lnTo>
                <a:lnTo>
                  <a:pt x="154" y="3276"/>
                </a:lnTo>
                <a:lnTo>
                  <a:pt x="231" y="3276"/>
                </a:lnTo>
                <a:lnTo>
                  <a:pt x="310" y="3275"/>
                </a:lnTo>
                <a:lnTo>
                  <a:pt x="387" y="3275"/>
                </a:lnTo>
                <a:lnTo>
                  <a:pt x="464" y="3274"/>
                </a:lnTo>
                <a:lnTo>
                  <a:pt x="541" y="3274"/>
                </a:lnTo>
                <a:lnTo>
                  <a:pt x="618" y="3272"/>
                </a:lnTo>
                <a:lnTo>
                  <a:pt x="695" y="3270"/>
                </a:lnTo>
                <a:lnTo>
                  <a:pt x="773" y="3267"/>
                </a:lnTo>
                <a:lnTo>
                  <a:pt x="851" y="3264"/>
                </a:lnTo>
                <a:lnTo>
                  <a:pt x="928" y="3258"/>
                </a:lnTo>
                <a:lnTo>
                  <a:pt x="1005" y="3251"/>
                </a:lnTo>
                <a:lnTo>
                  <a:pt x="1083" y="3240"/>
                </a:lnTo>
                <a:lnTo>
                  <a:pt x="1160" y="3227"/>
                </a:lnTo>
                <a:lnTo>
                  <a:pt x="1237" y="3208"/>
                </a:lnTo>
                <a:lnTo>
                  <a:pt x="1314" y="3183"/>
                </a:lnTo>
                <a:lnTo>
                  <a:pt x="1391" y="3149"/>
                </a:lnTo>
                <a:lnTo>
                  <a:pt x="1470" y="3107"/>
                </a:lnTo>
                <a:lnTo>
                  <a:pt x="1547" y="3050"/>
                </a:lnTo>
                <a:lnTo>
                  <a:pt x="1624" y="2979"/>
                </a:lnTo>
                <a:lnTo>
                  <a:pt x="1701" y="2890"/>
                </a:lnTo>
                <a:lnTo>
                  <a:pt x="1778" y="2781"/>
                </a:lnTo>
                <a:lnTo>
                  <a:pt x="1855" y="2649"/>
                </a:lnTo>
                <a:lnTo>
                  <a:pt x="1933" y="2495"/>
                </a:lnTo>
                <a:lnTo>
                  <a:pt x="2011" y="2320"/>
                </a:lnTo>
                <a:lnTo>
                  <a:pt x="2088" y="2127"/>
                </a:lnTo>
                <a:lnTo>
                  <a:pt x="2165" y="1920"/>
                </a:lnTo>
                <a:lnTo>
                  <a:pt x="2243" y="1708"/>
                </a:lnTo>
                <a:lnTo>
                  <a:pt x="2320" y="1496"/>
                </a:lnTo>
                <a:lnTo>
                  <a:pt x="2397" y="1291"/>
                </a:lnTo>
                <a:lnTo>
                  <a:pt x="2474" y="1100"/>
                </a:lnTo>
                <a:lnTo>
                  <a:pt x="2551" y="926"/>
                </a:lnTo>
                <a:lnTo>
                  <a:pt x="2630" y="772"/>
                </a:lnTo>
                <a:lnTo>
                  <a:pt x="2707" y="638"/>
                </a:lnTo>
                <a:lnTo>
                  <a:pt x="2784" y="523"/>
                </a:lnTo>
                <a:lnTo>
                  <a:pt x="2861" y="427"/>
                </a:lnTo>
                <a:lnTo>
                  <a:pt x="2938" y="348"/>
                </a:lnTo>
                <a:lnTo>
                  <a:pt x="3015" y="281"/>
                </a:lnTo>
                <a:lnTo>
                  <a:pt x="3093" y="227"/>
                </a:lnTo>
                <a:lnTo>
                  <a:pt x="3171" y="183"/>
                </a:lnTo>
                <a:lnTo>
                  <a:pt x="3248" y="147"/>
                </a:lnTo>
                <a:lnTo>
                  <a:pt x="3325" y="119"/>
                </a:lnTo>
                <a:lnTo>
                  <a:pt x="3403" y="96"/>
                </a:lnTo>
                <a:lnTo>
                  <a:pt x="3480" y="76"/>
                </a:lnTo>
                <a:lnTo>
                  <a:pt x="3557" y="61"/>
                </a:lnTo>
                <a:lnTo>
                  <a:pt x="3634" y="48"/>
                </a:lnTo>
                <a:lnTo>
                  <a:pt x="3711" y="39"/>
                </a:lnTo>
                <a:lnTo>
                  <a:pt x="3790" y="31"/>
                </a:lnTo>
                <a:lnTo>
                  <a:pt x="3867" y="24"/>
                </a:lnTo>
                <a:lnTo>
                  <a:pt x="3944" y="18"/>
                </a:lnTo>
                <a:lnTo>
                  <a:pt x="4021" y="15"/>
                </a:lnTo>
                <a:lnTo>
                  <a:pt x="4098" y="10"/>
                </a:lnTo>
                <a:lnTo>
                  <a:pt x="4175" y="8"/>
                </a:lnTo>
                <a:lnTo>
                  <a:pt x="4253" y="6"/>
                </a:lnTo>
                <a:lnTo>
                  <a:pt x="4331" y="3"/>
                </a:lnTo>
                <a:lnTo>
                  <a:pt x="4408" y="2"/>
                </a:lnTo>
                <a:lnTo>
                  <a:pt x="4485" y="1"/>
                </a:lnTo>
                <a:lnTo>
                  <a:pt x="456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16200000">
            <a:off x="383040" y="4456800"/>
            <a:ext cx="44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eff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37680" y="57340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365120" y="3654360"/>
            <a:ext cx="2373480" cy="1647720"/>
          </a:xfrm>
          <a:custGeom>
            <a:avLst/>
            <a:gdLst/>
            <a:ahLst/>
            <a:rect l="l" t="t" r="r" b="b"/>
            <a:pathLst>
              <a:path w="4673" h="3415">
                <a:moveTo>
                  <a:pt x="0" y="3415"/>
                </a:moveTo>
                <a:lnTo>
                  <a:pt x="79" y="3407"/>
                </a:lnTo>
                <a:lnTo>
                  <a:pt x="158" y="3395"/>
                </a:lnTo>
                <a:lnTo>
                  <a:pt x="237" y="3382"/>
                </a:lnTo>
                <a:lnTo>
                  <a:pt x="317" y="3369"/>
                </a:lnTo>
                <a:lnTo>
                  <a:pt x="396" y="3351"/>
                </a:lnTo>
                <a:lnTo>
                  <a:pt x="475" y="3332"/>
                </a:lnTo>
                <a:lnTo>
                  <a:pt x="554" y="3309"/>
                </a:lnTo>
                <a:lnTo>
                  <a:pt x="633" y="3282"/>
                </a:lnTo>
                <a:lnTo>
                  <a:pt x="712" y="3252"/>
                </a:lnTo>
                <a:lnTo>
                  <a:pt x="791" y="3219"/>
                </a:lnTo>
                <a:lnTo>
                  <a:pt x="872" y="3180"/>
                </a:lnTo>
                <a:lnTo>
                  <a:pt x="951" y="3137"/>
                </a:lnTo>
                <a:lnTo>
                  <a:pt x="1030" y="3089"/>
                </a:lnTo>
                <a:lnTo>
                  <a:pt x="1109" y="3036"/>
                </a:lnTo>
                <a:lnTo>
                  <a:pt x="1188" y="2977"/>
                </a:lnTo>
                <a:lnTo>
                  <a:pt x="1267" y="2914"/>
                </a:lnTo>
                <a:lnTo>
                  <a:pt x="1346" y="2843"/>
                </a:lnTo>
                <a:lnTo>
                  <a:pt x="1425" y="2768"/>
                </a:lnTo>
                <a:lnTo>
                  <a:pt x="1505" y="2688"/>
                </a:lnTo>
                <a:lnTo>
                  <a:pt x="1584" y="2603"/>
                </a:lnTo>
                <a:lnTo>
                  <a:pt x="1663" y="2512"/>
                </a:lnTo>
                <a:lnTo>
                  <a:pt x="1742" y="2417"/>
                </a:lnTo>
                <a:lnTo>
                  <a:pt x="1821" y="2318"/>
                </a:lnTo>
                <a:lnTo>
                  <a:pt x="1900" y="2215"/>
                </a:lnTo>
                <a:lnTo>
                  <a:pt x="1980" y="2111"/>
                </a:lnTo>
                <a:lnTo>
                  <a:pt x="2060" y="2005"/>
                </a:lnTo>
                <a:lnTo>
                  <a:pt x="2139" y="1898"/>
                </a:lnTo>
                <a:lnTo>
                  <a:pt x="2218" y="1789"/>
                </a:lnTo>
                <a:lnTo>
                  <a:pt x="2297" y="1682"/>
                </a:lnTo>
                <a:lnTo>
                  <a:pt x="2376" y="1576"/>
                </a:lnTo>
                <a:lnTo>
                  <a:pt x="2455" y="1471"/>
                </a:lnTo>
                <a:lnTo>
                  <a:pt x="2534" y="1370"/>
                </a:lnTo>
                <a:lnTo>
                  <a:pt x="2613" y="1271"/>
                </a:lnTo>
                <a:lnTo>
                  <a:pt x="2693" y="1175"/>
                </a:lnTo>
                <a:lnTo>
                  <a:pt x="2772" y="1083"/>
                </a:lnTo>
                <a:lnTo>
                  <a:pt x="2851" y="996"/>
                </a:lnTo>
                <a:lnTo>
                  <a:pt x="2930" y="913"/>
                </a:lnTo>
                <a:lnTo>
                  <a:pt x="3009" y="834"/>
                </a:lnTo>
                <a:lnTo>
                  <a:pt x="3088" y="759"/>
                </a:lnTo>
                <a:lnTo>
                  <a:pt x="3168" y="689"/>
                </a:lnTo>
                <a:lnTo>
                  <a:pt x="3248" y="623"/>
                </a:lnTo>
                <a:lnTo>
                  <a:pt x="3327" y="562"/>
                </a:lnTo>
                <a:lnTo>
                  <a:pt x="3406" y="505"/>
                </a:lnTo>
                <a:lnTo>
                  <a:pt x="3485" y="452"/>
                </a:lnTo>
                <a:lnTo>
                  <a:pt x="3564" y="402"/>
                </a:lnTo>
                <a:lnTo>
                  <a:pt x="3643" y="356"/>
                </a:lnTo>
                <a:lnTo>
                  <a:pt x="3722" y="314"/>
                </a:lnTo>
                <a:lnTo>
                  <a:pt x="3801" y="274"/>
                </a:lnTo>
                <a:lnTo>
                  <a:pt x="3881" y="239"/>
                </a:lnTo>
                <a:lnTo>
                  <a:pt x="3960" y="205"/>
                </a:lnTo>
                <a:lnTo>
                  <a:pt x="4039" y="174"/>
                </a:lnTo>
                <a:lnTo>
                  <a:pt x="4118" y="145"/>
                </a:lnTo>
                <a:lnTo>
                  <a:pt x="4197" y="119"/>
                </a:lnTo>
                <a:lnTo>
                  <a:pt x="4277" y="95"/>
                </a:lnTo>
                <a:lnTo>
                  <a:pt x="4356" y="73"/>
                </a:lnTo>
                <a:lnTo>
                  <a:pt x="4436" y="52"/>
                </a:lnTo>
                <a:lnTo>
                  <a:pt x="4515" y="34"/>
                </a:lnTo>
                <a:lnTo>
                  <a:pt x="4594" y="16"/>
                </a:lnTo>
                <a:lnTo>
                  <a:pt x="467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83000" y="1751040"/>
            <a:ext cx="601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émorécepteur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rande sensibilité  (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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2-3 mmHg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20-30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arge spectre (grande bande passante) : 20-90 mm H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270080" y="4133880"/>
            <a:ext cx="2473200" cy="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38400" y="4826160"/>
            <a:ext cx="2504880" cy="108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179240" y="2792520"/>
            <a:ext cx="3530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d’un neurone isol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= 1 mmHg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 : 1,5 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0280" y="5994360"/>
            <a:ext cx="39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ensibilité et bande passante sont opposé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centra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784760" y="712800"/>
            <a:ext cx="41338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ensibilité et nature des capteur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61360" y="104940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nature moléculaire du cap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423360" y="1352520"/>
            <a:ext cx="54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ypothèse du réseau en parallèle et en sé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92120" y="1771560"/>
            <a:ext cx="7026120" cy="642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es canaux ont des bandes passantes différent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anaux en parallèle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bande passante globale lar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2120" y="2571840"/>
            <a:ext cx="7026120" cy="642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a sensibilité des neurones est augmentée en réseau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eurones en série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sensibilité globale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77760" y="4010040"/>
            <a:ext cx="2749680" cy="2022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041840" y="5295960"/>
            <a:ext cx="1132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426760" y="529596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CO3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2532240" y="3624120"/>
            <a:ext cx="315360" cy="762120"/>
            <a:chOff x="2532240" y="3624120"/>
            <a:chExt cx="315360" cy="762120"/>
          </a:xfrm>
        </p:grpSpPr>
        <p:grpSp>
          <p:nvGrpSpPr>
            <p:cNvPr id="872" name=""/>
            <p:cNvGrpSpPr/>
            <p:nvPr/>
          </p:nvGrpSpPr>
          <p:grpSpPr>
            <a:xfrm>
              <a:off x="2532240" y="3852720"/>
              <a:ext cx="315360" cy="298080"/>
              <a:chOff x="2532240" y="3852720"/>
              <a:chExt cx="315360" cy="298080"/>
            </a:xfrm>
          </p:grpSpPr>
          <p:sp>
            <p:nvSpPr>
              <p:cNvPr id="873" name=""/>
              <p:cNvSpPr/>
              <p:nvPr/>
            </p:nvSpPr>
            <p:spPr>
              <a:xfrm rot="16200000">
                <a:off x="2596680" y="3944880"/>
                <a:ext cx="180360" cy="13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2653200" y="395316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2431800" y="395640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2685960" y="36241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3078000" y="3865680"/>
            <a:ext cx="315360" cy="298080"/>
            <a:chOff x="3078000" y="3865680"/>
            <a:chExt cx="315360" cy="298080"/>
          </a:xfrm>
        </p:grpSpPr>
        <p:sp>
          <p:nvSpPr>
            <p:cNvPr id="878" name=""/>
            <p:cNvSpPr/>
            <p:nvPr/>
          </p:nvSpPr>
          <p:spPr>
            <a:xfrm rot="16200000">
              <a:off x="3142800" y="3957840"/>
              <a:ext cx="180360" cy="13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6200000">
              <a:off x="3198960" y="396612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6200000">
              <a:off x="2977560" y="396936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3232080" y="36370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998720" y="3624120"/>
            <a:ext cx="315360" cy="762120"/>
            <a:chOff x="1998720" y="3624120"/>
            <a:chExt cx="315360" cy="762120"/>
          </a:xfrm>
        </p:grpSpPr>
        <p:grpSp>
          <p:nvGrpSpPr>
            <p:cNvPr id="883" name=""/>
            <p:cNvGrpSpPr/>
            <p:nvPr/>
          </p:nvGrpSpPr>
          <p:grpSpPr>
            <a:xfrm>
              <a:off x="1998720" y="3852720"/>
              <a:ext cx="315360" cy="298080"/>
              <a:chOff x="1998720" y="3852720"/>
              <a:chExt cx="315360" cy="298080"/>
            </a:xfrm>
          </p:grpSpPr>
          <p:sp>
            <p:nvSpPr>
              <p:cNvPr id="884" name=""/>
              <p:cNvSpPr/>
              <p:nvPr/>
            </p:nvSpPr>
            <p:spPr>
              <a:xfrm rot="16200000">
                <a:off x="2063160" y="3944880"/>
                <a:ext cx="180360" cy="13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6200000">
                <a:off x="2119680" y="395316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6200000">
                <a:off x="1898280" y="395640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2152440" y="36241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2145960" y="5448240"/>
            <a:ext cx="327240" cy="88920"/>
            <a:chOff x="2145960" y="5448240"/>
            <a:chExt cx="327240" cy="88920"/>
          </a:xfrm>
        </p:grpSpPr>
        <p:sp>
          <p:nvSpPr>
            <p:cNvPr id="889" name=""/>
            <p:cNvSpPr/>
            <p:nvPr/>
          </p:nvSpPr>
          <p:spPr>
            <a:xfrm>
              <a:off x="2153880" y="5448240"/>
              <a:ext cx="319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145960" y="5537160"/>
              <a:ext cx="319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 flipV="1">
            <a:off x="2222280" y="4867200"/>
            <a:ext cx="36828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2616120" y="4867200"/>
            <a:ext cx="2556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2705040" y="4841640"/>
            <a:ext cx="355680" cy="39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125080" y="485460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976400" y="442116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14480" y="445932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 N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71400" y="443376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417040" y="481644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913120" y="4879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939320" y="325116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K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36040" y="32637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016600" y="4010040"/>
            <a:ext cx="2749320" cy="2022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080320" y="5295960"/>
            <a:ext cx="1132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465240" y="529596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CO3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6570720" y="3624120"/>
            <a:ext cx="315360" cy="762120"/>
            <a:chOff x="6570720" y="3624120"/>
            <a:chExt cx="315360" cy="762120"/>
          </a:xfrm>
        </p:grpSpPr>
        <p:grpSp>
          <p:nvGrpSpPr>
            <p:cNvPr id="906" name=""/>
            <p:cNvGrpSpPr/>
            <p:nvPr/>
          </p:nvGrpSpPr>
          <p:grpSpPr>
            <a:xfrm>
              <a:off x="6570720" y="3852720"/>
              <a:ext cx="315360" cy="298080"/>
              <a:chOff x="6570720" y="3852720"/>
              <a:chExt cx="315360" cy="298080"/>
            </a:xfrm>
          </p:grpSpPr>
          <p:sp>
            <p:nvSpPr>
              <p:cNvPr id="907" name=""/>
              <p:cNvSpPr/>
              <p:nvPr/>
            </p:nvSpPr>
            <p:spPr>
              <a:xfrm rot="16200000">
                <a:off x="6635160" y="3944880"/>
                <a:ext cx="180360" cy="13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6200000">
                <a:off x="6691680" y="395316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6200000">
                <a:off x="6470280" y="395640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>
              <a:off x="6724440" y="36241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7116840" y="3865680"/>
            <a:ext cx="315360" cy="298080"/>
            <a:chOff x="7116840" y="3865680"/>
            <a:chExt cx="315360" cy="298080"/>
          </a:xfrm>
        </p:grpSpPr>
        <p:sp>
          <p:nvSpPr>
            <p:cNvPr id="912" name=""/>
            <p:cNvSpPr/>
            <p:nvPr/>
          </p:nvSpPr>
          <p:spPr>
            <a:xfrm rot="16200000">
              <a:off x="7181280" y="3957840"/>
              <a:ext cx="1803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6200000">
              <a:off x="7237800" y="396612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6200000">
              <a:off x="7016400" y="396936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7270920" y="36370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6037200" y="3624120"/>
            <a:ext cx="315360" cy="762120"/>
            <a:chOff x="6037200" y="3624120"/>
            <a:chExt cx="315360" cy="762120"/>
          </a:xfrm>
        </p:grpSpPr>
        <p:grpSp>
          <p:nvGrpSpPr>
            <p:cNvPr id="917" name=""/>
            <p:cNvGrpSpPr/>
            <p:nvPr/>
          </p:nvGrpSpPr>
          <p:grpSpPr>
            <a:xfrm>
              <a:off x="6037200" y="3852720"/>
              <a:ext cx="315360" cy="298080"/>
              <a:chOff x="6037200" y="3852720"/>
              <a:chExt cx="315360" cy="298080"/>
            </a:xfrm>
          </p:grpSpPr>
          <p:sp>
            <p:nvSpPr>
              <p:cNvPr id="918" name=""/>
              <p:cNvSpPr/>
              <p:nvPr/>
            </p:nvSpPr>
            <p:spPr>
              <a:xfrm rot="16200000">
                <a:off x="6102000" y="3944880"/>
                <a:ext cx="180360" cy="13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16200000">
                <a:off x="6158160" y="395316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6200000">
                <a:off x="5936760" y="395640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6191280" y="36241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6184800" y="5448240"/>
            <a:ext cx="327240" cy="88920"/>
            <a:chOff x="6184800" y="5448240"/>
            <a:chExt cx="327240" cy="88920"/>
          </a:xfrm>
        </p:grpSpPr>
        <p:sp>
          <p:nvSpPr>
            <p:cNvPr id="923" name=""/>
            <p:cNvSpPr/>
            <p:nvPr/>
          </p:nvSpPr>
          <p:spPr>
            <a:xfrm>
              <a:off x="6192360" y="5448240"/>
              <a:ext cx="319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6184800" y="5537160"/>
              <a:ext cx="319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 flipH="1" flipV="1">
            <a:off x="6260760" y="4867200"/>
            <a:ext cx="36828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6654960" y="4867200"/>
            <a:ext cx="2520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6743880" y="4841640"/>
            <a:ext cx="355320" cy="39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163560" y="485460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014880" y="442116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853320" y="445932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 N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510240" y="443376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455520" y="481644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51600" y="4879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77800" y="325116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K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374520" y="32637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3720960" y="4803840"/>
            <a:ext cx="1206360" cy="622080"/>
            <a:chOff x="3720960" y="4803840"/>
            <a:chExt cx="1206360" cy="622080"/>
          </a:xfrm>
        </p:grpSpPr>
        <p:sp>
          <p:nvSpPr>
            <p:cNvPr id="937" name=""/>
            <p:cNvSpPr/>
            <p:nvPr/>
          </p:nvSpPr>
          <p:spPr>
            <a:xfrm>
              <a:off x="4749480" y="4803840"/>
              <a:ext cx="177840" cy="62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720960" y="5121360"/>
              <a:ext cx="10159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785000" y="4803840"/>
            <a:ext cx="1206360" cy="622080"/>
            <a:chOff x="7785000" y="4803840"/>
            <a:chExt cx="1206360" cy="622080"/>
          </a:xfrm>
        </p:grpSpPr>
        <p:sp>
          <p:nvSpPr>
            <p:cNvPr id="940" name=""/>
            <p:cNvSpPr/>
            <p:nvPr/>
          </p:nvSpPr>
          <p:spPr>
            <a:xfrm>
              <a:off x="8813520" y="4803840"/>
              <a:ext cx="177840" cy="62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785000" y="5121360"/>
              <a:ext cx="10159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4204080" y="5541840"/>
            <a:ext cx="1011240" cy="632880"/>
            <a:chOff x="4204080" y="5541840"/>
            <a:chExt cx="1011240" cy="632880"/>
          </a:xfrm>
        </p:grpSpPr>
        <p:sp>
          <p:nvSpPr>
            <p:cNvPr id="943" name=""/>
            <p:cNvSpPr/>
            <p:nvPr/>
          </p:nvSpPr>
          <p:spPr>
            <a:xfrm>
              <a:off x="4204080" y="5803920"/>
              <a:ext cx="534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Trebuchet MS"/>
                </a:rPr>
                <a:t>CO</a:t>
              </a:r>
              <a:r>
                <a:rPr b="0" lang="fr-FR" sz="1600" spc="-1" strike="noStrike" baseline="-25000">
                  <a:solidFill>
                    <a:srgbClr val="000066"/>
                  </a:solidFill>
                  <a:latin typeface="Trebuchet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4660560" y="5541840"/>
              <a:ext cx="554760" cy="478800"/>
              <a:chOff x="4660560" y="5541840"/>
              <a:chExt cx="554760" cy="478800"/>
            </a:xfrm>
          </p:grpSpPr>
          <p:sp>
            <p:nvSpPr>
              <p:cNvPr id="945" name=""/>
              <p:cNvSpPr/>
              <p:nvPr/>
            </p:nvSpPr>
            <p:spPr>
              <a:xfrm flipH="1">
                <a:off x="4703040" y="562140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4660560" y="554184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7" name=""/>
          <p:cNvGrpSpPr/>
          <p:nvPr/>
        </p:nvGrpSpPr>
        <p:grpSpPr>
          <a:xfrm>
            <a:off x="130680" y="5532120"/>
            <a:ext cx="1011240" cy="632880"/>
            <a:chOff x="130680" y="5532120"/>
            <a:chExt cx="1011240" cy="632880"/>
          </a:xfrm>
        </p:grpSpPr>
        <p:sp>
          <p:nvSpPr>
            <p:cNvPr id="948" name=""/>
            <p:cNvSpPr/>
            <p:nvPr/>
          </p:nvSpPr>
          <p:spPr>
            <a:xfrm>
              <a:off x="130680" y="5794200"/>
              <a:ext cx="534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Trebuchet MS"/>
                </a:rPr>
                <a:t>CO</a:t>
              </a:r>
              <a:r>
                <a:rPr b="0" lang="fr-FR" sz="1600" spc="-1" strike="noStrike" baseline="-25000">
                  <a:solidFill>
                    <a:srgbClr val="000066"/>
                  </a:solidFill>
                  <a:latin typeface="Trebuchet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"/>
            <p:cNvGrpSpPr/>
            <p:nvPr/>
          </p:nvGrpSpPr>
          <p:grpSpPr>
            <a:xfrm>
              <a:off x="587160" y="5532120"/>
              <a:ext cx="554760" cy="478800"/>
              <a:chOff x="587160" y="5532120"/>
              <a:chExt cx="554760" cy="478800"/>
            </a:xfrm>
          </p:grpSpPr>
          <p:sp>
            <p:nvSpPr>
              <p:cNvPr id="950" name=""/>
              <p:cNvSpPr/>
              <p:nvPr/>
            </p:nvSpPr>
            <p:spPr>
              <a:xfrm flipH="1">
                <a:off x="629640" y="561168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587160" y="553212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3898800" y="4549680"/>
            <a:ext cx="749520" cy="428760"/>
            <a:chOff x="3898800" y="4549680"/>
            <a:chExt cx="749520" cy="428760"/>
          </a:xfrm>
        </p:grpSpPr>
        <p:sp>
          <p:nvSpPr>
            <p:cNvPr id="953" name=""/>
            <p:cNvSpPr/>
            <p:nvPr/>
          </p:nvSpPr>
          <p:spPr>
            <a:xfrm>
              <a:off x="3962520" y="4549680"/>
              <a:ext cx="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140000" y="4549680"/>
              <a:ext cx="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330800" y="4549680"/>
              <a:ext cx="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521240" y="4549680"/>
              <a:ext cx="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98800" y="497844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7886880" y="4549680"/>
            <a:ext cx="749160" cy="428760"/>
            <a:chOff x="7886880" y="4549680"/>
            <a:chExt cx="749160" cy="428760"/>
          </a:xfrm>
        </p:grpSpPr>
        <p:sp>
          <p:nvSpPr>
            <p:cNvPr id="959" name=""/>
            <p:cNvSpPr/>
            <p:nvPr/>
          </p:nvSpPr>
          <p:spPr>
            <a:xfrm>
              <a:off x="7924680" y="4549680"/>
              <a:ext cx="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001000" y="4549680"/>
              <a:ext cx="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077320" y="4549680"/>
              <a:ext cx="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153280" y="4549680"/>
              <a:ext cx="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886880" y="497844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229600" y="4549680"/>
              <a:ext cx="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305920" y="4549680"/>
              <a:ext cx="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381880" y="4549680"/>
              <a:ext cx="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445600" y="4549680"/>
              <a:ext cx="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521560" y="4549680"/>
              <a:ext cx="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597880" y="4549680"/>
              <a:ext cx="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centra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784760" y="712800"/>
            <a:ext cx="41338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ensibilité et nature des capteur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61360" y="104940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nature moléculaire du cap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70440" y="6308640"/>
            <a:ext cx="5613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+ sensibilité directe à la PC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? (connexine 2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46280" y="4732200"/>
            <a:ext cx="785808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ffusion de l’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dans l’organisme : cascade de pression décroissante entre les différents compart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aintien du gradient de pression partielle entre le sang artériel et les tis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5760" y="1467000"/>
            <a:ext cx="4311360" cy="2989800"/>
            <a:chOff x="185760" y="1467000"/>
            <a:chExt cx="4311360" cy="2989800"/>
          </a:xfrm>
        </p:grpSpPr>
        <p:sp>
          <p:nvSpPr>
            <p:cNvPr id="89" name=""/>
            <p:cNvSpPr/>
            <p:nvPr/>
          </p:nvSpPr>
          <p:spPr>
            <a:xfrm>
              <a:off x="1924200" y="163188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1560" y="42130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1720" y="3894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1720" y="3565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1720" y="3236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1720" y="29098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1880" y="25671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880" y="22384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1880" y="19112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1880" y="15843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19160" y="4324320"/>
              <a:ext cx="3360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7160" y="43149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25560" y="414972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7160" y="398628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25560" y="382284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160" y="365760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25560" y="3494160"/>
              <a:ext cx="68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7160" y="33321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5560" y="3166920"/>
              <a:ext cx="6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7160" y="300348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5560" y="284004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7160" y="267480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5560" y="2511360"/>
              <a:ext cx="6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7160" y="234648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25560" y="2182680"/>
              <a:ext cx="68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7160" y="202104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25560" y="185580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57160" y="16923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993600" y="1658880"/>
              <a:ext cx="5040" cy="26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22400" y="1855800"/>
              <a:ext cx="3249720" cy="2214720"/>
            </a:xfrm>
            <a:custGeom>
              <a:avLst/>
              <a:gdLst/>
              <a:ahLst/>
              <a:rect l="l" t="t" r="r" b="b"/>
              <a:pathLst>
                <a:path w="1176" h="1208">
                  <a:moveTo>
                    <a:pt x="0" y="0"/>
                  </a:moveTo>
                  <a:lnTo>
                    <a:pt x="328" y="0"/>
                  </a:lnTo>
                  <a:lnTo>
                    <a:pt x="328" y="452"/>
                  </a:lnTo>
                  <a:lnTo>
                    <a:pt x="660" y="452"/>
                  </a:lnTo>
                  <a:lnTo>
                    <a:pt x="660" y="492"/>
                  </a:lnTo>
                  <a:lnTo>
                    <a:pt x="984" y="492"/>
                  </a:lnTo>
                  <a:lnTo>
                    <a:pt x="1176" y="1208"/>
                  </a:lnTo>
                  <a:lnTo>
                    <a:pt x="996" y="896"/>
                  </a:lnTo>
                  <a:lnTo>
                    <a:pt x="660" y="896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32040" y="1467000"/>
              <a:ext cx="11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ir inspir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6680" y="2263680"/>
              <a:ext cx="85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lvé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37240" y="21430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sa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4200" y="2216160"/>
              <a:ext cx="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95640" y="2759040"/>
              <a:ext cx="3333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73880" y="235260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tiss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4840" y="28479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rtéri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31760" y="3502080"/>
              <a:ext cx="92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veine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54440" y="162864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9760" y="161928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-321480" y="2805480"/>
              <a:ext cx="132696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PO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Trebuchet MS"/>
                  <a:ea typeface="Arial"/>
                </a:rPr>
                <a:t>2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 (mm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847960" y="2752560"/>
              <a:ext cx="0" cy="7430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492800" y="1471680"/>
            <a:ext cx="4347720" cy="2974320"/>
            <a:chOff x="4492800" y="1471680"/>
            <a:chExt cx="4347720" cy="2974320"/>
          </a:xfrm>
        </p:grpSpPr>
        <p:sp>
          <p:nvSpPr>
            <p:cNvPr id="132" name=""/>
            <p:cNvSpPr/>
            <p:nvPr/>
          </p:nvSpPr>
          <p:spPr>
            <a:xfrm>
              <a:off x="6229440" y="162072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06800" y="4202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36960" y="3882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36960" y="3554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36960" y="3225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36960" y="2898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48120" y="2556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48120" y="2227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8120" y="1900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48120" y="1573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24400" y="4313160"/>
              <a:ext cx="3360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62400" y="430380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30800" y="413856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62400" y="397512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30800" y="3811680"/>
              <a:ext cx="6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62400" y="3646440"/>
              <a:ext cx="1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30800" y="3483000"/>
              <a:ext cx="684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62400" y="3321000"/>
              <a:ext cx="1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30800" y="3156120"/>
              <a:ext cx="6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62400" y="2992320"/>
              <a:ext cx="1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30800" y="282888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62400" y="266400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30800" y="250020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62400" y="233532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30800" y="2171880"/>
              <a:ext cx="684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62400" y="200988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30800" y="184464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62400" y="168120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299200" y="1647720"/>
              <a:ext cx="4680" cy="26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44120" y="235116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ir expir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59320" y="1868400"/>
              <a:ext cx="85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lvé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59760" y="18590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sa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26200" y="3119400"/>
              <a:ext cx="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75520" y="2986200"/>
              <a:ext cx="3333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17280" y="147168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tiss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58240" y="297972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rtéri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40240" y="2494080"/>
              <a:ext cx="92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veine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59680" y="1617840"/>
              <a:ext cx="0" cy="269532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55000" y="160812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3912840" y="2724480"/>
              <a:ext cx="147168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PCO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Trebuchet MS"/>
                  <a:ea typeface="Arial"/>
                </a:rPr>
                <a:t>2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 (mm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95960" y="2502000"/>
              <a:ext cx="3085920" cy="939600"/>
            </a:xfrm>
            <a:custGeom>
              <a:avLst/>
              <a:gdLst/>
              <a:ahLst/>
              <a:rect l="l" t="t" r="r" b="b"/>
              <a:pathLst>
                <a:path w="1944" h="592">
                  <a:moveTo>
                    <a:pt x="0" y="592"/>
                  </a:moveTo>
                  <a:lnTo>
                    <a:pt x="584" y="592"/>
                  </a:lnTo>
                  <a:lnTo>
                    <a:pt x="584" y="304"/>
                  </a:lnTo>
                  <a:lnTo>
                    <a:pt x="1176" y="304"/>
                  </a:lnTo>
                  <a:lnTo>
                    <a:pt x="1176" y="208"/>
                  </a:lnTo>
                  <a:lnTo>
                    <a:pt x="1736" y="208"/>
                  </a:lnTo>
                  <a:lnTo>
                    <a:pt x="1944" y="0"/>
                  </a:lnTo>
                  <a:lnTo>
                    <a:pt x="1734" y="302"/>
                  </a:lnTo>
                  <a:lnTo>
                    <a:pt x="1290" y="30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10600" y="2830680"/>
              <a:ext cx="3333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9360" y="127080"/>
            <a:ext cx="343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osition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7026120" y="2666880"/>
            <a:ext cx="911520" cy="457200"/>
          </a:xfrm>
          <a:custGeom>
            <a:avLst/>
            <a:gdLst/>
            <a:ahLst/>
            <a:rect l="l" t="t" r="r" b="b"/>
            <a:pathLst>
              <a:path w="884" h="479">
                <a:moveTo>
                  <a:pt x="24" y="479"/>
                </a:moveTo>
                <a:cubicBezTo>
                  <a:pt x="12" y="414"/>
                  <a:pt x="0" y="350"/>
                  <a:pt x="12" y="287"/>
                </a:cubicBezTo>
                <a:cubicBezTo>
                  <a:pt x="24" y="224"/>
                  <a:pt x="49" y="148"/>
                  <a:pt x="96" y="103"/>
                </a:cubicBezTo>
                <a:cubicBezTo>
                  <a:pt x="143" y="58"/>
                  <a:pt x="221" y="30"/>
                  <a:pt x="296" y="15"/>
                </a:cubicBezTo>
                <a:cubicBezTo>
                  <a:pt x="371" y="0"/>
                  <a:pt x="479" y="3"/>
                  <a:pt x="548" y="11"/>
                </a:cubicBezTo>
                <a:cubicBezTo>
                  <a:pt x="617" y="19"/>
                  <a:pt x="669" y="39"/>
                  <a:pt x="708" y="63"/>
                </a:cubicBezTo>
                <a:cubicBezTo>
                  <a:pt x="747" y="87"/>
                  <a:pt x="758" y="119"/>
                  <a:pt x="784" y="155"/>
                </a:cubicBezTo>
                <a:cubicBezTo>
                  <a:pt x="810" y="191"/>
                  <a:pt x="847" y="244"/>
                  <a:pt x="864" y="279"/>
                </a:cubicBezTo>
                <a:cubicBezTo>
                  <a:pt x="881" y="314"/>
                  <a:pt x="880" y="346"/>
                  <a:pt x="884" y="363"/>
                </a:cubicBezTo>
              </a:path>
            </a:pathLst>
          </a:custGeom>
          <a:noFill/>
          <a:ln w="228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694560" y="3032280"/>
            <a:ext cx="1139760" cy="1314360"/>
          </a:xfrm>
          <a:custGeom>
            <a:avLst/>
            <a:gdLst/>
            <a:ahLst/>
            <a:rect l="l" t="t" r="r" b="b"/>
            <a:pathLst>
              <a:path w="894" h="1102">
                <a:moveTo>
                  <a:pt x="668" y="266"/>
                </a:moveTo>
                <a:cubicBezTo>
                  <a:pt x="687" y="280"/>
                  <a:pt x="745" y="315"/>
                  <a:pt x="776" y="350"/>
                </a:cubicBezTo>
                <a:cubicBezTo>
                  <a:pt x="807" y="385"/>
                  <a:pt x="837" y="424"/>
                  <a:pt x="856" y="474"/>
                </a:cubicBezTo>
                <a:cubicBezTo>
                  <a:pt x="875" y="524"/>
                  <a:pt x="890" y="587"/>
                  <a:pt x="892" y="650"/>
                </a:cubicBezTo>
                <a:cubicBezTo>
                  <a:pt x="894" y="713"/>
                  <a:pt x="881" y="793"/>
                  <a:pt x="868" y="850"/>
                </a:cubicBezTo>
                <a:cubicBezTo>
                  <a:pt x="855" y="907"/>
                  <a:pt x="833" y="959"/>
                  <a:pt x="812" y="994"/>
                </a:cubicBezTo>
                <a:cubicBezTo>
                  <a:pt x="791" y="1029"/>
                  <a:pt x="772" y="1040"/>
                  <a:pt x="744" y="1058"/>
                </a:cubicBezTo>
                <a:cubicBezTo>
                  <a:pt x="716" y="1076"/>
                  <a:pt x="697" y="1102"/>
                  <a:pt x="644" y="1102"/>
                </a:cubicBezTo>
                <a:cubicBezTo>
                  <a:pt x="591" y="1102"/>
                  <a:pt x="497" y="1087"/>
                  <a:pt x="424" y="1058"/>
                </a:cubicBezTo>
                <a:cubicBezTo>
                  <a:pt x="351" y="1029"/>
                  <a:pt x="263" y="975"/>
                  <a:pt x="204" y="930"/>
                </a:cubicBezTo>
                <a:cubicBezTo>
                  <a:pt x="145" y="885"/>
                  <a:pt x="105" y="845"/>
                  <a:pt x="72" y="786"/>
                </a:cubicBezTo>
                <a:cubicBezTo>
                  <a:pt x="39" y="727"/>
                  <a:pt x="16" y="631"/>
                  <a:pt x="8" y="574"/>
                </a:cubicBezTo>
                <a:cubicBezTo>
                  <a:pt x="0" y="517"/>
                  <a:pt x="19" y="477"/>
                  <a:pt x="24" y="442"/>
                </a:cubicBezTo>
                <a:cubicBezTo>
                  <a:pt x="29" y="407"/>
                  <a:pt x="31" y="401"/>
                  <a:pt x="40" y="362"/>
                </a:cubicBezTo>
                <a:cubicBezTo>
                  <a:pt x="49" y="323"/>
                  <a:pt x="48" y="266"/>
                  <a:pt x="76" y="210"/>
                </a:cubicBezTo>
                <a:cubicBezTo>
                  <a:pt x="104" y="154"/>
                  <a:pt x="140" y="52"/>
                  <a:pt x="208" y="26"/>
                </a:cubicBezTo>
                <a:cubicBezTo>
                  <a:pt x="276" y="0"/>
                  <a:pt x="426" y="48"/>
                  <a:pt x="484" y="54"/>
                </a:cubicBezTo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e17070"/>
              </a:gs>
              <a:gs pos="100000">
                <a:srgbClr val="cc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162920" y="2995560"/>
            <a:ext cx="515880" cy="503280"/>
          </a:xfrm>
          <a:custGeom>
            <a:avLst/>
            <a:gdLst/>
            <a:ahLst/>
            <a:rect l="l" t="t" r="r" b="b"/>
            <a:pathLst>
              <a:path w="405" h="421">
                <a:moveTo>
                  <a:pt x="0" y="71"/>
                </a:moveTo>
                <a:cubicBezTo>
                  <a:pt x="8" y="62"/>
                  <a:pt x="23" y="26"/>
                  <a:pt x="48" y="15"/>
                </a:cubicBezTo>
                <a:cubicBezTo>
                  <a:pt x="73" y="4"/>
                  <a:pt x="117" y="0"/>
                  <a:pt x="148" y="3"/>
                </a:cubicBezTo>
                <a:cubicBezTo>
                  <a:pt x="179" y="6"/>
                  <a:pt x="206" y="17"/>
                  <a:pt x="236" y="31"/>
                </a:cubicBezTo>
                <a:cubicBezTo>
                  <a:pt x="266" y="45"/>
                  <a:pt x="303" y="63"/>
                  <a:pt x="328" y="87"/>
                </a:cubicBezTo>
                <a:cubicBezTo>
                  <a:pt x="353" y="111"/>
                  <a:pt x="371" y="144"/>
                  <a:pt x="384" y="175"/>
                </a:cubicBezTo>
                <a:cubicBezTo>
                  <a:pt x="397" y="206"/>
                  <a:pt x="403" y="246"/>
                  <a:pt x="404" y="275"/>
                </a:cubicBezTo>
                <a:cubicBezTo>
                  <a:pt x="405" y="304"/>
                  <a:pt x="396" y="332"/>
                  <a:pt x="392" y="351"/>
                </a:cubicBezTo>
                <a:cubicBezTo>
                  <a:pt x="388" y="370"/>
                  <a:pt x="405" y="380"/>
                  <a:pt x="380" y="387"/>
                </a:cubicBezTo>
                <a:cubicBezTo>
                  <a:pt x="355" y="394"/>
                  <a:pt x="299" y="421"/>
                  <a:pt x="240" y="391"/>
                </a:cubicBezTo>
                <a:cubicBezTo>
                  <a:pt x="181" y="361"/>
                  <a:pt x="69" y="245"/>
                  <a:pt x="24" y="207"/>
                </a:cubicBezTo>
              </a:path>
            </a:pathLst>
          </a:custGeom>
          <a:gradFill rotWithShape="0">
            <a:gsLst>
              <a:gs pos="0">
                <a:srgbClr val="c77676"/>
              </a:gs>
              <a:gs pos="50000">
                <a:srgbClr val="990000"/>
              </a:gs>
              <a:gs pos="100000">
                <a:srgbClr val="c7767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647040" y="3048120"/>
            <a:ext cx="393480" cy="504720"/>
          </a:xfrm>
          <a:custGeom>
            <a:avLst/>
            <a:gdLst/>
            <a:ahLst/>
            <a:rect l="l" t="t" r="r" b="b"/>
            <a:pathLst>
              <a:path w="309" h="423">
                <a:moveTo>
                  <a:pt x="65" y="423"/>
                </a:moveTo>
                <a:cubicBezTo>
                  <a:pt x="41" y="394"/>
                  <a:pt x="18" y="366"/>
                  <a:pt x="9" y="331"/>
                </a:cubicBezTo>
                <a:cubicBezTo>
                  <a:pt x="0" y="296"/>
                  <a:pt x="9" y="248"/>
                  <a:pt x="13" y="215"/>
                </a:cubicBezTo>
                <a:cubicBezTo>
                  <a:pt x="17" y="182"/>
                  <a:pt x="20" y="161"/>
                  <a:pt x="33" y="135"/>
                </a:cubicBezTo>
                <a:cubicBezTo>
                  <a:pt x="46" y="109"/>
                  <a:pt x="73" y="77"/>
                  <a:pt x="89" y="59"/>
                </a:cubicBezTo>
                <a:cubicBezTo>
                  <a:pt x="105" y="41"/>
                  <a:pt x="112" y="36"/>
                  <a:pt x="129" y="27"/>
                </a:cubicBezTo>
                <a:cubicBezTo>
                  <a:pt x="146" y="18"/>
                  <a:pt x="171" y="6"/>
                  <a:pt x="189" y="3"/>
                </a:cubicBezTo>
                <a:cubicBezTo>
                  <a:pt x="207" y="0"/>
                  <a:pt x="222" y="0"/>
                  <a:pt x="237" y="7"/>
                </a:cubicBezTo>
                <a:cubicBezTo>
                  <a:pt x="252" y="14"/>
                  <a:pt x="272" y="32"/>
                  <a:pt x="281" y="47"/>
                </a:cubicBezTo>
                <a:cubicBezTo>
                  <a:pt x="290" y="62"/>
                  <a:pt x="289" y="74"/>
                  <a:pt x="293" y="95"/>
                </a:cubicBezTo>
                <a:cubicBezTo>
                  <a:pt x="297" y="116"/>
                  <a:pt x="309" y="144"/>
                  <a:pt x="305" y="175"/>
                </a:cubicBezTo>
                <a:cubicBezTo>
                  <a:pt x="301" y="206"/>
                  <a:pt x="289" y="251"/>
                  <a:pt x="269" y="279"/>
                </a:cubicBezTo>
                <a:cubicBezTo>
                  <a:pt x="249" y="307"/>
                  <a:pt x="220" y="319"/>
                  <a:pt x="185" y="343"/>
                </a:cubicBezTo>
                <a:cubicBezTo>
                  <a:pt x="150" y="367"/>
                  <a:pt x="87" y="406"/>
                  <a:pt x="61" y="423"/>
                </a:cubicBezTo>
              </a:path>
            </a:pathLst>
          </a:custGeom>
          <a:gradFill rotWithShape="0">
            <a:gsLst>
              <a:gs pos="0">
                <a:srgbClr val="c77676"/>
              </a:gs>
              <a:gs pos="50000">
                <a:srgbClr val="990000"/>
              </a:gs>
              <a:gs pos="100000">
                <a:srgbClr val="c7767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105680" y="1614600"/>
            <a:ext cx="179280" cy="1017360"/>
          </a:xfrm>
          <a:custGeom>
            <a:avLst/>
            <a:gdLst/>
            <a:ahLst/>
            <a:rect l="l" t="t" r="r" b="b"/>
            <a:pathLst>
              <a:path w="141" h="852">
                <a:moveTo>
                  <a:pt x="133" y="852"/>
                </a:moveTo>
                <a:cubicBezTo>
                  <a:pt x="137" y="798"/>
                  <a:pt x="141" y="745"/>
                  <a:pt x="129" y="668"/>
                </a:cubicBezTo>
                <a:cubicBezTo>
                  <a:pt x="117" y="591"/>
                  <a:pt x="81" y="467"/>
                  <a:pt x="61" y="388"/>
                </a:cubicBezTo>
                <a:cubicBezTo>
                  <a:pt x="41" y="309"/>
                  <a:pt x="18" y="261"/>
                  <a:pt x="9" y="196"/>
                </a:cubicBezTo>
                <a:cubicBezTo>
                  <a:pt x="0" y="131"/>
                  <a:pt x="4" y="65"/>
                  <a:pt x="9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7539120" y="1600200"/>
            <a:ext cx="179280" cy="1015920"/>
          </a:xfrm>
          <a:custGeom>
            <a:avLst/>
            <a:gdLst/>
            <a:ahLst/>
            <a:rect l="l" t="t" r="r" b="b"/>
            <a:pathLst>
              <a:path w="141" h="852">
                <a:moveTo>
                  <a:pt x="133" y="852"/>
                </a:moveTo>
                <a:cubicBezTo>
                  <a:pt x="137" y="798"/>
                  <a:pt x="141" y="745"/>
                  <a:pt x="129" y="668"/>
                </a:cubicBezTo>
                <a:cubicBezTo>
                  <a:pt x="117" y="591"/>
                  <a:pt x="81" y="467"/>
                  <a:pt x="61" y="388"/>
                </a:cubicBezTo>
                <a:cubicBezTo>
                  <a:pt x="41" y="309"/>
                  <a:pt x="18" y="261"/>
                  <a:pt x="9" y="196"/>
                </a:cubicBezTo>
                <a:cubicBezTo>
                  <a:pt x="0" y="131"/>
                  <a:pt x="4" y="65"/>
                  <a:pt x="9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69240" y="1600200"/>
            <a:ext cx="147600" cy="262080"/>
          </a:xfrm>
          <a:custGeom>
            <a:avLst/>
            <a:gdLst/>
            <a:ahLst/>
            <a:rect l="l" t="t" r="r" b="b"/>
            <a:pathLst>
              <a:path w="116" h="220">
                <a:moveTo>
                  <a:pt x="116" y="220"/>
                </a:moveTo>
                <a:cubicBezTo>
                  <a:pt x="81" y="190"/>
                  <a:pt x="47" y="161"/>
                  <a:pt x="28" y="124"/>
                </a:cubicBezTo>
                <a:cubicBezTo>
                  <a:pt x="9" y="87"/>
                  <a:pt x="4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7697880" y="1609560"/>
            <a:ext cx="149040" cy="263520"/>
          </a:xfrm>
          <a:custGeom>
            <a:avLst/>
            <a:gdLst/>
            <a:ahLst/>
            <a:rect l="l" t="t" r="r" b="b"/>
            <a:pathLst>
              <a:path w="116" h="220">
                <a:moveTo>
                  <a:pt x="116" y="220"/>
                </a:moveTo>
                <a:cubicBezTo>
                  <a:pt x="81" y="190"/>
                  <a:pt x="47" y="161"/>
                  <a:pt x="28" y="124"/>
                </a:cubicBezTo>
                <a:cubicBezTo>
                  <a:pt x="9" y="87"/>
                  <a:pt x="4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661160" y="2224080"/>
            <a:ext cx="144720" cy="353880"/>
          </a:xfrm>
          <a:custGeom>
            <a:avLst/>
            <a:gdLst/>
            <a:ahLst/>
            <a:rect l="l" t="t" r="r" b="b"/>
            <a:pathLst>
              <a:path w="80" h="208">
                <a:moveTo>
                  <a:pt x="0" y="208"/>
                </a:moveTo>
                <a:cubicBezTo>
                  <a:pt x="17" y="165"/>
                  <a:pt x="35" y="123"/>
                  <a:pt x="48" y="88"/>
                </a:cubicBezTo>
                <a:cubicBezTo>
                  <a:pt x="61" y="53"/>
                  <a:pt x="70" y="26"/>
                  <a:pt x="8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45400" y="2200320"/>
            <a:ext cx="393480" cy="55440"/>
          </a:xfrm>
          <a:custGeom>
            <a:avLst/>
            <a:gdLst/>
            <a:ahLst/>
            <a:rect l="l" t="t" r="r" b="b"/>
            <a:pathLst>
              <a:path w="216" h="32">
                <a:moveTo>
                  <a:pt x="216" y="32"/>
                </a:moveTo>
                <a:cubicBezTo>
                  <a:pt x="216" y="32"/>
                  <a:pt x="108" y="16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343640" y="2571840"/>
            <a:ext cx="133560" cy="1238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07400" y="1701720"/>
            <a:ext cx="133200" cy="1238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702560" y="1701720"/>
            <a:ext cx="133200" cy="1238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26880" y="4506840"/>
            <a:ext cx="84139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 périphériqu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ensibilité à la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 : moins grande que celle des récepteurs cent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78000" y="1471680"/>
            <a:ext cx="84135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rpuscules carotidiens (bifurcation artères caroti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ensibles à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, [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],  (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9520" y="2360520"/>
            <a:ext cx="84135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rpuscules aortiques (crosse aort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ensibles à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, [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],  (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périphér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15080" y="712800"/>
            <a:ext cx="17337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ocalisation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301680" y="1290600"/>
            <a:ext cx="83278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ellules de type I : cellules neur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ellules de type II : cellules de type gl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et nature moléculaire du cap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pteur de la P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: 2 hypothè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pothèse 1) capteur = canaux ioniques (K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dépolarisation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[C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2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]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i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libération de neurotransmet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pothèse 2) capteur = hème-protéine (cytosolique ou mitochondria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cept de « chémosome » : hypothèse 1 +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ff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libération de neurotransmetteurs (ACh, ATP, substance P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ctivation afférente du nerf  glossopharyngien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entre bulbopo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ugmentation de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périphér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915160" y="725400"/>
            <a:ext cx="28000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rpuscules carotidie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301680" y="1328760"/>
            <a:ext cx="832788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et nature moléculaire du cap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[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] (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 (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ature moléculaire du capteur: incert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imilaire aux corpuscules carotidien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ff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[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] (même si (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 normale)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libération de neurotransmet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ctivation afférente du nerf  vagu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entre bulbopo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ugmentation de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90600" y="5194440"/>
            <a:ext cx="815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n conditions normales, rôle mineur des corpuscules aortiques par rapport aux corpuscules carotid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périphér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915160" y="725400"/>
            <a:ext cx="28000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rpuscules aortiqu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1212840" y="2470320"/>
            <a:ext cx="3403440" cy="2489040"/>
          </a:xfrm>
          <a:custGeom>
            <a:avLst/>
            <a:gdLst/>
            <a:ahLst/>
            <a:rect l="l" t="t" r="r" b="b"/>
            <a:pathLst>
              <a:path w="2144" h="1568">
                <a:moveTo>
                  <a:pt x="0" y="0"/>
                </a:moveTo>
                <a:lnTo>
                  <a:pt x="0" y="1568"/>
                </a:lnTo>
                <a:lnTo>
                  <a:pt x="2144" y="1568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1149480" y="247032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1149480" y="309240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1143000" y="371484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1149480" y="433080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2330280" y="4959360"/>
            <a:ext cx="0" cy="63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60680" y="4959360"/>
            <a:ext cx="0" cy="63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4610160" y="4952520"/>
            <a:ext cx="0" cy="637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1212840" y="49593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933840" y="4746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76520" y="4168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83000" y="3552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83000" y="2924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70320" y="23083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011600" y="4987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135520" y="4997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234240" y="4997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415040" y="49910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2216160" y="3009960"/>
            <a:ext cx="1079640" cy="16063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2209680" y="3053880"/>
            <a:ext cx="1555920" cy="16131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2216160" y="3308040"/>
            <a:ext cx="1828800" cy="1428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702600" y="3508200"/>
            <a:ext cx="112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428280" y="2720880"/>
            <a:ext cx="1005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088360" y="3114720"/>
            <a:ext cx="1005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355840" y="5388120"/>
            <a:ext cx="161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A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84320" y="1674720"/>
            <a:ext cx="59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de la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ur la réponse ventilatoire à la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711760" y="2502000"/>
            <a:ext cx="28353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réponse ventilatoire à la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est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réponse est d’autant plus forte que la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est fa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 rot="16200000">
            <a:off x="-351720" y="3459600"/>
            <a:ext cx="19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entilation (L/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87200" y="695160"/>
            <a:ext cx="49374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ponse intégrée au C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 et à l’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1212840" y="2470320"/>
            <a:ext cx="3403440" cy="2489040"/>
          </a:xfrm>
          <a:custGeom>
            <a:avLst/>
            <a:gdLst/>
            <a:ahLst/>
            <a:rect l="l" t="t" r="r" b="b"/>
            <a:pathLst>
              <a:path w="2144" h="1568">
                <a:moveTo>
                  <a:pt x="0" y="0"/>
                </a:moveTo>
                <a:lnTo>
                  <a:pt x="0" y="1568"/>
                </a:lnTo>
                <a:lnTo>
                  <a:pt x="2144" y="1568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1149480" y="247032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49480" y="295272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1143000" y="344160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1149480" y="441972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2330280" y="4959360"/>
            <a:ext cx="0" cy="63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3460680" y="4959360"/>
            <a:ext cx="0" cy="63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4610160" y="4952520"/>
            <a:ext cx="0" cy="637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1212840" y="49593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933840" y="4746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76520" y="42512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83000" y="32796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83000" y="27846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63920" y="23083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011600" y="4987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135520" y="4997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234240" y="4997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415040" y="49910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95720" y="3083040"/>
            <a:ext cx="1303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C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48,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358720" y="5388120"/>
            <a:ext cx="1486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A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 rot="16200000">
            <a:off x="-351720" y="3231000"/>
            <a:ext cx="19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entilation (L/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087720" y="3838680"/>
            <a:ext cx="1303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C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43,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271680" y="4473720"/>
            <a:ext cx="1303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C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35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778040" y="2413080"/>
            <a:ext cx="2616120" cy="1365120"/>
          </a:xfrm>
          <a:custGeom>
            <a:avLst/>
            <a:gdLst/>
            <a:ahLst/>
            <a:rect l="l" t="t" r="r" b="b"/>
            <a:pathLst>
              <a:path w="1648" h="860">
                <a:moveTo>
                  <a:pt x="0" y="0"/>
                </a:moveTo>
                <a:cubicBezTo>
                  <a:pt x="19" y="53"/>
                  <a:pt x="39" y="106"/>
                  <a:pt x="80" y="160"/>
                </a:cubicBezTo>
                <a:cubicBezTo>
                  <a:pt x="121" y="214"/>
                  <a:pt x="185" y="273"/>
                  <a:pt x="248" y="324"/>
                </a:cubicBezTo>
                <a:cubicBezTo>
                  <a:pt x="311" y="375"/>
                  <a:pt x="381" y="422"/>
                  <a:pt x="460" y="468"/>
                </a:cubicBezTo>
                <a:cubicBezTo>
                  <a:pt x="539" y="514"/>
                  <a:pt x="632" y="562"/>
                  <a:pt x="720" y="600"/>
                </a:cubicBezTo>
                <a:cubicBezTo>
                  <a:pt x="808" y="638"/>
                  <a:pt x="889" y="664"/>
                  <a:pt x="988" y="696"/>
                </a:cubicBezTo>
                <a:cubicBezTo>
                  <a:pt x="1087" y="728"/>
                  <a:pt x="1227" y="769"/>
                  <a:pt x="1316" y="792"/>
                </a:cubicBezTo>
                <a:cubicBezTo>
                  <a:pt x="1405" y="815"/>
                  <a:pt x="1465" y="821"/>
                  <a:pt x="1520" y="832"/>
                </a:cubicBezTo>
                <a:cubicBezTo>
                  <a:pt x="1575" y="843"/>
                  <a:pt x="1621" y="854"/>
                  <a:pt x="1648" y="860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790640" y="3632040"/>
            <a:ext cx="2603520" cy="706680"/>
          </a:xfrm>
          <a:custGeom>
            <a:avLst/>
            <a:gdLst/>
            <a:ahLst/>
            <a:rect l="l" t="t" r="r" b="b"/>
            <a:pathLst>
              <a:path w="1640" h="445">
                <a:moveTo>
                  <a:pt x="0" y="0"/>
                </a:moveTo>
                <a:cubicBezTo>
                  <a:pt x="8" y="15"/>
                  <a:pt x="14" y="53"/>
                  <a:pt x="48" y="88"/>
                </a:cubicBezTo>
                <a:cubicBezTo>
                  <a:pt x="82" y="123"/>
                  <a:pt x="143" y="171"/>
                  <a:pt x="204" y="208"/>
                </a:cubicBezTo>
                <a:cubicBezTo>
                  <a:pt x="265" y="245"/>
                  <a:pt x="330" y="283"/>
                  <a:pt x="412" y="312"/>
                </a:cubicBezTo>
                <a:cubicBezTo>
                  <a:pt x="494" y="341"/>
                  <a:pt x="602" y="362"/>
                  <a:pt x="696" y="380"/>
                </a:cubicBezTo>
                <a:cubicBezTo>
                  <a:pt x="790" y="398"/>
                  <a:pt x="873" y="410"/>
                  <a:pt x="976" y="420"/>
                </a:cubicBezTo>
                <a:cubicBezTo>
                  <a:pt x="1079" y="430"/>
                  <a:pt x="1221" y="436"/>
                  <a:pt x="1312" y="440"/>
                </a:cubicBezTo>
                <a:cubicBezTo>
                  <a:pt x="1403" y="444"/>
                  <a:pt x="1469" y="443"/>
                  <a:pt x="1524" y="444"/>
                </a:cubicBezTo>
                <a:cubicBezTo>
                  <a:pt x="1579" y="445"/>
                  <a:pt x="1616" y="444"/>
                  <a:pt x="1640" y="444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797120" y="3975120"/>
            <a:ext cx="876240" cy="433440"/>
          </a:xfrm>
          <a:custGeom>
            <a:avLst/>
            <a:gdLst/>
            <a:ahLst/>
            <a:rect l="l" t="t" r="r" b="b"/>
            <a:pathLst>
              <a:path w="552" h="273">
                <a:moveTo>
                  <a:pt x="0" y="0"/>
                </a:moveTo>
                <a:cubicBezTo>
                  <a:pt x="17" y="42"/>
                  <a:pt x="35" y="84"/>
                  <a:pt x="64" y="116"/>
                </a:cubicBezTo>
                <a:cubicBezTo>
                  <a:pt x="93" y="148"/>
                  <a:pt x="129" y="170"/>
                  <a:pt x="172" y="192"/>
                </a:cubicBezTo>
                <a:cubicBezTo>
                  <a:pt x="215" y="214"/>
                  <a:pt x="283" y="236"/>
                  <a:pt x="320" y="248"/>
                </a:cubicBezTo>
                <a:cubicBezTo>
                  <a:pt x="357" y="260"/>
                  <a:pt x="363" y="260"/>
                  <a:pt x="392" y="264"/>
                </a:cubicBezTo>
                <a:cubicBezTo>
                  <a:pt x="421" y="268"/>
                  <a:pt x="469" y="271"/>
                  <a:pt x="496" y="272"/>
                </a:cubicBezTo>
                <a:cubicBezTo>
                  <a:pt x="523" y="273"/>
                  <a:pt x="537" y="272"/>
                  <a:pt x="552" y="272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1155240" y="3943440"/>
            <a:ext cx="637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83000" y="37749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654280" y="4419720"/>
            <a:ext cx="1714680" cy="25200"/>
          </a:xfrm>
          <a:custGeom>
            <a:avLst/>
            <a:gdLst/>
            <a:ahLst/>
            <a:rect l="l" t="t" r="r" b="b"/>
            <a:pathLst>
              <a:path w="1080" h="16">
                <a:moveTo>
                  <a:pt x="0" y="0"/>
                </a:moveTo>
                <a:cubicBezTo>
                  <a:pt x="0" y="0"/>
                  <a:pt x="540" y="8"/>
                  <a:pt x="1080" y="1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0520" bIns="-20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4320" y="1674720"/>
            <a:ext cx="59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de la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ur la réponse ventilatoire à la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711760" y="2502000"/>
            <a:ext cx="28353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réponse ventilatoire à la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n’est  pas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réponse est d’autant plus forte que la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est élev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87200" y="695160"/>
            <a:ext cx="49374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ponse intégrée au C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 et à l’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492120" y="2146320"/>
            <a:ext cx="841392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ystème sensible essentiellement aux variations de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hyperventilation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hypo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aintien de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dans une fourchette de 3 mm H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ensibilité au pH : liée à la réponse au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nditions « normales » : variations inversement corrélées de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et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96560" y="5294160"/>
            <a:ext cx="83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interdépendance de la régulation de la respiration et de la régulation du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87200" y="695160"/>
            <a:ext cx="49374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ponse intégrée au C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 et à l’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3724200" y="1940040"/>
            <a:ext cx="169236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15160" y="4253040"/>
            <a:ext cx="207504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42520" y="1228680"/>
            <a:ext cx="855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372480" y="3017880"/>
            <a:ext cx="23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25480" y="4876920"/>
            <a:ext cx="1698480" cy="370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Pa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aC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036600" y="3598920"/>
            <a:ext cx="1454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ent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974480" y="3598920"/>
            <a:ext cx="1125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254400" y="4856040"/>
            <a:ext cx="131904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794200" y="4254480"/>
            <a:ext cx="226260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054480" y="4786200"/>
            <a:ext cx="211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extension thorac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irr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81160" y="2987640"/>
            <a:ext cx="3168720" cy="1074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795840" y="3987720"/>
            <a:ext cx="0" cy="8604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200480" y="3976560"/>
            <a:ext cx="1636920" cy="5428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168880" y="3978360"/>
            <a:ext cx="660600" cy="3826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552680" y="2127240"/>
            <a:ext cx="2168280" cy="2102040"/>
          </a:xfrm>
          <a:custGeom>
            <a:avLst/>
            <a:gdLst/>
            <a:ahLst/>
            <a:rect l="l" t="t" r="r" b="b"/>
            <a:pathLst>
              <a:path w="1366" h="1319">
                <a:moveTo>
                  <a:pt x="0" y="1319"/>
                </a:moveTo>
                <a:lnTo>
                  <a:pt x="0" y="0"/>
                </a:lnTo>
                <a:lnTo>
                  <a:pt x="1366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997520" y="1403280"/>
            <a:ext cx="1903320" cy="2849760"/>
          </a:xfrm>
          <a:custGeom>
            <a:avLst/>
            <a:gdLst/>
            <a:ahLst/>
            <a:rect l="l" t="t" r="r" b="b"/>
            <a:pathLst>
              <a:path w="1199" h="1795">
                <a:moveTo>
                  <a:pt x="1199" y="1795"/>
                </a:moveTo>
                <a:lnTo>
                  <a:pt x="119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5400360" y="2136600"/>
            <a:ext cx="150012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2519280" y="5054760"/>
            <a:ext cx="73368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565520" y="2306520"/>
            <a:ext cx="0" cy="66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65520" y="1608120"/>
            <a:ext cx="0" cy="318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552680" y="4624200"/>
            <a:ext cx="0" cy="245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524560" y="3735360"/>
            <a:ext cx="2705040" cy="1981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429120" y="1228680"/>
            <a:ext cx="858276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cepteurs des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: distension bronchique ;  irritation bronc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cepteurs alvéo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: dilatation des capillaires ;  pression interstic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cepteurs proprioceptifs de la paroi 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: variation de la paroi thoracique (muscle, tendon, articu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301680" y="1353960"/>
            <a:ext cx="858528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loca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 lisse bronchiqu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tensiorécepteurs à activation 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tensiorécepteurs à adaptation rap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étirement des voies aériennes et distension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ensiorécepteurs à activation 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ensiorécepteurs à adaptation rap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fférences et eff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fférence : nerf vague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effe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lents : allongement du temps inspiratoire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réflexe de Hering-Breu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apides : inhibition de l’ex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cepteurs des voies aérien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915160" y="725400"/>
            <a:ext cx="28000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écepteurs musculai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457920" y="1836720"/>
            <a:ext cx="435636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loca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épithélium bronc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irr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fférences et eff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fférence : nerf vague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perpnée, bronchoconstriction, toux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cepteurs des voies aérien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915160" y="725400"/>
            <a:ext cx="28000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écepteurs épithéliau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00160" y="1955880"/>
            <a:ext cx="749520" cy="1218960"/>
            <a:chOff x="2000160" y="1955880"/>
            <a:chExt cx="749520" cy="1218960"/>
          </a:xfrm>
        </p:grpSpPr>
        <p:sp>
          <p:nvSpPr>
            <p:cNvPr id="177" name=""/>
            <p:cNvSpPr/>
            <p:nvPr/>
          </p:nvSpPr>
          <p:spPr>
            <a:xfrm>
              <a:off x="2411280" y="1955880"/>
              <a:ext cx="338400" cy="1201680"/>
            </a:xfrm>
            <a:custGeom>
              <a:avLst/>
              <a:gdLst/>
              <a:ahLst/>
              <a:rect l="l" t="t" r="r" b="b"/>
              <a:pathLst>
                <a:path w="213" h="757">
                  <a:moveTo>
                    <a:pt x="213" y="757"/>
                  </a:moveTo>
                  <a:cubicBezTo>
                    <a:pt x="193" y="754"/>
                    <a:pt x="173" y="751"/>
                    <a:pt x="141" y="720"/>
                  </a:cubicBezTo>
                  <a:cubicBezTo>
                    <a:pt x="109" y="689"/>
                    <a:pt x="42" y="693"/>
                    <a:pt x="21" y="573"/>
                  </a:cubicBezTo>
                  <a:cubicBezTo>
                    <a:pt x="0" y="453"/>
                    <a:pt x="18" y="119"/>
                    <a:pt x="1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00160" y="1955880"/>
              <a:ext cx="333360" cy="1218960"/>
            </a:xfrm>
            <a:custGeom>
              <a:avLst/>
              <a:gdLst/>
              <a:ahLst/>
              <a:rect l="l" t="t" r="r" b="b"/>
              <a:pathLst>
                <a:path w="210" h="768">
                  <a:moveTo>
                    <a:pt x="0" y="768"/>
                  </a:moveTo>
                  <a:cubicBezTo>
                    <a:pt x="20" y="765"/>
                    <a:pt x="40" y="762"/>
                    <a:pt x="72" y="731"/>
                  </a:cubicBezTo>
                  <a:cubicBezTo>
                    <a:pt x="104" y="700"/>
                    <a:pt x="174" y="705"/>
                    <a:pt x="192" y="583"/>
                  </a:cubicBezTo>
                  <a:cubicBezTo>
                    <a:pt x="210" y="461"/>
                    <a:pt x="182" y="121"/>
                    <a:pt x="1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006640" y="3027240"/>
            <a:ext cx="743040" cy="306360"/>
          </a:xfrm>
          <a:custGeom>
            <a:avLst/>
            <a:gdLst/>
            <a:ahLst/>
            <a:rect l="l" t="t" r="r" b="b"/>
            <a:pathLst>
              <a:path w="468" h="188">
                <a:moveTo>
                  <a:pt x="468" y="188"/>
                </a:moveTo>
                <a:cubicBezTo>
                  <a:pt x="415" y="149"/>
                  <a:pt x="362" y="111"/>
                  <a:pt x="324" y="80"/>
                </a:cubicBezTo>
                <a:cubicBezTo>
                  <a:pt x="286" y="49"/>
                  <a:pt x="268" y="4"/>
                  <a:pt x="240" y="2"/>
                </a:cubicBezTo>
                <a:cubicBezTo>
                  <a:pt x="212" y="0"/>
                  <a:pt x="196" y="37"/>
                  <a:pt x="156" y="68"/>
                </a:cubicBezTo>
                <a:cubicBezTo>
                  <a:pt x="116" y="99"/>
                  <a:pt x="58" y="143"/>
                  <a:pt x="0" y="1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307880" y="2441520"/>
            <a:ext cx="911160" cy="2048040"/>
            <a:chOff x="1307880" y="2441520"/>
            <a:chExt cx="911160" cy="2048040"/>
          </a:xfrm>
        </p:grpSpPr>
        <p:sp>
          <p:nvSpPr>
            <p:cNvPr id="181" name=""/>
            <p:cNvSpPr/>
            <p:nvPr/>
          </p:nvSpPr>
          <p:spPr>
            <a:xfrm flipH="1">
              <a:off x="1369800" y="2577960"/>
              <a:ext cx="787680" cy="177300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307520" y="2441520"/>
              <a:ext cx="911160" cy="204804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489040" y="2365200"/>
            <a:ext cx="962280" cy="2136600"/>
            <a:chOff x="2489040" y="2365200"/>
            <a:chExt cx="962280" cy="2136600"/>
          </a:xfrm>
        </p:grpSpPr>
        <p:sp>
          <p:nvSpPr>
            <p:cNvPr id="184" name=""/>
            <p:cNvSpPr/>
            <p:nvPr/>
          </p:nvSpPr>
          <p:spPr>
            <a:xfrm>
              <a:off x="2554200" y="2507760"/>
              <a:ext cx="831960" cy="184968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89040" y="2365200"/>
              <a:ext cx="962280" cy="213660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174680" y="2070000"/>
            <a:ext cx="122580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343240" y="2070000"/>
            <a:ext cx="122544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10000" y="294480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86080" y="297648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19520" y="876240"/>
            <a:ext cx="435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volume de la ca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87028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activité bronch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diamètre des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67240" y="873000"/>
            <a:ext cx="4165560" cy="1644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97360" y="1574640"/>
            <a:ext cx="1460520" cy="571680"/>
          </a:xfrm>
          <a:custGeom>
            <a:avLst/>
            <a:gdLst/>
            <a:ahLst/>
            <a:rect l="l" t="t" r="r" b="b"/>
            <a:pathLst>
              <a:path w="920" h="360">
                <a:moveTo>
                  <a:pt x="920" y="0"/>
                </a:move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67240" y="282888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74920" y="2882880"/>
            <a:ext cx="660240" cy="6984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35160" y="3263760"/>
            <a:ext cx="1432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67240" y="4797360"/>
            <a:ext cx="4165560" cy="1594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19520" y="499104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apport ventilation-perf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énéral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réactivité va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2360" y="4915080"/>
            <a:ext cx="398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ace avec d’autres systè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glu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6000" y="4886280"/>
            <a:ext cx="401328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623440" y="1604880"/>
            <a:ext cx="222120" cy="4062600"/>
          </a:xfrm>
          <a:custGeom>
            <a:avLst/>
            <a:gdLst/>
            <a:ahLst/>
            <a:rect l="l" t="t" r="r" b="b"/>
            <a:pathLst>
              <a:path w="140" h="2559">
                <a:moveTo>
                  <a:pt x="7" y="0"/>
                </a:moveTo>
                <a:lnTo>
                  <a:pt x="140" y="0"/>
                </a:lnTo>
                <a:lnTo>
                  <a:pt x="140" y="2559"/>
                </a:lnTo>
                <a:lnTo>
                  <a:pt x="0" y="2559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77920" y="1144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héma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218520" y="1104840"/>
            <a:ext cx="63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récepteurs alvéolaires juxtacapillaires (récepteurs 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21040" y="2311560"/>
            <a:ext cx="6857280" cy="34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ocalis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roi alvéolaire, près des capil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dilatation des capillaires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ugmentation de la pression interstic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afférences et eff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fférence : nerf vague (fibres C amyéliniques)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ventilation rapide et superfic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pnée lors de stimulatio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1"/>
          <a:stretch/>
        </p:blipFill>
        <p:spPr>
          <a:xfrm>
            <a:off x="5967360" y="2276640"/>
            <a:ext cx="2119320" cy="1989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128" name=""/>
          <p:cNvSpPr/>
          <p:nvPr/>
        </p:nvSpPr>
        <p:spPr>
          <a:xfrm>
            <a:off x="6118200" y="3073320"/>
            <a:ext cx="222120" cy="21276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3000" y="3060720"/>
            <a:ext cx="272880" cy="25092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cepteurs alvéola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145800" y="1066680"/>
            <a:ext cx="59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récepteurs proprioceptifs de la paroi 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41200" y="1676520"/>
            <a:ext cx="48196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ocalis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roi thorac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rticul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tend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fuseaux neuromuscu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ctivité musculaire re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afférences et eff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fférence : nerf phrénique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modulation de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43560" y="4876920"/>
            <a:ext cx="43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quivalent au contrôle proprioceptif du fonctionnement des mem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dulent la combinaison entre fréquence respiratoire et volume cou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1"/>
          <a:stretch/>
        </p:blipFill>
        <p:spPr>
          <a:xfrm>
            <a:off x="5295960" y="2016000"/>
            <a:ext cx="1365120" cy="180828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cepteurs de la paroi thorac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"/>
          <p:cNvGrpSpPr/>
          <p:nvPr/>
        </p:nvGrpSpPr>
        <p:grpSpPr>
          <a:xfrm>
            <a:off x="2000160" y="1955880"/>
            <a:ext cx="749520" cy="1218960"/>
            <a:chOff x="2000160" y="1955880"/>
            <a:chExt cx="749520" cy="1218960"/>
          </a:xfrm>
        </p:grpSpPr>
        <p:sp>
          <p:nvSpPr>
            <p:cNvPr id="1143" name=""/>
            <p:cNvSpPr/>
            <p:nvPr/>
          </p:nvSpPr>
          <p:spPr>
            <a:xfrm>
              <a:off x="2411280" y="1955880"/>
              <a:ext cx="338400" cy="1201680"/>
            </a:xfrm>
            <a:custGeom>
              <a:avLst/>
              <a:gdLst/>
              <a:ahLst/>
              <a:rect l="l" t="t" r="r" b="b"/>
              <a:pathLst>
                <a:path w="213" h="757">
                  <a:moveTo>
                    <a:pt x="213" y="757"/>
                  </a:moveTo>
                  <a:cubicBezTo>
                    <a:pt x="193" y="754"/>
                    <a:pt x="173" y="751"/>
                    <a:pt x="141" y="720"/>
                  </a:cubicBezTo>
                  <a:cubicBezTo>
                    <a:pt x="109" y="689"/>
                    <a:pt x="42" y="693"/>
                    <a:pt x="21" y="573"/>
                  </a:cubicBezTo>
                  <a:cubicBezTo>
                    <a:pt x="0" y="453"/>
                    <a:pt x="18" y="119"/>
                    <a:pt x="1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000160" y="1955880"/>
              <a:ext cx="333360" cy="1218960"/>
            </a:xfrm>
            <a:custGeom>
              <a:avLst/>
              <a:gdLst/>
              <a:ahLst/>
              <a:rect l="l" t="t" r="r" b="b"/>
              <a:pathLst>
                <a:path w="210" h="768">
                  <a:moveTo>
                    <a:pt x="0" y="768"/>
                  </a:moveTo>
                  <a:cubicBezTo>
                    <a:pt x="20" y="765"/>
                    <a:pt x="40" y="762"/>
                    <a:pt x="72" y="731"/>
                  </a:cubicBezTo>
                  <a:cubicBezTo>
                    <a:pt x="104" y="700"/>
                    <a:pt x="174" y="705"/>
                    <a:pt x="192" y="583"/>
                  </a:cubicBezTo>
                  <a:cubicBezTo>
                    <a:pt x="210" y="461"/>
                    <a:pt x="182" y="121"/>
                    <a:pt x="1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2006640" y="3027240"/>
            <a:ext cx="743040" cy="306360"/>
          </a:xfrm>
          <a:custGeom>
            <a:avLst/>
            <a:gdLst/>
            <a:ahLst/>
            <a:rect l="l" t="t" r="r" b="b"/>
            <a:pathLst>
              <a:path w="468" h="188">
                <a:moveTo>
                  <a:pt x="468" y="188"/>
                </a:moveTo>
                <a:cubicBezTo>
                  <a:pt x="415" y="149"/>
                  <a:pt x="362" y="111"/>
                  <a:pt x="324" y="80"/>
                </a:cubicBezTo>
                <a:cubicBezTo>
                  <a:pt x="286" y="49"/>
                  <a:pt x="268" y="4"/>
                  <a:pt x="240" y="2"/>
                </a:cubicBezTo>
                <a:cubicBezTo>
                  <a:pt x="212" y="0"/>
                  <a:pt x="196" y="37"/>
                  <a:pt x="156" y="68"/>
                </a:cubicBezTo>
                <a:cubicBezTo>
                  <a:pt x="116" y="99"/>
                  <a:pt x="58" y="143"/>
                  <a:pt x="0" y="1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1307880" y="2441520"/>
            <a:ext cx="911160" cy="2048040"/>
            <a:chOff x="1307880" y="2441520"/>
            <a:chExt cx="911160" cy="2048040"/>
          </a:xfrm>
        </p:grpSpPr>
        <p:sp>
          <p:nvSpPr>
            <p:cNvPr id="1147" name=""/>
            <p:cNvSpPr/>
            <p:nvPr/>
          </p:nvSpPr>
          <p:spPr>
            <a:xfrm flipH="1">
              <a:off x="1369800" y="2577960"/>
              <a:ext cx="787680" cy="177300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1307520" y="2441520"/>
              <a:ext cx="911160" cy="204804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2489040" y="2365200"/>
            <a:ext cx="962280" cy="2136600"/>
            <a:chOff x="2489040" y="2365200"/>
            <a:chExt cx="962280" cy="2136600"/>
          </a:xfrm>
        </p:grpSpPr>
        <p:sp>
          <p:nvSpPr>
            <p:cNvPr id="1150" name=""/>
            <p:cNvSpPr/>
            <p:nvPr/>
          </p:nvSpPr>
          <p:spPr>
            <a:xfrm>
              <a:off x="2554200" y="2507760"/>
              <a:ext cx="831960" cy="184968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89040" y="2365200"/>
              <a:ext cx="962280" cy="213660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1174680" y="2070000"/>
            <a:ext cx="122580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2343240" y="2070000"/>
            <a:ext cx="122544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610000" y="294480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1486080" y="297648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619520" y="876240"/>
            <a:ext cx="435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volume de la ca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594320" y="287028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activité bronch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diamètre des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467240" y="87300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997360" y="1574640"/>
            <a:ext cx="1460520" cy="571680"/>
          </a:xfrm>
          <a:custGeom>
            <a:avLst/>
            <a:gdLst/>
            <a:ahLst/>
            <a:rect l="l" t="t" r="r" b="b"/>
            <a:pathLst>
              <a:path w="920" h="360">
                <a:moveTo>
                  <a:pt x="920" y="0"/>
                </a:move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467240" y="282888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374920" y="2882880"/>
            <a:ext cx="660240" cy="6984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035160" y="3263760"/>
            <a:ext cx="1432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467240" y="4797360"/>
            <a:ext cx="4165560" cy="159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619520" y="499104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apport ventilation-perf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énéral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réactivité va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2360" y="4915080"/>
            <a:ext cx="398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ace avec d’autres systè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glu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16000" y="4886280"/>
            <a:ext cx="401328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8623440" y="1604880"/>
            <a:ext cx="222120" cy="4062600"/>
          </a:xfrm>
          <a:custGeom>
            <a:avLst/>
            <a:gdLst/>
            <a:ahLst/>
            <a:rect l="l" t="t" r="r" b="b"/>
            <a:pathLst>
              <a:path w="140" h="2559">
                <a:moveTo>
                  <a:pt x="7" y="0"/>
                </a:moveTo>
                <a:lnTo>
                  <a:pt x="140" y="0"/>
                </a:lnTo>
                <a:lnTo>
                  <a:pt x="140" y="2559"/>
                </a:lnTo>
                <a:lnTo>
                  <a:pt x="0" y="2559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-134280" y="127080"/>
            <a:ext cx="700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u 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211680" y="781200"/>
            <a:ext cx="5610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odification du rapport ventilation/per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odification P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et P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ise en jeu des chémorécepteu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166360" y="135000"/>
            <a:ext cx="2980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2778120" y="2761920"/>
            <a:ext cx="2851920" cy="3931200"/>
            <a:chOff x="2778120" y="2761920"/>
            <a:chExt cx="2851920" cy="3931200"/>
          </a:xfrm>
        </p:grpSpPr>
        <p:grpSp>
          <p:nvGrpSpPr>
            <p:cNvPr id="1175" name=""/>
            <p:cNvGrpSpPr/>
            <p:nvPr/>
          </p:nvGrpSpPr>
          <p:grpSpPr>
            <a:xfrm>
              <a:off x="2778120" y="3585960"/>
              <a:ext cx="2851920" cy="3107160"/>
              <a:chOff x="2778120" y="3585960"/>
              <a:chExt cx="2851920" cy="3107160"/>
            </a:xfrm>
          </p:grpSpPr>
          <p:sp>
            <p:nvSpPr>
              <p:cNvPr id="1176" name=""/>
              <p:cNvSpPr/>
              <p:nvPr/>
            </p:nvSpPr>
            <p:spPr>
              <a:xfrm>
                <a:off x="2779200" y="3585960"/>
                <a:ext cx="2836800" cy="31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2791800" y="3585960"/>
                <a:ext cx="2838240" cy="31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778120" y="5158800"/>
                <a:ext cx="283824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9" name=""/>
            <p:cNvSpPr/>
            <p:nvPr/>
          </p:nvSpPr>
          <p:spPr>
            <a:xfrm>
              <a:off x="3772080" y="3973320"/>
              <a:ext cx="831960" cy="820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4205520" y="3404880"/>
              <a:ext cx="0" cy="12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14800" y="3593880"/>
              <a:ext cx="1960560" cy="1447920"/>
            </a:xfrm>
            <a:custGeom>
              <a:avLst/>
              <a:gdLst/>
              <a:ahLst/>
              <a:rect l="l" t="t" r="r" b="b"/>
              <a:pathLst>
                <a:path w="1235" h="912">
                  <a:moveTo>
                    <a:pt x="557" y="0"/>
                  </a:moveTo>
                  <a:lnTo>
                    <a:pt x="0" y="912"/>
                  </a:lnTo>
                  <a:lnTo>
                    <a:pt x="1235" y="912"/>
                  </a:lnTo>
                  <a:lnTo>
                    <a:pt x="695" y="12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089600" y="2798640"/>
              <a:ext cx="209520" cy="12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4089600" y="2765160"/>
              <a:ext cx="0" cy="123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4305600" y="2761920"/>
              <a:ext cx="0" cy="123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3301920" y="4849920"/>
            <a:ext cx="1663920" cy="560160"/>
          </a:xfrm>
          <a:custGeom>
            <a:avLst/>
            <a:gdLst/>
            <a:ahLst/>
            <a:rect l="l" t="t" r="r" b="b"/>
            <a:pathLst>
              <a:path w="1048" h="353">
                <a:moveTo>
                  <a:pt x="0" y="345"/>
                </a:moveTo>
                <a:cubicBezTo>
                  <a:pt x="12" y="296"/>
                  <a:pt x="29" y="112"/>
                  <a:pt x="72" y="57"/>
                </a:cubicBezTo>
                <a:cubicBezTo>
                  <a:pt x="115" y="2"/>
                  <a:pt x="132" y="25"/>
                  <a:pt x="256" y="17"/>
                </a:cubicBezTo>
                <a:cubicBezTo>
                  <a:pt x="380" y="9"/>
                  <a:pt x="692" y="2"/>
                  <a:pt x="816" y="9"/>
                </a:cubicBezTo>
                <a:cubicBezTo>
                  <a:pt x="940" y="16"/>
                  <a:pt x="961" y="0"/>
                  <a:pt x="1000" y="57"/>
                </a:cubicBezTo>
                <a:cubicBezTo>
                  <a:pt x="1039" y="114"/>
                  <a:pt x="1038" y="291"/>
                  <a:pt x="1048" y="35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4197240" y="2397240"/>
            <a:ext cx="0" cy="95256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180760" y="16495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bit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mL.min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69320" y="5713560"/>
            <a:ext cx="39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réquence ventilatoire : 12-15 /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627160" y="3411360"/>
            <a:ext cx="123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5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602680" y="5389560"/>
            <a:ext cx="14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ébit sangu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ulmo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978440" y="5549760"/>
            <a:ext cx="463680" cy="2160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4196880" y="3606840"/>
            <a:ext cx="1352520" cy="36828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664240" y="3200400"/>
            <a:ext cx="1359000" cy="31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21160" y="2262240"/>
            <a:ext cx="3435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37560" y="4503600"/>
            <a:ext cx="5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7269120" y="4398840"/>
            <a:ext cx="842040" cy="528120"/>
            <a:chOff x="7269120" y="4398840"/>
            <a:chExt cx="842040" cy="528120"/>
          </a:xfrm>
        </p:grpSpPr>
        <p:grpSp>
          <p:nvGrpSpPr>
            <p:cNvPr id="1197" name=""/>
            <p:cNvGrpSpPr/>
            <p:nvPr/>
          </p:nvGrpSpPr>
          <p:grpSpPr>
            <a:xfrm>
              <a:off x="7269120" y="4398840"/>
              <a:ext cx="427320" cy="528120"/>
              <a:chOff x="7269120" y="4398840"/>
              <a:chExt cx="427320" cy="528120"/>
            </a:xfrm>
          </p:grpSpPr>
          <p:sp>
            <p:nvSpPr>
              <p:cNvPr id="1198" name=""/>
              <p:cNvSpPr/>
              <p:nvPr/>
            </p:nvSpPr>
            <p:spPr>
              <a:xfrm>
                <a:off x="7269120" y="4486320"/>
                <a:ext cx="427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2000" spc="-1" strike="noStrike" baseline="-25000">
                    <a:solidFill>
                      <a:srgbClr val="000066"/>
                    </a:solidFill>
                    <a:latin typeface="Trebuchet MS"/>
                    <a:ea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338600" y="4398840"/>
                <a:ext cx="22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732440" y="4411800"/>
              <a:ext cx="378720" cy="483120"/>
              <a:chOff x="7732440" y="4411800"/>
              <a:chExt cx="378720" cy="483120"/>
            </a:xfrm>
          </p:grpSpPr>
          <p:sp>
            <p:nvSpPr>
              <p:cNvPr id="1201" name=""/>
              <p:cNvSpPr/>
              <p:nvPr/>
            </p:nvSpPr>
            <p:spPr>
              <a:xfrm>
                <a:off x="7732440" y="44960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808400" y="4411800"/>
                <a:ext cx="22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3" name=""/>
            <p:cNvSpPr/>
            <p:nvPr/>
          </p:nvSpPr>
          <p:spPr>
            <a:xfrm>
              <a:off x="7574400" y="4483080"/>
              <a:ext cx="2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1644480" y="4011480"/>
            <a:ext cx="170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= 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52440" y="1511280"/>
            <a:ext cx="547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facteurs intervenants dans la composition en gaz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- du capillaire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- de l’alvé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187280" y="2637000"/>
            <a:ext cx="33404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débit alvéolaire (venti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débit sanguin (perfu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I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ncentration veineuse en 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76280" y="5019840"/>
            <a:ext cx="79578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our PI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et 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vein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donné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la composition du gaz alvéolaire et du sang capillaire dépend du ra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ventilation/perfu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362640" y="1612800"/>
            <a:ext cx="1490760" cy="21956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702400" y="3662280"/>
            <a:ext cx="2717640" cy="846360"/>
          </a:xfrm>
          <a:custGeom>
            <a:avLst/>
            <a:gdLst/>
            <a:ahLst/>
            <a:rect l="l" t="t" r="r" b="b"/>
            <a:pathLst>
              <a:path w="1712" h="533">
                <a:moveTo>
                  <a:pt x="0" y="533"/>
                </a:moveTo>
                <a:cubicBezTo>
                  <a:pt x="35" y="461"/>
                  <a:pt x="109" y="165"/>
                  <a:pt x="208" y="93"/>
                </a:cubicBezTo>
                <a:cubicBezTo>
                  <a:pt x="307" y="21"/>
                  <a:pt x="480" y="94"/>
                  <a:pt x="592" y="101"/>
                </a:cubicBezTo>
                <a:cubicBezTo>
                  <a:pt x="704" y="108"/>
                  <a:pt x="787" y="137"/>
                  <a:pt x="880" y="133"/>
                </a:cubicBezTo>
                <a:cubicBezTo>
                  <a:pt x="973" y="129"/>
                  <a:pt x="1073" y="96"/>
                  <a:pt x="1152" y="77"/>
                </a:cubicBezTo>
                <a:cubicBezTo>
                  <a:pt x="1231" y="58"/>
                  <a:pt x="1296" y="26"/>
                  <a:pt x="1352" y="21"/>
                </a:cubicBezTo>
                <a:cubicBezTo>
                  <a:pt x="1408" y="16"/>
                  <a:pt x="1437" y="0"/>
                  <a:pt x="1488" y="45"/>
                </a:cubicBezTo>
                <a:cubicBezTo>
                  <a:pt x="1539" y="90"/>
                  <a:pt x="1619" y="224"/>
                  <a:pt x="1656" y="293"/>
                </a:cubicBezTo>
                <a:cubicBezTo>
                  <a:pt x="1693" y="362"/>
                  <a:pt x="1700" y="426"/>
                  <a:pt x="1712" y="461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19920" y="4043520"/>
            <a:ext cx="2095560" cy="490320"/>
          </a:xfrm>
          <a:custGeom>
            <a:avLst/>
            <a:gdLst/>
            <a:ahLst/>
            <a:rect l="l" t="t" r="r" b="b"/>
            <a:pathLst>
              <a:path w="1320" h="309">
                <a:moveTo>
                  <a:pt x="0" y="309"/>
                </a:moveTo>
                <a:cubicBezTo>
                  <a:pt x="20" y="269"/>
                  <a:pt x="45" y="117"/>
                  <a:pt x="118" y="77"/>
                </a:cubicBezTo>
                <a:cubicBezTo>
                  <a:pt x="191" y="37"/>
                  <a:pt x="342" y="62"/>
                  <a:pt x="437" y="69"/>
                </a:cubicBezTo>
                <a:cubicBezTo>
                  <a:pt x="533" y="76"/>
                  <a:pt x="608" y="118"/>
                  <a:pt x="689" y="117"/>
                </a:cubicBezTo>
                <a:cubicBezTo>
                  <a:pt x="770" y="116"/>
                  <a:pt x="853" y="80"/>
                  <a:pt x="920" y="61"/>
                </a:cubicBezTo>
                <a:cubicBezTo>
                  <a:pt x="987" y="42"/>
                  <a:pt x="1043" y="10"/>
                  <a:pt x="1090" y="5"/>
                </a:cubicBezTo>
                <a:cubicBezTo>
                  <a:pt x="1138" y="0"/>
                  <a:pt x="1176" y="9"/>
                  <a:pt x="1206" y="29"/>
                </a:cubicBezTo>
                <a:cubicBezTo>
                  <a:pt x="1236" y="49"/>
                  <a:pt x="1253" y="89"/>
                  <a:pt x="1272" y="125"/>
                </a:cubicBezTo>
                <a:cubicBezTo>
                  <a:pt x="1291" y="161"/>
                  <a:pt x="1310" y="220"/>
                  <a:pt x="1320" y="24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702480" y="963720"/>
            <a:ext cx="662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I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023240" y="1320840"/>
            <a:ext cx="0" cy="253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715080" y="3173400"/>
            <a:ext cx="75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283520" y="207180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350120" y="1984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464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680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626160" y="3821040"/>
            <a:ext cx="96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684920" y="191628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920640" y="4354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994800" y="4270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525000" y="46465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94240" y="4672080"/>
            <a:ext cx="88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vein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5791320" y="4292640"/>
            <a:ext cx="139680" cy="45720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794720" y="4494240"/>
            <a:ext cx="88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147160" y="4191120"/>
            <a:ext cx="114120" cy="330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3230280" y="5796000"/>
            <a:ext cx="842040" cy="527760"/>
            <a:chOff x="3230280" y="5796000"/>
            <a:chExt cx="842040" cy="527760"/>
          </a:xfrm>
        </p:grpSpPr>
        <p:grpSp>
          <p:nvGrpSpPr>
            <p:cNvPr id="1228" name=""/>
            <p:cNvGrpSpPr/>
            <p:nvPr/>
          </p:nvGrpSpPr>
          <p:grpSpPr>
            <a:xfrm>
              <a:off x="3230280" y="5796000"/>
              <a:ext cx="427320" cy="527760"/>
              <a:chOff x="3230280" y="5796000"/>
              <a:chExt cx="427320" cy="527760"/>
            </a:xfrm>
          </p:grpSpPr>
          <p:sp>
            <p:nvSpPr>
              <p:cNvPr id="1229" name=""/>
              <p:cNvSpPr/>
              <p:nvPr/>
            </p:nvSpPr>
            <p:spPr>
              <a:xfrm>
                <a:off x="3230280" y="5883120"/>
                <a:ext cx="427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2000" spc="-1" strike="noStrike" baseline="-25000">
                    <a:solidFill>
                      <a:srgbClr val="000066"/>
                    </a:solidFill>
                    <a:latin typeface="Trebuchet MS"/>
                    <a:ea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299760" y="5796000"/>
                <a:ext cx="22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3693600" y="5808600"/>
              <a:ext cx="378720" cy="482760"/>
              <a:chOff x="3693600" y="5808600"/>
              <a:chExt cx="378720" cy="482760"/>
            </a:xfrm>
          </p:grpSpPr>
          <p:sp>
            <p:nvSpPr>
              <p:cNvPr id="1232" name=""/>
              <p:cNvSpPr/>
              <p:nvPr/>
            </p:nvSpPr>
            <p:spPr>
              <a:xfrm>
                <a:off x="3693600" y="58924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769560" y="5808600"/>
                <a:ext cx="22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4" name=""/>
            <p:cNvSpPr/>
            <p:nvPr/>
          </p:nvSpPr>
          <p:spPr>
            <a:xfrm>
              <a:off x="3535560" y="5879880"/>
              <a:ext cx="2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lvéol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6362640" y="1612800"/>
            <a:ext cx="1490760" cy="21956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702400" y="3662280"/>
            <a:ext cx="2717640" cy="846360"/>
          </a:xfrm>
          <a:custGeom>
            <a:avLst/>
            <a:gdLst/>
            <a:ahLst/>
            <a:rect l="l" t="t" r="r" b="b"/>
            <a:pathLst>
              <a:path w="1712" h="533">
                <a:moveTo>
                  <a:pt x="0" y="533"/>
                </a:moveTo>
                <a:cubicBezTo>
                  <a:pt x="35" y="461"/>
                  <a:pt x="109" y="165"/>
                  <a:pt x="208" y="93"/>
                </a:cubicBezTo>
                <a:cubicBezTo>
                  <a:pt x="307" y="21"/>
                  <a:pt x="480" y="94"/>
                  <a:pt x="592" y="101"/>
                </a:cubicBezTo>
                <a:cubicBezTo>
                  <a:pt x="704" y="108"/>
                  <a:pt x="787" y="137"/>
                  <a:pt x="880" y="133"/>
                </a:cubicBezTo>
                <a:cubicBezTo>
                  <a:pt x="973" y="129"/>
                  <a:pt x="1073" y="96"/>
                  <a:pt x="1152" y="77"/>
                </a:cubicBezTo>
                <a:cubicBezTo>
                  <a:pt x="1231" y="58"/>
                  <a:pt x="1296" y="26"/>
                  <a:pt x="1352" y="21"/>
                </a:cubicBezTo>
                <a:cubicBezTo>
                  <a:pt x="1408" y="16"/>
                  <a:pt x="1437" y="0"/>
                  <a:pt x="1488" y="45"/>
                </a:cubicBezTo>
                <a:cubicBezTo>
                  <a:pt x="1539" y="90"/>
                  <a:pt x="1619" y="224"/>
                  <a:pt x="1656" y="293"/>
                </a:cubicBezTo>
                <a:cubicBezTo>
                  <a:pt x="1693" y="362"/>
                  <a:pt x="1700" y="426"/>
                  <a:pt x="1712" y="461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019920" y="4043520"/>
            <a:ext cx="2095560" cy="490320"/>
          </a:xfrm>
          <a:custGeom>
            <a:avLst/>
            <a:gdLst/>
            <a:ahLst/>
            <a:rect l="l" t="t" r="r" b="b"/>
            <a:pathLst>
              <a:path w="1320" h="309">
                <a:moveTo>
                  <a:pt x="0" y="309"/>
                </a:moveTo>
                <a:cubicBezTo>
                  <a:pt x="20" y="269"/>
                  <a:pt x="45" y="117"/>
                  <a:pt x="118" y="77"/>
                </a:cubicBezTo>
                <a:cubicBezTo>
                  <a:pt x="191" y="37"/>
                  <a:pt x="342" y="62"/>
                  <a:pt x="437" y="69"/>
                </a:cubicBezTo>
                <a:cubicBezTo>
                  <a:pt x="533" y="76"/>
                  <a:pt x="608" y="118"/>
                  <a:pt x="689" y="117"/>
                </a:cubicBezTo>
                <a:cubicBezTo>
                  <a:pt x="770" y="116"/>
                  <a:pt x="853" y="80"/>
                  <a:pt x="920" y="61"/>
                </a:cubicBezTo>
                <a:cubicBezTo>
                  <a:pt x="987" y="42"/>
                  <a:pt x="1043" y="10"/>
                  <a:pt x="1090" y="5"/>
                </a:cubicBezTo>
                <a:cubicBezTo>
                  <a:pt x="1138" y="0"/>
                  <a:pt x="1176" y="9"/>
                  <a:pt x="1206" y="29"/>
                </a:cubicBezTo>
                <a:cubicBezTo>
                  <a:pt x="1236" y="49"/>
                  <a:pt x="1253" y="89"/>
                  <a:pt x="1272" y="125"/>
                </a:cubicBezTo>
                <a:cubicBezTo>
                  <a:pt x="1291" y="161"/>
                  <a:pt x="1310" y="220"/>
                  <a:pt x="1320" y="24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702480" y="963720"/>
            <a:ext cx="662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I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023240" y="1320840"/>
            <a:ext cx="0" cy="253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715080" y="3173400"/>
            <a:ext cx="75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83520" y="207180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350120" y="1984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464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680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626160" y="3821040"/>
            <a:ext cx="96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684920" y="191628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920640" y="4354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994800" y="4270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525000" y="46465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394240" y="4672080"/>
            <a:ext cx="88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vein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791320" y="4292640"/>
            <a:ext cx="139680" cy="45720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794720" y="4494240"/>
            <a:ext cx="88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147160" y="4191120"/>
            <a:ext cx="114120" cy="330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1085400" y="1414440"/>
            <a:ext cx="759600" cy="505440"/>
            <a:chOff x="1085400" y="1414440"/>
            <a:chExt cx="759600" cy="505440"/>
          </a:xfrm>
        </p:grpSpPr>
        <p:grpSp>
          <p:nvGrpSpPr>
            <p:cNvPr id="1259" name=""/>
            <p:cNvGrpSpPr/>
            <p:nvPr/>
          </p:nvGrpSpPr>
          <p:grpSpPr>
            <a:xfrm>
              <a:off x="1085400" y="1427040"/>
              <a:ext cx="403200" cy="492840"/>
              <a:chOff x="1085400" y="1427040"/>
              <a:chExt cx="403200" cy="492840"/>
            </a:xfrm>
          </p:grpSpPr>
          <p:sp>
            <p:nvSpPr>
              <p:cNvPr id="1260" name=""/>
              <p:cNvSpPr/>
              <p:nvPr/>
            </p:nvSpPr>
            <p:spPr>
              <a:xfrm>
                <a:off x="1085400" y="151416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152360" y="142704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2" name=""/>
            <p:cNvSpPr/>
            <p:nvPr/>
          </p:nvSpPr>
          <p:spPr>
            <a:xfrm>
              <a:off x="1400760" y="1523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520640" y="141444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4" name=""/>
          <p:cNvSpPr/>
          <p:nvPr/>
        </p:nvSpPr>
        <p:spPr>
          <a:xfrm>
            <a:off x="1848600" y="15066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normal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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38360" y="3998880"/>
            <a:ext cx="227124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(V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/ V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46280" y="4532400"/>
            <a:ext cx="394632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(PI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–(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/R) + F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779840" y="2030400"/>
            <a:ext cx="28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faible : sang hypox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élevé : sang hyperox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1085400" y="1935000"/>
            <a:ext cx="759600" cy="505440"/>
            <a:chOff x="1085400" y="1935000"/>
            <a:chExt cx="759600" cy="505440"/>
          </a:xfrm>
        </p:grpSpPr>
        <p:grpSp>
          <p:nvGrpSpPr>
            <p:cNvPr id="1269" name=""/>
            <p:cNvGrpSpPr/>
            <p:nvPr/>
          </p:nvGrpSpPr>
          <p:grpSpPr>
            <a:xfrm>
              <a:off x="1085400" y="1947600"/>
              <a:ext cx="403200" cy="492840"/>
              <a:chOff x="1085400" y="1947600"/>
              <a:chExt cx="403200" cy="492840"/>
            </a:xfrm>
          </p:grpSpPr>
          <p:sp>
            <p:nvSpPr>
              <p:cNvPr id="1270" name=""/>
              <p:cNvSpPr/>
              <p:nvPr/>
            </p:nvSpPr>
            <p:spPr>
              <a:xfrm>
                <a:off x="1085400" y="203472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152360" y="194760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1400760" y="204444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520640" y="193500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1098360" y="2468520"/>
            <a:ext cx="759600" cy="505440"/>
            <a:chOff x="1098360" y="2468520"/>
            <a:chExt cx="759600" cy="505440"/>
          </a:xfrm>
        </p:grpSpPr>
        <p:grpSp>
          <p:nvGrpSpPr>
            <p:cNvPr id="1275" name=""/>
            <p:cNvGrpSpPr/>
            <p:nvPr/>
          </p:nvGrpSpPr>
          <p:grpSpPr>
            <a:xfrm>
              <a:off x="1098360" y="2481120"/>
              <a:ext cx="403200" cy="492840"/>
              <a:chOff x="1098360" y="2481120"/>
              <a:chExt cx="403200" cy="492840"/>
            </a:xfrm>
          </p:grpSpPr>
          <p:sp>
            <p:nvSpPr>
              <p:cNvPr id="1276" name=""/>
              <p:cNvSpPr/>
              <p:nvPr/>
            </p:nvSpPr>
            <p:spPr>
              <a:xfrm>
                <a:off x="1098360" y="256824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165320" y="248112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8" name=""/>
            <p:cNvSpPr/>
            <p:nvPr/>
          </p:nvSpPr>
          <p:spPr>
            <a:xfrm>
              <a:off x="1413720" y="257796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533600" y="246852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238320" y="352908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équations de gaz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816200" y="39146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578320" y="39020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828800" y="39146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14960" y="5545080"/>
            <a:ext cx="7161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hyperventilation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diminution de 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et augmentation de 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lvéol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362640" y="1612800"/>
            <a:ext cx="1490760" cy="21956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05" y="65"/>
                  <a:pt x="465" y="267"/>
                  <a:pt x="472" y="392"/>
                </a:cubicBezTo>
                <a:cubicBezTo>
                  <a:pt x="479" y="517"/>
                  <a:pt x="491" y="667"/>
                  <a:pt x="552" y="752"/>
                </a:cubicBezTo>
                <a:cubicBezTo>
                  <a:pt x="613" y="837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53" y="845"/>
                  <a:pt x="312" y="752"/>
                </a:cubicBezTo>
                <a:cubicBezTo>
                  <a:pt x="371" y="659"/>
                  <a:pt x="403" y="508"/>
                  <a:pt x="408" y="384"/>
                </a:cubicBezTo>
                <a:cubicBezTo>
                  <a:pt x="413" y="260"/>
                  <a:pt x="357" y="86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eaeaf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702400" y="3662280"/>
            <a:ext cx="2717640" cy="846360"/>
          </a:xfrm>
          <a:custGeom>
            <a:avLst/>
            <a:gdLst/>
            <a:ahLst/>
            <a:rect l="l" t="t" r="r" b="b"/>
            <a:pathLst>
              <a:path w="1712" h="533">
                <a:moveTo>
                  <a:pt x="0" y="533"/>
                </a:moveTo>
                <a:cubicBezTo>
                  <a:pt x="35" y="461"/>
                  <a:pt x="109" y="165"/>
                  <a:pt x="208" y="93"/>
                </a:cubicBezTo>
                <a:cubicBezTo>
                  <a:pt x="307" y="21"/>
                  <a:pt x="480" y="94"/>
                  <a:pt x="592" y="101"/>
                </a:cubicBezTo>
                <a:cubicBezTo>
                  <a:pt x="704" y="108"/>
                  <a:pt x="787" y="137"/>
                  <a:pt x="880" y="133"/>
                </a:cubicBezTo>
                <a:cubicBezTo>
                  <a:pt x="973" y="129"/>
                  <a:pt x="1073" y="96"/>
                  <a:pt x="1152" y="77"/>
                </a:cubicBezTo>
                <a:cubicBezTo>
                  <a:pt x="1231" y="58"/>
                  <a:pt x="1296" y="26"/>
                  <a:pt x="1352" y="21"/>
                </a:cubicBezTo>
                <a:cubicBezTo>
                  <a:pt x="1408" y="16"/>
                  <a:pt x="1437" y="0"/>
                  <a:pt x="1488" y="45"/>
                </a:cubicBezTo>
                <a:cubicBezTo>
                  <a:pt x="1539" y="90"/>
                  <a:pt x="1619" y="224"/>
                  <a:pt x="1656" y="293"/>
                </a:cubicBezTo>
                <a:cubicBezTo>
                  <a:pt x="1693" y="362"/>
                  <a:pt x="1700" y="426"/>
                  <a:pt x="1712" y="461"/>
                </a:cubicBezTo>
              </a:path>
            </a:pathLst>
          </a:custGeom>
          <a:solidFill>
            <a:srgbClr val="ffa5a5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19920" y="4043520"/>
            <a:ext cx="2095560" cy="490320"/>
          </a:xfrm>
          <a:custGeom>
            <a:avLst/>
            <a:gdLst/>
            <a:ahLst/>
            <a:rect l="l" t="t" r="r" b="b"/>
            <a:pathLst>
              <a:path w="1320" h="309">
                <a:moveTo>
                  <a:pt x="0" y="309"/>
                </a:moveTo>
                <a:cubicBezTo>
                  <a:pt x="20" y="269"/>
                  <a:pt x="45" y="117"/>
                  <a:pt x="118" y="77"/>
                </a:cubicBezTo>
                <a:cubicBezTo>
                  <a:pt x="191" y="37"/>
                  <a:pt x="342" y="62"/>
                  <a:pt x="437" y="69"/>
                </a:cubicBezTo>
                <a:cubicBezTo>
                  <a:pt x="533" y="76"/>
                  <a:pt x="608" y="118"/>
                  <a:pt x="689" y="117"/>
                </a:cubicBezTo>
                <a:cubicBezTo>
                  <a:pt x="770" y="116"/>
                  <a:pt x="853" y="80"/>
                  <a:pt x="920" y="61"/>
                </a:cubicBezTo>
                <a:cubicBezTo>
                  <a:pt x="987" y="42"/>
                  <a:pt x="1043" y="10"/>
                  <a:pt x="1090" y="5"/>
                </a:cubicBezTo>
                <a:cubicBezTo>
                  <a:pt x="1138" y="0"/>
                  <a:pt x="1176" y="9"/>
                  <a:pt x="1206" y="29"/>
                </a:cubicBezTo>
                <a:cubicBezTo>
                  <a:pt x="1236" y="49"/>
                  <a:pt x="1253" y="89"/>
                  <a:pt x="1272" y="125"/>
                </a:cubicBezTo>
                <a:cubicBezTo>
                  <a:pt x="1291" y="161"/>
                  <a:pt x="1310" y="220"/>
                  <a:pt x="1320" y="24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02480" y="963720"/>
            <a:ext cx="662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I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023240" y="1320840"/>
            <a:ext cx="0" cy="253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715080" y="3173400"/>
            <a:ext cx="75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283520" y="207180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350120" y="1984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464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680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626160" y="3821040"/>
            <a:ext cx="96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684920" y="191628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920640" y="4354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994800" y="4270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525000" y="46465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394240" y="4672080"/>
            <a:ext cx="88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vein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5791320" y="4292640"/>
            <a:ext cx="139680" cy="45720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794720" y="4494240"/>
            <a:ext cx="88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147160" y="4191120"/>
            <a:ext cx="114120" cy="330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41040" y="20304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faible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1085400" y="1935000"/>
            <a:ext cx="759600" cy="505440"/>
            <a:chOff x="1085400" y="1935000"/>
            <a:chExt cx="759600" cy="505440"/>
          </a:xfrm>
        </p:grpSpPr>
        <p:grpSp>
          <p:nvGrpSpPr>
            <p:cNvPr id="1310" name=""/>
            <p:cNvGrpSpPr/>
            <p:nvPr/>
          </p:nvGrpSpPr>
          <p:grpSpPr>
            <a:xfrm>
              <a:off x="1085400" y="1947600"/>
              <a:ext cx="403200" cy="492840"/>
              <a:chOff x="1085400" y="1947600"/>
              <a:chExt cx="403200" cy="492840"/>
            </a:xfrm>
          </p:grpSpPr>
          <p:sp>
            <p:nvSpPr>
              <p:cNvPr id="1311" name=""/>
              <p:cNvSpPr/>
              <p:nvPr/>
            </p:nvSpPr>
            <p:spPr>
              <a:xfrm>
                <a:off x="1085400" y="203472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152360" y="194760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1400760" y="204444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20640" y="193500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" name=""/>
          <p:cNvSpPr/>
          <p:nvPr/>
        </p:nvSpPr>
        <p:spPr>
          <a:xfrm>
            <a:off x="611280" y="1611360"/>
            <a:ext cx="448128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ffet espace mort : défaut de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43320" y="2649600"/>
            <a:ext cx="46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erfusion trop élevé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ang mal oxygé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lvéol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/>
          <p:nvPr/>
        </p:nvSpPr>
        <p:spPr>
          <a:xfrm>
            <a:off x="6362640" y="1612800"/>
            <a:ext cx="1490760" cy="21956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8585d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702400" y="3662280"/>
            <a:ext cx="2717640" cy="846360"/>
          </a:xfrm>
          <a:custGeom>
            <a:avLst/>
            <a:gdLst/>
            <a:ahLst/>
            <a:rect l="l" t="t" r="r" b="b"/>
            <a:pathLst>
              <a:path w="1712" h="533">
                <a:moveTo>
                  <a:pt x="0" y="533"/>
                </a:moveTo>
                <a:cubicBezTo>
                  <a:pt x="35" y="461"/>
                  <a:pt x="109" y="165"/>
                  <a:pt x="208" y="93"/>
                </a:cubicBezTo>
                <a:cubicBezTo>
                  <a:pt x="307" y="21"/>
                  <a:pt x="480" y="94"/>
                  <a:pt x="592" y="101"/>
                </a:cubicBezTo>
                <a:cubicBezTo>
                  <a:pt x="704" y="108"/>
                  <a:pt x="787" y="137"/>
                  <a:pt x="880" y="133"/>
                </a:cubicBezTo>
                <a:cubicBezTo>
                  <a:pt x="973" y="129"/>
                  <a:pt x="1073" y="96"/>
                  <a:pt x="1152" y="77"/>
                </a:cubicBezTo>
                <a:cubicBezTo>
                  <a:pt x="1231" y="58"/>
                  <a:pt x="1296" y="26"/>
                  <a:pt x="1352" y="21"/>
                </a:cubicBezTo>
                <a:cubicBezTo>
                  <a:pt x="1408" y="16"/>
                  <a:pt x="1437" y="0"/>
                  <a:pt x="1488" y="45"/>
                </a:cubicBezTo>
                <a:cubicBezTo>
                  <a:pt x="1539" y="90"/>
                  <a:pt x="1619" y="224"/>
                  <a:pt x="1656" y="293"/>
                </a:cubicBezTo>
                <a:cubicBezTo>
                  <a:pt x="1693" y="362"/>
                  <a:pt x="1700" y="426"/>
                  <a:pt x="1712" y="461"/>
                </a:cubicBezTo>
              </a:path>
            </a:pathLst>
          </a:custGeom>
          <a:gradFill rotWithShape="0">
            <a:gsLst>
              <a:gs pos="0">
                <a:srgbClr val="ff1313"/>
              </a:gs>
              <a:gs pos="100000">
                <a:srgbClr val="fe9090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019920" y="3763800"/>
            <a:ext cx="2260440" cy="770040"/>
          </a:xfrm>
          <a:custGeom>
            <a:avLst/>
            <a:gdLst/>
            <a:ahLst/>
            <a:rect l="l" t="t" r="r" b="b"/>
            <a:pathLst>
              <a:path w="1424" h="485">
                <a:moveTo>
                  <a:pt x="0" y="485"/>
                </a:moveTo>
                <a:cubicBezTo>
                  <a:pt x="25" y="422"/>
                  <a:pt x="76" y="173"/>
                  <a:pt x="152" y="109"/>
                </a:cubicBezTo>
                <a:cubicBezTo>
                  <a:pt x="228" y="45"/>
                  <a:pt x="365" y="98"/>
                  <a:pt x="456" y="101"/>
                </a:cubicBezTo>
                <a:cubicBezTo>
                  <a:pt x="547" y="104"/>
                  <a:pt x="620" y="129"/>
                  <a:pt x="696" y="125"/>
                </a:cubicBezTo>
                <a:cubicBezTo>
                  <a:pt x="772" y="121"/>
                  <a:pt x="829" y="97"/>
                  <a:pt x="912" y="77"/>
                </a:cubicBezTo>
                <a:cubicBezTo>
                  <a:pt x="995" y="57"/>
                  <a:pt x="1124" y="0"/>
                  <a:pt x="1192" y="5"/>
                </a:cubicBezTo>
                <a:cubicBezTo>
                  <a:pt x="1260" y="10"/>
                  <a:pt x="1287" y="64"/>
                  <a:pt x="1320" y="109"/>
                </a:cubicBezTo>
                <a:cubicBezTo>
                  <a:pt x="1353" y="154"/>
                  <a:pt x="1375" y="228"/>
                  <a:pt x="1392" y="277"/>
                </a:cubicBezTo>
                <a:cubicBezTo>
                  <a:pt x="1409" y="326"/>
                  <a:pt x="1417" y="378"/>
                  <a:pt x="1424" y="40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702480" y="963720"/>
            <a:ext cx="662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I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023240" y="1320840"/>
            <a:ext cx="0" cy="253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15080" y="3173400"/>
            <a:ext cx="75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283520" y="207180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350120" y="1984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464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680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848120" y="3046320"/>
            <a:ext cx="96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684920" y="191628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920640" y="4354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94800" y="4270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525000" y="46465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394240" y="4672080"/>
            <a:ext cx="88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vein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791320" y="4292640"/>
            <a:ext cx="139680" cy="45720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794720" y="4494240"/>
            <a:ext cx="88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8286840" y="4203720"/>
            <a:ext cx="114120" cy="330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1098360" y="3789360"/>
            <a:ext cx="759600" cy="505440"/>
            <a:chOff x="1098360" y="3789360"/>
            <a:chExt cx="759600" cy="505440"/>
          </a:xfrm>
        </p:grpSpPr>
        <p:grpSp>
          <p:nvGrpSpPr>
            <p:cNvPr id="1341" name=""/>
            <p:cNvGrpSpPr/>
            <p:nvPr/>
          </p:nvGrpSpPr>
          <p:grpSpPr>
            <a:xfrm>
              <a:off x="1098360" y="3801960"/>
              <a:ext cx="403200" cy="492840"/>
              <a:chOff x="1098360" y="3801960"/>
              <a:chExt cx="403200" cy="492840"/>
            </a:xfrm>
          </p:grpSpPr>
          <p:sp>
            <p:nvSpPr>
              <p:cNvPr id="1342" name=""/>
              <p:cNvSpPr/>
              <p:nvPr/>
            </p:nvSpPr>
            <p:spPr>
              <a:xfrm>
                <a:off x="1098360" y="388908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165320" y="380196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4" name=""/>
            <p:cNvSpPr/>
            <p:nvPr/>
          </p:nvSpPr>
          <p:spPr>
            <a:xfrm>
              <a:off x="1413720" y="389880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533600" y="378936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6" name=""/>
          <p:cNvSpPr/>
          <p:nvPr/>
        </p:nvSpPr>
        <p:spPr>
          <a:xfrm>
            <a:off x="1743120" y="38941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élev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66360" y="456732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ventilation trop élevé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ang trop oxygé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5160" y="3363840"/>
            <a:ext cx="36601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ffet shunt : défaut de 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lvéol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>
            <a:off x="4105440" y="1359000"/>
            <a:ext cx="104292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eaeaf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026120" y="1359000"/>
            <a:ext cx="104328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8585d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565600" y="1371600"/>
            <a:ext cx="1043280" cy="15368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486320" y="1000080"/>
            <a:ext cx="3098880" cy="384120"/>
          </a:xfrm>
          <a:custGeom>
            <a:avLst/>
            <a:gdLst/>
            <a:ahLst/>
            <a:rect l="l" t="t" r="r" b="b"/>
            <a:pathLst>
              <a:path w="1952" h="242">
                <a:moveTo>
                  <a:pt x="0" y="242"/>
                </a:moveTo>
                <a:lnTo>
                  <a:pt x="0" y="114"/>
                </a:lnTo>
                <a:lnTo>
                  <a:pt x="918" y="120"/>
                </a:lnTo>
                <a:lnTo>
                  <a:pt x="912" y="6"/>
                </a:lnTo>
                <a:lnTo>
                  <a:pt x="1032" y="0"/>
                </a:lnTo>
                <a:lnTo>
                  <a:pt x="1032" y="114"/>
                </a:lnTo>
                <a:lnTo>
                  <a:pt x="1952" y="122"/>
                </a:lnTo>
                <a:lnTo>
                  <a:pt x="1952" y="242"/>
                </a:lnTo>
              </a:path>
            </a:pathLst>
          </a:custGeom>
          <a:solidFill>
            <a:srgbClr val="3333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990960" y="287496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solidFill>
            <a:srgbClr val="ffa5a5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133880" y="3052800"/>
            <a:ext cx="936720" cy="312840"/>
          </a:xfrm>
          <a:custGeom>
            <a:avLst/>
            <a:gdLst/>
            <a:ahLst/>
            <a:rect l="l" t="t" r="r" b="b"/>
            <a:pathLst>
              <a:path w="590" h="197">
                <a:moveTo>
                  <a:pt x="0" y="145"/>
                </a:moveTo>
                <a:cubicBezTo>
                  <a:pt x="9" y="126"/>
                  <a:pt x="20" y="55"/>
                  <a:pt x="53" y="36"/>
                </a:cubicBezTo>
                <a:cubicBezTo>
                  <a:pt x="86" y="17"/>
                  <a:pt x="154" y="29"/>
                  <a:pt x="196" y="32"/>
                </a:cubicBezTo>
                <a:cubicBezTo>
                  <a:pt x="239" y="36"/>
                  <a:pt x="273" y="55"/>
                  <a:pt x="310" y="55"/>
                </a:cubicBezTo>
                <a:cubicBezTo>
                  <a:pt x="346" y="54"/>
                  <a:pt x="383" y="38"/>
                  <a:pt x="413" y="29"/>
                </a:cubicBezTo>
                <a:cubicBezTo>
                  <a:pt x="443" y="20"/>
                  <a:pt x="469" y="5"/>
                  <a:pt x="490" y="2"/>
                </a:cubicBezTo>
                <a:cubicBezTo>
                  <a:pt x="511" y="0"/>
                  <a:pt x="528" y="4"/>
                  <a:pt x="542" y="14"/>
                </a:cubicBezTo>
                <a:cubicBezTo>
                  <a:pt x="555" y="23"/>
                  <a:pt x="563" y="29"/>
                  <a:pt x="571" y="59"/>
                </a:cubicBezTo>
                <a:cubicBezTo>
                  <a:pt x="579" y="89"/>
                  <a:pt x="586" y="168"/>
                  <a:pt x="590" y="19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676760" y="1371600"/>
            <a:ext cx="127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137280" y="137160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495760" y="287496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638680" y="3052800"/>
            <a:ext cx="936720" cy="312840"/>
          </a:xfrm>
          <a:custGeom>
            <a:avLst/>
            <a:gdLst/>
            <a:ahLst/>
            <a:rect l="l" t="t" r="r" b="b"/>
            <a:pathLst>
              <a:path w="590" h="197">
                <a:moveTo>
                  <a:pt x="0" y="145"/>
                </a:moveTo>
                <a:cubicBezTo>
                  <a:pt x="9" y="126"/>
                  <a:pt x="20" y="55"/>
                  <a:pt x="53" y="36"/>
                </a:cubicBezTo>
                <a:cubicBezTo>
                  <a:pt x="86" y="17"/>
                  <a:pt x="154" y="29"/>
                  <a:pt x="196" y="32"/>
                </a:cubicBezTo>
                <a:cubicBezTo>
                  <a:pt x="239" y="36"/>
                  <a:pt x="273" y="55"/>
                  <a:pt x="310" y="55"/>
                </a:cubicBezTo>
                <a:cubicBezTo>
                  <a:pt x="346" y="54"/>
                  <a:pt x="383" y="38"/>
                  <a:pt x="413" y="29"/>
                </a:cubicBezTo>
                <a:cubicBezTo>
                  <a:pt x="443" y="20"/>
                  <a:pt x="469" y="5"/>
                  <a:pt x="490" y="2"/>
                </a:cubicBezTo>
                <a:cubicBezTo>
                  <a:pt x="511" y="0"/>
                  <a:pt x="528" y="4"/>
                  <a:pt x="542" y="14"/>
                </a:cubicBezTo>
                <a:cubicBezTo>
                  <a:pt x="555" y="23"/>
                  <a:pt x="563" y="29"/>
                  <a:pt x="571" y="59"/>
                </a:cubicBezTo>
                <a:cubicBezTo>
                  <a:pt x="579" y="89"/>
                  <a:pt x="586" y="168"/>
                  <a:pt x="590" y="19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886440" y="288144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1313"/>
              </a:gs>
              <a:gs pos="100000">
                <a:srgbClr val="fe9090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029360" y="3059280"/>
            <a:ext cx="936720" cy="312480"/>
          </a:xfrm>
          <a:custGeom>
            <a:avLst/>
            <a:gdLst/>
            <a:ahLst/>
            <a:rect l="l" t="t" r="r" b="b"/>
            <a:pathLst>
              <a:path w="590" h="197">
                <a:moveTo>
                  <a:pt x="0" y="145"/>
                </a:moveTo>
                <a:cubicBezTo>
                  <a:pt x="9" y="126"/>
                  <a:pt x="20" y="55"/>
                  <a:pt x="53" y="36"/>
                </a:cubicBezTo>
                <a:cubicBezTo>
                  <a:pt x="86" y="17"/>
                  <a:pt x="154" y="29"/>
                  <a:pt x="196" y="32"/>
                </a:cubicBezTo>
                <a:cubicBezTo>
                  <a:pt x="239" y="36"/>
                  <a:pt x="273" y="55"/>
                  <a:pt x="310" y="55"/>
                </a:cubicBezTo>
                <a:cubicBezTo>
                  <a:pt x="346" y="54"/>
                  <a:pt x="383" y="38"/>
                  <a:pt x="413" y="29"/>
                </a:cubicBezTo>
                <a:cubicBezTo>
                  <a:pt x="443" y="20"/>
                  <a:pt x="469" y="5"/>
                  <a:pt x="490" y="2"/>
                </a:cubicBezTo>
                <a:cubicBezTo>
                  <a:pt x="511" y="0"/>
                  <a:pt x="528" y="4"/>
                  <a:pt x="542" y="14"/>
                </a:cubicBezTo>
                <a:cubicBezTo>
                  <a:pt x="555" y="23"/>
                  <a:pt x="563" y="29"/>
                  <a:pt x="571" y="59"/>
                </a:cubicBezTo>
                <a:cubicBezTo>
                  <a:pt x="579" y="89"/>
                  <a:pt x="586" y="168"/>
                  <a:pt x="590" y="19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064120" y="3352680"/>
            <a:ext cx="3295800" cy="120600"/>
          </a:xfrm>
          <a:custGeom>
            <a:avLst/>
            <a:gdLst/>
            <a:ahLst/>
            <a:rect l="l" t="t" r="r" b="b"/>
            <a:pathLst>
              <a:path w="2076" h="76">
                <a:moveTo>
                  <a:pt x="0" y="4"/>
                </a:moveTo>
                <a:lnTo>
                  <a:pt x="0" y="76"/>
                </a:lnTo>
                <a:lnTo>
                  <a:pt x="2076" y="76"/>
                </a:lnTo>
                <a:lnTo>
                  <a:pt x="2076" y="0"/>
                </a:lnTo>
                <a:lnTo>
                  <a:pt x="1920" y="0"/>
                </a:lnTo>
              </a:path>
            </a:pathLst>
          </a:custGeom>
          <a:gradFill rotWithShape="0">
            <a:gsLst>
              <a:gs pos="0">
                <a:srgbClr val="ff1313"/>
              </a:gs>
              <a:gs pos="100000">
                <a:srgbClr val="fe9090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203800" y="335916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715080" y="3352680"/>
            <a:ext cx="1244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68560" y="157320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hétérogénéité régionale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3168360" y="1477800"/>
            <a:ext cx="759600" cy="505440"/>
            <a:chOff x="3168360" y="1477800"/>
            <a:chExt cx="759600" cy="505440"/>
          </a:xfrm>
        </p:grpSpPr>
        <p:grpSp>
          <p:nvGrpSpPr>
            <p:cNvPr id="1370" name=""/>
            <p:cNvGrpSpPr/>
            <p:nvPr/>
          </p:nvGrpSpPr>
          <p:grpSpPr>
            <a:xfrm>
              <a:off x="3168360" y="1490400"/>
              <a:ext cx="403200" cy="492840"/>
              <a:chOff x="3168360" y="1490400"/>
              <a:chExt cx="403200" cy="492840"/>
            </a:xfrm>
          </p:grpSpPr>
          <p:sp>
            <p:nvSpPr>
              <p:cNvPr id="1371" name=""/>
              <p:cNvSpPr/>
              <p:nvPr/>
            </p:nvSpPr>
            <p:spPr>
              <a:xfrm>
                <a:off x="3168360" y="157752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3235320" y="149040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3" name=""/>
            <p:cNvSpPr/>
            <p:nvPr/>
          </p:nvSpPr>
          <p:spPr>
            <a:xfrm>
              <a:off x="3483720" y="158724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603600" y="147780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5940360" y="2436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385520" y="2411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&lt;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306560" y="23605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&gt;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457000" y="6040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374560" y="5578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374560" y="5119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374560" y="4659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374560" y="4199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292120" y="37386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276080" y="6411960"/>
            <a:ext cx="131580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PaO</a:t>
            </a:r>
            <a:r>
              <a:rPr b="0" lang="fr-FR" sz="1600" spc="-1" strike="noStrike" baseline="-20000">
                <a:solidFill>
                  <a:srgbClr val="000099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 (mm 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rot="16200000">
            <a:off x="1297800" y="4950000"/>
            <a:ext cx="1587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% saturation O</a:t>
            </a:r>
            <a:r>
              <a:rPr b="0" lang="en-US" sz="1600" spc="-1" strike="noStrike" baseline="-20000">
                <a:solidFill>
                  <a:srgbClr val="0000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703240" y="6188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25320" y="6188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979440" y="6188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30320" y="6188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283000" y="6188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901840" y="61880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2781360" y="6119640"/>
            <a:ext cx="144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3108240" y="6119640"/>
            <a:ext cx="180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3433680" y="6119640"/>
            <a:ext cx="180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3762360" y="6119640"/>
            <a:ext cx="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4087800" y="6119640"/>
            <a:ext cx="144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4414680" y="6119640"/>
            <a:ext cx="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4740120" y="6119640"/>
            <a:ext cx="180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5068800" y="6119640"/>
            <a:ext cx="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5392800" y="6119640"/>
            <a:ext cx="144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5721480" y="6119640"/>
            <a:ext cx="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6045120" y="6119640"/>
            <a:ext cx="324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781360" y="6119640"/>
            <a:ext cx="4897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735280" y="6119640"/>
            <a:ext cx="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735280" y="5659560"/>
            <a:ext cx="46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735280" y="5199120"/>
            <a:ext cx="46080" cy="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735280" y="4740120"/>
            <a:ext cx="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735280" y="4280040"/>
            <a:ext cx="460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735280" y="3819600"/>
            <a:ext cx="46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2781360" y="3795480"/>
            <a:ext cx="1440" cy="2323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778120" y="6118200"/>
            <a:ext cx="4680" cy="324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778120" y="6118200"/>
            <a:ext cx="4680" cy="32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776680" y="3809880"/>
            <a:ext cx="4919400" cy="2309760"/>
          </a:xfrm>
          <a:custGeom>
            <a:avLst/>
            <a:gdLst/>
            <a:ahLst/>
            <a:rect l="l" t="t" r="r" b="b"/>
            <a:pathLst>
              <a:path w="3099" h="1455">
                <a:moveTo>
                  <a:pt x="0" y="1455"/>
                </a:moveTo>
                <a:lnTo>
                  <a:pt x="7" y="1449"/>
                </a:lnTo>
                <a:lnTo>
                  <a:pt x="42" y="1414"/>
                </a:lnTo>
                <a:lnTo>
                  <a:pt x="77" y="1376"/>
                </a:lnTo>
                <a:lnTo>
                  <a:pt x="111" y="1336"/>
                </a:lnTo>
                <a:lnTo>
                  <a:pt x="146" y="1294"/>
                </a:lnTo>
                <a:lnTo>
                  <a:pt x="181" y="1248"/>
                </a:lnTo>
                <a:lnTo>
                  <a:pt x="216" y="1201"/>
                </a:lnTo>
                <a:lnTo>
                  <a:pt x="250" y="1153"/>
                </a:lnTo>
                <a:lnTo>
                  <a:pt x="285" y="1103"/>
                </a:lnTo>
                <a:lnTo>
                  <a:pt x="320" y="1051"/>
                </a:lnTo>
                <a:lnTo>
                  <a:pt x="355" y="999"/>
                </a:lnTo>
                <a:lnTo>
                  <a:pt x="390" y="945"/>
                </a:lnTo>
                <a:lnTo>
                  <a:pt x="425" y="892"/>
                </a:lnTo>
                <a:lnTo>
                  <a:pt x="461" y="839"/>
                </a:lnTo>
                <a:lnTo>
                  <a:pt x="495" y="785"/>
                </a:lnTo>
                <a:lnTo>
                  <a:pt x="530" y="734"/>
                </a:lnTo>
                <a:lnTo>
                  <a:pt x="565" y="684"/>
                </a:lnTo>
                <a:lnTo>
                  <a:pt x="600" y="634"/>
                </a:lnTo>
                <a:lnTo>
                  <a:pt x="634" y="587"/>
                </a:lnTo>
                <a:lnTo>
                  <a:pt x="670" y="542"/>
                </a:lnTo>
                <a:lnTo>
                  <a:pt x="704" y="500"/>
                </a:lnTo>
                <a:lnTo>
                  <a:pt x="739" y="459"/>
                </a:lnTo>
                <a:lnTo>
                  <a:pt x="774" y="421"/>
                </a:lnTo>
                <a:lnTo>
                  <a:pt x="809" y="386"/>
                </a:lnTo>
                <a:lnTo>
                  <a:pt x="844" y="353"/>
                </a:lnTo>
                <a:lnTo>
                  <a:pt x="878" y="323"/>
                </a:lnTo>
                <a:lnTo>
                  <a:pt x="913" y="295"/>
                </a:lnTo>
                <a:lnTo>
                  <a:pt x="948" y="268"/>
                </a:lnTo>
                <a:lnTo>
                  <a:pt x="983" y="244"/>
                </a:lnTo>
                <a:lnTo>
                  <a:pt x="1018" y="223"/>
                </a:lnTo>
                <a:lnTo>
                  <a:pt x="1053" y="203"/>
                </a:lnTo>
                <a:lnTo>
                  <a:pt x="1088" y="185"/>
                </a:lnTo>
                <a:lnTo>
                  <a:pt x="1122" y="169"/>
                </a:lnTo>
                <a:lnTo>
                  <a:pt x="1157" y="155"/>
                </a:lnTo>
                <a:lnTo>
                  <a:pt x="1192" y="142"/>
                </a:lnTo>
                <a:lnTo>
                  <a:pt x="1227" y="130"/>
                </a:lnTo>
                <a:lnTo>
                  <a:pt x="1261" y="120"/>
                </a:lnTo>
                <a:lnTo>
                  <a:pt x="1297" y="110"/>
                </a:lnTo>
                <a:lnTo>
                  <a:pt x="1332" y="102"/>
                </a:lnTo>
                <a:lnTo>
                  <a:pt x="1366" y="94"/>
                </a:lnTo>
                <a:lnTo>
                  <a:pt x="1402" y="87"/>
                </a:lnTo>
                <a:lnTo>
                  <a:pt x="1437" y="81"/>
                </a:lnTo>
                <a:lnTo>
                  <a:pt x="1472" y="75"/>
                </a:lnTo>
                <a:lnTo>
                  <a:pt x="1506" y="71"/>
                </a:lnTo>
                <a:lnTo>
                  <a:pt x="1541" y="67"/>
                </a:lnTo>
                <a:lnTo>
                  <a:pt x="1576" y="62"/>
                </a:lnTo>
                <a:lnTo>
                  <a:pt x="1611" y="60"/>
                </a:lnTo>
                <a:lnTo>
                  <a:pt x="1646" y="57"/>
                </a:lnTo>
                <a:lnTo>
                  <a:pt x="1681" y="54"/>
                </a:lnTo>
                <a:lnTo>
                  <a:pt x="1715" y="51"/>
                </a:lnTo>
                <a:lnTo>
                  <a:pt x="1750" y="49"/>
                </a:lnTo>
                <a:lnTo>
                  <a:pt x="1785" y="47"/>
                </a:lnTo>
                <a:lnTo>
                  <a:pt x="1820" y="45"/>
                </a:lnTo>
                <a:lnTo>
                  <a:pt x="1855" y="44"/>
                </a:lnTo>
                <a:lnTo>
                  <a:pt x="1889" y="42"/>
                </a:lnTo>
                <a:lnTo>
                  <a:pt x="1925" y="41"/>
                </a:lnTo>
                <a:lnTo>
                  <a:pt x="1959" y="41"/>
                </a:lnTo>
                <a:lnTo>
                  <a:pt x="1994" y="40"/>
                </a:lnTo>
                <a:lnTo>
                  <a:pt x="3099" y="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6046920" y="6132240"/>
            <a:ext cx="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6370560" y="6132240"/>
            <a:ext cx="180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6699240" y="6132240"/>
            <a:ext cx="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7023240" y="6132240"/>
            <a:ext cx="288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060960" y="2752560"/>
            <a:ext cx="0" cy="112428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477200" y="2768760"/>
            <a:ext cx="218880" cy="105876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4444560" y="2778120"/>
            <a:ext cx="117720" cy="137808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2759040" y="4137120"/>
            <a:ext cx="1673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2768760" y="3873600"/>
            <a:ext cx="3257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2758680" y="3816360"/>
            <a:ext cx="4264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65040" y="2411280"/>
            <a:ext cx="321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as de compensation des territoires hypoventilés par les territoires hyperventil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06000" y="5027760"/>
            <a:ext cx="452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= f(concentration en 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) non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7359480" y="6132240"/>
            <a:ext cx="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7683480" y="6132240"/>
            <a:ext cx="324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lange des sangs capilla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4635360" y="2451240"/>
            <a:ext cx="104328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556400" y="2451240"/>
            <a:ext cx="104292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95880" y="2463840"/>
            <a:ext cx="1043280" cy="15368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016600" y="2092320"/>
            <a:ext cx="3098880" cy="384120"/>
          </a:xfrm>
          <a:custGeom>
            <a:avLst/>
            <a:gdLst/>
            <a:ahLst/>
            <a:rect l="l" t="t" r="r" b="b"/>
            <a:pathLst>
              <a:path w="1952" h="242">
                <a:moveTo>
                  <a:pt x="0" y="242"/>
                </a:moveTo>
                <a:lnTo>
                  <a:pt x="0" y="114"/>
                </a:lnTo>
                <a:lnTo>
                  <a:pt x="918" y="120"/>
                </a:lnTo>
                <a:lnTo>
                  <a:pt x="912" y="6"/>
                </a:lnTo>
                <a:lnTo>
                  <a:pt x="1032" y="0"/>
                </a:lnTo>
                <a:lnTo>
                  <a:pt x="1032" y="114"/>
                </a:lnTo>
                <a:lnTo>
                  <a:pt x="1952" y="122"/>
                </a:lnTo>
                <a:lnTo>
                  <a:pt x="1952" y="242"/>
                </a:lnTo>
              </a:path>
            </a:pathLst>
          </a:custGeom>
          <a:solidFill>
            <a:srgbClr val="3333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521240" y="396720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610160" y="4041720"/>
            <a:ext cx="1038240" cy="416160"/>
          </a:xfrm>
          <a:custGeom>
            <a:avLst/>
            <a:gdLst/>
            <a:ahLst/>
            <a:rect l="l" t="t" r="r" b="b"/>
            <a:pathLst>
              <a:path w="654" h="262">
                <a:moveTo>
                  <a:pt x="0" y="210"/>
                </a:moveTo>
                <a:cubicBezTo>
                  <a:pt x="14" y="182"/>
                  <a:pt x="39" y="73"/>
                  <a:pt x="78" y="48"/>
                </a:cubicBezTo>
                <a:cubicBezTo>
                  <a:pt x="117" y="23"/>
                  <a:pt x="190" y="57"/>
                  <a:pt x="234" y="60"/>
                </a:cubicBezTo>
                <a:cubicBezTo>
                  <a:pt x="278" y="63"/>
                  <a:pt x="310" y="67"/>
                  <a:pt x="342" y="66"/>
                </a:cubicBezTo>
                <a:cubicBezTo>
                  <a:pt x="374" y="65"/>
                  <a:pt x="400" y="60"/>
                  <a:pt x="426" y="54"/>
                </a:cubicBezTo>
                <a:cubicBezTo>
                  <a:pt x="452" y="48"/>
                  <a:pt x="471" y="36"/>
                  <a:pt x="498" y="30"/>
                </a:cubicBezTo>
                <a:cubicBezTo>
                  <a:pt x="525" y="24"/>
                  <a:pt x="563" y="0"/>
                  <a:pt x="588" y="18"/>
                </a:cubicBezTo>
                <a:cubicBezTo>
                  <a:pt x="613" y="36"/>
                  <a:pt x="642" y="97"/>
                  <a:pt x="648" y="138"/>
                </a:cubicBezTo>
                <a:cubicBezTo>
                  <a:pt x="654" y="179"/>
                  <a:pt x="629" y="236"/>
                  <a:pt x="624" y="262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207040" y="2463840"/>
            <a:ext cx="127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667560" y="246384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026040" y="396720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168960" y="4145040"/>
            <a:ext cx="936720" cy="312840"/>
          </a:xfrm>
          <a:custGeom>
            <a:avLst/>
            <a:gdLst/>
            <a:ahLst/>
            <a:rect l="l" t="t" r="r" b="b"/>
            <a:pathLst>
              <a:path w="590" h="197">
                <a:moveTo>
                  <a:pt x="0" y="145"/>
                </a:moveTo>
                <a:cubicBezTo>
                  <a:pt x="9" y="126"/>
                  <a:pt x="20" y="55"/>
                  <a:pt x="53" y="36"/>
                </a:cubicBezTo>
                <a:cubicBezTo>
                  <a:pt x="86" y="17"/>
                  <a:pt x="154" y="29"/>
                  <a:pt x="196" y="32"/>
                </a:cubicBezTo>
                <a:cubicBezTo>
                  <a:pt x="239" y="36"/>
                  <a:pt x="273" y="55"/>
                  <a:pt x="310" y="55"/>
                </a:cubicBezTo>
                <a:cubicBezTo>
                  <a:pt x="346" y="54"/>
                  <a:pt x="383" y="38"/>
                  <a:pt x="413" y="29"/>
                </a:cubicBezTo>
                <a:cubicBezTo>
                  <a:pt x="443" y="20"/>
                  <a:pt x="469" y="5"/>
                  <a:pt x="490" y="2"/>
                </a:cubicBezTo>
                <a:cubicBezTo>
                  <a:pt x="511" y="0"/>
                  <a:pt x="528" y="4"/>
                  <a:pt x="542" y="14"/>
                </a:cubicBezTo>
                <a:cubicBezTo>
                  <a:pt x="555" y="23"/>
                  <a:pt x="563" y="29"/>
                  <a:pt x="571" y="59"/>
                </a:cubicBezTo>
                <a:cubicBezTo>
                  <a:pt x="579" y="89"/>
                  <a:pt x="586" y="168"/>
                  <a:pt x="590" y="19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439040" y="3973680"/>
            <a:ext cx="1197000" cy="496800"/>
          </a:xfrm>
          <a:custGeom>
            <a:avLst/>
            <a:gdLst/>
            <a:ahLst/>
            <a:rect l="l" t="t" r="r" b="b"/>
            <a:pathLst>
              <a:path w="754" h="313">
                <a:moveTo>
                  <a:pt x="0" y="229"/>
                </a:moveTo>
                <a:cubicBezTo>
                  <a:pt x="12" y="198"/>
                  <a:pt x="37" y="74"/>
                  <a:pt x="79" y="44"/>
                </a:cubicBezTo>
                <a:cubicBezTo>
                  <a:pt x="121" y="14"/>
                  <a:pt x="202" y="44"/>
                  <a:pt x="252" y="47"/>
                </a:cubicBezTo>
                <a:cubicBezTo>
                  <a:pt x="302" y="51"/>
                  <a:pt x="340" y="64"/>
                  <a:pt x="381" y="62"/>
                </a:cubicBezTo>
                <a:cubicBezTo>
                  <a:pt x="423" y="61"/>
                  <a:pt x="468" y="45"/>
                  <a:pt x="503" y="36"/>
                </a:cubicBezTo>
                <a:cubicBezTo>
                  <a:pt x="539" y="27"/>
                  <a:pt x="568" y="12"/>
                  <a:pt x="593" y="10"/>
                </a:cubicBezTo>
                <a:cubicBezTo>
                  <a:pt x="618" y="8"/>
                  <a:pt x="631" y="0"/>
                  <a:pt x="654" y="21"/>
                </a:cubicBezTo>
                <a:cubicBezTo>
                  <a:pt x="677" y="42"/>
                  <a:pt x="713" y="88"/>
                  <a:pt x="730" y="137"/>
                </a:cubicBezTo>
                <a:cubicBezTo>
                  <a:pt x="747" y="186"/>
                  <a:pt x="749" y="276"/>
                  <a:pt x="754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637400" y="4208400"/>
            <a:ext cx="808200" cy="233280"/>
          </a:xfrm>
          <a:custGeom>
            <a:avLst/>
            <a:gdLst/>
            <a:ahLst/>
            <a:rect l="l" t="t" r="r" b="b"/>
            <a:pathLst>
              <a:path w="509" h="147">
                <a:moveTo>
                  <a:pt x="13" y="117"/>
                </a:moveTo>
                <a:cubicBezTo>
                  <a:pt x="14" y="106"/>
                  <a:pt x="0" y="64"/>
                  <a:pt x="7" y="45"/>
                </a:cubicBezTo>
                <a:cubicBezTo>
                  <a:pt x="14" y="26"/>
                  <a:pt x="31" y="6"/>
                  <a:pt x="55" y="3"/>
                </a:cubicBezTo>
                <a:cubicBezTo>
                  <a:pt x="79" y="0"/>
                  <a:pt x="119" y="21"/>
                  <a:pt x="151" y="27"/>
                </a:cubicBezTo>
                <a:cubicBezTo>
                  <a:pt x="183" y="33"/>
                  <a:pt x="210" y="42"/>
                  <a:pt x="247" y="39"/>
                </a:cubicBezTo>
                <a:cubicBezTo>
                  <a:pt x="284" y="36"/>
                  <a:pt x="343" y="14"/>
                  <a:pt x="373" y="9"/>
                </a:cubicBezTo>
                <a:cubicBezTo>
                  <a:pt x="403" y="4"/>
                  <a:pt x="410" y="8"/>
                  <a:pt x="427" y="9"/>
                </a:cubicBezTo>
                <a:cubicBezTo>
                  <a:pt x="444" y="10"/>
                  <a:pt x="462" y="10"/>
                  <a:pt x="475" y="15"/>
                </a:cubicBezTo>
                <a:cubicBezTo>
                  <a:pt x="488" y="20"/>
                  <a:pt x="501" y="17"/>
                  <a:pt x="505" y="39"/>
                </a:cubicBezTo>
                <a:cubicBezTo>
                  <a:pt x="509" y="61"/>
                  <a:pt x="500" y="125"/>
                  <a:pt x="499" y="14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594400" y="4444920"/>
            <a:ext cx="3295440" cy="120600"/>
          </a:xfrm>
          <a:custGeom>
            <a:avLst/>
            <a:gdLst/>
            <a:ahLst/>
            <a:rect l="l" t="t" r="r" b="b"/>
            <a:pathLst>
              <a:path w="2076" h="76">
                <a:moveTo>
                  <a:pt x="0" y="4"/>
                </a:moveTo>
                <a:lnTo>
                  <a:pt x="0" y="76"/>
                </a:lnTo>
                <a:lnTo>
                  <a:pt x="2076" y="76"/>
                </a:lnTo>
                <a:lnTo>
                  <a:pt x="2076" y="0"/>
                </a:lnTo>
                <a:lnTo>
                  <a:pt x="1920" y="0"/>
                </a:lnTo>
              </a:path>
            </a:pathLst>
          </a:custGeom>
          <a:solidFill>
            <a:srgbClr val="ff505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734080" y="44514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245360" y="4444920"/>
            <a:ext cx="1177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6412320" y="1184400"/>
            <a:ext cx="421560" cy="493200"/>
            <a:chOff x="6412320" y="1184400"/>
            <a:chExt cx="421560" cy="493200"/>
          </a:xfrm>
        </p:grpSpPr>
        <p:sp>
          <p:nvSpPr>
            <p:cNvPr id="1448" name=""/>
            <p:cNvSpPr/>
            <p:nvPr/>
          </p:nvSpPr>
          <p:spPr>
            <a:xfrm>
              <a:off x="6412320" y="1271880"/>
              <a:ext cx="42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V</a:t>
              </a:r>
              <a:r>
                <a:rPr b="0" lang="fr-FR" sz="1800" spc="-1" strike="noStrike" baseline="-25000">
                  <a:solidFill>
                    <a:srgbClr val="000066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456240" y="11844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0" name=""/>
          <p:cNvSpPr/>
          <p:nvPr/>
        </p:nvSpPr>
        <p:spPr>
          <a:xfrm flipV="1">
            <a:off x="5359320" y="1562040"/>
            <a:ext cx="2590920" cy="558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920640" y="4646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994800" y="45626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6673680" y="5694480"/>
            <a:ext cx="759600" cy="505440"/>
            <a:chOff x="6673680" y="5694480"/>
            <a:chExt cx="759600" cy="505440"/>
          </a:xfrm>
        </p:grpSpPr>
        <p:grpSp>
          <p:nvGrpSpPr>
            <p:cNvPr id="1454" name=""/>
            <p:cNvGrpSpPr/>
            <p:nvPr/>
          </p:nvGrpSpPr>
          <p:grpSpPr>
            <a:xfrm>
              <a:off x="6673680" y="5707080"/>
              <a:ext cx="403200" cy="492840"/>
              <a:chOff x="6673680" y="5707080"/>
              <a:chExt cx="403200" cy="492840"/>
            </a:xfrm>
          </p:grpSpPr>
          <p:sp>
            <p:nvSpPr>
              <p:cNvPr id="1455" name=""/>
              <p:cNvSpPr/>
              <p:nvPr/>
            </p:nvSpPr>
            <p:spPr>
              <a:xfrm>
                <a:off x="6673680" y="579420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000066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739920" y="5707080"/>
                <a:ext cx="22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7" name=""/>
            <p:cNvSpPr/>
            <p:nvPr/>
          </p:nvSpPr>
          <p:spPr>
            <a:xfrm>
              <a:off x="6989040" y="580392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108920" y="569448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9" name=""/>
          <p:cNvSpPr/>
          <p:nvPr/>
        </p:nvSpPr>
        <p:spPr>
          <a:xfrm>
            <a:off x="1793160" y="4933800"/>
            <a:ext cx="232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50     100     150     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256480" y="5222880"/>
            <a:ext cx="1465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P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 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rot="16200000">
            <a:off x="-604800" y="3245040"/>
            <a:ext cx="25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débit sanguin (% contrô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rot="16200000">
            <a:off x="1621440" y="4559760"/>
            <a:ext cx="92160" cy="69084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013120" y="4856040"/>
            <a:ext cx="68580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711520" y="4861080"/>
            <a:ext cx="685800" cy="9972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05240" y="4861080"/>
            <a:ext cx="685800" cy="9972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928800" y="4689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231920" y="2666880"/>
            <a:ext cx="92160" cy="54936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rot="5400000">
            <a:off x="1004400" y="3438360"/>
            <a:ext cx="542880" cy="982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rot="5400000">
            <a:off x="999360" y="3991680"/>
            <a:ext cx="54288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rot="5400000">
            <a:off x="998640" y="4541760"/>
            <a:ext cx="54432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34840" y="4149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31600" y="3579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38080" y="3040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38080" y="2502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38000" y="19432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28680" y="2122560"/>
            <a:ext cx="92160" cy="54756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112840" y="3398760"/>
            <a:ext cx="9864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654280" y="2590920"/>
            <a:ext cx="98280" cy="982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348000" y="2292480"/>
            <a:ext cx="98640" cy="9972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609560" y="4016520"/>
            <a:ext cx="100080" cy="9972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041720" y="2122560"/>
            <a:ext cx="9864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705120" y="2193840"/>
            <a:ext cx="10008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319480" y="2917800"/>
            <a:ext cx="9828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997360" y="2430360"/>
            <a:ext cx="9828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54200" y="2168640"/>
            <a:ext cx="2446200" cy="1898640"/>
          </a:xfrm>
          <a:custGeom>
            <a:avLst/>
            <a:gdLst/>
            <a:ahLst/>
            <a:rect l="l" t="t" r="r" b="b"/>
            <a:pathLst>
              <a:path w="1926" h="1494">
                <a:moveTo>
                  <a:pt x="0" y="1494"/>
                </a:moveTo>
                <a:cubicBezTo>
                  <a:pt x="157" y="1317"/>
                  <a:pt x="314" y="1141"/>
                  <a:pt x="408" y="996"/>
                </a:cubicBezTo>
                <a:cubicBezTo>
                  <a:pt x="502" y="851"/>
                  <a:pt x="493" y="729"/>
                  <a:pt x="564" y="624"/>
                </a:cubicBezTo>
                <a:cubicBezTo>
                  <a:pt x="635" y="519"/>
                  <a:pt x="745" y="431"/>
                  <a:pt x="834" y="366"/>
                </a:cubicBezTo>
                <a:cubicBezTo>
                  <a:pt x="923" y="301"/>
                  <a:pt x="1007" y="273"/>
                  <a:pt x="1098" y="234"/>
                </a:cubicBezTo>
                <a:cubicBezTo>
                  <a:pt x="1189" y="195"/>
                  <a:pt x="1283" y="164"/>
                  <a:pt x="1380" y="132"/>
                </a:cubicBezTo>
                <a:cubicBezTo>
                  <a:pt x="1477" y="100"/>
                  <a:pt x="1589" y="64"/>
                  <a:pt x="1680" y="42"/>
                </a:cubicBezTo>
                <a:cubicBezTo>
                  <a:pt x="1771" y="20"/>
                  <a:pt x="1848" y="10"/>
                  <a:pt x="1926" y="0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03200" y="121752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réponse vasoconstrictrice à une hypoxie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48120" y="5724360"/>
            <a:ext cx="51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s vasculaires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débit san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613480" y="5473800"/>
            <a:ext cx="3301920" cy="703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séquences : maintien local 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vasoconstriction hypox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287480" y="469728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84040" y="1789200"/>
            <a:ext cx="211608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ntrôleur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05840" y="4253040"/>
            <a:ext cx="11163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a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32240" y="4253040"/>
            <a:ext cx="12643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ffec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89000" y="471024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85520" y="1089000"/>
            <a:ext cx="29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tronc céréb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utres régions du cerv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67080" y="1971720"/>
            <a:ext cx="559080" cy="2257560"/>
          </a:xfrm>
          <a:custGeom>
            <a:avLst/>
            <a:gdLst/>
            <a:ahLst/>
            <a:rect l="l" t="t" r="r" b="b"/>
            <a:pathLst>
              <a:path w="688" h="920">
                <a:moveTo>
                  <a:pt x="0" y="920"/>
                </a:moveTo>
                <a:lnTo>
                  <a:pt x="0" y="0"/>
                </a:lnTo>
                <a:lnTo>
                  <a:pt x="688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844680" y="1971720"/>
            <a:ext cx="825480" cy="2244600"/>
          </a:xfrm>
          <a:custGeom>
            <a:avLst/>
            <a:gdLst/>
            <a:ahLst/>
            <a:rect l="l" t="t" r="r" b="b"/>
            <a:pathLst>
              <a:path w="688" h="920">
                <a:moveTo>
                  <a:pt x="0" y="920"/>
                </a:moveTo>
                <a:lnTo>
                  <a:pt x="0" y="0"/>
                </a:lnTo>
                <a:lnTo>
                  <a:pt x="688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803840" y="4462560"/>
            <a:ext cx="225720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03800" y="314784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ent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41440" y="311004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sor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73640" y="4253040"/>
            <a:ext cx="1430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ra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89120" y="4800600"/>
            <a:ext cx="27090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C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tension 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38120" y="3073320"/>
            <a:ext cx="2394000" cy="2889000"/>
            <a:chOff x="438120" y="3073320"/>
            <a:chExt cx="2394000" cy="2889000"/>
          </a:xfrm>
        </p:grpSpPr>
        <p:grpSp>
          <p:nvGrpSpPr>
            <p:cNvPr id="219" name=""/>
            <p:cNvGrpSpPr/>
            <p:nvPr/>
          </p:nvGrpSpPr>
          <p:grpSpPr>
            <a:xfrm>
              <a:off x="1263600" y="3073320"/>
              <a:ext cx="749520" cy="1218960"/>
              <a:chOff x="1263600" y="3073320"/>
              <a:chExt cx="749520" cy="1218960"/>
            </a:xfrm>
          </p:grpSpPr>
          <p:sp>
            <p:nvSpPr>
              <p:cNvPr id="220" name=""/>
              <p:cNvSpPr/>
              <p:nvPr/>
            </p:nvSpPr>
            <p:spPr>
              <a:xfrm>
                <a:off x="1674720" y="3073320"/>
                <a:ext cx="338400" cy="1201680"/>
              </a:xfrm>
              <a:custGeom>
                <a:avLst/>
                <a:gdLst/>
                <a:ahLst/>
                <a:rect l="l" t="t" r="r" b="b"/>
                <a:pathLst>
                  <a:path w="213" h="757">
                    <a:moveTo>
                      <a:pt x="213" y="757"/>
                    </a:moveTo>
                    <a:cubicBezTo>
                      <a:pt x="193" y="754"/>
                      <a:pt x="173" y="751"/>
                      <a:pt x="141" y="720"/>
                    </a:cubicBezTo>
                    <a:cubicBezTo>
                      <a:pt x="109" y="689"/>
                      <a:pt x="42" y="693"/>
                      <a:pt x="21" y="573"/>
                    </a:cubicBezTo>
                    <a:cubicBezTo>
                      <a:pt x="0" y="453"/>
                      <a:pt x="18" y="119"/>
                      <a:pt x="1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63600" y="3073320"/>
                <a:ext cx="333360" cy="1218960"/>
              </a:xfrm>
              <a:custGeom>
                <a:avLst/>
                <a:gdLst/>
                <a:ahLst/>
                <a:rect l="l" t="t" r="r" b="b"/>
                <a:pathLst>
                  <a:path w="210" h="768">
                    <a:moveTo>
                      <a:pt x="0" y="768"/>
                    </a:moveTo>
                    <a:cubicBezTo>
                      <a:pt x="20" y="765"/>
                      <a:pt x="40" y="762"/>
                      <a:pt x="72" y="731"/>
                    </a:cubicBezTo>
                    <a:cubicBezTo>
                      <a:pt x="104" y="700"/>
                      <a:pt x="174" y="705"/>
                      <a:pt x="192" y="583"/>
                    </a:cubicBezTo>
                    <a:cubicBezTo>
                      <a:pt x="210" y="461"/>
                      <a:pt x="182" y="121"/>
                      <a:pt x="18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1270080" y="4144680"/>
              <a:ext cx="743040" cy="30636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8" y="188"/>
                  </a:moveTo>
                  <a:cubicBezTo>
                    <a:pt x="415" y="149"/>
                    <a:pt x="362" y="111"/>
                    <a:pt x="324" y="80"/>
                  </a:cubicBezTo>
                  <a:cubicBezTo>
                    <a:pt x="286" y="49"/>
                    <a:pt x="268" y="4"/>
                    <a:pt x="240" y="2"/>
                  </a:cubicBezTo>
                  <a:cubicBezTo>
                    <a:pt x="212" y="0"/>
                    <a:pt x="196" y="37"/>
                    <a:pt x="156" y="68"/>
                  </a:cubicBezTo>
                  <a:cubicBezTo>
                    <a:pt x="116" y="99"/>
                    <a:pt x="58" y="143"/>
                    <a:pt x="0" y="1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71320" y="3558960"/>
              <a:ext cx="911160" cy="2048040"/>
              <a:chOff x="571320" y="3558960"/>
              <a:chExt cx="911160" cy="2048040"/>
            </a:xfrm>
          </p:grpSpPr>
          <p:sp>
            <p:nvSpPr>
              <p:cNvPr id="224" name=""/>
              <p:cNvSpPr/>
              <p:nvPr/>
            </p:nvSpPr>
            <p:spPr>
              <a:xfrm flipH="1">
                <a:off x="633240" y="3695400"/>
                <a:ext cx="787680" cy="1773000"/>
              </a:xfrm>
              <a:custGeom>
                <a:avLst/>
                <a:gdLst/>
                <a:ahLst/>
                <a:rect l="l" t="t" r="r" b="b"/>
                <a:pathLst>
                  <a:path w="524" h="1136">
                    <a:moveTo>
                      <a:pt x="35" y="445"/>
                    </a:moveTo>
                    <a:cubicBezTo>
                      <a:pt x="36" y="543"/>
                      <a:pt x="0" y="946"/>
                      <a:pt x="41" y="1041"/>
                    </a:cubicBezTo>
                    <a:cubicBezTo>
                      <a:pt x="82" y="1136"/>
                      <a:pt x="206" y="1022"/>
                      <a:pt x="281" y="1017"/>
                    </a:cubicBezTo>
                    <a:cubicBezTo>
                      <a:pt x="356" y="1012"/>
                      <a:pt x="454" y="1132"/>
                      <a:pt x="489" y="1009"/>
                    </a:cubicBezTo>
                    <a:cubicBezTo>
                      <a:pt x="524" y="886"/>
                      <a:pt x="517" y="446"/>
                      <a:pt x="489" y="281"/>
                    </a:cubicBezTo>
                    <a:cubicBezTo>
                      <a:pt x="461" y="116"/>
                      <a:pt x="389" y="34"/>
                      <a:pt x="321" y="17"/>
                    </a:cubicBezTo>
                    <a:cubicBezTo>
                      <a:pt x="253" y="0"/>
                      <a:pt x="129" y="121"/>
                      <a:pt x="81" y="177"/>
                    </a:cubicBezTo>
                    <a:cubicBezTo>
                      <a:pt x="33" y="233"/>
                      <a:pt x="43" y="316"/>
                      <a:pt x="33" y="353"/>
                    </a:cubicBezTo>
                  </a:path>
                </a:pathLst>
              </a:custGeom>
              <a:gradFill rotWithShape="0">
                <a:gsLst>
                  <a:gs pos="0">
                    <a:srgbClr val="fe9f9f"/>
                  </a:gs>
                  <a:gs pos="100000">
                    <a:srgbClr val="ff5050"/>
                  </a:gs>
                </a:gsLst>
                <a:lin ang="540000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70960" y="3558960"/>
                <a:ext cx="911160" cy="2048040"/>
              </a:xfrm>
              <a:custGeom>
                <a:avLst/>
                <a:gdLst/>
                <a:ahLst/>
                <a:rect l="l" t="t" r="r" b="b"/>
                <a:pathLst>
                  <a:path w="606" h="1313">
                    <a:moveTo>
                      <a:pt x="34" y="503"/>
                    </a:moveTo>
                    <a:cubicBezTo>
                      <a:pt x="36" y="618"/>
                      <a:pt x="0" y="1089"/>
                      <a:pt x="48" y="1201"/>
                    </a:cubicBezTo>
                    <a:cubicBezTo>
                      <a:pt x="96" y="1313"/>
                      <a:pt x="239" y="1179"/>
                      <a:pt x="325" y="1173"/>
                    </a:cubicBezTo>
                    <a:cubicBezTo>
                      <a:pt x="412" y="1168"/>
                      <a:pt x="525" y="1306"/>
                      <a:pt x="566" y="1164"/>
                    </a:cubicBezTo>
                    <a:cubicBezTo>
                      <a:pt x="606" y="1022"/>
                      <a:pt x="598" y="515"/>
                      <a:pt x="566" y="324"/>
                    </a:cubicBezTo>
                    <a:cubicBezTo>
                      <a:pt x="533" y="134"/>
                      <a:pt x="450" y="39"/>
                      <a:pt x="372" y="20"/>
                    </a:cubicBezTo>
                    <a:cubicBezTo>
                      <a:pt x="293" y="0"/>
                      <a:pt x="150" y="140"/>
                      <a:pt x="95" y="204"/>
                    </a:cubicBezTo>
                    <a:cubicBezTo>
                      <a:pt x="39" y="269"/>
                      <a:pt x="51" y="365"/>
                      <a:pt x="39" y="407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752480" y="3482640"/>
              <a:ext cx="962280" cy="2136600"/>
              <a:chOff x="1752480" y="3482640"/>
              <a:chExt cx="962280" cy="2136600"/>
            </a:xfrm>
          </p:grpSpPr>
          <p:sp>
            <p:nvSpPr>
              <p:cNvPr id="227" name=""/>
              <p:cNvSpPr/>
              <p:nvPr/>
            </p:nvSpPr>
            <p:spPr>
              <a:xfrm>
                <a:off x="1817640" y="3625200"/>
                <a:ext cx="831960" cy="1849680"/>
              </a:xfrm>
              <a:custGeom>
                <a:avLst/>
                <a:gdLst/>
                <a:ahLst/>
                <a:rect l="l" t="t" r="r" b="b"/>
                <a:pathLst>
                  <a:path w="524" h="1136">
                    <a:moveTo>
                      <a:pt x="35" y="445"/>
                    </a:moveTo>
                    <a:cubicBezTo>
                      <a:pt x="36" y="543"/>
                      <a:pt x="0" y="946"/>
                      <a:pt x="41" y="1041"/>
                    </a:cubicBezTo>
                    <a:cubicBezTo>
                      <a:pt x="82" y="1136"/>
                      <a:pt x="206" y="1022"/>
                      <a:pt x="281" y="1017"/>
                    </a:cubicBezTo>
                    <a:cubicBezTo>
                      <a:pt x="356" y="1012"/>
                      <a:pt x="454" y="1132"/>
                      <a:pt x="489" y="1009"/>
                    </a:cubicBezTo>
                    <a:cubicBezTo>
                      <a:pt x="524" y="886"/>
                      <a:pt x="517" y="446"/>
                      <a:pt x="489" y="281"/>
                    </a:cubicBezTo>
                    <a:cubicBezTo>
                      <a:pt x="461" y="116"/>
                      <a:pt x="389" y="34"/>
                      <a:pt x="321" y="17"/>
                    </a:cubicBezTo>
                    <a:cubicBezTo>
                      <a:pt x="253" y="0"/>
                      <a:pt x="129" y="121"/>
                      <a:pt x="81" y="177"/>
                    </a:cubicBezTo>
                    <a:cubicBezTo>
                      <a:pt x="33" y="233"/>
                      <a:pt x="43" y="316"/>
                      <a:pt x="33" y="353"/>
                    </a:cubicBezTo>
                  </a:path>
                </a:pathLst>
              </a:custGeom>
              <a:gradFill rotWithShape="0">
                <a:gsLst>
                  <a:gs pos="0">
                    <a:srgbClr val="fe9f9f"/>
                  </a:gs>
                  <a:gs pos="100000">
                    <a:srgbClr val="ff5050"/>
                  </a:gs>
                </a:gsLst>
                <a:lin ang="540000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52480" y="3482640"/>
                <a:ext cx="962280" cy="2136600"/>
              </a:xfrm>
              <a:custGeom>
                <a:avLst/>
                <a:gdLst/>
                <a:ahLst/>
                <a:rect l="l" t="t" r="r" b="b"/>
                <a:pathLst>
                  <a:path w="606" h="1313">
                    <a:moveTo>
                      <a:pt x="34" y="503"/>
                    </a:moveTo>
                    <a:cubicBezTo>
                      <a:pt x="36" y="618"/>
                      <a:pt x="0" y="1089"/>
                      <a:pt x="48" y="1201"/>
                    </a:cubicBezTo>
                    <a:cubicBezTo>
                      <a:pt x="96" y="1313"/>
                      <a:pt x="239" y="1179"/>
                      <a:pt x="325" y="1173"/>
                    </a:cubicBezTo>
                    <a:cubicBezTo>
                      <a:pt x="412" y="1168"/>
                      <a:pt x="525" y="1306"/>
                      <a:pt x="566" y="1164"/>
                    </a:cubicBezTo>
                    <a:cubicBezTo>
                      <a:pt x="606" y="1022"/>
                      <a:pt x="598" y="515"/>
                      <a:pt x="566" y="324"/>
                    </a:cubicBezTo>
                    <a:cubicBezTo>
                      <a:pt x="533" y="134"/>
                      <a:pt x="450" y="39"/>
                      <a:pt x="372" y="20"/>
                    </a:cubicBezTo>
                    <a:cubicBezTo>
                      <a:pt x="293" y="0"/>
                      <a:pt x="150" y="140"/>
                      <a:pt x="95" y="204"/>
                    </a:cubicBezTo>
                    <a:cubicBezTo>
                      <a:pt x="39" y="269"/>
                      <a:pt x="51" y="365"/>
                      <a:pt x="39" y="407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38120" y="3187440"/>
              <a:ext cx="1225440" cy="2774880"/>
            </a:xfrm>
            <a:custGeom>
              <a:avLst/>
              <a:gdLst/>
              <a:ahLst/>
              <a:rect l="l" t="t" r="r" b="b"/>
              <a:pathLst>
                <a:path w="772" h="1748">
                  <a:moveTo>
                    <a:pt x="700" y="0"/>
                  </a:moveTo>
                  <a:cubicBezTo>
                    <a:pt x="508" y="7"/>
                    <a:pt x="316" y="15"/>
                    <a:pt x="204" y="160"/>
                  </a:cubicBezTo>
                  <a:cubicBezTo>
                    <a:pt x="92" y="305"/>
                    <a:pt x="56" y="625"/>
                    <a:pt x="28" y="872"/>
                  </a:cubicBezTo>
                  <a:cubicBezTo>
                    <a:pt x="0" y="1119"/>
                    <a:pt x="12" y="1532"/>
                    <a:pt x="36" y="1640"/>
                  </a:cubicBezTo>
                  <a:cubicBezTo>
                    <a:pt x="60" y="1748"/>
                    <a:pt x="49" y="1543"/>
                    <a:pt x="172" y="1520"/>
                  </a:cubicBezTo>
                  <a:cubicBezTo>
                    <a:pt x="295" y="1497"/>
                    <a:pt x="533" y="1500"/>
                    <a:pt x="772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606680" y="3187440"/>
              <a:ext cx="1225440" cy="2774880"/>
            </a:xfrm>
            <a:custGeom>
              <a:avLst/>
              <a:gdLst/>
              <a:ahLst/>
              <a:rect l="l" t="t" r="r" b="b"/>
              <a:pathLst>
                <a:path w="772" h="1748">
                  <a:moveTo>
                    <a:pt x="700" y="0"/>
                  </a:moveTo>
                  <a:cubicBezTo>
                    <a:pt x="508" y="7"/>
                    <a:pt x="316" y="15"/>
                    <a:pt x="204" y="160"/>
                  </a:cubicBezTo>
                  <a:cubicBezTo>
                    <a:pt x="92" y="305"/>
                    <a:pt x="56" y="625"/>
                    <a:pt x="28" y="872"/>
                  </a:cubicBezTo>
                  <a:cubicBezTo>
                    <a:pt x="0" y="1119"/>
                    <a:pt x="12" y="1532"/>
                    <a:pt x="36" y="1640"/>
                  </a:cubicBezTo>
                  <a:cubicBezTo>
                    <a:pt x="60" y="1748"/>
                    <a:pt x="49" y="1543"/>
                    <a:pt x="172" y="1520"/>
                  </a:cubicBezTo>
                  <a:cubicBezTo>
                    <a:pt x="295" y="1497"/>
                    <a:pt x="533" y="1500"/>
                    <a:pt x="772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73080" y="4062240"/>
              <a:ext cx="622440" cy="984240"/>
            </a:xfrm>
            <a:custGeom>
              <a:avLst/>
              <a:gdLst/>
              <a:ahLst/>
              <a:rect l="l" t="t" r="r" b="b"/>
              <a:pathLst>
                <a:path w="392" h="620">
                  <a:moveTo>
                    <a:pt x="0" y="89"/>
                  </a:moveTo>
                  <a:cubicBezTo>
                    <a:pt x="25" y="104"/>
                    <a:pt x="107" y="168"/>
                    <a:pt x="144" y="177"/>
                  </a:cubicBezTo>
                  <a:cubicBezTo>
                    <a:pt x="181" y="186"/>
                    <a:pt x="199" y="164"/>
                    <a:pt x="224" y="145"/>
                  </a:cubicBezTo>
                  <a:cubicBezTo>
                    <a:pt x="249" y="126"/>
                    <a:pt x="281" y="88"/>
                    <a:pt x="296" y="65"/>
                  </a:cubicBezTo>
                  <a:cubicBezTo>
                    <a:pt x="311" y="42"/>
                    <a:pt x="303" y="18"/>
                    <a:pt x="316" y="9"/>
                  </a:cubicBezTo>
                  <a:cubicBezTo>
                    <a:pt x="329" y="0"/>
                    <a:pt x="365" y="2"/>
                    <a:pt x="376" y="13"/>
                  </a:cubicBezTo>
                  <a:cubicBezTo>
                    <a:pt x="387" y="24"/>
                    <a:pt x="392" y="61"/>
                    <a:pt x="384" y="73"/>
                  </a:cubicBezTo>
                  <a:cubicBezTo>
                    <a:pt x="376" y="85"/>
                    <a:pt x="352" y="70"/>
                    <a:pt x="328" y="89"/>
                  </a:cubicBezTo>
                  <a:cubicBezTo>
                    <a:pt x="304" y="108"/>
                    <a:pt x="269" y="160"/>
                    <a:pt x="240" y="185"/>
                  </a:cubicBezTo>
                  <a:cubicBezTo>
                    <a:pt x="211" y="210"/>
                    <a:pt x="155" y="204"/>
                    <a:pt x="152" y="237"/>
                  </a:cubicBezTo>
                  <a:cubicBezTo>
                    <a:pt x="149" y="270"/>
                    <a:pt x="205" y="336"/>
                    <a:pt x="224" y="381"/>
                  </a:cubicBezTo>
                  <a:cubicBezTo>
                    <a:pt x="243" y="426"/>
                    <a:pt x="251" y="482"/>
                    <a:pt x="268" y="509"/>
                  </a:cubicBezTo>
                  <a:cubicBezTo>
                    <a:pt x="285" y="536"/>
                    <a:pt x="321" y="527"/>
                    <a:pt x="328" y="541"/>
                  </a:cubicBezTo>
                  <a:cubicBezTo>
                    <a:pt x="335" y="555"/>
                    <a:pt x="321" y="580"/>
                    <a:pt x="308" y="593"/>
                  </a:cubicBezTo>
                  <a:cubicBezTo>
                    <a:pt x="295" y="606"/>
                    <a:pt x="265" y="620"/>
                    <a:pt x="248" y="617"/>
                  </a:cubicBezTo>
                  <a:cubicBezTo>
                    <a:pt x="231" y="614"/>
                    <a:pt x="211" y="590"/>
                    <a:pt x="208" y="573"/>
                  </a:cubicBezTo>
                  <a:cubicBezTo>
                    <a:pt x="205" y="556"/>
                    <a:pt x="235" y="546"/>
                    <a:pt x="232" y="517"/>
                  </a:cubicBezTo>
                  <a:cubicBezTo>
                    <a:pt x="229" y="488"/>
                    <a:pt x="203" y="431"/>
                    <a:pt x="188" y="397"/>
                  </a:cubicBezTo>
                  <a:cubicBezTo>
                    <a:pt x="173" y="363"/>
                    <a:pt x="158" y="344"/>
                    <a:pt x="140" y="313"/>
                  </a:cubicBezTo>
                  <a:cubicBezTo>
                    <a:pt x="122" y="282"/>
                    <a:pt x="103" y="236"/>
                    <a:pt x="80" y="213"/>
                  </a:cubicBezTo>
                  <a:cubicBezTo>
                    <a:pt x="57" y="190"/>
                    <a:pt x="17" y="184"/>
                    <a:pt x="0" y="177"/>
                  </a:cubicBez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48440" y="4093920"/>
              <a:ext cx="622440" cy="984240"/>
            </a:xfrm>
            <a:custGeom>
              <a:avLst/>
              <a:gdLst/>
              <a:ahLst/>
              <a:rect l="l" t="t" r="r" b="b"/>
              <a:pathLst>
                <a:path w="392" h="620">
                  <a:moveTo>
                    <a:pt x="0" y="89"/>
                  </a:moveTo>
                  <a:cubicBezTo>
                    <a:pt x="25" y="104"/>
                    <a:pt x="107" y="168"/>
                    <a:pt x="144" y="177"/>
                  </a:cubicBezTo>
                  <a:cubicBezTo>
                    <a:pt x="181" y="186"/>
                    <a:pt x="199" y="164"/>
                    <a:pt x="224" y="145"/>
                  </a:cubicBezTo>
                  <a:cubicBezTo>
                    <a:pt x="249" y="126"/>
                    <a:pt x="281" y="88"/>
                    <a:pt x="296" y="65"/>
                  </a:cubicBezTo>
                  <a:cubicBezTo>
                    <a:pt x="311" y="42"/>
                    <a:pt x="303" y="18"/>
                    <a:pt x="316" y="9"/>
                  </a:cubicBezTo>
                  <a:cubicBezTo>
                    <a:pt x="329" y="0"/>
                    <a:pt x="365" y="2"/>
                    <a:pt x="376" y="13"/>
                  </a:cubicBezTo>
                  <a:cubicBezTo>
                    <a:pt x="387" y="24"/>
                    <a:pt x="392" y="61"/>
                    <a:pt x="384" y="73"/>
                  </a:cubicBezTo>
                  <a:cubicBezTo>
                    <a:pt x="376" y="85"/>
                    <a:pt x="352" y="70"/>
                    <a:pt x="328" y="89"/>
                  </a:cubicBezTo>
                  <a:cubicBezTo>
                    <a:pt x="304" y="108"/>
                    <a:pt x="269" y="160"/>
                    <a:pt x="240" y="185"/>
                  </a:cubicBezTo>
                  <a:cubicBezTo>
                    <a:pt x="211" y="210"/>
                    <a:pt x="155" y="204"/>
                    <a:pt x="152" y="237"/>
                  </a:cubicBezTo>
                  <a:cubicBezTo>
                    <a:pt x="149" y="270"/>
                    <a:pt x="205" y="336"/>
                    <a:pt x="224" y="381"/>
                  </a:cubicBezTo>
                  <a:cubicBezTo>
                    <a:pt x="243" y="426"/>
                    <a:pt x="251" y="482"/>
                    <a:pt x="268" y="509"/>
                  </a:cubicBezTo>
                  <a:cubicBezTo>
                    <a:pt x="285" y="536"/>
                    <a:pt x="321" y="527"/>
                    <a:pt x="328" y="541"/>
                  </a:cubicBezTo>
                  <a:cubicBezTo>
                    <a:pt x="335" y="555"/>
                    <a:pt x="321" y="580"/>
                    <a:pt x="308" y="593"/>
                  </a:cubicBezTo>
                  <a:cubicBezTo>
                    <a:pt x="295" y="606"/>
                    <a:pt x="265" y="620"/>
                    <a:pt x="248" y="617"/>
                  </a:cubicBezTo>
                  <a:cubicBezTo>
                    <a:pt x="231" y="614"/>
                    <a:pt x="211" y="590"/>
                    <a:pt x="208" y="573"/>
                  </a:cubicBezTo>
                  <a:cubicBezTo>
                    <a:pt x="205" y="556"/>
                    <a:pt x="235" y="546"/>
                    <a:pt x="232" y="517"/>
                  </a:cubicBezTo>
                  <a:cubicBezTo>
                    <a:pt x="229" y="488"/>
                    <a:pt x="203" y="431"/>
                    <a:pt x="188" y="397"/>
                  </a:cubicBezTo>
                  <a:cubicBezTo>
                    <a:pt x="173" y="363"/>
                    <a:pt x="158" y="344"/>
                    <a:pt x="140" y="313"/>
                  </a:cubicBezTo>
                  <a:cubicBezTo>
                    <a:pt x="122" y="282"/>
                    <a:pt x="103" y="236"/>
                    <a:pt x="80" y="213"/>
                  </a:cubicBezTo>
                  <a:cubicBezTo>
                    <a:pt x="57" y="190"/>
                    <a:pt x="17" y="184"/>
                    <a:pt x="0" y="177"/>
                  </a:cubicBez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106640" y="1440000"/>
            <a:ext cx="817560" cy="674640"/>
          </a:xfrm>
          <a:custGeom>
            <a:avLst/>
            <a:gdLst/>
            <a:ahLst/>
            <a:rect l="l" t="t" r="r" b="b"/>
            <a:pathLst>
              <a:path w="645" h="532">
                <a:moveTo>
                  <a:pt x="495" y="41"/>
                </a:moveTo>
                <a:cubicBezTo>
                  <a:pt x="491" y="34"/>
                  <a:pt x="488" y="27"/>
                  <a:pt x="467" y="21"/>
                </a:cubicBezTo>
                <a:cubicBezTo>
                  <a:pt x="446" y="15"/>
                  <a:pt x="422" y="0"/>
                  <a:pt x="371" y="5"/>
                </a:cubicBezTo>
                <a:cubicBezTo>
                  <a:pt x="320" y="10"/>
                  <a:pt x="212" y="29"/>
                  <a:pt x="159" y="53"/>
                </a:cubicBezTo>
                <a:cubicBezTo>
                  <a:pt x="106" y="77"/>
                  <a:pt x="81" y="112"/>
                  <a:pt x="55" y="149"/>
                </a:cubicBezTo>
                <a:cubicBezTo>
                  <a:pt x="29" y="186"/>
                  <a:pt x="6" y="226"/>
                  <a:pt x="3" y="277"/>
                </a:cubicBezTo>
                <a:cubicBezTo>
                  <a:pt x="0" y="328"/>
                  <a:pt x="18" y="415"/>
                  <a:pt x="39" y="453"/>
                </a:cubicBezTo>
                <a:cubicBezTo>
                  <a:pt x="60" y="491"/>
                  <a:pt x="92" y="500"/>
                  <a:pt x="127" y="505"/>
                </a:cubicBezTo>
                <a:cubicBezTo>
                  <a:pt x="162" y="510"/>
                  <a:pt x="213" y="480"/>
                  <a:pt x="247" y="481"/>
                </a:cubicBezTo>
                <a:cubicBezTo>
                  <a:pt x="281" y="482"/>
                  <a:pt x="265" y="532"/>
                  <a:pt x="331" y="513"/>
                </a:cubicBezTo>
                <a:cubicBezTo>
                  <a:pt x="397" y="494"/>
                  <a:pt x="580" y="396"/>
                  <a:pt x="645" y="365"/>
                </a:cubicBezTo>
              </a:path>
            </a:pathLst>
          </a:custGeom>
          <a:gradFill rotWithShape="0">
            <a:gsLst>
              <a:gs pos="0">
                <a:srgbClr val="aeaeae"/>
              </a:gs>
              <a:gs pos="50000">
                <a:srgbClr val="dddddd"/>
              </a:gs>
              <a:gs pos="100000">
                <a:srgbClr val="aeaeae"/>
              </a:gs>
            </a:gsLst>
            <a:lin ang="54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2960" y="2070000"/>
            <a:ext cx="327240" cy="53820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solidFill>
            <a:srgbClr val="ff99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22600" y="2084400"/>
            <a:ext cx="474480" cy="304920"/>
          </a:xfrm>
          <a:custGeom>
            <a:avLst/>
            <a:gdLst/>
            <a:ahLst/>
            <a:rect l="l" t="t" r="r" b="b"/>
            <a:pathLst>
              <a:path w="374" h="241">
                <a:moveTo>
                  <a:pt x="12" y="28"/>
                </a:moveTo>
                <a:cubicBezTo>
                  <a:pt x="24" y="17"/>
                  <a:pt x="66" y="17"/>
                  <a:pt x="93" y="13"/>
                </a:cubicBezTo>
                <a:cubicBezTo>
                  <a:pt x="120" y="9"/>
                  <a:pt x="148" y="0"/>
                  <a:pt x="177" y="1"/>
                </a:cubicBezTo>
                <a:cubicBezTo>
                  <a:pt x="206" y="2"/>
                  <a:pt x="240" y="12"/>
                  <a:pt x="265" y="17"/>
                </a:cubicBezTo>
                <a:cubicBezTo>
                  <a:pt x="290" y="22"/>
                  <a:pt x="310" y="27"/>
                  <a:pt x="325" y="29"/>
                </a:cubicBezTo>
                <a:cubicBezTo>
                  <a:pt x="340" y="31"/>
                  <a:pt x="346" y="21"/>
                  <a:pt x="354" y="31"/>
                </a:cubicBezTo>
                <a:cubicBezTo>
                  <a:pt x="362" y="41"/>
                  <a:pt x="372" y="67"/>
                  <a:pt x="373" y="89"/>
                </a:cubicBezTo>
                <a:cubicBezTo>
                  <a:pt x="374" y="111"/>
                  <a:pt x="365" y="148"/>
                  <a:pt x="361" y="165"/>
                </a:cubicBezTo>
                <a:cubicBezTo>
                  <a:pt x="357" y="182"/>
                  <a:pt x="362" y="179"/>
                  <a:pt x="349" y="189"/>
                </a:cubicBezTo>
                <a:cubicBezTo>
                  <a:pt x="336" y="199"/>
                  <a:pt x="307" y="217"/>
                  <a:pt x="281" y="225"/>
                </a:cubicBezTo>
                <a:cubicBezTo>
                  <a:pt x="255" y="233"/>
                  <a:pt x="212" y="236"/>
                  <a:pt x="193" y="237"/>
                </a:cubicBezTo>
                <a:cubicBezTo>
                  <a:pt x="174" y="238"/>
                  <a:pt x="184" y="241"/>
                  <a:pt x="165" y="233"/>
                </a:cubicBezTo>
                <a:cubicBezTo>
                  <a:pt x="146" y="225"/>
                  <a:pt x="100" y="198"/>
                  <a:pt x="77" y="189"/>
                </a:cubicBezTo>
                <a:cubicBezTo>
                  <a:pt x="54" y="180"/>
                  <a:pt x="40" y="185"/>
                  <a:pt x="29" y="177"/>
                </a:cubicBezTo>
                <a:cubicBezTo>
                  <a:pt x="18" y="169"/>
                  <a:pt x="16" y="153"/>
                  <a:pt x="13" y="141"/>
                </a:cubicBezTo>
                <a:cubicBezTo>
                  <a:pt x="10" y="129"/>
                  <a:pt x="12" y="116"/>
                  <a:pt x="13" y="105"/>
                </a:cubicBezTo>
                <a:cubicBezTo>
                  <a:pt x="14" y="94"/>
                  <a:pt x="21" y="90"/>
                  <a:pt x="21" y="77"/>
                </a:cubicBezTo>
                <a:cubicBezTo>
                  <a:pt x="21" y="64"/>
                  <a:pt x="0" y="39"/>
                  <a:pt x="12" y="28"/>
                </a:cubicBezTo>
                <a:close/>
              </a:path>
            </a:pathLst>
          </a:custGeom>
          <a:solidFill>
            <a:srgbClr val="808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1520" y="1467000"/>
            <a:ext cx="709560" cy="672840"/>
          </a:xfrm>
          <a:custGeom>
            <a:avLst/>
            <a:gdLst/>
            <a:ahLst/>
            <a:rect l="l" t="t" r="r" b="b"/>
            <a:pathLst>
              <a:path w="560" h="531">
                <a:moveTo>
                  <a:pt x="256" y="232"/>
                </a:moveTo>
                <a:cubicBezTo>
                  <a:pt x="180" y="242"/>
                  <a:pt x="105" y="252"/>
                  <a:pt x="64" y="284"/>
                </a:cubicBezTo>
                <a:cubicBezTo>
                  <a:pt x="23" y="316"/>
                  <a:pt x="0" y="385"/>
                  <a:pt x="8" y="424"/>
                </a:cubicBezTo>
                <a:cubicBezTo>
                  <a:pt x="16" y="463"/>
                  <a:pt x="61" y="509"/>
                  <a:pt x="112" y="520"/>
                </a:cubicBezTo>
                <a:cubicBezTo>
                  <a:pt x="163" y="531"/>
                  <a:pt x="249" y="493"/>
                  <a:pt x="312" y="492"/>
                </a:cubicBezTo>
                <a:cubicBezTo>
                  <a:pt x="375" y="491"/>
                  <a:pt x="453" y="518"/>
                  <a:pt x="492" y="516"/>
                </a:cubicBezTo>
                <a:cubicBezTo>
                  <a:pt x="531" y="514"/>
                  <a:pt x="533" y="495"/>
                  <a:pt x="544" y="480"/>
                </a:cubicBezTo>
                <a:cubicBezTo>
                  <a:pt x="555" y="465"/>
                  <a:pt x="557" y="459"/>
                  <a:pt x="556" y="428"/>
                </a:cubicBezTo>
                <a:cubicBezTo>
                  <a:pt x="555" y="397"/>
                  <a:pt x="560" y="349"/>
                  <a:pt x="540" y="292"/>
                </a:cubicBezTo>
                <a:cubicBezTo>
                  <a:pt x="520" y="235"/>
                  <a:pt x="483" y="135"/>
                  <a:pt x="436" y="88"/>
                </a:cubicBezTo>
                <a:cubicBezTo>
                  <a:pt x="389" y="41"/>
                  <a:pt x="306" y="23"/>
                  <a:pt x="260" y="12"/>
                </a:cubicBezTo>
                <a:cubicBezTo>
                  <a:pt x="214" y="1"/>
                  <a:pt x="193" y="0"/>
                  <a:pt x="160" y="20"/>
                </a:cubicBezTo>
                <a:cubicBezTo>
                  <a:pt x="127" y="40"/>
                  <a:pt x="83" y="101"/>
                  <a:pt x="60" y="132"/>
                </a:cubicBezTo>
                <a:cubicBezTo>
                  <a:pt x="37" y="163"/>
                  <a:pt x="31" y="192"/>
                  <a:pt x="24" y="208"/>
                </a:cubicBezTo>
              </a:path>
            </a:pathLst>
          </a:custGeom>
          <a:gradFill rotWithShape="0">
            <a:gsLst>
              <a:gs pos="0">
                <a:srgbClr val="aeaeae"/>
              </a:gs>
              <a:gs pos="50000">
                <a:srgbClr val="dddddd"/>
              </a:gs>
              <a:gs pos="100000">
                <a:srgbClr val="aeaeae"/>
              </a:gs>
            </a:gsLst>
            <a:lin ang="54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77920" y="1144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héma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541800" y="1243080"/>
            <a:ext cx="56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réponse vasoconstrictrice à une hypoxie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56880" y="5060880"/>
            <a:ext cx="232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50     100     150     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319840" y="5349960"/>
            <a:ext cx="1465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P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 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rot="16200000">
            <a:off x="-541440" y="3371760"/>
            <a:ext cx="25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débit sanguin (% contrô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rot="16200000">
            <a:off x="1685160" y="4687200"/>
            <a:ext cx="92160" cy="69048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076480" y="4983120"/>
            <a:ext cx="68580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774880" y="4987800"/>
            <a:ext cx="68580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468600" y="4987800"/>
            <a:ext cx="68580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992160" y="4816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295280" y="2793960"/>
            <a:ext cx="92160" cy="54936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rot="5400000">
            <a:off x="1068480" y="3565440"/>
            <a:ext cx="542880" cy="9864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rot="5400000">
            <a:off x="1062720" y="4118760"/>
            <a:ext cx="54288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rot="5400000">
            <a:off x="1062000" y="4668840"/>
            <a:ext cx="54432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98200" y="4276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95320" y="3706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901440" y="3166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901440" y="2629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01720" y="2070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292400" y="2249640"/>
            <a:ext cx="91800" cy="54756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176560" y="3525840"/>
            <a:ext cx="98280" cy="982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2717640" y="2717640"/>
            <a:ext cx="9864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411360" y="2419200"/>
            <a:ext cx="9864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673280" y="4143240"/>
            <a:ext cx="10008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105440" y="2249640"/>
            <a:ext cx="98280" cy="9972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768840" y="2320920"/>
            <a:ext cx="99720" cy="982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382840" y="3044880"/>
            <a:ext cx="9828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060720" y="2557440"/>
            <a:ext cx="98280" cy="982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717560" y="2295360"/>
            <a:ext cx="2446560" cy="1898640"/>
          </a:xfrm>
          <a:custGeom>
            <a:avLst/>
            <a:gdLst/>
            <a:ahLst/>
            <a:rect l="l" t="t" r="r" b="b"/>
            <a:pathLst>
              <a:path w="1926" h="1494">
                <a:moveTo>
                  <a:pt x="0" y="1494"/>
                </a:moveTo>
                <a:cubicBezTo>
                  <a:pt x="157" y="1317"/>
                  <a:pt x="314" y="1141"/>
                  <a:pt x="408" y="996"/>
                </a:cubicBezTo>
                <a:cubicBezTo>
                  <a:pt x="502" y="851"/>
                  <a:pt x="493" y="729"/>
                  <a:pt x="564" y="624"/>
                </a:cubicBezTo>
                <a:cubicBezTo>
                  <a:pt x="635" y="519"/>
                  <a:pt x="745" y="431"/>
                  <a:pt x="834" y="366"/>
                </a:cubicBezTo>
                <a:cubicBezTo>
                  <a:pt x="923" y="301"/>
                  <a:pt x="1007" y="273"/>
                  <a:pt x="1098" y="234"/>
                </a:cubicBezTo>
                <a:cubicBezTo>
                  <a:pt x="1189" y="195"/>
                  <a:pt x="1283" y="164"/>
                  <a:pt x="1380" y="132"/>
                </a:cubicBezTo>
                <a:cubicBezTo>
                  <a:pt x="1477" y="100"/>
                  <a:pt x="1589" y="64"/>
                  <a:pt x="1680" y="42"/>
                </a:cubicBezTo>
                <a:cubicBezTo>
                  <a:pt x="1771" y="20"/>
                  <a:pt x="1848" y="10"/>
                  <a:pt x="1926" y="0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812840" y="2281320"/>
            <a:ext cx="353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a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rps neuroépithéliaux 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résents dans les voies aérie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ensibles à l’hypox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libération de séroton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 lisse vasculaire 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ffec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 lisse va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vasoconstriction hypox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/>
          <p:nvPr/>
        </p:nvSpPr>
        <p:spPr>
          <a:xfrm>
            <a:off x="286560" y="130824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consé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58920" y="2233440"/>
            <a:ext cx="435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dulte : ajustement local 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hypoxie locale : redistribution de la perfusion vers les secteurs ventilé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(circuit en parallè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NB : hypoxie généralisée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hypertension (circuit en sér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635360" y="2451240"/>
            <a:ext cx="104328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56400" y="2451240"/>
            <a:ext cx="104292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095880" y="2463840"/>
            <a:ext cx="1043280" cy="15368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016600" y="2092320"/>
            <a:ext cx="3098880" cy="384120"/>
          </a:xfrm>
          <a:custGeom>
            <a:avLst/>
            <a:gdLst/>
            <a:ahLst/>
            <a:rect l="l" t="t" r="r" b="b"/>
            <a:pathLst>
              <a:path w="1952" h="242">
                <a:moveTo>
                  <a:pt x="0" y="242"/>
                </a:moveTo>
                <a:lnTo>
                  <a:pt x="0" y="114"/>
                </a:lnTo>
                <a:lnTo>
                  <a:pt x="918" y="120"/>
                </a:lnTo>
                <a:lnTo>
                  <a:pt x="912" y="6"/>
                </a:lnTo>
                <a:lnTo>
                  <a:pt x="1032" y="0"/>
                </a:lnTo>
                <a:lnTo>
                  <a:pt x="1032" y="114"/>
                </a:lnTo>
                <a:lnTo>
                  <a:pt x="1952" y="122"/>
                </a:lnTo>
                <a:lnTo>
                  <a:pt x="1952" y="242"/>
                </a:lnTo>
              </a:path>
            </a:pathLst>
          </a:custGeom>
          <a:solidFill>
            <a:srgbClr val="3333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521240" y="396720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610160" y="4041720"/>
            <a:ext cx="1038240" cy="416160"/>
          </a:xfrm>
          <a:custGeom>
            <a:avLst/>
            <a:gdLst/>
            <a:ahLst/>
            <a:rect l="l" t="t" r="r" b="b"/>
            <a:pathLst>
              <a:path w="654" h="262">
                <a:moveTo>
                  <a:pt x="0" y="210"/>
                </a:moveTo>
                <a:cubicBezTo>
                  <a:pt x="14" y="182"/>
                  <a:pt x="39" y="73"/>
                  <a:pt x="78" y="48"/>
                </a:cubicBezTo>
                <a:cubicBezTo>
                  <a:pt x="117" y="23"/>
                  <a:pt x="190" y="57"/>
                  <a:pt x="234" y="60"/>
                </a:cubicBezTo>
                <a:cubicBezTo>
                  <a:pt x="278" y="63"/>
                  <a:pt x="310" y="67"/>
                  <a:pt x="342" y="66"/>
                </a:cubicBezTo>
                <a:cubicBezTo>
                  <a:pt x="374" y="65"/>
                  <a:pt x="400" y="60"/>
                  <a:pt x="426" y="54"/>
                </a:cubicBezTo>
                <a:cubicBezTo>
                  <a:pt x="452" y="48"/>
                  <a:pt x="471" y="36"/>
                  <a:pt x="498" y="30"/>
                </a:cubicBezTo>
                <a:cubicBezTo>
                  <a:pt x="525" y="24"/>
                  <a:pt x="563" y="0"/>
                  <a:pt x="588" y="18"/>
                </a:cubicBezTo>
                <a:cubicBezTo>
                  <a:pt x="613" y="36"/>
                  <a:pt x="642" y="97"/>
                  <a:pt x="648" y="138"/>
                </a:cubicBezTo>
                <a:cubicBezTo>
                  <a:pt x="654" y="179"/>
                  <a:pt x="629" y="236"/>
                  <a:pt x="624" y="262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207040" y="2463840"/>
            <a:ext cx="127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667560" y="246384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026040" y="396720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168960" y="4145040"/>
            <a:ext cx="936720" cy="312840"/>
          </a:xfrm>
          <a:custGeom>
            <a:avLst/>
            <a:gdLst/>
            <a:ahLst/>
            <a:rect l="l" t="t" r="r" b="b"/>
            <a:pathLst>
              <a:path w="590" h="197">
                <a:moveTo>
                  <a:pt x="0" y="145"/>
                </a:moveTo>
                <a:cubicBezTo>
                  <a:pt x="9" y="126"/>
                  <a:pt x="20" y="55"/>
                  <a:pt x="53" y="36"/>
                </a:cubicBezTo>
                <a:cubicBezTo>
                  <a:pt x="86" y="17"/>
                  <a:pt x="154" y="29"/>
                  <a:pt x="196" y="32"/>
                </a:cubicBezTo>
                <a:cubicBezTo>
                  <a:pt x="239" y="36"/>
                  <a:pt x="273" y="55"/>
                  <a:pt x="310" y="55"/>
                </a:cubicBezTo>
                <a:cubicBezTo>
                  <a:pt x="346" y="54"/>
                  <a:pt x="383" y="38"/>
                  <a:pt x="413" y="29"/>
                </a:cubicBezTo>
                <a:cubicBezTo>
                  <a:pt x="443" y="20"/>
                  <a:pt x="469" y="5"/>
                  <a:pt x="490" y="2"/>
                </a:cubicBezTo>
                <a:cubicBezTo>
                  <a:pt x="511" y="0"/>
                  <a:pt x="528" y="4"/>
                  <a:pt x="542" y="14"/>
                </a:cubicBezTo>
                <a:cubicBezTo>
                  <a:pt x="555" y="23"/>
                  <a:pt x="563" y="29"/>
                  <a:pt x="571" y="59"/>
                </a:cubicBezTo>
                <a:cubicBezTo>
                  <a:pt x="579" y="89"/>
                  <a:pt x="586" y="168"/>
                  <a:pt x="590" y="19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439040" y="3973680"/>
            <a:ext cx="1197000" cy="496800"/>
          </a:xfrm>
          <a:custGeom>
            <a:avLst/>
            <a:gdLst/>
            <a:ahLst/>
            <a:rect l="l" t="t" r="r" b="b"/>
            <a:pathLst>
              <a:path w="754" h="313">
                <a:moveTo>
                  <a:pt x="0" y="229"/>
                </a:moveTo>
                <a:cubicBezTo>
                  <a:pt x="12" y="198"/>
                  <a:pt x="37" y="74"/>
                  <a:pt x="79" y="44"/>
                </a:cubicBezTo>
                <a:cubicBezTo>
                  <a:pt x="121" y="14"/>
                  <a:pt x="202" y="44"/>
                  <a:pt x="252" y="47"/>
                </a:cubicBezTo>
                <a:cubicBezTo>
                  <a:pt x="302" y="51"/>
                  <a:pt x="340" y="64"/>
                  <a:pt x="381" y="62"/>
                </a:cubicBezTo>
                <a:cubicBezTo>
                  <a:pt x="423" y="61"/>
                  <a:pt x="468" y="45"/>
                  <a:pt x="503" y="36"/>
                </a:cubicBezTo>
                <a:cubicBezTo>
                  <a:pt x="539" y="27"/>
                  <a:pt x="568" y="12"/>
                  <a:pt x="593" y="10"/>
                </a:cubicBezTo>
                <a:cubicBezTo>
                  <a:pt x="618" y="8"/>
                  <a:pt x="631" y="0"/>
                  <a:pt x="654" y="21"/>
                </a:cubicBezTo>
                <a:cubicBezTo>
                  <a:pt x="677" y="42"/>
                  <a:pt x="713" y="88"/>
                  <a:pt x="730" y="137"/>
                </a:cubicBezTo>
                <a:cubicBezTo>
                  <a:pt x="747" y="186"/>
                  <a:pt x="749" y="276"/>
                  <a:pt x="754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637400" y="4208400"/>
            <a:ext cx="808200" cy="233280"/>
          </a:xfrm>
          <a:custGeom>
            <a:avLst/>
            <a:gdLst/>
            <a:ahLst/>
            <a:rect l="l" t="t" r="r" b="b"/>
            <a:pathLst>
              <a:path w="509" h="147">
                <a:moveTo>
                  <a:pt x="13" y="117"/>
                </a:moveTo>
                <a:cubicBezTo>
                  <a:pt x="14" y="106"/>
                  <a:pt x="0" y="64"/>
                  <a:pt x="7" y="45"/>
                </a:cubicBezTo>
                <a:cubicBezTo>
                  <a:pt x="14" y="26"/>
                  <a:pt x="31" y="6"/>
                  <a:pt x="55" y="3"/>
                </a:cubicBezTo>
                <a:cubicBezTo>
                  <a:pt x="79" y="0"/>
                  <a:pt x="119" y="21"/>
                  <a:pt x="151" y="27"/>
                </a:cubicBezTo>
                <a:cubicBezTo>
                  <a:pt x="183" y="33"/>
                  <a:pt x="210" y="42"/>
                  <a:pt x="247" y="39"/>
                </a:cubicBezTo>
                <a:cubicBezTo>
                  <a:pt x="284" y="36"/>
                  <a:pt x="343" y="14"/>
                  <a:pt x="373" y="9"/>
                </a:cubicBezTo>
                <a:cubicBezTo>
                  <a:pt x="403" y="4"/>
                  <a:pt x="410" y="8"/>
                  <a:pt x="427" y="9"/>
                </a:cubicBezTo>
                <a:cubicBezTo>
                  <a:pt x="444" y="10"/>
                  <a:pt x="462" y="10"/>
                  <a:pt x="475" y="15"/>
                </a:cubicBezTo>
                <a:cubicBezTo>
                  <a:pt x="488" y="20"/>
                  <a:pt x="501" y="17"/>
                  <a:pt x="505" y="39"/>
                </a:cubicBezTo>
                <a:cubicBezTo>
                  <a:pt x="509" y="61"/>
                  <a:pt x="500" y="125"/>
                  <a:pt x="499" y="14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594400" y="4444920"/>
            <a:ext cx="3295440" cy="120600"/>
          </a:xfrm>
          <a:custGeom>
            <a:avLst/>
            <a:gdLst/>
            <a:ahLst/>
            <a:rect l="l" t="t" r="r" b="b"/>
            <a:pathLst>
              <a:path w="2076" h="76">
                <a:moveTo>
                  <a:pt x="0" y="4"/>
                </a:moveTo>
                <a:lnTo>
                  <a:pt x="0" y="76"/>
                </a:lnTo>
                <a:lnTo>
                  <a:pt x="2076" y="76"/>
                </a:lnTo>
                <a:lnTo>
                  <a:pt x="2076" y="0"/>
                </a:lnTo>
                <a:lnTo>
                  <a:pt x="1920" y="0"/>
                </a:lnTo>
              </a:path>
            </a:pathLst>
          </a:custGeom>
          <a:solidFill>
            <a:srgbClr val="ff505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734080" y="44514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45360" y="4444920"/>
            <a:ext cx="1177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63600" y="4879800"/>
            <a:ext cx="757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fœtus et nouveau-né :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modulation de la perfusion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hunt droit-gauche : circulations en série / en parallè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vant la naissance : vasoconstriction hypoxique : shunt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naissance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ventilation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vasodilatation : augmentation du débit sanguin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6412320" y="1184400"/>
            <a:ext cx="421560" cy="493200"/>
            <a:chOff x="6412320" y="1184400"/>
            <a:chExt cx="421560" cy="493200"/>
          </a:xfrm>
        </p:grpSpPr>
        <p:sp>
          <p:nvSpPr>
            <p:cNvPr id="1545" name=""/>
            <p:cNvSpPr/>
            <p:nvPr/>
          </p:nvSpPr>
          <p:spPr>
            <a:xfrm>
              <a:off x="6412320" y="1271880"/>
              <a:ext cx="42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V</a:t>
              </a:r>
              <a:r>
                <a:rPr b="0" lang="fr-FR" sz="1800" spc="-1" strike="noStrike" baseline="-25000">
                  <a:solidFill>
                    <a:srgbClr val="000066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56240" y="11844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7" name=""/>
          <p:cNvSpPr/>
          <p:nvPr/>
        </p:nvSpPr>
        <p:spPr>
          <a:xfrm flipV="1">
            <a:off x="5359320" y="1562040"/>
            <a:ext cx="2590920" cy="558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920640" y="4646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994800" y="45626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0" name=""/>
          <p:cNvGrpSpPr/>
          <p:nvPr/>
        </p:nvGrpSpPr>
        <p:grpSpPr>
          <a:xfrm>
            <a:off x="3473280" y="2151000"/>
            <a:ext cx="759600" cy="505440"/>
            <a:chOff x="3473280" y="2151000"/>
            <a:chExt cx="759600" cy="505440"/>
          </a:xfrm>
        </p:grpSpPr>
        <p:grpSp>
          <p:nvGrpSpPr>
            <p:cNvPr id="1551" name=""/>
            <p:cNvGrpSpPr/>
            <p:nvPr/>
          </p:nvGrpSpPr>
          <p:grpSpPr>
            <a:xfrm>
              <a:off x="3473280" y="2163600"/>
              <a:ext cx="403200" cy="492840"/>
              <a:chOff x="3473280" y="2163600"/>
              <a:chExt cx="403200" cy="492840"/>
            </a:xfrm>
          </p:grpSpPr>
          <p:sp>
            <p:nvSpPr>
              <p:cNvPr id="1552" name=""/>
              <p:cNvSpPr/>
              <p:nvPr/>
            </p:nvSpPr>
            <p:spPr>
              <a:xfrm>
                <a:off x="3473280" y="225072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000066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539520" y="2163600"/>
                <a:ext cx="22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>
              <a:off x="3788640" y="226044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908520" y="215100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6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vasoconstriction hypox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0" name=""/>
          <p:cNvGrpSpPr/>
          <p:nvPr/>
        </p:nvGrpSpPr>
        <p:grpSpPr>
          <a:xfrm>
            <a:off x="2000160" y="1955880"/>
            <a:ext cx="749520" cy="1218960"/>
            <a:chOff x="2000160" y="1955880"/>
            <a:chExt cx="749520" cy="1218960"/>
          </a:xfrm>
        </p:grpSpPr>
        <p:sp>
          <p:nvSpPr>
            <p:cNvPr id="1561" name=""/>
            <p:cNvSpPr/>
            <p:nvPr/>
          </p:nvSpPr>
          <p:spPr>
            <a:xfrm>
              <a:off x="2411280" y="1955880"/>
              <a:ext cx="338400" cy="1201680"/>
            </a:xfrm>
            <a:custGeom>
              <a:avLst/>
              <a:gdLst/>
              <a:ahLst/>
              <a:rect l="l" t="t" r="r" b="b"/>
              <a:pathLst>
                <a:path w="213" h="757">
                  <a:moveTo>
                    <a:pt x="213" y="757"/>
                  </a:moveTo>
                  <a:cubicBezTo>
                    <a:pt x="193" y="754"/>
                    <a:pt x="173" y="751"/>
                    <a:pt x="141" y="720"/>
                  </a:cubicBezTo>
                  <a:cubicBezTo>
                    <a:pt x="109" y="689"/>
                    <a:pt x="42" y="693"/>
                    <a:pt x="21" y="573"/>
                  </a:cubicBezTo>
                  <a:cubicBezTo>
                    <a:pt x="0" y="453"/>
                    <a:pt x="18" y="119"/>
                    <a:pt x="1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000160" y="1955880"/>
              <a:ext cx="333360" cy="1218960"/>
            </a:xfrm>
            <a:custGeom>
              <a:avLst/>
              <a:gdLst/>
              <a:ahLst/>
              <a:rect l="l" t="t" r="r" b="b"/>
              <a:pathLst>
                <a:path w="210" h="768">
                  <a:moveTo>
                    <a:pt x="0" y="768"/>
                  </a:moveTo>
                  <a:cubicBezTo>
                    <a:pt x="20" y="765"/>
                    <a:pt x="40" y="762"/>
                    <a:pt x="72" y="731"/>
                  </a:cubicBezTo>
                  <a:cubicBezTo>
                    <a:pt x="104" y="700"/>
                    <a:pt x="174" y="705"/>
                    <a:pt x="192" y="583"/>
                  </a:cubicBezTo>
                  <a:cubicBezTo>
                    <a:pt x="210" y="461"/>
                    <a:pt x="182" y="121"/>
                    <a:pt x="1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3" name=""/>
          <p:cNvSpPr/>
          <p:nvPr/>
        </p:nvSpPr>
        <p:spPr>
          <a:xfrm>
            <a:off x="2006640" y="3027240"/>
            <a:ext cx="743040" cy="306360"/>
          </a:xfrm>
          <a:custGeom>
            <a:avLst/>
            <a:gdLst/>
            <a:ahLst/>
            <a:rect l="l" t="t" r="r" b="b"/>
            <a:pathLst>
              <a:path w="468" h="188">
                <a:moveTo>
                  <a:pt x="468" y="188"/>
                </a:moveTo>
                <a:cubicBezTo>
                  <a:pt x="415" y="149"/>
                  <a:pt x="362" y="111"/>
                  <a:pt x="324" y="80"/>
                </a:cubicBezTo>
                <a:cubicBezTo>
                  <a:pt x="286" y="49"/>
                  <a:pt x="268" y="4"/>
                  <a:pt x="240" y="2"/>
                </a:cubicBezTo>
                <a:cubicBezTo>
                  <a:pt x="212" y="0"/>
                  <a:pt x="196" y="37"/>
                  <a:pt x="156" y="68"/>
                </a:cubicBezTo>
                <a:cubicBezTo>
                  <a:pt x="116" y="99"/>
                  <a:pt x="58" y="143"/>
                  <a:pt x="0" y="1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1307880" y="2441520"/>
            <a:ext cx="911160" cy="2048040"/>
            <a:chOff x="1307880" y="2441520"/>
            <a:chExt cx="911160" cy="2048040"/>
          </a:xfrm>
        </p:grpSpPr>
        <p:sp>
          <p:nvSpPr>
            <p:cNvPr id="1565" name=""/>
            <p:cNvSpPr/>
            <p:nvPr/>
          </p:nvSpPr>
          <p:spPr>
            <a:xfrm flipH="1">
              <a:off x="1369800" y="2577960"/>
              <a:ext cx="787680" cy="177300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1307520" y="2441520"/>
              <a:ext cx="911160" cy="204804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2489040" y="2365200"/>
            <a:ext cx="962280" cy="2136600"/>
            <a:chOff x="2489040" y="2365200"/>
            <a:chExt cx="962280" cy="2136600"/>
          </a:xfrm>
        </p:grpSpPr>
        <p:sp>
          <p:nvSpPr>
            <p:cNvPr id="1568" name=""/>
            <p:cNvSpPr/>
            <p:nvPr/>
          </p:nvSpPr>
          <p:spPr>
            <a:xfrm>
              <a:off x="2554200" y="2507760"/>
              <a:ext cx="831960" cy="184968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489040" y="2365200"/>
              <a:ext cx="962280" cy="213660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1174680" y="2070000"/>
            <a:ext cx="122580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2343240" y="2070000"/>
            <a:ext cx="122544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610000" y="294480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1486080" y="297648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619520" y="876240"/>
            <a:ext cx="435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volume de la ca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594320" y="287028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activité bronch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diamètre des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467240" y="87300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997360" y="1574640"/>
            <a:ext cx="1460520" cy="571680"/>
          </a:xfrm>
          <a:custGeom>
            <a:avLst/>
            <a:gdLst/>
            <a:ahLst/>
            <a:rect l="l" t="t" r="r" b="b"/>
            <a:pathLst>
              <a:path w="920" h="360">
                <a:moveTo>
                  <a:pt x="920" y="0"/>
                </a:move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67240" y="282888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374920" y="2882880"/>
            <a:ext cx="660240" cy="6984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035160" y="3263760"/>
            <a:ext cx="1432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67240" y="4797360"/>
            <a:ext cx="4165560" cy="1594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619520" y="499104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apport ventilation-perf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énéral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réactivité va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2360" y="4915080"/>
            <a:ext cx="398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ace avec d’autres systè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glu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16000" y="4886280"/>
            <a:ext cx="4013280" cy="1644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623440" y="1604880"/>
            <a:ext cx="222120" cy="4062600"/>
          </a:xfrm>
          <a:custGeom>
            <a:avLst/>
            <a:gdLst/>
            <a:ahLst/>
            <a:rect l="l" t="t" r="r" b="b"/>
            <a:pathLst>
              <a:path w="140" h="2559">
                <a:moveTo>
                  <a:pt x="7" y="0"/>
                </a:moveTo>
                <a:lnTo>
                  <a:pt x="140" y="0"/>
                </a:lnTo>
                <a:lnTo>
                  <a:pt x="140" y="2559"/>
                </a:lnTo>
                <a:lnTo>
                  <a:pt x="0" y="2559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-44640" y="127080"/>
            <a:ext cx="436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613840" y="1144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interfé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/>
          <p:nvPr/>
        </p:nvSpPr>
        <p:spPr>
          <a:xfrm>
            <a:off x="-127080" y="127080"/>
            <a:ext cx="75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erférence dans la régulation de la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13400" y="69516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régulation du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572200" y="1230480"/>
            <a:ext cx="125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428000" y="1230480"/>
            <a:ext cx="13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+ HCO3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4" name=""/>
          <p:cNvGrpSpPr/>
          <p:nvPr/>
        </p:nvGrpSpPr>
        <p:grpSpPr>
          <a:xfrm>
            <a:off x="3773160" y="1406520"/>
            <a:ext cx="618840" cy="88920"/>
            <a:chOff x="3773160" y="1406520"/>
            <a:chExt cx="618840" cy="88920"/>
          </a:xfrm>
        </p:grpSpPr>
        <p:sp>
          <p:nvSpPr>
            <p:cNvPr id="1595" name=""/>
            <p:cNvSpPr/>
            <p:nvPr/>
          </p:nvSpPr>
          <p:spPr>
            <a:xfrm>
              <a:off x="3787560" y="1406520"/>
              <a:ext cx="604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3773160" y="1495440"/>
              <a:ext cx="604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7" name=""/>
          <p:cNvSpPr/>
          <p:nvPr/>
        </p:nvSpPr>
        <p:spPr>
          <a:xfrm>
            <a:off x="2565360" y="1219320"/>
            <a:ext cx="581040" cy="520560"/>
          </a:xfrm>
          <a:prstGeom prst="ellipse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965840" y="1155600"/>
            <a:ext cx="720720" cy="520920"/>
          </a:xfrm>
          <a:prstGeom prst="ellipse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393200" y="175104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limination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15160" y="175104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limination ré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214280" y="2044800"/>
            <a:ext cx="618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érence fonction pulmonaire / fonction ré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érence régulation ventilation / régulation 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30320" y="271476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o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191960" y="3009960"/>
            <a:ext cx="73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onation : voies aériennes supérieures (larynx) / ex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ocalisation : diminution de la sensibilité à l’hypercap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48680" y="36702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églu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305000" y="4013280"/>
            <a:ext cx="726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arynx : carrefour voies aériennes / voies diges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onctionnement coordonné larynx et pharynx lors de la déglutition et de la vent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b : « fausse route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21320" y="52959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oco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317600" y="5664240"/>
            <a:ext cx="726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ynchronisation mouvements ventilation / 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u coût énergétique de la vent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724200" y="1940040"/>
            <a:ext cx="169236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5160" y="4253040"/>
            <a:ext cx="207504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42520" y="1228680"/>
            <a:ext cx="855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72480" y="3017880"/>
            <a:ext cx="23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5480" y="4876920"/>
            <a:ext cx="1698480" cy="370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Pa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aC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36600" y="3598920"/>
            <a:ext cx="1454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ent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74480" y="3598920"/>
            <a:ext cx="1125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54400" y="4856040"/>
            <a:ext cx="131904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4200" y="4254480"/>
            <a:ext cx="226260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54480" y="4786200"/>
            <a:ext cx="211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extension thorac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irr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1160" y="2987640"/>
            <a:ext cx="3168720" cy="1074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95840" y="3987720"/>
            <a:ext cx="0" cy="8604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0480" y="3976560"/>
            <a:ext cx="1636920" cy="5428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68880" y="3978360"/>
            <a:ext cx="660600" cy="3826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52680" y="2127240"/>
            <a:ext cx="2168280" cy="2102040"/>
          </a:xfrm>
          <a:custGeom>
            <a:avLst/>
            <a:gdLst/>
            <a:ahLst/>
            <a:rect l="l" t="t" r="r" b="b"/>
            <a:pathLst>
              <a:path w="1366" h="1319">
                <a:moveTo>
                  <a:pt x="0" y="1319"/>
                </a:moveTo>
                <a:lnTo>
                  <a:pt x="0" y="0"/>
                </a:lnTo>
                <a:lnTo>
                  <a:pt x="1366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97520" y="1403280"/>
            <a:ext cx="1903320" cy="2849760"/>
          </a:xfrm>
          <a:custGeom>
            <a:avLst/>
            <a:gdLst/>
            <a:ahLst/>
            <a:rect l="l" t="t" r="r" b="b"/>
            <a:pathLst>
              <a:path w="1199" h="1795">
                <a:moveTo>
                  <a:pt x="1199" y="1795"/>
                </a:moveTo>
                <a:lnTo>
                  <a:pt x="119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400360" y="2136600"/>
            <a:ext cx="150012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519280" y="5054760"/>
            <a:ext cx="73368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65520" y="2306520"/>
            <a:ext cx="0" cy="66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65520" y="1608120"/>
            <a:ext cx="0" cy="318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552680" y="4624200"/>
            <a:ext cx="0" cy="245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77920" y="1144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héma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724200" y="1940040"/>
            <a:ext cx="169236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5160" y="4253040"/>
            <a:ext cx="207504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42520" y="1228680"/>
            <a:ext cx="855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72480" y="3017880"/>
            <a:ext cx="23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5480" y="4876920"/>
            <a:ext cx="1698480" cy="370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Pa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aC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6600" y="3598920"/>
            <a:ext cx="1454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ent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74480" y="3598920"/>
            <a:ext cx="1125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54400" y="4856040"/>
            <a:ext cx="131904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94200" y="4254480"/>
            <a:ext cx="226260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54480" y="4786200"/>
            <a:ext cx="211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extension thorac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irr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81160" y="2987640"/>
            <a:ext cx="3168720" cy="1074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95840" y="3987720"/>
            <a:ext cx="0" cy="8604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00480" y="3976560"/>
            <a:ext cx="1636920" cy="5428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68880" y="3978360"/>
            <a:ext cx="660600" cy="3826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52680" y="2127240"/>
            <a:ext cx="2168280" cy="2102040"/>
          </a:xfrm>
          <a:custGeom>
            <a:avLst/>
            <a:gdLst/>
            <a:ahLst/>
            <a:rect l="l" t="t" r="r" b="b"/>
            <a:pathLst>
              <a:path w="1366" h="1319">
                <a:moveTo>
                  <a:pt x="0" y="1319"/>
                </a:moveTo>
                <a:lnTo>
                  <a:pt x="0" y="0"/>
                </a:lnTo>
                <a:lnTo>
                  <a:pt x="1366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97520" y="1403280"/>
            <a:ext cx="1903320" cy="2849760"/>
          </a:xfrm>
          <a:custGeom>
            <a:avLst/>
            <a:gdLst/>
            <a:ahLst/>
            <a:rect l="l" t="t" r="r" b="b"/>
            <a:pathLst>
              <a:path w="1199" h="1795">
                <a:moveTo>
                  <a:pt x="1199" y="1795"/>
                </a:moveTo>
                <a:lnTo>
                  <a:pt x="119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400360" y="2136600"/>
            <a:ext cx="150012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519280" y="5054760"/>
            <a:ext cx="73368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65520" y="2306520"/>
            <a:ext cx="0" cy="66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65520" y="1608120"/>
            <a:ext cx="0" cy="318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552680" y="4624200"/>
            <a:ext cx="0" cy="245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30520" y="1779480"/>
            <a:ext cx="2108160" cy="7495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7200" y="695160"/>
            <a:ext cx="2765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tronc céréb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 flipH="1">
            <a:off x="5388120" y="3699000"/>
            <a:ext cx="1162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94840" y="34844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erve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85840" y="1809720"/>
            <a:ext cx="1533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05640" y="16178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67840" y="31989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hypophy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5400" y="3403440"/>
            <a:ext cx="16002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803840" y="3016080"/>
            <a:ext cx="24098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32680" y="28177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lande piné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13080" y="113184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mmissure interthal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81560" y="1457280"/>
            <a:ext cx="0" cy="1438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76800" y="46832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734000" y="3533400"/>
            <a:ext cx="0" cy="114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664000" y="1504800"/>
            <a:ext cx="3865320" cy="27338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330880" y="725400"/>
            <a:ext cx="3435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epères anatomiqu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7200" y="695160"/>
            <a:ext cx="2765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tronc céréb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363920" y="3060720"/>
            <a:ext cx="644760" cy="116532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solidFill>
            <a:srgbClr val="ffff66"/>
          </a:solidFill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664000" y="1504800"/>
            <a:ext cx="3865320" cy="27338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45320" y="381780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bulbe rachidien (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medull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67200" y="3619440"/>
            <a:ext cx="15332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06960" y="342756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42480" y="3036960"/>
            <a:ext cx="17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ésencéph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(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mid brain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16120" y="3241800"/>
            <a:ext cx="20764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55480" y="4683240"/>
            <a:ext cx="2923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onc cérébral (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brainstem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3480" y="4035600"/>
            <a:ext cx="1533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0880" y="725400"/>
            <a:ext cx="3435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epères anatomiqu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7200" y="695160"/>
            <a:ext cx="2765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tronc céréb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6T12:04:16Z</dcterms:created>
  <dc:creator>Physiologie III</dc:creator>
  <dc:description/>
  <cp:keywords/>
  <dc:language>en-US</dc:language>
  <cp:lastModifiedBy>Rm</cp:lastModifiedBy>
  <dcterms:modified xsi:type="dcterms:W3CDTF">2012-01-23T22:25:18Z</dcterms:modified>
  <cp:revision>2348</cp:revision>
  <dc:subject/>
  <dc:title>Physiopathologie de la signalisation calcique dans le muscle lisse des voies aériennes : effet des polluants atmosphériques et des anesthésiques généraux</dc:title>
</cp:coreProperties>
</file>