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117440" y="413064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5768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5348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78952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11744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5348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78952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117440" y="609120"/>
            <a:ext cx="6909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5768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87200" y="2255760"/>
            <a:ext cx="895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4000" spc="-1" strike="noStrike">
                <a:solidFill>
                  <a:srgbClr val="000066"/>
                </a:solidFill>
                <a:latin typeface="Trebuchet MS"/>
              </a:rPr>
              <a:t>La physiologie des animaux de laboratoi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1473120" y="1117440"/>
            <a:ext cx="613404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2124720" y="281160"/>
            <a:ext cx="469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Mast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Sciences de la Vie et de la San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568960" y="1146240"/>
            <a:ext cx="42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UE expérimentation anim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16880" y="0"/>
            <a:ext cx="1527120" cy="15271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70120" cy="1514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31640" y="4235400"/>
            <a:ext cx="78184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tienne Ro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Adaptation cardiovasculaire à l’ischémie INSERM U 10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UFR des Sciences de la Vie Université Bordeaux Sega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000" spc="-1" strike="noStrike">
                <a:solidFill>
                  <a:srgbClr val="000066"/>
                </a:solidFill>
                <a:latin typeface="Trebuchet MS"/>
              </a:rPr>
              <a:t>contact: etienne.roux@u-bordeaux2.f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7640" y="127080"/>
            <a:ext cx="3316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 rat de labo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66280" y="114480"/>
            <a:ext cx="45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physiologie de la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2760" y="1419120"/>
            <a:ext cx="87789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Trebuchet MS"/>
              </a:rPr>
              <a:t>puberté chez la femelle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maximum de production de FSH  à J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ouverture du vagin : J33 — J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cycles oestraux réguliers : une semaine après l'ouverture du va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9720" y="714240"/>
            <a:ext cx="365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rebuchet MS"/>
              </a:rPr>
              <a:t>apparition de la puber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7640" y="127080"/>
            <a:ext cx="3316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 rat de labo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66280" y="114480"/>
            <a:ext cx="45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physiologie de la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2760" y="1419120"/>
            <a:ext cx="87789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cycle oestral de 4 à 5 jou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proestrus (PE), oestrus (E), dioestrus (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ovulation à la fin du proest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période réceptive : l'après-midi du proestrus — le matin de l'oest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E-D1 : formation du corps jaune. Ne reste pas fonctionnel longtemps après l'ovula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gestation : CJ demeure fonctionnel par l'effet de la prolact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développement folliculaire : commence un jour avant le proest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identification du stade par frottis vag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2000" y="71424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rebuchet MS"/>
              </a:rPr>
              <a:t>le cycle oes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4600" y="888840"/>
            <a:ext cx="8574120" cy="43959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7640" y="127080"/>
            <a:ext cx="3316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 rat de labo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66280" y="114480"/>
            <a:ext cx="45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physiologie de la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2000" y="71424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rebuchet MS"/>
              </a:rPr>
              <a:t>le cycle oes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5520" y="5351400"/>
            <a:ext cx="60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La production hormonale suit le cycle jour — nu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457880" y="2643120"/>
            <a:ext cx="4582800" cy="38800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7640" y="127080"/>
            <a:ext cx="3316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 rat de labo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66280" y="114480"/>
            <a:ext cx="45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physiologie de la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1680" y="1282680"/>
            <a:ext cx="53229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libération pulsatile deGnRH dans les vaisseaux hypophysaires </a:t>
            </a:r>
            <a:r>
              <a:rPr b="0" lang="fr-FR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largage pulsatile de LH et de FSH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La sécrétion d'oestrogène par les follicules a un effet de feed-back négatif sur la libération de GnRH/L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Un fort taux d'oestrogène sécrété par le follicule induit un pic de L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8480" y="714240"/>
            <a:ext cx="235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rebuchet MS"/>
              </a:rPr>
              <a:t>le cycle oestr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200" y="5089680"/>
            <a:ext cx="4194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période critique : période durant laquelle une injection de pentobarbital bloque l'ovulation  </a:t>
            </a:r>
            <a:r>
              <a:rPr b="0" lang="fr-FR" sz="16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 période de libération de GnR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7640" y="127080"/>
            <a:ext cx="3316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 rat de labo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66280" y="114480"/>
            <a:ext cx="45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physiologie de la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12760" y="1419120"/>
            <a:ext cx="87789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oogonies : donnent les oocytes par mitose puis méiose incomplè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formation d'un follicule primaire : 50 jo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maturation folliculaire finale : dans les trois jours précédant le pic de L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ovulation entre minuit et deux heures du matin. Copulations multiples entre l'après-midi du prooestrus et le matin de l'oestru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déclenchement pharmacologique de l'oestrus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10 mg de benzoate d'oestradi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implant de 17-</a:t>
            </a:r>
            <a:r>
              <a:rPr b="0" lang="fr-FR" sz="2000" spc="-1" strike="noStrike">
                <a:solidFill>
                  <a:srgbClr val="000066"/>
                </a:solidFill>
                <a:latin typeface="SymbolPS"/>
                <a:ea typeface="SymbolPS"/>
              </a:rPr>
              <a:t>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-oestradiol + une injection de progestérone le mat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2000" y="71424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rebuchet MS"/>
              </a:rPr>
              <a:t>le cycle oes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631480" y="727200"/>
            <a:ext cx="33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rebuchet MS"/>
              </a:rPr>
              <a:t>maturation follicul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7640" y="127080"/>
            <a:ext cx="3316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 rat de labo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166280" y="114480"/>
            <a:ext cx="45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physiologie de la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2760" y="1419120"/>
            <a:ext cx="87789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Pseudogestation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stimulation cervicale </a:t>
            </a:r>
            <a:r>
              <a:rPr b="0" lang="fr-FR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activation du corps jaune </a:t>
            </a:r>
            <a:r>
              <a:rPr b="0" lang="fr-FR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production de progestér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statut de pseudogestation qui dure 12 à 14 jo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augmentation de sécrétion de prolactine après la stimulation cervica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La durée de vie du corps jaune lors de pseudogestation (12-14 jours) est équivalente à la durée de vie du corps jaune dans d'autres espèces de Mammifè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2000" y="71424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rebuchet MS"/>
              </a:rPr>
              <a:t>le cycle oes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580360" y="727200"/>
            <a:ext cx="25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rebuchet MS"/>
              </a:rPr>
              <a:t>Pseudoge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7640" y="127080"/>
            <a:ext cx="3316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 rat de labo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66280" y="114480"/>
            <a:ext cx="45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physiologie de la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-42120" y="714240"/>
            <a:ext cx="759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rebuchet MS"/>
              </a:rPr>
              <a:t>régulation environnementale de l'axe gonadotrop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2760" y="1460520"/>
            <a:ext cx="800244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photopéri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relargage périodique  de GnRH-L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lumière constante pendant deux semaines :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les femelles deviennent acycliques, avec oestrus persistan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Les rates ovulent en réponse à la copulation (ou à la stimulation mécanique cervicale) comme chez le lapin et le chat (ovulation provoqué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noir continu: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les femelles ont un cycle norm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(horloge circadienne du noyau suprachiasmatiqu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7640" y="127080"/>
            <a:ext cx="3316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 rat de labo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66280" y="114480"/>
            <a:ext cx="45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physiologie de la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12760" y="1460520"/>
            <a:ext cx="8002440" cy="52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Nutr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jeûne de deux jours : suppression du pic de LH </a:t>
            </a:r>
            <a:r>
              <a:rPr b="0" lang="fr-FR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suppression de l'ovulation (par action de corticolibérine (CRH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St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le stress supprime l'activité de l'axe gonadotrope. Immobilisation du rat </a:t>
            </a:r>
            <a:r>
              <a:rPr b="0" lang="fr-FR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suppression des pics de L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ac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la têtée, par le stimulus de succion, supprime la sécrétion de L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-42120" y="714240"/>
            <a:ext cx="759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rebuchet MS"/>
              </a:rPr>
              <a:t>régulation environnementale de l'axe gonadotrop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7640" y="127080"/>
            <a:ext cx="3316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 rat de labo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66280" y="114480"/>
            <a:ext cx="45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physiologie de la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12760" y="1460520"/>
            <a:ext cx="8002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copulation si femelle en proestrus et mâle ensemble pendant la nu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si copulation, présence d'un bouchon vagi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L'implantation utérine au cinquième jour de gestation (rôle des oestrogènes maternels dans l'implant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gestation : production de progestérone par les ovaires, puis par le placenta dans la deuxième moitié de la ges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9960" y="714240"/>
            <a:ext cx="15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rebuchet MS"/>
              </a:rPr>
              <a:t>Ge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39840" y="4457880"/>
            <a:ext cx="82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Structure de plac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placenta discoïde, placentation hémochorial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7640" y="127080"/>
            <a:ext cx="3316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 rat de labo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166280" y="114480"/>
            <a:ext cx="45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physiologie de la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12760" y="1460520"/>
            <a:ext cx="40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J21 — J22 (usuellement de jou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520" y="714240"/>
            <a:ext cx="173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rebuchet MS"/>
              </a:rPr>
              <a:t>partur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17680" y="4025880"/>
            <a:ext cx="7778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3080" y="1968480"/>
            <a:ext cx="8404200" cy="38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rebuchet MS"/>
              </a:rPr>
              <a:t>déclenchement de la partur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glucocorticoïdes foetaux :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démontré chez les moutons et les chèvres mais moins sûr chez le r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rostagland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ocytocine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(hypophysaire) : provoque les contractions utér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relaxine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sécrétée par le corps jaune : pic juste avant la parturition. La production de relaxine par le cerveau déterminerait le temps de la naiss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70560" y="1000080"/>
            <a:ext cx="3481200" cy="1923480"/>
          </a:xfrm>
          <a:prstGeom prst="rect">
            <a:avLst/>
          </a:prstGeom>
          <a:noFill/>
          <a:ln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J21 :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37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nuit de J21 à J22 :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20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J22 :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42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7760" y="5834160"/>
            <a:ext cx="830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réflexe de Fergusson : distension du col de l'utérus </a:t>
            </a:r>
            <a:r>
              <a:rPr b="0" lang="fr-FR" sz="2000" spc="-1" strike="noStrike">
                <a:solidFill>
                  <a:srgbClr val="990000"/>
                </a:solidFill>
                <a:latin typeface="Wingdings"/>
                <a:ea typeface="Wingdings"/>
              </a:rPr>
              <a:t>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réponse neuroendocrinien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7000" y="127080"/>
            <a:ext cx="2098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7680" y="936720"/>
            <a:ext cx="78865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utilisation des animaux pour la connaissance de l’anatomie et de la physiologie animale et humaine dès l’antiqu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science grecque et hellénist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Aristote (IV</a:t>
            </a:r>
            <a:r>
              <a:rPr b="0" lang="fr-FR" sz="2000" spc="-1" strike="noStrike" baseline="30000">
                <a:solidFill>
                  <a:srgbClr val="000066"/>
                </a:solidFill>
                <a:latin typeface="Trebuchet MS"/>
              </a:rPr>
              <a:t>e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siècle av. JC) : anatomie – physiologie compar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Galien (III</a:t>
            </a:r>
            <a:r>
              <a:rPr b="0" lang="fr-FR" sz="2000" spc="-1" strike="noStrike" baseline="30000">
                <a:solidFill>
                  <a:srgbClr val="000066"/>
                </a:solidFill>
                <a:latin typeface="Trebuchet MS"/>
              </a:rPr>
              <a:t>e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siècle ap. JC) : singe = modèle hu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science arabe médiév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science occident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Claude Bernard : « introduction à la médecine expérimentale 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Animaux : modèles valides de la physiologie humaine, dans certaines lim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développement important de l’expérimentation animale à partir du XIX</a:t>
            </a:r>
            <a:r>
              <a:rPr b="0" lang="fr-FR" sz="2000" spc="-1" strike="noStrike" baseline="30000">
                <a:solidFill>
                  <a:srgbClr val="000066"/>
                </a:solidFill>
                <a:latin typeface="Trebuchet MS"/>
              </a:rPr>
              <a:t>e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siè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92520" y="11448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aperçu histo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640" y="127080"/>
            <a:ext cx="3316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 rat de labo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6280" y="114480"/>
            <a:ext cx="45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physiologie de la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680" y="714240"/>
            <a:ext cx="339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rebuchet MS"/>
              </a:rPr>
              <a:t>ovulation post-part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7680" y="4025880"/>
            <a:ext cx="7778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3080" y="1968480"/>
            <a:ext cx="8404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l'augmentation de LH au cours de la parturition entraîne une ovulation post-partum dans les 24 à 48 heur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dépend du passage du foetus dans la filière pelvienne (distension du col de l'utéru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47760" y="5834160"/>
            <a:ext cx="830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réflexe de Fergusson : distension du col de l'utérus </a:t>
            </a:r>
            <a:r>
              <a:rPr b="0" lang="fr-FR" sz="2000" spc="-1" strike="noStrike">
                <a:solidFill>
                  <a:srgbClr val="990000"/>
                </a:solidFill>
                <a:latin typeface="Wingdings"/>
                <a:ea typeface="Wingdings"/>
              </a:rPr>
              <a:t>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réponse neuroendocrinien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7640" y="127080"/>
            <a:ext cx="3316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 rat de labo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66280" y="114480"/>
            <a:ext cx="45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physiologie de la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9760" y="714240"/>
            <a:ext cx="56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rebuchet MS"/>
              </a:rPr>
              <a:t>développement précoce de l’embry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17680" y="4025880"/>
            <a:ext cx="7778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3080" y="1968480"/>
            <a:ext cx="84042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Trois heures après la copulation, fécondation de l'ovule par un spermatozoïde dans 90 % des ca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fin de la méiose une heure aprè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Stade 2 cellules : 25 heures après l'accoup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stade quatre cellules : 40 à 70 heures après l'accouplement (l'embryon atteint la partie distale de l’oviduc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stade blastocyste : 80 à 110 heures après accoup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implantation utérine : au cinquième jour de ges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7640" y="127080"/>
            <a:ext cx="3316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 rat de labo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66280" y="114480"/>
            <a:ext cx="45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physiologie de la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1640" y="714240"/>
            <a:ext cx="174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rebuchet MS"/>
              </a:rPr>
              <a:t>la lac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7680" y="4025880"/>
            <a:ext cx="7778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16000" y="1930320"/>
            <a:ext cx="84042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déclenchement hormonal de la production de lactose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diminution de progestérone </a:t>
            </a:r>
            <a:r>
              <a:rPr b="0" lang="fr-FR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prolactine, lactogènes (PL-I et PL-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augmentation de la synthèse de lact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composition du lait de r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Lipides :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10,3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caséine :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6,4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autres protéines :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2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lactose :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2,6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minéraux :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1,3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maximum de production à J17 — J18 (30 g par jou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2680" y="5857920"/>
            <a:ext cx="870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éjection du lait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réflexe d'éjection du lait provoqué par la succion (sécrétion d'ocytoci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16000" y="1130400"/>
            <a:ext cx="840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6 paires de glandes mammaires, trois paires thoraciques et trois paires abdomino-ingui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7640" y="127080"/>
            <a:ext cx="3316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 rat de labo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166280" y="114480"/>
            <a:ext cx="45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physiologie de la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800" y="714240"/>
            <a:ext cx="569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rebuchet MS"/>
              </a:rPr>
              <a:t>fonction gonadique durant la lac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17680" y="4025880"/>
            <a:ext cx="7778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16000" y="1320840"/>
            <a:ext cx="84042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l'ovulation est bloquée chez le rat — comme dans de nombreuses autres espèces — le temps de la lactation (peu de production d'hormones gonadotrop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présence d'un corps jaune de lactation. La prolactine maintient un taux de sécrétion de progestérone élevé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Lorsque l'ovulation post-partum conduit à la fertilisation, l'embryon reste au stade blastocyste dans l'utérus tout le temps de la lactation (implantation retardé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La sécrétion de LH est fortement diminuée durant la lac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565520" y="638280"/>
            <a:ext cx="4378320" cy="60307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7640" y="127080"/>
            <a:ext cx="3316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 rat de labo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66280" y="114480"/>
            <a:ext cx="45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physiologie de la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3080" y="977760"/>
            <a:ext cx="2941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variation de poids et de prise de nourriture durant la gestation-lac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625840" y="1469880"/>
            <a:ext cx="206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variation du poids de la mère (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333520" y="3378240"/>
            <a:ext cx="2181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gain de poids de la portée (g/j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08320" y="5153040"/>
            <a:ext cx="202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prise de nourriture de la mère (g/j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7640" y="127080"/>
            <a:ext cx="3316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 rat de labo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66280" y="114480"/>
            <a:ext cx="45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physiologie de la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0760" y="71424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rebuchet MS"/>
              </a:rPr>
              <a:t>le comportement reproduc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17680" y="4025880"/>
            <a:ext cx="7778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09680" y="1168560"/>
            <a:ext cx="8404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Fem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attractiv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proceptivité-réceptiv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proceptivité : montre la réceptiv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comportement de lordose : inflexion dorsale de la colonne vertébr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09680" y="3079800"/>
            <a:ext cx="86709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Mâ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sensible à l’information olfactive : information par les phérom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Vocalisation par ultrasons durant la re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vocalisation à 50 kHz : mâles et femelles avant et pendant la cop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vocalisation à 22 kHz : mâles après l'éjaculation pendant la période réfractai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La vocalisation de la femelle participe de son attractivité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7640" y="127080"/>
            <a:ext cx="3316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 rat de labo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66280" y="114480"/>
            <a:ext cx="45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physiologie de la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9200" y="714240"/>
            <a:ext cx="404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rebuchet MS"/>
              </a:rPr>
              <a:t>le comportement mat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7680" y="4025880"/>
            <a:ext cx="7778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16000" y="1320840"/>
            <a:ext cx="86709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apparaît à la fin de la ges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chez le mâle, et chez la femelle en dehors de la fin de la gestation, il n'y a pas de comportement maternel spontané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Comportement maternel provoqué :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présentation à une femelle de nouveau-nés une à deux heures par jour pendant 5 à 6 jo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apparition d'un comportement matern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7640" y="127080"/>
            <a:ext cx="3316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 rat de labo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141080" y="114480"/>
            <a:ext cx="451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physiologie du compor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1680" y="71424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rebuchet MS"/>
              </a:rPr>
              <a:t>généra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7680" y="4025880"/>
            <a:ext cx="7778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16000" y="1320840"/>
            <a:ext cx="86709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rats : animal grégaire, nocturne, omnivore, qui peut marcher, grimper, sauter et nag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Information auditive, olfactive, tactile, et visuel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Comportement partiellement hérité, pouvant être modifié par l'apprenti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comportement spontané / comportement modifi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différences individuelles, entre souch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Stimulations ou inhibitions comportemen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7640" y="127080"/>
            <a:ext cx="3316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 rat de labo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141080" y="114480"/>
            <a:ext cx="451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physiologie du compor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-9000" y="714240"/>
            <a:ext cx="70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rebuchet MS"/>
              </a:rPr>
              <a:t>manifestations comportementales de la doul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7680" y="4025880"/>
            <a:ext cx="7778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16000" y="1320840"/>
            <a:ext cx="86709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douleur: due à l'expérimentation elle-même, ou aux effets second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signes de douleur aigu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protection des parties corporelles douloureu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léchage de la zone douloure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grattage de la zone douloure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morsures de la zone douloure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posture anorm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vocal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agi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position allong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7640" y="127080"/>
            <a:ext cx="3316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 rat de labo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141080" y="114480"/>
            <a:ext cx="451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physiologie du compor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-9000" y="714240"/>
            <a:ext cx="70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rebuchet MS"/>
              </a:rPr>
              <a:t>manifestations comportementales de la doul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17680" y="4025880"/>
            <a:ext cx="7778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16000" y="1320840"/>
            <a:ext cx="86709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Signe de douleur chron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activité rédu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dysu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fourrure mal entreten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diminution de la prise de nourri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diminution de la prise de po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Effet systémique et signes associ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activité rédu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piloé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fermeture palpébr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diminution de la prise de nourri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diminution de la prise de po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164360" y="2397240"/>
            <a:ext cx="1496880" cy="998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-68040" y="127080"/>
            <a:ext cx="4114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ongeurs et lagomorp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94320" y="114480"/>
            <a:ext cx="31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relations phylét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20080" y="2654280"/>
            <a:ext cx="272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rat : </a:t>
            </a: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Rattus norvegic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04160" y="3378240"/>
            <a:ext cx="270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souris : </a:t>
            </a: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Mus muscu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17840" y="4749840"/>
            <a:ext cx="36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lapin : </a:t>
            </a: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Oryctolagus cunnicu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06400" y="1612800"/>
            <a:ext cx="294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cobaye : </a:t>
            </a: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Cavia porcel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15920" y="2527200"/>
            <a:ext cx="1638360" cy="2121120"/>
          </a:xfrm>
          <a:custGeom>
            <a:avLst/>
            <a:gdLst/>
            <a:ahLst/>
            <a:rect l="l" t="t" r="r" b="b"/>
            <a:pathLst>
              <a:path w="248" h="1336">
                <a:moveTo>
                  <a:pt x="248" y="0"/>
                </a:moveTo>
                <a:lnTo>
                  <a:pt x="0" y="0"/>
                </a:lnTo>
                <a:lnTo>
                  <a:pt x="0" y="1336"/>
                </a:lnTo>
                <a:lnTo>
                  <a:pt x="248" y="133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44240" y="3594240"/>
            <a:ext cx="571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39320" y="1457280"/>
            <a:ext cx="96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Caviid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54280" y="1816200"/>
            <a:ext cx="1638360" cy="1409760"/>
          </a:xfrm>
          <a:custGeom>
            <a:avLst/>
            <a:gdLst/>
            <a:ahLst/>
            <a:rect l="l" t="t" r="r" b="b"/>
            <a:pathLst>
              <a:path w="1032" h="888">
                <a:moveTo>
                  <a:pt x="1032" y="0"/>
                </a:moveTo>
                <a:lnTo>
                  <a:pt x="0" y="0"/>
                </a:lnTo>
                <a:lnTo>
                  <a:pt x="0" y="888"/>
                </a:lnTo>
                <a:lnTo>
                  <a:pt x="720" y="88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15200" y="2908440"/>
            <a:ext cx="96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Murid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9600" y="2870280"/>
            <a:ext cx="495360" cy="723960"/>
          </a:xfrm>
          <a:custGeom>
            <a:avLst/>
            <a:gdLst/>
            <a:ahLst/>
            <a:rect l="l" t="t" r="r" b="b"/>
            <a:pathLst>
              <a:path w="248" h="1336">
                <a:moveTo>
                  <a:pt x="248" y="0"/>
                </a:moveTo>
                <a:lnTo>
                  <a:pt x="0" y="0"/>
                </a:lnTo>
                <a:lnTo>
                  <a:pt x="0" y="1336"/>
                </a:lnTo>
                <a:lnTo>
                  <a:pt x="248" y="133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05280" y="215892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Rong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3760" y="4657680"/>
            <a:ext cx="112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Léporid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676600" y="4317840"/>
            <a:ext cx="1638360" cy="648000"/>
          </a:xfrm>
          <a:custGeom>
            <a:avLst/>
            <a:gdLst/>
            <a:ahLst/>
            <a:rect l="l" t="t" r="r" b="b"/>
            <a:pathLst>
              <a:path w="1032" h="888">
                <a:moveTo>
                  <a:pt x="1032" y="0"/>
                </a:moveTo>
                <a:lnTo>
                  <a:pt x="0" y="0"/>
                </a:lnTo>
                <a:lnTo>
                  <a:pt x="0" y="888"/>
                </a:lnTo>
                <a:lnTo>
                  <a:pt x="720" y="88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28440" y="4622760"/>
            <a:ext cx="184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Lagomorp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7872480" y="4375080"/>
            <a:ext cx="947520" cy="8668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7626240" y="3409920"/>
            <a:ext cx="916200" cy="393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7431120" y="1554120"/>
            <a:ext cx="1185840" cy="603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7640" y="127080"/>
            <a:ext cx="3316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 rat de labo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141080" y="114480"/>
            <a:ext cx="451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physiologie du compor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-9000" y="714240"/>
            <a:ext cx="70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rebuchet MS"/>
              </a:rPr>
              <a:t>manifestations comportementales de la doul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7680" y="4025880"/>
            <a:ext cx="7778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16000" y="1320840"/>
            <a:ext cx="86709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Examen géné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analyse de la démarche : la démarche n'est modifiée que lors de dommage sensorimoteur impor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réponse à la douleur : le pincement de la queue avec une pince provoque normalement un cri, un mouvement de défense ou de fuite de l'anim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(Mise en jeu des voies réflexes de la douleur : récepteurs à la douleur, voix afférente vers le thalamus et le cortex sensoriel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Tests de réponse à la douleur quantifiabl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test de Randall-Sullito :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pression d'une pointe sur la patte : mesures de la pression nécessaire exercée sur la pointe pour entraîner le réflexe de retrait de la pat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test de la queue :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mesure du temps nécessaire au retrait de la queue soumise à une douleur thermique (plaque chauffante ou lamp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7640" y="127080"/>
            <a:ext cx="3316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 rat de labo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141080" y="114480"/>
            <a:ext cx="451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physiologie du compor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-61560" y="714240"/>
            <a:ext cx="74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rebuchet MS"/>
              </a:rPr>
              <a:t>modifications physiologiques en réponse au st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7680" y="4025880"/>
            <a:ext cx="7778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16000" y="1320840"/>
            <a:ext cx="867096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aractéristiques du st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mis en évidence de stress : Hans Selye (1907-198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travaux princeps sur le stress (1936, 1943) : modifications physiologiques non spécifiques en réponse à des stimuli tels que l'excitation  émotionnelle, les drogues toxiques, les traumatismes et l'exercice musculaire épuisant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Syndrome de stress (ou syndrome général d’adaptation)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involution du thym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élargissement du cortex surrénal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sécrétion de phényléphrine par la médullosurrén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03200" y="5791320"/>
            <a:ext cx="820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modulation des systèmes des stéroïdes, des catécholamines, des peptides et des opioï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7640" y="127080"/>
            <a:ext cx="3316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 rat de labo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141080" y="114480"/>
            <a:ext cx="451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physiologie du compor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-61560" y="714240"/>
            <a:ext cx="74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rebuchet MS"/>
              </a:rPr>
              <a:t>modifications physiologiques en réponse au st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17680" y="4025880"/>
            <a:ext cx="7778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16000" y="1320840"/>
            <a:ext cx="86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stress et axe hypothalamus  hypophyse — surré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11040" y="2008080"/>
            <a:ext cx="2657520" cy="37054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3844800" y="2197080"/>
            <a:ext cx="497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situation de stress </a:t>
            </a:r>
            <a:r>
              <a:rPr b="0" lang="fr-FR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excitation de l'axe hypothalamus — hypophyse —corticosurrénale (HP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7640" y="127080"/>
            <a:ext cx="3316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 rat de labo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141080" y="114480"/>
            <a:ext cx="451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physiologie du compor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-61560" y="714240"/>
            <a:ext cx="74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rebuchet MS"/>
              </a:rPr>
              <a:t>modifications physiologiques en réponse au st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17680" y="4025880"/>
            <a:ext cx="7778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327480" y="1320840"/>
            <a:ext cx="55594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stress </a:t>
            </a:r>
            <a:r>
              <a:rPr b="0" lang="fr-FR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augmentation rapide des ARNm de CR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Hormones de réponse au stress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ACTH, prolactine (hypophy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corticostérone (minéralocorticoïd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minéralocorticoïdes: augmentent la sensibilité de l'axe HP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glucocorticoïdes: inhibent la réponse de l'axe HPA au st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Variations interindividuelles dans la réponse au stress ; influence du sexe et de l'â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311040" y="2008080"/>
            <a:ext cx="2657520" cy="3705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7640" y="127080"/>
            <a:ext cx="3316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 rat de labo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141080" y="114480"/>
            <a:ext cx="451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physiologie du compor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-61560" y="714240"/>
            <a:ext cx="74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rebuchet MS"/>
              </a:rPr>
              <a:t>modifications physiologiques en réponse au st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17680" y="4025880"/>
            <a:ext cx="7778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16000" y="1320840"/>
            <a:ext cx="867096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stress aigu ; stress chro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Stress aig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augmentation des taux plasmatiques de corticostér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influence sur le système immunit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augmentation du taux plasmatique de cholesté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(l'éther est un activateur de l'axe HPA. Il augmente de la production de corticostérones, d'adrénaline et de noradrénaline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Une expérience de stress unique peut avoir des effets importants sur le comportement et la réponse ultérieure au st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7640" y="127080"/>
            <a:ext cx="3316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 rat de labo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141080" y="114480"/>
            <a:ext cx="451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physiologie du compor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-61560" y="714240"/>
            <a:ext cx="74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rebuchet MS"/>
              </a:rPr>
              <a:t>modifications physiologiques en réponse au st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17680" y="4025880"/>
            <a:ext cx="7778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6000" y="1320840"/>
            <a:ext cx="867096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stress aigu ; stress chro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Stress chron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hyperten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déficit immunit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dépression ment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engendré par la répétition journalière de conditions de stre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La répétition du stress engendre une habituation, avec une diminution de la réponse hormonale à chaque condition de stress, mais ceci dépend du type de facteurs de stre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7640" y="127080"/>
            <a:ext cx="3316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 rat de labo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41080" y="114480"/>
            <a:ext cx="451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physiologie du compor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-61560" y="714240"/>
            <a:ext cx="74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rebuchet MS"/>
              </a:rPr>
              <a:t>modifications physiologiques en réponse au st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17680" y="4025880"/>
            <a:ext cx="7778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16000" y="1320840"/>
            <a:ext cx="8670960" cy="29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système diges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possibilité d'induire un ulcère de stress par le froid, l'eau, les chocs et la restriction  de la nourritur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La restriction de la nourriture augmente l'effet des autres facteurs de stress sur la formation de l'ulcère de stres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Les bases neuroendocriniennes de l'ulcère de stress restent confu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17640" y="127080"/>
            <a:ext cx="3316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 rat de labo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141080" y="114480"/>
            <a:ext cx="451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physiologie du compor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-61560" y="714240"/>
            <a:ext cx="74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rebuchet MS"/>
              </a:rPr>
              <a:t>modifications physiologiques en réponse au st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17680" y="4025880"/>
            <a:ext cx="7778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16000" y="1320840"/>
            <a:ext cx="867096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système cardio-vascul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stress au bruit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augmentation de la réponse à la stimulation cardiaque </a:t>
            </a:r>
            <a:r>
              <a:rPr b="0" lang="fr-FR" sz="2000" spc="-1" strike="noStrike">
                <a:solidFill>
                  <a:srgbClr val="000066"/>
                </a:solidFill>
                <a:latin typeface="SymbolPS"/>
                <a:ea typeface="SymbolPS"/>
              </a:rPr>
              <a:t>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-adrénergique </a:t>
            </a:r>
            <a:r>
              <a:rPr b="0" lang="fr-FR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augmentation de la densité des fibres sympathiques, associée éventuellement à des altérations mitochondri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augmentation de la pression artéri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augmentation des taux plasmatiques de corticostér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Le stress aigu diminue le seuil de fibrillation cardiaque et augmente le risque d’ischémie cardiaque. Cependant, le stress par la chaleur protège contre les dommages induits par l'ischém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-12240" y="127080"/>
            <a:ext cx="378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a souris de labo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15800" y="961920"/>
            <a:ext cx="82947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la souris de laboratoire :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correspond à l'espèce </a:t>
            </a: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Mus muscu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origine :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originaire d'Asie, probablement du nord de l'Ind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Elle se répand dans le bassin méditerranéen 8000 av JC, et dans le reste de l'Europe 1000 ans av JC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Première mention écrite de la souris dans un dictionnaire chinois datant de 1100 ans avJ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La première souche de souris consanguines a été produite en 1909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Le génome et séquencé en 2002 et consiste en 3000 Mb réparties sur 20 chromosomes. 23 786 gènes identifiés (hommes : 23 686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souris trangén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Première souris clonée en 19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172280" y="0"/>
            <a:ext cx="1971720" cy="847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089600" y="114480"/>
            <a:ext cx="51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onnées physiologiques géné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5040" y="1143000"/>
            <a:ext cx="80676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température corporelle : de 37° à 37,2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fréquence cardiaque : 310 — 840 battements par min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moyenne : 600 battements par min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fréquence respiratoire : 84 — 230 par min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moyenne : 160 par min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consommation de nourriture journalière moyenne : 12 — 18 g pour 100 g de poids corpor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consommation d'eau aux journalières moyennes : 15 ml pour 100 g de poids corpor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durée de vie moyenne : 1 — 3 ans (max. : 4 a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-12240" y="127080"/>
            <a:ext cx="378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a souris de labo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333600" y="4602240"/>
            <a:ext cx="4170600" cy="19666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7640" y="127080"/>
            <a:ext cx="3316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 rat de labo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9680" y="879480"/>
            <a:ext cx="82947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le rat de laboratoire :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correspond à l'espèce </a:t>
            </a: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Rattus norvegic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= mulot, surmulot, rat brun, rat d’égou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Origine de l'animal :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originaire des plaines d'Asie centrale, probablement du Nord de la Chine et de la Mongolie actuel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Apparition en Europe au XVIIIe siècle de manière attestée (Grande-Bretagne en 1730 ; France en 173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éventuellement présente dès le XVI</a:t>
            </a:r>
            <a:r>
              <a:rPr b="0" lang="fr-FR" sz="2000" spc="-1" strike="noStrike" baseline="30000">
                <a:solidFill>
                  <a:srgbClr val="000066"/>
                </a:solidFill>
                <a:latin typeface="Trebuchet MS"/>
              </a:rPr>
              <a:t>e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siècle (illustrations d'un rat pouvant correspondre à </a:t>
            </a: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Rattus norvegicus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dans </a:t>
            </a: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Historia animalium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du naturaliste suisse Conrad Gesner de 155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7647120" y="0"/>
            <a:ext cx="1496880" cy="998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20760" y="789120"/>
            <a:ext cx="80676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fem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poids de l'adulte : 18 — 25 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âge de maturité sexuelle : 6 — 8 sema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durée de oestrus : 10 he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oestrus post-partum : dans les 24 heures post-part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durée de la gestation : 19 — 21 jou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(varie avec la souche :C57BL/6 : 19 jours ;Balb/C : 20 j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moment de l'ovulation : 2 — 3 heures après le début de l'oest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089600" y="114480"/>
            <a:ext cx="51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onnées physiologiques géné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-12240" y="127080"/>
            <a:ext cx="378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a souris de labo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07800" y="3465360"/>
            <a:ext cx="8067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mâ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poids de l'adulte : 20 à 40 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agit de la maturité sexuelle : quatre à six sema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7800" y="4782960"/>
            <a:ext cx="8067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Nouveau-n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taille de la portée : 3 — 14 peti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(6 — 8 en moyen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4089600" y="114480"/>
            <a:ext cx="51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onnées physiologiques géné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-12240" y="127080"/>
            <a:ext cx="378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a souris de labo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863640" y="717480"/>
            <a:ext cx="4205160" cy="570240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5498280" y="1676520"/>
            <a:ext cx="170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C57BL/6NC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4089600" y="114480"/>
            <a:ext cx="51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onnées physiologiques géné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-12240" y="127080"/>
            <a:ext cx="378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a souris de labo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50000" y="939960"/>
            <a:ext cx="83966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éléments de la physiologie de la re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le cycle oestral un dure de quatre à six jou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oestrus &lt; 1 jou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Vocalisation de la part du mâle lors de l'accouplement : 30 à 111 kHz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Après la copulation, formation d'un bouchon vagi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les jeunes naissent nus et aveu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66960" y="127080"/>
            <a:ext cx="1690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 coba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492520" y="11448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aperçu histo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15800" y="720720"/>
            <a:ext cx="82947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le cobaye de laboratoire :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correspond à l'espèce </a:t>
            </a: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Cavia porcel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(</a:t>
            </a: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Cavia cobaya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cobaye : mot provenant du latin zoologique, à partir du tupi-guarani, probablement par l'intermédiaire du portuga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Origine de l'animal :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rongeur originaire des Andes, introduit en Europe au XVIe sièc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Domestiqué dans les Andes, dans la zone correspondant actuellement au Pérou, à la Bolivie et à l'équateu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Première description de l'animal dans un écrit européen en 1547, à Saint-Doming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Première description zoologique par Conrad Gesner (</a:t>
            </a: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Historia animalium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415800" y="720720"/>
            <a:ext cx="82947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utilisation comme animal de laborato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Utilisé pour l'expérimentation animale depuis le XVII</a:t>
            </a:r>
            <a:r>
              <a:rPr b="0" lang="fr-FR" sz="2000" spc="-1" strike="noStrike" baseline="30000">
                <a:solidFill>
                  <a:srgbClr val="000066"/>
                </a:solidFill>
                <a:latin typeface="Trebuchet MS"/>
              </a:rPr>
              <a:t>e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siècle : Marcello Malpighi, Carlo Fracassa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XVIII</a:t>
            </a:r>
            <a:r>
              <a:rPr b="0" lang="fr-FR" sz="2000" spc="-1" strike="noStrike" baseline="30000">
                <a:solidFill>
                  <a:srgbClr val="000066"/>
                </a:solidFill>
                <a:latin typeface="Trebuchet MS"/>
              </a:rPr>
              <a:t>e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siècle : utilisé par Lavoisier en 1780 dans ses expériences sur la respi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XIX</a:t>
            </a:r>
            <a:r>
              <a:rPr b="0" lang="fr-FR" sz="2000" spc="-1" strike="noStrike" baseline="30000">
                <a:solidFill>
                  <a:srgbClr val="000066"/>
                </a:solidFill>
                <a:latin typeface="Trebuchet MS"/>
              </a:rPr>
              <a:t>e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siècle : utilisé par Louis Pasteur et Émile Ro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XX</a:t>
            </a:r>
            <a:r>
              <a:rPr b="0" lang="fr-FR" sz="2000" spc="-1" strike="noStrike" baseline="30000">
                <a:solidFill>
                  <a:srgbClr val="000066"/>
                </a:solidFill>
                <a:latin typeface="Trebuchet MS"/>
              </a:rPr>
              <a:t>e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siècle l'utilisation importante dans la première moitié du XX</a:t>
            </a:r>
            <a:r>
              <a:rPr b="0" lang="fr-FR" sz="2000" spc="-1" strike="noStrike" baseline="30000">
                <a:solidFill>
                  <a:srgbClr val="000066"/>
                </a:solidFill>
                <a:latin typeface="Trebuchet MS"/>
              </a:rPr>
              <a:t>e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siècle, avec un déclin progressif jusqu'à nos jou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l'utilisation comme métaphore, en français et en anglais, pour désigner un sujet d'expérimentation, a été introduit dans la première moitié du XX</a:t>
            </a:r>
            <a:r>
              <a:rPr b="0" lang="fr-FR" sz="2000" spc="-1" strike="noStrike" baseline="30000">
                <a:solidFill>
                  <a:srgbClr val="000066"/>
                </a:solidFill>
                <a:latin typeface="Trebuchet MS"/>
              </a:rPr>
              <a:t>e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sièc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6960" y="127080"/>
            <a:ext cx="1690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 coba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7574040" y="0"/>
            <a:ext cx="1569960" cy="798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365040" y="1143000"/>
            <a:ext cx="80676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température corporelle : 38,5 à 39,9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fréquence cardiaque : 220 — 380 battements par min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fréquence respiratoire : 42 — 104 par min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consommation de nourriture journalière moyenne : 10 g pour 100 g de poids corpor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consommation d'eau aux journalières moyennes : 10 ml pour 100 g de poids corpor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durée de vie moyenne : 4 — 8 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6960" y="127080"/>
            <a:ext cx="1690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 coba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089600" y="114480"/>
            <a:ext cx="51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onnées physiologiques géné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67480" y="5715000"/>
            <a:ext cx="82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comportement : il n'y a pas de rythme circadien clairement identifi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409680" y="671400"/>
            <a:ext cx="8067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fem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poids de l'adulte : 750 — 900 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âge de la maturité sexuelle : 2 — 3 mois ou 350 à 450 g de poids corpor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fréquence du cycle oestral : 15 à 17 jo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durée de l'oestrus : 1 —16 heures, en moyenne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oestrus post-partum : 2 à 15 heures post-part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durée de la gestation 59 à 72 jours (plus la portée nombreuse, plus la gestation est cour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moment de l'ovulation : 10 heures après le début de l'oest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6960" y="127080"/>
            <a:ext cx="1690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 coba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089600" y="114480"/>
            <a:ext cx="51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onnées physiologiques géné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09680" y="4167360"/>
            <a:ext cx="8067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mâ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poids de l'adultes 900 — 1200 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âge de la maturité sexuelle : 3 — 4 mois ou 600 à 700 g de poids corpor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326880" y="698400"/>
            <a:ext cx="80679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Nouveau-n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taille de la portée : 1 — 6 pet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poids à la naissance : 90 — 120 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âge moyen au sevrage : 14 — 21 jours, où 150 — 200 g de poids corpor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6960" y="127080"/>
            <a:ext cx="1690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 coba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89600" y="114480"/>
            <a:ext cx="51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onnées physiologiques géné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87360" y="3686400"/>
            <a:ext cx="8205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les petits naissent avec les yeux et les oreilles ouvertes, une fourrure complète, et des den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capables de manger de la nourriture solide dès le 1er jour de vi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ingestion de nourriture solide au bout de quelques jour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Les soins maternels pas absolument nécessaire pour la survie (en absence de soins maternels, 50 % de survie jusqu'à maturité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4196880" y="114480"/>
            <a:ext cx="39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physiologie de la nutr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6960" y="127080"/>
            <a:ext cx="1690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 coba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1160" y="1000080"/>
            <a:ext cx="87105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essentiellement herbivores ; pratiquent la coecotroph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ne synthétisent pas de vitamine C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digestion de la cellulose par l'intermédiaire de la flore intestinale (flore intestinale anaérobie Gram-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changement de nourriture, stress, antibiothérapie...</a:t>
            </a:r>
            <a:r>
              <a:rPr b="0" lang="fr-FR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croissance rapide d’une flore bactérienne produisant des entérotoxines : </a:t>
            </a: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Clostridium difficile, C. perfringens, C. spiriforme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, plusieurs coliform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entérotoxémie : mort en quelques heures à quelques jo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Les cobayes sont très sensibles aux antibiotiques, et par conséquence, très peu d'antibiotiques peuvent être utilisés chez eu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71640" y="127080"/>
            <a:ext cx="1376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 lap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09680" y="1338120"/>
            <a:ext cx="82947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le lapin de laboratoire :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correspond à l'espèce </a:t>
            </a: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Oryctolagus cunniculus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le mot lapin, dans son sens populaire, désigne plusieurs espè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Le lapin de laboratoire = lapin européen (lapin domestique ou de garen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Origine de l'animal :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Originaire de l’Europe du sud (péninsule ibérique). Première mention écrite chez les Phéniciens (1000 avJC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Diffusion en Europe occidentale par les échanges humains depuis l’Antiquité jusqu’au moyen-âge (introduction dans les iles britanniques en 1066). Elevage depuis l’an 100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8001000" y="0"/>
            <a:ext cx="1143000" cy="1044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7640" y="127080"/>
            <a:ext cx="3316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 rat de labo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92520" y="11448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aperçu histo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15800" y="720720"/>
            <a:ext cx="82947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le rat de laboratoire :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correspond à l'espèce </a:t>
            </a: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Rattus norvegic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= mulot, surmulot, rat brun, rats d’égou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utilisation comme animal de laborato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utilisation de rat albinos dès le début du 19e siècle pour des études physiologiques (1828, 1856, 186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Première souche de consanguins : souche PA, produit par le Wistar Institute à Philadelphie 1909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Colonie de rats à tête noire au Jardin des Plantes installée en 1856 pour servir de nourriture aux reptiles. La souche PAR/Lou en dériv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98480" y="5570640"/>
            <a:ext cx="686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NB: ne pas confondre avec l'espèce </a:t>
            </a: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Rattus rattus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, appelé aussi rat noir, rat des champs, rat de greni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365040" y="1143000"/>
            <a:ext cx="80676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température corporelle : 38 à 40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fréquence cardiaque : 130 — 325 battements par min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fréquence respiratoire : 32 — 60 par min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consommation de nourriture journalière moyenne : 5 g pour 100 g de poids corpor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consommation d'eau aux journalières moyennes : 5 —10 ml pour 100 g de poids corpor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durée de vie moyenne : 4 — 8 ans (max. 10 a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089600" y="114480"/>
            <a:ext cx="51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onnées physiologiques géné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41920" y="5715000"/>
            <a:ext cx="800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très prolifique (24 lapins introduits en Australie en 1959 </a:t>
            </a:r>
            <a:r>
              <a:rPr b="0" lang="fr-FR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600 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1640" y="127080"/>
            <a:ext cx="1376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 lap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378000" y="708120"/>
            <a:ext cx="80676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fem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poids de l'adulte : 2 — 6 kg (dépend de la souch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âge de la maturité sexuelle : 4 — 9 mo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(les lapins nains : maturité sexuelle plus précoce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durée du cycle oestral : ovulation provoqu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pas d’oestrus post-part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moment de l'ovulation : 10 à 13 heures après la cop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durée de la gestation : 29 à 35 jo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089600" y="114480"/>
            <a:ext cx="51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onnées physiologiques géné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1640" y="127080"/>
            <a:ext cx="1376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 lap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09680" y="3252960"/>
            <a:ext cx="8067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mâ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poids de l'adultes : 2 — 5 kg (dépend de la souch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âge de la maturité sexuelle : 5 — 9 mo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9680" y="4403880"/>
            <a:ext cx="8067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Nouveau-n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taille de la portée : 1 — 6 laperea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poids à la naissance : 90 — 120 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âge moyen du sevrage : cinq à huit sema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les petits sont immatures à la naissance : ils commencent à consommer de la nourriture solide à environ 21 jou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089600" y="114480"/>
            <a:ext cx="51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onnées physiologiques géné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1640" y="127080"/>
            <a:ext cx="1376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 lap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1901880" y="1058760"/>
            <a:ext cx="3589200" cy="488340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6000840" y="1994040"/>
            <a:ext cx="249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New Zealand Wh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281160" y="1000080"/>
            <a:ext cx="87105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en général des animaux timides, mais ils pouvant montrer des comportements de défense comme le fait de mordre, ou de charger le front de la ca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animal très sensible au st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Les lapins ont un squelette fragile (ne représente que 7 % du poids corporel total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mauvaise contention </a:t>
            </a:r>
            <a:r>
              <a:rPr b="0" lang="fr-FR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fractures de la colonne vertébr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1640" y="127080"/>
            <a:ext cx="1376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 lap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141080" y="114480"/>
            <a:ext cx="451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physiologie du compor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281160" y="1000080"/>
            <a:ext cx="87105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essentiellement herbivores ; mangent de petites quantités tout au long de la journé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pratiquent la coecotroph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digestion de la cellulose par l'intermédiaire de la flore intestinale (flore intestinale anaérobie Gram-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changement de nourriture, stress, antibiothérapie...</a:t>
            </a:r>
            <a:r>
              <a:rPr b="0" lang="fr-FR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croissance rapide d’une flore bactérienne produisant des entérotoxines : </a:t>
            </a: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Clostridium difficile, C. perfringens, C. spiriforme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, plusieurs coliform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entérotoxémie : mort en quelques heures à quelques jo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Les lapins sont très sensibles aux antibiotiques, en particulier à la pénicill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1640" y="127080"/>
            <a:ext cx="1376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 lap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196880" y="114480"/>
            <a:ext cx="39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physiologie de la nutr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7640" y="127080"/>
            <a:ext cx="3316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 rat de labo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089600" y="114480"/>
            <a:ext cx="51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onnées physiologiques géné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040" y="1143000"/>
            <a:ext cx="80676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température corporelle : de 35,9° à 37,5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fréquence cardiaque : 250 — 450 battements par min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quantité de sang : 5— 7,5 % du poids corpor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fréquence respiratoire : 70 — 115 par min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consommation de nourriture journalière moyenne : 10 g pour 100 g de poids corpor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consommation d'eau aux journalières moyennes : 10 — 12 ml pour 100 g de poids corpor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durée de vie moyenne : 2 — 3,5 ans (max. : quatre a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7640" y="127080"/>
            <a:ext cx="3316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 rat de labo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89600" y="114480"/>
            <a:ext cx="51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onnées physiologiques géné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17520" y="838080"/>
            <a:ext cx="8067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fem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poids de l'adulte : 250 — 300 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âge de maturité sexuelle : 65 — 110 jo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durée de oestrus : 12 he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oestrus post-partum : dans les 48 heures post-part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durée de la gestation : 21 — 23 jo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6880" y="2862360"/>
            <a:ext cx="8067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mâ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poids de l’adulte : 450 — 520 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âge de maturité sexuelle : 65 — 110 jo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vie reproductive : 350 — 440 jo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1040" y="4410000"/>
            <a:ext cx="80679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nouveau-n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taille de la portée : 1 — 16 peti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(variations importantes en fonction de la souch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poids la naissance :  5 — 6 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âge moyen du sevrage : 25 jo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les petits commencent à consommer de la nourriture solide à environ 14 jo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7640" y="127080"/>
            <a:ext cx="3316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 rat de labo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89600" y="114480"/>
            <a:ext cx="51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onnées physiologiques géné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5086440" y="2550960"/>
            <a:ext cx="3882600" cy="3189600"/>
            <a:chOff x="5086440" y="2550960"/>
            <a:chExt cx="3882600" cy="3189600"/>
          </a:xfrm>
        </p:grpSpPr>
        <p:pic>
          <p:nvPicPr>
            <p:cNvPr id="94" name="" descr=""/>
            <p:cNvPicPr/>
            <p:nvPr/>
          </p:nvPicPr>
          <p:blipFill>
            <a:blip r:embed="rId1"/>
            <a:stretch/>
          </p:blipFill>
          <p:spPr>
            <a:xfrm>
              <a:off x="5086440" y="2550960"/>
              <a:ext cx="3882600" cy="318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6829920" y="4117680"/>
              <a:ext cx="1636920" cy="434160"/>
            </a:xfrm>
            <a:custGeom>
              <a:avLst/>
              <a:gdLst/>
              <a:ahLst/>
              <a:rect l="l" t="t" r="r" b="b"/>
              <a:pathLst>
                <a:path w="920" h="424">
                  <a:moveTo>
                    <a:pt x="0" y="424"/>
                  </a:moveTo>
                  <a:cubicBezTo>
                    <a:pt x="147" y="322"/>
                    <a:pt x="295" y="221"/>
                    <a:pt x="408" y="160"/>
                  </a:cubicBezTo>
                  <a:cubicBezTo>
                    <a:pt x="521" y="99"/>
                    <a:pt x="595" y="83"/>
                    <a:pt x="680" y="56"/>
                  </a:cubicBezTo>
                  <a:cubicBezTo>
                    <a:pt x="765" y="29"/>
                    <a:pt x="842" y="14"/>
                    <a:pt x="920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189480" y="3994560"/>
              <a:ext cx="2277360" cy="729360"/>
            </a:xfrm>
            <a:custGeom>
              <a:avLst/>
              <a:gdLst/>
              <a:ahLst/>
              <a:rect l="l" t="t" r="r" b="b"/>
              <a:pathLst>
                <a:path w="1280" h="712">
                  <a:moveTo>
                    <a:pt x="0" y="712"/>
                  </a:moveTo>
                  <a:cubicBezTo>
                    <a:pt x="160" y="566"/>
                    <a:pt x="321" y="420"/>
                    <a:pt x="408" y="344"/>
                  </a:cubicBezTo>
                  <a:cubicBezTo>
                    <a:pt x="495" y="268"/>
                    <a:pt x="456" y="291"/>
                    <a:pt x="520" y="256"/>
                  </a:cubicBezTo>
                  <a:cubicBezTo>
                    <a:pt x="584" y="221"/>
                    <a:pt x="704" y="172"/>
                    <a:pt x="792" y="136"/>
                  </a:cubicBezTo>
                  <a:cubicBezTo>
                    <a:pt x="880" y="100"/>
                    <a:pt x="967" y="63"/>
                    <a:pt x="1048" y="40"/>
                  </a:cubicBezTo>
                  <a:cubicBezTo>
                    <a:pt x="1129" y="17"/>
                    <a:pt x="1204" y="8"/>
                    <a:pt x="1280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25440" y="2104920"/>
            <a:ext cx="4410000" cy="35816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928440" y="1000080"/>
            <a:ext cx="225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Sprague-Daw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(non consangu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14040" y="1000080"/>
            <a:ext cx="195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Brown Nor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(consangu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7640" y="127080"/>
            <a:ext cx="3316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 rat de labo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66280" y="114480"/>
            <a:ext cx="45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physiologie de la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12760" y="1419120"/>
            <a:ext cx="87789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Trebuchet MS"/>
              </a:rPr>
              <a:t>puberté chez le mâ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apparition du sperme : 20 — 30 jours après la naiss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descente testiculaire : J30 — J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sperme testiculaire chez 100 % des animaux à J7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poids maximum des testicules à J7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sperme épididymaire chez 100 % des animaux à J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augmentation des récepteurs à la FSH dans les cellules de Serto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les niveaux hypothalamiques de GnRH continuent d'augmenter durant le développement postnatal et même à l'âge adul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9720" y="714240"/>
            <a:ext cx="365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rebuchet MS"/>
              </a:rPr>
              <a:t>apparition de la puber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6T12:04:16Z</dcterms:created>
  <dc:creator>Physiologie III</dc:creator>
  <dc:description/>
  <cp:keywords/>
  <dc:language>en-US</dc:language>
  <cp:lastModifiedBy>Rm</cp:lastModifiedBy>
  <dcterms:modified xsi:type="dcterms:W3CDTF">2012-01-12T10:33:01Z</dcterms:modified>
  <cp:revision>2117</cp:revision>
  <dc:subject/>
  <dc:title>Physiopathologie de la signalisation calcique dans le muscle lisse des voies aériennes : effet des polluants atmosphériques et des anesthésiques généraux</dc:title>
</cp:coreProperties>
</file>