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20.jpeg" ContentType="image/jpeg"/>
  <Override PartName="/ppt/media/image1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28.png" ContentType="image/png"/>
  <Override PartName="/ppt/media/image7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468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36640" y="2255760"/>
            <a:ext cx="63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66"/>
                </a:solidFill>
                <a:latin typeface="Trebuchet MS"/>
              </a:rPr>
              <a:t>Le système respirato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5200" y="3498840"/>
            <a:ext cx="78184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ienne Ro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Laboratoire de Physiologie Cellulaire Respiratoire INSERM U 8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UFR des Sciences de la Vie Université Victor Segalen Bordeaux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contact: etienne.roux@u-bordeaux2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support de cour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e-fisio.net      site de l’UFR des sciences de la V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7520" y="0"/>
          <a:ext cx="1533600" cy="153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0"/>
                    <a:ext cx="153360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96960" y="596880"/>
            <a:ext cx="7547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19120" y="114480"/>
            <a:ext cx="71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icence Biologie cellulaire et physi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60840" y="60660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UE physiologie des systè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987800" y="1130400"/>
            <a:ext cx="2768760" cy="2489040"/>
          </a:xfrm>
          <a:prstGeom prst="rect">
            <a:avLst/>
          </a:prstGeom>
          <a:solidFill>
            <a:srgbClr val="ffff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00760" y="2438280"/>
            <a:ext cx="2743200" cy="1168560"/>
          </a:xfrm>
          <a:prstGeom prst="rect">
            <a:avLst/>
          </a:prstGeom>
          <a:solidFill>
            <a:srgbClr val="71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42520" y="312408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31080" y="1193760"/>
            <a:ext cx="4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85480" y="160020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g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87000" y="281952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g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52960" y="2082960"/>
            <a:ext cx="0" cy="73656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74480" y="2819520"/>
            <a:ext cx="586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g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07120" y="2997360"/>
            <a:ext cx="55872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640" y="127080"/>
            <a:ext cx="4512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problème de l’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46080" y="1144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onnées phys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ssolution d’un gaz dans un liqu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50840" y="2781360"/>
            <a:ext cx="3035520" cy="673200"/>
            <a:chOff x="1050840" y="2781360"/>
            <a:chExt cx="3035520" cy="673200"/>
          </a:xfrm>
        </p:grpSpPr>
        <p:sp>
          <p:nvSpPr>
            <p:cNvPr id="180" name=""/>
            <p:cNvSpPr/>
            <p:nvPr/>
          </p:nvSpPr>
          <p:spPr>
            <a:xfrm>
              <a:off x="1433160" y="2921040"/>
              <a:ext cx="2129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C</a:t>
              </a:r>
              <a:r>
                <a:rPr b="0" lang="fr-FR" sz="2000" spc="-1" strike="noStrike" baseline="-25000">
                  <a:solidFill>
                    <a:srgbClr val="000066"/>
                  </a:solidFill>
                  <a:latin typeface="Trebuchet MS"/>
                </a:rPr>
                <a:t>gaz</a:t>
              </a: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 = Sol</a:t>
              </a:r>
              <a:r>
                <a:rPr b="0" lang="fr-FR" sz="2000" spc="-1" strike="noStrike" baseline="-25000">
                  <a:solidFill>
                    <a:srgbClr val="000066"/>
                  </a:solidFill>
                  <a:latin typeface="Trebuchet MS"/>
                </a:rPr>
                <a:t>gaz</a:t>
              </a: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 x P</a:t>
              </a:r>
              <a:r>
                <a:rPr b="0" lang="fr-FR" sz="2000" spc="-1" strike="noStrike" baseline="-25000">
                  <a:solidFill>
                    <a:srgbClr val="000066"/>
                  </a:solidFill>
                  <a:latin typeface="Trebuchet MS"/>
                </a:rPr>
                <a:t>ga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50840" y="2781360"/>
              <a:ext cx="3035520" cy="673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34400" y="204480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Trebuchet MS"/>
              </a:rPr>
              <a:t>Loi de Hen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79640" y="4307040"/>
            <a:ext cx="255888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olubilité d’un g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nature du ga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nature du mili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empé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2819520"/>
            <a:ext cx="635040" cy="609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3429000"/>
            <a:ext cx="0" cy="876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640" y="127080"/>
            <a:ext cx="4512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problème de l’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52640" y="11448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ir et 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29120" y="215532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pression atmosphérique au niveau de la mer : 760 mm Hg (101,3 k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0160" y="3859200"/>
            <a:ext cx="65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ssion partielle en gaz = fraction en gaz x pression to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120" y="1254240"/>
            <a:ext cx="565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Trebuchet MS"/>
              </a:rPr>
              <a:t>composition gazeuse de l’air sec en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58960" y="1763640"/>
          <a:ext cx="2409840" cy="1825560"/>
        </p:xfrm>
        <a:graphic>
          <a:graphicData uri="http://schemas.openxmlformats.org/drawingml/2006/table">
            <a:tbl>
              <a:tblPr/>
              <a:tblGrid>
                <a:gridCol w="1515960"/>
                <a:gridCol w="89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ompos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O</a:t>
                      </a:r>
                      <a:r>
                        <a:rPr b="1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0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O</a:t>
                      </a:r>
                      <a:r>
                        <a:rPr b="1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N</a:t>
                      </a:r>
                      <a:r>
                        <a:rPr b="1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78,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aractéristiques des deux milie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95360" y="1438200"/>
            <a:ext cx="8173800" cy="410904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     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milieu aquatique        milieu a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iscosité (cP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0,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ensité (kg.l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,000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0,0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haleur spécifique (cal. l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.C°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000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0,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concentration en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 (l.l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  <a:ea typeface="Arial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0,007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0,2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litre de milieu par litre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143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4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kg de milieu par litre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143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0,00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efficient de diffusion D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O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(cm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. s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2,5x10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5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,98x10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640" y="127080"/>
            <a:ext cx="4512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problème de l’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52640" y="11448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ir et 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6880" y="5119560"/>
            <a:ext cx="78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s contraintes sont-elles les mêmes pour la respiration aquatique et la respiration aérienne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aractéristiques des deux milie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95360" y="1438200"/>
            <a:ext cx="8173800" cy="410904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     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milieu aquatique        milieu a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iscosité (cP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0,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ensité (kg.l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,000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0,0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haleur spécifique (cal. l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.C°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000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0,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concentration en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 (l.l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  <a:ea typeface="Arial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0,007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0,2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litre de milieu par litre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143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4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kg de milieu par litre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143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0,00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efficient de diffusion D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O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(cm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. s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2,5x10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5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,98x10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640" y="127080"/>
            <a:ext cx="4512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problème de l’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52640" y="11448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ir et 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2959200"/>
            <a:ext cx="8559720" cy="1079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6880" y="4916520"/>
            <a:ext cx="78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Il y a plus d’oxygène dans l’air que dans l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aractéristiques des deux milie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95360" y="1438200"/>
            <a:ext cx="8173800" cy="410904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     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milieu aquatique        milieu a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iscosité (cP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0,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ensité (kg.l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,000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0,0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haleur spécifique (cal. l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.C°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000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0,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concentration en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 (l.l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  <a:ea typeface="Arial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0,007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0,2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litre de milieu par litre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143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4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kg de milieu par litre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143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0,00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efficient de diffusion D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O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(cm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. s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2,5x10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5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,98x10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640" y="127080"/>
            <a:ext cx="4512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problème de l’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52640" y="11448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ir et 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4013280"/>
            <a:ext cx="8559720" cy="4190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6880" y="4916520"/>
            <a:ext cx="78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’oxygène diffuse mieux dans l’air que dans l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aractéristiques des deux milie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95360" y="1438200"/>
            <a:ext cx="8173800" cy="410904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     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milieu aquatique        milieu a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iscosité (cP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0,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ensité (kg.l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,000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0,0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haleur spécifique (cal. l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.C°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000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0,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concentration en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 (l.l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  <a:ea typeface="Arial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0,007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0,2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litre de milieu par litre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143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4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kg de milieu par litre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143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0,00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efficient de diffusion D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O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(cm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. s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2,5x10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5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,98x10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640" y="127080"/>
            <a:ext cx="4512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problème de l’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52640" y="11448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ir et 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7960" y="1803240"/>
            <a:ext cx="8560080" cy="6098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880" y="4916520"/>
            <a:ext cx="78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il est énergiquement plus coûteux de mobiliser une quantité donnée d’oxygène dans l’eau que dans l’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7960" y="3645000"/>
            <a:ext cx="8560080" cy="4064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aractéristiques des deux milie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95360" y="1438200"/>
            <a:ext cx="8173800" cy="410904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     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milieu aquatique        milieu a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iscosité (cP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0,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ensité (kg.l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,000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0,0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haleur spécifique (cal. l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.C°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000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0,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concentration en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 (l.l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  <a:ea typeface="Arial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0,007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0,2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litre de milieu par litre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143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4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kg de milieu par litre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143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0,00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efficient de diffusion D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O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(cm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. s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2,5x10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5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1,98x10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640" y="127080"/>
            <a:ext cx="4512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problème de l’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52640" y="11448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ir et 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7960" y="2387520"/>
            <a:ext cx="8560080" cy="3301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6880" y="4916520"/>
            <a:ext cx="78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es échanges thermiques sont plus importants en milieu aqu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aractéristiques des deux milie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640" y="127080"/>
            <a:ext cx="4512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problème de l’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52640" y="11448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ir et 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ntraintes générales : les limites de la diffu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2120" y="1436760"/>
            <a:ext cx="8124840" cy="38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ffusion de l’oxygène fa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rsque de rayon de l’animal dépasse quelque millimètres, la simple diffusion de l’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ne suffit pas à assurer un apport d’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couvrant les besoins métabol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écessité d’un système spécialis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échange gazeux entre l’animal et le mili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e renouvellement du milieu extérie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a distribution des gaz dans l’organ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640" y="127080"/>
            <a:ext cx="4512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problème de l’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2640" y="11448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ir et 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ntraintes comparées : milieu aquatique et aér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760" y="1498680"/>
            <a:ext cx="31716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ilieu aqu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peu abond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obilisation du milieu extérieur coût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b. associ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thermoré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osmoré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29360" y="1511280"/>
            <a:ext cx="3755880" cy="34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ilieu aér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abond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obilisation du milieu extérieur peu coût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b. associ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shydra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thermorég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7960" y="1320840"/>
            <a:ext cx="4077000" cy="5181480"/>
          </a:xfrm>
          <a:custGeom>
            <a:avLst/>
            <a:gdLst>
              <a:gd name="textAreaLeft" fmla="*/ 198720 w 4077000"/>
              <a:gd name="textAreaRight" fmla="*/ 3878280 w 4077000"/>
              <a:gd name="textAreaTop" fmla="*/ 198720 h 5181480"/>
              <a:gd name="textAreaBottom" fmla="*/ 4982760 h 5181480"/>
            </a:gdLst>
            <a:ahLst/>
            <a:rect l="textAreaLeft" t="textAreaTop" r="textAreaRight" b="textAreaBottom"/>
            <a:pathLst>
              <a:path w="21600" h="27451">
                <a:moveTo>
                  <a:pt x="3600" y="0"/>
                </a:moveTo>
                <a:arcTo wR="3600" hR="3600" stAng="16200000" swAng="-5400000"/>
                <a:lnTo>
                  <a:pt x="0" y="23851"/>
                </a:lnTo>
                <a:arcTo wR="3600" hR="3600" stAng="10800000" swAng="-5400000"/>
                <a:lnTo>
                  <a:pt x="18000" y="274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9960" y="1320840"/>
            <a:ext cx="4077000" cy="5181480"/>
          </a:xfrm>
          <a:custGeom>
            <a:avLst/>
            <a:gdLst>
              <a:gd name="textAreaLeft" fmla="*/ 198720 w 4077000"/>
              <a:gd name="textAreaRight" fmla="*/ 3878280 w 4077000"/>
              <a:gd name="textAreaTop" fmla="*/ 198720 h 5181480"/>
              <a:gd name="textAreaBottom" fmla="*/ 4982760 h 5181480"/>
            </a:gdLst>
            <a:ahLst/>
            <a:rect l="textAreaLeft" t="textAreaTop" r="textAreaRight" b="textAreaBottom"/>
            <a:pathLst>
              <a:path w="21600" h="27451">
                <a:moveTo>
                  <a:pt x="3600" y="0"/>
                </a:moveTo>
                <a:arcTo wR="3600" hR="3600" stAng="16200000" swAng="-5400000"/>
                <a:lnTo>
                  <a:pt x="0" y="23851"/>
                </a:lnTo>
                <a:arcTo wR="3600" hR="3600" stAng="10800000" swAng="-5400000"/>
                <a:lnTo>
                  <a:pt x="18000" y="274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092920" y="114480"/>
            <a:ext cx="39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aractérist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7960" y="936720"/>
            <a:ext cx="848232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es échanges gazeux (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et 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 entre le milieu extérieur et l’an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interface milieu-an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e renouvellement du milieu au niveau de la surface d’é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pompe : vent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e transport des gaz dans l’organ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diffusion / circulation /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être efficace :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moduler les échanges en fonction des besoins (rég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optimiser des coû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limiter les agression microbiennes, physiques, chim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gérer les interférences avec d’autres problèmes : thermorégulation, deshydratation, déglutitio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131040" y="127080"/>
            <a:ext cx="489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aractéristiques fonc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9360" y="127080"/>
            <a:ext cx="343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osition du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580000"/>
            <a:ext cx="79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Comic Sans MS"/>
              </a:rPr>
              <a:t>étude du processus évolutif : physiologie évolutionn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Comic Sans MS"/>
              </a:rPr>
              <a:t>étude du fonctionnement : analyse fonc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3960" y="1641600"/>
            <a:ext cx="788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« fonction : ensemble des propriétés actives concourant à un même but, chez l’être vivant. 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définition du Robe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onction :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otion de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otion de « but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60" y="977760"/>
            <a:ext cx="562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éthodologie(s) de l’étude de la respiration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1240" y="3720960"/>
            <a:ext cx="81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 notion de « but » ou de « finalité » n’a pas de validité scientif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41040" y="11448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oix méthodol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85960" y="4470480"/>
            <a:ext cx="751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rebuchet MS"/>
              </a:rPr>
              <a:t>la notion de fonction découle de l’analyse d’un processus évolutif par sélection nature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960" y="4406760"/>
            <a:ext cx="7353360" cy="876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78400" y="1930320"/>
            <a:ext cx="2997360" cy="2946600"/>
          </a:xfrm>
          <a:prstGeom prst="rect">
            <a:avLst/>
          </a:prstGeom>
          <a:solidFill>
            <a:srgbClr val="b9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73760" y="3022560"/>
            <a:ext cx="1942920" cy="1143000"/>
          </a:xfrm>
          <a:custGeom>
            <a:avLst/>
            <a:gdLst/>
            <a:ahLst/>
            <a:rect l="l" t="t" r="r" b="b"/>
            <a:pathLst>
              <a:path w="1224" h="720">
                <a:moveTo>
                  <a:pt x="624" y="8"/>
                </a:moveTo>
                <a:lnTo>
                  <a:pt x="1224" y="8"/>
                </a:lnTo>
                <a:lnTo>
                  <a:pt x="1224" y="720"/>
                </a:lnTo>
                <a:lnTo>
                  <a:pt x="0" y="720"/>
                </a:lnTo>
                <a:lnTo>
                  <a:pt x="0" y="0"/>
                </a:lnTo>
                <a:lnTo>
                  <a:pt x="440" y="0"/>
                </a:lnTo>
                <a:cubicBezTo>
                  <a:pt x="437" y="29"/>
                  <a:pt x="441" y="60"/>
                  <a:pt x="432" y="88"/>
                </a:cubicBezTo>
                <a:cubicBezTo>
                  <a:pt x="429" y="96"/>
                  <a:pt x="416" y="92"/>
                  <a:pt x="408" y="96"/>
                </a:cubicBezTo>
                <a:cubicBezTo>
                  <a:pt x="355" y="123"/>
                  <a:pt x="355" y="121"/>
                  <a:pt x="280" y="128"/>
                </a:cubicBezTo>
                <a:cubicBezTo>
                  <a:pt x="275" y="136"/>
                  <a:pt x="268" y="143"/>
                  <a:pt x="264" y="152"/>
                </a:cubicBezTo>
                <a:cubicBezTo>
                  <a:pt x="257" y="167"/>
                  <a:pt x="248" y="200"/>
                  <a:pt x="248" y="200"/>
                </a:cubicBezTo>
                <a:cubicBezTo>
                  <a:pt x="251" y="229"/>
                  <a:pt x="235" y="267"/>
                  <a:pt x="256" y="288"/>
                </a:cubicBezTo>
                <a:cubicBezTo>
                  <a:pt x="270" y="302"/>
                  <a:pt x="282" y="258"/>
                  <a:pt x="288" y="240"/>
                </a:cubicBezTo>
                <a:cubicBezTo>
                  <a:pt x="299" y="207"/>
                  <a:pt x="289" y="221"/>
                  <a:pt x="320" y="200"/>
                </a:cubicBezTo>
                <a:cubicBezTo>
                  <a:pt x="341" y="203"/>
                  <a:pt x="377" y="188"/>
                  <a:pt x="384" y="208"/>
                </a:cubicBezTo>
                <a:cubicBezTo>
                  <a:pt x="406" y="268"/>
                  <a:pt x="386" y="323"/>
                  <a:pt x="368" y="376"/>
                </a:cubicBezTo>
                <a:cubicBezTo>
                  <a:pt x="371" y="403"/>
                  <a:pt x="367" y="431"/>
                  <a:pt x="376" y="456"/>
                </a:cubicBezTo>
                <a:cubicBezTo>
                  <a:pt x="385" y="479"/>
                  <a:pt x="443" y="452"/>
                  <a:pt x="456" y="448"/>
                </a:cubicBezTo>
                <a:cubicBezTo>
                  <a:pt x="465" y="422"/>
                  <a:pt x="479" y="402"/>
                  <a:pt x="488" y="376"/>
                </a:cubicBezTo>
                <a:cubicBezTo>
                  <a:pt x="491" y="336"/>
                  <a:pt x="492" y="296"/>
                  <a:pt x="496" y="256"/>
                </a:cubicBezTo>
                <a:cubicBezTo>
                  <a:pt x="497" y="248"/>
                  <a:pt x="496" y="234"/>
                  <a:pt x="504" y="232"/>
                </a:cubicBezTo>
                <a:cubicBezTo>
                  <a:pt x="522" y="227"/>
                  <a:pt x="541" y="237"/>
                  <a:pt x="560" y="240"/>
                </a:cubicBezTo>
                <a:cubicBezTo>
                  <a:pt x="563" y="269"/>
                  <a:pt x="565" y="299"/>
                  <a:pt x="568" y="328"/>
                </a:cubicBezTo>
                <a:cubicBezTo>
                  <a:pt x="570" y="349"/>
                  <a:pt x="564" y="374"/>
                  <a:pt x="576" y="392"/>
                </a:cubicBezTo>
                <a:cubicBezTo>
                  <a:pt x="586" y="406"/>
                  <a:pt x="624" y="408"/>
                  <a:pt x="624" y="408"/>
                </a:cubicBezTo>
                <a:cubicBezTo>
                  <a:pt x="664" y="405"/>
                  <a:pt x="706" y="414"/>
                  <a:pt x="744" y="400"/>
                </a:cubicBezTo>
                <a:cubicBezTo>
                  <a:pt x="762" y="393"/>
                  <a:pt x="776" y="352"/>
                  <a:pt x="776" y="352"/>
                </a:cubicBezTo>
                <a:cubicBezTo>
                  <a:pt x="773" y="331"/>
                  <a:pt x="779" y="307"/>
                  <a:pt x="768" y="288"/>
                </a:cubicBezTo>
                <a:cubicBezTo>
                  <a:pt x="758" y="271"/>
                  <a:pt x="736" y="267"/>
                  <a:pt x="720" y="256"/>
                </a:cubicBezTo>
                <a:cubicBezTo>
                  <a:pt x="681" y="230"/>
                  <a:pt x="639" y="218"/>
                  <a:pt x="600" y="192"/>
                </a:cubicBezTo>
                <a:cubicBezTo>
                  <a:pt x="642" y="164"/>
                  <a:pt x="649" y="168"/>
                  <a:pt x="704" y="176"/>
                </a:cubicBezTo>
                <a:cubicBezTo>
                  <a:pt x="720" y="181"/>
                  <a:pt x="736" y="187"/>
                  <a:pt x="752" y="192"/>
                </a:cubicBezTo>
                <a:cubicBezTo>
                  <a:pt x="772" y="199"/>
                  <a:pt x="788" y="217"/>
                  <a:pt x="808" y="224"/>
                </a:cubicBezTo>
                <a:cubicBezTo>
                  <a:pt x="816" y="219"/>
                  <a:pt x="827" y="216"/>
                  <a:pt x="832" y="208"/>
                </a:cubicBezTo>
                <a:cubicBezTo>
                  <a:pt x="841" y="194"/>
                  <a:pt x="848" y="160"/>
                  <a:pt x="848" y="160"/>
                </a:cubicBezTo>
                <a:cubicBezTo>
                  <a:pt x="844" y="145"/>
                  <a:pt x="840" y="114"/>
                  <a:pt x="824" y="104"/>
                </a:cubicBezTo>
                <a:cubicBezTo>
                  <a:pt x="810" y="95"/>
                  <a:pt x="792" y="93"/>
                  <a:pt x="776" y="88"/>
                </a:cubicBezTo>
                <a:cubicBezTo>
                  <a:pt x="768" y="85"/>
                  <a:pt x="752" y="80"/>
                  <a:pt x="752" y="80"/>
                </a:cubicBezTo>
                <a:cubicBezTo>
                  <a:pt x="702" y="87"/>
                  <a:pt x="651" y="99"/>
                  <a:pt x="600" y="80"/>
                </a:cubicBezTo>
                <a:cubicBezTo>
                  <a:pt x="592" y="77"/>
                  <a:pt x="604" y="64"/>
                  <a:pt x="608" y="56"/>
                </a:cubicBezTo>
                <a:cubicBezTo>
                  <a:pt x="628" y="15"/>
                  <a:pt x="624" y="50"/>
                  <a:pt x="624" y="8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64280" y="5027760"/>
            <a:ext cx="339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évite la deshydra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sistance à l’écou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espiration aérie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lux bidirecti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711120" y="2730600"/>
            <a:ext cx="190440" cy="787320"/>
          </a:xfrm>
          <a:custGeom>
            <a:avLst/>
            <a:gdLst/>
            <a:ahLst/>
            <a:rect l="l" t="t" r="r" b="b"/>
            <a:pathLst>
              <a:path w="72" h="408">
                <a:moveTo>
                  <a:pt x="72" y="0"/>
                </a:moveTo>
                <a:cubicBezTo>
                  <a:pt x="66" y="114"/>
                  <a:pt x="60" y="228"/>
                  <a:pt x="48" y="296"/>
                </a:cubicBezTo>
                <a:cubicBezTo>
                  <a:pt x="36" y="364"/>
                  <a:pt x="18" y="386"/>
                  <a:pt x="0" y="408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57880" y="1447920"/>
            <a:ext cx="26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vaginée : poum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2800" y="1943280"/>
            <a:ext cx="2997360" cy="2946240"/>
          </a:xfrm>
          <a:prstGeom prst="rect">
            <a:avLst/>
          </a:prstGeom>
          <a:solidFill>
            <a:srgbClr val="b9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08160" y="2352600"/>
            <a:ext cx="1942920" cy="1812960"/>
          </a:xfrm>
          <a:custGeom>
            <a:avLst/>
            <a:gdLst/>
            <a:ahLst/>
            <a:rect l="l" t="t" r="r" b="b"/>
            <a:pathLst>
              <a:path w="1224" h="1142">
                <a:moveTo>
                  <a:pt x="448" y="430"/>
                </a:moveTo>
                <a:lnTo>
                  <a:pt x="0" y="430"/>
                </a:lnTo>
                <a:lnTo>
                  <a:pt x="0" y="1142"/>
                </a:lnTo>
                <a:lnTo>
                  <a:pt x="1224" y="1142"/>
                </a:lnTo>
                <a:lnTo>
                  <a:pt x="1224" y="430"/>
                </a:lnTo>
                <a:lnTo>
                  <a:pt x="624" y="430"/>
                </a:lnTo>
                <a:cubicBezTo>
                  <a:pt x="641" y="256"/>
                  <a:pt x="692" y="333"/>
                  <a:pt x="928" y="326"/>
                </a:cubicBezTo>
                <a:cubicBezTo>
                  <a:pt x="972" y="311"/>
                  <a:pt x="999" y="285"/>
                  <a:pt x="968" y="230"/>
                </a:cubicBezTo>
                <a:cubicBezTo>
                  <a:pt x="963" y="220"/>
                  <a:pt x="947" y="223"/>
                  <a:pt x="936" y="222"/>
                </a:cubicBezTo>
                <a:cubicBezTo>
                  <a:pt x="872" y="217"/>
                  <a:pt x="808" y="217"/>
                  <a:pt x="744" y="214"/>
                </a:cubicBezTo>
                <a:cubicBezTo>
                  <a:pt x="736" y="209"/>
                  <a:pt x="724" y="207"/>
                  <a:pt x="720" y="198"/>
                </a:cubicBezTo>
                <a:cubicBezTo>
                  <a:pt x="717" y="190"/>
                  <a:pt x="724" y="182"/>
                  <a:pt x="728" y="174"/>
                </a:cubicBezTo>
                <a:cubicBezTo>
                  <a:pt x="745" y="139"/>
                  <a:pt x="785" y="139"/>
                  <a:pt x="816" y="118"/>
                </a:cubicBezTo>
                <a:cubicBezTo>
                  <a:pt x="851" y="66"/>
                  <a:pt x="848" y="89"/>
                  <a:pt x="848" y="54"/>
                </a:cubicBezTo>
                <a:cubicBezTo>
                  <a:pt x="832" y="38"/>
                  <a:pt x="821" y="15"/>
                  <a:pt x="800" y="6"/>
                </a:cubicBezTo>
                <a:cubicBezTo>
                  <a:pt x="785" y="0"/>
                  <a:pt x="768" y="12"/>
                  <a:pt x="752" y="14"/>
                </a:cubicBezTo>
                <a:cubicBezTo>
                  <a:pt x="725" y="17"/>
                  <a:pt x="699" y="19"/>
                  <a:pt x="672" y="22"/>
                </a:cubicBezTo>
                <a:cubicBezTo>
                  <a:pt x="618" y="76"/>
                  <a:pt x="650" y="144"/>
                  <a:pt x="592" y="182"/>
                </a:cubicBezTo>
                <a:cubicBezTo>
                  <a:pt x="547" y="167"/>
                  <a:pt x="515" y="134"/>
                  <a:pt x="504" y="86"/>
                </a:cubicBezTo>
                <a:cubicBezTo>
                  <a:pt x="500" y="70"/>
                  <a:pt x="505" y="51"/>
                  <a:pt x="496" y="38"/>
                </a:cubicBezTo>
                <a:cubicBezTo>
                  <a:pt x="485" y="22"/>
                  <a:pt x="448" y="6"/>
                  <a:pt x="448" y="6"/>
                </a:cubicBezTo>
                <a:cubicBezTo>
                  <a:pt x="404" y="13"/>
                  <a:pt x="351" y="29"/>
                  <a:pt x="392" y="94"/>
                </a:cubicBezTo>
                <a:cubicBezTo>
                  <a:pt x="402" y="110"/>
                  <a:pt x="424" y="115"/>
                  <a:pt x="440" y="126"/>
                </a:cubicBezTo>
                <a:cubicBezTo>
                  <a:pt x="448" y="131"/>
                  <a:pt x="464" y="142"/>
                  <a:pt x="464" y="142"/>
                </a:cubicBezTo>
                <a:cubicBezTo>
                  <a:pt x="467" y="150"/>
                  <a:pt x="472" y="158"/>
                  <a:pt x="472" y="166"/>
                </a:cubicBezTo>
                <a:cubicBezTo>
                  <a:pt x="472" y="260"/>
                  <a:pt x="469" y="230"/>
                  <a:pt x="376" y="222"/>
                </a:cubicBezTo>
                <a:cubicBezTo>
                  <a:pt x="341" y="225"/>
                  <a:pt x="306" y="221"/>
                  <a:pt x="272" y="230"/>
                </a:cubicBezTo>
                <a:cubicBezTo>
                  <a:pt x="248" y="236"/>
                  <a:pt x="255" y="275"/>
                  <a:pt x="264" y="286"/>
                </a:cubicBezTo>
                <a:cubicBezTo>
                  <a:pt x="269" y="293"/>
                  <a:pt x="280" y="293"/>
                  <a:pt x="288" y="294"/>
                </a:cubicBezTo>
                <a:cubicBezTo>
                  <a:pt x="325" y="298"/>
                  <a:pt x="363" y="299"/>
                  <a:pt x="400" y="302"/>
                </a:cubicBezTo>
                <a:cubicBezTo>
                  <a:pt x="454" y="320"/>
                  <a:pt x="422" y="361"/>
                  <a:pt x="440" y="414"/>
                </a:cubicBezTo>
                <a:cubicBezTo>
                  <a:pt x="443" y="423"/>
                  <a:pt x="460" y="421"/>
                  <a:pt x="464" y="430"/>
                </a:cubicBezTo>
                <a:cubicBezTo>
                  <a:pt x="466" y="435"/>
                  <a:pt x="453" y="430"/>
                  <a:pt x="448" y="430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7160" y="5168880"/>
            <a:ext cx="408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eu de résistance à l’écou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espiration aqu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lux unidirecti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63840" y="2222640"/>
            <a:ext cx="1079280" cy="81000"/>
          </a:xfrm>
          <a:custGeom>
            <a:avLst/>
            <a:gdLst/>
            <a:ahLst/>
            <a:rect l="l" t="t" r="r" b="b"/>
            <a:pathLst>
              <a:path w="680" h="51">
                <a:moveTo>
                  <a:pt x="0" y="0"/>
                </a:moveTo>
                <a:cubicBezTo>
                  <a:pt x="95" y="22"/>
                  <a:pt x="191" y="45"/>
                  <a:pt x="304" y="48"/>
                </a:cubicBezTo>
                <a:cubicBezTo>
                  <a:pt x="417" y="51"/>
                  <a:pt x="548" y="33"/>
                  <a:pt x="680" y="16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36360" y="1432080"/>
            <a:ext cx="26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évaginée : branch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1680" y="1317600"/>
            <a:ext cx="4076640" cy="5181480"/>
          </a:xfrm>
          <a:custGeom>
            <a:avLst/>
            <a:gdLst>
              <a:gd name="textAreaLeft" fmla="*/ 198720 w 4076640"/>
              <a:gd name="textAreaRight" fmla="*/ 3877920 w 4076640"/>
              <a:gd name="textAreaTop" fmla="*/ 198720 h 5181480"/>
              <a:gd name="textAreaBottom" fmla="*/ 4982760 h 5181480"/>
            </a:gdLst>
            <a:ahLst/>
            <a:rect l="textAreaLeft" t="textAreaTop" r="textAreaRight" b="textAreaBottom"/>
            <a:pathLst>
              <a:path w="21600" h="27453">
                <a:moveTo>
                  <a:pt x="3600" y="0"/>
                </a:moveTo>
                <a:arcTo wR="3600" hR="3600" stAng="16200000" swAng="-5400000"/>
                <a:lnTo>
                  <a:pt x="0" y="23853"/>
                </a:lnTo>
                <a:arcTo wR="3600" hR="3600" stAng="10800000" swAng="-5400000"/>
                <a:lnTo>
                  <a:pt x="18000" y="274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22920" y="1317600"/>
            <a:ext cx="4076640" cy="5181480"/>
          </a:xfrm>
          <a:custGeom>
            <a:avLst/>
            <a:gdLst>
              <a:gd name="textAreaLeft" fmla="*/ 198720 w 4076640"/>
              <a:gd name="textAreaRight" fmla="*/ 3877920 w 4076640"/>
              <a:gd name="textAreaTop" fmla="*/ 198720 h 5181480"/>
              <a:gd name="textAreaBottom" fmla="*/ 4982760 h 5181480"/>
            </a:gdLst>
            <a:ahLst/>
            <a:rect l="textAreaLeft" t="textAreaTop" r="textAreaRight" b="textAreaBottom"/>
            <a:pathLst>
              <a:path w="21600" h="27453">
                <a:moveTo>
                  <a:pt x="3600" y="0"/>
                </a:moveTo>
                <a:arcTo wR="3600" hR="3600" stAng="16200000" swAng="-5400000"/>
                <a:lnTo>
                  <a:pt x="0" y="23853"/>
                </a:lnTo>
                <a:arcTo wR="3600" hR="3600" stAng="10800000" swAng="-5400000"/>
                <a:lnTo>
                  <a:pt x="18000" y="274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92920" y="114480"/>
            <a:ext cx="39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aractérist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interface milieu-ani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131040" y="127080"/>
            <a:ext cx="489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aractéristiques fonc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092920" y="114480"/>
            <a:ext cx="39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aractérist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7200" y="695160"/>
            <a:ext cx="3556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enti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76320" y="636480"/>
            <a:ext cx="21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ilieu aqu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5320" y="1155600"/>
            <a:ext cx="33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. déplacement de l’an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23400" y="1168560"/>
            <a:ext cx="35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B. mécanisme de vent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131040" y="127080"/>
            <a:ext cx="489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aractéristiques fonc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413080" y="2262240"/>
            <a:ext cx="893520" cy="31478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 flipV="1">
            <a:off x="2428920" y="1647360"/>
            <a:ext cx="0" cy="514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571840" y="2819520"/>
            <a:ext cx="504720" cy="457200"/>
          </a:xfrm>
          <a:prstGeom prst="line">
            <a:avLst/>
          </a:prstGeom>
          <a:ln w="1260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3381480"/>
            <a:ext cx="600120" cy="485640"/>
          </a:xfrm>
          <a:custGeom>
            <a:avLst/>
            <a:gdLst/>
            <a:ahLst/>
            <a:rect l="l" t="t" r="r" b="b"/>
            <a:pathLst>
              <a:path w="378" h="306">
                <a:moveTo>
                  <a:pt x="0" y="0"/>
                </a:moveTo>
                <a:lnTo>
                  <a:pt x="90" y="54"/>
                </a:lnTo>
                <a:lnTo>
                  <a:pt x="240" y="162"/>
                </a:lnTo>
                <a:lnTo>
                  <a:pt x="342" y="234"/>
                </a:lnTo>
                <a:lnTo>
                  <a:pt x="378" y="306"/>
                </a:ln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44920" y="3740040"/>
            <a:ext cx="599760" cy="486000"/>
          </a:xfrm>
          <a:custGeom>
            <a:avLst/>
            <a:gdLst/>
            <a:ahLst/>
            <a:rect l="l" t="t" r="r" b="b"/>
            <a:pathLst>
              <a:path w="378" h="306">
                <a:moveTo>
                  <a:pt x="0" y="0"/>
                </a:moveTo>
                <a:lnTo>
                  <a:pt x="90" y="54"/>
                </a:lnTo>
                <a:lnTo>
                  <a:pt x="240" y="162"/>
                </a:lnTo>
                <a:lnTo>
                  <a:pt x="342" y="234"/>
                </a:lnTo>
                <a:lnTo>
                  <a:pt x="378" y="306"/>
                </a:ln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22600" y="4022640"/>
            <a:ext cx="600120" cy="486000"/>
          </a:xfrm>
          <a:custGeom>
            <a:avLst/>
            <a:gdLst/>
            <a:ahLst/>
            <a:rect l="l" t="t" r="r" b="b"/>
            <a:pathLst>
              <a:path w="378" h="306">
                <a:moveTo>
                  <a:pt x="0" y="0"/>
                </a:moveTo>
                <a:lnTo>
                  <a:pt x="90" y="54"/>
                </a:lnTo>
                <a:lnTo>
                  <a:pt x="240" y="162"/>
                </a:lnTo>
                <a:lnTo>
                  <a:pt x="342" y="234"/>
                </a:lnTo>
                <a:lnTo>
                  <a:pt x="378" y="306"/>
                </a:ln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31960" y="4336920"/>
            <a:ext cx="600120" cy="486000"/>
          </a:xfrm>
          <a:custGeom>
            <a:avLst/>
            <a:gdLst/>
            <a:ahLst/>
            <a:rect l="l" t="t" r="r" b="b"/>
            <a:pathLst>
              <a:path w="378" h="306">
                <a:moveTo>
                  <a:pt x="0" y="0"/>
                </a:moveTo>
                <a:lnTo>
                  <a:pt x="90" y="54"/>
                </a:lnTo>
                <a:lnTo>
                  <a:pt x="240" y="162"/>
                </a:lnTo>
                <a:lnTo>
                  <a:pt x="342" y="234"/>
                </a:lnTo>
                <a:lnTo>
                  <a:pt x="378" y="306"/>
                </a:ln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48000" y="4629240"/>
            <a:ext cx="860400" cy="565200"/>
          </a:xfrm>
          <a:custGeom>
            <a:avLst/>
            <a:gdLst/>
            <a:ahLst/>
            <a:rect l="l" t="t" r="r" b="b"/>
            <a:pathLst>
              <a:path w="542" h="356">
                <a:moveTo>
                  <a:pt x="0" y="0"/>
                </a:moveTo>
                <a:lnTo>
                  <a:pt x="210" y="150"/>
                </a:lnTo>
                <a:lnTo>
                  <a:pt x="404" y="212"/>
                </a:lnTo>
                <a:lnTo>
                  <a:pt x="506" y="284"/>
                </a:lnTo>
                <a:lnTo>
                  <a:pt x="542" y="356"/>
                </a:ln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514520" y="2268360"/>
            <a:ext cx="893880" cy="31482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flipH="1">
            <a:off x="2400480" y="3448080"/>
            <a:ext cx="9360" cy="866880"/>
          </a:xfrm>
          <a:prstGeom prst="line">
            <a:avLst/>
          </a:prstGeom>
          <a:ln w="1260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973760" y="2073240"/>
            <a:ext cx="2992320" cy="3344760"/>
            <a:chOff x="4973760" y="2073240"/>
            <a:chExt cx="2992320" cy="3344760"/>
          </a:xfrm>
        </p:grpSpPr>
        <p:pic>
          <p:nvPicPr>
            <p:cNvPr id="280" name="" descr=""/>
            <p:cNvPicPr/>
            <p:nvPr/>
          </p:nvPicPr>
          <p:blipFill>
            <a:blip r:embed="rId3"/>
            <a:stretch/>
          </p:blipFill>
          <p:spPr>
            <a:xfrm>
              <a:off x="6215040" y="2114640"/>
              <a:ext cx="1236600" cy="33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flipV="1">
              <a:off x="7451640" y="3419280"/>
              <a:ext cx="514440" cy="31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4"/>
            <a:stretch/>
          </p:blipFill>
          <p:spPr>
            <a:xfrm>
              <a:off x="4973760" y="2111400"/>
              <a:ext cx="1236600" cy="33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 flipH="1">
              <a:off x="6219360" y="2073240"/>
              <a:ext cx="9720" cy="8668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3219480"/>
              <a:ext cx="514440" cy="447480"/>
            </a:xfrm>
            <a:custGeom>
              <a:avLst/>
              <a:gdLst/>
              <a:ahLst/>
              <a:rect l="l" t="t" r="r" b="b"/>
              <a:pathLst>
                <a:path w="324" h="282">
                  <a:moveTo>
                    <a:pt x="0" y="0"/>
                  </a:moveTo>
                  <a:cubicBezTo>
                    <a:pt x="72" y="39"/>
                    <a:pt x="144" y="79"/>
                    <a:pt x="198" y="126"/>
                  </a:cubicBezTo>
                  <a:cubicBezTo>
                    <a:pt x="252" y="173"/>
                    <a:pt x="288" y="227"/>
                    <a:pt x="324" y="282"/>
                  </a:cubicBezTo>
                </a:path>
              </a:pathLst>
            </a:custGeom>
            <a:noFill/>
            <a:ln w="1260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05720" y="4006800"/>
              <a:ext cx="514080" cy="447840"/>
            </a:xfrm>
            <a:custGeom>
              <a:avLst/>
              <a:gdLst/>
              <a:ahLst/>
              <a:rect l="l" t="t" r="r" b="b"/>
              <a:pathLst>
                <a:path w="324" h="282">
                  <a:moveTo>
                    <a:pt x="0" y="0"/>
                  </a:moveTo>
                  <a:cubicBezTo>
                    <a:pt x="72" y="39"/>
                    <a:pt x="144" y="79"/>
                    <a:pt x="198" y="126"/>
                  </a:cubicBezTo>
                  <a:cubicBezTo>
                    <a:pt x="252" y="173"/>
                    <a:pt x="288" y="227"/>
                    <a:pt x="324" y="282"/>
                  </a:cubicBezTo>
                </a:path>
              </a:pathLst>
            </a:custGeom>
            <a:noFill/>
            <a:ln w="1260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48640" y="3768840"/>
              <a:ext cx="304560" cy="371520"/>
            </a:xfrm>
            <a:custGeom>
              <a:avLst/>
              <a:gdLst/>
              <a:ahLst/>
              <a:rect l="l" t="t" r="r" b="b"/>
              <a:pathLst>
                <a:path w="324" h="282">
                  <a:moveTo>
                    <a:pt x="0" y="0"/>
                  </a:moveTo>
                  <a:cubicBezTo>
                    <a:pt x="72" y="39"/>
                    <a:pt x="144" y="79"/>
                    <a:pt x="198" y="126"/>
                  </a:cubicBezTo>
                  <a:cubicBezTo>
                    <a:pt x="252" y="173"/>
                    <a:pt x="288" y="227"/>
                    <a:pt x="324" y="282"/>
                  </a:cubicBezTo>
                </a:path>
              </a:pathLst>
            </a:custGeom>
            <a:noFill/>
            <a:ln w="1260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99080" y="4267080"/>
              <a:ext cx="638280" cy="276480"/>
            </a:xfrm>
            <a:custGeom>
              <a:avLst/>
              <a:gdLst/>
              <a:ahLst/>
              <a:rect l="l" t="t" r="r" b="b"/>
              <a:pathLst>
                <a:path w="402" h="174">
                  <a:moveTo>
                    <a:pt x="0" y="0"/>
                  </a:moveTo>
                  <a:cubicBezTo>
                    <a:pt x="56" y="21"/>
                    <a:pt x="112" y="42"/>
                    <a:pt x="168" y="60"/>
                  </a:cubicBezTo>
                  <a:cubicBezTo>
                    <a:pt x="224" y="78"/>
                    <a:pt x="297" y="89"/>
                    <a:pt x="336" y="108"/>
                  </a:cubicBezTo>
                  <a:cubicBezTo>
                    <a:pt x="375" y="127"/>
                    <a:pt x="388" y="150"/>
                    <a:pt x="402" y="174"/>
                  </a:cubicBezTo>
                </a:path>
              </a:pathLst>
            </a:custGeom>
            <a:noFill/>
            <a:ln w="1260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13680" y="4724280"/>
              <a:ext cx="304560" cy="2764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80000" y="4572000"/>
              <a:ext cx="552600" cy="181080"/>
            </a:xfrm>
            <a:custGeom>
              <a:avLst/>
              <a:gdLst/>
              <a:ahLst/>
              <a:rect l="l" t="t" r="r" b="b"/>
              <a:pathLst>
                <a:path w="348" h="114">
                  <a:moveTo>
                    <a:pt x="0" y="0"/>
                  </a:moveTo>
                  <a:cubicBezTo>
                    <a:pt x="55" y="23"/>
                    <a:pt x="110" y="47"/>
                    <a:pt x="168" y="66"/>
                  </a:cubicBezTo>
                  <a:cubicBezTo>
                    <a:pt x="226" y="85"/>
                    <a:pt x="314" y="106"/>
                    <a:pt x="348" y="114"/>
                  </a:cubicBezTo>
                </a:path>
              </a:pathLst>
            </a:custGeom>
            <a:noFill/>
            <a:ln w="1260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650880" y="5597640"/>
            <a:ext cx="32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’animal renouvelle l’eau au niveau des branchies en se déplaç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7960" y="1801800"/>
            <a:ext cx="164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appareil respiratoire d’un Sélac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02480" y="1598760"/>
            <a:ext cx="176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</a:rPr>
              <a:t>appareil respiratoire d’un Téléosté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02320" y="5597640"/>
            <a:ext cx="397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’animal renouvelle l’eau au niveau des branchies par le mouvement des opercules qui crée un cou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092920" y="114480"/>
            <a:ext cx="39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aractérist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enti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34280" y="64764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ilieu aér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2280" y="1168560"/>
            <a:ext cx="270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. pompe refoul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avité buc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81360" y="1155600"/>
            <a:ext cx="425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B. pompe aspir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avité thoraco-abdomi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6160" y="6119640"/>
            <a:ext cx="35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oissons à poumon, Batraci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07200" y="611964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ptiles, Oiseaux, Mammif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88040" y="2479680"/>
            <a:ext cx="1216080" cy="1025640"/>
          </a:xfrm>
          <a:prstGeom prst="rect">
            <a:avLst/>
          </a:prstGeom>
          <a:solidFill>
            <a:srgbClr val="b9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20840" y="2717640"/>
            <a:ext cx="941400" cy="561960"/>
          </a:xfrm>
          <a:prstGeom prst="ellipse">
            <a:avLst/>
          </a:prstGeom>
          <a:solidFill>
            <a:srgbClr val="919191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06560" y="3033720"/>
            <a:ext cx="1226880" cy="0"/>
          </a:xfrm>
          <a:prstGeom prst="line">
            <a:avLst/>
          </a:prstGeom>
          <a:ln w="7632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66960" y="2556000"/>
            <a:ext cx="626760" cy="1054080"/>
          </a:xfrm>
          <a:prstGeom prst="rect">
            <a:avLst/>
          </a:prstGeom>
          <a:solidFill>
            <a:srgbClr val="b9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9120" y="3033720"/>
            <a:ext cx="36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87720" y="4581360"/>
            <a:ext cx="1358640" cy="1033560"/>
          </a:xfrm>
          <a:prstGeom prst="ellipse">
            <a:avLst/>
          </a:prstGeom>
          <a:solidFill>
            <a:srgbClr val="919191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3080" y="5113440"/>
            <a:ext cx="1227240" cy="0"/>
          </a:xfrm>
          <a:prstGeom prst="line">
            <a:avLst/>
          </a:prstGeom>
          <a:ln w="7632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1640" y="4876920"/>
            <a:ext cx="627120" cy="495360"/>
          </a:xfrm>
          <a:prstGeom prst="rect">
            <a:avLst/>
          </a:prstGeom>
          <a:solidFill>
            <a:srgbClr val="b9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20760" y="5113440"/>
            <a:ext cx="366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19800" y="2711520"/>
            <a:ext cx="941400" cy="561960"/>
          </a:xfrm>
          <a:prstGeom prst="ellipse">
            <a:avLst/>
          </a:prstGeom>
          <a:solidFill>
            <a:srgbClr val="919191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05520" y="3027240"/>
            <a:ext cx="1226880" cy="0"/>
          </a:xfrm>
          <a:prstGeom prst="line">
            <a:avLst/>
          </a:prstGeom>
          <a:ln w="7632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48400" y="3589200"/>
            <a:ext cx="195480" cy="1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6033600" y="3603600"/>
            <a:ext cx="12060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473960" y="2241360"/>
            <a:ext cx="13500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5944680" y="2230560"/>
            <a:ext cx="196920" cy="19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08240" y="5073480"/>
            <a:ext cx="301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873520" y="4721040"/>
            <a:ext cx="0" cy="207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60560" y="5256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31080" y="4287960"/>
            <a:ext cx="1854000" cy="1679400"/>
          </a:xfrm>
          <a:prstGeom prst="rect">
            <a:avLst/>
          </a:prstGeom>
          <a:solidFill>
            <a:srgbClr val="b9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05520" y="5135400"/>
            <a:ext cx="1226880" cy="0"/>
          </a:xfrm>
          <a:prstGeom prst="line">
            <a:avLst/>
          </a:prstGeom>
          <a:ln w="7632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05720" y="5656320"/>
            <a:ext cx="19512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6295680" y="5616720"/>
            <a:ext cx="120600" cy="20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682040" y="4474800"/>
            <a:ext cx="13464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6129000" y="4425480"/>
            <a:ext cx="19692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4610160"/>
            <a:ext cx="1359000" cy="1033560"/>
          </a:xfrm>
          <a:prstGeom prst="ellipse">
            <a:avLst/>
          </a:prstGeom>
          <a:solidFill>
            <a:srgbClr val="919191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96040" y="5140440"/>
            <a:ext cx="366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82680" y="226044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57480" y="3708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4572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282680" y="544788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-131040" y="127080"/>
            <a:ext cx="489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aractéristiques fonc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092920" y="114480"/>
            <a:ext cx="39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aractérist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transport des gaz dans l’organ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3880" y="116856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ff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0560" y="1523880"/>
            <a:ext cx="63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ossible uniquement sur des distances très cou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4280" y="2247840"/>
            <a:ext cx="37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ystème trachéal des Insec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8760" y="3441600"/>
            <a:ext cx="401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éseau ramifié de trachées et trachéoles qui amènent au milieu des tissu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iffusion des gaz entre l’extrémité des trachéoles et les tis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950000" y="2025720"/>
            <a:ext cx="2234880" cy="40100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5208840" y="5889600"/>
            <a:ext cx="205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upe de Drosop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-131040" y="127080"/>
            <a:ext cx="489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aractéristiques fonc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5092920" y="114480"/>
            <a:ext cx="39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aractérist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transport des gaz dans l’organ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4720" y="116856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transport par la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5480" y="2006640"/>
            <a:ext cx="401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 circulation sanguine assure le transport des gaz entre la zone d’échange gazeux et les tis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iffusion des gaz entre les capillaires sanguins et les tis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75200" y="2247840"/>
            <a:ext cx="367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oblème : l’oxygène est très peu soluble dans l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50840" y="3886200"/>
            <a:ext cx="6712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ésence de pigments respiratoires capables de fixer l’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ent la concentration en 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87680" y="5003640"/>
            <a:ext cx="495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[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]totale = [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dissous] + [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pigment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86080" y="4876920"/>
            <a:ext cx="5410080" cy="67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25960" y="4902120"/>
            <a:ext cx="1447560" cy="6098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62160" y="6006960"/>
            <a:ext cx="16210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rebuchet MS"/>
              </a:rPr>
              <a:t>loi de Hen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11760" y="5511960"/>
            <a:ext cx="0" cy="495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97360" y="4915080"/>
            <a:ext cx="1765440" cy="609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88160" y="5994360"/>
            <a:ext cx="287820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rebuchet MS"/>
              </a:rPr>
              <a:t>propriétés du pi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02400" y="5524560"/>
            <a:ext cx="0" cy="482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-131040" y="127080"/>
            <a:ext cx="489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aractéristiques fonc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092920" y="114480"/>
            <a:ext cx="39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aractérist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transport des gaz dans l’organ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9080" y="2208240"/>
            <a:ext cx="380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igments présent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n solution dans le pla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ans des cellules spécialisées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érythroc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730760" y="596880"/>
            <a:ext cx="4286160" cy="5990760"/>
            <a:chOff x="4730760" y="596880"/>
            <a:chExt cx="4286160" cy="5990760"/>
          </a:xfrm>
        </p:grpSpPr>
        <p:sp>
          <p:nvSpPr>
            <p:cNvPr id="364" name=""/>
            <p:cNvSpPr/>
            <p:nvPr/>
          </p:nvSpPr>
          <p:spPr>
            <a:xfrm>
              <a:off x="6411960" y="952560"/>
              <a:ext cx="2504880" cy="56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Échinoder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Plathelmint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Chordé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Némato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Mollusqu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990000"/>
                  </a:solidFill>
                  <a:latin typeface="Arial"/>
                </a:rPr>
                <a:t>   </a:t>
              </a:r>
              <a:r>
                <a:rPr b="0" i="1" lang="en-GB" sz="1400" spc="-1" strike="noStrike">
                  <a:solidFill>
                    <a:srgbClr val="990000"/>
                  </a:solidFill>
                  <a:latin typeface="Arial"/>
                </a:rPr>
                <a:t>Chit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990000"/>
                  </a:solidFill>
                  <a:latin typeface="Arial"/>
                </a:rPr>
                <a:t>   </a:t>
              </a:r>
              <a:r>
                <a:rPr b="0" i="1" lang="en-GB" sz="1400" spc="-1" strike="noStrike">
                  <a:solidFill>
                    <a:srgbClr val="990000"/>
                  </a:solidFill>
                  <a:latin typeface="Arial"/>
                </a:rPr>
                <a:t>Lamelli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990000"/>
                  </a:solidFill>
                  <a:latin typeface="Arial"/>
                </a:rPr>
                <a:t>   </a:t>
              </a:r>
              <a:r>
                <a:rPr b="0" i="1" lang="en-GB" sz="1400" spc="-1" strike="noStrike">
                  <a:solidFill>
                    <a:srgbClr val="990000"/>
                  </a:solidFill>
                  <a:latin typeface="Arial"/>
                </a:rPr>
                <a:t>Céphalopo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990000"/>
                  </a:solidFill>
                  <a:latin typeface="Arial"/>
                </a:rPr>
                <a:t>   </a:t>
              </a:r>
              <a:r>
                <a:rPr b="0" i="1" lang="en-GB" sz="1400" spc="-1" strike="noStrike">
                  <a:solidFill>
                    <a:srgbClr val="990000"/>
                  </a:solidFill>
                  <a:latin typeface="Arial"/>
                </a:rPr>
                <a:t>Opisthobranches pulmoné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Annéli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990000"/>
                  </a:solidFill>
                  <a:latin typeface="Arial"/>
                </a:rPr>
                <a:t>   </a:t>
              </a:r>
              <a:r>
                <a:rPr b="0" i="1" lang="en-GB" sz="1400" spc="-1" strike="noStrike">
                  <a:solidFill>
                    <a:srgbClr val="990000"/>
                  </a:solidFill>
                  <a:latin typeface="Arial"/>
                </a:rPr>
                <a:t>Oligochèt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990000"/>
                  </a:solidFill>
                  <a:latin typeface="Arial"/>
                </a:rPr>
                <a:t>   </a:t>
              </a:r>
              <a:r>
                <a:rPr b="0" i="1" lang="en-GB" sz="1400" spc="-1" strike="noStrike">
                  <a:solidFill>
                    <a:srgbClr val="990000"/>
                  </a:solidFill>
                  <a:latin typeface="Arial"/>
                </a:rPr>
                <a:t>Polychè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Crustacé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Insec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Brachiopo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Sipunculi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Priapuli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Annélides</a:t>
              </a:r>
              <a:r>
                <a:rPr b="0" i="1" lang="en-GB" sz="1400" spc="-1" strike="noStrike">
                  <a:solidFill>
                    <a:srgbClr val="990000"/>
                  </a:solidFill>
                  <a:latin typeface="Arial"/>
                </a:rPr>
                <a:t> Polychè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Annélides </a:t>
              </a:r>
              <a:r>
                <a:rPr b="0" i="1" lang="en-GB" sz="1400" spc="-1" strike="noStrike">
                  <a:solidFill>
                    <a:srgbClr val="990000"/>
                  </a:solidFill>
                  <a:latin typeface="Arial"/>
                </a:rPr>
                <a:t>Polychè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Céphalopo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Opisthobranches pulmoné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Crustacé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Chélicér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58480" y="1784520"/>
              <a:ext cx="1200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hémoglob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57400" y="4438800"/>
              <a:ext cx="12214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hémérythr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45160" y="5950080"/>
              <a:ext cx="12412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hémocyan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56680" y="5213520"/>
              <a:ext cx="13114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990000"/>
                  </a:solidFill>
                  <a:latin typeface="Arial"/>
                </a:rPr>
                <a:t>chlorocruor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30760" y="608040"/>
              <a:ext cx="4286160" cy="3682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pigments</a:t>
              </a: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4000" y="609480"/>
              <a:ext cx="4279680" cy="5931000"/>
            </a:xfrm>
            <a:prstGeom prst="rect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34000" y="4051440"/>
              <a:ext cx="427968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34000" y="5143680"/>
              <a:ext cx="427968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34000" y="5587920"/>
              <a:ext cx="427968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94160" y="596880"/>
              <a:ext cx="0" cy="5931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782720" y="1166760"/>
            <a:ext cx="257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répartition phylogénéti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des pigments respirato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8480" y="355608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hémoglo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-131040" y="127080"/>
            <a:ext cx="489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aractéristiques fonc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5092920" y="114480"/>
            <a:ext cx="39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aractérist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transport des gaz dans l’organ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0040" y="1879560"/>
            <a:ext cx="286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hémoglobin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urbe de di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-131040" y="127080"/>
            <a:ext cx="489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aractéristiques fonc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87680" y="5003640"/>
            <a:ext cx="495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[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]totale = [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dissous] + [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pigment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86080" y="4876920"/>
            <a:ext cx="5410080" cy="67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25960" y="4902120"/>
            <a:ext cx="1447560" cy="6098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62160" y="6006960"/>
            <a:ext cx="16210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rebuchet MS"/>
              </a:rPr>
              <a:t>loi de Hen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11760" y="5511960"/>
            <a:ext cx="0" cy="495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797360" y="4915080"/>
            <a:ext cx="1765440" cy="609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88160" y="5994360"/>
            <a:ext cx="287820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rebuchet MS"/>
              </a:rPr>
              <a:t>propriétés du pi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02400" y="5524560"/>
            <a:ext cx="0" cy="482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148280" y="1096920"/>
            <a:ext cx="4194720" cy="3663360"/>
            <a:chOff x="4148280" y="1096920"/>
            <a:chExt cx="4194720" cy="3663360"/>
          </a:xfrm>
        </p:grpSpPr>
        <p:sp>
          <p:nvSpPr>
            <p:cNvPr id="392" name=""/>
            <p:cNvSpPr/>
            <p:nvPr/>
          </p:nvSpPr>
          <p:spPr>
            <a:xfrm>
              <a:off x="4649760" y="3732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79560" y="3468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79560" y="3203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79560" y="2940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9560" y="2678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9560" y="2414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79560" y="2151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9560" y="1887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79560" y="1623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79560" y="13622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11520" y="10969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5253120" y="1161720"/>
              <a:ext cx="180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5573880" y="1161720"/>
              <a:ext cx="144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896080" y="1161720"/>
              <a:ext cx="180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216840" y="1161720"/>
              <a:ext cx="144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539040" y="1161720"/>
              <a:ext cx="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859800" y="1161720"/>
              <a:ext cx="144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182000" y="1161720"/>
              <a:ext cx="144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502760" y="1161720"/>
              <a:ext cx="144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824960" y="1161720"/>
              <a:ext cx="144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8145720" y="1161720"/>
              <a:ext cx="144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30920" y="3560760"/>
              <a:ext cx="3246480" cy="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30920" y="3295800"/>
              <a:ext cx="324648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30920" y="3032280"/>
              <a:ext cx="324648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30920" y="2770200"/>
              <a:ext cx="324648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30920" y="2506680"/>
              <a:ext cx="324648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30920" y="2243160"/>
              <a:ext cx="324648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30920" y="1979640"/>
              <a:ext cx="324648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30920" y="1716120"/>
              <a:ext cx="324648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30920" y="1452600"/>
              <a:ext cx="324648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30920" y="1189080"/>
              <a:ext cx="324648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54240" y="390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43320" y="3902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65520" y="3902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86280" y="3902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09920" y="3902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30680" y="3902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51440" y="3902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72200" y="3902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394400" y="3902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16600" y="3902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03880" y="39020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4930920" y="382248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5091120" y="3822480"/>
              <a:ext cx="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253120" y="3822480"/>
              <a:ext cx="180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5413680" y="3822480"/>
              <a:ext cx="144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5573880" y="382248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5734080" y="3822480"/>
              <a:ext cx="180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896080" y="3822480"/>
              <a:ext cx="180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6056280" y="3822480"/>
              <a:ext cx="180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216840" y="382248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78840" y="3822480"/>
              <a:ext cx="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539040" y="3822480"/>
              <a:ext cx="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699240" y="3822480"/>
              <a:ext cx="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859800" y="382248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021800" y="3822480"/>
              <a:ext cx="144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7182000" y="382248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342200" y="3822480"/>
              <a:ext cx="180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502760" y="382248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664760" y="3822480"/>
              <a:ext cx="144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7824960" y="382248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985160" y="3822480"/>
              <a:ext cx="180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8145720" y="382248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30920" y="3822840"/>
              <a:ext cx="324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86640" y="3822840"/>
              <a:ext cx="44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08600" y="3691080"/>
              <a:ext cx="223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86640" y="3560760"/>
              <a:ext cx="4428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08600" y="3430800"/>
              <a:ext cx="223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86640" y="3295800"/>
              <a:ext cx="44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08600" y="3164040"/>
              <a:ext cx="223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86640" y="3032280"/>
              <a:ext cx="44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08600" y="2900520"/>
              <a:ext cx="223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86640" y="2770200"/>
              <a:ext cx="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08600" y="2637000"/>
              <a:ext cx="223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86640" y="2506680"/>
              <a:ext cx="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08600" y="237492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86640" y="2243160"/>
              <a:ext cx="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08600" y="2109960"/>
              <a:ext cx="223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86640" y="1979640"/>
              <a:ext cx="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08600" y="184932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86640" y="1716120"/>
              <a:ext cx="44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08600" y="15858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86640" y="1452600"/>
              <a:ext cx="44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08600" y="132228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86640" y="1189080"/>
              <a:ext cx="44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4930920" y="1161720"/>
              <a:ext cx="1440" cy="266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27680" y="3821040"/>
              <a:ext cx="4680" cy="32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27680" y="3821040"/>
              <a:ext cx="4680" cy="324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26240" y="1249560"/>
              <a:ext cx="3171600" cy="2573280"/>
            </a:xfrm>
            <a:custGeom>
              <a:avLst/>
              <a:gdLst/>
              <a:ahLst/>
              <a:rect l="l" t="t" r="r" b="b"/>
              <a:pathLst>
                <a:path w="4666" h="2876">
                  <a:moveTo>
                    <a:pt x="0" y="2876"/>
                  </a:moveTo>
                  <a:lnTo>
                    <a:pt x="15" y="2863"/>
                  </a:lnTo>
                  <a:lnTo>
                    <a:pt x="96" y="2792"/>
                  </a:lnTo>
                  <a:lnTo>
                    <a:pt x="176" y="2716"/>
                  </a:lnTo>
                  <a:lnTo>
                    <a:pt x="256" y="2634"/>
                  </a:lnTo>
                  <a:lnTo>
                    <a:pt x="336" y="2548"/>
                  </a:lnTo>
                  <a:lnTo>
                    <a:pt x="416" y="2456"/>
                  </a:lnTo>
                  <a:lnTo>
                    <a:pt x="496" y="2361"/>
                  </a:lnTo>
                  <a:lnTo>
                    <a:pt x="576" y="2262"/>
                  </a:lnTo>
                  <a:lnTo>
                    <a:pt x="656" y="2161"/>
                  </a:lnTo>
                  <a:lnTo>
                    <a:pt x="736" y="2056"/>
                  </a:lnTo>
                  <a:lnTo>
                    <a:pt x="817" y="1949"/>
                  </a:lnTo>
                  <a:lnTo>
                    <a:pt x="897" y="1840"/>
                  </a:lnTo>
                  <a:lnTo>
                    <a:pt x="977" y="1732"/>
                  </a:lnTo>
                  <a:lnTo>
                    <a:pt x="1059" y="1625"/>
                  </a:lnTo>
                  <a:lnTo>
                    <a:pt x="1139" y="1516"/>
                  </a:lnTo>
                  <a:lnTo>
                    <a:pt x="1219" y="1411"/>
                  </a:lnTo>
                  <a:lnTo>
                    <a:pt x="1299" y="1310"/>
                  </a:lnTo>
                  <a:lnTo>
                    <a:pt x="1379" y="1209"/>
                  </a:lnTo>
                  <a:lnTo>
                    <a:pt x="1459" y="1114"/>
                  </a:lnTo>
                  <a:lnTo>
                    <a:pt x="1540" y="1022"/>
                  </a:lnTo>
                  <a:lnTo>
                    <a:pt x="1620" y="936"/>
                  </a:lnTo>
                  <a:lnTo>
                    <a:pt x="1700" y="854"/>
                  </a:lnTo>
                  <a:lnTo>
                    <a:pt x="1780" y="776"/>
                  </a:lnTo>
                  <a:lnTo>
                    <a:pt x="1860" y="704"/>
                  </a:lnTo>
                  <a:lnTo>
                    <a:pt x="1940" y="637"/>
                  </a:lnTo>
                  <a:lnTo>
                    <a:pt x="2020" y="576"/>
                  </a:lnTo>
                  <a:lnTo>
                    <a:pt x="2100" y="519"/>
                  </a:lnTo>
                  <a:lnTo>
                    <a:pt x="2180" y="465"/>
                  </a:lnTo>
                  <a:lnTo>
                    <a:pt x="2261" y="417"/>
                  </a:lnTo>
                  <a:lnTo>
                    <a:pt x="2341" y="374"/>
                  </a:lnTo>
                  <a:lnTo>
                    <a:pt x="2421" y="334"/>
                  </a:lnTo>
                  <a:lnTo>
                    <a:pt x="2501" y="297"/>
                  </a:lnTo>
                  <a:lnTo>
                    <a:pt x="2581" y="265"/>
                  </a:lnTo>
                  <a:lnTo>
                    <a:pt x="2661" y="236"/>
                  </a:lnTo>
                  <a:lnTo>
                    <a:pt x="2741" y="210"/>
                  </a:lnTo>
                  <a:lnTo>
                    <a:pt x="2821" y="185"/>
                  </a:lnTo>
                  <a:lnTo>
                    <a:pt x="2901" y="164"/>
                  </a:lnTo>
                  <a:lnTo>
                    <a:pt x="2982" y="145"/>
                  </a:lnTo>
                  <a:lnTo>
                    <a:pt x="3062" y="128"/>
                  </a:lnTo>
                  <a:lnTo>
                    <a:pt x="3142" y="112"/>
                  </a:lnTo>
                  <a:lnTo>
                    <a:pt x="3224" y="97"/>
                  </a:lnTo>
                  <a:lnTo>
                    <a:pt x="3304" y="86"/>
                  </a:lnTo>
                  <a:lnTo>
                    <a:pt x="3384" y="74"/>
                  </a:lnTo>
                  <a:lnTo>
                    <a:pt x="3464" y="65"/>
                  </a:lnTo>
                  <a:lnTo>
                    <a:pt x="3544" y="57"/>
                  </a:lnTo>
                  <a:lnTo>
                    <a:pt x="3624" y="47"/>
                  </a:lnTo>
                  <a:lnTo>
                    <a:pt x="3705" y="42"/>
                  </a:lnTo>
                  <a:lnTo>
                    <a:pt x="3785" y="36"/>
                  </a:lnTo>
                  <a:lnTo>
                    <a:pt x="3865" y="30"/>
                  </a:lnTo>
                  <a:lnTo>
                    <a:pt x="3945" y="25"/>
                  </a:lnTo>
                  <a:lnTo>
                    <a:pt x="4025" y="21"/>
                  </a:lnTo>
                  <a:lnTo>
                    <a:pt x="4105" y="17"/>
                  </a:lnTo>
                  <a:lnTo>
                    <a:pt x="4185" y="13"/>
                  </a:lnTo>
                  <a:lnTo>
                    <a:pt x="4265" y="11"/>
                  </a:lnTo>
                  <a:lnTo>
                    <a:pt x="4345" y="7"/>
                  </a:lnTo>
                  <a:lnTo>
                    <a:pt x="4426" y="5"/>
                  </a:lnTo>
                  <a:lnTo>
                    <a:pt x="4506" y="4"/>
                  </a:lnTo>
                  <a:lnTo>
                    <a:pt x="4586" y="2"/>
                  </a:lnTo>
                  <a:lnTo>
                    <a:pt x="4666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90080" y="3416400"/>
              <a:ext cx="1483560" cy="30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PaO</a:t>
              </a:r>
              <a:r>
                <a:rPr b="0" lang="fr-FR" sz="1800" spc="-1" strike="noStrike" baseline="-20000">
                  <a:solidFill>
                    <a:srgbClr val="000099"/>
                  </a:solidFill>
                  <a:latin typeface="Arial"/>
                  <a:ea typeface="Arial"/>
                </a:rPr>
                <a:t>2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 (mm H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6200000">
              <a:off x="3463560" y="2230560"/>
              <a:ext cx="1764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% saturation O</a:t>
              </a:r>
              <a:r>
                <a:rPr b="0" lang="en-US" sz="1800" spc="-1" strike="noStrike" baseline="-20000">
                  <a:solidFill>
                    <a:srgbClr val="000099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27680" y="2502000"/>
              <a:ext cx="825480" cy="1803240"/>
            </a:xfrm>
            <a:custGeom>
              <a:avLst/>
              <a:gdLst/>
              <a:ahLst/>
              <a:rect l="l" t="t" r="r" b="b"/>
              <a:pathLst>
                <a:path w="520" h="832">
                  <a:moveTo>
                    <a:pt x="0" y="0"/>
                  </a:moveTo>
                  <a:lnTo>
                    <a:pt x="520" y="0"/>
                  </a:lnTo>
                  <a:lnTo>
                    <a:pt x="520" y="832"/>
                  </a:lnTo>
                </a:path>
              </a:pathLst>
            </a:custGeom>
            <a:noFill/>
            <a:ln w="1908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21320" y="4354560"/>
              <a:ext cx="708120" cy="405720"/>
            </a:xfrm>
            <a:prstGeom prst="rect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P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Trebuchet MS"/>
                  <a:ea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5092920" y="114480"/>
            <a:ext cx="39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aractérist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odulation par rapport aux beso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7680" y="1457280"/>
            <a:ext cx="8065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écessité fonctionnelle du systèm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’apport en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au niveau des cellules nécessite le maintien constant de certains paramètres : P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; P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4040" y="2523960"/>
            <a:ext cx="727632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odification des appor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milieu aquatique :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ariation de la concentration en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ource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milieu aérien :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oportion d’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dans l’air constante (~ 21 %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ourc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odification des besoin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ariations de la consommation en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(effort physiqu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écessité d’ajus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-131040" y="127080"/>
            <a:ext cx="489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aractéristiques fonc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4418280" y="114480"/>
            <a:ext cx="47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types de systèmes respira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as d’appareil spécialis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4880" y="5526000"/>
            <a:ext cx="6267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Telmatobius cu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grenouille du lac Titica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respiration aquatique cutanée en alt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replis cutanés nombreux </a:t>
            </a:r>
            <a:r>
              <a:rPr b="0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 augmentation de la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90720" y="3084480"/>
            <a:ext cx="42238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mphibien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spiration pulmonaire et/ou cutan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variable selon les espè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variable selon les sais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ifférent pour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et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50760" y="1859040"/>
            <a:ext cx="4710240" cy="36115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695160" y="1104840"/>
            <a:ext cx="773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e tégument joue le rôle de surface d’échang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a distribution dans l’organisme est assurée par la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-131040" y="127080"/>
            <a:ext cx="489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aractéristiques fonc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23800" y="2106720"/>
            <a:ext cx="2506680" cy="30430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7054920" y="1711440"/>
            <a:ext cx="1784160" cy="32004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501" name=""/>
          <p:cNvSpPr/>
          <p:nvPr/>
        </p:nvSpPr>
        <p:spPr>
          <a:xfrm>
            <a:off x="4418280" y="114480"/>
            <a:ext cx="47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types de systèmes respira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ystème trachéal des Insec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-131040" y="127080"/>
            <a:ext cx="489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aractéristiques fonc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13560" y="5788080"/>
            <a:ext cx="8468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e sytème respiratoire est ramifié jusqu’aux tissus (quelques µ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a zone d’interface est à proximité de la zone de consommation d’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3197160" y="2793960"/>
            <a:ext cx="3322800" cy="16797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511960" y="20858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rach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11520" y="206676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raché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820120" y="457200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tig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35320" y="460044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670200" y="4368600"/>
            <a:ext cx="0" cy="2473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46480" y="2403360"/>
            <a:ext cx="0" cy="1155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15160" y="2403360"/>
            <a:ext cx="0" cy="1155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5588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64000" y="16416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raché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629080" y="1800360"/>
            <a:ext cx="0" cy="141912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20640" y="151776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mitochond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14240" y="1809720"/>
            <a:ext cx="181080" cy="2714760"/>
          </a:xfrm>
          <a:custGeom>
            <a:avLst/>
            <a:gdLst/>
            <a:ahLst/>
            <a:rect l="l" t="t" r="r" b="b"/>
            <a:pathLst>
              <a:path w="114" h="1710">
                <a:moveTo>
                  <a:pt x="0" y="1710"/>
                </a:moveTo>
                <a:lnTo>
                  <a:pt x="0" y="0"/>
                </a:lnTo>
                <a:lnTo>
                  <a:pt x="114" y="0"/>
                </a:lnTo>
              </a:path>
            </a:pathLst>
          </a:custGeom>
          <a:noFill/>
          <a:ln w="12600">
            <a:solidFill>
              <a:srgbClr val="99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948680" y="1835280"/>
            <a:ext cx="142920" cy="552240"/>
          </a:xfrm>
          <a:custGeom>
            <a:avLst/>
            <a:gdLst/>
            <a:ahLst/>
            <a:rect l="l" t="t" r="r" b="b"/>
            <a:pathLst>
              <a:path w="114" h="1710">
                <a:moveTo>
                  <a:pt x="0" y="1710"/>
                </a:moveTo>
                <a:lnTo>
                  <a:pt x="0" y="0"/>
                </a:lnTo>
                <a:lnTo>
                  <a:pt x="114" y="0"/>
                </a:lnTo>
              </a:path>
            </a:pathLst>
          </a:custGeom>
          <a:noFill/>
          <a:ln w="12600">
            <a:solidFill>
              <a:srgbClr val="99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54080" y="4597560"/>
            <a:ext cx="432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83080" y="453384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00"/>
                </a:solidFill>
                <a:latin typeface="Trebuchet MS"/>
              </a:rPr>
              <a:t>1µ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51800" y="114300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fibrille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11560" y="1473120"/>
            <a:ext cx="0" cy="234972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5400000">
            <a:off x="6180120" y="4246560"/>
            <a:ext cx="625680" cy="225360"/>
          </a:xfrm>
          <a:custGeom>
            <a:avLst/>
            <a:gdLst/>
            <a:ahLst/>
            <a:rect l="l" t="t" r="r" b="b"/>
            <a:pathLst>
              <a:path w="114" h="1710">
                <a:moveTo>
                  <a:pt x="0" y="1710"/>
                </a:moveTo>
                <a:lnTo>
                  <a:pt x="0" y="0"/>
                </a:lnTo>
                <a:lnTo>
                  <a:pt x="114" y="0"/>
                </a:lnTo>
              </a:path>
            </a:pathLst>
          </a:custGeom>
          <a:noFill/>
          <a:ln w="12600">
            <a:solidFill>
              <a:srgbClr val="99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55080" y="127080"/>
            <a:ext cx="489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aractéristiques fonc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520" y="824040"/>
            <a:ext cx="8058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nalyse fonctionnelle :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nalyse d’un système biologique et de sa capacité à répondre à certaines contraintes du milie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onction biologique :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ensemble des propriétés actives contribuant à la capacité de répondre à un problème posé par le milieu, chez un être viva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4880" y="2881440"/>
            <a:ext cx="715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réponse au problème de l’oxygène et du dioxyde de carbone : </a:t>
            </a:r>
            <a:r>
              <a:rPr b="1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fonction respir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5960" y="5040360"/>
            <a:ext cx="673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apacité fonctionnelle : cible de la pression de sé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notion de « but », dans un sens métaphor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6240" y="2806560"/>
            <a:ext cx="7137360" cy="876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81280" y="3975120"/>
            <a:ext cx="631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structures spécialisées et leur fonctionnement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système respir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09800" y="11448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88840" y="3911760"/>
            <a:ext cx="7137720" cy="876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830840" y="2762280"/>
            <a:ext cx="3543120" cy="2562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4654440" y="2854440"/>
            <a:ext cx="3686400" cy="24001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4418280" y="114480"/>
            <a:ext cx="47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types de systèmes respira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s branch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-131040" y="127080"/>
            <a:ext cx="489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aractéristiques fonc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2560" y="1101600"/>
            <a:ext cx="747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urface d’échange évaginée (éventuellement protégé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ystème circulatoire assure la distribution dans l’organ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25840" y="1994040"/>
            <a:ext cx="583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système branchial des poissons Téléosté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1611360" y="2093760"/>
            <a:ext cx="990720" cy="27511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617400" y="2090880"/>
            <a:ext cx="990720" cy="27511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 flipH="1">
            <a:off x="1614600" y="2058840"/>
            <a:ext cx="7920" cy="7225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816200" y="3013200"/>
            <a:ext cx="411120" cy="372960"/>
          </a:xfrm>
          <a:custGeom>
            <a:avLst/>
            <a:gdLst/>
            <a:ahLst/>
            <a:rect l="l" t="t" r="r" b="b"/>
            <a:pathLst>
              <a:path w="324" h="282">
                <a:moveTo>
                  <a:pt x="0" y="0"/>
                </a:moveTo>
                <a:cubicBezTo>
                  <a:pt x="72" y="39"/>
                  <a:pt x="144" y="79"/>
                  <a:pt x="198" y="126"/>
                </a:cubicBezTo>
                <a:cubicBezTo>
                  <a:pt x="252" y="173"/>
                  <a:pt x="288" y="227"/>
                  <a:pt x="324" y="282"/>
                </a:cubicBez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003400" y="3670200"/>
            <a:ext cx="412920" cy="371520"/>
          </a:xfrm>
          <a:custGeom>
            <a:avLst/>
            <a:gdLst/>
            <a:ahLst/>
            <a:rect l="l" t="t" r="r" b="b"/>
            <a:pathLst>
              <a:path w="324" h="282">
                <a:moveTo>
                  <a:pt x="0" y="0"/>
                </a:moveTo>
                <a:cubicBezTo>
                  <a:pt x="72" y="39"/>
                  <a:pt x="144" y="79"/>
                  <a:pt x="198" y="126"/>
                </a:cubicBezTo>
                <a:cubicBezTo>
                  <a:pt x="252" y="173"/>
                  <a:pt x="288" y="227"/>
                  <a:pt x="324" y="282"/>
                </a:cubicBez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17880" y="3471840"/>
            <a:ext cx="244440" cy="308160"/>
          </a:xfrm>
          <a:custGeom>
            <a:avLst/>
            <a:gdLst/>
            <a:ahLst/>
            <a:rect l="l" t="t" r="r" b="b"/>
            <a:pathLst>
              <a:path w="324" h="282">
                <a:moveTo>
                  <a:pt x="0" y="0"/>
                </a:moveTo>
                <a:cubicBezTo>
                  <a:pt x="72" y="39"/>
                  <a:pt x="144" y="79"/>
                  <a:pt x="198" y="126"/>
                </a:cubicBezTo>
                <a:cubicBezTo>
                  <a:pt x="252" y="173"/>
                  <a:pt x="288" y="227"/>
                  <a:pt x="324" y="282"/>
                </a:cubicBez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38160" y="3886200"/>
            <a:ext cx="511200" cy="230040"/>
          </a:xfrm>
          <a:custGeom>
            <a:avLst/>
            <a:gdLst/>
            <a:ahLst/>
            <a:rect l="l" t="t" r="r" b="b"/>
            <a:pathLst>
              <a:path w="402" h="174">
                <a:moveTo>
                  <a:pt x="0" y="0"/>
                </a:moveTo>
                <a:cubicBezTo>
                  <a:pt x="56" y="21"/>
                  <a:pt x="112" y="42"/>
                  <a:pt x="168" y="60"/>
                </a:cubicBezTo>
                <a:cubicBezTo>
                  <a:pt x="224" y="78"/>
                  <a:pt x="297" y="89"/>
                  <a:pt x="336" y="108"/>
                </a:cubicBezTo>
                <a:cubicBezTo>
                  <a:pt x="375" y="127"/>
                  <a:pt x="388" y="150"/>
                  <a:pt x="402" y="174"/>
                </a:cubicBez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11280" y="4267080"/>
            <a:ext cx="243000" cy="230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824120" y="4140360"/>
            <a:ext cx="441360" cy="150480"/>
          </a:xfrm>
          <a:custGeom>
            <a:avLst/>
            <a:gdLst/>
            <a:ahLst/>
            <a:rect l="l" t="t" r="r" b="b"/>
            <a:pathLst>
              <a:path w="348" h="114">
                <a:moveTo>
                  <a:pt x="0" y="0"/>
                </a:moveTo>
                <a:cubicBezTo>
                  <a:pt x="55" y="23"/>
                  <a:pt x="110" y="47"/>
                  <a:pt x="168" y="66"/>
                </a:cubicBezTo>
                <a:cubicBezTo>
                  <a:pt x="226" y="85"/>
                  <a:pt x="314" y="106"/>
                  <a:pt x="348" y="114"/>
                </a:cubicBez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635040" y="5149800"/>
            <a:ext cx="3137040" cy="14922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267000" y="592452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68680" y="565452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124000" y="5295960"/>
            <a:ext cx="542880" cy="6094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673280" y="5340240"/>
            <a:ext cx="542880" cy="60984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2368080" y="6095880"/>
            <a:ext cx="257400" cy="2574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93280" y="5149800"/>
            <a:ext cx="6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l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19160" y="5429160"/>
            <a:ext cx="0" cy="476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76760" y="48132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lam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5800" y="5149800"/>
            <a:ext cx="0" cy="476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5"/>
          <a:stretch/>
        </p:blipFill>
        <p:spPr>
          <a:xfrm>
            <a:off x="4262400" y="3424320"/>
            <a:ext cx="638280" cy="66672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 flipH="1">
            <a:off x="4264200" y="3282840"/>
            <a:ext cx="352080" cy="74304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95320" y="2927520"/>
            <a:ext cx="12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onv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40480" y="420372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diff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910560" y="3676680"/>
            <a:ext cx="1018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diff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43760" y="2924280"/>
            <a:ext cx="809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97680" y="4521240"/>
            <a:ext cx="809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18280" y="4708440"/>
            <a:ext cx="5619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97160" y="3124080"/>
            <a:ext cx="12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onv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792000" y="2187720"/>
            <a:ext cx="1757520" cy="239076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3954600" y="2571840"/>
            <a:ext cx="4419360" cy="2752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4657680" y="2943360"/>
            <a:ext cx="3522600" cy="213336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4418280" y="114480"/>
            <a:ext cx="47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types de systèmes respira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s poum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-131040" y="127080"/>
            <a:ext cx="489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aractéristiques fonc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2560" y="1101600"/>
            <a:ext cx="747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urface d’échange invagin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ystème circulatoire assure la distribution dans l’organ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circulation pulmo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circulation systé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699640" y="3492360"/>
            <a:ext cx="12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onv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15240" y="410220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diff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43760" y="2924280"/>
            <a:ext cx="809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47920" y="2565360"/>
            <a:ext cx="12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onv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80720" y="3600360"/>
            <a:ext cx="1018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diff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286160" y="3568680"/>
            <a:ext cx="457200" cy="60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36960" y="3803760"/>
            <a:ext cx="374760" cy="14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3943440" y="37972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949560" y="394956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772080" y="3873600"/>
            <a:ext cx="8125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3"/>
          <a:stretch/>
        </p:blipFill>
        <p:spPr>
          <a:xfrm>
            <a:off x="1066680" y="4788000"/>
            <a:ext cx="1841760" cy="17953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1859040" y="5788080"/>
            <a:ext cx="8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lvé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00520" y="487980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apil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4418280" y="114480"/>
            <a:ext cx="47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types de systèmes respira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s poum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-131040" y="127080"/>
            <a:ext cx="489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aractéristiques fonc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695840" y="725400"/>
            <a:ext cx="42354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s différents types de poum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1119240" y="2023920"/>
            <a:ext cx="3378240" cy="119556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4940280" y="4218120"/>
            <a:ext cx="3125880" cy="158256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3"/>
          <a:stretch/>
        </p:blipFill>
        <p:spPr>
          <a:xfrm>
            <a:off x="4719600" y="1949400"/>
            <a:ext cx="3346560" cy="13590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4"/>
          <a:stretch/>
        </p:blipFill>
        <p:spPr>
          <a:xfrm>
            <a:off x="1130400" y="4257720"/>
            <a:ext cx="3365280" cy="148572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444600" y="1515240"/>
            <a:ext cx="36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. poumon monocavitaire sep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55920" y="152172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. poumon pluricavitaire sep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9800" y="3712320"/>
            <a:ext cx="33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. poumon broncho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79760" y="3718800"/>
            <a:ext cx="24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rebuchet MS"/>
              </a:rPr>
              <a:t>D. poumon tub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70560" y="31608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« reptiles 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66080" y="584028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ammif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983200" y="585324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Oise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4418280" y="114480"/>
            <a:ext cx="47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types de systèmes respira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s poum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-131040" y="127080"/>
            <a:ext cx="489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aractéristiques fonc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695840" y="725400"/>
            <a:ext cx="42354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s systèmes de ventil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700200" y="3103560"/>
            <a:ext cx="3378240" cy="11955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914400" y="4651200"/>
            <a:ext cx="3365640" cy="148608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1531800" y="419184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poumon sep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3840" y="1495440"/>
            <a:ext cx="645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ompe buccale : Poissons, Amphibien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ompe thoracoabdominale : Reptiles, Mammif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49040" y="1092240"/>
            <a:ext cx="33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entilation bidirec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70680" y="3009960"/>
            <a:ext cx="1752480" cy="148572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7390800" y="3644640"/>
            <a:ext cx="1270080" cy="190440"/>
          </a:xfrm>
          <a:custGeom>
            <a:avLst/>
            <a:gdLst/>
            <a:ahLst/>
            <a:rect l="l" t="t" r="r" b="b"/>
            <a:pathLst>
              <a:path w="800" h="296">
                <a:moveTo>
                  <a:pt x="0" y="0"/>
                </a:moveTo>
                <a:lnTo>
                  <a:pt x="0" y="296"/>
                </a:lnTo>
                <a:lnTo>
                  <a:pt x="800" y="296"/>
                </a:lnTo>
                <a:lnTo>
                  <a:pt x="800" y="32"/>
                </a:lnTo>
              </a:path>
            </a:pathLst>
          </a:custGeom>
          <a:noFill/>
          <a:ln cap="sq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067360" y="3733920"/>
            <a:ext cx="1371600" cy="190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464160" y="5067360"/>
            <a:ext cx="1359000" cy="118116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5400000">
            <a:off x="7390800" y="5499000"/>
            <a:ext cx="1270080" cy="190440"/>
          </a:xfrm>
          <a:custGeom>
            <a:avLst/>
            <a:gdLst/>
            <a:ahLst/>
            <a:rect l="l" t="t" r="r" b="b"/>
            <a:pathLst>
              <a:path w="800" h="296">
                <a:moveTo>
                  <a:pt x="0" y="0"/>
                </a:moveTo>
                <a:lnTo>
                  <a:pt x="0" y="296"/>
                </a:lnTo>
                <a:lnTo>
                  <a:pt x="800" y="296"/>
                </a:lnTo>
                <a:lnTo>
                  <a:pt x="800" y="32"/>
                </a:lnTo>
              </a:path>
            </a:pathLst>
          </a:custGeom>
          <a:noFill/>
          <a:ln cap="sq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067360" y="5587920"/>
            <a:ext cx="1625400" cy="190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83080" y="3821040"/>
            <a:ext cx="10382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21280" y="5700600"/>
            <a:ext cx="10382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98920" y="2449440"/>
            <a:ext cx="1560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A in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452920" y="4626000"/>
            <a:ext cx="1506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B ex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9360" y="2590920"/>
            <a:ext cx="4254480" cy="3886200"/>
          </a:xfrm>
          <a:prstGeom prst="ellipse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59320" y="6096600"/>
            <a:ext cx="32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poumon bronchoalvéo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4418280" y="114480"/>
            <a:ext cx="47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types de systèmes respira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s poum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-131040" y="127080"/>
            <a:ext cx="489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aractéristiques fonc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695840" y="725400"/>
            <a:ext cx="42354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s systèmes de ventil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1440" y="4451400"/>
            <a:ext cx="1573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C in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498840" y="2265480"/>
            <a:ext cx="1506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B ex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36680" y="2273400"/>
            <a:ext cx="15602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A in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30600" y="4452840"/>
            <a:ext cx="1521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D ex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61960" y="2932200"/>
            <a:ext cx="1154160" cy="8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73120" y="3125880"/>
            <a:ext cx="1154160" cy="9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73120" y="3321000"/>
            <a:ext cx="1154160" cy="8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89360" y="3854520"/>
            <a:ext cx="744480" cy="658800"/>
          </a:xfrm>
          <a:prstGeom prst="ellipse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57280" y="3351240"/>
            <a:ext cx="744480" cy="65880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04960" y="2932200"/>
            <a:ext cx="147600" cy="123516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370160" y="2932200"/>
            <a:ext cx="160200" cy="123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187280" y="3606840"/>
            <a:ext cx="285840" cy="135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2640" y="4097160"/>
            <a:ext cx="2527560" cy="13680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06680" y="4151160"/>
            <a:ext cx="7207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1800360" y="2973240"/>
            <a:ext cx="5270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999720" y="3659040"/>
            <a:ext cx="412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73680" y="2946240"/>
            <a:ext cx="1154160" cy="8892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84840" y="3139920"/>
            <a:ext cx="1155600" cy="9072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884840" y="3335400"/>
            <a:ext cx="1155600" cy="8892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369120" y="3951360"/>
            <a:ext cx="561960" cy="484200"/>
          </a:xfrm>
          <a:prstGeom prst="ellipse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016680" y="2946240"/>
            <a:ext cx="149040" cy="123372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82960" y="2946240"/>
            <a:ext cx="158760" cy="1233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600440" y="3621240"/>
            <a:ext cx="284400" cy="134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75120" y="4111560"/>
            <a:ext cx="2476440" cy="135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013440" y="4114800"/>
            <a:ext cx="444600" cy="13176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071960" y="3414600"/>
            <a:ext cx="561960" cy="48420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080040" y="3279240"/>
            <a:ext cx="0" cy="560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856040" y="3679920"/>
            <a:ext cx="0" cy="411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326200" y="3176640"/>
            <a:ext cx="4903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4068360" y="4170240"/>
            <a:ext cx="3999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455840" y="5091120"/>
            <a:ext cx="1154160" cy="8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467000" y="5284800"/>
            <a:ext cx="1153800" cy="9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467000" y="5479920"/>
            <a:ext cx="1153800" cy="8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82880" y="6013440"/>
            <a:ext cx="744480" cy="65880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0800" y="5510160"/>
            <a:ext cx="744480" cy="658800"/>
          </a:xfrm>
          <a:prstGeom prst="ellipse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598840" y="5091120"/>
            <a:ext cx="147600" cy="123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63680" y="5091120"/>
            <a:ext cx="160200" cy="123516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06520" y="6256440"/>
            <a:ext cx="2527200" cy="136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362240" y="5770440"/>
            <a:ext cx="161640" cy="615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82600" y="5765760"/>
            <a:ext cx="339840" cy="13500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436760" y="5262480"/>
            <a:ext cx="0" cy="3650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852480" y="5811840"/>
            <a:ext cx="549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63960" y="5086440"/>
            <a:ext cx="1154160" cy="8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5120" y="5280120"/>
            <a:ext cx="1155960" cy="9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75120" y="5475240"/>
            <a:ext cx="1155960" cy="8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006960" y="5086440"/>
            <a:ext cx="149400" cy="123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773600" y="5086440"/>
            <a:ext cx="158760" cy="123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773600" y="6253200"/>
            <a:ext cx="1668600" cy="135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770360" y="5765760"/>
            <a:ext cx="162000" cy="61596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92520" y="5761080"/>
            <a:ext cx="338400" cy="13500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97560" y="6067440"/>
            <a:ext cx="561960" cy="48420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078440" y="5564160"/>
            <a:ext cx="561960" cy="484200"/>
          </a:xfrm>
          <a:prstGeom prst="ellipse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75120" y="6253200"/>
            <a:ext cx="955800" cy="13500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44880" y="5892840"/>
            <a:ext cx="0" cy="342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182840" y="6315120"/>
            <a:ext cx="4791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834080" y="2655720"/>
            <a:ext cx="1269720" cy="190800"/>
          </a:xfrm>
          <a:custGeom>
            <a:avLst/>
            <a:gdLst/>
            <a:ahLst/>
            <a:rect l="l" t="t" r="r" b="b"/>
            <a:pathLst>
              <a:path w="800" h="296">
                <a:moveTo>
                  <a:pt x="0" y="0"/>
                </a:moveTo>
                <a:lnTo>
                  <a:pt x="0" y="296"/>
                </a:lnTo>
                <a:lnTo>
                  <a:pt x="800" y="296"/>
                </a:lnTo>
                <a:lnTo>
                  <a:pt x="800" y="32"/>
                </a:lnTo>
              </a:path>
            </a:pathLst>
          </a:custGeom>
          <a:noFill/>
          <a:ln cap="sq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430280" y="2668680"/>
            <a:ext cx="1270080" cy="190440"/>
          </a:xfrm>
          <a:custGeom>
            <a:avLst/>
            <a:gdLst/>
            <a:ahLst/>
            <a:rect l="l" t="t" r="r" b="b"/>
            <a:pathLst>
              <a:path w="800" h="296">
                <a:moveTo>
                  <a:pt x="0" y="0"/>
                </a:moveTo>
                <a:lnTo>
                  <a:pt x="0" y="296"/>
                </a:lnTo>
                <a:lnTo>
                  <a:pt x="800" y="296"/>
                </a:lnTo>
                <a:lnTo>
                  <a:pt x="800" y="32"/>
                </a:lnTo>
              </a:path>
            </a:pathLst>
          </a:custGeom>
          <a:noFill/>
          <a:ln cap="sq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17680" y="4815000"/>
            <a:ext cx="1270080" cy="190440"/>
          </a:xfrm>
          <a:custGeom>
            <a:avLst/>
            <a:gdLst/>
            <a:ahLst/>
            <a:rect l="l" t="t" r="r" b="b"/>
            <a:pathLst>
              <a:path w="800" h="296">
                <a:moveTo>
                  <a:pt x="0" y="0"/>
                </a:moveTo>
                <a:lnTo>
                  <a:pt x="0" y="296"/>
                </a:lnTo>
                <a:lnTo>
                  <a:pt x="800" y="296"/>
                </a:lnTo>
                <a:lnTo>
                  <a:pt x="800" y="32"/>
                </a:lnTo>
              </a:path>
            </a:pathLst>
          </a:custGeom>
          <a:noFill/>
          <a:ln cap="sq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21120" y="4815000"/>
            <a:ext cx="1270080" cy="190440"/>
          </a:xfrm>
          <a:custGeom>
            <a:avLst/>
            <a:gdLst/>
            <a:ahLst/>
            <a:rect l="l" t="t" r="r" b="b"/>
            <a:pathLst>
              <a:path w="800" h="296">
                <a:moveTo>
                  <a:pt x="0" y="0"/>
                </a:moveTo>
                <a:lnTo>
                  <a:pt x="0" y="296"/>
                </a:lnTo>
                <a:lnTo>
                  <a:pt x="800" y="296"/>
                </a:lnTo>
                <a:lnTo>
                  <a:pt x="800" y="32"/>
                </a:lnTo>
              </a:path>
            </a:pathLst>
          </a:custGeom>
          <a:noFill/>
          <a:ln cap="sq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03880" y="2709720"/>
            <a:ext cx="5047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5850000" y="1309680"/>
            <a:ext cx="2800440" cy="14176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183240" y="1130400"/>
            <a:ext cx="53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 ventilation unidirectionnelle des Ois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53160" y="1143000"/>
            <a:ext cx="3085920" cy="1600200"/>
          </a:xfrm>
          <a:prstGeom prst="ellipse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64880" y="149544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ompe thoracoabdomi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418560" y="114480"/>
            <a:ext cx="494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système respiratoire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768680" y="609480"/>
            <a:ext cx="634212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IV. 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. structure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B.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. paroi thoraco-abdomi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V.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. mécanique ventil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B. physiologie et physiopath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VI. les échanges gaz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. l’air inspi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B. le gaz valvéo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. la diffusion alvéolo-capil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VII. la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. organisation du système circul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B. transport des gaz dans le s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VIII. notions de régulation de la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280" y="10332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Trebuchet MS"/>
              </a:rPr>
              <a:t>physiologie hum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5792760" y="941400"/>
            <a:ext cx="3006720" cy="4633920"/>
          </a:xfrm>
          <a:prstGeom prst="rect">
            <a:avLst/>
          </a:prstGeom>
          <a:ln w="0">
            <a:noFill/>
          </a:ln>
        </p:spPr>
      </p:pic>
      <p:grpSp>
        <p:nvGrpSpPr>
          <p:cNvPr id="694" name=""/>
          <p:cNvGrpSpPr/>
          <p:nvPr/>
        </p:nvGrpSpPr>
        <p:grpSpPr>
          <a:xfrm>
            <a:off x="4631040" y="1806480"/>
            <a:ext cx="2782440" cy="3410640"/>
            <a:chOff x="4631040" y="1806480"/>
            <a:chExt cx="2782440" cy="3410640"/>
          </a:xfrm>
        </p:grpSpPr>
        <p:sp>
          <p:nvSpPr>
            <p:cNvPr id="695" name=""/>
            <p:cNvSpPr/>
            <p:nvPr/>
          </p:nvSpPr>
          <p:spPr>
            <a:xfrm>
              <a:off x="5220360" y="1806480"/>
              <a:ext cx="122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cavité nas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29960" y="2136600"/>
              <a:ext cx="81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aryn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717880" y="252396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laryn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936320" y="289404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trach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717080" y="4010040"/>
              <a:ext cx="91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bro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31040" y="451152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bronchio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90880" y="491004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alvéo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759200" y="421956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oum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429240" y="1959120"/>
              <a:ext cx="3146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391440" y="2289240"/>
              <a:ext cx="1022040" cy="3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438960" y="2678040"/>
              <a:ext cx="8190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743440" y="3044880"/>
              <a:ext cx="1505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661000" y="4149360"/>
              <a:ext cx="1279440" cy="12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646600" y="4371840"/>
              <a:ext cx="8906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27600" y="4664160"/>
              <a:ext cx="10256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91160" y="5073480"/>
              <a:ext cx="1209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831200" y="3186000"/>
            <a:ext cx="1600920" cy="941040"/>
            <a:chOff x="4831200" y="3186000"/>
            <a:chExt cx="1600920" cy="941040"/>
          </a:xfrm>
        </p:grpSpPr>
        <p:sp>
          <p:nvSpPr>
            <p:cNvPr id="712" name=""/>
            <p:cNvSpPr/>
            <p:nvPr/>
          </p:nvSpPr>
          <p:spPr>
            <a:xfrm>
              <a:off x="5050800" y="3186000"/>
              <a:ext cx="86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lèvr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ariét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31200" y="3606840"/>
              <a:ext cx="88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lèvr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viscér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5676480" y="3444840"/>
              <a:ext cx="7556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5470200" y="3832200"/>
              <a:ext cx="739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19440" y="127080"/>
            <a:ext cx="34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96840" y="1144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tructure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68640" y="2451240"/>
            <a:ext cx="259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oies aérien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tuyau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4960" y="1015920"/>
            <a:ext cx="609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age thoracique et muscles thoracoabodomin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om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2760" y="3784680"/>
            <a:ext cx="427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barrière alvéolo-capil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zone d’échanges gaz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77560" y="5372280"/>
            <a:ext cx="625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irculation pulmo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erfusion sanguine de la zone d’é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5962680" y="3000240"/>
            <a:ext cx="2641680" cy="25131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5495400" y="1144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5792760" y="941400"/>
            <a:ext cx="3006720" cy="46339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5220360" y="180648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cavité na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529960" y="21366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pharyn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717880" y="252396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laryn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936320" y="289404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trach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717080" y="40100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bro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31040" y="451152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bronchio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790880" y="491004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alvéo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59200" y="4219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pou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429240" y="1959120"/>
            <a:ext cx="3146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391440" y="2289240"/>
            <a:ext cx="1022040" cy="32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438960" y="2678040"/>
            <a:ext cx="8190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743440" y="3044880"/>
            <a:ext cx="150516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661000" y="4149360"/>
            <a:ext cx="1279440" cy="12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646600" y="4371840"/>
            <a:ext cx="8906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727600" y="4664160"/>
            <a:ext cx="10256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591160" y="5073480"/>
            <a:ext cx="1209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" y="984240"/>
            <a:ext cx="3746520" cy="22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57360" y="1147680"/>
            <a:ext cx="356220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000066"/>
                </a:solidFill>
                <a:latin typeface="Trebuchet MS"/>
              </a:rPr>
              <a:t>voies aériennes supérieures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 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nez, pharyx, laryn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000066"/>
                </a:solidFill>
                <a:latin typeface="Trebuchet MS"/>
              </a:rPr>
              <a:t>arbre bronchique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 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trachée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bronches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bronchioles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anal alvéolaire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alvéo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4280" y="2927520"/>
            <a:ext cx="2108160" cy="1091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14600" y="1695600"/>
            <a:ext cx="145008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3300"/>
                </a:solidFill>
                <a:latin typeface="Trebuchet MS"/>
              </a:rPr>
              <a:t>condu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80200" y="3486240"/>
            <a:ext cx="213768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0000"/>
                </a:solidFill>
                <a:latin typeface="Trebuchet MS"/>
              </a:rPr>
              <a:t>échanges gazeu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-34560" y="127080"/>
            <a:ext cx="474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19440" y="127080"/>
            <a:ext cx="34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495400" y="1144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5599080" y="1141560"/>
            <a:ext cx="3203640" cy="366048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187200" y="695160"/>
            <a:ext cx="6892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oies aériennes supérieures : nez, pharynx, laryn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29160" y="2347920"/>
            <a:ext cx="1778040" cy="95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42320" y="3084480"/>
            <a:ext cx="393480" cy="14781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985080" y="4583160"/>
            <a:ext cx="631800" cy="538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791240" y="264168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rebuchet MS"/>
              </a:rPr>
              <a:t>n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36800" y="365760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rebuchet MS"/>
              </a:rPr>
              <a:t>pharyn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38120" y="464832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rebuchet MS"/>
              </a:rPr>
              <a:t>laryn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19440" y="127080"/>
            <a:ext cx="34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95400" y="1144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719680" y="257796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rn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968400" y="1225440"/>
            <a:ext cx="43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volume : 20 cm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2      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urface : 160 cm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26000" y="1657440"/>
            <a:ext cx="564444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zone de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ditionnement de l’air inspiré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en température et en humid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spiration :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élévation de températur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aturation en vapeur d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piration :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refroidissement de l’air expiré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tention partielle de la vapeur d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limitation des pertes hydriques et caloriq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5599080" y="1141560"/>
            <a:ext cx="3203640" cy="366048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5429160" y="2347920"/>
            <a:ext cx="1778040" cy="95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190520" y="4826160"/>
            <a:ext cx="7088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résistance à l’écou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homme adulte :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ésistance nasale &gt; résistance buc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yperventilation : respiration buccale (pb. si air froid ou 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nouveau-né, animaux: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ésistance nasale &lt; résistance bucc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bstruction nasal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gène à la res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39960" y="4863960"/>
            <a:ext cx="7645320" cy="1816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87200" y="695160"/>
            <a:ext cx="6892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oies aériennes supérieures : n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39840" y="936720"/>
            <a:ext cx="8464320" cy="56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le problème de l’oxygène (et du dioxyde de carb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ourquoi l’oxygène est-il important pour les animaux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oduction d’énergie par la cellule : respiration cellulaire (mitochondr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respiration cellulair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sommation d’oxygène et production de C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Quel problème pose l’oxygène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pport d’oxygène au niveau des cellules suffisant pour permettre  la production d’énergie nécessaire à la couverture des beso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quel problème pose de dioxyde de carbon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élimination par l’organisme du C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produit par la respiration cell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9360" y="127080"/>
            <a:ext cx="343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osition du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02240" y="11448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nalyse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9440" y="127080"/>
            <a:ext cx="34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495400" y="1144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503800" y="306072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asopharyn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515320" y="3683160"/>
            <a:ext cx="15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ropharyn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484360" y="420372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ryngopharyn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5599080" y="1141560"/>
            <a:ext cx="3203640" cy="366048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7042320" y="3084480"/>
            <a:ext cx="393480" cy="14781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267080" y="3295800"/>
            <a:ext cx="28958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143240" y="3905280"/>
            <a:ext cx="30481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46440" y="4451400"/>
            <a:ext cx="26798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7640" y="1535040"/>
            <a:ext cx="503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zone commune au passage des aliments et de l’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mposé de 3 part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0880" y="4873680"/>
            <a:ext cx="8347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uscles du pharynx (&gt; 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traction des muscles pharyngés : maintien de l’ouverture du pharyn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pb. pathologiques : fausses routes, apnée du somme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87200" y="695160"/>
            <a:ext cx="6892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oies aériennes supérieures : pharyn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19440" y="127080"/>
            <a:ext cx="34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495400" y="1144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>
            <a:off x="5599080" y="1141560"/>
            <a:ext cx="3203640" cy="366048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6985080" y="4583160"/>
            <a:ext cx="631800" cy="538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573200"/>
            <a:ext cx="5010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alve qui empêche les aliments de passer dans la trach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zone de rétrécissement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trôle du débit expir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rdes vocal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organe de pho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20560" y="4951440"/>
            <a:ext cx="776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int d’arrimage de la trachée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(cartilage cricoïde)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aintien de l’ouverture trachéale lors de l’in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87200" y="695160"/>
            <a:ext cx="6892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oies aériennes supérieures : laryn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41200" y="1409760"/>
            <a:ext cx="4076640" cy="374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431640" y="1611360"/>
            <a:ext cx="3468960" cy="346860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4871880" y="1755720"/>
            <a:ext cx="37386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66"/>
                </a:solidFill>
                <a:latin typeface="Trebuchet MS"/>
              </a:rPr>
              <a:t>voies aériennes centrales 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0000"/>
                </a:solidFill>
                <a:latin typeface="Trebuchet MS"/>
              </a:rPr>
              <a:t>bronches souches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0000"/>
                </a:solidFill>
                <a:latin typeface="Trebuchet MS"/>
              </a:rPr>
              <a:t>bronches lobaires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0000"/>
                </a:solidFill>
                <a:latin typeface="Trebuchet MS"/>
              </a:rPr>
              <a:t>bronches segmentaires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0000"/>
                </a:solidFill>
                <a:latin typeface="Trebuchet MS"/>
              </a:rPr>
              <a:t>bronches sous-segmentaires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0000"/>
                </a:solidFill>
                <a:latin typeface="Trebuchet MS"/>
              </a:rPr>
              <a:t>petites bronches (G10 : </a:t>
            </a:r>
            <a:r>
              <a:rPr b="0" lang="fr-FR" sz="1900" spc="-1" strike="noStrike">
                <a:solidFill>
                  <a:srgbClr val="990000"/>
                </a:solidFill>
                <a:latin typeface="Symbol"/>
                <a:ea typeface="Symbol"/>
              </a:rPr>
              <a:t></a:t>
            </a:r>
            <a:r>
              <a:rPr b="0" lang="fr-FR" sz="1900" spc="-1" strike="noStrike">
                <a:solidFill>
                  <a:srgbClr val="990000"/>
                </a:solidFill>
                <a:latin typeface="Trebuchet MS"/>
              </a:rPr>
              <a:t> 1000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66"/>
                </a:solidFill>
                <a:latin typeface="Trebuchet MS"/>
              </a:rPr>
              <a:t>voies aériennes périphériques 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0000"/>
                </a:solidFill>
                <a:latin typeface="Trebuchet MS"/>
              </a:rPr>
              <a:t>bronchioles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0000"/>
                </a:solidFill>
                <a:latin typeface="Trebuchet MS"/>
              </a:rPr>
              <a:t>bronchioles terminales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0000"/>
                </a:solidFill>
                <a:latin typeface="Trebuchet MS"/>
              </a:rPr>
              <a:t>bronchioles respiratoires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90000"/>
                </a:solidFill>
                <a:latin typeface="Trebuchet MS"/>
              </a:rPr>
              <a:t>canaux alvéolai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24280" y="1727280"/>
            <a:ext cx="3810240" cy="32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493960" y="1270080"/>
            <a:ext cx="2402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3300"/>
                </a:solidFill>
                <a:latin typeface="Trebuchet MS"/>
              </a:rPr>
              <a:t>zone de condu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440" y="127080"/>
            <a:ext cx="34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495400" y="1144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87200" y="695160"/>
            <a:ext cx="315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arbre bronch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597640" y="725400"/>
            <a:ext cx="25336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tructure généra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5492880" y="1582560"/>
            <a:ext cx="3573360" cy="4437720"/>
            <a:chOff x="5492880" y="1582560"/>
            <a:chExt cx="3573360" cy="4437720"/>
          </a:xfrm>
        </p:grpSpPr>
        <p:sp>
          <p:nvSpPr>
            <p:cNvPr id="804" name=""/>
            <p:cNvSpPr/>
            <p:nvPr/>
          </p:nvSpPr>
          <p:spPr>
            <a:xfrm>
              <a:off x="6428880" y="5400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997320" y="5400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536600" y="5400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106480" y="5400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674920" y="5400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152760" y="4830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922000" y="41810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22000" y="35301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922000" y="2881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922000" y="22316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922000" y="1582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514920" y="5287320"/>
              <a:ext cx="1080" cy="5076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798960" y="5287320"/>
              <a:ext cx="1440" cy="2556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083360" y="5287320"/>
              <a:ext cx="1080" cy="5076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367400" y="5287320"/>
              <a:ext cx="1080" cy="2556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7653240" y="5287320"/>
              <a:ext cx="1080" cy="5076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937280" y="5287320"/>
              <a:ext cx="1440" cy="2556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8221320" y="5287320"/>
              <a:ext cx="1440" cy="5076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8505720" y="5287320"/>
              <a:ext cx="1080" cy="2556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8789760" y="5287320"/>
              <a:ext cx="1440" cy="5076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05560" y="5287680"/>
              <a:ext cx="2264760" cy="144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49680" y="4962240"/>
              <a:ext cx="50760" cy="144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375240" y="4638240"/>
              <a:ext cx="25200" cy="180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349680" y="4312800"/>
              <a:ext cx="50760" cy="180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375240" y="3987360"/>
              <a:ext cx="25200" cy="180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349680" y="3661920"/>
              <a:ext cx="50760" cy="180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375240" y="3338280"/>
              <a:ext cx="25200" cy="144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349680" y="3012840"/>
              <a:ext cx="50760" cy="144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375240" y="2687400"/>
              <a:ext cx="25200" cy="144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349680" y="2361960"/>
              <a:ext cx="50760" cy="144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375240" y="2037960"/>
              <a:ext cx="25200" cy="180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349680" y="1714320"/>
              <a:ext cx="50760" cy="144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6400800" y="1713960"/>
              <a:ext cx="1080" cy="3259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586200" y="4868640"/>
              <a:ext cx="83880" cy="856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00680" y="4863960"/>
              <a:ext cx="83880" cy="838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814800" y="4865400"/>
              <a:ext cx="83880" cy="8424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927840" y="4858920"/>
              <a:ext cx="83520" cy="8424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041960" y="4854240"/>
              <a:ext cx="83880" cy="856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154640" y="4854240"/>
              <a:ext cx="83880" cy="856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69120" y="4843080"/>
              <a:ext cx="83520" cy="8424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83240" y="4829040"/>
              <a:ext cx="83880" cy="856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495920" y="4817880"/>
              <a:ext cx="85320" cy="838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610400" y="4789080"/>
              <a:ext cx="83520" cy="856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23080" y="4763880"/>
              <a:ext cx="85320" cy="856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837200" y="4724280"/>
              <a:ext cx="83880" cy="856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951680" y="4652640"/>
              <a:ext cx="85320" cy="856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065800" y="4522680"/>
              <a:ext cx="83880" cy="856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178480" y="4336920"/>
              <a:ext cx="85680" cy="838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292960" y="3916080"/>
              <a:ext cx="83880" cy="8424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405640" y="2971440"/>
              <a:ext cx="85320" cy="8424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27600" y="1714320"/>
              <a:ext cx="1933200" cy="3176640"/>
            </a:xfrm>
            <a:custGeom>
              <a:avLst/>
              <a:gdLst/>
              <a:ahLst/>
              <a:rect l="l" t="t" r="r" b="b"/>
              <a:pathLst>
                <a:path w="2434" h="4004">
                  <a:moveTo>
                    <a:pt x="0" y="4004"/>
                  </a:moveTo>
                  <a:lnTo>
                    <a:pt x="43" y="4004"/>
                  </a:lnTo>
                  <a:lnTo>
                    <a:pt x="87" y="4004"/>
                  </a:lnTo>
                  <a:lnTo>
                    <a:pt x="131" y="4004"/>
                  </a:lnTo>
                  <a:lnTo>
                    <a:pt x="175" y="4004"/>
                  </a:lnTo>
                  <a:lnTo>
                    <a:pt x="219" y="4004"/>
                  </a:lnTo>
                  <a:lnTo>
                    <a:pt x="263" y="4002"/>
                  </a:lnTo>
                  <a:lnTo>
                    <a:pt x="307" y="4002"/>
                  </a:lnTo>
                  <a:lnTo>
                    <a:pt x="350" y="4002"/>
                  </a:lnTo>
                  <a:lnTo>
                    <a:pt x="394" y="4002"/>
                  </a:lnTo>
                  <a:lnTo>
                    <a:pt x="438" y="4002"/>
                  </a:lnTo>
                  <a:lnTo>
                    <a:pt x="482" y="4002"/>
                  </a:lnTo>
                  <a:lnTo>
                    <a:pt x="526" y="4002"/>
                  </a:lnTo>
                  <a:lnTo>
                    <a:pt x="570" y="4002"/>
                  </a:lnTo>
                  <a:lnTo>
                    <a:pt x="612" y="4000"/>
                  </a:lnTo>
                  <a:lnTo>
                    <a:pt x="655" y="4000"/>
                  </a:lnTo>
                  <a:lnTo>
                    <a:pt x="699" y="4000"/>
                  </a:lnTo>
                  <a:lnTo>
                    <a:pt x="743" y="3998"/>
                  </a:lnTo>
                  <a:lnTo>
                    <a:pt x="787" y="3998"/>
                  </a:lnTo>
                  <a:lnTo>
                    <a:pt x="831" y="3996"/>
                  </a:lnTo>
                  <a:lnTo>
                    <a:pt x="875" y="3996"/>
                  </a:lnTo>
                  <a:lnTo>
                    <a:pt x="919" y="3994"/>
                  </a:lnTo>
                  <a:lnTo>
                    <a:pt x="962" y="3992"/>
                  </a:lnTo>
                  <a:lnTo>
                    <a:pt x="1006" y="3990"/>
                  </a:lnTo>
                  <a:lnTo>
                    <a:pt x="1050" y="3988"/>
                  </a:lnTo>
                  <a:lnTo>
                    <a:pt x="1094" y="3985"/>
                  </a:lnTo>
                  <a:lnTo>
                    <a:pt x="1138" y="3981"/>
                  </a:lnTo>
                  <a:lnTo>
                    <a:pt x="1182" y="3977"/>
                  </a:lnTo>
                  <a:lnTo>
                    <a:pt x="1225" y="3973"/>
                  </a:lnTo>
                  <a:lnTo>
                    <a:pt x="1269" y="3967"/>
                  </a:lnTo>
                  <a:lnTo>
                    <a:pt x="1311" y="3960"/>
                  </a:lnTo>
                  <a:lnTo>
                    <a:pt x="1355" y="3952"/>
                  </a:lnTo>
                  <a:lnTo>
                    <a:pt x="1399" y="3941"/>
                  </a:lnTo>
                  <a:lnTo>
                    <a:pt x="1443" y="3929"/>
                  </a:lnTo>
                  <a:lnTo>
                    <a:pt x="1487" y="3916"/>
                  </a:lnTo>
                  <a:lnTo>
                    <a:pt x="1530" y="3899"/>
                  </a:lnTo>
                  <a:lnTo>
                    <a:pt x="1574" y="3880"/>
                  </a:lnTo>
                  <a:lnTo>
                    <a:pt x="1618" y="3855"/>
                  </a:lnTo>
                  <a:lnTo>
                    <a:pt x="1662" y="3828"/>
                  </a:lnTo>
                  <a:lnTo>
                    <a:pt x="1706" y="3794"/>
                  </a:lnTo>
                  <a:lnTo>
                    <a:pt x="1750" y="3754"/>
                  </a:lnTo>
                  <a:lnTo>
                    <a:pt x="1794" y="3706"/>
                  </a:lnTo>
                  <a:lnTo>
                    <a:pt x="1837" y="3649"/>
                  </a:lnTo>
                  <a:lnTo>
                    <a:pt x="1881" y="3582"/>
                  </a:lnTo>
                  <a:lnTo>
                    <a:pt x="1925" y="3500"/>
                  </a:lnTo>
                  <a:lnTo>
                    <a:pt x="1969" y="3403"/>
                  </a:lnTo>
                  <a:lnTo>
                    <a:pt x="2011" y="3289"/>
                  </a:lnTo>
                  <a:lnTo>
                    <a:pt x="2055" y="3150"/>
                  </a:lnTo>
                  <a:lnTo>
                    <a:pt x="2099" y="2986"/>
                  </a:lnTo>
                  <a:lnTo>
                    <a:pt x="2142" y="2787"/>
                  </a:lnTo>
                  <a:lnTo>
                    <a:pt x="2186" y="2551"/>
                  </a:lnTo>
                  <a:lnTo>
                    <a:pt x="2230" y="2267"/>
                  </a:lnTo>
                  <a:lnTo>
                    <a:pt x="2274" y="1929"/>
                  </a:lnTo>
                  <a:lnTo>
                    <a:pt x="2318" y="1523"/>
                  </a:lnTo>
                  <a:lnTo>
                    <a:pt x="2362" y="1037"/>
                  </a:lnTo>
                  <a:lnTo>
                    <a:pt x="2406" y="456"/>
                  </a:lnTo>
                  <a:lnTo>
                    <a:pt x="2434" y="0"/>
                  </a:lnTo>
                </a:path>
              </a:pathLst>
            </a:custGeom>
            <a:noFill/>
            <a:ln w="4680">
              <a:solidFill>
                <a:srgbClr val="99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16200000">
              <a:off x="4206240" y="2986920"/>
              <a:ext cx="291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surface totale de section (cm</a:t>
              </a:r>
              <a:r>
                <a:rPr b="0" lang="fr-FR" sz="1600" spc="-1" strike="noStrike" baseline="30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63120" y="5682960"/>
              <a:ext cx="30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génération des voies aérien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57" name=""/>
          <p:cNvGraphicFramePr/>
          <p:nvPr/>
        </p:nvGraphicFramePr>
        <p:xfrm>
          <a:off x="270000" y="1293840"/>
          <a:ext cx="5051160" cy="4689360"/>
        </p:xfrm>
        <a:graphic>
          <a:graphicData uri="http://schemas.openxmlformats.org/drawingml/2006/table">
            <a:tbl>
              <a:tblPr/>
              <a:tblGrid>
                <a:gridCol w="1482480"/>
                <a:gridCol w="2946600"/>
                <a:gridCol w="622080"/>
              </a:tblGrid>
              <a:tr h="33732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z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on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trach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bronches extrapulmon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bronches intrapulmon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bronc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4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bronchi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bronchioles termi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</a:tr>
              <a:tr h="33732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Trebuchet MS"/>
                          <a:ea typeface="Times New Roman"/>
                        </a:rPr>
                        <a:t>z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Trebuchet MS"/>
                          <a:ea typeface="Times New Roman"/>
                        </a:rPr>
                        <a:t>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Trebuchet MS"/>
                          <a:ea typeface="Times New Roman"/>
                        </a:rPr>
                        <a:t>tran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Trebuchet MS"/>
                          <a:ea typeface="Times New Roman"/>
                        </a:rPr>
                        <a:t>et d’é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Trebuchet MS"/>
                          <a:ea typeface="Times New Roman"/>
                        </a:rPr>
                        <a:t>respirato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Trebuchet MS"/>
                          <a:ea typeface="Times New Roman"/>
                        </a:rPr>
                        <a:t>bronchioles respirato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Trebuchet MS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Trebuchet MS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Trebuchet MS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Trebuchet MS"/>
                          <a:ea typeface="Times New Roman"/>
                        </a:rPr>
                        <a:t>canaux alvéol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Trebuchet MS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Trebuchet MS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Trebuchet MS"/>
                          <a:ea typeface="Times New Roman"/>
                        </a:rPr>
                        <a:t>sacs alvéol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Trebuchet MS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solidFill>
                      <a:srgbClr val="ffffff">
                        <a:alpha val="75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58" name=""/>
          <p:cNvSpPr/>
          <p:nvPr/>
        </p:nvSpPr>
        <p:spPr>
          <a:xfrm>
            <a:off x="19440" y="127080"/>
            <a:ext cx="34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495400" y="1144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87200" y="695160"/>
            <a:ext cx="315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arbre bronch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597640" y="725400"/>
            <a:ext cx="25336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tructure généra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2804760" y="1303200"/>
            <a:ext cx="57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omme : longueur :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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12 cm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iamètre :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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2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712800" y="2233440"/>
            <a:ext cx="3043080" cy="2833920"/>
          </a:xfrm>
          <a:prstGeom prst="rect">
            <a:avLst/>
          </a:prstGeom>
          <a:ln w="19080">
            <a:solidFill>
              <a:srgbClr val="ffcc66"/>
            </a:solidFill>
            <a:miter/>
          </a:ln>
        </p:spPr>
      </p:pic>
      <p:sp>
        <p:nvSpPr>
          <p:cNvPr id="865" name=""/>
          <p:cNvSpPr/>
          <p:nvPr/>
        </p:nvSpPr>
        <p:spPr>
          <a:xfrm>
            <a:off x="2535120" y="1778040"/>
            <a:ext cx="72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66"/>
                </a:solidFill>
                <a:latin typeface="Arial"/>
              </a:rPr>
              <a:t>cartil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838600" y="1981080"/>
            <a:ext cx="0" cy="698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64600" y="3554280"/>
            <a:ext cx="52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66"/>
                </a:solidFill>
                <a:latin typeface="Arial"/>
              </a:rPr>
              <a:t>lum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054080" y="2590920"/>
            <a:ext cx="2374920" cy="2158920"/>
          </a:xfrm>
          <a:custGeom>
            <a:avLst/>
            <a:gdLst/>
            <a:ahLst/>
            <a:rect l="l" t="t" r="r" b="b"/>
            <a:pathLst>
              <a:path w="1496" h="1360">
                <a:moveTo>
                  <a:pt x="56" y="1064"/>
                </a:moveTo>
                <a:cubicBezTo>
                  <a:pt x="47" y="1019"/>
                  <a:pt x="48" y="1038"/>
                  <a:pt x="48" y="1008"/>
                </a:cubicBezTo>
                <a:lnTo>
                  <a:pt x="0" y="728"/>
                </a:lnTo>
                <a:lnTo>
                  <a:pt x="16" y="456"/>
                </a:lnTo>
                <a:lnTo>
                  <a:pt x="144" y="240"/>
                </a:lnTo>
                <a:lnTo>
                  <a:pt x="360" y="96"/>
                </a:lnTo>
                <a:lnTo>
                  <a:pt x="504" y="16"/>
                </a:lnTo>
                <a:lnTo>
                  <a:pt x="664" y="0"/>
                </a:lnTo>
                <a:lnTo>
                  <a:pt x="1000" y="24"/>
                </a:lnTo>
                <a:lnTo>
                  <a:pt x="1288" y="128"/>
                </a:lnTo>
                <a:lnTo>
                  <a:pt x="1432" y="280"/>
                </a:lnTo>
                <a:lnTo>
                  <a:pt x="1496" y="512"/>
                </a:lnTo>
                <a:lnTo>
                  <a:pt x="1472" y="816"/>
                </a:lnTo>
                <a:lnTo>
                  <a:pt x="1400" y="968"/>
                </a:lnTo>
                <a:lnTo>
                  <a:pt x="1288" y="1168"/>
                </a:lnTo>
                <a:lnTo>
                  <a:pt x="1120" y="1256"/>
                </a:lnTo>
                <a:lnTo>
                  <a:pt x="904" y="1344"/>
                </a:lnTo>
                <a:lnTo>
                  <a:pt x="728" y="1344"/>
                </a:lnTo>
                <a:lnTo>
                  <a:pt x="616" y="1360"/>
                </a:lnTo>
                <a:lnTo>
                  <a:pt x="552" y="1360"/>
                </a:lnTo>
                <a:lnTo>
                  <a:pt x="504" y="136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43000" y="4280040"/>
            <a:ext cx="673200" cy="469800"/>
          </a:xfrm>
          <a:custGeom>
            <a:avLst/>
            <a:gdLst/>
            <a:ahLst/>
            <a:rect l="l" t="t" r="r" b="b"/>
            <a:pathLst>
              <a:path w="424" h="296">
                <a:moveTo>
                  <a:pt x="0" y="0"/>
                </a:moveTo>
                <a:lnTo>
                  <a:pt x="64" y="48"/>
                </a:lnTo>
                <a:lnTo>
                  <a:pt x="208" y="48"/>
                </a:lnTo>
                <a:lnTo>
                  <a:pt x="304" y="56"/>
                </a:lnTo>
                <a:lnTo>
                  <a:pt x="328" y="136"/>
                </a:lnTo>
                <a:lnTo>
                  <a:pt x="360" y="224"/>
                </a:lnTo>
                <a:lnTo>
                  <a:pt x="424" y="2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115280" y="5376960"/>
            <a:ext cx="104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66"/>
                </a:solidFill>
                <a:latin typeface="Arial"/>
              </a:rPr>
              <a:t>muscle lis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1587600" y="4368600"/>
            <a:ext cx="0" cy="965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837520" y="5087880"/>
            <a:ext cx="87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66"/>
                </a:solidFill>
                <a:latin typeface="Arial"/>
              </a:rPr>
              <a:t>epithéli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36000" y="1927080"/>
            <a:ext cx="1544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66"/>
                </a:solidFill>
                <a:latin typeface="Arial"/>
              </a:rPr>
              <a:t>sous-muqueu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3009960" y="429264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701720" y="2209680"/>
            <a:ext cx="0" cy="698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258720" y="4724280"/>
            <a:ext cx="822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66"/>
                </a:solidFill>
                <a:latin typeface="Arial"/>
              </a:rPr>
              <a:t>advent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3454560" y="4076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666320" y="6221520"/>
            <a:ext cx="32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oupe transversale de trachée de r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2"/>
          <a:stretch/>
        </p:blipFill>
        <p:spPr>
          <a:xfrm>
            <a:off x="4394160" y="2565360"/>
            <a:ext cx="3890880" cy="2921040"/>
          </a:xfrm>
          <a:prstGeom prst="rect">
            <a:avLst/>
          </a:prstGeom>
          <a:ln w="0">
            <a:noFill/>
          </a:ln>
        </p:spPr>
      </p:pic>
      <p:grpSp>
        <p:nvGrpSpPr>
          <p:cNvPr id="880" name=""/>
          <p:cNvGrpSpPr/>
          <p:nvPr/>
        </p:nvGrpSpPr>
        <p:grpSpPr>
          <a:xfrm>
            <a:off x="4707000" y="2633760"/>
            <a:ext cx="652320" cy="241200"/>
            <a:chOff x="4707000" y="2633760"/>
            <a:chExt cx="652320" cy="241200"/>
          </a:xfrm>
        </p:grpSpPr>
        <p:sp>
          <p:nvSpPr>
            <p:cNvPr id="881" name=""/>
            <p:cNvSpPr/>
            <p:nvPr/>
          </p:nvSpPr>
          <p:spPr>
            <a:xfrm>
              <a:off x="4717080" y="2633760"/>
              <a:ext cx="64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66"/>
                  </a:solidFill>
                  <a:latin typeface="Arial"/>
                </a:rPr>
                <a:t>250 µ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707000" y="2873520"/>
              <a:ext cx="63972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4858920" y="3363840"/>
            <a:ext cx="52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66"/>
                </a:solidFill>
                <a:latin typeface="Arial"/>
              </a:rPr>
              <a:t>lum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03880" y="2571840"/>
            <a:ext cx="3876480" cy="2906640"/>
          </a:xfrm>
          <a:prstGeom prst="rect">
            <a:avLst/>
          </a:prstGeom>
          <a:noFill/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3"/>
          <a:stretch/>
        </p:blipFill>
        <p:spPr>
          <a:xfrm>
            <a:off x="4394160" y="2565360"/>
            <a:ext cx="3890880" cy="292104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4717080" y="2633760"/>
            <a:ext cx="642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66"/>
                </a:solidFill>
                <a:latin typeface="Arial"/>
              </a:rPr>
              <a:t>250 µ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707000" y="2873520"/>
            <a:ext cx="639720" cy="144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717080" y="2633760"/>
            <a:ext cx="642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66"/>
                </a:solidFill>
                <a:latin typeface="Arial"/>
              </a:rPr>
              <a:t>250 µ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707000" y="2873520"/>
            <a:ext cx="639720" cy="1440"/>
          </a:xfrm>
          <a:prstGeom prst="line">
            <a:avLst/>
          </a:prstGeom>
          <a:ln w="39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858920" y="3363840"/>
            <a:ext cx="52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66"/>
                </a:solidFill>
                <a:latin typeface="Arial"/>
              </a:rPr>
              <a:t>lum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678080" y="5702400"/>
            <a:ext cx="822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66"/>
                </a:solidFill>
                <a:latin typeface="Arial"/>
              </a:rPr>
              <a:t>advent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741360" y="1846440"/>
            <a:ext cx="104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66"/>
                </a:solidFill>
                <a:latin typeface="Arial"/>
              </a:rPr>
              <a:t>muscle lis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447160" y="1836720"/>
            <a:ext cx="13647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66"/>
                </a:solidFill>
                <a:latin typeface="Arial"/>
              </a:rPr>
              <a:t>epithéli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66"/>
                </a:solidFill>
                <a:latin typeface="Arial"/>
              </a:rPr>
              <a:t>sous-muqueu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03880" y="2571840"/>
            <a:ext cx="3876480" cy="2906640"/>
          </a:xfrm>
          <a:prstGeom prst="rect">
            <a:avLst/>
          </a:prstGeom>
          <a:noFill/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607160" y="4330800"/>
            <a:ext cx="0" cy="1536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715000" y="2832120"/>
            <a:ext cx="2598840" cy="1933560"/>
          </a:xfrm>
          <a:custGeom>
            <a:avLst/>
            <a:gdLst/>
            <a:ahLst/>
            <a:rect l="l" t="t" r="r" b="b"/>
            <a:pathLst>
              <a:path w="1637" h="1218">
                <a:moveTo>
                  <a:pt x="1616" y="56"/>
                </a:moveTo>
                <a:cubicBezTo>
                  <a:pt x="1611" y="48"/>
                  <a:pt x="1607" y="38"/>
                  <a:pt x="1600" y="32"/>
                </a:cubicBezTo>
                <a:cubicBezTo>
                  <a:pt x="1586" y="19"/>
                  <a:pt x="1552" y="0"/>
                  <a:pt x="1552" y="0"/>
                </a:cubicBezTo>
                <a:cubicBezTo>
                  <a:pt x="1429" y="3"/>
                  <a:pt x="1307" y="3"/>
                  <a:pt x="1184" y="8"/>
                </a:cubicBezTo>
                <a:cubicBezTo>
                  <a:pt x="1149" y="9"/>
                  <a:pt x="1113" y="29"/>
                  <a:pt x="1080" y="40"/>
                </a:cubicBezTo>
                <a:cubicBezTo>
                  <a:pt x="1062" y="46"/>
                  <a:pt x="1032" y="72"/>
                  <a:pt x="1032" y="72"/>
                </a:cubicBezTo>
                <a:cubicBezTo>
                  <a:pt x="992" y="133"/>
                  <a:pt x="975" y="160"/>
                  <a:pt x="904" y="184"/>
                </a:cubicBezTo>
                <a:cubicBezTo>
                  <a:pt x="875" y="194"/>
                  <a:pt x="862" y="222"/>
                  <a:pt x="832" y="232"/>
                </a:cubicBezTo>
                <a:cubicBezTo>
                  <a:pt x="827" y="240"/>
                  <a:pt x="823" y="250"/>
                  <a:pt x="816" y="256"/>
                </a:cubicBezTo>
                <a:cubicBezTo>
                  <a:pt x="802" y="269"/>
                  <a:pt x="768" y="288"/>
                  <a:pt x="768" y="288"/>
                </a:cubicBezTo>
                <a:cubicBezTo>
                  <a:pt x="746" y="320"/>
                  <a:pt x="712" y="346"/>
                  <a:pt x="680" y="368"/>
                </a:cubicBezTo>
                <a:cubicBezTo>
                  <a:pt x="661" y="397"/>
                  <a:pt x="644" y="397"/>
                  <a:pt x="616" y="416"/>
                </a:cubicBezTo>
                <a:cubicBezTo>
                  <a:pt x="570" y="485"/>
                  <a:pt x="631" y="404"/>
                  <a:pt x="576" y="448"/>
                </a:cubicBezTo>
                <a:cubicBezTo>
                  <a:pt x="568" y="454"/>
                  <a:pt x="566" y="465"/>
                  <a:pt x="560" y="472"/>
                </a:cubicBezTo>
                <a:cubicBezTo>
                  <a:pt x="553" y="481"/>
                  <a:pt x="545" y="489"/>
                  <a:pt x="536" y="496"/>
                </a:cubicBezTo>
                <a:cubicBezTo>
                  <a:pt x="521" y="508"/>
                  <a:pt x="488" y="528"/>
                  <a:pt x="488" y="528"/>
                </a:cubicBezTo>
                <a:cubicBezTo>
                  <a:pt x="466" y="561"/>
                  <a:pt x="434" y="585"/>
                  <a:pt x="408" y="616"/>
                </a:cubicBezTo>
                <a:cubicBezTo>
                  <a:pt x="390" y="638"/>
                  <a:pt x="389" y="669"/>
                  <a:pt x="368" y="688"/>
                </a:cubicBezTo>
                <a:cubicBezTo>
                  <a:pt x="353" y="701"/>
                  <a:pt x="271" y="760"/>
                  <a:pt x="248" y="768"/>
                </a:cubicBezTo>
                <a:cubicBezTo>
                  <a:pt x="220" y="810"/>
                  <a:pt x="176" y="833"/>
                  <a:pt x="144" y="872"/>
                </a:cubicBezTo>
                <a:cubicBezTo>
                  <a:pt x="138" y="879"/>
                  <a:pt x="135" y="890"/>
                  <a:pt x="128" y="896"/>
                </a:cubicBezTo>
                <a:cubicBezTo>
                  <a:pt x="114" y="909"/>
                  <a:pt x="80" y="928"/>
                  <a:pt x="80" y="928"/>
                </a:cubicBezTo>
                <a:cubicBezTo>
                  <a:pt x="63" y="954"/>
                  <a:pt x="26" y="991"/>
                  <a:pt x="0" y="1008"/>
                </a:cubicBezTo>
                <a:cubicBezTo>
                  <a:pt x="30" y="1053"/>
                  <a:pt x="52" y="1031"/>
                  <a:pt x="96" y="1016"/>
                </a:cubicBezTo>
                <a:cubicBezTo>
                  <a:pt x="117" y="984"/>
                  <a:pt x="149" y="968"/>
                  <a:pt x="184" y="952"/>
                </a:cubicBezTo>
                <a:cubicBezTo>
                  <a:pt x="207" y="942"/>
                  <a:pt x="235" y="942"/>
                  <a:pt x="256" y="928"/>
                </a:cubicBezTo>
                <a:cubicBezTo>
                  <a:pt x="287" y="907"/>
                  <a:pt x="271" y="915"/>
                  <a:pt x="304" y="904"/>
                </a:cubicBezTo>
                <a:cubicBezTo>
                  <a:pt x="317" y="907"/>
                  <a:pt x="337" y="900"/>
                  <a:pt x="344" y="912"/>
                </a:cubicBezTo>
                <a:cubicBezTo>
                  <a:pt x="350" y="922"/>
                  <a:pt x="333" y="968"/>
                  <a:pt x="328" y="984"/>
                </a:cubicBezTo>
                <a:cubicBezTo>
                  <a:pt x="331" y="1008"/>
                  <a:pt x="334" y="1032"/>
                  <a:pt x="336" y="1056"/>
                </a:cubicBezTo>
                <a:cubicBezTo>
                  <a:pt x="347" y="1200"/>
                  <a:pt x="306" y="1218"/>
                  <a:pt x="368" y="1176"/>
                </a:cubicBezTo>
                <a:cubicBezTo>
                  <a:pt x="385" y="1125"/>
                  <a:pt x="370" y="1065"/>
                  <a:pt x="392" y="1016"/>
                </a:cubicBezTo>
                <a:cubicBezTo>
                  <a:pt x="410" y="976"/>
                  <a:pt x="445" y="958"/>
                  <a:pt x="464" y="920"/>
                </a:cubicBezTo>
                <a:cubicBezTo>
                  <a:pt x="485" y="879"/>
                  <a:pt x="488" y="834"/>
                  <a:pt x="528" y="808"/>
                </a:cubicBezTo>
                <a:cubicBezTo>
                  <a:pt x="557" y="764"/>
                  <a:pt x="605" y="773"/>
                  <a:pt x="648" y="744"/>
                </a:cubicBezTo>
                <a:cubicBezTo>
                  <a:pt x="662" y="703"/>
                  <a:pt x="693" y="679"/>
                  <a:pt x="728" y="656"/>
                </a:cubicBezTo>
                <a:cubicBezTo>
                  <a:pt x="755" y="616"/>
                  <a:pt x="768" y="594"/>
                  <a:pt x="808" y="568"/>
                </a:cubicBezTo>
                <a:cubicBezTo>
                  <a:pt x="827" y="540"/>
                  <a:pt x="852" y="530"/>
                  <a:pt x="872" y="504"/>
                </a:cubicBezTo>
                <a:cubicBezTo>
                  <a:pt x="917" y="446"/>
                  <a:pt x="882" y="463"/>
                  <a:pt x="928" y="448"/>
                </a:cubicBezTo>
                <a:cubicBezTo>
                  <a:pt x="918" y="478"/>
                  <a:pt x="898" y="485"/>
                  <a:pt x="880" y="512"/>
                </a:cubicBezTo>
                <a:cubicBezTo>
                  <a:pt x="898" y="518"/>
                  <a:pt x="922" y="514"/>
                  <a:pt x="936" y="528"/>
                </a:cubicBezTo>
                <a:cubicBezTo>
                  <a:pt x="991" y="583"/>
                  <a:pt x="891" y="540"/>
                  <a:pt x="968" y="584"/>
                </a:cubicBezTo>
                <a:cubicBezTo>
                  <a:pt x="992" y="598"/>
                  <a:pt x="1022" y="599"/>
                  <a:pt x="1048" y="608"/>
                </a:cubicBezTo>
                <a:cubicBezTo>
                  <a:pt x="1100" y="625"/>
                  <a:pt x="1146" y="640"/>
                  <a:pt x="1200" y="648"/>
                </a:cubicBezTo>
                <a:cubicBezTo>
                  <a:pt x="1246" y="678"/>
                  <a:pt x="1207" y="688"/>
                  <a:pt x="1256" y="704"/>
                </a:cubicBezTo>
                <a:cubicBezTo>
                  <a:pt x="1283" y="701"/>
                  <a:pt x="1311" y="705"/>
                  <a:pt x="1336" y="696"/>
                </a:cubicBezTo>
                <a:cubicBezTo>
                  <a:pt x="1344" y="693"/>
                  <a:pt x="1336" y="673"/>
                  <a:pt x="1344" y="672"/>
                </a:cubicBezTo>
                <a:cubicBezTo>
                  <a:pt x="1361" y="670"/>
                  <a:pt x="1376" y="683"/>
                  <a:pt x="1392" y="688"/>
                </a:cubicBezTo>
                <a:cubicBezTo>
                  <a:pt x="1410" y="694"/>
                  <a:pt x="1429" y="693"/>
                  <a:pt x="1448" y="696"/>
                </a:cubicBezTo>
                <a:cubicBezTo>
                  <a:pt x="1499" y="730"/>
                  <a:pt x="1559" y="710"/>
                  <a:pt x="1616" y="696"/>
                </a:cubicBezTo>
                <a:cubicBezTo>
                  <a:pt x="1625" y="131"/>
                  <a:pt x="1637" y="344"/>
                  <a:pt x="1616" y="56"/>
                </a:cubicBezTo>
                <a:close/>
              </a:path>
            </a:pathLst>
          </a:custGeom>
          <a:solidFill>
            <a:srgbClr val="ff33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69360" y="208296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394160" y="4127400"/>
            <a:ext cx="1854360" cy="863640"/>
          </a:xfrm>
          <a:custGeom>
            <a:avLst/>
            <a:gdLst/>
            <a:ahLst/>
            <a:rect l="l" t="t" r="r" b="b"/>
            <a:pathLst>
              <a:path w="1168" h="544">
                <a:moveTo>
                  <a:pt x="0" y="0"/>
                </a:moveTo>
                <a:lnTo>
                  <a:pt x="80" y="88"/>
                </a:lnTo>
                <a:lnTo>
                  <a:pt x="208" y="144"/>
                </a:lnTo>
                <a:lnTo>
                  <a:pt x="360" y="168"/>
                </a:lnTo>
                <a:lnTo>
                  <a:pt x="512" y="208"/>
                </a:lnTo>
                <a:lnTo>
                  <a:pt x="704" y="240"/>
                </a:lnTo>
                <a:lnTo>
                  <a:pt x="816" y="208"/>
                </a:lnTo>
                <a:lnTo>
                  <a:pt x="888" y="216"/>
                </a:lnTo>
                <a:lnTo>
                  <a:pt x="968" y="184"/>
                </a:lnTo>
                <a:lnTo>
                  <a:pt x="1048" y="136"/>
                </a:lnTo>
                <a:lnTo>
                  <a:pt x="1120" y="96"/>
                </a:lnTo>
                <a:lnTo>
                  <a:pt x="1168" y="88"/>
                </a:lnTo>
                <a:lnTo>
                  <a:pt x="1168" y="144"/>
                </a:lnTo>
                <a:lnTo>
                  <a:pt x="1168" y="240"/>
                </a:lnTo>
                <a:lnTo>
                  <a:pt x="1168" y="328"/>
                </a:lnTo>
                <a:lnTo>
                  <a:pt x="1152" y="376"/>
                </a:lnTo>
                <a:lnTo>
                  <a:pt x="1080" y="424"/>
                </a:lnTo>
                <a:lnTo>
                  <a:pt x="1016" y="480"/>
                </a:lnTo>
                <a:lnTo>
                  <a:pt x="960" y="496"/>
                </a:lnTo>
                <a:lnTo>
                  <a:pt x="864" y="496"/>
                </a:lnTo>
                <a:lnTo>
                  <a:pt x="784" y="544"/>
                </a:lnTo>
                <a:lnTo>
                  <a:pt x="672" y="536"/>
                </a:lnTo>
                <a:lnTo>
                  <a:pt x="616" y="504"/>
                </a:lnTo>
                <a:lnTo>
                  <a:pt x="488" y="512"/>
                </a:lnTo>
                <a:lnTo>
                  <a:pt x="424" y="480"/>
                </a:lnTo>
                <a:lnTo>
                  <a:pt x="328" y="480"/>
                </a:lnTo>
                <a:lnTo>
                  <a:pt x="240" y="440"/>
                </a:lnTo>
                <a:lnTo>
                  <a:pt x="144" y="400"/>
                </a:lnTo>
                <a:lnTo>
                  <a:pt x="96" y="392"/>
                </a:lnTo>
                <a:lnTo>
                  <a:pt x="0" y="368"/>
                </a:lnTo>
              </a:path>
            </a:pathLst>
          </a:custGeom>
          <a:solidFill>
            <a:srgbClr val="000066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897080" y="5905440"/>
            <a:ext cx="72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66"/>
                </a:solidFill>
                <a:latin typeface="Arial"/>
              </a:rPr>
              <a:t>cartil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5156280" y="4698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406760" y="2590920"/>
            <a:ext cx="2692440" cy="1828800"/>
          </a:xfrm>
          <a:custGeom>
            <a:avLst/>
            <a:gdLst/>
            <a:ahLst/>
            <a:rect l="l" t="t" r="r" b="b"/>
            <a:pathLst>
              <a:path w="1696" h="1152">
                <a:moveTo>
                  <a:pt x="0" y="832"/>
                </a:moveTo>
                <a:cubicBezTo>
                  <a:pt x="51" y="866"/>
                  <a:pt x="59" y="870"/>
                  <a:pt x="120" y="880"/>
                </a:cubicBezTo>
                <a:cubicBezTo>
                  <a:pt x="136" y="904"/>
                  <a:pt x="152" y="928"/>
                  <a:pt x="168" y="952"/>
                </a:cubicBezTo>
                <a:cubicBezTo>
                  <a:pt x="185" y="977"/>
                  <a:pt x="165" y="978"/>
                  <a:pt x="192" y="1000"/>
                </a:cubicBezTo>
                <a:cubicBezTo>
                  <a:pt x="199" y="1005"/>
                  <a:pt x="208" y="1005"/>
                  <a:pt x="216" y="1008"/>
                </a:cubicBezTo>
                <a:cubicBezTo>
                  <a:pt x="295" y="982"/>
                  <a:pt x="336" y="1011"/>
                  <a:pt x="400" y="1032"/>
                </a:cubicBezTo>
                <a:cubicBezTo>
                  <a:pt x="440" y="1152"/>
                  <a:pt x="707" y="1065"/>
                  <a:pt x="744" y="1064"/>
                </a:cubicBezTo>
                <a:cubicBezTo>
                  <a:pt x="776" y="1053"/>
                  <a:pt x="778" y="1031"/>
                  <a:pt x="808" y="1016"/>
                </a:cubicBezTo>
                <a:cubicBezTo>
                  <a:pt x="842" y="999"/>
                  <a:pt x="874" y="985"/>
                  <a:pt x="912" y="976"/>
                </a:cubicBezTo>
                <a:cubicBezTo>
                  <a:pt x="924" y="927"/>
                  <a:pt x="959" y="884"/>
                  <a:pt x="1000" y="856"/>
                </a:cubicBezTo>
                <a:cubicBezTo>
                  <a:pt x="1010" y="841"/>
                  <a:pt x="1013" y="822"/>
                  <a:pt x="1024" y="808"/>
                </a:cubicBezTo>
                <a:cubicBezTo>
                  <a:pt x="1030" y="800"/>
                  <a:pt x="1041" y="798"/>
                  <a:pt x="1048" y="792"/>
                </a:cubicBezTo>
                <a:cubicBezTo>
                  <a:pt x="1057" y="785"/>
                  <a:pt x="1065" y="777"/>
                  <a:pt x="1072" y="768"/>
                </a:cubicBezTo>
                <a:cubicBezTo>
                  <a:pt x="1072" y="768"/>
                  <a:pt x="1112" y="708"/>
                  <a:pt x="1120" y="696"/>
                </a:cubicBezTo>
                <a:cubicBezTo>
                  <a:pt x="1125" y="688"/>
                  <a:pt x="1195" y="681"/>
                  <a:pt x="1200" y="680"/>
                </a:cubicBezTo>
                <a:cubicBezTo>
                  <a:pt x="1207" y="618"/>
                  <a:pt x="1203" y="579"/>
                  <a:pt x="1256" y="544"/>
                </a:cubicBezTo>
                <a:cubicBezTo>
                  <a:pt x="1296" y="484"/>
                  <a:pt x="1286" y="484"/>
                  <a:pt x="1360" y="472"/>
                </a:cubicBezTo>
                <a:cubicBezTo>
                  <a:pt x="1365" y="456"/>
                  <a:pt x="1371" y="440"/>
                  <a:pt x="1376" y="424"/>
                </a:cubicBezTo>
                <a:cubicBezTo>
                  <a:pt x="1379" y="416"/>
                  <a:pt x="1384" y="400"/>
                  <a:pt x="1384" y="400"/>
                </a:cubicBezTo>
                <a:cubicBezTo>
                  <a:pt x="1387" y="354"/>
                  <a:pt x="1375" y="302"/>
                  <a:pt x="1400" y="264"/>
                </a:cubicBezTo>
                <a:cubicBezTo>
                  <a:pt x="1435" y="211"/>
                  <a:pt x="1414" y="268"/>
                  <a:pt x="1440" y="216"/>
                </a:cubicBezTo>
                <a:cubicBezTo>
                  <a:pt x="1462" y="172"/>
                  <a:pt x="1452" y="122"/>
                  <a:pt x="1504" y="96"/>
                </a:cubicBezTo>
                <a:cubicBezTo>
                  <a:pt x="1544" y="76"/>
                  <a:pt x="1644" y="81"/>
                  <a:pt x="1656" y="80"/>
                </a:cubicBezTo>
                <a:cubicBezTo>
                  <a:pt x="1668" y="45"/>
                  <a:pt x="1671" y="25"/>
                  <a:pt x="169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413400" y="2298600"/>
            <a:ext cx="0" cy="138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901800" y="4025880"/>
            <a:ext cx="1168200" cy="977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440" y="127080"/>
            <a:ext cx="34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495400" y="1144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7200" y="695160"/>
            <a:ext cx="315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arbre bronch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597640" y="725400"/>
            <a:ext cx="25336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traché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1582560" y="1820880"/>
            <a:ext cx="6129360" cy="404820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3467160" y="1820880"/>
            <a:ext cx="0" cy="1477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920320" y="14842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bron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791320" y="4487760"/>
            <a:ext cx="0" cy="10591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788080" y="5370480"/>
            <a:ext cx="20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artère pulmon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362560" y="1652760"/>
            <a:ext cx="87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alvé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727600" y="1986120"/>
            <a:ext cx="0" cy="1477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440" y="127080"/>
            <a:ext cx="34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95400" y="1144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87200" y="695160"/>
            <a:ext cx="315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arbre bronch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597640" y="725400"/>
            <a:ext cx="3105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bronches et bronchio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73240" y="10969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hist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965160" y="2222640"/>
            <a:ext cx="5816520" cy="247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1069920" y="2425680"/>
            <a:ext cx="5572080" cy="220824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 flipV="1">
            <a:off x="3517920" y="4444920"/>
            <a:ext cx="0" cy="13464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428920" y="581328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bronchiole interlob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540400" y="182556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bronchiole intralob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2320" y="2400480"/>
            <a:ext cx="2311200" cy="20700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842080" y="2793960"/>
            <a:ext cx="774720" cy="8510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210360" y="2146320"/>
            <a:ext cx="0" cy="6476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220560" y="3274920"/>
            <a:ext cx="56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990000"/>
                </a:solidFill>
                <a:latin typeface="Arial"/>
              </a:rPr>
              <a:t>lum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671640" y="1795320"/>
            <a:ext cx="120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muscle l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987720" y="2031840"/>
            <a:ext cx="0" cy="10162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499840" y="472428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cartil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819520" y="4038480"/>
            <a:ext cx="0" cy="6480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504080" y="21938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rt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860480" y="2540160"/>
            <a:ext cx="0" cy="96516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691520" y="47847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ve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5041800" y="3720600"/>
            <a:ext cx="0" cy="104148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660360" y="37814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alvé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5778360" y="3949560"/>
            <a:ext cx="8892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404440" y="1684440"/>
            <a:ext cx="101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epithél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11480" y="1955880"/>
            <a:ext cx="0" cy="11556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9440" y="127080"/>
            <a:ext cx="34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495400" y="1144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87200" y="695160"/>
            <a:ext cx="315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arbre bronch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597640" y="725400"/>
            <a:ext cx="3105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bronches et bronchio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73240" y="10969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hist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758880" y="1547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rebuchet MS"/>
              </a:rPr>
              <a:t>cellules cili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200 cils par cellule 6-7 µm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attements : 10-20 H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se active brève vers l’am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se longue de re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rebuchet MS"/>
              </a:rPr>
              <a:t>cellules productrices de m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cus : eau (95 %), mucines (glycoprotéines), antiproté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2139840" y="4065480"/>
            <a:ext cx="4341960" cy="2225880"/>
          </a:xfrm>
          <a:prstGeom prst="rect">
            <a:avLst/>
          </a:prstGeom>
          <a:ln w="0">
            <a:noFill/>
          </a:ln>
        </p:spPr>
      </p:pic>
      <p:sp>
        <p:nvSpPr>
          <p:cNvPr id="951" name=""/>
          <p:cNvSpPr/>
          <p:nvPr/>
        </p:nvSpPr>
        <p:spPr>
          <a:xfrm>
            <a:off x="353520" y="1101600"/>
            <a:ext cx="5564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’épithélium bronchique : la clairance muco-ciliai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9440" y="127080"/>
            <a:ext cx="34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495400" y="1144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87200" y="695160"/>
            <a:ext cx="315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arbre bronch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597640" y="725400"/>
            <a:ext cx="3105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bronches et bronchio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758880" y="1547640"/>
            <a:ext cx="770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rebuchet MS"/>
              </a:rPr>
              <a:t>cellules cili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200 cils par cellule 6-7 µm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attements : 10-20 H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se active brève vers l’am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se longue de re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rebuchet MS"/>
              </a:rPr>
              <a:t>cellules productrices de m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cus : eau (95 %), mucines (glycoprotéines), antiproté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se gel (0,5 – 2 µm) visco-élastique : partie apicale des c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ransportée par les battements des c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ransport du mucus (5-10 mm/min) : escalator muco-cili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se sol (6 µm) très liquide : zone dans laquelle battent les c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ransportée par les battements des c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degré d’hydratation</a:t>
            </a:r>
            <a:r>
              <a:rPr b="0" i="1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 fluidité du mucus = efficacité de la clai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53520" y="1089000"/>
            <a:ext cx="5564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’épithélium bronchique : la clairance muco-ciliai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9440" y="127080"/>
            <a:ext cx="34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495400" y="1144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7200" y="695160"/>
            <a:ext cx="315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arbre bronch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597640" y="725400"/>
            <a:ext cx="3105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bronches et bronchio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415800" y="1247760"/>
            <a:ext cx="2700360" cy="538164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2595240" y="171144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bronchio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respirato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811960" y="305748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a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963520" y="443700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tr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231000" y="54957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a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104120" y="63975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alvé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37824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2272680" y="1257480"/>
            <a:ext cx="330120" cy="1434960"/>
          </a:xfrm>
          <a:custGeom>
            <a:avLst/>
            <a:gdLst/>
            <a:ahLst/>
            <a:rect l="l" t="t" r="r" b="b"/>
            <a:pathLst>
              <a:path w="208" h="904">
                <a:moveTo>
                  <a:pt x="200" y="0"/>
                </a:moveTo>
                <a:lnTo>
                  <a:pt x="0" y="0"/>
                </a:lnTo>
                <a:lnTo>
                  <a:pt x="0" y="904"/>
                </a:lnTo>
                <a:lnTo>
                  <a:pt x="208" y="904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438280" y="2730600"/>
            <a:ext cx="330480" cy="1434960"/>
          </a:xfrm>
          <a:custGeom>
            <a:avLst/>
            <a:gdLst/>
            <a:ahLst/>
            <a:rect l="l" t="t" r="r" b="b"/>
            <a:pathLst>
              <a:path w="208" h="904">
                <a:moveTo>
                  <a:pt x="200" y="0"/>
                </a:moveTo>
                <a:lnTo>
                  <a:pt x="0" y="0"/>
                </a:lnTo>
                <a:lnTo>
                  <a:pt x="0" y="904"/>
                </a:lnTo>
                <a:lnTo>
                  <a:pt x="208" y="904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2590200" y="4216320"/>
            <a:ext cx="330120" cy="774720"/>
          </a:xfrm>
          <a:custGeom>
            <a:avLst/>
            <a:gdLst/>
            <a:ahLst/>
            <a:rect l="l" t="t" r="r" b="b"/>
            <a:pathLst>
              <a:path w="208" h="904">
                <a:moveTo>
                  <a:pt x="200" y="0"/>
                </a:moveTo>
                <a:lnTo>
                  <a:pt x="0" y="0"/>
                </a:lnTo>
                <a:lnTo>
                  <a:pt x="0" y="904"/>
                </a:lnTo>
                <a:lnTo>
                  <a:pt x="208" y="904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2755800" y="5054760"/>
            <a:ext cx="330480" cy="1549080"/>
          </a:xfrm>
          <a:custGeom>
            <a:avLst/>
            <a:gdLst/>
            <a:ahLst/>
            <a:rect l="l" t="t" r="r" b="b"/>
            <a:pathLst>
              <a:path w="208" h="904">
                <a:moveTo>
                  <a:pt x="200" y="0"/>
                </a:moveTo>
                <a:lnTo>
                  <a:pt x="0" y="0"/>
                </a:lnTo>
                <a:lnTo>
                  <a:pt x="0" y="904"/>
                </a:lnTo>
                <a:lnTo>
                  <a:pt x="208" y="904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1638360" y="6006960"/>
            <a:ext cx="203040" cy="393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1384200" y="5994360"/>
            <a:ext cx="1396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-26280" y="238428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alvé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723960" y="2260080"/>
            <a:ext cx="164880" cy="1400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6120" y="2730600"/>
            <a:ext cx="368280" cy="330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381560" y="1333440"/>
            <a:ext cx="0" cy="5041800"/>
          </a:xfrm>
          <a:prstGeom prst="line">
            <a:avLst/>
          </a:prstGeom>
          <a:ln w="19080">
            <a:solidFill>
              <a:srgbClr val="99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16200000">
            <a:off x="3396960" y="3661920"/>
            <a:ext cx="1936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</a:rPr>
              <a:t>quelques millimè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5418000" y="1582560"/>
            <a:ext cx="3001320" cy="3191760"/>
            <a:chOff x="5418000" y="1582560"/>
            <a:chExt cx="3001320" cy="3191760"/>
          </a:xfrm>
        </p:grpSpPr>
        <p:sp>
          <p:nvSpPr>
            <p:cNvPr id="983" name=""/>
            <p:cNvSpPr/>
            <p:nvPr/>
          </p:nvSpPr>
          <p:spPr>
            <a:xfrm>
              <a:off x="6147720" y="4254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544800" y="4254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922440" y="4254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320600" y="4254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719120" y="4254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954040" y="3855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93840" y="3402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93840" y="2946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93840" y="24908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793840" y="2036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793840" y="15825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6208560" y="4174920"/>
              <a:ext cx="0" cy="3636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6407280" y="4175280"/>
              <a:ext cx="1440" cy="18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6605640" y="4174920"/>
              <a:ext cx="1440" cy="3636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805440" y="4175280"/>
              <a:ext cx="0" cy="18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7004160" y="4174920"/>
              <a:ext cx="1440" cy="3636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7203960" y="4175280"/>
              <a:ext cx="0" cy="18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7402680" y="4174920"/>
              <a:ext cx="1440" cy="3636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7601040" y="4175280"/>
              <a:ext cx="1440" cy="18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799400" y="4174920"/>
              <a:ext cx="1440" cy="3636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202440" y="4175280"/>
              <a:ext cx="1584360" cy="144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093000" y="3948120"/>
              <a:ext cx="34920" cy="144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110280" y="3720960"/>
              <a:ext cx="17640" cy="180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93000" y="3494160"/>
              <a:ext cx="3492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110280" y="3265560"/>
              <a:ext cx="17640" cy="144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093000" y="3038400"/>
              <a:ext cx="3492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110280" y="2811600"/>
              <a:ext cx="17640" cy="144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093000" y="2583000"/>
              <a:ext cx="34920" cy="144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110280" y="2355840"/>
              <a:ext cx="17640" cy="144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3000" y="2127240"/>
              <a:ext cx="34920" cy="144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10280" y="1901880"/>
              <a:ext cx="176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93000" y="1674720"/>
              <a:ext cx="3492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6127920" y="1674360"/>
              <a:ext cx="1440" cy="22813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257880" y="3882960"/>
              <a:ext cx="58680" cy="586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338880" y="3879720"/>
              <a:ext cx="58680" cy="5904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418440" y="3879720"/>
              <a:ext cx="58680" cy="5904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97640" y="3875040"/>
              <a:ext cx="58680" cy="604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76840" y="3871800"/>
              <a:ext cx="59040" cy="604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656400" y="3871800"/>
              <a:ext cx="58680" cy="604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735600" y="3863880"/>
              <a:ext cx="59040" cy="604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16600" y="3854520"/>
              <a:ext cx="59040" cy="6012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894360" y="3846600"/>
              <a:ext cx="60480" cy="586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975360" y="3827520"/>
              <a:ext cx="58680" cy="586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053120" y="3808440"/>
              <a:ext cx="60480" cy="6012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134120" y="3781440"/>
              <a:ext cx="58680" cy="604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213680" y="3730680"/>
              <a:ext cx="60120" cy="6012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292880" y="3639960"/>
              <a:ext cx="58680" cy="604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372440" y="3510000"/>
              <a:ext cx="60120" cy="586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451640" y="3216240"/>
              <a:ext cx="60480" cy="586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531200" y="2554200"/>
              <a:ext cx="60120" cy="58680"/>
            </a:xfrm>
            <a:prstGeom prst="ellipse">
              <a:avLst/>
            </a:prstGeom>
            <a:solidFill>
              <a:srgbClr val="990000"/>
            </a:solidFill>
            <a:ln w="11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286680" y="1674720"/>
              <a:ext cx="1353960" cy="2222640"/>
            </a:xfrm>
            <a:custGeom>
              <a:avLst/>
              <a:gdLst/>
              <a:ahLst/>
              <a:rect l="l" t="t" r="r" b="b"/>
              <a:pathLst>
                <a:path w="2434" h="4004">
                  <a:moveTo>
                    <a:pt x="0" y="4004"/>
                  </a:moveTo>
                  <a:lnTo>
                    <a:pt x="43" y="4004"/>
                  </a:lnTo>
                  <a:lnTo>
                    <a:pt x="87" y="4004"/>
                  </a:lnTo>
                  <a:lnTo>
                    <a:pt x="131" y="4004"/>
                  </a:lnTo>
                  <a:lnTo>
                    <a:pt x="175" y="4004"/>
                  </a:lnTo>
                  <a:lnTo>
                    <a:pt x="219" y="4004"/>
                  </a:lnTo>
                  <a:lnTo>
                    <a:pt x="263" y="4002"/>
                  </a:lnTo>
                  <a:lnTo>
                    <a:pt x="307" y="4002"/>
                  </a:lnTo>
                  <a:lnTo>
                    <a:pt x="350" y="4002"/>
                  </a:lnTo>
                  <a:lnTo>
                    <a:pt x="394" y="4002"/>
                  </a:lnTo>
                  <a:lnTo>
                    <a:pt x="438" y="4002"/>
                  </a:lnTo>
                  <a:lnTo>
                    <a:pt x="482" y="4002"/>
                  </a:lnTo>
                  <a:lnTo>
                    <a:pt x="526" y="4002"/>
                  </a:lnTo>
                  <a:lnTo>
                    <a:pt x="570" y="4002"/>
                  </a:lnTo>
                  <a:lnTo>
                    <a:pt x="612" y="4000"/>
                  </a:lnTo>
                  <a:lnTo>
                    <a:pt x="655" y="4000"/>
                  </a:lnTo>
                  <a:lnTo>
                    <a:pt x="699" y="4000"/>
                  </a:lnTo>
                  <a:lnTo>
                    <a:pt x="743" y="3998"/>
                  </a:lnTo>
                  <a:lnTo>
                    <a:pt x="787" y="3998"/>
                  </a:lnTo>
                  <a:lnTo>
                    <a:pt x="831" y="3996"/>
                  </a:lnTo>
                  <a:lnTo>
                    <a:pt x="875" y="3996"/>
                  </a:lnTo>
                  <a:lnTo>
                    <a:pt x="919" y="3994"/>
                  </a:lnTo>
                  <a:lnTo>
                    <a:pt x="962" y="3992"/>
                  </a:lnTo>
                  <a:lnTo>
                    <a:pt x="1006" y="3990"/>
                  </a:lnTo>
                  <a:lnTo>
                    <a:pt x="1050" y="3988"/>
                  </a:lnTo>
                  <a:lnTo>
                    <a:pt x="1094" y="3985"/>
                  </a:lnTo>
                  <a:lnTo>
                    <a:pt x="1138" y="3981"/>
                  </a:lnTo>
                  <a:lnTo>
                    <a:pt x="1182" y="3977"/>
                  </a:lnTo>
                  <a:lnTo>
                    <a:pt x="1225" y="3973"/>
                  </a:lnTo>
                  <a:lnTo>
                    <a:pt x="1269" y="3967"/>
                  </a:lnTo>
                  <a:lnTo>
                    <a:pt x="1311" y="3960"/>
                  </a:lnTo>
                  <a:lnTo>
                    <a:pt x="1355" y="3952"/>
                  </a:lnTo>
                  <a:lnTo>
                    <a:pt x="1399" y="3941"/>
                  </a:lnTo>
                  <a:lnTo>
                    <a:pt x="1443" y="3929"/>
                  </a:lnTo>
                  <a:lnTo>
                    <a:pt x="1487" y="3916"/>
                  </a:lnTo>
                  <a:lnTo>
                    <a:pt x="1530" y="3899"/>
                  </a:lnTo>
                  <a:lnTo>
                    <a:pt x="1574" y="3880"/>
                  </a:lnTo>
                  <a:lnTo>
                    <a:pt x="1618" y="3855"/>
                  </a:lnTo>
                  <a:lnTo>
                    <a:pt x="1662" y="3828"/>
                  </a:lnTo>
                  <a:lnTo>
                    <a:pt x="1706" y="3794"/>
                  </a:lnTo>
                  <a:lnTo>
                    <a:pt x="1750" y="3754"/>
                  </a:lnTo>
                  <a:lnTo>
                    <a:pt x="1794" y="3706"/>
                  </a:lnTo>
                  <a:lnTo>
                    <a:pt x="1837" y="3649"/>
                  </a:lnTo>
                  <a:lnTo>
                    <a:pt x="1881" y="3582"/>
                  </a:lnTo>
                  <a:lnTo>
                    <a:pt x="1925" y="3500"/>
                  </a:lnTo>
                  <a:lnTo>
                    <a:pt x="1969" y="3403"/>
                  </a:lnTo>
                  <a:lnTo>
                    <a:pt x="2011" y="3289"/>
                  </a:lnTo>
                  <a:lnTo>
                    <a:pt x="2055" y="3150"/>
                  </a:lnTo>
                  <a:lnTo>
                    <a:pt x="2099" y="2986"/>
                  </a:lnTo>
                  <a:lnTo>
                    <a:pt x="2142" y="2787"/>
                  </a:lnTo>
                  <a:lnTo>
                    <a:pt x="2186" y="2551"/>
                  </a:lnTo>
                  <a:lnTo>
                    <a:pt x="2230" y="2267"/>
                  </a:lnTo>
                  <a:lnTo>
                    <a:pt x="2274" y="1929"/>
                  </a:lnTo>
                  <a:lnTo>
                    <a:pt x="2318" y="1523"/>
                  </a:lnTo>
                  <a:lnTo>
                    <a:pt x="2362" y="1037"/>
                  </a:lnTo>
                  <a:lnTo>
                    <a:pt x="2406" y="456"/>
                  </a:lnTo>
                  <a:lnTo>
                    <a:pt x="2434" y="0"/>
                  </a:lnTo>
                </a:path>
              </a:pathLst>
            </a:custGeom>
            <a:noFill/>
            <a:ln w="4680">
              <a:solidFill>
                <a:srgbClr val="99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6200000">
              <a:off x="4278600" y="282708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surface totale de section (cm</a:t>
              </a:r>
              <a:r>
                <a:rPr b="0" lang="fr-FR" sz="1400" spc="-1" strike="noStrike" baseline="30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756040" y="4467240"/>
              <a:ext cx="266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génération des voies aérien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7556400" y="1130400"/>
            <a:ext cx="1130400" cy="2954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026320" y="4811760"/>
            <a:ext cx="338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urface cumulée : très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zone de diffusion des ga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dépôt de partic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8255160" y="4076640"/>
            <a:ext cx="177480" cy="965160"/>
          </a:xfrm>
          <a:custGeom>
            <a:avLst/>
            <a:gdLst/>
            <a:ahLst/>
            <a:rect l="l" t="t" r="r" b="b"/>
            <a:pathLst>
              <a:path w="112" h="776">
                <a:moveTo>
                  <a:pt x="112" y="0"/>
                </a:moveTo>
                <a:lnTo>
                  <a:pt x="112" y="776"/>
                </a:lnTo>
                <a:lnTo>
                  <a:pt x="0" y="776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608360" y="5535720"/>
            <a:ext cx="31784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olume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lvéolaire total : 3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9440" y="127080"/>
            <a:ext cx="34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495400" y="1144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87200" y="695160"/>
            <a:ext cx="315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arbre bronch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197160" y="725400"/>
            <a:ext cx="5975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bronches respiratoires, canal alvéolaire et alvéo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39840" y="936720"/>
            <a:ext cx="846432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le problème de l’oxygène (et du dioxyde de carb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Quel problème pose l’oxygène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pport d’oxygène au niveau des cellules suffisant pour permettre  la production d’énergie nécessaire à la couverture des beso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quel problème pose de dioxyde de carbon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élimination par l’organisme du C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produit par la respiration cell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iffusion des gaz entre le milieu extérieur et le milieu intéri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iffusion des gaz dans le milieu intéri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ileu extérieur : gazeux (vie aérienne)  aqueux (vie aquat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ilieu intérieur : aqu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9360" y="127080"/>
            <a:ext cx="343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osition du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02240" y="11448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nalyse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723960" y="1282680"/>
            <a:ext cx="4051080" cy="1803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1"/>
          <a:stretch/>
        </p:blipFill>
        <p:spPr>
          <a:xfrm>
            <a:off x="739800" y="1447920"/>
            <a:ext cx="3905280" cy="154764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3772080" y="2489040"/>
            <a:ext cx="545760" cy="29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286160" y="3703680"/>
            <a:ext cx="4388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neumocytes de types II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duction de surfactant (lipoprotéi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neumocytes de type I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changes gaze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rapport surface pulmonaire / surfac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587920" y="199224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épithélium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936960" y="2781360"/>
            <a:ext cx="0" cy="546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2"/>
          <a:stretch/>
        </p:blipFill>
        <p:spPr>
          <a:xfrm>
            <a:off x="938160" y="3343320"/>
            <a:ext cx="3125880" cy="2933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052" name=""/>
          <p:cNvSpPr/>
          <p:nvPr/>
        </p:nvSpPr>
        <p:spPr>
          <a:xfrm>
            <a:off x="3272400" y="349092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l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64080" y="58276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l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2374920" y="3911760"/>
            <a:ext cx="19051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3352680" y="5270400"/>
            <a:ext cx="952560" cy="4446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960800" y="451944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macroph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2793600" y="4724280"/>
            <a:ext cx="2133720" cy="12708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9440" y="127080"/>
            <a:ext cx="34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495400" y="1144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87200" y="695160"/>
            <a:ext cx="315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arbre bronch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724360" y="725400"/>
            <a:ext cx="2610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paroi alvéolai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938160" y="3343320"/>
            <a:ext cx="3125880" cy="2933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064" name=""/>
          <p:cNvSpPr/>
          <p:nvPr/>
        </p:nvSpPr>
        <p:spPr>
          <a:xfrm>
            <a:off x="3262680" y="34909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l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964080" y="58276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l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571000" y="5415120"/>
            <a:ext cx="22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surface pulmonaire (m</a:t>
            </a:r>
            <a:r>
              <a:rPr b="1" lang="en-US" sz="1400" spc="-1" strike="noStrike" baseline="30000">
                <a:solidFill>
                  <a:srgbClr val="99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448240" y="2319480"/>
            <a:ext cx="3003480" cy="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448240" y="2773440"/>
            <a:ext cx="3003480" cy="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448240" y="3236760"/>
            <a:ext cx="3003480" cy="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448240" y="3713040"/>
            <a:ext cx="3003480" cy="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448240" y="4183200"/>
            <a:ext cx="3003480" cy="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462640" y="4651200"/>
            <a:ext cx="3004920" cy="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5837400" y="2025360"/>
            <a:ext cx="2439720" cy="2436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174160" y="2057400"/>
            <a:ext cx="7452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077320" y="2139840"/>
            <a:ext cx="75960" cy="71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796160" y="2384280"/>
            <a:ext cx="77760" cy="71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628040" y="2492280"/>
            <a:ext cx="7452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086600" y="3060720"/>
            <a:ext cx="76320" cy="684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966000" y="3300480"/>
            <a:ext cx="7452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716880" y="3511440"/>
            <a:ext cx="74520" cy="684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292800" y="3886200"/>
            <a:ext cx="7632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827760" y="3348000"/>
            <a:ext cx="7452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26240" y="3578400"/>
            <a:ext cx="7632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10120" y="4370400"/>
            <a:ext cx="7632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945040" y="1949400"/>
            <a:ext cx="0" cy="302436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443640" y="1952640"/>
            <a:ext cx="0" cy="302256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940440" y="1949400"/>
            <a:ext cx="0" cy="302436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440480" y="1949400"/>
            <a:ext cx="0" cy="302436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937640" y="1949400"/>
            <a:ext cx="0" cy="302436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869360" y="2185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953600" y="26575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046120" y="31129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149800" y="3583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026320" y="40464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0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937400" y="4546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0,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148960" y="49896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93560" y="4989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237080" y="4986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752880" y="4986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179040" y="49849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0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670720" y="4984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0,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669080" y="196200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v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8193240" y="206532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ota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915680" y="23065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ho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43840" y="2409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ch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665760" y="298116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la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014600" y="321624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po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228720" y="32670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coba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413400" y="34210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777360" y="350352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tor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793480" y="380988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sou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146200" y="426564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grenou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rot="18800400">
            <a:off x="6732360" y="344088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0000"/>
                </a:solidFill>
                <a:latin typeface="Arial"/>
              </a:rPr>
              <a:t>minimum théor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rot="16200000">
            <a:off x="3766680" y="3386160"/>
            <a:ext cx="20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quantité de surfac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5942160" y="2773080"/>
            <a:ext cx="1993680" cy="1881000"/>
          </a:xfrm>
          <a:prstGeom prst="line">
            <a:avLst/>
          </a:prstGeom>
          <a:ln cap="sq" w="1908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440320" y="1949400"/>
            <a:ext cx="3014640" cy="3022560"/>
          </a:xfrm>
          <a:custGeom>
            <a:avLst/>
            <a:gdLst/>
            <a:ahLst/>
            <a:rect l="l" t="t" r="r" b="b"/>
            <a:pathLst>
              <a:path w="2504" h="2720">
                <a:moveTo>
                  <a:pt x="0" y="0"/>
                </a:moveTo>
                <a:lnTo>
                  <a:pt x="0" y="2720"/>
                </a:lnTo>
                <a:lnTo>
                  <a:pt x="2504" y="2720"/>
                </a:lnTo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58440" y="149688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surfac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803160" y="1979640"/>
            <a:ext cx="33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holestérol, phospholipid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gent tensio-ac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9440" y="127080"/>
            <a:ext cx="34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495400" y="1144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87200" y="695160"/>
            <a:ext cx="315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arbre bronch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724360" y="725400"/>
            <a:ext cx="2610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paroi alvéolai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384120" y="1728720"/>
            <a:ext cx="2809800" cy="372132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3463920" y="2421000"/>
            <a:ext cx="53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9440" y="127080"/>
            <a:ext cx="34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91160" y="11448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paroi thoraco-abdomi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pompe respira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400560" y="1292400"/>
            <a:ext cx="54925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oumon des Tétrapod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a pompe ventilatoire n’est pas le poumon lui-mê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umon des Amphibien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mpe refou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ompe buc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umon des Reptiles, Oiseaux, Mammifèr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mpe aspi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ompe 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avité thoracique délimitée par la plèvre (paroi de la cavité coelom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ammifères :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age thoracique, diaphrag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" descr=""/>
          <p:cNvPicPr/>
          <p:nvPr/>
        </p:nvPicPr>
        <p:blipFill>
          <a:blip r:embed="rId1"/>
          <a:stretch/>
        </p:blipFill>
        <p:spPr>
          <a:xfrm>
            <a:off x="384120" y="1728720"/>
            <a:ext cx="2809800" cy="3721320"/>
          </a:xfrm>
          <a:prstGeom prst="rect">
            <a:avLst/>
          </a:prstGeom>
          <a:ln w="0">
            <a:noFill/>
          </a:ln>
        </p:spPr>
      </p:pic>
      <p:sp>
        <p:nvSpPr>
          <p:cNvPr id="1132" name=""/>
          <p:cNvSpPr/>
          <p:nvPr/>
        </p:nvSpPr>
        <p:spPr>
          <a:xfrm>
            <a:off x="3395880" y="1600200"/>
            <a:ext cx="19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iaphrag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463920" y="2421000"/>
            <a:ext cx="53481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uscles intercostaux exter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entre les cô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uscles scalè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entre 1</a:t>
            </a:r>
            <a:r>
              <a:rPr b="0" i="1" lang="fr-FR" sz="1800" spc="-1" strike="noStrike" baseline="30000">
                <a:solidFill>
                  <a:srgbClr val="990000"/>
                </a:solidFill>
                <a:latin typeface="Trebuchet MS"/>
              </a:rPr>
              <a:t>res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 et 2</a:t>
            </a:r>
            <a:r>
              <a:rPr b="0" i="1" lang="fr-FR" sz="1800" spc="-1" strike="noStrike" baseline="30000">
                <a:solidFill>
                  <a:srgbClr val="990000"/>
                </a:solidFill>
                <a:latin typeface="Trebuchet MS"/>
              </a:rPr>
              <a:t>es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  côtes et les vertèbres cervi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+ muscles sternocléido-mastoïd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entre le sternum et les clavicules, et la mastoïde, sur le crâ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9440" y="127080"/>
            <a:ext cx="34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91160" y="11448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paroi thoraco-abdomi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87200" y="695160"/>
            <a:ext cx="31086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uscles inspirato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rot="1198800">
            <a:off x="1379520" y="1603080"/>
            <a:ext cx="154080" cy="888840"/>
          </a:xfrm>
          <a:prstGeom prst="ellipse">
            <a:avLst/>
          </a:prstGeom>
          <a:solidFill>
            <a:srgbClr val="fc012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rot="1198800">
            <a:off x="1231560" y="1549080"/>
            <a:ext cx="147600" cy="1150920"/>
          </a:xfrm>
          <a:prstGeom prst="ellipse">
            <a:avLst/>
          </a:prstGeom>
          <a:solidFill>
            <a:srgbClr val="fc012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 rot="673200">
            <a:off x="2064960" y="3371400"/>
            <a:ext cx="1268280" cy="2297160"/>
          </a:xfrm>
          <a:custGeom>
            <a:avLst/>
            <a:gdLst/>
            <a:ahLst/>
            <a:rect l="l" t="t" r="r" b="b"/>
            <a:pathLst>
              <a:path w="776" h="1520">
                <a:moveTo>
                  <a:pt x="0" y="0"/>
                </a:moveTo>
                <a:cubicBezTo>
                  <a:pt x="118" y="54"/>
                  <a:pt x="236" y="108"/>
                  <a:pt x="320" y="288"/>
                </a:cubicBezTo>
                <a:cubicBezTo>
                  <a:pt x="404" y="468"/>
                  <a:pt x="428" y="875"/>
                  <a:pt x="504" y="1080"/>
                </a:cubicBezTo>
                <a:cubicBezTo>
                  <a:pt x="580" y="1285"/>
                  <a:pt x="678" y="1402"/>
                  <a:pt x="776" y="1520"/>
                </a:cubicBezTo>
              </a:path>
            </a:pathLst>
          </a:custGeom>
          <a:noFill/>
          <a:ln w="5724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982800" y="4729320"/>
            <a:ext cx="1803240" cy="896760"/>
          </a:xfrm>
          <a:custGeom>
            <a:avLst/>
            <a:gdLst/>
            <a:ahLst/>
            <a:rect l="l" t="t" r="r" b="b"/>
            <a:pathLst>
              <a:path w="1103" h="595">
                <a:moveTo>
                  <a:pt x="1098" y="595"/>
                </a:moveTo>
                <a:cubicBezTo>
                  <a:pt x="1103" y="454"/>
                  <a:pt x="1100" y="314"/>
                  <a:pt x="1046" y="221"/>
                </a:cubicBezTo>
                <a:cubicBezTo>
                  <a:pt x="992" y="128"/>
                  <a:pt x="869" y="70"/>
                  <a:pt x="776" y="35"/>
                </a:cubicBezTo>
                <a:cubicBezTo>
                  <a:pt x="683" y="0"/>
                  <a:pt x="572" y="5"/>
                  <a:pt x="488" y="11"/>
                </a:cubicBezTo>
                <a:cubicBezTo>
                  <a:pt x="404" y="17"/>
                  <a:pt x="339" y="26"/>
                  <a:pt x="270" y="71"/>
                </a:cubicBezTo>
                <a:cubicBezTo>
                  <a:pt x="201" y="116"/>
                  <a:pt x="118" y="194"/>
                  <a:pt x="72" y="280"/>
                </a:cubicBezTo>
                <a:cubicBezTo>
                  <a:pt x="27" y="366"/>
                  <a:pt x="13" y="477"/>
                  <a:pt x="0" y="5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961920" y="3090960"/>
            <a:ext cx="2270160" cy="2627280"/>
          </a:xfrm>
          <a:custGeom>
            <a:avLst/>
            <a:gdLst/>
            <a:ahLst/>
            <a:rect l="l" t="t" r="r" b="b"/>
            <a:pathLst>
              <a:path w="1388" h="1741">
                <a:moveTo>
                  <a:pt x="2" y="1663"/>
                </a:moveTo>
                <a:cubicBezTo>
                  <a:pt x="1" y="1496"/>
                  <a:pt x="0" y="1329"/>
                  <a:pt x="20" y="1153"/>
                </a:cubicBezTo>
                <a:cubicBezTo>
                  <a:pt x="40" y="977"/>
                  <a:pt x="75" y="763"/>
                  <a:pt x="122" y="607"/>
                </a:cubicBezTo>
                <a:cubicBezTo>
                  <a:pt x="169" y="451"/>
                  <a:pt x="244" y="311"/>
                  <a:pt x="302" y="217"/>
                </a:cubicBezTo>
                <a:cubicBezTo>
                  <a:pt x="360" y="123"/>
                  <a:pt x="401" y="79"/>
                  <a:pt x="470" y="43"/>
                </a:cubicBezTo>
                <a:cubicBezTo>
                  <a:pt x="539" y="7"/>
                  <a:pt x="642" y="0"/>
                  <a:pt x="716" y="1"/>
                </a:cubicBezTo>
                <a:cubicBezTo>
                  <a:pt x="790" y="2"/>
                  <a:pt x="853" y="18"/>
                  <a:pt x="914" y="49"/>
                </a:cubicBezTo>
                <a:cubicBezTo>
                  <a:pt x="975" y="80"/>
                  <a:pt x="1034" y="115"/>
                  <a:pt x="1082" y="187"/>
                </a:cubicBezTo>
                <a:cubicBezTo>
                  <a:pt x="1130" y="259"/>
                  <a:pt x="1181" y="384"/>
                  <a:pt x="1202" y="481"/>
                </a:cubicBezTo>
                <a:cubicBezTo>
                  <a:pt x="1223" y="578"/>
                  <a:pt x="1209" y="662"/>
                  <a:pt x="1208" y="769"/>
                </a:cubicBezTo>
                <a:cubicBezTo>
                  <a:pt x="1207" y="876"/>
                  <a:pt x="1187" y="1015"/>
                  <a:pt x="1196" y="1123"/>
                </a:cubicBezTo>
                <a:cubicBezTo>
                  <a:pt x="1205" y="1231"/>
                  <a:pt x="1230" y="1314"/>
                  <a:pt x="1262" y="1417"/>
                </a:cubicBezTo>
                <a:cubicBezTo>
                  <a:pt x="1294" y="1520"/>
                  <a:pt x="1341" y="1630"/>
                  <a:pt x="1388" y="1741"/>
                </a:cubicBezTo>
              </a:path>
            </a:pathLst>
          </a:custGeom>
          <a:noFill/>
          <a:ln w="2844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893880" y="5499000"/>
            <a:ext cx="176040" cy="1270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36120" y="1052640"/>
            <a:ext cx="49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e diaphragme : contraction à l’ins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62680" y="5713560"/>
            <a:ext cx="56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scles intercostaux externes, muscles scalè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rot="673200">
            <a:off x="5532120" y="3371400"/>
            <a:ext cx="1268280" cy="2297160"/>
          </a:xfrm>
          <a:custGeom>
            <a:avLst/>
            <a:gdLst/>
            <a:ahLst/>
            <a:rect l="l" t="t" r="r" b="b"/>
            <a:pathLst>
              <a:path w="776" h="1520">
                <a:moveTo>
                  <a:pt x="0" y="0"/>
                </a:moveTo>
                <a:cubicBezTo>
                  <a:pt x="118" y="54"/>
                  <a:pt x="236" y="108"/>
                  <a:pt x="320" y="288"/>
                </a:cubicBezTo>
                <a:cubicBezTo>
                  <a:pt x="404" y="468"/>
                  <a:pt x="428" y="875"/>
                  <a:pt x="504" y="1080"/>
                </a:cubicBezTo>
                <a:cubicBezTo>
                  <a:pt x="580" y="1285"/>
                  <a:pt x="678" y="1402"/>
                  <a:pt x="776" y="1520"/>
                </a:cubicBezTo>
              </a:path>
            </a:pathLst>
          </a:custGeom>
          <a:noFill/>
          <a:ln w="5724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80040" y="4978440"/>
            <a:ext cx="1965240" cy="647640"/>
          </a:xfrm>
          <a:custGeom>
            <a:avLst/>
            <a:gdLst/>
            <a:ahLst/>
            <a:rect l="l" t="t" r="r" b="b"/>
            <a:pathLst>
              <a:path w="1238" h="408">
                <a:moveTo>
                  <a:pt x="1238" y="408"/>
                </a:moveTo>
                <a:cubicBezTo>
                  <a:pt x="1229" y="365"/>
                  <a:pt x="1230" y="216"/>
                  <a:pt x="1184" y="152"/>
                </a:cubicBezTo>
                <a:cubicBezTo>
                  <a:pt x="1138" y="88"/>
                  <a:pt x="1055" y="48"/>
                  <a:pt x="960" y="24"/>
                </a:cubicBezTo>
                <a:cubicBezTo>
                  <a:pt x="865" y="0"/>
                  <a:pt x="712" y="9"/>
                  <a:pt x="616" y="8"/>
                </a:cubicBezTo>
                <a:cubicBezTo>
                  <a:pt x="520" y="7"/>
                  <a:pt x="456" y="8"/>
                  <a:pt x="384" y="16"/>
                </a:cubicBezTo>
                <a:cubicBezTo>
                  <a:pt x="312" y="24"/>
                  <a:pt x="248" y="31"/>
                  <a:pt x="184" y="56"/>
                </a:cubicBezTo>
                <a:cubicBezTo>
                  <a:pt x="120" y="81"/>
                  <a:pt x="38" y="145"/>
                  <a:pt x="0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254480" y="3090960"/>
            <a:ext cx="2444760" cy="2627280"/>
          </a:xfrm>
          <a:custGeom>
            <a:avLst/>
            <a:gdLst/>
            <a:ahLst/>
            <a:rect l="l" t="t" r="r" b="b"/>
            <a:pathLst>
              <a:path w="1540" h="1655">
                <a:moveTo>
                  <a:pt x="0" y="1349"/>
                </a:moveTo>
                <a:cubicBezTo>
                  <a:pt x="8" y="1293"/>
                  <a:pt x="16" y="1149"/>
                  <a:pt x="48" y="1013"/>
                </a:cubicBezTo>
                <a:cubicBezTo>
                  <a:pt x="80" y="877"/>
                  <a:pt x="135" y="673"/>
                  <a:pt x="192" y="533"/>
                </a:cubicBezTo>
                <a:cubicBezTo>
                  <a:pt x="249" y="393"/>
                  <a:pt x="325" y="255"/>
                  <a:pt x="392" y="173"/>
                </a:cubicBezTo>
                <a:cubicBezTo>
                  <a:pt x="459" y="91"/>
                  <a:pt x="518" y="70"/>
                  <a:pt x="594" y="41"/>
                </a:cubicBezTo>
                <a:cubicBezTo>
                  <a:pt x="670" y="12"/>
                  <a:pt x="771" y="0"/>
                  <a:pt x="848" y="1"/>
                </a:cubicBezTo>
                <a:cubicBezTo>
                  <a:pt x="924" y="2"/>
                  <a:pt x="989" y="17"/>
                  <a:pt x="1052" y="47"/>
                </a:cubicBezTo>
                <a:cubicBezTo>
                  <a:pt x="1115" y="76"/>
                  <a:pt x="1175" y="109"/>
                  <a:pt x="1225" y="178"/>
                </a:cubicBezTo>
                <a:cubicBezTo>
                  <a:pt x="1274" y="246"/>
                  <a:pt x="1327" y="365"/>
                  <a:pt x="1348" y="457"/>
                </a:cubicBezTo>
                <a:cubicBezTo>
                  <a:pt x="1370" y="549"/>
                  <a:pt x="1356" y="629"/>
                  <a:pt x="1355" y="731"/>
                </a:cubicBezTo>
                <a:cubicBezTo>
                  <a:pt x="1354" y="833"/>
                  <a:pt x="1333" y="965"/>
                  <a:pt x="1342" y="1068"/>
                </a:cubicBezTo>
                <a:cubicBezTo>
                  <a:pt x="1351" y="1170"/>
                  <a:pt x="1377" y="1249"/>
                  <a:pt x="1410" y="1347"/>
                </a:cubicBezTo>
                <a:cubicBezTo>
                  <a:pt x="1443" y="1445"/>
                  <a:pt x="1492" y="1549"/>
                  <a:pt x="1540" y="1655"/>
                </a:cubicBezTo>
              </a:path>
            </a:pathLst>
          </a:custGeom>
          <a:noFill/>
          <a:ln w="2844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195800" y="5194440"/>
            <a:ext cx="176040" cy="1267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537160" y="5118120"/>
            <a:ext cx="520920" cy="27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 flipV="1">
            <a:off x="4114440" y="4724280"/>
            <a:ext cx="2556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93640" y="1878120"/>
            <a:ext cx="835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escente de la coupole diaphragm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ugmentation du diamètre de la cage thoracique (partie inférie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diminution du diamètre de la cage thoracique dans sa partie supérie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656000" y="6005520"/>
            <a:ext cx="60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igidification de la cage thoracique (partie supérieur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19200" y="1446120"/>
            <a:ext cx="760248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’inspiration est toujours active : contraction des muscles in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440" y="127080"/>
            <a:ext cx="34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91160" y="11448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paroi thoraco-abdomi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4749840" y="2971440"/>
            <a:ext cx="279360" cy="36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625760" y="2870280"/>
            <a:ext cx="431640" cy="330120"/>
          </a:xfrm>
          <a:custGeom>
            <a:avLst/>
            <a:gdLst/>
            <a:ahLst/>
            <a:rect l="l" t="t" r="r" b="b"/>
            <a:pathLst>
              <a:path w="272" h="208">
                <a:moveTo>
                  <a:pt x="0" y="208"/>
                </a:moveTo>
                <a:cubicBezTo>
                  <a:pt x="48" y="160"/>
                  <a:pt x="105" y="125"/>
                  <a:pt x="160" y="88"/>
                </a:cubicBezTo>
                <a:cubicBezTo>
                  <a:pt x="179" y="60"/>
                  <a:pt x="192" y="51"/>
                  <a:pt x="224" y="40"/>
                </a:cubicBezTo>
                <a:cubicBezTo>
                  <a:pt x="249" y="3"/>
                  <a:pt x="247" y="25"/>
                  <a:pt x="2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054760" y="2882880"/>
            <a:ext cx="431640" cy="330120"/>
          </a:xfrm>
          <a:custGeom>
            <a:avLst/>
            <a:gdLst/>
            <a:ahLst/>
            <a:rect l="l" t="t" r="r" b="b"/>
            <a:pathLst>
              <a:path w="272" h="208">
                <a:moveTo>
                  <a:pt x="0" y="208"/>
                </a:moveTo>
                <a:cubicBezTo>
                  <a:pt x="48" y="160"/>
                  <a:pt x="105" y="125"/>
                  <a:pt x="160" y="88"/>
                </a:cubicBezTo>
                <a:cubicBezTo>
                  <a:pt x="179" y="60"/>
                  <a:pt x="192" y="51"/>
                  <a:pt x="224" y="40"/>
                </a:cubicBezTo>
                <a:cubicBezTo>
                  <a:pt x="249" y="3"/>
                  <a:pt x="247" y="25"/>
                  <a:pt x="2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740640" y="3556080"/>
            <a:ext cx="188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ugmentation de volume de la cage 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87200" y="695160"/>
            <a:ext cx="31086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uscles inspirato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4677480" y="2754360"/>
            <a:ext cx="389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scles de la paroi abdo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+ muscles intercostaux inter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35800" y="1192320"/>
            <a:ext cx="79502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’expiration normale est passive : relâchement des muscles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9440" y="127080"/>
            <a:ext cx="34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691160" y="11448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paroi thoraco-abdomi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rot="673200">
            <a:off x="2471400" y="3193560"/>
            <a:ext cx="1268280" cy="2297160"/>
          </a:xfrm>
          <a:custGeom>
            <a:avLst/>
            <a:gdLst/>
            <a:ahLst/>
            <a:rect l="l" t="t" r="r" b="b"/>
            <a:pathLst>
              <a:path w="776" h="1520">
                <a:moveTo>
                  <a:pt x="0" y="0"/>
                </a:moveTo>
                <a:cubicBezTo>
                  <a:pt x="118" y="54"/>
                  <a:pt x="236" y="108"/>
                  <a:pt x="320" y="288"/>
                </a:cubicBezTo>
                <a:cubicBezTo>
                  <a:pt x="404" y="468"/>
                  <a:pt x="428" y="875"/>
                  <a:pt x="504" y="1080"/>
                </a:cubicBezTo>
                <a:cubicBezTo>
                  <a:pt x="580" y="1285"/>
                  <a:pt x="678" y="1402"/>
                  <a:pt x="776" y="1520"/>
                </a:cubicBezTo>
              </a:path>
            </a:pathLst>
          </a:custGeom>
          <a:noFill/>
          <a:ln w="5724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389240" y="4551480"/>
            <a:ext cx="1803240" cy="896760"/>
          </a:xfrm>
          <a:custGeom>
            <a:avLst/>
            <a:gdLst/>
            <a:ahLst/>
            <a:rect l="l" t="t" r="r" b="b"/>
            <a:pathLst>
              <a:path w="1103" h="595">
                <a:moveTo>
                  <a:pt x="1098" y="595"/>
                </a:moveTo>
                <a:cubicBezTo>
                  <a:pt x="1103" y="454"/>
                  <a:pt x="1100" y="314"/>
                  <a:pt x="1046" y="221"/>
                </a:cubicBezTo>
                <a:cubicBezTo>
                  <a:pt x="992" y="128"/>
                  <a:pt x="869" y="70"/>
                  <a:pt x="776" y="35"/>
                </a:cubicBezTo>
                <a:cubicBezTo>
                  <a:pt x="683" y="0"/>
                  <a:pt x="572" y="5"/>
                  <a:pt x="488" y="11"/>
                </a:cubicBezTo>
                <a:cubicBezTo>
                  <a:pt x="404" y="17"/>
                  <a:pt x="339" y="26"/>
                  <a:pt x="270" y="71"/>
                </a:cubicBezTo>
                <a:cubicBezTo>
                  <a:pt x="201" y="116"/>
                  <a:pt x="118" y="194"/>
                  <a:pt x="72" y="280"/>
                </a:cubicBezTo>
                <a:cubicBezTo>
                  <a:pt x="27" y="366"/>
                  <a:pt x="13" y="477"/>
                  <a:pt x="0" y="5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368360" y="2913120"/>
            <a:ext cx="2270160" cy="2627280"/>
          </a:xfrm>
          <a:custGeom>
            <a:avLst/>
            <a:gdLst/>
            <a:ahLst/>
            <a:rect l="l" t="t" r="r" b="b"/>
            <a:pathLst>
              <a:path w="1388" h="1741">
                <a:moveTo>
                  <a:pt x="2" y="1663"/>
                </a:moveTo>
                <a:cubicBezTo>
                  <a:pt x="1" y="1496"/>
                  <a:pt x="0" y="1329"/>
                  <a:pt x="20" y="1153"/>
                </a:cubicBezTo>
                <a:cubicBezTo>
                  <a:pt x="40" y="977"/>
                  <a:pt x="75" y="763"/>
                  <a:pt x="122" y="607"/>
                </a:cubicBezTo>
                <a:cubicBezTo>
                  <a:pt x="169" y="451"/>
                  <a:pt x="244" y="311"/>
                  <a:pt x="302" y="217"/>
                </a:cubicBezTo>
                <a:cubicBezTo>
                  <a:pt x="360" y="123"/>
                  <a:pt x="401" y="79"/>
                  <a:pt x="470" y="43"/>
                </a:cubicBezTo>
                <a:cubicBezTo>
                  <a:pt x="539" y="7"/>
                  <a:pt x="642" y="0"/>
                  <a:pt x="716" y="1"/>
                </a:cubicBezTo>
                <a:cubicBezTo>
                  <a:pt x="790" y="2"/>
                  <a:pt x="853" y="18"/>
                  <a:pt x="914" y="49"/>
                </a:cubicBezTo>
                <a:cubicBezTo>
                  <a:pt x="975" y="80"/>
                  <a:pt x="1034" y="115"/>
                  <a:pt x="1082" y="187"/>
                </a:cubicBezTo>
                <a:cubicBezTo>
                  <a:pt x="1130" y="259"/>
                  <a:pt x="1181" y="384"/>
                  <a:pt x="1202" y="481"/>
                </a:cubicBezTo>
                <a:cubicBezTo>
                  <a:pt x="1223" y="578"/>
                  <a:pt x="1209" y="662"/>
                  <a:pt x="1208" y="769"/>
                </a:cubicBezTo>
                <a:cubicBezTo>
                  <a:pt x="1207" y="876"/>
                  <a:pt x="1187" y="1015"/>
                  <a:pt x="1196" y="1123"/>
                </a:cubicBezTo>
                <a:cubicBezTo>
                  <a:pt x="1205" y="1231"/>
                  <a:pt x="1230" y="1314"/>
                  <a:pt x="1262" y="1417"/>
                </a:cubicBezTo>
                <a:cubicBezTo>
                  <a:pt x="1294" y="1520"/>
                  <a:pt x="1341" y="1630"/>
                  <a:pt x="1388" y="1741"/>
                </a:cubicBezTo>
              </a:path>
            </a:pathLst>
          </a:custGeom>
          <a:noFill/>
          <a:ln w="2844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300320" y="5321160"/>
            <a:ext cx="176040" cy="1270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91960" y="1979640"/>
            <a:ext cx="61394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piration forcée : contraction des muscles ex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2222640" y="4711320"/>
            <a:ext cx="126720" cy="825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1511280" y="3123720"/>
            <a:ext cx="279360" cy="3682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775480" y="4165560"/>
            <a:ext cx="188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iminution de volume de la cage 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87200" y="695160"/>
            <a:ext cx="31086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uscles expirato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963720" y="2965320"/>
            <a:ext cx="1960560" cy="1447920"/>
          </a:xfrm>
          <a:custGeom>
            <a:avLst/>
            <a:gdLst/>
            <a:ahLst/>
            <a:rect l="l" t="t" r="r" b="b"/>
            <a:pathLst>
              <a:path w="1235" h="912">
                <a:moveTo>
                  <a:pt x="557" y="0"/>
                </a:moveTo>
                <a:lnTo>
                  <a:pt x="0" y="912"/>
                </a:lnTo>
                <a:lnTo>
                  <a:pt x="1235" y="912"/>
                </a:lnTo>
                <a:lnTo>
                  <a:pt x="695" y="12"/>
                </a:lnTo>
              </a:path>
            </a:pathLst>
          </a:custGeom>
          <a:solidFill>
            <a:srgbClr val="fc0128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68440" y="1179360"/>
            <a:ext cx="78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tructure mécanique ventilatoire : structure qui, par ses propriétés et son fonctionnement, assure la vent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704880" y="2957400"/>
            <a:ext cx="2494440" cy="3107160"/>
            <a:chOff x="704880" y="2957400"/>
            <a:chExt cx="2494440" cy="3107160"/>
          </a:xfrm>
        </p:grpSpPr>
        <p:sp>
          <p:nvSpPr>
            <p:cNvPr id="1180" name=""/>
            <p:cNvSpPr/>
            <p:nvPr/>
          </p:nvSpPr>
          <p:spPr>
            <a:xfrm>
              <a:off x="705960" y="2957400"/>
              <a:ext cx="2481120" cy="310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716760" y="2957400"/>
              <a:ext cx="2482560" cy="310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04880" y="4530240"/>
              <a:ext cx="2482560" cy="0"/>
            </a:xfrm>
            <a:prstGeom prst="line">
              <a:avLst/>
            </a:prstGeom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1521000" y="3344760"/>
            <a:ext cx="831600" cy="820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1954080" y="2776320"/>
            <a:ext cx="0" cy="1299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838160" y="2170080"/>
            <a:ext cx="209880" cy="12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1838160" y="2136600"/>
            <a:ext cx="0" cy="1238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054160" y="2133360"/>
            <a:ext cx="0" cy="1238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664800" y="220968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943280" y="2451240"/>
            <a:ext cx="17618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603960" y="297180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aroi thoraco-abdomi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694320" y="347976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lvé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635640" y="379728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ssion alvéo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621600" y="414036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ssion intrapleu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654280" y="3225960"/>
            <a:ext cx="10508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31840" y="3695760"/>
            <a:ext cx="16639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2057040" y="4025880"/>
            <a:ext cx="16477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3111480" y="4368960"/>
            <a:ext cx="5716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960" y="127080"/>
            <a:ext cx="220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650480" y="11448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ression, volume et dé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5800" y="5357880"/>
            <a:ext cx="872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nsemble actif : muscles ventilato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nsemble passif : voies aériennes, poumon, paroi thoraco-abdomi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963720" y="2965320"/>
            <a:ext cx="1960560" cy="1447920"/>
          </a:xfrm>
          <a:custGeom>
            <a:avLst/>
            <a:gdLst/>
            <a:ahLst/>
            <a:rect l="l" t="t" r="r" b="b"/>
            <a:pathLst>
              <a:path w="1235" h="912">
                <a:moveTo>
                  <a:pt x="557" y="0"/>
                </a:moveTo>
                <a:lnTo>
                  <a:pt x="0" y="912"/>
                </a:lnTo>
                <a:lnTo>
                  <a:pt x="1235" y="912"/>
                </a:lnTo>
                <a:lnTo>
                  <a:pt x="695" y="12"/>
                </a:lnTo>
              </a:path>
            </a:pathLst>
          </a:custGeom>
          <a:solidFill>
            <a:srgbClr val="fc0128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704880" y="2957400"/>
            <a:ext cx="2494440" cy="3107160"/>
            <a:chOff x="704880" y="2957400"/>
            <a:chExt cx="2494440" cy="3107160"/>
          </a:xfrm>
        </p:grpSpPr>
        <p:sp>
          <p:nvSpPr>
            <p:cNvPr id="1205" name=""/>
            <p:cNvSpPr/>
            <p:nvPr/>
          </p:nvSpPr>
          <p:spPr>
            <a:xfrm>
              <a:off x="705960" y="2957400"/>
              <a:ext cx="2481120" cy="310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716760" y="2957400"/>
              <a:ext cx="2482560" cy="310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04880" y="4530240"/>
              <a:ext cx="2482560" cy="0"/>
            </a:xfrm>
            <a:prstGeom prst="line">
              <a:avLst/>
            </a:prstGeom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8" name=""/>
          <p:cNvSpPr/>
          <p:nvPr/>
        </p:nvSpPr>
        <p:spPr>
          <a:xfrm>
            <a:off x="1698480" y="3332160"/>
            <a:ext cx="476280" cy="820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1954080" y="2776320"/>
            <a:ext cx="0" cy="1299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38160" y="2170080"/>
            <a:ext cx="209880" cy="12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1838160" y="2136600"/>
            <a:ext cx="0" cy="1238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2054160" y="2133360"/>
            <a:ext cx="0" cy="1238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0960" y="127080"/>
            <a:ext cx="220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650480" y="11448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ression, volume et dé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613560" y="2494080"/>
            <a:ext cx="476280" cy="8208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6856560" y="2344680"/>
            <a:ext cx="0" cy="1303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6753240" y="2122560"/>
            <a:ext cx="0" cy="417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6956280" y="2117520"/>
            <a:ext cx="0" cy="41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197760" y="2286000"/>
            <a:ext cx="1295280" cy="1650960"/>
          </a:xfrm>
          <a:custGeom>
            <a:avLst/>
            <a:gdLst/>
            <a:ahLst/>
            <a:rect l="l" t="t" r="r" b="b"/>
            <a:pathLst>
              <a:path w="584" h="688">
                <a:moveTo>
                  <a:pt x="0" y="688"/>
                </a:moveTo>
                <a:lnTo>
                  <a:pt x="0" y="0"/>
                </a:lnTo>
                <a:lnTo>
                  <a:pt x="584" y="0"/>
                </a:lnTo>
                <a:lnTo>
                  <a:pt x="584" y="6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765840" y="2106720"/>
            <a:ext cx="184320" cy="8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210360" y="3505320"/>
            <a:ext cx="128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620040" y="3898800"/>
            <a:ext cx="495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867360" y="3543480"/>
            <a:ext cx="0" cy="35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rot="5400000">
            <a:off x="5822640" y="2800080"/>
            <a:ext cx="1143000" cy="177840"/>
          </a:xfrm>
          <a:custGeom>
            <a:avLst/>
            <a:gdLst/>
            <a:ahLst/>
            <a:rect l="l" t="t" r="r" b="b"/>
            <a:pathLst>
              <a:path w="1184" h="136">
                <a:moveTo>
                  <a:pt x="0" y="136"/>
                </a:moveTo>
                <a:lnTo>
                  <a:pt x="136" y="0"/>
                </a:lnTo>
                <a:lnTo>
                  <a:pt x="264" y="128"/>
                </a:lnTo>
                <a:lnTo>
                  <a:pt x="384" y="8"/>
                </a:lnTo>
                <a:lnTo>
                  <a:pt x="504" y="128"/>
                </a:lnTo>
                <a:lnTo>
                  <a:pt x="616" y="16"/>
                </a:lnTo>
                <a:lnTo>
                  <a:pt x="736" y="136"/>
                </a:lnTo>
                <a:lnTo>
                  <a:pt x="848" y="24"/>
                </a:lnTo>
                <a:lnTo>
                  <a:pt x="960" y="136"/>
                </a:lnTo>
                <a:lnTo>
                  <a:pt x="1072" y="24"/>
                </a:lnTo>
                <a:lnTo>
                  <a:pt x="1184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rot="5400000">
            <a:off x="5848200" y="4019400"/>
            <a:ext cx="1143000" cy="177840"/>
          </a:xfrm>
          <a:custGeom>
            <a:avLst/>
            <a:gdLst/>
            <a:ahLst/>
            <a:rect l="l" t="t" r="r" b="b"/>
            <a:pathLst>
              <a:path w="1184" h="136">
                <a:moveTo>
                  <a:pt x="0" y="136"/>
                </a:moveTo>
                <a:lnTo>
                  <a:pt x="136" y="0"/>
                </a:lnTo>
                <a:lnTo>
                  <a:pt x="264" y="128"/>
                </a:lnTo>
                <a:lnTo>
                  <a:pt x="384" y="8"/>
                </a:lnTo>
                <a:lnTo>
                  <a:pt x="504" y="128"/>
                </a:lnTo>
                <a:lnTo>
                  <a:pt x="616" y="16"/>
                </a:lnTo>
                <a:lnTo>
                  <a:pt x="736" y="136"/>
                </a:lnTo>
                <a:lnTo>
                  <a:pt x="848" y="24"/>
                </a:lnTo>
                <a:lnTo>
                  <a:pt x="960" y="136"/>
                </a:lnTo>
                <a:lnTo>
                  <a:pt x="1072" y="24"/>
                </a:lnTo>
                <a:lnTo>
                  <a:pt x="1184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222960" y="4686480"/>
            <a:ext cx="128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55200" y="1270080"/>
            <a:ext cx="78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chéma mécanique fonctionnel : ballon élastique dans un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724480" y="5168880"/>
            <a:ext cx="609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 repo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équilibre des forces élastiques (ballon et ressor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ssion dans le piston né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704880" y="2133360"/>
            <a:ext cx="2494440" cy="3931200"/>
            <a:chOff x="704880" y="2133360"/>
            <a:chExt cx="2494440" cy="3931200"/>
          </a:xfrm>
        </p:grpSpPr>
        <p:sp>
          <p:nvSpPr>
            <p:cNvPr id="1232" name=""/>
            <p:cNvSpPr/>
            <p:nvPr/>
          </p:nvSpPr>
          <p:spPr>
            <a:xfrm>
              <a:off x="963720" y="2965320"/>
              <a:ext cx="1960560" cy="1447920"/>
            </a:xfrm>
            <a:custGeom>
              <a:avLst/>
              <a:gdLst/>
              <a:ahLst/>
              <a:rect l="l" t="t" r="r" b="b"/>
              <a:pathLst>
                <a:path w="1235" h="912">
                  <a:moveTo>
                    <a:pt x="557" y="0"/>
                  </a:moveTo>
                  <a:lnTo>
                    <a:pt x="0" y="912"/>
                  </a:lnTo>
                  <a:lnTo>
                    <a:pt x="1235" y="912"/>
                  </a:lnTo>
                  <a:lnTo>
                    <a:pt x="695" y="12"/>
                  </a:lnTo>
                </a:path>
              </a:pathLst>
            </a:custGeom>
            <a:solidFill>
              <a:srgbClr val="fc0128"/>
            </a:soli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3" name=""/>
            <p:cNvGrpSpPr/>
            <p:nvPr/>
          </p:nvGrpSpPr>
          <p:grpSpPr>
            <a:xfrm>
              <a:off x="704880" y="2957400"/>
              <a:ext cx="2494440" cy="3107160"/>
              <a:chOff x="704880" y="2957400"/>
              <a:chExt cx="2494440" cy="3107160"/>
            </a:xfrm>
          </p:grpSpPr>
          <p:sp>
            <p:nvSpPr>
              <p:cNvPr id="1234" name=""/>
              <p:cNvSpPr/>
              <p:nvPr/>
            </p:nvSpPr>
            <p:spPr>
              <a:xfrm>
                <a:off x="705960" y="2957400"/>
                <a:ext cx="2481120" cy="31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H="1">
                <a:off x="716760" y="2957400"/>
                <a:ext cx="2482560" cy="31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04880" y="4530240"/>
                <a:ext cx="2482560" cy="0"/>
              </a:xfrm>
              <a:prstGeom prst="line">
                <a:avLst/>
              </a:prstGeom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7" name=""/>
            <p:cNvSpPr/>
            <p:nvPr/>
          </p:nvSpPr>
          <p:spPr>
            <a:xfrm>
              <a:off x="1698480" y="3332160"/>
              <a:ext cx="476280" cy="820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1954080" y="2776320"/>
              <a:ext cx="0" cy="12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838160" y="2170080"/>
              <a:ext cx="209880" cy="12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1838160" y="2136600"/>
              <a:ext cx="0" cy="1238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2054160" y="2133360"/>
              <a:ext cx="0" cy="1238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30960" y="127080"/>
            <a:ext cx="220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650480" y="11448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ression, volume et dé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6197760" y="2106720"/>
            <a:ext cx="1307880" cy="2579760"/>
            <a:chOff x="6197760" y="2106720"/>
            <a:chExt cx="1307880" cy="2579760"/>
          </a:xfrm>
        </p:grpSpPr>
        <p:sp>
          <p:nvSpPr>
            <p:cNvPr id="1247" name=""/>
            <p:cNvSpPr/>
            <p:nvPr/>
          </p:nvSpPr>
          <p:spPr>
            <a:xfrm>
              <a:off x="6613560" y="2494080"/>
              <a:ext cx="476280" cy="8208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6856560" y="2344680"/>
              <a:ext cx="0" cy="130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6753240" y="2122560"/>
              <a:ext cx="0" cy="417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6956280" y="2117520"/>
              <a:ext cx="0" cy="417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197760" y="2286000"/>
              <a:ext cx="1295280" cy="1650960"/>
            </a:xfrm>
            <a:custGeom>
              <a:avLst/>
              <a:gdLst/>
              <a:ahLst/>
              <a:rect l="l" t="t" r="r" b="b"/>
              <a:pathLst>
                <a:path w="584" h="688">
                  <a:moveTo>
                    <a:pt x="0" y="688"/>
                  </a:moveTo>
                  <a:lnTo>
                    <a:pt x="0" y="0"/>
                  </a:lnTo>
                  <a:lnTo>
                    <a:pt x="584" y="0"/>
                  </a:lnTo>
                  <a:lnTo>
                    <a:pt x="584" y="6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765840" y="2106720"/>
              <a:ext cx="184320" cy="8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10360" y="3505320"/>
              <a:ext cx="128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620040" y="3898800"/>
              <a:ext cx="495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867360" y="3543480"/>
              <a:ext cx="0" cy="35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5400000">
              <a:off x="5822640" y="2800080"/>
              <a:ext cx="1143000" cy="177840"/>
            </a:xfrm>
            <a:custGeom>
              <a:avLst/>
              <a:gdLst/>
              <a:ahLst/>
              <a:rect l="l" t="t" r="r" b="b"/>
              <a:pathLst>
                <a:path w="1184" h="136">
                  <a:moveTo>
                    <a:pt x="0" y="136"/>
                  </a:moveTo>
                  <a:lnTo>
                    <a:pt x="136" y="0"/>
                  </a:lnTo>
                  <a:lnTo>
                    <a:pt x="264" y="128"/>
                  </a:lnTo>
                  <a:lnTo>
                    <a:pt x="384" y="8"/>
                  </a:lnTo>
                  <a:lnTo>
                    <a:pt x="504" y="128"/>
                  </a:lnTo>
                  <a:lnTo>
                    <a:pt x="616" y="16"/>
                  </a:lnTo>
                  <a:lnTo>
                    <a:pt x="736" y="136"/>
                  </a:lnTo>
                  <a:lnTo>
                    <a:pt x="848" y="24"/>
                  </a:lnTo>
                  <a:lnTo>
                    <a:pt x="960" y="136"/>
                  </a:lnTo>
                  <a:lnTo>
                    <a:pt x="1072" y="24"/>
                  </a:lnTo>
                  <a:lnTo>
                    <a:pt x="1184" y="1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5400000">
              <a:off x="5848200" y="4019400"/>
              <a:ext cx="1143000" cy="177840"/>
            </a:xfrm>
            <a:custGeom>
              <a:avLst/>
              <a:gdLst/>
              <a:ahLst/>
              <a:rect l="l" t="t" r="r" b="b"/>
              <a:pathLst>
                <a:path w="1184" h="136">
                  <a:moveTo>
                    <a:pt x="0" y="136"/>
                  </a:moveTo>
                  <a:lnTo>
                    <a:pt x="136" y="0"/>
                  </a:lnTo>
                  <a:lnTo>
                    <a:pt x="264" y="128"/>
                  </a:lnTo>
                  <a:lnTo>
                    <a:pt x="384" y="8"/>
                  </a:lnTo>
                  <a:lnTo>
                    <a:pt x="504" y="128"/>
                  </a:lnTo>
                  <a:lnTo>
                    <a:pt x="616" y="16"/>
                  </a:lnTo>
                  <a:lnTo>
                    <a:pt x="736" y="136"/>
                  </a:lnTo>
                  <a:lnTo>
                    <a:pt x="848" y="24"/>
                  </a:lnTo>
                  <a:lnTo>
                    <a:pt x="960" y="136"/>
                  </a:lnTo>
                  <a:lnTo>
                    <a:pt x="1072" y="24"/>
                  </a:lnTo>
                  <a:lnTo>
                    <a:pt x="1184" y="1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22960" y="4686480"/>
              <a:ext cx="128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655200" y="1270080"/>
            <a:ext cx="78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chéma mécanique fonctionnel : ballon élastique dans un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31600" y="4889520"/>
            <a:ext cx="499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ction du système actif : on tire le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302600" y="40514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981080" y="469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3187800" y="3301560"/>
            <a:ext cx="203040" cy="20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H="1" flipV="1">
            <a:off x="571320" y="3225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527040" y="2133360"/>
            <a:ext cx="2851920" cy="4206960"/>
            <a:chOff x="527040" y="2133360"/>
            <a:chExt cx="2851920" cy="4206960"/>
          </a:xfrm>
        </p:grpSpPr>
        <p:grpSp>
          <p:nvGrpSpPr>
            <p:cNvPr id="1266" name=""/>
            <p:cNvGrpSpPr/>
            <p:nvPr/>
          </p:nvGrpSpPr>
          <p:grpSpPr>
            <a:xfrm>
              <a:off x="527040" y="2957400"/>
              <a:ext cx="2851920" cy="3382920"/>
              <a:chOff x="527040" y="2957400"/>
              <a:chExt cx="2851920" cy="3382920"/>
            </a:xfrm>
          </p:grpSpPr>
          <p:sp>
            <p:nvSpPr>
              <p:cNvPr id="1267" name=""/>
              <p:cNvSpPr/>
              <p:nvPr/>
            </p:nvSpPr>
            <p:spPr>
              <a:xfrm>
                <a:off x="528120" y="2957400"/>
                <a:ext cx="2836800" cy="338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H="1">
                <a:off x="540720" y="2957400"/>
                <a:ext cx="2838240" cy="338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27040" y="4669920"/>
                <a:ext cx="2838240" cy="0"/>
              </a:xfrm>
              <a:prstGeom prst="line">
                <a:avLst/>
              </a:prstGeom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0" name=""/>
            <p:cNvSpPr/>
            <p:nvPr/>
          </p:nvSpPr>
          <p:spPr>
            <a:xfrm>
              <a:off x="963720" y="2965320"/>
              <a:ext cx="1960560" cy="1447920"/>
            </a:xfrm>
            <a:custGeom>
              <a:avLst/>
              <a:gdLst/>
              <a:ahLst/>
              <a:rect l="l" t="t" r="r" b="b"/>
              <a:pathLst>
                <a:path w="1235" h="912">
                  <a:moveTo>
                    <a:pt x="557" y="0"/>
                  </a:moveTo>
                  <a:lnTo>
                    <a:pt x="0" y="912"/>
                  </a:lnTo>
                  <a:lnTo>
                    <a:pt x="1235" y="912"/>
                  </a:lnTo>
                  <a:lnTo>
                    <a:pt x="695" y="12"/>
                  </a:lnTo>
                </a:path>
              </a:pathLst>
            </a:custGeom>
            <a:solidFill>
              <a:srgbClr val="fc0128"/>
            </a:soli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698480" y="3332160"/>
              <a:ext cx="476280" cy="820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1954080" y="2776320"/>
              <a:ext cx="0" cy="12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838160" y="2170080"/>
              <a:ext cx="209880" cy="12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1838160" y="2136600"/>
              <a:ext cx="0" cy="1238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2054160" y="2133360"/>
              <a:ext cx="0" cy="1238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6197760" y="2106720"/>
            <a:ext cx="1307880" cy="2579760"/>
            <a:chOff x="6197760" y="2106720"/>
            <a:chExt cx="1307880" cy="2579760"/>
          </a:xfrm>
        </p:grpSpPr>
        <p:sp>
          <p:nvSpPr>
            <p:cNvPr id="1277" name=""/>
            <p:cNvSpPr/>
            <p:nvPr/>
          </p:nvSpPr>
          <p:spPr>
            <a:xfrm>
              <a:off x="6613560" y="2494080"/>
              <a:ext cx="476280" cy="8208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6856560" y="2344680"/>
              <a:ext cx="0" cy="130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6753240" y="2122560"/>
              <a:ext cx="0" cy="417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6956280" y="2117520"/>
              <a:ext cx="0" cy="417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197760" y="2286000"/>
              <a:ext cx="1295280" cy="1650960"/>
            </a:xfrm>
            <a:custGeom>
              <a:avLst/>
              <a:gdLst/>
              <a:ahLst/>
              <a:rect l="l" t="t" r="r" b="b"/>
              <a:pathLst>
                <a:path w="584" h="688">
                  <a:moveTo>
                    <a:pt x="0" y="688"/>
                  </a:moveTo>
                  <a:lnTo>
                    <a:pt x="0" y="0"/>
                  </a:lnTo>
                  <a:lnTo>
                    <a:pt x="584" y="0"/>
                  </a:lnTo>
                  <a:lnTo>
                    <a:pt x="584" y="6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765840" y="2106720"/>
              <a:ext cx="184320" cy="8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3" name=""/>
            <p:cNvGrpSpPr/>
            <p:nvPr/>
          </p:nvGrpSpPr>
          <p:grpSpPr>
            <a:xfrm>
              <a:off x="6210360" y="3873600"/>
              <a:ext cx="1282680" cy="393480"/>
              <a:chOff x="6210360" y="3873600"/>
              <a:chExt cx="1282680" cy="393480"/>
            </a:xfrm>
          </p:grpSpPr>
          <p:sp>
            <p:nvSpPr>
              <p:cNvPr id="1284" name=""/>
              <p:cNvSpPr/>
              <p:nvPr/>
            </p:nvSpPr>
            <p:spPr>
              <a:xfrm>
                <a:off x="6210360" y="3873600"/>
                <a:ext cx="1282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620040" y="4267080"/>
                <a:ext cx="495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867360" y="3911760"/>
                <a:ext cx="0" cy="35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7" name=""/>
            <p:cNvSpPr/>
            <p:nvPr/>
          </p:nvSpPr>
          <p:spPr>
            <a:xfrm rot="5400000">
              <a:off x="5602320" y="2961360"/>
              <a:ext cx="1524240" cy="236520"/>
            </a:xfrm>
            <a:custGeom>
              <a:avLst/>
              <a:gdLst/>
              <a:ahLst/>
              <a:rect l="l" t="t" r="r" b="b"/>
              <a:pathLst>
                <a:path w="1184" h="136">
                  <a:moveTo>
                    <a:pt x="0" y="136"/>
                  </a:moveTo>
                  <a:lnTo>
                    <a:pt x="136" y="0"/>
                  </a:lnTo>
                  <a:lnTo>
                    <a:pt x="264" y="128"/>
                  </a:lnTo>
                  <a:lnTo>
                    <a:pt x="384" y="8"/>
                  </a:lnTo>
                  <a:lnTo>
                    <a:pt x="504" y="128"/>
                  </a:lnTo>
                  <a:lnTo>
                    <a:pt x="616" y="16"/>
                  </a:lnTo>
                  <a:lnTo>
                    <a:pt x="736" y="136"/>
                  </a:lnTo>
                  <a:lnTo>
                    <a:pt x="848" y="24"/>
                  </a:lnTo>
                  <a:lnTo>
                    <a:pt x="960" y="136"/>
                  </a:lnTo>
                  <a:lnTo>
                    <a:pt x="1072" y="24"/>
                  </a:lnTo>
                  <a:lnTo>
                    <a:pt x="1184" y="1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rot="5400000">
              <a:off x="6015600" y="4186800"/>
              <a:ext cx="808200" cy="177840"/>
            </a:xfrm>
            <a:custGeom>
              <a:avLst/>
              <a:gdLst/>
              <a:ahLst/>
              <a:rect l="l" t="t" r="r" b="b"/>
              <a:pathLst>
                <a:path w="1184" h="136">
                  <a:moveTo>
                    <a:pt x="0" y="136"/>
                  </a:moveTo>
                  <a:lnTo>
                    <a:pt x="136" y="0"/>
                  </a:lnTo>
                  <a:lnTo>
                    <a:pt x="264" y="128"/>
                  </a:lnTo>
                  <a:lnTo>
                    <a:pt x="384" y="8"/>
                  </a:lnTo>
                  <a:lnTo>
                    <a:pt x="504" y="128"/>
                  </a:lnTo>
                  <a:lnTo>
                    <a:pt x="616" y="16"/>
                  </a:lnTo>
                  <a:lnTo>
                    <a:pt x="736" y="136"/>
                  </a:lnTo>
                  <a:lnTo>
                    <a:pt x="848" y="24"/>
                  </a:lnTo>
                  <a:lnTo>
                    <a:pt x="960" y="136"/>
                  </a:lnTo>
                  <a:lnTo>
                    <a:pt x="1072" y="24"/>
                  </a:lnTo>
                  <a:lnTo>
                    <a:pt x="1184" y="1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22960" y="4686480"/>
              <a:ext cx="128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0" name=""/>
          <p:cNvSpPr/>
          <p:nvPr/>
        </p:nvSpPr>
        <p:spPr>
          <a:xfrm>
            <a:off x="6537600" y="51800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 x V = con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081080" y="5203800"/>
            <a:ext cx="46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u volume du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873360" y="5508720"/>
            <a:ext cx="55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e pression dans le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3" name=""/>
          <p:cNvGrpSpPr/>
          <p:nvPr/>
        </p:nvGrpSpPr>
        <p:grpSpPr>
          <a:xfrm>
            <a:off x="527040" y="2957400"/>
            <a:ext cx="2851920" cy="3382920"/>
            <a:chOff x="527040" y="2957400"/>
            <a:chExt cx="2851920" cy="3382920"/>
          </a:xfrm>
        </p:grpSpPr>
        <p:sp>
          <p:nvSpPr>
            <p:cNvPr id="1294" name=""/>
            <p:cNvSpPr/>
            <p:nvPr/>
          </p:nvSpPr>
          <p:spPr>
            <a:xfrm>
              <a:off x="528120" y="2957400"/>
              <a:ext cx="2836800" cy="338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540720" y="2957400"/>
              <a:ext cx="2838240" cy="338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27040" y="4669920"/>
              <a:ext cx="2838240" cy="0"/>
            </a:xfrm>
            <a:prstGeom prst="line">
              <a:avLst/>
            </a:prstGeom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963720" y="2965320"/>
            <a:ext cx="1960560" cy="1447920"/>
          </a:xfrm>
          <a:custGeom>
            <a:avLst/>
            <a:gdLst/>
            <a:ahLst/>
            <a:rect l="l" t="t" r="r" b="b"/>
            <a:pathLst>
              <a:path w="1235" h="912">
                <a:moveTo>
                  <a:pt x="557" y="0"/>
                </a:moveTo>
                <a:lnTo>
                  <a:pt x="0" y="912"/>
                </a:lnTo>
                <a:lnTo>
                  <a:pt x="1235" y="912"/>
                </a:lnTo>
                <a:lnTo>
                  <a:pt x="695" y="12"/>
                </a:lnTo>
              </a:path>
            </a:pathLst>
          </a:custGeom>
          <a:solidFill>
            <a:srgbClr val="fc0128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495440" y="3332160"/>
            <a:ext cx="895320" cy="960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1954080" y="2776320"/>
            <a:ext cx="0" cy="1299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838160" y="2170080"/>
            <a:ext cx="209880" cy="12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1838160" y="2136600"/>
            <a:ext cx="0" cy="1238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2054160" y="2133360"/>
            <a:ext cx="0" cy="1238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0960" y="127080"/>
            <a:ext cx="220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650480" y="11448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ression, volume et dé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55200" y="1270080"/>
            <a:ext cx="78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chéma mécanique fonctionnel : ballon élastique dans un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473880" y="2494080"/>
            <a:ext cx="819000" cy="1036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6856560" y="2344680"/>
            <a:ext cx="0" cy="1303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6753240" y="2122560"/>
            <a:ext cx="0" cy="417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6956280" y="2117520"/>
            <a:ext cx="0" cy="41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197760" y="2286000"/>
            <a:ext cx="1295280" cy="1650960"/>
          </a:xfrm>
          <a:custGeom>
            <a:avLst/>
            <a:gdLst/>
            <a:ahLst/>
            <a:rect l="l" t="t" r="r" b="b"/>
            <a:pathLst>
              <a:path w="584" h="688">
                <a:moveTo>
                  <a:pt x="0" y="688"/>
                </a:moveTo>
                <a:lnTo>
                  <a:pt x="0" y="0"/>
                </a:lnTo>
                <a:lnTo>
                  <a:pt x="584" y="0"/>
                </a:lnTo>
                <a:lnTo>
                  <a:pt x="584" y="6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765840" y="2106720"/>
            <a:ext cx="184320" cy="8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6210360" y="3873600"/>
            <a:ext cx="1282680" cy="393480"/>
            <a:chOff x="6210360" y="3873600"/>
            <a:chExt cx="1282680" cy="393480"/>
          </a:xfrm>
        </p:grpSpPr>
        <p:sp>
          <p:nvSpPr>
            <p:cNvPr id="1315" name=""/>
            <p:cNvSpPr/>
            <p:nvPr/>
          </p:nvSpPr>
          <p:spPr>
            <a:xfrm>
              <a:off x="6210360" y="3873600"/>
              <a:ext cx="128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620040" y="4267080"/>
              <a:ext cx="495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867360" y="3911760"/>
              <a:ext cx="0" cy="35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 rot="5400000">
            <a:off x="5602320" y="2961360"/>
            <a:ext cx="1524240" cy="236520"/>
          </a:xfrm>
          <a:custGeom>
            <a:avLst/>
            <a:gdLst/>
            <a:ahLst/>
            <a:rect l="l" t="t" r="r" b="b"/>
            <a:pathLst>
              <a:path w="1184" h="136">
                <a:moveTo>
                  <a:pt x="0" y="136"/>
                </a:moveTo>
                <a:lnTo>
                  <a:pt x="136" y="0"/>
                </a:lnTo>
                <a:lnTo>
                  <a:pt x="264" y="128"/>
                </a:lnTo>
                <a:lnTo>
                  <a:pt x="384" y="8"/>
                </a:lnTo>
                <a:lnTo>
                  <a:pt x="504" y="128"/>
                </a:lnTo>
                <a:lnTo>
                  <a:pt x="616" y="16"/>
                </a:lnTo>
                <a:lnTo>
                  <a:pt x="736" y="136"/>
                </a:lnTo>
                <a:lnTo>
                  <a:pt x="848" y="24"/>
                </a:lnTo>
                <a:lnTo>
                  <a:pt x="960" y="136"/>
                </a:lnTo>
                <a:lnTo>
                  <a:pt x="1072" y="24"/>
                </a:lnTo>
                <a:lnTo>
                  <a:pt x="1184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rot="5400000">
            <a:off x="6015600" y="4186800"/>
            <a:ext cx="808200" cy="177840"/>
          </a:xfrm>
          <a:custGeom>
            <a:avLst/>
            <a:gdLst/>
            <a:ahLst/>
            <a:rect l="l" t="t" r="r" b="b"/>
            <a:pathLst>
              <a:path w="1184" h="136">
                <a:moveTo>
                  <a:pt x="0" y="136"/>
                </a:moveTo>
                <a:lnTo>
                  <a:pt x="136" y="0"/>
                </a:lnTo>
                <a:lnTo>
                  <a:pt x="264" y="128"/>
                </a:lnTo>
                <a:lnTo>
                  <a:pt x="384" y="8"/>
                </a:lnTo>
                <a:lnTo>
                  <a:pt x="504" y="128"/>
                </a:lnTo>
                <a:lnTo>
                  <a:pt x="616" y="16"/>
                </a:lnTo>
                <a:lnTo>
                  <a:pt x="736" y="136"/>
                </a:lnTo>
                <a:lnTo>
                  <a:pt x="848" y="24"/>
                </a:lnTo>
                <a:lnTo>
                  <a:pt x="960" y="136"/>
                </a:lnTo>
                <a:lnTo>
                  <a:pt x="1072" y="24"/>
                </a:lnTo>
                <a:lnTo>
                  <a:pt x="1184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222960" y="4686480"/>
            <a:ext cx="128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302600" y="40514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3187800" y="3301560"/>
            <a:ext cx="203040" cy="20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571320" y="3225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31600" y="4889520"/>
            <a:ext cx="49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ction du système actif : on tire le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981080" y="469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766520" y="5813280"/>
            <a:ext cx="58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u volume du ballon élas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2384280" y="1743120"/>
            <a:ext cx="4159800" cy="792360"/>
            <a:chOff x="2384280" y="1743120"/>
            <a:chExt cx="4159800" cy="792360"/>
          </a:xfrm>
        </p:grpSpPr>
        <p:sp>
          <p:nvSpPr>
            <p:cNvPr id="1328" name=""/>
            <p:cNvSpPr/>
            <p:nvPr/>
          </p:nvSpPr>
          <p:spPr>
            <a:xfrm>
              <a:off x="2384280" y="1743120"/>
              <a:ext cx="415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relation entre </a:t>
              </a:r>
              <a:r>
                <a:rPr b="0" lang="fr-FR" sz="1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V et 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P : 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compli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065040" y="2136600"/>
              <a:ext cx="2459520" cy="39888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compliance : 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V/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0" name=""/>
          <p:cNvSpPr/>
          <p:nvPr/>
        </p:nvSpPr>
        <p:spPr>
          <a:xfrm>
            <a:off x="1081080" y="5203800"/>
            <a:ext cx="46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u volume du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873360" y="5508720"/>
            <a:ext cx="55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e pression dans le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060800" y="289404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lastance = 1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116960" y="101520"/>
            <a:ext cx="414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ystèmes respira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4160" y="596880"/>
            <a:ext cx="8760960" cy="51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II. le problème de l’O</a:t>
            </a:r>
            <a:r>
              <a:rPr b="0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0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. données phy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B. air et 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III. caractéristiques fonctionnelles d’un systèm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. caractéristiques géné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interface milieu-an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vent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transport des gaz dans l’org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modulation par rapport aux beso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B. les principaux types de systèmes respirato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système sans appareil spécialis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système trachéal des Insec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branch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poum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400" y="10332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Trebuchet MS"/>
              </a:rPr>
              <a:t>physiologi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990000"/>
                </a:solidFill>
                <a:latin typeface="Trebuchet MS"/>
              </a:rPr>
              <a:t>compa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3" name=""/>
          <p:cNvGrpSpPr/>
          <p:nvPr/>
        </p:nvGrpSpPr>
        <p:grpSpPr>
          <a:xfrm>
            <a:off x="527040" y="2957400"/>
            <a:ext cx="2851920" cy="3382920"/>
            <a:chOff x="527040" y="2957400"/>
            <a:chExt cx="2851920" cy="3382920"/>
          </a:xfrm>
        </p:grpSpPr>
        <p:sp>
          <p:nvSpPr>
            <p:cNvPr id="1334" name=""/>
            <p:cNvSpPr/>
            <p:nvPr/>
          </p:nvSpPr>
          <p:spPr>
            <a:xfrm>
              <a:off x="528120" y="2957400"/>
              <a:ext cx="2836800" cy="338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540720" y="2957400"/>
              <a:ext cx="2838240" cy="338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27040" y="4669920"/>
              <a:ext cx="2838240" cy="0"/>
            </a:xfrm>
            <a:prstGeom prst="line">
              <a:avLst/>
            </a:prstGeom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7" name=""/>
          <p:cNvSpPr/>
          <p:nvPr/>
        </p:nvSpPr>
        <p:spPr>
          <a:xfrm>
            <a:off x="963720" y="2965320"/>
            <a:ext cx="1960560" cy="1447920"/>
          </a:xfrm>
          <a:custGeom>
            <a:avLst/>
            <a:gdLst/>
            <a:ahLst/>
            <a:rect l="l" t="t" r="r" b="b"/>
            <a:pathLst>
              <a:path w="1235" h="912">
                <a:moveTo>
                  <a:pt x="557" y="0"/>
                </a:moveTo>
                <a:lnTo>
                  <a:pt x="0" y="912"/>
                </a:lnTo>
                <a:lnTo>
                  <a:pt x="1235" y="912"/>
                </a:lnTo>
                <a:lnTo>
                  <a:pt x="695" y="12"/>
                </a:lnTo>
              </a:path>
            </a:pathLst>
          </a:custGeom>
          <a:solidFill>
            <a:srgbClr val="fc0128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495440" y="3332160"/>
            <a:ext cx="895320" cy="960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1954080" y="2776320"/>
            <a:ext cx="0" cy="1299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838160" y="2170080"/>
            <a:ext cx="209880" cy="12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1838160" y="2136600"/>
            <a:ext cx="0" cy="1238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2054160" y="2133360"/>
            <a:ext cx="0" cy="1238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0960" y="127080"/>
            <a:ext cx="220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650480" y="11448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ression, volume et dé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55200" y="1270080"/>
            <a:ext cx="78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chéma mécanique fonctionnel : ballon élastique dans un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3187800" y="3301560"/>
            <a:ext cx="203040" cy="20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H="1" flipV="1">
            <a:off x="571320" y="3225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831600" y="4889520"/>
            <a:ext cx="49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ction du système actif : on tire le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981080" y="469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766520" y="5813280"/>
            <a:ext cx="58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u volume du ballon élas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081080" y="5203800"/>
            <a:ext cx="46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u volume du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873360" y="5508720"/>
            <a:ext cx="55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e pression dans le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123640" y="61056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e pression dans le ba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512440" y="6372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entrée d’air dans le ba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955880" y="2136600"/>
            <a:ext cx="0" cy="1673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8" name=""/>
          <p:cNvGrpSpPr/>
          <p:nvPr/>
        </p:nvGrpSpPr>
        <p:grpSpPr>
          <a:xfrm>
            <a:off x="6197760" y="2106720"/>
            <a:ext cx="1307880" cy="2579760"/>
            <a:chOff x="6197760" y="2106720"/>
            <a:chExt cx="1307880" cy="2579760"/>
          </a:xfrm>
        </p:grpSpPr>
        <p:sp>
          <p:nvSpPr>
            <p:cNvPr id="1359" name=""/>
            <p:cNvSpPr/>
            <p:nvPr/>
          </p:nvSpPr>
          <p:spPr>
            <a:xfrm>
              <a:off x="6473880" y="2494080"/>
              <a:ext cx="819000" cy="10364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>
              <a:off x="6856560" y="2344680"/>
              <a:ext cx="0" cy="130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6753240" y="2122560"/>
              <a:ext cx="0" cy="417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6956280" y="2117520"/>
              <a:ext cx="0" cy="417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197760" y="2286000"/>
              <a:ext cx="1295280" cy="1650960"/>
            </a:xfrm>
            <a:custGeom>
              <a:avLst/>
              <a:gdLst/>
              <a:ahLst/>
              <a:rect l="l" t="t" r="r" b="b"/>
              <a:pathLst>
                <a:path w="584" h="688">
                  <a:moveTo>
                    <a:pt x="0" y="688"/>
                  </a:moveTo>
                  <a:lnTo>
                    <a:pt x="0" y="0"/>
                  </a:lnTo>
                  <a:lnTo>
                    <a:pt x="584" y="0"/>
                  </a:lnTo>
                  <a:lnTo>
                    <a:pt x="584" y="6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765840" y="2106720"/>
              <a:ext cx="184320" cy="8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6210360" y="3873600"/>
              <a:ext cx="1282680" cy="393480"/>
              <a:chOff x="6210360" y="3873600"/>
              <a:chExt cx="1282680" cy="393480"/>
            </a:xfrm>
          </p:grpSpPr>
          <p:sp>
            <p:nvSpPr>
              <p:cNvPr id="1366" name=""/>
              <p:cNvSpPr/>
              <p:nvPr/>
            </p:nvSpPr>
            <p:spPr>
              <a:xfrm>
                <a:off x="6210360" y="3873600"/>
                <a:ext cx="1282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20040" y="4267080"/>
                <a:ext cx="495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867360" y="3911760"/>
                <a:ext cx="0" cy="35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9" name=""/>
            <p:cNvSpPr/>
            <p:nvPr/>
          </p:nvSpPr>
          <p:spPr>
            <a:xfrm rot="5400000">
              <a:off x="5602320" y="2961360"/>
              <a:ext cx="1524240" cy="236520"/>
            </a:xfrm>
            <a:custGeom>
              <a:avLst/>
              <a:gdLst/>
              <a:ahLst/>
              <a:rect l="l" t="t" r="r" b="b"/>
              <a:pathLst>
                <a:path w="1184" h="136">
                  <a:moveTo>
                    <a:pt x="0" y="136"/>
                  </a:moveTo>
                  <a:lnTo>
                    <a:pt x="136" y="0"/>
                  </a:lnTo>
                  <a:lnTo>
                    <a:pt x="264" y="128"/>
                  </a:lnTo>
                  <a:lnTo>
                    <a:pt x="384" y="8"/>
                  </a:lnTo>
                  <a:lnTo>
                    <a:pt x="504" y="128"/>
                  </a:lnTo>
                  <a:lnTo>
                    <a:pt x="616" y="16"/>
                  </a:lnTo>
                  <a:lnTo>
                    <a:pt x="736" y="136"/>
                  </a:lnTo>
                  <a:lnTo>
                    <a:pt x="848" y="24"/>
                  </a:lnTo>
                  <a:lnTo>
                    <a:pt x="960" y="136"/>
                  </a:lnTo>
                  <a:lnTo>
                    <a:pt x="1072" y="24"/>
                  </a:lnTo>
                  <a:lnTo>
                    <a:pt x="1184" y="1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rot="5400000">
              <a:off x="6015600" y="4186800"/>
              <a:ext cx="808200" cy="177840"/>
            </a:xfrm>
            <a:custGeom>
              <a:avLst/>
              <a:gdLst/>
              <a:ahLst/>
              <a:rect l="l" t="t" r="r" b="b"/>
              <a:pathLst>
                <a:path w="1184" h="136">
                  <a:moveTo>
                    <a:pt x="0" y="136"/>
                  </a:moveTo>
                  <a:lnTo>
                    <a:pt x="136" y="0"/>
                  </a:lnTo>
                  <a:lnTo>
                    <a:pt x="264" y="128"/>
                  </a:lnTo>
                  <a:lnTo>
                    <a:pt x="384" y="8"/>
                  </a:lnTo>
                  <a:lnTo>
                    <a:pt x="504" y="128"/>
                  </a:lnTo>
                  <a:lnTo>
                    <a:pt x="616" y="16"/>
                  </a:lnTo>
                  <a:lnTo>
                    <a:pt x="736" y="136"/>
                  </a:lnTo>
                  <a:lnTo>
                    <a:pt x="848" y="24"/>
                  </a:lnTo>
                  <a:lnTo>
                    <a:pt x="960" y="136"/>
                  </a:lnTo>
                  <a:lnTo>
                    <a:pt x="1072" y="24"/>
                  </a:lnTo>
                  <a:lnTo>
                    <a:pt x="1184" y="1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222960" y="4686480"/>
              <a:ext cx="128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302600" y="40514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858000" y="2136600"/>
              <a:ext cx="0" cy="1216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2384280" y="1766880"/>
            <a:ext cx="4145760" cy="768600"/>
            <a:chOff x="2384280" y="1766880"/>
            <a:chExt cx="4145760" cy="768600"/>
          </a:xfrm>
        </p:grpSpPr>
        <p:sp>
          <p:nvSpPr>
            <p:cNvPr id="1375" name=""/>
            <p:cNvSpPr/>
            <p:nvPr/>
          </p:nvSpPr>
          <p:spPr>
            <a:xfrm>
              <a:off x="2384280" y="1766880"/>
              <a:ext cx="41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relation entre </a:t>
              </a:r>
              <a:r>
                <a:rPr b="0" lang="fr-FR" sz="1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P et débit : résist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908440" y="2136600"/>
              <a:ext cx="3000240" cy="39888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débit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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P/rési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7" name=""/>
          <p:cNvGrpSpPr/>
          <p:nvPr/>
        </p:nvGrpSpPr>
        <p:grpSpPr>
          <a:xfrm>
            <a:off x="6215040" y="1873080"/>
            <a:ext cx="44280" cy="1500480"/>
            <a:chOff x="6215040" y="1873080"/>
            <a:chExt cx="44280" cy="1500480"/>
          </a:xfrm>
        </p:grpSpPr>
        <p:sp>
          <p:nvSpPr>
            <p:cNvPr id="1378" name=""/>
            <p:cNvSpPr/>
            <p:nvPr/>
          </p:nvSpPr>
          <p:spPr>
            <a:xfrm>
              <a:off x="6215040" y="336672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235560" y="318132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215040" y="299520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235560" y="280872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215040" y="262296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235560" y="2438640"/>
              <a:ext cx="2232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5040" y="225180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235560" y="206640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215040" y="1879560"/>
              <a:ext cx="4284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V="1">
              <a:off x="6257880" y="1873080"/>
              <a:ext cx="1440" cy="15004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8" name=""/>
          <p:cNvSpPr/>
          <p:nvPr/>
        </p:nvSpPr>
        <p:spPr>
          <a:xfrm flipV="1">
            <a:off x="6264360" y="1884240"/>
            <a:ext cx="2371680" cy="1479600"/>
          </a:xfrm>
          <a:custGeom>
            <a:avLst/>
            <a:gdLst/>
            <a:ahLst/>
            <a:rect l="l" t="t" r="r" b="b"/>
            <a:pathLst>
              <a:path w="1494" h="1002">
                <a:moveTo>
                  <a:pt x="0" y="0"/>
                </a:moveTo>
                <a:cubicBezTo>
                  <a:pt x="247" y="501"/>
                  <a:pt x="495" y="1002"/>
                  <a:pt x="744" y="1002"/>
                </a:cubicBezTo>
                <a:cubicBezTo>
                  <a:pt x="993" y="1002"/>
                  <a:pt x="1243" y="501"/>
                  <a:pt x="1494" y="0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6219720" y="3900600"/>
            <a:ext cx="44280" cy="1498320"/>
            <a:chOff x="6219720" y="3900600"/>
            <a:chExt cx="44280" cy="1498320"/>
          </a:xfrm>
        </p:grpSpPr>
        <p:sp>
          <p:nvSpPr>
            <p:cNvPr id="1390" name=""/>
            <p:cNvSpPr/>
            <p:nvPr/>
          </p:nvSpPr>
          <p:spPr>
            <a:xfrm>
              <a:off x="6219720" y="539208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240240" y="520668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219720" y="502128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240240" y="483516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219720" y="464940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240240" y="4465080"/>
              <a:ext cx="2232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219720" y="427860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240240" y="409356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9720" y="3907080"/>
              <a:ext cx="4284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6262560" y="3900600"/>
              <a:ext cx="1440" cy="14983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0" name=""/>
          <p:cNvSpPr/>
          <p:nvPr/>
        </p:nvSpPr>
        <p:spPr>
          <a:xfrm>
            <a:off x="6267600" y="3808440"/>
            <a:ext cx="2381040" cy="1687320"/>
          </a:xfrm>
          <a:custGeom>
            <a:avLst/>
            <a:gdLst/>
            <a:ahLst/>
            <a:rect l="l" t="t" r="r" b="b"/>
            <a:pathLst>
              <a:path w="1500" h="1520">
                <a:moveTo>
                  <a:pt x="0" y="753"/>
                </a:moveTo>
                <a:cubicBezTo>
                  <a:pt x="70" y="863"/>
                  <a:pt x="241" y="1520"/>
                  <a:pt x="420" y="1413"/>
                </a:cubicBezTo>
                <a:cubicBezTo>
                  <a:pt x="599" y="1306"/>
                  <a:pt x="894" y="222"/>
                  <a:pt x="1074" y="111"/>
                </a:cubicBezTo>
                <a:cubicBezTo>
                  <a:pt x="1254" y="0"/>
                  <a:pt x="1411" y="615"/>
                  <a:pt x="1500" y="747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831960" y="1863720"/>
            <a:ext cx="2381040" cy="1106640"/>
            <a:chOff x="831960" y="1863720"/>
            <a:chExt cx="2381040" cy="1106640"/>
          </a:xfrm>
        </p:grpSpPr>
        <p:sp>
          <p:nvSpPr>
            <p:cNvPr id="1402" name=""/>
            <p:cNvSpPr/>
            <p:nvPr/>
          </p:nvSpPr>
          <p:spPr>
            <a:xfrm>
              <a:off x="831960" y="1863720"/>
              <a:ext cx="1181160" cy="1106640"/>
            </a:xfrm>
            <a:custGeom>
              <a:avLst/>
              <a:gdLst/>
              <a:ahLst/>
              <a:rect l="l" t="t" r="r" b="b"/>
              <a:pathLst>
                <a:path w="744" h="996">
                  <a:moveTo>
                    <a:pt x="0" y="0"/>
                  </a:moveTo>
                  <a:cubicBezTo>
                    <a:pt x="67" y="241"/>
                    <a:pt x="134" y="482"/>
                    <a:pt x="258" y="648"/>
                  </a:cubicBezTo>
                  <a:cubicBezTo>
                    <a:pt x="382" y="814"/>
                    <a:pt x="563" y="905"/>
                    <a:pt x="744" y="996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022480" y="1863720"/>
              <a:ext cx="1190520" cy="1099800"/>
            </a:xfrm>
            <a:custGeom>
              <a:avLst/>
              <a:gdLst/>
              <a:ahLst/>
              <a:rect l="l" t="t" r="r" b="b"/>
              <a:pathLst>
                <a:path w="750" h="990">
                  <a:moveTo>
                    <a:pt x="0" y="990"/>
                  </a:moveTo>
                  <a:cubicBezTo>
                    <a:pt x="54" y="805"/>
                    <a:pt x="109" y="621"/>
                    <a:pt x="234" y="456"/>
                  </a:cubicBezTo>
                  <a:cubicBezTo>
                    <a:pt x="359" y="291"/>
                    <a:pt x="554" y="145"/>
                    <a:pt x="750" y="0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779400" y="1857240"/>
            <a:ext cx="44280" cy="1500480"/>
            <a:chOff x="779400" y="1857240"/>
            <a:chExt cx="44280" cy="1500480"/>
          </a:xfrm>
        </p:grpSpPr>
        <p:sp>
          <p:nvSpPr>
            <p:cNvPr id="1405" name=""/>
            <p:cNvSpPr/>
            <p:nvPr/>
          </p:nvSpPr>
          <p:spPr>
            <a:xfrm>
              <a:off x="779400" y="335088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99920" y="316548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79400" y="297936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99920" y="279288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79400" y="260712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99920" y="2422800"/>
              <a:ext cx="2232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79400" y="223596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99920" y="205056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79400" y="1863720"/>
              <a:ext cx="4284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822240" y="1857240"/>
              <a:ext cx="1440" cy="15004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5" name=""/>
          <p:cNvSpPr/>
          <p:nvPr/>
        </p:nvSpPr>
        <p:spPr>
          <a:xfrm>
            <a:off x="7461360" y="1739880"/>
            <a:ext cx="0" cy="383544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956560" y="3197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769360" y="2448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815440" y="168588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942160" y="4492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794920" y="373068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713560" y="521640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0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260040" y="133200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olume pulmonaire (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214320" y="5548320"/>
            <a:ext cx="264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ébit pulmonaire (L.s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-1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261120" y="4648320"/>
            <a:ext cx="2400120" cy="0"/>
          </a:xfrm>
          <a:prstGeom prst="line">
            <a:avLst/>
          </a:prstGeom>
          <a:ln w="9360">
            <a:solidFill>
              <a:srgbClr val="00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36320" y="16588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60080" y="20527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42800" y="2814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60080" y="24462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781200" y="3760920"/>
            <a:ext cx="44280" cy="1498320"/>
            <a:chOff x="781200" y="3760920"/>
            <a:chExt cx="44280" cy="1498320"/>
          </a:xfrm>
        </p:grpSpPr>
        <p:sp>
          <p:nvSpPr>
            <p:cNvPr id="1430" name=""/>
            <p:cNvSpPr/>
            <p:nvPr/>
          </p:nvSpPr>
          <p:spPr>
            <a:xfrm>
              <a:off x="781200" y="525240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801720" y="506700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81200" y="488160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01720" y="469548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81200" y="450972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801720" y="4325400"/>
              <a:ext cx="2232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81200" y="413892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801720" y="395388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81200" y="3767400"/>
              <a:ext cx="4284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824040" y="3760920"/>
              <a:ext cx="1440" cy="14983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828720" y="3668760"/>
            <a:ext cx="2381040" cy="1687320"/>
          </a:xfrm>
          <a:custGeom>
            <a:avLst/>
            <a:gdLst/>
            <a:ahLst/>
            <a:rect l="l" t="t" r="r" b="b"/>
            <a:pathLst>
              <a:path w="1500" h="1520">
                <a:moveTo>
                  <a:pt x="0" y="753"/>
                </a:moveTo>
                <a:cubicBezTo>
                  <a:pt x="70" y="863"/>
                  <a:pt x="241" y="1520"/>
                  <a:pt x="420" y="1413"/>
                </a:cubicBezTo>
                <a:cubicBezTo>
                  <a:pt x="599" y="1306"/>
                  <a:pt x="894" y="222"/>
                  <a:pt x="1074" y="111"/>
                </a:cubicBezTo>
                <a:cubicBezTo>
                  <a:pt x="1254" y="0"/>
                  <a:pt x="1411" y="615"/>
                  <a:pt x="1500" y="747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03640" y="4352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41800" y="3591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5640" y="50767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822240" y="4508640"/>
            <a:ext cx="2400480" cy="0"/>
          </a:xfrm>
          <a:prstGeom prst="line">
            <a:avLst/>
          </a:prstGeom>
          <a:ln w="9360">
            <a:solidFill>
              <a:srgbClr val="00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248520" y="1752480"/>
            <a:ext cx="2400120" cy="3810240"/>
          </a:xfrm>
          <a:custGeom>
            <a:avLst/>
            <a:gdLst/>
            <a:ahLst/>
            <a:rect l="l" t="t" r="r" b="b"/>
            <a:pathLst>
              <a:path w="1512" h="2232">
                <a:moveTo>
                  <a:pt x="0" y="0"/>
                </a:moveTo>
                <a:lnTo>
                  <a:pt x="1512" y="0"/>
                </a:lnTo>
                <a:lnTo>
                  <a:pt x="1512" y="2232"/>
                </a:lnTo>
                <a:lnTo>
                  <a:pt x="0" y="2232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209640" y="342756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spiration  ex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3688920" y="2664000"/>
            <a:ext cx="1591200" cy="2247840"/>
            <a:chOff x="3688920" y="2664000"/>
            <a:chExt cx="1591200" cy="2247840"/>
          </a:xfrm>
        </p:grpSpPr>
        <p:sp>
          <p:nvSpPr>
            <p:cNvPr id="1448" name=""/>
            <p:cNvSpPr/>
            <p:nvPr/>
          </p:nvSpPr>
          <p:spPr>
            <a:xfrm flipH="1">
              <a:off x="3753720" y="2967120"/>
              <a:ext cx="831960" cy="180360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3688920" y="2827440"/>
              <a:ext cx="961920" cy="208440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4529880" y="2664000"/>
              <a:ext cx="336600" cy="838080"/>
            </a:xfrm>
            <a:custGeom>
              <a:avLst/>
              <a:gdLst/>
              <a:ahLst/>
              <a:rect l="l" t="t" r="r" b="b"/>
              <a:pathLst>
                <a:path w="212" h="528">
                  <a:moveTo>
                    <a:pt x="212" y="528"/>
                  </a:moveTo>
                  <a:cubicBezTo>
                    <a:pt x="192" y="525"/>
                    <a:pt x="172" y="522"/>
                    <a:pt x="140" y="492"/>
                  </a:cubicBezTo>
                  <a:cubicBezTo>
                    <a:pt x="108" y="462"/>
                    <a:pt x="40" y="430"/>
                    <a:pt x="20" y="348"/>
                  </a:cubicBezTo>
                  <a:cubicBezTo>
                    <a:pt x="0" y="266"/>
                    <a:pt x="10" y="133"/>
                    <a:pt x="2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943520" y="2679840"/>
              <a:ext cx="336600" cy="838440"/>
            </a:xfrm>
            <a:custGeom>
              <a:avLst/>
              <a:gdLst/>
              <a:ahLst/>
              <a:rect l="l" t="t" r="r" b="b"/>
              <a:pathLst>
                <a:path w="212" h="528">
                  <a:moveTo>
                    <a:pt x="212" y="528"/>
                  </a:moveTo>
                  <a:cubicBezTo>
                    <a:pt x="192" y="525"/>
                    <a:pt x="172" y="522"/>
                    <a:pt x="140" y="492"/>
                  </a:cubicBezTo>
                  <a:cubicBezTo>
                    <a:pt x="108" y="462"/>
                    <a:pt x="40" y="430"/>
                    <a:pt x="20" y="348"/>
                  </a:cubicBezTo>
                  <a:cubicBezTo>
                    <a:pt x="0" y="266"/>
                    <a:pt x="10" y="133"/>
                    <a:pt x="2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4530240" y="3375360"/>
              <a:ext cx="743040" cy="298440"/>
            </a:xfrm>
            <a:custGeom>
              <a:avLst/>
              <a:gdLst/>
              <a:ahLst/>
              <a:rect l="l" t="t" r="r" b="b"/>
              <a:pathLst>
                <a:path w="468" h="188">
                  <a:moveTo>
                    <a:pt x="468" y="188"/>
                  </a:moveTo>
                  <a:cubicBezTo>
                    <a:pt x="415" y="149"/>
                    <a:pt x="362" y="111"/>
                    <a:pt x="324" y="80"/>
                  </a:cubicBezTo>
                  <a:cubicBezTo>
                    <a:pt x="286" y="49"/>
                    <a:pt x="268" y="4"/>
                    <a:pt x="240" y="2"/>
                  </a:cubicBezTo>
                  <a:cubicBezTo>
                    <a:pt x="212" y="0"/>
                    <a:pt x="196" y="37"/>
                    <a:pt x="156" y="68"/>
                  </a:cubicBezTo>
                  <a:cubicBezTo>
                    <a:pt x="116" y="99"/>
                    <a:pt x="58" y="143"/>
                    <a:pt x="0" y="1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3" name=""/>
          <p:cNvSpPr/>
          <p:nvPr/>
        </p:nvSpPr>
        <p:spPr>
          <a:xfrm>
            <a:off x="812880" y="1752480"/>
            <a:ext cx="2400120" cy="3810240"/>
          </a:xfrm>
          <a:custGeom>
            <a:avLst/>
            <a:gdLst/>
            <a:ahLst/>
            <a:rect l="l" t="t" r="r" b="b"/>
            <a:pathLst>
              <a:path w="1512" h="2232">
                <a:moveTo>
                  <a:pt x="0" y="0"/>
                </a:moveTo>
                <a:lnTo>
                  <a:pt x="1512" y="0"/>
                </a:lnTo>
                <a:lnTo>
                  <a:pt x="1512" y="2232"/>
                </a:lnTo>
                <a:lnTo>
                  <a:pt x="0" y="2232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025720" y="1739880"/>
            <a:ext cx="0" cy="383544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99560" y="341460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spiration  ex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34760" y="133200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ssion intrapleu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763920" y="5560920"/>
            <a:ext cx="2206080" cy="6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ssion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(cm H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 flipV="1">
            <a:off x="3276360" y="2793600"/>
            <a:ext cx="469800" cy="10666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3314880" y="3848040"/>
            <a:ext cx="838080" cy="58428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960" y="127080"/>
            <a:ext cx="220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650480" y="11448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ression, volume et dé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725760" y="1955880"/>
            <a:ext cx="547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Poumon iso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olume de relaxation : volume alvéolaire n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Inflation :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variation de 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62400" y="5168880"/>
            <a:ext cx="324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opriété de distensi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orce de ré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81400" y="2940120"/>
            <a:ext cx="2610000" cy="2781360"/>
          </a:xfrm>
          <a:custGeom>
            <a:avLst/>
            <a:gdLst/>
            <a:ahLst/>
            <a:rect l="l" t="t" r="r" b="b"/>
            <a:pathLst>
              <a:path w="2220" h="1752">
                <a:moveTo>
                  <a:pt x="0" y="0"/>
                </a:moveTo>
                <a:lnTo>
                  <a:pt x="0" y="1752"/>
                </a:lnTo>
                <a:lnTo>
                  <a:pt x="2220" y="175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191120" y="3327480"/>
            <a:ext cx="2590560" cy="2384280"/>
          </a:xfrm>
          <a:custGeom>
            <a:avLst/>
            <a:gdLst/>
            <a:ahLst/>
            <a:rect l="l" t="t" r="r" b="b"/>
            <a:pathLst>
              <a:path w="2004" h="1502">
                <a:moveTo>
                  <a:pt x="0" y="1502"/>
                </a:moveTo>
                <a:cubicBezTo>
                  <a:pt x="132" y="1169"/>
                  <a:pt x="264" y="837"/>
                  <a:pt x="432" y="608"/>
                </a:cubicBezTo>
                <a:cubicBezTo>
                  <a:pt x="600" y="379"/>
                  <a:pt x="836" y="226"/>
                  <a:pt x="1008" y="128"/>
                </a:cubicBezTo>
                <a:cubicBezTo>
                  <a:pt x="1180" y="30"/>
                  <a:pt x="1298" y="40"/>
                  <a:pt x="1464" y="20"/>
                </a:cubicBezTo>
                <a:cubicBezTo>
                  <a:pt x="1630" y="0"/>
                  <a:pt x="1817" y="4"/>
                  <a:pt x="2004" y="8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803040" y="5891040"/>
            <a:ext cx="4225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ssion interne-pression exte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744360" y="3232080"/>
            <a:ext cx="1067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78000" y="1152360"/>
            <a:ext cx="468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olume lorsque les pressions internes et externes sont ég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660920" y="5181480"/>
            <a:ext cx="139680" cy="127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095800" y="4245120"/>
            <a:ext cx="425520" cy="422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911920" y="3517920"/>
            <a:ext cx="654120" cy="612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0960" y="127080"/>
            <a:ext cx="220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650480" y="11448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87200" y="695160"/>
            <a:ext cx="331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olumes de relax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7943760" y="1293480"/>
            <a:ext cx="0" cy="104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7861320" y="1116000"/>
            <a:ext cx="0" cy="334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8024760" y="1112760"/>
            <a:ext cx="0" cy="333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416720" y="1246320"/>
            <a:ext cx="1038240" cy="1322280"/>
          </a:xfrm>
          <a:custGeom>
            <a:avLst/>
            <a:gdLst/>
            <a:ahLst/>
            <a:rect l="l" t="t" r="r" b="b"/>
            <a:pathLst>
              <a:path w="584" h="688">
                <a:moveTo>
                  <a:pt x="0" y="688"/>
                </a:moveTo>
                <a:lnTo>
                  <a:pt x="0" y="0"/>
                </a:lnTo>
                <a:lnTo>
                  <a:pt x="584" y="0"/>
                </a:lnTo>
                <a:lnTo>
                  <a:pt x="584" y="6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872480" y="1103400"/>
            <a:ext cx="147600" cy="68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264440" y="961920"/>
            <a:ext cx="1371600" cy="255276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552760"/>
              <a:gd name="textAreaBottom" fmla="*/ 2485800 h 2552760"/>
            </a:gdLst>
            <a:ahLst/>
            <a:rect l="textAreaLeft" t="textAreaTop" r="textAreaRight" b="textAreaBottom"/>
            <a:pathLst>
              <a:path w="21600" h="40196">
                <a:moveTo>
                  <a:pt x="3600" y="0"/>
                </a:moveTo>
                <a:arcTo wR="3600" hR="3600" stAng="16200000" swAng="-5400000"/>
                <a:lnTo>
                  <a:pt x="0" y="36596"/>
                </a:lnTo>
                <a:arcTo wR="3600" hR="3600" stAng="10800000" swAng="-5400000"/>
                <a:lnTo>
                  <a:pt x="18000" y="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7861320" y="1420920"/>
            <a:ext cx="223920" cy="915840"/>
          </a:xfrm>
          <a:custGeom>
            <a:avLst/>
            <a:gdLst/>
            <a:ahLst/>
            <a:rect l="l" t="t" r="r" b="b"/>
            <a:pathLst>
              <a:path w="141" h="577">
                <a:moveTo>
                  <a:pt x="0" y="9"/>
                </a:moveTo>
                <a:cubicBezTo>
                  <a:pt x="4" y="32"/>
                  <a:pt x="17" y="118"/>
                  <a:pt x="27" y="137"/>
                </a:cubicBezTo>
                <a:cubicBezTo>
                  <a:pt x="38" y="158"/>
                  <a:pt x="56" y="170"/>
                  <a:pt x="68" y="190"/>
                </a:cubicBezTo>
                <a:cubicBezTo>
                  <a:pt x="74" y="216"/>
                  <a:pt x="92" y="264"/>
                  <a:pt x="75" y="294"/>
                </a:cubicBezTo>
                <a:cubicBezTo>
                  <a:pt x="64" y="313"/>
                  <a:pt x="34" y="336"/>
                  <a:pt x="34" y="336"/>
                </a:cubicBezTo>
                <a:cubicBezTo>
                  <a:pt x="30" y="347"/>
                  <a:pt x="24" y="356"/>
                  <a:pt x="21" y="368"/>
                </a:cubicBezTo>
                <a:cubicBezTo>
                  <a:pt x="15" y="387"/>
                  <a:pt x="7" y="430"/>
                  <a:pt x="7" y="430"/>
                </a:cubicBezTo>
                <a:cubicBezTo>
                  <a:pt x="10" y="467"/>
                  <a:pt x="7" y="508"/>
                  <a:pt x="27" y="535"/>
                </a:cubicBezTo>
                <a:cubicBezTo>
                  <a:pt x="39" y="552"/>
                  <a:pt x="68" y="577"/>
                  <a:pt x="68" y="577"/>
                </a:cubicBezTo>
                <a:cubicBezTo>
                  <a:pt x="94" y="519"/>
                  <a:pt x="68" y="509"/>
                  <a:pt x="55" y="451"/>
                </a:cubicBezTo>
                <a:cubicBezTo>
                  <a:pt x="57" y="441"/>
                  <a:pt x="56" y="428"/>
                  <a:pt x="62" y="420"/>
                </a:cubicBezTo>
                <a:cubicBezTo>
                  <a:pt x="73" y="402"/>
                  <a:pt x="103" y="378"/>
                  <a:pt x="103" y="378"/>
                </a:cubicBezTo>
                <a:cubicBezTo>
                  <a:pt x="141" y="290"/>
                  <a:pt x="134" y="335"/>
                  <a:pt x="123" y="211"/>
                </a:cubicBezTo>
                <a:cubicBezTo>
                  <a:pt x="118" y="149"/>
                  <a:pt x="124" y="166"/>
                  <a:pt x="96" y="137"/>
                </a:cubicBezTo>
                <a:cubicBezTo>
                  <a:pt x="82" y="106"/>
                  <a:pt x="56" y="81"/>
                  <a:pt x="75" y="43"/>
                </a:cubicBezTo>
                <a:cubicBezTo>
                  <a:pt x="97" y="0"/>
                  <a:pt x="96" y="41"/>
                  <a:pt x="96" y="12"/>
                </a:cubicBezTo>
              </a:path>
            </a:pathLst>
          </a:custGeom>
          <a:solidFill>
            <a:srgbClr val="ffffff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767880" y="1192320"/>
            <a:ext cx="422244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paroi thoracique isol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olume de relaxation (V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relax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 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i V &gt; V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relax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orce de rétrac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i V &lt; V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relax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orce d’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888840" y="3112920"/>
            <a:ext cx="1822680" cy="2413080"/>
          </a:xfrm>
          <a:prstGeom prst="rect">
            <a:avLst/>
          </a:prstGeom>
          <a:ln w="0">
            <a:noFill/>
          </a:ln>
        </p:spPr>
      </p:pic>
      <p:grpSp>
        <p:nvGrpSpPr>
          <p:cNvPr id="1487" name=""/>
          <p:cNvGrpSpPr/>
          <p:nvPr/>
        </p:nvGrpSpPr>
        <p:grpSpPr>
          <a:xfrm>
            <a:off x="4362480" y="4071960"/>
            <a:ext cx="1320120" cy="1265760"/>
            <a:chOff x="4362480" y="4071960"/>
            <a:chExt cx="1320120" cy="1265760"/>
          </a:xfrm>
        </p:grpSpPr>
        <p:sp>
          <p:nvSpPr>
            <p:cNvPr id="1488" name=""/>
            <p:cNvSpPr/>
            <p:nvPr/>
          </p:nvSpPr>
          <p:spPr>
            <a:xfrm>
              <a:off x="4363200" y="4071960"/>
              <a:ext cx="1313280" cy="126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4368600" y="4071960"/>
              <a:ext cx="1314000" cy="126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362480" y="4713120"/>
              <a:ext cx="1314360" cy="0"/>
            </a:xfrm>
            <a:prstGeom prst="line">
              <a:avLst/>
            </a:prstGeom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5487840" y="3154320"/>
            <a:ext cx="1827360" cy="1831320"/>
            <a:chOff x="5487840" y="3154320"/>
            <a:chExt cx="1827360" cy="1831320"/>
          </a:xfrm>
        </p:grpSpPr>
        <p:sp>
          <p:nvSpPr>
            <p:cNvPr id="1492" name=""/>
            <p:cNvSpPr/>
            <p:nvPr/>
          </p:nvSpPr>
          <p:spPr>
            <a:xfrm>
              <a:off x="5488560" y="3154320"/>
              <a:ext cx="181800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5496480" y="3154320"/>
              <a:ext cx="181872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487840" y="4081320"/>
              <a:ext cx="1819440" cy="0"/>
            </a:xfrm>
            <a:prstGeom prst="line">
              <a:avLst/>
            </a:prstGeom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5" name=""/>
          <p:cNvGrpSpPr/>
          <p:nvPr/>
        </p:nvGrpSpPr>
        <p:grpSpPr>
          <a:xfrm>
            <a:off x="3279600" y="5065560"/>
            <a:ext cx="946800" cy="984600"/>
            <a:chOff x="3279600" y="5065560"/>
            <a:chExt cx="946800" cy="984600"/>
          </a:xfrm>
        </p:grpSpPr>
        <p:sp>
          <p:nvSpPr>
            <p:cNvPr id="1496" name=""/>
            <p:cNvSpPr/>
            <p:nvPr/>
          </p:nvSpPr>
          <p:spPr>
            <a:xfrm>
              <a:off x="3279960" y="5065560"/>
              <a:ext cx="942480" cy="98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3283920" y="5065560"/>
              <a:ext cx="942480" cy="98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279600" y="5564160"/>
              <a:ext cx="943200" cy="0"/>
            </a:xfrm>
            <a:prstGeom prst="line">
              <a:avLst/>
            </a:prstGeom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 flipV="1">
            <a:off x="5025960" y="2980800"/>
            <a:ext cx="0" cy="27529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2502000" y="5734080"/>
            <a:ext cx="4448160" cy="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237480" y="5902200"/>
            <a:ext cx="356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ression interne-pression exte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546080" y="3218040"/>
            <a:ext cx="91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416720" y="1246320"/>
            <a:ext cx="1038240" cy="1322280"/>
          </a:xfrm>
          <a:custGeom>
            <a:avLst/>
            <a:gdLst/>
            <a:ahLst/>
            <a:rect l="l" t="t" r="r" b="b"/>
            <a:pathLst>
              <a:path w="584" h="688">
                <a:moveTo>
                  <a:pt x="0" y="688"/>
                </a:moveTo>
                <a:lnTo>
                  <a:pt x="0" y="0"/>
                </a:lnTo>
                <a:lnTo>
                  <a:pt x="584" y="0"/>
                </a:lnTo>
                <a:lnTo>
                  <a:pt x="584" y="6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426440" y="2438280"/>
            <a:ext cx="1028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754760" y="2754360"/>
            <a:ext cx="39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953480" y="2470320"/>
            <a:ext cx="0" cy="28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5400000">
            <a:off x="6968520" y="1765080"/>
            <a:ext cx="1170000" cy="182520"/>
          </a:xfrm>
          <a:custGeom>
            <a:avLst/>
            <a:gdLst/>
            <a:ahLst/>
            <a:rect l="l" t="t" r="r" b="b"/>
            <a:pathLst>
              <a:path w="1184" h="136">
                <a:moveTo>
                  <a:pt x="0" y="136"/>
                </a:moveTo>
                <a:lnTo>
                  <a:pt x="136" y="0"/>
                </a:lnTo>
                <a:lnTo>
                  <a:pt x="264" y="128"/>
                </a:lnTo>
                <a:lnTo>
                  <a:pt x="384" y="8"/>
                </a:lnTo>
                <a:lnTo>
                  <a:pt x="504" y="128"/>
                </a:lnTo>
                <a:lnTo>
                  <a:pt x="616" y="16"/>
                </a:lnTo>
                <a:lnTo>
                  <a:pt x="736" y="136"/>
                </a:lnTo>
                <a:lnTo>
                  <a:pt x="848" y="24"/>
                </a:lnTo>
                <a:lnTo>
                  <a:pt x="960" y="136"/>
                </a:lnTo>
                <a:lnTo>
                  <a:pt x="1072" y="24"/>
                </a:lnTo>
                <a:lnTo>
                  <a:pt x="1184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rot="5400000">
            <a:off x="7256160" y="2754360"/>
            <a:ext cx="708120" cy="111240"/>
          </a:xfrm>
          <a:custGeom>
            <a:avLst/>
            <a:gdLst/>
            <a:ahLst/>
            <a:rect l="l" t="t" r="r" b="b"/>
            <a:pathLst>
              <a:path w="1184" h="136">
                <a:moveTo>
                  <a:pt x="0" y="136"/>
                </a:moveTo>
                <a:lnTo>
                  <a:pt x="136" y="0"/>
                </a:lnTo>
                <a:lnTo>
                  <a:pt x="264" y="128"/>
                </a:lnTo>
                <a:lnTo>
                  <a:pt x="384" y="8"/>
                </a:lnTo>
                <a:lnTo>
                  <a:pt x="504" y="128"/>
                </a:lnTo>
                <a:lnTo>
                  <a:pt x="616" y="16"/>
                </a:lnTo>
                <a:lnTo>
                  <a:pt x="736" y="136"/>
                </a:lnTo>
                <a:lnTo>
                  <a:pt x="848" y="24"/>
                </a:lnTo>
                <a:lnTo>
                  <a:pt x="960" y="136"/>
                </a:lnTo>
                <a:lnTo>
                  <a:pt x="1072" y="24"/>
                </a:lnTo>
                <a:lnTo>
                  <a:pt x="1184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437600" y="3168720"/>
            <a:ext cx="102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30960" y="127080"/>
            <a:ext cx="220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650480" y="11448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87200" y="695160"/>
            <a:ext cx="33242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olumes de relax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264440" y="961920"/>
            <a:ext cx="1371600" cy="255276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552760"/>
              <a:gd name="textAreaBottom" fmla="*/ 2485800 h 2552760"/>
            </a:gdLst>
            <a:ahLst/>
            <a:rect l="textAreaLeft" t="textAreaTop" r="textAreaRight" b="textAreaBottom"/>
            <a:pathLst>
              <a:path w="21600" h="40196">
                <a:moveTo>
                  <a:pt x="3600" y="0"/>
                </a:moveTo>
                <a:arcTo wR="3600" hR="3600" stAng="16200000" swAng="-5400000"/>
                <a:lnTo>
                  <a:pt x="0" y="36596"/>
                </a:lnTo>
                <a:arcTo wR="3600" hR="3600" stAng="10800000" swAng="-5400000"/>
                <a:lnTo>
                  <a:pt x="18000" y="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806760" y="1000080"/>
            <a:ext cx="30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Paroi thoracique + poumon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85880" y="1459080"/>
            <a:ext cx="44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Volume de relaxation de l’ensembl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rce de rétraction du poumon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rce d’extension de la paroi thorac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1714680" y="2771640"/>
            <a:ext cx="4813200" cy="3720240"/>
            <a:chOff x="1714680" y="2771640"/>
            <a:chExt cx="4813200" cy="3720240"/>
          </a:xfrm>
        </p:grpSpPr>
        <p:sp>
          <p:nvSpPr>
            <p:cNvPr id="1518" name=""/>
            <p:cNvSpPr/>
            <p:nvPr/>
          </p:nvSpPr>
          <p:spPr>
            <a:xfrm flipV="1">
              <a:off x="4238640" y="2771640"/>
              <a:ext cx="0" cy="32004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9" name=""/>
            <p:cNvGrpSpPr/>
            <p:nvPr/>
          </p:nvGrpSpPr>
          <p:grpSpPr>
            <a:xfrm>
              <a:off x="3575160" y="3957480"/>
              <a:ext cx="1320120" cy="1266840"/>
              <a:chOff x="3575160" y="3957480"/>
              <a:chExt cx="1320120" cy="1266840"/>
            </a:xfrm>
          </p:grpSpPr>
          <p:sp>
            <p:nvSpPr>
              <p:cNvPr id="1520" name=""/>
              <p:cNvSpPr/>
              <p:nvPr/>
            </p:nvSpPr>
            <p:spPr>
              <a:xfrm>
                <a:off x="3575880" y="3957480"/>
                <a:ext cx="1313280" cy="126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H="1">
                <a:off x="3581280" y="3957480"/>
                <a:ext cx="1314000" cy="126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575160" y="4599000"/>
                <a:ext cx="1314360" cy="0"/>
              </a:xfrm>
              <a:prstGeom prst="line">
                <a:avLst/>
              </a:prstGeom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4700520" y="2925720"/>
              <a:ext cx="1827360" cy="1831320"/>
              <a:chOff x="4700520" y="2925720"/>
              <a:chExt cx="1827360" cy="1831320"/>
            </a:xfrm>
          </p:grpSpPr>
          <p:sp>
            <p:nvSpPr>
              <p:cNvPr id="1524" name=""/>
              <p:cNvSpPr/>
              <p:nvPr/>
            </p:nvSpPr>
            <p:spPr>
              <a:xfrm>
                <a:off x="4701240" y="2925720"/>
                <a:ext cx="1818000" cy="183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>
                <a:off x="4709160" y="2925720"/>
                <a:ext cx="1818720" cy="183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700520" y="3852720"/>
                <a:ext cx="1819440" cy="0"/>
              </a:xfrm>
              <a:prstGeom prst="line">
                <a:avLst/>
              </a:prstGeom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2492280" y="4836960"/>
              <a:ext cx="946800" cy="984600"/>
              <a:chOff x="2492280" y="4836960"/>
              <a:chExt cx="946800" cy="984600"/>
            </a:xfrm>
          </p:grpSpPr>
          <p:sp>
            <p:nvSpPr>
              <p:cNvPr id="1528" name=""/>
              <p:cNvSpPr/>
              <p:nvPr/>
            </p:nvSpPr>
            <p:spPr>
              <a:xfrm>
                <a:off x="2492640" y="4836960"/>
                <a:ext cx="942480" cy="9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H="1">
                <a:off x="2496600" y="4836960"/>
                <a:ext cx="942480" cy="9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492280" y="5335560"/>
                <a:ext cx="943200" cy="0"/>
              </a:xfrm>
              <a:prstGeom prst="line">
                <a:avLst/>
              </a:prstGeom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1" name=""/>
            <p:cNvSpPr/>
            <p:nvPr/>
          </p:nvSpPr>
          <p:spPr>
            <a:xfrm flipH="1">
              <a:off x="1714680" y="5962680"/>
              <a:ext cx="444816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365920" y="6154560"/>
              <a:ext cx="34056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Trebuchet MS"/>
                </a:rPr>
                <a:t>pression interne-pression exter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735000" y="3013200"/>
              <a:ext cx="886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Trebuchet MS"/>
                </a:rPr>
                <a:t>vol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029120" y="4092480"/>
              <a:ext cx="425520" cy="4222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90720" y="4950000"/>
              <a:ext cx="330480" cy="307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292720" y="3089160"/>
              <a:ext cx="749160" cy="6508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324320" y="5076720"/>
              <a:ext cx="1647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252320" y="4718160"/>
              <a:ext cx="180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inspiration a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257560" y="3325680"/>
              <a:ext cx="4066920" cy="1827360"/>
            </a:xfrm>
            <a:custGeom>
              <a:avLst/>
              <a:gdLst/>
              <a:ahLst/>
              <a:rect l="l" t="t" r="r" b="b"/>
              <a:pathLst>
                <a:path w="2562" h="1457">
                  <a:moveTo>
                    <a:pt x="0" y="1451"/>
                  </a:moveTo>
                  <a:cubicBezTo>
                    <a:pt x="279" y="1454"/>
                    <a:pt x="558" y="1457"/>
                    <a:pt x="768" y="1349"/>
                  </a:cubicBezTo>
                  <a:cubicBezTo>
                    <a:pt x="978" y="1241"/>
                    <a:pt x="1070" y="1006"/>
                    <a:pt x="1260" y="803"/>
                  </a:cubicBezTo>
                  <a:cubicBezTo>
                    <a:pt x="1450" y="600"/>
                    <a:pt x="1691" y="262"/>
                    <a:pt x="1908" y="131"/>
                  </a:cubicBezTo>
                  <a:cubicBezTo>
                    <a:pt x="2125" y="0"/>
                    <a:pt x="2343" y="8"/>
                    <a:pt x="2562" y="1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076640" y="5942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200840" y="5191200"/>
              <a:ext cx="190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expiration pass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321080" y="5616720"/>
              <a:ext cx="1648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527200" y="5622840"/>
              <a:ext cx="164808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471400" y="5616720"/>
              <a:ext cx="180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expiration forcé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5" name=""/>
          <p:cNvSpPr/>
          <p:nvPr/>
        </p:nvSpPr>
        <p:spPr>
          <a:xfrm>
            <a:off x="30960" y="127080"/>
            <a:ext cx="220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650480" y="11448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87200" y="695160"/>
            <a:ext cx="33242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olumes de relax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9" name=""/>
          <p:cNvGrpSpPr/>
          <p:nvPr/>
        </p:nvGrpSpPr>
        <p:grpSpPr>
          <a:xfrm>
            <a:off x="7264440" y="961920"/>
            <a:ext cx="1371600" cy="2552760"/>
            <a:chOff x="7264440" y="961920"/>
            <a:chExt cx="1371600" cy="2552760"/>
          </a:xfrm>
        </p:grpSpPr>
        <p:sp>
          <p:nvSpPr>
            <p:cNvPr id="1550" name=""/>
            <p:cNvSpPr/>
            <p:nvPr/>
          </p:nvSpPr>
          <p:spPr>
            <a:xfrm>
              <a:off x="7750080" y="1413000"/>
              <a:ext cx="381240" cy="65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7943760" y="1293480"/>
              <a:ext cx="0" cy="104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7861320" y="1116000"/>
              <a:ext cx="0" cy="334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V="1">
              <a:off x="8024760" y="1112760"/>
              <a:ext cx="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416720" y="1246320"/>
              <a:ext cx="1038240" cy="1322280"/>
            </a:xfrm>
            <a:custGeom>
              <a:avLst/>
              <a:gdLst/>
              <a:ahLst/>
              <a:rect l="l" t="t" r="r" b="b"/>
              <a:pathLst>
                <a:path w="584" h="688">
                  <a:moveTo>
                    <a:pt x="0" y="688"/>
                  </a:moveTo>
                  <a:lnTo>
                    <a:pt x="0" y="0"/>
                  </a:lnTo>
                  <a:lnTo>
                    <a:pt x="584" y="0"/>
                  </a:lnTo>
                  <a:lnTo>
                    <a:pt x="584" y="6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872480" y="1103400"/>
              <a:ext cx="147600" cy="68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426440" y="2222640"/>
              <a:ext cx="1028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754760" y="2538360"/>
              <a:ext cx="397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953480" y="2254320"/>
              <a:ext cx="0" cy="28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5400000">
              <a:off x="7115400" y="1658160"/>
              <a:ext cx="916200" cy="142920"/>
            </a:xfrm>
            <a:custGeom>
              <a:avLst/>
              <a:gdLst/>
              <a:ahLst/>
              <a:rect l="l" t="t" r="r" b="b"/>
              <a:pathLst>
                <a:path w="1184" h="136">
                  <a:moveTo>
                    <a:pt x="0" y="136"/>
                  </a:moveTo>
                  <a:lnTo>
                    <a:pt x="136" y="0"/>
                  </a:lnTo>
                  <a:lnTo>
                    <a:pt x="264" y="128"/>
                  </a:lnTo>
                  <a:lnTo>
                    <a:pt x="384" y="8"/>
                  </a:lnTo>
                  <a:lnTo>
                    <a:pt x="504" y="128"/>
                  </a:lnTo>
                  <a:lnTo>
                    <a:pt x="616" y="16"/>
                  </a:lnTo>
                  <a:lnTo>
                    <a:pt x="736" y="136"/>
                  </a:lnTo>
                  <a:lnTo>
                    <a:pt x="848" y="24"/>
                  </a:lnTo>
                  <a:lnTo>
                    <a:pt x="960" y="136"/>
                  </a:lnTo>
                  <a:lnTo>
                    <a:pt x="1072" y="24"/>
                  </a:lnTo>
                  <a:lnTo>
                    <a:pt x="1184" y="1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rot="5400000">
              <a:off x="7136280" y="2634480"/>
              <a:ext cx="916200" cy="142920"/>
            </a:xfrm>
            <a:custGeom>
              <a:avLst/>
              <a:gdLst/>
              <a:ahLst/>
              <a:rect l="l" t="t" r="r" b="b"/>
              <a:pathLst>
                <a:path w="1184" h="136">
                  <a:moveTo>
                    <a:pt x="0" y="136"/>
                  </a:moveTo>
                  <a:lnTo>
                    <a:pt x="136" y="0"/>
                  </a:lnTo>
                  <a:lnTo>
                    <a:pt x="264" y="128"/>
                  </a:lnTo>
                  <a:lnTo>
                    <a:pt x="384" y="8"/>
                  </a:lnTo>
                  <a:lnTo>
                    <a:pt x="504" y="128"/>
                  </a:lnTo>
                  <a:lnTo>
                    <a:pt x="616" y="16"/>
                  </a:lnTo>
                  <a:lnTo>
                    <a:pt x="736" y="136"/>
                  </a:lnTo>
                  <a:lnTo>
                    <a:pt x="848" y="24"/>
                  </a:lnTo>
                  <a:lnTo>
                    <a:pt x="960" y="136"/>
                  </a:lnTo>
                  <a:lnTo>
                    <a:pt x="1072" y="24"/>
                  </a:lnTo>
                  <a:lnTo>
                    <a:pt x="1184" y="1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437600" y="3168720"/>
              <a:ext cx="1027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264440" y="961920"/>
              <a:ext cx="1371600" cy="2552760"/>
            </a:xfrm>
            <a:custGeom>
              <a:avLst/>
              <a:gdLst>
                <a:gd name="textAreaLeft" fmla="*/ 66960 w 1371600"/>
                <a:gd name="textAreaRight" fmla="*/ 1304640 w 1371600"/>
                <a:gd name="textAreaTop" fmla="*/ 66960 h 2552760"/>
                <a:gd name="textAreaBottom" fmla="*/ 2485800 h 2552760"/>
              </a:gdLst>
              <a:ahLst/>
              <a:rect l="textAreaLeft" t="textAreaTop" r="textAreaRight" b="textAreaBottom"/>
              <a:pathLst>
                <a:path w="21600" h="40196">
                  <a:moveTo>
                    <a:pt x="3600" y="0"/>
                  </a:moveTo>
                  <a:arcTo wR="3600" hR="3600" stAng="16200000" swAng="-5400000"/>
                  <a:lnTo>
                    <a:pt x="0" y="36596"/>
                  </a:lnTo>
                  <a:arcTo wR="3600" hR="3600" stAng="10800000" swAng="-5400000"/>
                  <a:lnTo>
                    <a:pt x="18000" y="401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3" name=""/>
          <p:cNvSpPr/>
          <p:nvPr/>
        </p:nvSpPr>
        <p:spPr>
          <a:xfrm>
            <a:off x="6356520" y="4226040"/>
            <a:ext cx="2609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la dépression dans l’espace ple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diminue le volume de la cage thorac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ugmente le volume du pou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/>
          <p:nvPr/>
        </p:nvSpPr>
        <p:spPr>
          <a:xfrm>
            <a:off x="2460600" y="1279440"/>
            <a:ext cx="2209680" cy="4251240"/>
          </a:xfrm>
          <a:custGeom>
            <a:avLst/>
            <a:gdLst/>
            <a:ahLst/>
            <a:rect l="l" t="t" r="r" b="b"/>
            <a:pathLst>
              <a:path w="1392" h="2678">
                <a:moveTo>
                  <a:pt x="0" y="1917"/>
                </a:moveTo>
                <a:cubicBezTo>
                  <a:pt x="33" y="1818"/>
                  <a:pt x="132" y="1323"/>
                  <a:pt x="198" y="1324"/>
                </a:cubicBezTo>
                <a:cubicBezTo>
                  <a:pt x="264" y="1325"/>
                  <a:pt x="330" y="1923"/>
                  <a:pt x="397" y="1922"/>
                </a:cubicBezTo>
                <a:cubicBezTo>
                  <a:pt x="464" y="1921"/>
                  <a:pt x="531" y="1323"/>
                  <a:pt x="600" y="1318"/>
                </a:cubicBezTo>
                <a:cubicBezTo>
                  <a:pt x="669" y="1313"/>
                  <a:pt x="744" y="2093"/>
                  <a:pt x="810" y="1890"/>
                </a:cubicBezTo>
                <a:cubicBezTo>
                  <a:pt x="876" y="1687"/>
                  <a:pt x="933" y="0"/>
                  <a:pt x="998" y="97"/>
                </a:cubicBezTo>
                <a:cubicBezTo>
                  <a:pt x="1063" y="194"/>
                  <a:pt x="1132" y="2270"/>
                  <a:pt x="1198" y="2474"/>
                </a:cubicBezTo>
                <a:cubicBezTo>
                  <a:pt x="1264" y="2678"/>
                  <a:pt x="1352" y="1564"/>
                  <a:pt x="1392" y="1324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1"/>
          <a:stretch/>
        </p:blipFill>
        <p:spPr>
          <a:xfrm>
            <a:off x="6797520" y="2370240"/>
            <a:ext cx="1660680" cy="273204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5270400" y="2895480"/>
            <a:ext cx="952560" cy="1384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9c9c9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6210000" y="3137040"/>
            <a:ext cx="106668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H="1">
            <a:off x="4660920" y="3416400"/>
            <a:ext cx="5968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H="1">
            <a:off x="1968480" y="3365640"/>
            <a:ext cx="175248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1930320" y="4330800"/>
            <a:ext cx="179064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711360" y="1409760"/>
            <a:ext cx="365760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1092240" y="5245200"/>
            <a:ext cx="403848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723960" y="6121440"/>
            <a:ext cx="443232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927680" y="5257800"/>
            <a:ext cx="0" cy="8636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39800" y="1422360"/>
            <a:ext cx="0" cy="46990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50920" y="3247920"/>
            <a:ext cx="12445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capacit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pulmon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to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026320" y="5533920"/>
            <a:ext cx="1604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volume résid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527120" y="1422360"/>
            <a:ext cx="0" cy="38084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153440" y="1914480"/>
            <a:ext cx="9946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capacit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vi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324160" y="4317840"/>
            <a:ext cx="0" cy="17910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749600" y="4822920"/>
            <a:ext cx="1322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capacit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ésidu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onctionn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585800" y="3543480"/>
            <a:ext cx="892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volu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co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413080" y="3351240"/>
            <a:ext cx="0" cy="9777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0960" y="127080"/>
            <a:ext cx="220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671640" y="114480"/>
            <a:ext cx="54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fonctionnement et facteurs limi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87200" y="695160"/>
            <a:ext cx="33242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s volumes respirato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/>
          <p:nvPr/>
        </p:nvSpPr>
        <p:spPr>
          <a:xfrm flipH="1">
            <a:off x="1930320" y="4330800"/>
            <a:ext cx="179064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1092240" y="5245200"/>
            <a:ext cx="403848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460600" y="1279440"/>
            <a:ext cx="2209680" cy="4251240"/>
          </a:xfrm>
          <a:custGeom>
            <a:avLst/>
            <a:gdLst/>
            <a:ahLst/>
            <a:rect l="l" t="t" r="r" b="b"/>
            <a:pathLst>
              <a:path w="1392" h="2678">
                <a:moveTo>
                  <a:pt x="0" y="1917"/>
                </a:moveTo>
                <a:cubicBezTo>
                  <a:pt x="33" y="1818"/>
                  <a:pt x="132" y="1323"/>
                  <a:pt x="198" y="1324"/>
                </a:cubicBezTo>
                <a:cubicBezTo>
                  <a:pt x="264" y="1325"/>
                  <a:pt x="330" y="1923"/>
                  <a:pt x="397" y="1922"/>
                </a:cubicBezTo>
                <a:cubicBezTo>
                  <a:pt x="464" y="1921"/>
                  <a:pt x="531" y="1323"/>
                  <a:pt x="600" y="1318"/>
                </a:cubicBezTo>
                <a:cubicBezTo>
                  <a:pt x="669" y="1313"/>
                  <a:pt x="744" y="2093"/>
                  <a:pt x="810" y="1890"/>
                </a:cubicBezTo>
                <a:cubicBezTo>
                  <a:pt x="876" y="1687"/>
                  <a:pt x="933" y="0"/>
                  <a:pt x="998" y="97"/>
                </a:cubicBezTo>
                <a:cubicBezTo>
                  <a:pt x="1063" y="194"/>
                  <a:pt x="1132" y="2270"/>
                  <a:pt x="1198" y="2474"/>
                </a:cubicBezTo>
                <a:cubicBezTo>
                  <a:pt x="1264" y="2678"/>
                  <a:pt x="1352" y="1564"/>
                  <a:pt x="1392" y="1324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1968480" y="3365640"/>
            <a:ext cx="175248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H="1">
            <a:off x="711360" y="1409760"/>
            <a:ext cx="365760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723960" y="6121440"/>
            <a:ext cx="443232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927680" y="5257800"/>
            <a:ext cx="0" cy="8636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39800" y="1422360"/>
            <a:ext cx="0" cy="46990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50920" y="3247920"/>
            <a:ext cx="124452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apacit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ulmon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to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991400" y="5533920"/>
            <a:ext cx="1703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volume résid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324160" y="4317840"/>
            <a:ext cx="0" cy="17910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734480" y="4822920"/>
            <a:ext cx="142416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apacit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résidu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fonctionn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567800" y="3543480"/>
            <a:ext cx="9396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volu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o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413080" y="3351240"/>
            <a:ext cx="0" cy="9777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609960" y="5396040"/>
            <a:ext cx="1515600" cy="642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space m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nato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111480" y="3365640"/>
            <a:ext cx="901800" cy="977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830480" y="3513240"/>
            <a:ext cx="23007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inspiration 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expiration pa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013280" y="3833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594240" y="1422360"/>
            <a:ext cx="901440" cy="1943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044080" y="2090880"/>
            <a:ext cx="13953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inspi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forc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3428640" y="2413080"/>
            <a:ext cx="165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936960" y="4330800"/>
            <a:ext cx="901800" cy="9270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158800" y="4605480"/>
            <a:ext cx="2700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expiration forcée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4825800" y="4800600"/>
            <a:ext cx="330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487880" y="39974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500 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425600" y="1422360"/>
            <a:ext cx="0" cy="38084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860400" y="1914480"/>
            <a:ext cx="10220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apacit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vi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0960" y="127080"/>
            <a:ext cx="220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87200" y="695160"/>
            <a:ext cx="33242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s volumes respirato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5537160" y="777960"/>
            <a:ext cx="3371400" cy="2557800"/>
            <a:chOff x="5537160" y="777960"/>
            <a:chExt cx="3371400" cy="2557800"/>
          </a:xfrm>
        </p:grpSpPr>
        <p:sp>
          <p:nvSpPr>
            <p:cNvPr id="1619" name=""/>
            <p:cNvSpPr/>
            <p:nvPr/>
          </p:nvSpPr>
          <p:spPr>
            <a:xfrm flipV="1">
              <a:off x="7305840" y="777960"/>
              <a:ext cx="0" cy="2241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0" name=""/>
            <p:cNvGrpSpPr/>
            <p:nvPr/>
          </p:nvGrpSpPr>
          <p:grpSpPr>
            <a:xfrm>
              <a:off x="6840360" y="1608120"/>
              <a:ext cx="924480" cy="887400"/>
              <a:chOff x="6840360" y="1608120"/>
              <a:chExt cx="924480" cy="887400"/>
            </a:xfrm>
          </p:grpSpPr>
          <p:sp>
            <p:nvSpPr>
              <p:cNvPr id="1621" name=""/>
              <p:cNvSpPr/>
              <p:nvPr/>
            </p:nvSpPr>
            <p:spPr>
              <a:xfrm>
                <a:off x="6840720" y="1608120"/>
                <a:ext cx="920160" cy="88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H="1">
                <a:off x="6844680" y="1608120"/>
                <a:ext cx="920160" cy="88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840360" y="2057400"/>
                <a:ext cx="920880" cy="0"/>
              </a:xfrm>
              <a:prstGeom prst="line">
                <a:avLst/>
              </a:prstGeom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7628040" y="885960"/>
              <a:ext cx="1280520" cy="1281960"/>
              <a:chOff x="7628040" y="885960"/>
              <a:chExt cx="1280520" cy="1281960"/>
            </a:xfrm>
          </p:grpSpPr>
          <p:sp>
            <p:nvSpPr>
              <p:cNvPr id="1625" name=""/>
              <p:cNvSpPr/>
              <p:nvPr/>
            </p:nvSpPr>
            <p:spPr>
              <a:xfrm>
                <a:off x="7628760" y="885960"/>
                <a:ext cx="1273680" cy="12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H="1">
                <a:off x="7634160" y="885960"/>
                <a:ext cx="1274400" cy="12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628040" y="1535040"/>
                <a:ext cx="1274760" cy="0"/>
              </a:xfrm>
              <a:prstGeom prst="line">
                <a:avLst/>
              </a:prstGeom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8" name=""/>
            <p:cNvGrpSpPr/>
            <p:nvPr/>
          </p:nvGrpSpPr>
          <p:grpSpPr>
            <a:xfrm>
              <a:off x="6081840" y="2224080"/>
              <a:ext cx="662760" cy="689400"/>
              <a:chOff x="6081840" y="2224080"/>
              <a:chExt cx="662760" cy="689400"/>
            </a:xfrm>
          </p:grpSpPr>
          <p:sp>
            <p:nvSpPr>
              <p:cNvPr id="1629" name=""/>
              <p:cNvSpPr/>
              <p:nvPr/>
            </p:nvSpPr>
            <p:spPr>
              <a:xfrm>
                <a:off x="6082200" y="2224080"/>
                <a:ext cx="659520" cy="68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H="1">
                <a:off x="6085080" y="2224080"/>
                <a:ext cx="659520" cy="68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81840" y="2573280"/>
                <a:ext cx="660240" cy="0"/>
              </a:xfrm>
              <a:prstGeom prst="line">
                <a:avLst/>
              </a:prstGeom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2" name=""/>
            <p:cNvSpPr/>
            <p:nvPr/>
          </p:nvSpPr>
          <p:spPr>
            <a:xfrm flipH="1">
              <a:off x="5537160" y="3013200"/>
              <a:ext cx="31147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990400" y="3059280"/>
              <a:ext cx="26053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pression interne-pression exter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949440" y="996840"/>
              <a:ext cx="714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volu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157880" y="1703520"/>
              <a:ext cx="298440" cy="295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291360" y="2303640"/>
              <a:ext cx="231840" cy="2156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43840" y="1000080"/>
              <a:ext cx="523800" cy="4557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364520" y="2443320"/>
              <a:ext cx="1154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307640" y="2141640"/>
              <a:ext cx="14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990000"/>
                  </a:solidFill>
                  <a:latin typeface="Trebuchet MS"/>
                </a:rPr>
                <a:t>inspiration ac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918040" y="1165320"/>
              <a:ext cx="2847960" cy="1280880"/>
            </a:xfrm>
            <a:custGeom>
              <a:avLst/>
              <a:gdLst/>
              <a:ahLst/>
              <a:rect l="l" t="t" r="r" b="b"/>
              <a:pathLst>
                <a:path w="2562" h="1457">
                  <a:moveTo>
                    <a:pt x="0" y="1451"/>
                  </a:moveTo>
                  <a:cubicBezTo>
                    <a:pt x="279" y="1454"/>
                    <a:pt x="558" y="1457"/>
                    <a:pt x="768" y="1349"/>
                  </a:cubicBezTo>
                  <a:cubicBezTo>
                    <a:pt x="978" y="1241"/>
                    <a:pt x="1070" y="1006"/>
                    <a:pt x="1260" y="803"/>
                  </a:cubicBezTo>
                  <a:cubicBezTo>
                    <a:pt x="1450" y="600"/>
                    <a:pt x="1691" y="262"/>
                    <a:pt x="1908" y="131"/>
                  </a:cubicBezTo>
                  <a:cubicBezTo>
                    <a:pt x="2125" y="0"/>
                    <a:pt x="2343" y="8"/>
                    <a:pt x="2562" y="1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270920" y="2522520"/>
              <a:ext cx="147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990000"/>
                  </a:solidFill>
                  <a:latin typeface="Trebuchet MS"/>
                </a:rPr>
                <a:t>expiration pass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362720" y="2795760"/>
              <a:ext cx="1154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107040" y="2774880"/>
              <a:ext cx="115416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946840" y="2757600"/>
              <a:ext cx="140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990000"/>
                  </a:solidFill>
                  <a:latin typeface="Trebuchet MS"/>
                </a:rPr>
                <a:t>expiration forcé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5460840" y="746280"/>
            <a:ext cx="3517920" cy="2552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671640" y="114480"/>
            <a:ext cx="54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fonctionnement et facteurs limi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403200" y="1319040"/>
            <a:ext cx="822024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distensibilité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apacité du poumon à augmenter de volume lors de variation de 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compliance :</a:t>
            </a:r>
            <a:r>
              <a:rPr b="1" i="1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esure de la variation de volume en fonction de la variation de 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mpliance pulmonaire statique = V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poumon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/ pression de dis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à la fin de l’inspi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aleur normale : 200 mL / cm H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compliance statique ; complianc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élastance = 1/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lastance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lastance de la paroi thoraco-abdo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lastance to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0960" y="127080"/>
            <a:ext cx="220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87200" y="695160"/>
            <a:ext cx="33242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mpli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671640" y="114480"/>
            <a:ext cx="54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fonctionnement et facteurs limi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"/>
          <p:cNvSpPr/>
          <p:nvPr/>
        </p:nvSpPr>
        <p:spPr>
          <a:xfrm>
            <a:off x="366120" y="1268280"/>
            <a:ext cx="352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Trebuchet MS"/>
              </a:rPr>
              <a:t>résistance des voies aérien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cause des résistanc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- Diamètre de dé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- Types d’écoulement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minaire ou turbu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sièges des rési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949320" y="1838160"/>
            <a:ext cx="1513080" cy="70380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ébit = </a:t>
            </a:r>
            <a:r>
              <a:rPr b="0" lang="fr-FR" sz="2000" spc="-1" strike="noStrike" u="sng">
                <a:solidFill>
                  <a:srgbClr val="000066"/>
                </a:solidFill>
                <a:uFillTx/>
                <a:latin typeface="Symbol"/>
                <a:ea typeface="Symbol"/>
              </a:rPr>
              <a:t></a:t>
            </a:r>
            <a:r>
              <a:rPr b="0" lang="fr-FR" sz="2000" spc="-1" strike="noStrike" u="sng">
                <a:solidFill>
                  <a:srgbClr val="000066"/>
                </a:solidFill>
                <a:uFillTx/>
                <a:latin typeface="Trebuchet MS"/>
              </a:rPr>
              <a:t>P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550840" y="5062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028920" y="5062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484320" y="5062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963480" y="5062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443000" y="5062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318280" y="4597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049720" y="40687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,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049720" y="353700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,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049720" y="300528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,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049720" y="247500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,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5624640" y="4970520"/>
            <a:ext cx="0" cy="410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5864400" y="4970520"/>
            <a:ext cx="1440" cy="2232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6102360" y="4970520"/>
            <a:ext cx="1440" cy="410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6343560" y="4970520"/>
            <a:ext cx="0" cy="2232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6581880" y="4970520"/>
            <a:ext cx="1440" cy="410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6823080" y="4970520"/>
            <a:ext cx="0" cy="2232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7061040" y="4970520"/>
            <a:ext cx="1800" cy="410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V="1">
            <a:off x="7300800" y="4970520"/>
            <a:ext cx="1800" cy="2232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 flipV="1">
            <a:off x="7539120" y="4970520"/>
            <a:ext cx="1440" cy="410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5616720" y="4970520"/>
            <a:ext cx="1908000" cy="1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484960" y="4705200"/>
            <a:ext cx="42840" cy="180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505480" y="4440240"/>
            <a:ext cx="22320" cy="1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484960" y="4175280"/>
            <a:ext cx="42840" cy="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505480" y="3908520"/>
            <a:ext cx="22320" cy="1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484960" y="3643200"/>
            <a:ext cx="42840" cy="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505480" y="3379680"/>
            <a:ext cx="22320" cy="180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484960" y="3112920"/>
            <a:ext cx="42840" cy="180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505480" y="2847960"/>
            <a:ext cx="22320" cy="1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484960" y="2581200"/>
            <a:ext cx="42840" cy="180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5527800" y="2571480"/>
            <a:ext cx="1440" cy="214308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219800" y="4865760"/>
            <a:ext cx="71640" cy="680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126200" y="4862520"/>
            <a:ext cx="71640" cy="6840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031160" y="4854600"/>
            <a:ext cx="71280" cy="6840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943680" y="4834080"/>
            <a:ext cx="69840" cy="7128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854760" y="4778280"/>
            <a:ext cx="71640" cy="716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740640" y="4683240"/>
            <a:ext cx="71280" cy="698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630840" y="4518000"/>
            <a:ext cx="71640" cy="698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550200" y="4292640"/>
            <a:ext cx="69840" cy="698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58040" y="4046400"/>
            <a:ext cx="73080" cy="6840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365880" y="3794040"/>
            <a:ext cx="71280" cy="6840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245280" y="3541680"/>
            <a:ext cx="73080" cy="716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132600" y="3067200"/>
            <a:ext cx="71280" cy="698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869080" y="2600280"/>
            <a:ext cx="73080" cy="698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753160" y="2746440"/>
            <a:ext cx="74520" cy="7308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670720" y="2860560"/>
            <a:ext cx="72720" cy="6840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961240" y="2370240"/>
            <a:ext cx="72720" cy="680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67440" y="2664000"/>
            <a:ext cx="73080" cy="698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rot="16200000">
            <a:off x="3823560" y="3471480"/>
            <a:ext cx="2163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résistance (cmH</a:t>
            </a:r>
            <a:r>
              <a:rPr b="0" lang="fr-FR" sz="1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.L</a:t>
            </a:r>
            <a:r>
              <a:rPr b="0" lang="fr-FR" sz="14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.s</a:t>
            </a:r>
            <a:r>
              <a:rPr b="0" lang="fr-FR" sz="14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248080" y="531036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génération des voies aérien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335960" y="4795920"/>
            <a:ext cx="132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 = </a:t>
            </a:r>
            <a:r>
              <a:rPr b="0" lang="fr-FR" sz="1800" spc="-1" strike="noStrike" u="sng">
                <a:solidFill>
                  <a:srgbClr val="000066"/>
                </a:solidFill>
                <a:uFillTx/>
                <a:latin typeface="Trebuchet MS"/>
              </a:rPr>
              <a:t>8</a:t>
            </a:r>
            <a:r>
              <a:rPr b="0" lang="fr-FR" sz="1800" spc="-1" strike="noStrike" u="sng">
                <a:solidFill>
                  <a:srgbClr val="000066"/>
                </a:solidFill>
                <a:uFillTx/>
                <a:latin typeface="Symbol"/>
                <a:ea typeface="Symbol"/>
              </a:rPr>
              <a:t></a:t>
            </a:r>
            <a:r>
              <a:rPr b="0" lang="fr-FR" sz="1800" spc="-1" strike="noStrike" u="sng">
                <a:solidFill>
                  <a:srgbClr val="000066"/>
                </a:solidFill>
                <a:uFillTx/>
                <a:latin typeface="Trebuchet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      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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: viscos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L : longu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 : ray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540160" y="487368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(flux laminai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0960" y="127080"/>
            <a:ext cx="220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87200" y="695160"/>
            <a:ext cx="33242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si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671640" y="114480"/>
            <a:ext cx="54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fonctionnement et facteurs limi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"/>
          <p:cNvSpPr/>
          <p:nvPr/>
        </p:nvSpPr>
        <p:spPr>
          <a:xfrm>
            <a:off x="171360" y="1614600"/>
            <a:ext cx="879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 ventilation dépend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e l’activité des muscles 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e la compliance du système re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erte d’élasticité : 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maladies restrictives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alvéolites, fibr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es résistances des voies aérien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augmentation des résistances : 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maladies obstru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asthme, mucoviscidose, bronchopathies obstructives chro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0960" y="127080"/>
            <a:ext cx="220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87200" y="695160"/>
            <a:ext cx="6309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entilation, compliance et rési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671640" y="114480"/>
            <a:ext cx="54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fonctionnement et facteurs limi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93640" y="3059280"/>
            <a:ext cx="81345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Trebuchet MS"/>
              </a:rPr>
              <a:t>loi de Fick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exprimée par rapport à la différence de pression partielle du gaz entre deux compartiments 1 et 2) :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V/dt : débit du gaz à travers la membrane de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 : surface de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 : épaiss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 : coefficient de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1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–P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 : gradient de pression partielle entre les deux compart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17640" y="4152960"/>
            <a:ext cx="3784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 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V/dt = (S/E) x D x (P1–P2)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298600" y="1674720"/>
            <a:ext cx="3276720" cy="1157400"/>
            <a:chOff x="2298600" y="1674720"/>
            <a:chExt cx="3276720" cy="1157400"/>
          </a:xfrm>
        </p:grpSpPr>
        <p:sp>
          <p:nvSpPr>
            <p:cNvPr id="116" name=""/>
            <p:cNvSpPr/>
            <p:nvPr/>
          </p:nvSpPr>
          <p:spPr>
            <a:xfrm>
              <a:off x="2298600" y="1676520"/>
              <a:ext cx="1600200" cy="1155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75120" y="1676520"/>
              <a:ext cx="1600200" cy="1155600"/>
            </a:xfrm>
            <a:prstGeom prst="rect">
              <a:avLst/>
            </a:prstGeom>
            <a:solidFill>
              <a:srgbClr val="fff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24360" y="1676520"/>
              <a:ext cx="12600" cy="11556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81280" y="2286000"/>
              <a:ext cx="762120" cy="1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98600" y="1674720"/>
              <a:ext cx="3276720" cy="1157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3640" y="127080"/>
            <a:ext cx="4512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problème de l’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46080" y="1144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onnées phys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oi de diffusion d’un gaz entre deux comparti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78040" y="4102200"/>
            <a:ext cx="5410080" cy="67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"/>
          <p:cNvSpPr/>
          <p:nvPr/>
        </p:nvSpPr>
        <p:spPr>
          <a:xfrm>
            <a:off x="700560" y="4122000"/>
            <a:ext cx="76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pression atmosphérique au niveau de la mer : 760 mm Hg (101,3 k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568160" y="3262320"/>
            <a:ext cx="610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ssion partielle en 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= fraction d’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x pression en 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799720" y="5052960"/>
            <a:ext cx="284940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ssion partielle en 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41360" y="885960"/>
            <a:ext cx="565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Trebuchet MS"/>
              </a:rPr>
              <a:t>composition gazeuse de l’air en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8" name=""/>
          <p:cNvGraphicFramePr/>
          <p:nvPr/>
        </p:nvGraphicFramePr>
        <p:xfrm>
          <a:off x="858960" y="1293840"/>
          <a:ext cx="2409840" cy="1825560"/>
        </p:xfrm>
        <a:graphic>
          <a:graphicData uri="http://schemas.openxmlformats.org/drawingml/2006/table">
            <a:tbl>
              <a:tblPr/>
              <a:tblGrid>
                <a:gridCol w="1515960"/>
                <a:gridCol w="89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ompos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O</a:t>
                      </a:r>
                      <a:r>
                        <a:rPr b="1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0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O</a:t>
                      </a:r>
                      <a:r>
                        <a:rPr b="1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N</a:t>
                      </a:r>
                      <a:r>
                        <a:rPr b="1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78,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9" name=""/>
          <p:cNvSpPr/>
          <p:nvPr/>
        </p:nvSpPr>
        <p:spPr>
          <a:xfrm>
            <a:off x="-9000" y="127080"/>
            <a:ext cx="329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échanges gaz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216120" y="11448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air inspi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/>
          <p:nvPr/>
        </p:nvSpPr>
        <p:spPr>
          <a:xfrm>
            <a:off x="441360" y="885960"/>
            <a:ext cx="565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Trebuchet MS"/>
              </a:rPr>
              <a:t>composition gazeuse de l’air en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527720" y="1109520"/>
            <a:ext cx="36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pression partielle en vapeur d’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82760" y="3414600"/>
            <a:ext cx="8321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otion d’humidité rel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ession partielle en vapeur d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ession de vapeur saturante : pression partielle maximale en vapeur d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humidité relative : rapport entre la pression partielle et la pression de vapeur satu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a pression de vapeur saturante augmente avec la tempé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5" name=""/>
          <p:cNvGraphicFramePr/>
          <p:nvPr/>
        </p:nvGraphicFramePr>
        <p:xfrm>
          <a:off x="858960" y="1293840"/>
          <a:ext cx="2409840" cy="1825560"/>
        </p:xfrm>
        <a:graphic>
          <a:graphicData uri="http://schemas.openxmlformats.org/drawingml/2006/table">
            <a:tbl>
              <a:tblPr/>
              <a:tblGrid>
                <a:gridCol w="1515960"/>
                <a:gridCol w="89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ompos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O</a:t>
                      </a:r>
                      <a:r>
                        <a:rPr b="1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0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O</a:t>
                      </a:r>
                      <a:r>
                        <a:rPr b="1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N</a:t>
                      </a:r>
                      <a:r>
                        <a:rPr b="1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78,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6" name=""/>
          <p:cNvGraphicFramePr/>
          <p:nvPr/>
        </p:nvGraphicFramePr>
        <p:xfrm>
          <a:off x="3500280" y="1790640"/>
          <a:ext cx="5281920" cy="1095480"/>
        </p:xfrm>
        <a:graphic>
          <a:graphicData uri="http://schemas.openxmlformats.org/drawingml/2006/table">
            <a:tbl>
              <a:tblPr/>
              <a:tblGrid>
                <a:gridCol w="1954440"/>
                <a:gridCol w="3327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tempé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ression de vapeur satur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4,6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37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47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7" name=""/>
          <p:cNvSpPr/>
          <p:nvPr/>
        </p:nvSpPr>
        <p:spPr>
          <a:xfrm>
            <a:off x="-9000" y="127080"/>
            <a:ext cx="329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échanges gaz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216120" y="11448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air inspi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/>
          <p:nvPr/>
        </p:nvSpPr>
        <p:spPr>
          <a:xfrm>
            <a:off x="317520" y="3835440"/>
            <a:ext cx="8534520" cy="78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82760" y="3313080"/>
            <a:ext cx="832140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ssion partielle en vapeur d’eau et pression partielle en 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dans l’air inhal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ans un poumon humain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ession  de vapeur d’eau = pression de vapeur saturante à 37°C = 47 mmH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 pression de l’air sec est de 760 – 47 = 713 mmH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’air sec contenant 21% d’oxygène, la PI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P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dans l’air inhalé) est de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909240" y="5884920"/>
            <a:ext cx="3574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41360" y="885960"/>
            <a:ext cx="565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Trebuchet MS"/>
              </a:rPr>
              <a:t>composition gazeuse de l’air en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527720" y="1109520"/>
            <a:ext cx="36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pression partielle en vapeur d’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5" name=""/>
          <p:cNvGraphicFramePr/>
          <p:nvPr/>
        </p:nvGraphicFramePr>
        <p:xfrm>
          <a:off x="858960" y="1293840"/>
          <a:ext cx="2409840" cy="1825560"/>
        </p:xfrm>
        <a:graphic>
          <a:graphicData uri="http://schemas.openxmlformats.org/drawingml/2006/table">
            <a:tbl>
              <a:tblPr/>
              <a:tblGrid>
                <a:gridCol w="1515960"/>
                <a:gridCol w="89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ompos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O</a:t>
                      </a:r>
                      <a:r>
                        <a:rPr b="1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0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O</a:t>
                      </a:r>
                      <a:r>
                        <a:rPr b="1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N</a:t>
                      </a:r>
                      <a:r>
                        <a:rPr b="1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78,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6" name=""/>
          <p:cNvGraphicFramePr/>
          <p:nvPr/>
        </p:nvGraphicFramePr>
        <p:xfrm>
          <a:off x="3500280" y="1790640"/>
          <a:ext cx="5281920" cy="1095480"/>
        </p:xfrm>
        <a:graphic>
          <a:graphicData uri="http://schemas.openxmlformats.org/drawingml/2006/table">
            <a:tbl>
              <a:tblPr/>
              <a:tblGrid>
                <a:gridCol w="1954440"/>
                <a:gridCol w="3327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tempé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ression de vapeur satur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4,6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37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47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7" name=""/>
          <p:cNvSpPr/>
          <p:nvPr/>
        </p:nvSpPr>
        <p:spPr>
          <a:xfrm>
            <a:off x="-9000" y="127080"/>
            <a:ext cx="329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échanges gaz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216120" y="11448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air inspi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"/>
          <p:cNvSpPr/>
          <p:nvPr/>
        </p:nvSpPr>
        <p:spPr>
          <a:xfrm>
            <a:off x="1421280" y="5780160"/>
            <a:ext cx="621900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Trebuchet MS"/>
              </a:rPr>
              <a:t>PIO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990000"/>
                </a:solidFill>
                <a:latin typeface="Trebuchet MS"/>
              </a:rPr>
              <a:t>=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rebuchet MS"/>
              </a:rPr>
              <a:t>20,95 %</a:t>
            </a:r>
            <a:r>
              <a:rPr b="1" lang="fr-FR" sz="2400" spc="-1" strike="noStrike">
                <a:solidFill>
                  <a:srgbClr val="990000"/>
                </a:solidFill>
                <a:latin typeface="Trebuchet MS"/>
              </a:rPr>
              <a:t> x 713 mmHg = 150 mmH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17520" y="3835440"/>
            <a:ext cx="8534520" cy="78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82760" y="3313080"/>
            <a:ext cx="832140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ssion partielle en vapeur d’eau et pression partielle en 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dans l’air inhal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ans un poumon humain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ession  de vapeur d’eau = pression de vapeur saturante à 37°C = 47 mmH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 pression de l’air sec est de 760 – 47 = 713 mmH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’air sec contenant 21% d’oxygène, la PI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P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dans l’air inhalé) est de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41360" y="885960"/>
            <a:ext cx="565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Trebuchet MS"/>
              </a:rPr>
              <a:t>composition gazeuse de l’air en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527720" y="1109520"/>
            <a:ext cx="36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pression partielle en vapeur d’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5" name=""/>
          <p:cNvGraphicFramePr/>
          <p:nvPr/>
        </p:nvGraphicFramePr>
        <p:xfrm>
          <a:off x="858960" y="1293840"/>
          <a:ext cx="2409840" cy="1825560"/>
        </p:xfrm>
        <a:graphic>
          <a:graphicData uri="http://schemas.openxmlformats.org/drawingml/2006/table">
            <a:tbl>
              <a:tblPr/>
              <a:tblGrid>
                <a:gridCol w="1515960"/>
                <a:gridCol w="89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ompos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O</a:t>
                      </a:r>
                      <a:r>
                        <a:rPr b="1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0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O</a:t>
                      </a:r>
                      <a:r>
                        <a:rPr b="1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N</a:t>
                      </a:r>
                      <a:r>
                        <a:rPr b="1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78,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6" name=""/>
          <p:cNvGraphicFramePr/>
          <p:nvPr/>
        </p:nvGraphicFramePr>
        <p:xfrm>
          <a:off x="3500280" y="1790640"/>
          <a:ext cx="5281920" cy="1095480"/>
        </p:xfrm>
        <a:graphic>
          <a:graphicData uri="http://schemas.openxmlformats.org/drawingml/2006/table">
            <a:tbl>
              <a:tblPr/>
              <a:tblGrid>
                <a:gridCol w="1954440"/>
                <a:gridCol w="3327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tempé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ression de vapeur satur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4,6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37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47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7" name=""/>
          <p:cNvSpPr/>
          <p:nvPr/>
        </p:nvSpPr>
        <p:spPr>
          <a:xfrm>
            <a:off x="-9000" y="127080"/>
            <a:ext cx="329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échanges gaz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216120" y="11448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air inspi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0" name=""/>
          <p:cNvGrpSpPr/>
          <p:nvPr/>
        </p:nvGrpSpPr>
        <p:grpSpPr>
          <a:xfrm>
            <a:off x="3997440" y="1852560"/>
            <a:ext cx="4311360" cy="2990160"/>
            <a:chOff x="3997440" y="1852560"/>
            <a:chExt cx="4311360" cy="2990160"/>
          </a:xfrm>
        </p:grpSpPr>
        <p:sp>
          <p:nvSpPr>
            <p:cNvPr id="1751" name=""/>
            <p:cNvSpPr/>
            <p:nvPr/>
          </p:nvSpPr>
          <p:spPr>
            <a:xfrm>
              <a:off x="5735520" y="2017800"/>
              <a:ext cx="0" cy="269532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412880" y="45990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343040" y="42796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343040" y="39513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343040" y="36226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343040" y="3295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273560" y="29527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273560" y="26240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273560" y="22971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273560" y="19699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830840" y="4709880"/>
              <a:ext cx="3360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668840" y="470052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737240" y="4535280"/>
              <a:ext cx="6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668840" y="4371840"/>
              <a:ext cx="13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737240" y="420840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668840" y="4043160"/>
              <a:ext cx="13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737240" y="3879720"/>
              <a:ext cx="68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668840" y="3717720"/>
              <a:ext cx="13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737240" y="355284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668840" y="338940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737240" y="3225600"/>
              <a:ext cx="6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668840" y="306072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737240" y="289728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668840" y="273204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737240" y="2568600"/>
              <a:ext cx="68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668840" y="240660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737240" y="2241360"/>
              <a:ext cx="6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668840" y="2077920"/>
              <a:ext cx="13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4805280" y="2044440"/>
              <a:ext cx="4680" cy="265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834080" y="2241360"/>
              <a:ext cx="3249360" cy="2214720"/>
            </a:xfrm>
            <a:custGeom>
              <a:avLst/>
              <a:gdLst/>
              <a:ahLst/>
              <a:rect l="l" t="t" r="r" b="b"/>
              <a:pathLst>
                <a:path w="1176" h="1208">
                  <a:moveTo>
                    <a:pt x="0" y="0"/>
                  </a:moveTo>
                  <a:lnTo>
                    <a:pt x="328" y="0"/>
                  </a:lnTo>
                  <a:lnTo>
                    <a:pt x="328" y="452"/>
                  </a:lnTo>
                  <a:lnTo>
                    <a:pt x="660" y="452"/>
                  </a:lnTo>
                  <a:lnTo>
                    <a:pt x="660" y="492"/>
                  </a:lnTo>
                  <a:lnTo>
                    <a:pt x="984" y="492"/>
                  </a:lnTo>
                  <a:lnTo>
                    <a:pt x="1176" y="1208"/>
                  </a:lnTo>
                  <a:lnTo>
                    <a:pt x="996" y="896"/>
                  </a:lnTo>
                  <a:lnTo>
                    <a:pt x="660" y="896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731120" y="1852560"/>
              <a:ext cx="120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ir inspir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778360" y="2649600"/>
              <a:ext cx="85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lvé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748560" y="25290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sa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735520" y="2601720"/>
              <a:ext cx="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907320" y="3144600"/>
              <a:ext cx="3333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585560" y="273852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tiss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626520" y="323352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rtéri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643440" y="3887640"/>
              <a:ext cx="92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veine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665760" y="2014560"/>
              <a:ext cx="0" cy="269532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561080" y="200484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rot="16200000">
              <a:off x="3489840" y="3191760"/>
              <a:ext cx="132696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PO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Trebuchet MS"/>
                  <a:ea typeface="Arial"/>
                </a:rPr>
                <a:t>2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 (mmH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2" name=""/>
          <p:cNvSpPr/>
          <p:nvPr/>
        </p:nvSpPr>
        <p:spPr>
          <a:xfrm>
            <a:off x="4178160" y="1676520"/>
            <a:ext cx="1968480" cy="9396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41360" y="885960"/>
            <a:ext cx="565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Trebuchet MS"/>
              </a:rPr>
              <a:t>composition gazeuse de l’air en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4" name=""/>
          <p:cNvGraphicFramePr/>
          <p:nvPr/>
        </p:nvGraphicFramePr>
        <p:xfrm>
          <a:off x="858960" y="1293840"/>
          <a:ext cx="2409840" cy="1825560"/>
        </p:xfrm>
        <a:graphic>
          <a:graphicData uri="http://schemas.openxmlformats.org/drawingml/2006/table">
            <a:tbl>
              <a:tblPr/>
              <a:tblGrid>
                <a:gridCol w="1515960"/>
                <a:gridCol w="89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ompos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O</a:t>
                      </a:r>
                      <a:r>
                        <a:rPr b="1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0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O</a:t>
                      </a:r>
                      <a:r>
                        <a:rPr b="1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N</a:t>
                      </a:r>
                      <a:r>
                        <a:rPr b="1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78,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5" name=""/>
          <p:cNvSpPr/>
          <p:nvPr/>
        </p:nvSpPr>
        <p:spPr>
          <a:xfrm>
            <a:off x="822240" y="5232240"/>
            <a:ext cx="7858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ffusion de l’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dans l’organisme : cascade de pression décroissante entre les différents compart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-9000" y="127080"/>
            <a:ext cx="329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échanges gaz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216120" y="11448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air inspi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9" name="" descr=""/>
          <p:cNvPicPr/>
          <p:nvPr/>
        </p:nvPicPr>
        <p:blipFill>
          <a:blip r:embed="rId1"/>
          <a:stretch/>
        </p:blipFill>
        <p:spPr>
          <a:xfrm>
            <a:off x="1879560" y="2109960"/>
            <a:ext cx="1808280" cy="3325680"/>
          </a:xfrm>
          <a:prstGeom prst="rect">
            <a:avLst/>
          </a:prstGeom>
          <a:ln w="0">
            <a:noFill/>
          </a:ln>
        </p:spPr>
      </p:pic>
      <p:sp>
        <p:nvSpPr>
          <p:cNvPr id="1800" name=""/>
          <p:cNvSpPr/>
          <p:nvPr/>
        </p:nvSpPr>
        <p:spPr>
          <a:xfrm>
            <a:off x="2171880" y="1892160"/>
            <a:ext cx="433080" cy="3124440"/>
          </a:xfrm>
          <a:custGeom>
            <a:avLst/>
            <a:gdLst/>
            <a:ahLst/>
            <a:rect l="l" t="t" r="r" b="b"/>
            <a:pathLst>
              <a:path w="273" h="1968">
                <a:moveTo>
                  <a:pt x="264" y="0"/>
                </a:moveTo>
                <a:cubicBezTo>
                  <a:pt x="264" y="152"/>
                  <a:pt x="267" y="681"/>
                  <a:pt x="264" y="920"/>
                </a:cubicBezTo>
                <a:cubicBezTo>
                  <a:pt x="261" y="1159"/>
                  <a:pt x="273" y="1293"/>
                  <a:pt x="248" y="1432"/>
                </a:cubicBezTo>
                <a:cubicBezTo>
                  <a:pt x="223" y="1571"/>
                  <a:pt x="153" y="1663"/>
                  <a:pt x="112" y="1752"/>
                </a:cubicBezTo>
                <a:cubicBezTo>
                  <a:pt x="71" y="1841"/>
                  <a:pt x="35" y="1904"/>
                  <a:pt x="0" y="196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2643120" y="1866960"/>
            <a:ext cx="433440" cy="3149640"/>
          </a:xfrm>
          <a:custGeom>
            <a:avLst/>
            <a:gdLst/>
            <a:ahLst/>
            <a:rect l="l" t="t" r="r" b="b"/>
            <a:pathLst>
              <a:path w="273" h="1984">
                <a:moveTo>
                  <a:pt x="15" y="0"/>
                </a:moveTo>
                <a:cubicBezTo>
                  <a:pt x="13" y="157"/>
                  <a:pt x="7" y="695"/>
                  <a:pt x="9" y="936"/>
                </a:cubicBezTo>
                <a:cubicBezTo>
                  <a:pt x="11" y="1177"/>
                  <a:pt x="0" y="1309"/>
                  <a:pt x="25" y="1448"/>
                </a:cubicBezTo>
                <a:cubicBezTo>
                  <a:pt x="50" y="1587"/>
                  <a:pt x="120" y="1679"/>
                  <a:pt x="161" y="1768"/>
                </a:cubicBezTo>
                <a:cubicBezTo>
                  <a:pt x="202" y="1857"/>
                  <a:pt x="238" y="1920"/>
                  <a:pt x="273" y="1984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654560" y="42274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fr-FR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242520" y="417672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0" lang="fr-FR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459880" y="5778360"/>
            <a:ext cx="55911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placement des gaz par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gradient de pression partielle en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et en 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1244520" y="2109960"/>
            <a:ext cx="406440" cy="31604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e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1434960" y="1143000"/>
            <a:ext cx="0" cy="8128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898800" y="2097000"/>
            <a:ext cx="406440" cy="3160800"/>
          </a:xfrm>
          <a:prstGeom prst="rect">
            <a:avLst/>
          </a:prstGeom>
          <a:gradFill rotWithShape="0">
            <a:gsLst>
              <a:gs pos="0">
                <a:srgbClr val="9f9fc5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089240" y="1130400"/>
            <a:ext cx="0" cy="812880"/>
          </a:xfrm>
          <a:prstGeom prst="line">
            <a:avLst/>
          </a:prstGeom>
          <a:ln w="76320">
            <a:solidFill>
              <a:srgbClr val="898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2209680" y="5143680"/>
            <a:ext cx="0" cy="317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174840" y="5156280"/>
            <a:ext cx="0" cy="3175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-35640" y="13064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n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01600" y="333864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if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3" name=""/>
          <p:cNvGraphicFramePr/>
          <p:nvPr/>
        </p:nvGraphicFramePr>
        <p:xfrm>
          <a:off x="4759200" y="2109960"/>
          <a:ext cx="3826080" cy="2920680"/>
        </p:xfrm>
        <a:graphic>
          <a:graphicData uri="http://schemas.openxmlformats.org/drawingml/2006/table">
            <a:tbl>
              <a:tblPr/>
              <a:tblGrid>
                <a:gridCol w="2043360"/>
                <a:gridCol w="981000"/>
                <a:gridCol w="80172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f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gaz inspir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gaz expir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gaz alvéol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0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ression (mm 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gaz inspir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gaz alvéol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4" name=""/>
          <p:cNvSpPr/>
          <p:nvPr/>
        </p:nvSpPr>
        <p:spPr>
          <a:xfrm>
            <a:off x="-9000" y="127080"/>
            <a:ext cx="329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échanges gaz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84800" y="11448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 gaz alvéo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ffusion alvéol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"/>
          <p:cNvSpPr/>
          <p:nvPr/>
        </p:nvSpPr>
        <p:spPr>
          <a:xfrm>
            <a:off x="523440" y="1271520"/>
            <a:ext cx="4530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gaz alvéolaire :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A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A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A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1816200" y="269568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41360" y="1944720"/>
            <a:ext cx="47512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:  ne dépend pas de l’air inspir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épend de la production de 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38360" y="2741760"/>
            <a:ext cx="227124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= (V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/ V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578320" y="26827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1075320" y="3236760"/>
            <a:ext cx="772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K : constante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V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: débit de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produit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V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 : débit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2984760" y="31910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6629400" y="31910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1828800" y="269568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-9000" y="127080"/>
            <a:ext cx="329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échanges gaz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6184800" y="11448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 gaz alvéo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équation de l’air alvéol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"/>
          <p:cNvSpPr/>
          <p:nvPr/>
        </p:nvSpPr>
        <p:spPr>
          <a:xfrm>
            <a:off x="1816200" y="134928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38360" y="1395360"/>
            <a:ext cx="227124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= (V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/ V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578320" y="133668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075320" y="1890720"/>
            <a:ext cx="772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K : constante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V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: débit de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produit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V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 : débit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984760" y="18446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629400" y="18446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1360" y="2389320"/>
            <a:ext cx="51703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:    dépend de l’air inspiré (PI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épend de la consommation d’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828800" y="134928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07400" y="3110040"/>
            <a:ext cx="608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 producion de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et la consommation d’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sont li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828720" y="3541680"/>
            <a:ext cx="3876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V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/ V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= quotient respiratoir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914400" y="34322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689120" y="34574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1305000" y="42148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épend du type d’aliments métabolisés par les tissus périphér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i R &lt; 1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olume expiré &lt; volume inspir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758880" y="5078520"/>
            <a:ext cx="394632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= (PI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–(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/R) + F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000520" y="5662440"/>
            <a:ext cx="579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 : quotient respiratoir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 : constante (F = 0 si R 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-9000" y="127080"/>
            <a:ext cx="329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échanges gaz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184800" y="11448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 gaz alvéo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équation de l’air alvéol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39640" y="1471680"/>
            <a:ext cx="394668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= (PI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–(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/R) + F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39640" y="1979640"/>
            <a:ext cx="483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I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= 150 mm Hg 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= 40 mmHg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1248840" y="3479760"/>
            <a:ext cx="30304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1" lang="fr-FR" sz="24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990000"/>
                </a:solidFill>
                <a:latin typeface="Symbol"/>
                <a:ea typeface="Symbol"/>
              </a:rPr>
              <a:t></a:t>
            </a:r>
            <a:r>
              <a:rPr b="1" lang="fr-FR" sz="2400" spc="-1" strike="noStrike">
                <a:solidFill>
                  <a:srgbClr val="990000"/>
                </a:solidFill>
                <a:latin typeface="Trebuchet MS"/>
              </a:rPr>
              <a:t> 100 mm H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4465800" y="2475000"/>
            <a:ext cx="4312440" cy="2990160"/>
            <a:chOff x="4465800" y="2475000"/>
            <a:chExt cx="4312440" cy="2990160"/>
          </a:xfrm>
        </p:grpSpPr>
        <p:sp>
          <p:nvSpPr>
            <p:cNvPr id="1857" name=""/>
            <p:cNvSpPr/>
            <p:nvPr/>
          </p:nvSpPr>
          <p:spPr>
            <a:xfrm>
              <a:off x="6205680" y="2640240"/>
              <a:ext cx="0" cy="269532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887720" y="5221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822560" y="4902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822560" y="4573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822560" y="4245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822560" y="3917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757760" y="35751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757760" y="32464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757760" y="29196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757760" y="2592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301000" y="5332320"/>
              <a:ext cx="3360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139000" y="532296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207400" y="5157720"/>
              <a:ext cx="6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139000" y="4994280"/>
              <a:ext cx="13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207400" y="483084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139000" y="4665600"/>
              <a:ext cx="13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207400" y="4502160"/>
              <a:ext cx="68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139000" y="4340160"/>
              <a:ext cx="13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207400" y="417528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139000" y="401184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207400" y="3848040"/>
              <a:ext cx="6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39000" y="368316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207400" y="351972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139000" y="335448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207400" y="3191040"/>
              <a:ext cx="68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139000" y="302904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207400" y="2863800"/>
              <a:ext cx="6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139000" y="2700360"/>
              <a:ext cx="13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5275440" y="2666880"/>
              <a:ext cx="4680" cy="265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304240" y="2863800"/>
              <a:ext cx="3249360" cy="2214720"/>
            </a:xfrm>
            <a:custGeom>
              <a:avLst/>
              <a:gdLst/>
              <a:ahLst/>
              <a:rect l="l" t="t" r="r" b="b"/>
              <a:pathLst>
                <a:path w="1176" h="1208">
                  <a:moveTo>
                    <a:pt x="0" y="0"/>
                  </a:moveTo>
                  <a:lnTo>
                    <a:pt x="328" y="0"/>
                  </a:lnTo>
                  <a:lnTo>
                    <a:pt x="328" y="452"/>
                  </a:lnTo>
                  <a:lnTo>
                    <a:pt x="660" y="452"/>
                  </a:lnTo>
                  <a:lnTo>
                    <a:pt x="660" y="492"/>
                  </a:lnTo>
                  <a:lnTo>
                    <a:pt x="984" y="492"/>
                  </a:lnTo>
                  <a:lnTo>
                    <a:pt x="1176" y="1208"/>
                  </a:lnTo>
                  <a:lnTo>
                    <a:pt x="996" y="896"/>
                  </a:lnTo>
                  <a:lnTo>
                    <a:pt x="660" y="896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28640" y="24750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  <a:ea typeface="Arial"/>
                </a:rPr>
                <a:t>air inspir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256080" y="327204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Arial"/>
                  <a:ea typeface="Arial"/>
                </a:rPr>
                <a:t>alvé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248600" y="315144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  <a:ea typeface="Arial"/>
                </a:rPr>
                <a:t>sa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205680" y="3224160"/>
              <a:ext cx="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377480" y="3767040"/>
              <a:ext cx="3333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8076240" y="3360960"/>
              <a:ext cx="7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  <a:ea typeface="Arial"/>
                </a:rPr>
                <a:t>tiss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96680" y="3855960"/>
              <a:ext cx="8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  <a:ea typeface="Arial"/>
                </a:rPr>
                <a:t>artéri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130160" y="451008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  <a:ea typeface="Arial"/>
                </a:rPr>
                <a:t>veine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135920" y="2637000"/>
              <a:ext cx="0" cy="269532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031240" y="262728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rot="16200000">
              <a:off x="3975120" y="3784680"/>
              <a:ext cx="129312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  <a:ea typeface="Arial"/>
                </a:rPr>
                <a:t>PO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Arial"/>
                  <a:ea typeface="Arial"/>
                </a:rPr>
                <a:t>2</a:t>
              </a:r>
              <a:r>
                <a:rPr b="0" lang="fr-FR" sz="1800" spc="-1" strike="noStrike">
                  <a:solidFill>
                    <a:srgbClr val="990000"/>
                  </a:solidFill>
                  <a:latin typeface="Arial"/>
                  <a:ea typeface="Arial"/>
                </a:rPr>
                <a:t> (mmH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8" name=""/>
          <p:cNvSpPr/>
          <p:nvPr/>
        </p:nvSpPr>
        <p:spPr>
          <a:xfrm>
            <a:off x="5943600" y="3073320"/>
            <a:ext cx="1397160" cy="9399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-9000" y="127080"/>
            <a:ext cx="329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échanges gaz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6184800" y="11448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 gaz alvéo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équation de l’air alvéol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3" name="" descr=""/>
          <p:cNvPicPr/>
          <p:nvPr/>
        </p:nvPicPr>
        <p:blipFill>
          <a:blip r:embed="rId1"/>
          <a:stretch/>
        </p:blipFill>
        <p:spPr>
          <a:xfrm>
            <a:off x="938160" y="3343320"/>
            <a:ext cx="3125880" cy="2933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4" name=""/>
          <p:cNvSpPr/>
          <p:nvPr/>
        </p:nvSpPr>
        <p:spPr>
          <a:xfrm>
            <a:off x="1149480" y="4724280"/>
            <a:ext cx="1822320" cy="1092240"/>
          </a:xfrm>
          <a:prstGeom prst="ellipse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5" name="" descr=""/>
          <p:cNvPicPr/>
          <p:nvPr/>
        </p:nvPicPr>
        <p:blipFill>
          <a:blip r:embed="rId2"/>
          <a:stretch/>
        </p:blipFill>
        <p:spPr>
          <a:xfrm>
            <a:off x="3325680" y="898560"/>
            <a:ext cx="2098800" cy="29923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906" name=""/>
          <p:cNvSpPr/>
          <p:nvPr/>
        </p:nvSpPr>
        <p:spPr>
          <a:xfrm>
            <a:off x="5607360" y="495288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capillaire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470160" y="202104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"/>
              </a:rPr>
              <a:t>cellule endothél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5940360" y="19162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"/>
              </a:rPr>
              <a:t>noy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394640" y="238608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"/>
              </a:rPr>
              <a:t>cellule épithél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1823760" y="285588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"/>
              </a:rPr>
              <a:t>globule ro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3440520" y="34275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l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4786560" y="10396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l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flipH="1">
            <a:off x="4676400" y="2085840"/>
            <a:ext cx="127620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H="1">
            <a:off x="3063600" y="3044880"/>
            <a:ext cx="127620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H="1">
            <a:off x="2949480" y="2558880"/>
            <a:ext cx="44784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848920" y="156384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"/>
              </a:rPr>
              <a:t>cellule épithél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4806720" y="1730520"/>
            <a:ext cx="105732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H="1">
            <a:off x="2260440" y="2244600"/>
            <a:ext cx="127656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3371760" y="2714760"/>
            <a:ext cx="400320" cy="19044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007640" y="2630520"/>
            <a:ext cx="217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Arial"/>
              </a:rPr>
              <a:t>barrière alvéolo-capill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flipH="1">
            <a:off x="3104640" y="2809800"/>
            <a:ext cx="25740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035160" y="4000680"/>
            <a:ext cx="571680" cy="291960"/>
          </a:xfrm>
          <a:prstGeom prst="rect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-9000" y="127080"/>
            <a:ext cx="329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échanges gaz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4669200" y="114480"/>
            <a:ext cx="42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diffusion alvéolo-capil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2971800" y="5181480"/>
            <a:ext cx="2552760" cy="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15800" y="205596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Trebuchet MS"/>
              </a:rPr>
              <a:t>loi de Fick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98600" y="1676520"/>
            <a:ext cx="1600200" cy="1155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75120" y="1676520"/>
            <a:ext cx="1600200" cy="115560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1676520"/>
            <a:ext cx="12600" cy="115560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2286000"/>
            <a:ext cx="762120" cy="1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17640" y="3162240"/>
            <a:ext cx="3784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 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V/dt = (S/E) x D x (P1–P2)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98600" y="1674720"/>
            <a:ext cx="3276720" cy="115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40" y="127080"/>
            <a:ext cx="4512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problème de l’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46080" y="1144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onnées phys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oi de diffusion d’un gaz entre deux comparti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78040" y="3111480"/>
            <a:ext cx="5410080" cy="673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79640" y="4307040"/>
            <a:ext cx="255888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urface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paisseur fa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00680" y="3124080"/>
            <a:ext cx="634680" cy="6098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022560" y="3670200"/>
            <a:ext cx="1092240" cy="630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32600" y="5516640"/>
            <a:ext cx="290412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efficient de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ature du g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ature du mili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75040" y="3213000"/>
            <a:ext cx="355680" cy="432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3645000"/>
            <a:ext cx="0" cy="1866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6440" y="4444920"/>
            <a:ext cx="286884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ssion par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gradient de 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0" y="3187800"/>
            <a:ext cx="939960" cy="546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3683160"/>
            <a:ext cx="749160" cy="749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25320" y="2611440"/>
            <a:ext cx="3784680" cy="44460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 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V/dt = (S/E) x D(P1–P2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825480" y="6068880"/>
            <a:ext cx="1971720" cy="40572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gaz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= Sol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gaz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x 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ga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592920" y="5570640"/>
            <a:ext cx="615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olubilité d’un gaz dans un liquide : Loi de Hen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06080" y="2133720"/>
            <a:ext cx="52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1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iffusion à travers une paroi : Loi de F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2" name=""/>
          <p:cNvGrpSpPr/>
          <p:nvPr/>
        </p:nvGrpSpPr>
        <p:grpSpPr>
          <a:xfrm>
            <a:off x="6323040" y="942840"/>
            <a:ext cx="2445840" cy="3421080"/>
            <a:chOff x="6323040" y="942840"/>
            <a:chExt cx="2445840" cy="3421080"/>
          </a:xfrm>
        </p:grpSpPr>
        <p:pic>
          <p:nvPicPr>
            <p:cNvPr id="1933" name="" descr=""/>
            <p:cNvPicPr/>
            <p:nvPr/>
          </p:nvPicPr>
          <p:blipFill>
            <a:blip r:embed="rId1"/>
            <a:stretch/>
          </p:blipFill>
          <p:spPr>
            <a:xfrm>
              <a:off x="6323040" y="942840"/>
              <a:ext cx="2399400" cy="34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4" name=""/>
            <p:cNvSpPr/>
            <p:nvPr/>
          </p:nvSpPr>
          <p:spPr>
            <a:xfrm>
              <a:off x="8233200" y="107712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alv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318800" y="2834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cap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6486840" y="2907000"/>
              <a:ext cx="456840" cy="609480"/>
            </a:xfrm>
            <a:prstGeom prst="line">
              <a:avLst/>
            </a:prstGeom>
            <a:ln w="7632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6699600" y="3161160"/>
              <a:ext cx="457200" cy="609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291960" y="3173400"/>
            <a:ext cx="58230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66"/>
                </a:solidFill>
                <a:latin typeface="Trebuchet MS"/>
              </a:rPr>
              <a:t>D : coefficient de diffus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66"/>
                </a:solidFill>
                <a:latin typeface="Trebuchet MS"/>
              </a:rPr>
              <a:t>proportionnel à la solubilité du gaz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66"/>
                </a:solidFill>
                <a:latin typeface="Trebuchet MS"/>
              </a:rPr>
              <a:t>inversement proportionnel à la racine carrée de son P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438120" y="4100400"/>
            <a:ext cx="4954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éfinition de la capacité de diffusion D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L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L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= (S/E)x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673360" y="4570560"/>
            <a:ext cx="2108160" cy="36648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V/dt = D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L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(P1–P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-9000" y="127080"/>
            <a:ext cx="329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échanges gaz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669200" y="114480"/>
            <a:ext cx="42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diffusion alvéolo-capil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rincipes phys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514800" y="1216080"/>
            <a:ext cx="521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assage de la barrière alvéolo-capil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échange entre milieux gazeux et liq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226200" y="48020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0,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050240" y="48020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0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7834320" y="48020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0,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420880" y="4718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5952960" y="4708440"/>
            <a:ext cx="1800" cy="2376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6361200" y="4708080"/>
            <a:ext cx="3240" cy="428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6775560" y="4708440"/>
            <a:ext cx="0" cy="2376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V="1">
            <a:off x="7183440" y="4708080"/>
            <a:ext cx="3240" cy="428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flipV="1">
            <a:off x="7597800" y="4708440"/>
            <a:ext cx="0" cy="2376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flipV="1">
            <a:off x="8005680" y="4708080"/>
            <a:ext cx="3240" cy="428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527800" y="4708440"/>
            <a:ext cx="2466720" cy="180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5484960" y="4175280"/>
            <a:ext cx="42840" cy="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484960" y="3643200"/>
            <a:ext cx="42840" cy="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5484960" y="3112920"/>
            <a:ext cx="42840" cy="180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5484960" y="2568600"/>
            <a:ext cx="42840" cy="1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 flipV="1">
            <a:off x="5527800" y="2571480"/>
            <a:ext cx="1440" cy="214308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5530680" y="2571840"/>
            <a:ext cx="2482920" cy="0"/>
          </a:xfrm>
          <a:prstGeom prst="line">
            <a:avLst/>
          </a:prstGeom>
          <a:ln w="9360">
            <a:solidFill>
              <a:srgbClr val="00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5530680" y="2571840"/>
            <a:ext cx="2470320" cy="1239840"/>
          </a:xfrm>
          <a:custGeom>
            <a:avLst/>
            <a:gdLst/>
            <a:ahLst/>
            <a:rect l="l" t="t" r="r" b="b"/>
            <a:pathLst>
              <a:path w="1572" h="785">
                <a:moveTo>
                  <a:pt x="0" y="785"/>
                </a:moveTo>
                <a:cubicBezTo>
                  <a:pt x="14" y="768"/>
                  <a:pt x="49" y="743"/>
                  <a:pt x="84" y="680"/>
                </a:cubicBezTo>
                <a:cubicBezTo>
                  <a:pt x="119" y="617"/>
                  <a:pt x="170" y="497"/>
                  <a:pt x="208" y="408"/>
                </a:cubicBezTo>
                <a:cubicBezTo>
                  <a:pt x="246" y="319"/>
                  <a:pt x="267" y="212"/>
                  <a:pt x="312" y="148"/>
                </a:cubicBezTo>
                <a:cubicBezTo>
                  <a:pt x="357" y="84"/>
                  <a:pt x="359" y="48"/>
                  <a:pt x="480" y="24"/>
                </a:cubicBezTo>
                <a:cubicBezTo>
                  <a:pt x="601" y="0"/>
                  <a:pt x="854" y="6"/>
                  <a:pt x="1036" y="3"/>
                </a:cubicBezTo>
                <a:cubicBezTo>
                  <a:pt x="1218" y="0"/>
                  <a:pt x="1388" y="3"/>
                  <a:pt x="1572" y="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8055000" y="2577960"/>
            <a:ext cx="2221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8310240" y="2405160"/>
            <a:ext cx="50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a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216400" y="5121360"/>
            <a:ext cx="341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emps de passage dans le capil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6531120" y="3052800"/>
            <a:ext cx="82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fr-FR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5511960" y="2158920"/>
            <a:ext cx="0" cy="292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8013600" y="2171880"/>
            <a:ext cx="0" cy="291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8001000" y="2565360"/>
            <a:ext cx="0" cy="2133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234040" y="1825560"/>
            <a:ext cx="29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entrée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       sort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509720" y="3436920"/>
            <a:ext cx="54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c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190480" y="3537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091480" y="2475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30280" y="1712880"/>
            <a:ext cx="4076640" cy="32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Alv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= 100 mm H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veineux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= 40 mm Hg 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1–P2 = 60 mm H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transfert limité par la per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serve de diffusion (eff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-9000" y="127080"/>
            <a:ext cx="329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échanges gaz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669200" y="114480"/>
            <a:ext cx="42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diffusion alvéolo-capil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oxygè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30280" y="1712880"/>
            <a:ext cx="407664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Alv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= 40 mm H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veineux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= 45 mm Hg 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1–P2 = -5 mm H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imitation par la per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limitation possible par la diffusion si barrière alvéolo-capillaire épais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6226200" y="48020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0,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7050240" y="48020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0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7834320" y="48020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0,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5420880" y="4718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5952960" y="4708440"/>
            <a:ext cx="1800" cy="2376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6361200" y="4708080"/>
            <a:ext cx="3240" cy="428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6775560" y="4708440"/>
            <a:ext cx="0" cy="2376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7183440" y="4708080"/>
            <a:ext cx="3240" cy="428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7597800" y="4708440"/>
            <a:ext cx="0" cy="2376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V="1">
            <a:off x="8005680" y="4708080"/>
            <a:ext cx="3240" cy="428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527800" y="4708440"/>
            <a:ext cx="2466720" cy="180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484960" y="4175280"/>
            <a:ext cx="42840" cy="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484960" y="3643200"/>
            <a:ext cx="42840" cy="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484960" y="3112920"/>
            <a:ext cx="42840" cy="180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84960" y="2568600"/>
            <a:ext cx="42840" cy="1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5527800" y="2571840"/>
            <a:ext cx="1440" cy="159696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530680" y="3638520"/>
            <a:ext cx="2482920" cy="0"/>
          </a:xfrm>
          <a:prstGeom prst="line">
            <a:avLst/>
          </a:prstGeom>
          <a:ln w="9360">
            <a:solidFill>
              <a:srgbClr val="00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8055000" y="3619440"/>
            <a:ext cx="2221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8310240" y="3446640"/>
            <a:ext cx="50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a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216400" y="5121360"/>
            <a:ext cx="341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emps de passage dans le capil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531120" y="3052800"/>
            <a:ext cx="82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511960" y="2158920"/>
            <a:ext cx="0" cy="292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8013600" y="2171880"/>
            <a:ext cx="0" cy="291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8001000" y="2565360"/>
            <a:ext cx="0" cy="2133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234040" y="1825560"/>
            <a:ext cx="29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entrée 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       sort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636800" y="3017880"/>
            <a:ext cx="54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c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190480" y="3537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193360" y="2475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524560" y="2577960"/>
            <a:ext cx="2463840" cy="1068480"/>
          </a:xfrm>
          <a:custGeom>
            <a:avLst/>
            <a:gdLst/>
            <a:ahLst/>
            <a:rect l="l" t="t" r="r" b="b"/>
            <a:pathLst>
              <a:path w="1552" h="673">
                <a:moveTo>
                  <a:pt x="0" y="0"/>
                </a:moveTo>
                <a:cubicBezTo>
                  <a:pt x="52" y="84"/>
                  <a:pt x="185" y="396"/>
                  <a:pt x="312" y="504"/>
                </a:cubicBezTo>
                <a:cubicBezTo>
                  <a:pt x="439" y="612"/>
                  <a:pt x="553" y="623"/>
                  <a:pt x="760" y="648"/>
                </a:cubicBezTo>
                <a:cubicBezTo>
                  <a:pt x="967" y="673"/>
                  <a:pt x="1387" y="654"/>
                  <a:pt x="1552" y="656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-9000" y="127080"/>
            <a:ext cx="329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échanges gaz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4669200" y="114480"/>
            <a:ext cx="42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diffusion alvéolo-capil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oxyde de carb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552600" y="1552680"/>
            <a:ext cx="483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= 100 mm Hg 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= 40 mmHg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280520" y="3479760"/>
            <a:ext cx="211140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1" lang="fr-FR" sz="24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990000"/>
                </a:solidFill>
                <a:latin typeface="Symbol"/>
                <a:ea typeface="Symbol"/>
              </a:rPr>
              <a:t></a:t>
            </a:r>
            <a:r>
              <a:rPr b="1" lang="fr-FR" sz="2400" spc="-1" strike="noStrike">
                <a:solidFill>
                  <a:srgbClr val="990000"/>
                </a:solidFill>
                <a:latin typeface="Trebuchet MS"/>
              </a:rPr>
              <a:t> PAO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205680" y="2639880"/>
            <a:ext cx="0" cy="269568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887720" y="5221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822560" y="4902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822560" y="4573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822560" y="4245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4822560" y="391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4757400" y="35751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4757400" y="32464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757400" y="29192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757400" y="25923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5300640" y="5332320"/>
            <a:ext cx="336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138640" y="5322960"/>
            <a:ext cx="13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5207040" y="5157720"/>
            <a:ext cx="68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138640" y="4994280"/>
            <a:ext cx="13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5207040" y="4830840"/>
            <a:ext cx="68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5138640" y="4665600"/>
            <a:ext cx="136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207040" y="4502160"/>
            <a:ext cx="684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5138640" y="4340160"/>
            <a:ext cx="136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207040" y="4175280"/>
            <a:ext cx="68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5138640" y="4011480"/>
            <a:ext cx="136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5207040" y="3848040"/>
            <a:ext cx="68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138640" y="3683160"/>
            <a:ext cx="13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207040" y="3519360"/>
            <a:ext cx="68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138640" y="3354480"/>
            <a:ext cx="13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5207040" y="3191040"/>
            <a:ext cx="684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38640" y="3029040"/>
            <a:ext cx="13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5207040" y="2863800"/>
            <a:ext cx="68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5138640" y="2700360"/>
            <a:ext cx="13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 flipV="1">
            <a:off x="5275440" y="2666880"/>
            <a:ext cx="4680" cy="265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5303880" y="2863800"/>
            <a:ext cx="3249720" cy="2214720"/>
          </a:xfrm>
          <a:custGeom>
            <a:avLst/>
            <a:gdLst/>
            <a:ahLst/>
            <a:rect l="l" t="t" r="r" b="b"/>
            <a:pathLst>
              <a:path w="1176" h="1208">
                <a:moveTo>
                  <a:pt x="0" y="0"/>
                </a:moveTo>
                <a:lnTo>
                  <a:pt x="328" y="0"/>
                </a:lnTo>
                <a:lnTo>
                  <a:pt x="328" y="452"/>
                </a:lnTo>
                <a:lnTo>
                  <a:pt x="660" y="452"/>
                </a:lnTo>
                <a:lnTo>
                  <a:pt x="660" y="492"/>
                </a:lnTo>
                <a:lnTo>
                  <a:pt x="984" y="492"/>
                </a:lnTo>
                <a:lnTo>
                  <a:pt x="1176" y="1208"/>
                </a:lnTo>
                <a:lnTo>
                  <a:pt x="996" y="896"/>
                </a:lnTo>
                <a:lnTo>
                  <a:pt x="660" y="896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5228640" y="247500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air inspir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255720" y="32716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alvé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248960" y="31510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s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205680" y="3224160"/>
            <a:ext cx="0" cy="2095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7377120" y="3767040"/>
            <a:ext cx="333360" cy="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8076240" y="3360600"/>
            <a:ext cx="7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tis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7096320" y="38559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artér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7129800" y="45100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vein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135920" y="2637000"/>
            <a:ext cx="0" cy="269532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8031240" y="2627280"/>
            <a:ext cx="0" cy="269568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rot="16200000">
            <a:off x="3975120" y="3784680"/>
            <a:ext cx="1293120" cy="31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P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 (mmH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943600" y="2959200"/>
            <a:ext cx="2146320" cy="952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-9000" y="127080"/>
            <a:ext cx="329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échanges gaz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mposition gazeuse du sang artéri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4669200" y="114480"/>
            <a:ext cx="42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diffusion alvéolo-capil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1247400" y="4203720"/>
            <a:ext cx="249804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Trebuchet MS"/>
              </a:rPr>
              <a:t>PaCO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1" lang="fr-FR" sz="24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990000"/>
                </a:solidFill>
                <a:latin typeface="Symbol"/>
                <a:ea typeface="Symbol"/>
              </a:rPr>
              <a:t></a:t>
            </a:r>
            <a:r>
              <a:rPr b="1" lang="fr-FR" sz="2400" spc="-1" strike="noStrike">
                <a:solidFill>
                  <a:srgbClr val="990000"/>
                </a:solidFill>
                <a:latin typeface="Trebuchet MS"/>
              </a:rPr>
              <a:t> PACO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"/>
          <p:cNvSpPr/>
          <p:nvPr/>
        </p:nvSpPr>
        <p:spPr>
          <a:xfrm>
            <a:off x="3613320" y="2505240"/>
            <a:ext cx="763560" cy="1288800"/>
          </a:xfrm>
          <a:custGeom>
            <a:avLst/>
            <a:gdLst/>
            <a:ahLst/>
            <a:rect l="l" t="t" r="r" b="b"/>
            <a:pathLst>
              <a:path w="481" h="812">
                <a:moveTo>
                  <a:pt x="16" y="342"/>
                </a:moveTo>
                <a:cubicBezTo>
                  <a:pt x="28" y="411"/>
                  <a:pt x="45" y="692"/>
                  <a:pt x="91" y="752"/>
                </a:cubicBezTo>
                <a:cubicBezTo>
                  <a:pt x="137" y="812"/>
                  <a:pt x="228" y="718"/>
                  <a:pt x="291" y="705"/>
                </a:cubicBezTo>
                <a:cubicBezTo>
                  <a:pt x="352" y="692"/>
                  <a:pt x="448" y="763"/>
                  <a:pt x="464" y="673"/>
                </a:cubicBezTo>
                <a:cubicBezTo>
                  <a:pt x="481" y="583"/>
                  <a:pt x="428" y="277"/>
                  <a:pt x="387" y="166"/>
                </a:cubicBezTo>
                <a:cubicBezTo>
                  <a:pt x="346" y="55"/>
                  <a:pt x="277" y="7"/>
                  <a:pt x="219" y="3"/>
                </a:cubicBezTo>
                <a:cubicBezTo>
                  <a:pt x="160" y="0"/>
                  <a:pt x="68" y="91"/>
                  <a:pt x="34" y="146"/>
                </a:cubicBezTo>
                <a:cubicBezTo>
                  <a:pt x="0" y="201"/>
                  <a:pt x="20" y="297"/>
                  <a:pt x="16" y="336"/>
                </a:cubicBezTo>
              </a:path>
            </a:pathLst>
          </a:custGeom>
          <a:gradFill rotWithShape="0">
            <a:gsLst>
              <a:gs pos="0">
                <a:srgbClr val="feeded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9240" y="127080"/>
            <a:ext cx="199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503160" y="114480"/>
            <a:ext cx="54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rganisation du système circu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 flipV="1">
            <a:off x="3727440" y="1866960"/>
            <a:ext cx="519120" cy="520560"/>
          </a:xfrm>
          <a:custGeom>
            <a:avLst/>
            <a:gdLst>
              <a:gd name="textAreaLeft" fmla="*/ 114120 w 519120"/>
              <a:gd name="textAreaRight" fmla="*/ 405000 w 519120"/>
              <a:gd name="textAreaTop" fmla="*/ 114480 h 520560"/>
              <a:gd name="textAreaBottom" fmla="*/ 406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 flipV="1">
            <a:off x="3719520" y="3805200"/>
            <a:ext cx="519120" cy="520560"/>
          </a:xfrm>
          <a:custGeom>
            <a:avLst/>
            <a:gdLst>
              <a:gd name="textAreaLeft" fmla="*/ 114120 w 519120"/>
              <a:gd name="textAreaRight" fmla="*/ 405000 w 519120"/>
              <a:gd name="textAreaTop" fmla="*/ 114480 h 520560"/>
              <a:gd name="textAreaBottom" fmla="*/ 406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2" name=""/>
          <p:cNvGrpSpPr/>
          <p:nvPr/>
        </p:nvGrpSpPr>
        <p:grpSpPr>
          <a:xfrm>
            <a:off x="4765320" y="2046240"/>
            <a:ext cx="673560" cy="380880"/>
            <a:chOff x="4765320" y="2046240"/>
            <a:chExt cx="673560" cy="380880"/>
          </a:xfrm>
        </p:grpSpPr>
        <p:sp>
          <p:nvSpPr>
            <p:cNvPr id="2073" name=""/>
            <p:cNvSpPr/>
            <p:nvPr/>
          </p:nvSpPr>
          <p:spPr>
            <a:xfrm flipH="1">
              <a:off x="4765320" y="2046240"/>
              <a:ext cx="34812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090760" y="2046240"/>
              <a:ext cx="34812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4774680" y="3731760"/>
            <a:ext cx="673560" cy="381240"/>
            <a:chOff x="4774680" y="3731760"/>
            <a:chExt cx="673560" cy="381240"/>
          </a:xfrm>
        </p:grpSpPr>
        <p:sp>
          <p:nvSpPr>
            <p:cNvPr id="2076" name=""/>
            <p:cNvSpPr/>
            <p:nvPr/>
          </p:nvSpPr>
          <p:spPr>
            <a:xfrm flipH="1" flipV="1">
              <a:off x="4774680" y="3731760"/>
              <a:ext cx="348120" cy="38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V="1">
              <a:off x="5100120" y="3731760"/>
              <a:ext cx="348120" cy="38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376960" y="2417760"/>
            <a:ext cx="133200" cy="324000"/>
          </a:xfrm>
          <a:custGeom>
            <a:avLst/>
            <a:gdLst/>
            <a:ahLst/>
            <a:rect l="l" t="t" r="r" b="b"/>
            <a:pathLst>
              <a:path w="84" h="306">
                <a:moveTo>
                  <a:pt x="31" y="0"/>
                </a:moveTo>
                <a:cubicBezTo>
                  <a:pt x="57" y="21"/>
                  <a:pt x="84" y="42"/>
                  <a:pt x="79" y="60"/>
                </a:cubicBezTo>
                <a:cubicBezTo>
                  <a:pt x="74" y="78"/>
                  <a:pt x="2" y="89"/>
                  <a:pt x="1" y="108"/>
                </a:cubicBezTo>
                <a:cubicBezTo>
                  <a:pt x="0" y="127"/>
                  <a:pt x="73" y="152"/>
                  <a:pt x="73" y="174"/>
                </a:cubicBezTo>
                <a:cubicBezTo>
                  <a:pt x="73" y="196"/>
                  <a:pt x="2" y="218"/>
                  <a:pt x="1" y="240"/>
                </a:cubicBezTo>
                <a:cubicBezTo>
                  <a:pt x="0" y="262"/>
                  <a:pt x="33" y="284"/>
                  <a:pt x="67" y="30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4691160" y="2424240"/>
            <a:ext cx="133200" cy="323640"/>
          </a:xfrm>
          <a:custGeom>
            <a:avLst/>
            <a:gdLst/>
            <a:ahLst/>
            <a:rect l="l" t="t" r="r" b="b"/>
            <a:pathLst>
              <a:path w="84" h="306">
                <a:moveTo>
                  <a:pt x="31" y="0"/>
                </a:moveTo>
                <a:cubicBezTo>
                  <a:pt x="57" y="21"/>
                  <a:pt x="84" y="42"/>
                  <a:pt x="79" y="60"/>
                </a:cubicBezTo>
                <a:cubicBezTo>
                  <a:pt x="74" y="78"/>
                  <a:pt x="2" y="89"/>
                  <a:pt x="1" y="108"/>
                </a:cubicBezTo>
                <a:cubicBezTo>
                  <a:pt x="0" y="127"/>
                  <a:pt x="73" y="152"/>
                  <a:pt x="73" y="174"/>
                </a:cubicBezTo>
                <a:cubicBezTo>
                  <a:pt x="73" y="196"/>
                  <a:pt x="2" y="218"/>
                  <a:pt x="1" y="240"/>
                </a:cubicBezTo>
                <a:cubicBezTo>
                  <a:pt x="0" y="262"/>
                  <a:pt x="33" y="284"/>
                  <a:pt x="67" y="30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H="1" flipV="1">
            <a:off x="4696560" y="3421080"/>
            <a:ext cx="133560" cy="324000"/>
          </a:xfrm>
          <a:custGeom>
            <a:avLst/>
            <a:gdLst/>
            <a:ahLst/>
            <a:rect l="l" t="t" r="r" b="b"/>
            <a:pathLst>
              <a:path w="84" h="306">
                <a:moveTo>
                  <a:pt x="31" y="0"/>
                </a:moveTo>
                <a:cubicBezTo>
                  <a:pt x="57" y="21"/>
                  <a:pt x="84" y="42"/>
                  <a:pt x="79" y="60"/>
                </a:cubicBezTo>
                <a:cubicBezTo>
                  <a:pt x="74" y="78"/>
                  <a:pt x="2" y="89"/>
                  <a:pt x="1" y="108"/>
                </a:cubicBezTo>
                <a:cubicBezTo>
                  <a:pt x="0" y="127"/>
                  <a:pt x="73" y="152"/>
                  <a:pt x="73" y="174"/>
                </a:cubicBezTo>
                <a:cubicBezTo>
                  <a:pt x="73" y="196"/>
                  <a:pt x="2" y="218"/>
                  <a:pt x="1" y="240"/>
                </a:cubicBezTo>
                <a:cubicBezTo>
                  <a:pt x="0" y="262"/>
                  <a:pt x="33" y="284"/>
                  <a:pt x="67" y="30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5383080" y="3414600"/>
            <a:ext cx="133560" cy="324000"/>
          </a:xfrm>
          <a:custGeom>
            <a:avLst/>
            <a:gdLst/>
            <a:ahLst/>
            <a:rect l="l" t="t" r="r" b="b"/>
            <a:pathLst>
              <a:path w="84" h="306">
                <a:moveTo>
                  <a:pt x="31" y="0"/>
                </a:moveTo>
                <a:cubicBezTo>
                  <a:pt x="57" y="21"/>
                  <a:pt x="84" y="42"/>
                  <a:pt x="79" y="60"/>
                </a:cubicBezTo>
                <a:cubicBezTo>
                  <a:pt x="74" y="78"/>
                  <a:pt x="2" y="89"/>
                  <a:pt x="1" y="108"/>
                </a:cubicBezTo>
                <a:cubicBezTo>
                  <a:pt x="0" y="127"/>
                  <a:pt x="73" y="152"/>
                  <a:pt x="73" y="174"/>
                </a:cubicBezTo>
                <a:cubicBezTo>
                  <a:pt x="73" y="196"/>
                  <a:pt x="2" y="218"/>
                  <a:pt x="1" y="240"/>
                </a:cubicBezTo>
                <a:cubicBezTo>
                  <a:pt x="0" y="262"/>
                  <a:pt x="33" y="284"/>
                  <a:pt x="67" y="30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2" name=""/>
          <p:cNvGrpSpPr/>
          <p:nvPr/>
        </p:nvGrpSpPr>
        <p:grpSpPr>
          <a:xfrm>
            <a:off x="5432040" y="2738520"/>
            <a:ext cx="108360" cy="679320"/>
            <a:chOff x="5432040" y="2738520"/>
            <a:chExt cx="108360" cy="679320"/>
          </a:xfrm>
        </p:grpSpPr>
        <p:sp>
          <p:nvSpPr>
            <p:cNvPr id="2083" name=""/>
            <p:cNvSpPr/>
            <p:nvPr/>
          </p:nvSpPr>
          <p:spPr>
            <a:xfrm>
              <a:off x="5486400" y="2738520"/>
              <a:ext cx="0" cy="67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489640" y="2745000"/>
              <a:ext cx="50760" cy="666720"/>
            </a:xfrm>
            <a:custGeom>
              <a:avLst/>
              <a:gdLst/>
              <a:ahLst/>
              <a:rect l="l" t="t" r="r" b="b"/>
              <a:pathLst>
                <a:path w="32" h="420">
                  <a:moveTo>
                    <a:pt x="2" y="0"/>
                  </a:moveTo>
                  <a:lnTo>
                    <a:pt x="32" y="52"/>
                  </a:lnTo>
                  <a:lnTo>
                    <a:pt x="32" y="388"/>
                  </a:lnTo>
                  <a:lnTo>
                    <a:pt x="0" y="42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5431680" y="2745000"/>
              <a:ext cx="50760" cy="666720"/>
            </a:xfrm>
            <a:custGeom>
              <a:avLst/>
              <a:gdLst/>
              <a:ahLst/>
              <a:rect l="l" t="t" r="r" b="b"/>
              <a:pathLst>
                <a:path w="32" h="420">
                  <a:moveTo>
                    <a:pt x="2" y="0"/>
                  </a:moveTo>
                  <a:lnTo>
                    <a:pt x="32" y="52"/>
                  </a:lnTo>
                  <a:lnTo>
                    <a:pt x="32" y="388"/>
                  </a:lnTo>
                  <a:lnTo>
                    <a:pt x="0" y="42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6" name=""/>
          <p:cNvGrpSpPr/>
          <p:nvPr/>
        </p:nvGrpSpPr>
        <p:grpSpPr>
          <a:xfrm>
            <a:off x="4667400" y="2751120"/>
            <a:ext cx="107280" cy="679320"/>
            <a:chOff x="4667400" y="2751120"/>
            <a:chExt cx="107280" cy="679320"/>
          </a:xfrm>
        </p:grpSpPr>
        <p:sp>
          <p:nvSpPr>
            <p:cNvPr id="2087" name=""/>
            <p:cNvSpPr/>
            <p:nvPr/>
          </p:nvSpPr>
          <p:spPr>
            <a:xfrm>
              <a:off x="4721040" y="2751120"/>
              <a:ext cx="0" cy="67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724280" y="2757600"/>
              <a:ext cx="50400" cy="666720"/>
            </a:xfrm>
            <a:custGeom>
              <a:avLst/>
              <a:gdLst/>
              <a:ahLst/>
              <a:rect l="l" t="t" r="r" b="b"/>
              <a:pathLst>
                <a:path w="32" h="420">
                  <a:moveTo>
                    <a:pt x="2" y="0"/>
                  </a:moveTo>
                  <a:lnTo>
                    <a:pt x="32" y="52"/>
                  </a:lnTo>
                  <a:lnTo>
                    <a:pt x="32" y="388"/>
                  </a:lnTo>
                  <a:lnTo>
                    <a:pt x="0" y="42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>
              <a:off x="4667400" y="2757600"/>
              <a:ext cx="50400" cy="666720"/>
            </a:xfrm>
            <a:custGeom>
              <a:avLst/>
              <a:gdLst/>
              <a:ahLst/>
              <a:rect l="l" t="t" r="r" b="b"/>
              <a:pathLst>
                <a:path w="32" h="420">
                  <a:moveTo>
                    <a:pt x="2" y="0"/>
                  </a:moveTo>
                  <a:lnTo>
                    <a:pt x="32" y="52"/>
                  </a:lnTo>
                  <a:lnTo>
                    <a:pt x="32" y="388"/>
                  </a:lnTo>
                  <a:lnTo>
                    <a:pt x="0" y="42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0" name=""/>
          <p:cNvSpPr/>
          <p:nvPr/>
        </p:nvSpPr>
        <p:spPr>
          <a:xfrm>
            <a:off x="2135880" y="194580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rebuchet MS"/>
                <a:ea typeface="Arial"/>
              </a:rPr>
              <a:t>cœur gau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2374920" y="3936600"/>
            <a:ext cx="11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rebuchet MS"/>
                <a:ea typeface="Arial"/>
              </a:rPr>
              <a:t>cœur dro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2411640" y="2917440"/>
            <a:ext cx="98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Trebuchet MS"/>
                <a:ea typeface="Arial"/>
              </a:rPr>
              <a:t>pou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209840" y="10663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rebuchet MS"/>
                <a:ea typeface="Arial"/>
              </a:rPr>
              <a:t>a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5268240" y="199368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rebuchet MS"/>
                <a:ea typeface="Arial"/>
              </a:rPr>
              <a:t>art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5450760" y="243180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rebuchet MS"/>
                <a:ea typeface="Arial"/>
              </a:rPr>
              <a:t>artéri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5636880" y="2923920"/>
            <a:ext cx="11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rebuchet MS"/>
                <a:ea typeface="Arial"/>
              </a:rPr>
              <a:t>capill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5491800" y="3374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rebuchet MS"/>
                <a:ea typeface="Arial"/>
              </a:rPr>
              <a:t>vein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5302440" y="372708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rebuchet MS"/>
                <a:ea typeface="Arial"/>
              </a:rPr>
              <a:t>ve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988080" y="46508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rebuchet MS"/>
                <a:ea typeface="Arial"/>
              </a:rPr>
              <a:t>veine c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854000" y="327924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rebuchet MS"/>
                <a:ea typeface="Arial"/>
              </a:rPr>
              <a:t>artère pulmon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1751040" y="2450880"/>
            <a:ext cx="20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Trebuchet MS"/>
                <a:ea typeface="Arial"/>
              </a:rPr>
              <a:t>veines pulmon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87200" y="695160"/>
            <a:ext cx="6309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fonctionnel géné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3" name=""/>
          <p:cNvGrpSpPr/>
          <p:nvPr/>
        </p:nvGrpSpPr>
        <p:grpSpPr>
          <a:xfrm>
            <a:off x="3917520" y="2627280"/>
            <a:ext cx="150480" cy="952200"/>
            <a:chOff x="3917520" y="2627280"/>
            <a:chExt cx="150480" cy="952200"/>
          </a:xfrm>
        </p:grpSpPr>
        <p:sp>
          <p:nvSpPr>
            <p:cNvPr id="2104" name=""/>
            <p:cNvSpPr/>
            <p:nvPr/>
          </p:nvSpPr>
          <p:spPr>
            <a:xfrm flipH="1">
              <a:off x="3939840" y="2627280"/>
              <a:ext cx="122400" cy="233640"/>
            </a:xfrm>
            <a:custGeom>
              <a:avLst/>
              <a:gdLst/>
              <a:ahLst/>
              <a:rect l="l" t="t" r="r" b="b"/>
              <a:pathLst>
                <a:path w="84" h="306">
                  <a:moveTo>
                    <a:pt x="31" y="0"/>
                  </a:moveTo>
                  <a:cubicBezTo>
                    <a:pt x="57" y="21"/>
                    <a:pt x="84" y="42"/>
                    <a:pt x="79" y="60"/>
                  </a:cubicBezTo>
                  <a:cubicBezTo>
                    <a:pt x="74" y="78"/>
                    <a:pt x="2" y="89"/>
                    <a:pt x="1" y="108"/>
                  </a:cubicBezTo>
                  <a:cubicBezTo>
                    <a:pt x="0" y="127"/>
                    <a:pt x="73" y="152"/>
                    <a:pt x="73" y="174"/>
                  </a:cubicBezTo>
                  <a:cubicBezTo>
                    <a:pt x="73" y="196"/>
                    <a:pt x="2" y="218"/>
                    <a:pt x="1" y="240"/>
                  </a:cubicBezTo>
                  <a:cubicBezTo>
                    <a:pt x="0" y="262"/>
                    <a:pt x="33" y="284"/>
                    <a:pt x="67" y="30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 flipV="1">
              <a:off x="3944880" y="3346200"/>
              <a:ext cx="122760" cy="233280"/>
            </a:xfrm>
            <a:custGeom>
              <a:avLst/>
              <a:gdLst/>
              <a:ahLst/>
              <a:rect l="l" t="t" r="r" b="b"/>
              <a:pathLst>
                <a:path w="84" h="306">
                  <a:moveTo>
                    <a:pt x="31" y="0"/>
                  </a:moveTo>
                  <a:cubicBezTo>
                    <a:pt x="57" y="21"/>
                    <a:pt x="84" y="42"/>
                    <a:pt x="79" y="60"/>
                  </a:cubicBezTo>
                  <a:cubicBezTo>
                    <a:pt x="74" y="78"/>
                    <a:pt x="2" y="89"/>
                    <a:pt x="1" y="108"/>
                  </a:cubicBezTo>
                  <a:cubicBezTo>
                    <a:pt x="0" y="127"/>
                    <a:pt x="73" y="152"/>
                    <a:pt x="73" y="174"/>
                  </a:cubicBezTo>
                  <a:cubicBezTo>
                    <a:pt x="73" y="196"/>
                    <a:pt x="2" y="218"/>
                    <a:pt x="1" y="240"/>
                  </a:cubicBezTo>
                  <a:cubicBezTo>
                    <a:pt x="0" y="262"/>
                    <a:pt x="33" y="284"/>
                    <a:pt x="67" y="30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6" name=""/>
            <p:cNvGrpSpPr/>
            <p:nvPr/>
          </p:nvGrpSpPr>
          <p:grpSpPr>
            <a:xfrm>
              <a:off x="3917520" y="2863080"/>
              <a:ext cx="99360" cy="489960"/>
              <a:chOff x="3917520" y="2863080"/>
              <a:chExt cx="99360" cy="489960"/>
            </a:xfrm>
          </p:grpSpPr>
          <p:sp>
            <p:nvSpPr>
              <p:cNvPr id="2107" name=""/>
              <p:cNvSpPr/>
              <p:nvPr/>
            </p:nvSpPr>
            <p:spPr>
              <a:xfrm>
                <a:off x="3967560" y="2863080"/>
                <a:ext cx="0" cy="489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3970440" y="2867400"/>
                <a:ext cx="46440" cy="480960"/>
              </a:xfrm>
              <a:custGeom>
                <a:avLst/>
                <a:gdLst/>
                <a:ahLst/>
                <a:rect l="l" t="t" r="r" b="b"/>
                <a:pathLst>
                  <a:path w="32" h="420">
                    <a:moveTo>
                      <a:pt x="2" y="0"/>
                    </a:moveTo>
                    <a:lnTo>
                      <a:pt x="32" y="52"/>
                    </a:lnTo>
                    <a:lnTo>
                      <a:pt x="32" y="388"/>
                    </a:lnTo>
                    <a:lnTo>
                      <a:pt x="0" y="42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flipH="1">
                <a:off x="3917160" y="2867400"/>
                <a:ext cx="46440" cy="480960"/>
              </a:xfrm>
              <a:custGeom>
                <a:avLst/>
                <a:gdLst/>
                <a:ahLst/>
                <a:rect l="l" t="t" r="r" b="b"/>
                <a:pathLst>
                  <a:path w="32" h="420">
                    <a:moveTo>
                      <a:pt x="2" y="0"/>
                    </a:moveTo>
                    <a:lnTo>
                      <a:pt x="32" y="52"/>
                    </a:lnTo>
                    <a:lnTo>
                      <a:pt x="32" y="388"/>
                    </a:lnTo>
                    <a:lnTo>
                      <a:pt x="0" y="42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0" name=""/>
          <p:cNvSpPr/>
          <p:nvPr/>
        </p:nvSpPr>
        <p:spPr>
          <a:xfrm>
            <a:off x="3987720" y="3556080"/>
            <a:ext cx="1117800" cy="1117440"/>
          </a:xfrm>
          <a:custGeom>
            <a:avLst/>
            <a:gdLst/>
            <a:ahLst/>
            <a:rect l="l" t="t" r="r" b="b"/>
            <a:pathLst>
              <a:path w="704" h="632">
                <a:moveTo>
                  <a:pt x="704" y="632"/>
                </a:moveTo>
                <a:lnTo>
                  <a:pt x="0" y="63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V="1">
            <a:off x="3987720" y="1459800"/>
            <a:ext cx="1117800" cy="1206360"/>
          </a:xfrm>
          <a:custGeom>
            <a:avLst/>
            <a:gdLst/>
            <a:ahLst/>
            <a:rect l="l" t="t" r="r" b="b"/>
            <a:pathLst>
              <a:path w="704" h="632">
                <a:moveTo>
                  <a:pt x="704" y="632"/>
                </a:moveTo>
                <a:lnTo>
                  <a:pt x="0" y="63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092560" y="1438200"/>
            <a:ext cx="0" cy="63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5105520" y="4067280"/>
            <a:ext cx="0" cy="63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39320" y="2728800"/>
            <a:ext cx="16833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ptation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largage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5793840" y="1460520"/>
            <a:ext cx="28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irculation systé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6841080" y="2716200"/>
            <a:ext cx="16498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largage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ptation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4160" y="43941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irculation pulmo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1378080" y="2803680"/>
            <a:ext cx="763560" cy="1288800"/>
          </a:xfrm>
          <a:custGeom>
            <a:avLst/>
            <a:gdLst/>
            <a:ahLst/>
            <a:rect l="l" t="t" r="r" b="b"/>
            <a:pathLst>
              <a:path w="481" h="812">
                <a:moveTo>
                  <a:pt x="16" y="342"/>
                </a:moveTo>
                <a:cubicBezTo>
                  <a:pt x="28" y="411"/>
                  <a:pt x="45" y="692"/>
                  <a:pt x="91" y="752"/>
                </a:cubicBezTo>
                <a:cubicBezTo>
                  <a:pt x="137" y="812"/>
                  <a:pt x="228" y="718"/>
                  <a:pt x="291" y="705"/>
                </a:cubicBezTo>
                <a:cubicBezTo>
                  <a:pt x="352" y="692"/>
                  <a:pt x="448" y="763"/>
                  <a:pt x="464" y="673"/>
                </a:cubicBezTo>
                <a:cubicBezTo>
                  <a:pt x="481" y="583"/>
                  <a:pt x="428" y="277"/>
                  <a:pt x="387" y="166"/>
                </a:cubicBezTo>
                <a:cubicBezTo>
                  <a:pt x="346" y="55"/>
                  <a:pt x="277" y="7"/>
                  <a:pt x="219" y="3"/>
                </a:cubicBezTo>
                <a:cubicBezTo>
                  <a:pt x="160" y="0"/>
                  <a:pt x="68" y="91"/>
                  <a:pt x="34" y="146"/>
                </a:cubicBezTo>
                <a:cubicBezTo>
                  <a:pt x="0" y="201"/>
                  <a:pt x="20" y="297"/>
                  <a:pt x="16" y="336"/>
                </a:cubicBezTo>
              </a:path>
            </a:pathLst>
          </a:custGeom>
          <a:gradFill rotWithShape="0">
            <a:gsLst>
              <a:gs pos="0">
                <a:srgbClr val="feeded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9240" y="127080"/>
            <a:ext cx="199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503160" y="114480"/>
            <a:ext cx="54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rganisation du système circu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2" name=""/>
          <p:cNvGraphicFramePr/>
          <p:nvPr/>
        </p:nvGraphicFramePr>
        <p:xfrm>
          <a:off x="539640" y="1292400"/>
          <a:ext cx="7766280" cy="1004760"/>
        </p:xfrm>
        <a:graphic>
          <a:graphicData uri="http://schemas.openxmlformats.org/drawingml/2006/table">
            <a:tbl>
              <a:tblPr/>
              <a:tblGrid>
                <a:gridCol w="2587680"/>
                <a:gridCol w="2590920"/>
                <a:gridCol w="2587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fr-FR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Ho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Trebuchet MS"/>
                          <a:ea typeface="Times New Roman"/>
                        </a:rPr>
                        <a:t>circulation pulmon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Trebuchet MS"/>
                          <a:ea typeface="Times New Roman"/>
                        </a:rPr>
                        <a:t>circulation systém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Trebuchet MS"/>
                        </a:rPr>
                        <a:t>PA moyen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Trebuchet MS"/>
                        </a:rPr>
                        <a:t>15 mm H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Trebuchet MS"/>
                        </a:rPr>
                        <a:t>100 mm H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systè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basse p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haute p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3" name=""/>
          <p:cNvSpPr/>
          <p:nvPr/>
        </p:nvSpPr>
        <p:spPr>
          <a:xfrm>
            <a:off x="187200" y="695160"/>
            <a:ext cx="6309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irculation pulmon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4" name=""/>
          <p:cNvGrpSpPr/>
          <p:nvPr/>
        </p:nvGrpSpPr>
        <p:grpSpPr>
          <a:xfrm>
            <a:off x="1404720" y="3434400"/>
            <a:ext cx="679320" cy="231120"/>
            <a:chOff x="1404720" y="3434400"/>
            <a:chExt cx="679320" cy="231120"/>
          </a:xfrm>
        </p:grpSpPr>
        <p:sp>
          <p:nvSpPr>
            <p:cNvPr id="2125" name=""/>
            <p:cNvSpPr/>
            <p:nvPr/>
          </p:nvSpPr>
          <p:spPr>
            <a:xfrm flipH="1">
              <a:off x="1404720" y="3549960"/>
              <a:ext cx="679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H="1" rot="5400000">
              <a:off x="1689840" y="3155400"/>
              <a:ext cx="108720" cy="666720"/>
            </a:xfrm>
            <a:custGeom>
              <a:avLst/>
              <a:gdLst/>
              <a:ahLst/>
              <a:rect l="l" t="t" r="r" b="b"/>
              <a:pathLst>
                <a:path w="32" h="420">
                  <a:moveTo>
                    <a:pt x="2" y="0"/>
                  </a:moveTo>
                  <a:lnTo>
                    <a:pt x="32" y="52"/>
                  </a:lnTo>
                  <a:lnTo>
                    <a:pt x="32" y="388"/>
                  </a:lnTo>
                  <a:lnTo>
                    <a:pt x="0" y="42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rot="5400000">
              <a:off x="1689840" y="3277800"/>
              <a:ext cx="108720" cy="666720"/>
            </a:xfrm>
            <a:custGeom>
              <a:avLst/>
              <a:gdLst/>
              <a:ahLst/>
              <a:rect l="l" t="t" r="r" b="b"/>
              <a:pathLst>
                <a:path w="32" h="420">
                  <a:moveTo>
                    <a:pt x="2" y="0"/>
                  </a:moveTo>
                  <a:lnTo>
                    <a:pt x="32" y="52"/>
                  </a:lnTo>
                  <a:lnTo>
                    <a:pt x="32" y="388"/>
                  </a:lnTo>
                  <a:lnTo>
                    <a:pt x="0" y="42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8" name=""/>
          <p:cNvSpPr/>
          <p:nvPr/>
        </p:nvSpPr>
        <p:spPr>
          <a:xfrm>
            <a:off x="955800" y="3556080"/>
            <a:ext cx="485640" cy="1133280"/>
          </a:xfrm>
          <a:custGeom>
            <a:avLst/>
            <a:gdLst/>
            <a:ahLst/>
            <a:rect l="l" t="t" r="r" b="b"/>
            <a:pathLst>
              <a:path w="306" h="714">
                <a:moveTo>
                  <a:pt x="306" y="714"/>
                </a:moveTo>
                <a:lnTo>
                  <a:pt x="0" y="714"/>
                </a:lnTo>
                <a:lnTo>
                  <a:pt x="0" y="0"/>
                </a:lnTo>
                <a:lnTo>
                  <a:pt x="294" y="0"/>
                </a:lnTo>
              </a:path>
            </a:pathLst>
          </a:custGeom>
          <a:noFill/>
          <a:ln w="57240">
            <a:solidFill>
              <a:srgbClr val="ff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2066760" y="3552840"/>
            <a:ext cx="486000" cy="866880"/>
          </a:xfrm>
          <a:custGeom>
            <a:avLst/>
            <a:gdLst/>
            <a:ahLst/>
            <a:rect l="l" t="t" r="r" b="b"/>
            <a:pathLst>
              <a:path w="306" h="714">
                <a:moveTo>
                  <a:pt x="306" y="714"/>
                </a:moveTo>
                <a:lnTo>
                  <a:pt x="0" y="714"/>
                </a:lnTo>
                <a:lnTo>
                  <a:pt x="0" y="0"/>
                </a:lnTo>
                <a:lnTo>
                  <a:pt x="294" y="0"/>
                </a:lnTo>
              </a:path>
            </a:pathLst>
          </a:custGeom>
          <a:noFill/>
          <a:ln w="57240">
            <a:solidFill>
              <a:srgbClr val="ff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0" name=""/>
          <p:cNvGrpSpPr/>
          <p:nvPr/>
        </p:nvGrpSpPr>
        <p:grpSpPr>
          <a:xfrm>
            <a:off x="1310400" y="3971880"/>
            <a:ext cx="966960" cy="1128960"/>
            <a:chOff x="1310400" y="3971880"/>
            <a:chExt cx="966960" cy="1128960"/>
          </a:xfrm>
        </p:grpSpPr>
        <p:sp>
          <p:nvSpPr>
            <p:cNvPr id="2131" name=""/>
            <p:cNvSpPr/>
            <p:nvPr/>
          </p:nvSpPr>
          <p:spPr>
            <a:xfrm rot="1372200">
              <a:off x="1469880" y="4060080"/>
              <a:ext cx="647640" cy="952200"/>
            </a:xfrm>
            <a:prstGeom prst="ellipse">
              <a:avLst/>
            </a:prstGeom>
            <a:solidFill>
              <a:srgbClr val="ffa5a5"/>
            </a:solidFill>
            <a:ln w="19080">
              <a:solidFill>
                <a:srgbClr val="ff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H="1">
              <a:off x="1604880" y="4089600"/>
              <a:ext cx="377280" cy="894960"/>
            </a:xfrm>
            <a:prstGeom prst="line">
              <a:avLst/>
            </a:prstGeom>
            <a:ln w="19080">
              <a:solidFill>
                <a:srgbClr val="ff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554480" y="4320360"/>
              <a:ext cx="578880" cy="244440"/>
            </a:xfrm>
            <a:prstGeom prst="line">
              <a:avLst/>
            </a:prstGeom>
            <a:ln w="19080">
              <a:solidFill>
                <a:srgbClr val="ff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1388520" y="43927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1313"/>
                </a:solidFill>
                <a:latin typeface="Trebuchet MS"/>
                <a:ea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75480" y="395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1313"/>
                </a:solidFill>
                <a:latin typeface="Trebuchet MS"/>
                <a:ea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413000" y="30686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1313"/>
                </a:solidFill>
                <a:latin typeface="Trebuchet MS"/>
                <a:ea typeface="Arial"/>
              </a:rPr>
              <a:t>10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857240" y="415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1313"/>
                </a:solidFill>
                <a:latin typeface="Trebuchet MS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625480" y="3833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1313"/>
                </a:solidFill>
                <a:latin typeface="Trebuchet MS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555480" y="5143680"/>
            <a:ext cx="29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ression sanguine (mm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"/>
          <p:cNvSpPr/>
          <p:nvPr/>
        </p:nvSpPr>
        <p:spPr>
          <a:xfrm>
            <a:off x="1155600" y="1282680"/>
            <a:ext cx="4051440" cy="1803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9240" y="127080"/>
            <a:ext cx="199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503160" y="114480"/>
            <a:ext cx="54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rganisation du système circu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87200" y="695160"/>
            <a:ext cx="6309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irculation pulmon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5" name="" descr=""/>
          <p:cNvPicPr/>
          <p:nvPr/>
        </p:nvPicPr>
        <p:blipFill>
          <a:blip r:embed="rId1"/>
          <a:stretch/>
        </p:blipFill>
        <p:spPr>
          <a:xfrm>
            <a:off x="5046840" y="2803680"/>
            <a:ext cx="3033360" cy="2889000"/>
          </a:xfrm>
          <a:prstGeom prst="rect">
            <a:avLst/>
          </a:prstGeom>
          <a:ln w="0">
            <a:noFill/>
          </a:ln>
        </p:spPr>
      </p:pic>
      <p:sp>
        <p:nvSpPr>
          <p:cNvPr id="2146" name=""/>
          <p:cNvSpPr/>
          <p:nvPr/>
        </p:nvSpPr>
        <p:spPr>
          <a:xfrm>
            <a:off x="5566680" y="581508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obule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5863680" y="1749600"/>
            <a:ext cx="25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bronchiole intralob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8" name="" descr=""/>
          <p:cNvPicPr/>
          <p:nvPr/>
        </p:nvPicPr>
        <p:blipFill>
          <a:blip r:embed="rId2"/>
          <a:stretch/>
        </p:blipFill>
        <p:spPr>
          <a:xfrm>
            <a:off x="1171440" y="1384200"/>
            <a:ext cx="3905280" cy="1548000"/>
          </a:xfrm>
          <a:prstGeom prst="rect">
            <a:avLst/>
          </a:prstGeom>
          <a:ln w="0">
            <a:noFill/>
          </a:ln>
        </p:spPr>
      </p:pic>
      <p:sp>
        <p:nvSpPr>
          <p:cNvPr id="2149" name=""/>
          <p:cNvSpPr/>
          <p:nvPr/>
        </p:nvSpPr>
        <p:spPr>
          <a:xfrm>
            <a:off x="6667560" y="2108160"/>
            <a:ext cx="0" cy="1498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H="1">
            <a:off x="4825800" y="1917720"/>
            <a:ext cx="10285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742920" y="35290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veine périlobul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384880" y="3695760"/>
            <a:ext cx="5713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6769080" y="2612880"/>
            <a:ext cx="21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rtère intralob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7340760" y="2971800"/>
            <a:ext cx="0" cy="952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01680" y="3314880"/>
            <a:ext cx="4324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es artères suivent les ramifications des bronches à l’intérieur des lobules jusqu’aux alvéo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es veines passent à l’extérieur des lobules, puis suivent les bronches extralob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7" name=""/>
          <p:cNvGrpSpPr/>
          <p:nvPr/>
        </p:nvGrpSpPr>
        <p:grpSpPr>
          <a:xfrm>
            <a:off x="325440" y="1287360"/>
            <a:ext cx="4194720" cy="3048840"/>
            <a:chOff x="325440" y="1287360"/>
            <a:chExt cx="4194720" cy="3048840"/>
          </a:xfrm>
        </p:grpSpPr>
        <p:sp>
          <p:nvSpPr>
            <p:cNvPr id="2158" name=""/>
            <p:cNvSpPr/>
            <p:nvPr/>
          </p:nvSpPr>
          <p:spPr>
            <a:xfrm>
              <a:off x="826920" y="3922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56720" y="3659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56720" y="3394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56720" y="3130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56720" y="2868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56720" y="2604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56720" y="2341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56720" y="2077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56720" y="1814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56720" y="1552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88680" y="1287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1430280" y="1352160"/>
              <a:ext cx="180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V="1">
              <a:off x="1751040" y="1352160"/>
              <a:ext cx="144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V="1">
              <a:off x="2073240" y="1352160"/>
              <a:ext cx="180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V="1">
              <a:off x="2394000" y="1352160"/>
              <a:ext cx="144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2716200" y="1352160"/>
              <a:ext cx="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V="1">
              <a:off x="3036960" y="1352160"/>
              <a:ext cx="144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3359160" y="1352160"/>
              <a:ext cx="144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V="1">
              <a:off x="3679920" y="1352160"/>
              <a:ext cx="144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V="1">
              <a:off x="4002120" y="1352160"/>
              <a:ext cx="144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V="1">
              <a:off x="4322880" y="1352160"/>
              <a:ext cx="1440" cy="266076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108080" y="3751200"/>
              <a:ext cx="3246480" cy="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108080" y="3486240"/>
              <a:ext cx="324648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108080" y="3222720"/>
              <a:ext cx="324648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108080" y="2960640"/>
              <a:ext cx="324648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108080" y="2697120"/>
              <a:ext cx="324648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108080" y="2433600"/>
              <a:ext cx="324648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108080" y="2170080"/>
              <a:ext cx="324648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108080" y="1906560"/>
              <a:ext cx="324648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108080" y="1643040"/>
              <a:ext cx="324648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108080" y="1379520"/>
              <a:ext cx="324648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031400" y="4092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320480" y="4092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642680" y="4092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963440" y="4092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287080" y="4092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607840" y="4092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928600" y="4092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249360" y="4092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571560" y="4092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893760" y="4092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181040" y="40924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V="1">
              <a:off x="1108080" y="401292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V="1">
              <a:off x="1268280" y="4012920"/>
              <a:ext cx="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1430280" y="4012920"/>
              <a:ext cx="180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V="1">
              <a:off x="1590840" y="4012920"/>
              <a:ext cx="144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>
              <a:off x="1751040" y="401292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1911240" y="4012920"/>
              <a:ext cx="180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2073240" y="4012920"/>
              <a:ext cx="180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V="1">
              <a:off x="2233440" y="4012920"/>
              <a:ext cx="180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V="1">
              <a:off x="2394000" y="401292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V="1">
              <a:off x="2556000" y="4012920"/>
              <a:ext cx="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V="1">
              <a:off x="2716200" y="4012920"/>
              <a:ext cx="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2876400" y="4012920"/>
              <a:ext cx="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3036960" y="401292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V="1">
              <a:off x="3198960" y="4012920"/>
              <a:ext cx="144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V="1">
              <a:off x="3359160" y="401292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3519360" y="4012920"/>
              <a:ext cx="180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V="1">
              <a:off x="3679920" y="401292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3841920" y="4012920"/>
              <a:ext cx="144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4002120" y="401292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V="1">
              <a:off x="4162320" y="4012920"/>
              <a:ext cx="180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V="1">
              <a:off x="4322880" y="401292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108080" y="4013280"/>
              <a:ext cx="324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063800" y="4013280"/>
              <a:ext cx="44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085760" y="3881520"/>
              <a:ext cx="223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063800" y="3751200"/>
              <a:ext cx="4428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085760" y="3621240"/>
              <a:ext cx="223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063800" y="3486240"/>
              <a:ext cx="44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085760" y="3354480"/>
              <a:ext cx="223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063800" y="3222720"/>
              <a:ext cx="44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085760" y="3090960"/>
              <a:ext cx="223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063800" y="2960640"/>
              <a:ext cx="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085760" y="2827440"/>
              <a:ext cx="223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063800" y="2697120"/>
              <a:ext cx="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085760" y="256536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063800" y="2433600"/>
              <a:ext cx="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085760" y="2300400"/>
              <a:ext cx="223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063800" y="2170080"/>
              <a:ext cx="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085760" y="203976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063800" y="1906560"/>
              <a:ext cx="44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085760" y="17762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063800" y="1643040"/>
              <a:ext cx="44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085760" y="151272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063800" y="1379520"/>
              <a:ext cx="44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1108080" y="1352160"/>
              <a:ext cx="1440" cy="266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104840" y="4011480"/>
              <a:ext cx="4680" cy="32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104840" y="4011480"/>
              <a:ext cx="4680" cy="324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103400" y="1440000"/>
              <a:ext cx="3171600" cy="2573280"/>
            </a:xfrm>
            <a:custGeom>
              <a:avLst/>
              <a:gdLst/>
              <a:ahLst/>
              <a:rect l="l" t="t" r="r" b="b"/>
              <a:pathLst>
                <a:path w="4666" h="2876">
                  <a:moveTo>
                    <a:pt x="0" y="2876"/>
                  </a:moveTo>
                  <a:lnTo>
                    <a:pt x="15" y="2863"/>
                  </a:lnTo>
                  <a:lnTo>
                    <a:pt x="96" y="2792"/>
                  </a:lnTo>
                  <a:lnTo>
                    <a:pt x="176" y="2716"/>
                  </a:lnTo>
                  <a:lnTo>
                    <a:pt x="256" y="2634"/>
                  </a:lnTo>
                  <a:lnTo>
                    <a:pt x="336" y="2548"/>
                  </a:lnTo>
                  <a:lnTo>
                    <a:pt x="416" y="2456"/>
                  </a:lnTo>
                  <a:lnTo>
                    <a:pt x="496" y="2361"/>
                  </a:lnTo>
                  <a:lnTo>
                    <a:pt x="576" y="2262"/>
                  </a:lnTo>
                  <a:lnTo>
                    <a:pt x="656" y="2161"/>
                  </a:lnTo>
                  <a:lnTo>
                    <a:pt x="736" y="2056"/>
                  </a:lnTo>
                  <a:lnTo>
                    <a:pt x="817" y="1949"/>
                  </a:lnTo>
                  <a:lnTo>
                    <a:pt x="897" y="1840"/>
                  </a:lnTo>
                  <a:lnTo>
                    <a:pt x="977" y="1732"/>
                  </a:lnTo>
                  <a:lnTo>
                    <a:pt x="1059" y="1625"/>
                  </a:lnTo>
                  <a:lnTo>
                    <a:pt x="1139" y="1516"/>
                  </a:lnTo>
                  <a:lnTo>
                    <a:pt x="1219" y="1411"/>
                  </a:lnTo>
                  <a:lnTo>
                    <a:pt x="1299" y="1310"/>
                  </a:lnTo>
                  <a:lnTo>
                    <a:pt x="1379" y="1209"/>
                  </a:lnTo>
                  <a:lnTo>
                    <a:pt x="1459" y="1114"/>
                  </a:lnTo>
                  <a:lnTo>
                    <a:pt x="1540" y="1022"/>
                  </a:lnTo>
                  <a:lnTo>
                    <a:pt x="1620" y="936"/>
                  </a:lnTo>
                  <a:lnTo>
                    <a:pt x="1700" y="854"/>
                  </a:lnTo>
                  <a:lnTo>
                    <a:pt x="1780" y="776"/>
                  </a:lnTo>
                  <a:lnTo>
                    <a:pt x="1860" y="704"/>
                  </a:lnTo>
                  <a:lnTo>
                    <a:pt x="1940" y="637"/>
                  </a:lnTo>
                  <a:lnTo>
                    <a:pt x="2020" y="576"/>
                  </a:lnTo>
                  <a:lnTo>
                    <a:pt x="2100" y="519"/>
                  </a:lnTo>
                  <a:lnTo>
                    <a:pt x="2180" y="465"/>
                  </a:lnTo>
                  <a:lnTo>
                    <a:pt x="2261" y="417"/>
                  </a:lnTo>
                  <a:lnTo>
                    <a:pt x="2341" y="374"/>
                  </a:lnTo>
                  <a:lnTo>
                    <a:pt x="2421" y="334"/>
                  </a:lnTo>
                  <a:lnTo>
                    <a:pt x="2501" y="297"/>
                  </a:lnTo>
                  <a:lnTo>
                    <a:pt x="2581" y="265"/>
                  </a:lnTo>
                  <a:lnTo>
                    <a:pt x="2661" y="236"/>
                  </a:lnTo>
                  <a:lnTo>
                    <a:pt x="2741" y="210"/>
                  </a:lnTo>
                  <a:lnTo>
                    <a:pt x="2821" y="185"/>
                  </a:lnTo>
                  <a:lnTo>
                    <a:pt x="2901" y="164"/>
                  </a:lnTo>
                  <a:lnTo>
                    <a:pt x="2982" y="145"/>
                  </a:lnTo>
                  <a:lnTo>
                    <a:pt x="3062" y="128"/>
                  </a:lnTo>
                  <a:lnTo>
                    <a:pt x="3142" y="112"/>
                  </a:lnTo>
                  <a:lnTo>
                    <a:pt x="3224" y="97"/>
                  </a:lnTo>
                  <a:lnTo>
                    <a:pt x="3304" y="86"/>
                  </a:lnTo>
                  <a:lnTo>
                    <a:pt x="3384" y="74"/>
                  </a:lnTo>
                  <a:lnTo>
                    <a:pt x="3464" y="65"/>
                  </a:lnTo>
                  <a:lnTo>
                    <a:pt x="3544" y="57"/>
                  </a:lnTo>
                  <a:lnTo>
                    <a:pt x="3624" y="47"/>
                  </a:lnTo>
                  <a:lnTo>
                    <a:pt x="3705" y="42"/>
                  </a:lnTo>
                  <a:lnTo>
                    <a:pt x="3785" y="36"/>
                  </a:lnTo>
                  <a:lnTo>
                    <a:pt x="3865" y="30"/>
                  </a:lnTo>
                  <a:lnTo>
                    <a:pt x="3945" y="25"/>
                  </a:lnTo>
                  <a:lnTo>
                    <a:pt x="4025" y="21"/>
                  </a:lnTo>
                  <a:lnTo>
                    <a:pt x="4105" y="17"/>
                  </a:lnTo>
                  <a:lnTo>
                    <a:pt x="4185" y="13"/>
                  </a:lnTo>
                  <a:lnTo>
                    <a:pt x="4265" y="11"/>
                  </a:lnTo>
                  <a:lnTo>
                    <a:pt x="4345" y="7"/>
                  </a:lnTo>
                  <a:lnTo>
                    <a:pt x="4426" y="5"/>
                  </a:lnTo>
                  <a:lnTo>
                    <a:pt x="4506" y="4"/>
                  </a:lnTo>
                  <a:lnTo>
                    <a:pt x="4586" y="2"/>
                  </a:lnTo>
                  <a:lnTo>
                    <a:pt x="4666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667240" y="3606840"/>
              <a:ext cx="1483560" cy="30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PaO</a:t>
              </a:r>
              <a:r>
                <a:rPr b="0" lang="fr-FR" sz="1800" spc="-1" strike="noStrike" baseline="-20000">
                  <a:solidFill>
                    <a:srgbClr val="000099"/>
                  </a:solidFill>
                  <a:latin typeface="Arial"/>
                  <a:ea typeface="Arial"/>
                </a:rPr>
                <a:t>2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 (mm H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rot="16200000">
              <a:off x="-358920" y="2421000"/>
              <a:ext cx="1764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% saturation O</a:t>
              </a:r>
              <a:r>
                <a:rPr b="0" lang="en-US" sz="1800" spc="-1" strike="noStrike" baseline="-20000">
                  <a:solidFill>
                    <a:srgbClr val="000099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9" name=""/>
          <p:cNvSpPr/>
          <p:nvPr/>
        </p:nvSpPr>
        <p:spPr>
          <a:xfrm>
            <a:off x="2794680" y="4799160"/>
            <a:ext cx="569304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quantité d’oxygène dans le sang : dissous + lié à H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Hb : concentration en hémoglobine (g/100 m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Sat : degré de sat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4898880" y="1405080"/>
            <a:ext cx="3276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apacité de fixation d’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 = pouvoir oxypho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4721400" y="2246400"/>
            <a:ext cx="38289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apacité maximale de fixation : environ 1,39 ml d’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par g d’H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950000" y="3110040"/>
            <a:ext cx="34257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50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 : pression pour laquelle le degré de saturation est de 0,5 (50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1104840" y="2692440"/>
            <a:ext cx="825480" cy="1803240"/>
          </a:xfrm>
          <a:custGeom>
            <a:avLst/>
            <a:gdLst/>
            <a:ahLst/>
            <a:rect l="l" t="t" r="r" b="b"/>
            <a:pathLst>
              <a:path w="520" h="832">
                <a:moveTo>
                  <a:pt x="0" y="0"/>
                </a:moveTo>
                <a:lnTo>
                  <a:pt x="520" y="0"/>
                </a:lnTo>
                <a:lnTo>
                  <a:pt x="520" y="832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1301760" y="5319720"/>
            <a:ext cx="6810480" cy="40572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ncentration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(ml/100ml sg) = (1,39 x Hb x Sat) + 0,003 P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1698480" y="4545000"/>
            <a:ext cx="708120" cy="405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39240" y="127080"/>
            <a:ext cx="199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3496320" y="114480"/>
            <a:ext cx="45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transport des gaz dans le s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87200" y="695160"/>
            <a:ext cx="23338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oxygè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108240" y="725400"/>
            <a:ext cx="5797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hémoglobine : la courbe de dissociation de l’O</a:t>
            </a:r>
            <a:r>
              <a:rPr b="0" i="1" lang="fr-FR" sz="19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5546880" y="5688000"/>
            <a:ext cx="30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aptation  et relargage : compromis fonctionn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343560" y="2381400"/>
            <a:ext cx="0" cy="269532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5025600" y="4962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960440" y="4643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4960440" y="4314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4960440" y="3986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4960440" y="3659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895640" y="331632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4895640" y="29876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895640" y="26607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895640" y="233352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5438880" y="5073480"/>
            <a:ext cx="336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5276880" y="506412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5345280" y="489888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276880" y="4735440"/>
            <a:ext cx="13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5345280" y="457200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276880" y="4406760"/>
            <a:ext cx="13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345280" y="4243320"/>
            <a:ext cx="68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5276880" y="4081320"/>
            <a:ext cx="13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5345280" y="391644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5276880" y="375300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345280" y="358920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276880" y="342432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345280" y="326088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276880" y="309564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45280" y="2932200"/>
            <a:ext cx="68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276880" y="277020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345280" y="260496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276880" y="2441520"/>
            <a:ext cx="13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flipV="1">
            <a:off x="5413320" y="2408040"/>
            <a:ext cx="4680" cy="26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442120" y="2604960"/>
            <a:ext cx="3249360" cy="2214720"/>
          </a:xfrm>
          <a:custGeom>
            <a:avLst/>
            <a:gdLst/>
            <a:ahLst/>
            <a:rect l="l" t="t" r="r" b="b"/>
            <a:pathLst>
              <a:path w="1176" h="1208">
                <a:moveTo>
                  <a:pt x="0" y="0"/>
                </a:moveTo>
                <a:lnTo>
                  <a:pt x="328" y="0"/>
                </a:lnTo>
                <a:lnTo>
                  <a:pt x="328" y="452"/>
                </a:lnTo>
                <a:lnTo>
                  <a:pt x="660" y="452"/>
                </a:lnTo>
                <a:lnTo>
                  <a:pt x="660" y="492"/>
                </a:lnTo>
                <a:lnTo>
                  <a:pt x="984" y="492"/>
                </a:lnTo>
                <a:lnTo>
                  <a:pt x="1176" y="1208"/>
                </a:lnTo>
                <a:lnTo>
                  <a:pt x="996" y="896"/>
                </a:lnTo>
                <a:lnTo>
                  <a:pt x="660" y="896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366520" y="221616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air inspir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391440" y="30132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alvé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7386480" y="28926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s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343560" y="2965320"/>
            <a:ext cx="0" cy="2095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7515360" y="3508200"/>
            <a:ext cx="333360" cy="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8214120" y="3102120"/>
            <a:ext cx="7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tis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7234560" y="35971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artér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7268040" y="425124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vein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273800" y="2378160"/>
            <a:ext cx="0" cy="269532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8169120" y="2368440"/>
            <a:ext cx="0" cy="269568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2" name=""/>
          <p:cNvGrpSpPr/>
          <p:nvPr/>
        </p:nvGrpSpPr>
        <p:grpSpPr>
          <a:xfrm>
            <a:off x="196920" y="2125800"/>
            <a:ext cx="4656600" cy="3749040"/>
            <a:chOff x="196920" y="2125800"/>
            <a:chExt cx="4656600" cy="3749040"/>
          </a:xfrm>
        </p:grpSpPr>
        <p:sp>
          <p:nvSpPr>
            <p:cNvPr id="2303" name=""/>
            <p:cNvSpPr/>
            <p:nvPr/>
          </p:nvSpPr>
          <p:spPr>
            <a:xfrm>
              <a:off x="759960" y="5049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80760" y="475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80760" y="4464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80760" y="4172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80760" y="3879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80760" y="358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80760" y="329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80760" y="3003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80760" y="2711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80760" y="2419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04440" y="2125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V="1">
              <a:off x="1434960" y="2198160"/>
              <a:ext cx="180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V="1">
              <a:off x="179388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V="1">
              <a:off x="215424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V="1">
              <a:off x="251316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V="1">
              <a:off x="287352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V="1">
              <a:off x="323388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V="1">
              <a:off x="359424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V="1">
              <a:off x="3952800" y="2198160"/>
              <a:ext cx="180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4313160" y="2198160"/>
              <a:ext cx="180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467208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074600" y="4859280"/>
              <a:ext cx="363384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074600" y="4565520"/>
              <a:ext cx="363384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074600" y="427356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074600" y="398304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074600" y="369108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074600" y="339732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074600" y="3105000"/>
              <a:ext cx="363384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074600" y="281304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074600" y="252108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074600" y="222732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988560" y="5238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31256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67292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03148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39364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75220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11256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347148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83184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19220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514400" y="5238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V="1">
              <a:off x="107460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V="1">
              <a:off x="1254240" y="5151600"/>
              <a:ext cx="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V="1">
              <a:off x="143496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V="1">
              <a:off x="161460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V="1">
              <a:off x="179388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V="1">
              <a:off x="197316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215424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V="1">
              <a:off x="233352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V="1">
              <a:off x="251316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269388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V="1">
              <a:off x="287352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V="1">
              <a:off x="3054240" y="5151600"/>
              <a:ext cx="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V="1">
              <a:off x="323388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V="1">
              <a:off x="341460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V="1">
              <a:off x="359424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V="1">
              <a:off x="377352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V="1">
              <a:off x="395280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V="1">
              <a:off x="413388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V="1">
              <a:off x="431316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V="1">
              <a:off x="449280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V="1">
              <a:off x="467208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074600" y="5151600"/>
              <a:ext cx="3633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025640" y="515160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049400" y="500544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025640" y="4859280"/>
              <a:ext cx="48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049400" y="4714920"/>
              <a:ext cx="25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025640" y="4565520"/>
              <a:ext cx="48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049400" y="4419720"/>
              <a:ext cx="25200" cy="2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025640" y="427356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049400" y="412740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025640" y="398304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049400" y="383544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025640" y="369108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049400" y="3543480"/>
              <a:ext cx="25200" cy="2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025640" y="339732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1049400" y="324972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1025640" y="3105000"/>
              <a:ext cx="48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049400" y="2960640"/>
              <a:ext cx="25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025640" y="281304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1049400" y="2668680"/>
              <a:ext cx="25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1025640" y="252108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1049400" y="2376360"/>
              <a:ext cx="25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025640" y="222732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1074600" y="2198160"/>
              <a:ext cx="1800" cy="295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071720" y="5149800"/>
              <a:ext cx="4680" cy="32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071720" y="5149800"/>
              <a:ext cx="4680" cy="324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069920" y="2293920"/>
              <a:ext cx="3548160" cy="2857680"/>
            </a:xfrm>
            <a:custGeom>
              <a:avLst/>
              <a:gdLst/>
              <a:ahLst/>
              <a:rect l="l" t="t" r="r" b="b"/>
              <a:pathLst>
                <a:path w="4666" h="2876">
                  <a:moveTo>
                    <a:pt x="0" y="2876"/>
                  </a:moveTo>
                  <a:lnTo>
                    <a:pt x="15" y="2863"/>
                  </a:lnTo>
                  <a:lnTo>
                    <a:pt x="96" y="2792"/>
                  </a:lnTo>
                  <a:lnTo>
                    <a:pt x="176" y="2716"/>
                  </a:lnTo>
                  <a:lnTo>
                    <a:pt x="256" y="2634"/>
                  </a:lnTo>
                  <a:lnTo>
                    <a:pt x="336" y="2548"/>
                  </a:lnTo>
                  <a:lnTo>
                    <a:pt x="416" y="2456"/>
                  </a:lnTo>
                  <a:lnTo>
                    <a:pt x="496" y="2361"/>
                  </a:lnTo>
                  <a:lnTo>
                    <a:pt x="576" y="2262"/>
                  </a:lnTo>
                  <a:lnTo>
                    <a:pt x="656" y="2161"/>
                  </a:lnTo>
                  <a:lnTo>
                    <a:pt x="736" y="2056"/>
                  </a:lnTo>
                  <a:lnTo>
                    <a:pt x="817" y="1949"/>
                  </a:lnTo>
                  <a:lnTo>
                    <a:pt x="897" y="1840"/>
                  </a:lnTo>
                  <a:lnTo>
                    <a:pt x="977" y="1732"/>
                  </a:lnTo>
                  <a:lnTo>
                    <a:pt x="1059" y="1625"/>
                  </a:lnTo>
                  <a:lnTo>
                    <a:pt x="1139" y="1516"/>
                  </a:lnTo>
                  <a:lnTo>
                    <a:pt x="1219" y="1411"/>
                  </a:lnTo>
                  <a:lnTo>
                    <a:pt x="1299" y="1310"/>
                  </a:lnTo>
                  <a:lnTo>
                    <a:pt x="1379" y="1209"/>
                  </a:lnTo>
                  <a:lnTo>
                    <a:pt x="1459" y="1114"/>
                  </a:lnTo>
                  <a:lnTo>
                    <a:pt x="1540" y="1022"/>
                  </a:lnTo>
                  <a:lnTo>
                    <a:pt x="1620" y="936"/>
                  </a:lnTo>
                  <a:lnTo>
                    <a:pt x="1700" y="854"/>
                  </a:lnTo>
                  <a:lnTo>
                    <a:pt x="1780" y="776"/>
                  </a:lnTo>
                  <a:lnTo>
                    <a:pt x="1860" y="704"/>
                  </a:lnTo>
                  <a:lnTo>
                    <a:pt x="1940" y="637"/>
                  </a:lnTo>
                  <a:lnTo>
                    <a:pt x="2020" y="576"/>
                  </a:lnTo>
                  <a:lnTo>
                    <a:pt x="2100" y="519"/>
                  </a:lnTo>
                  <a:lnTo>
                    <a:pt x="2180" y="465"/>
                  </a:lnTo>
                  <a:lnTo>
                    <a:pt x="2261" y="417"/>
                  </a:lnTo>
                  <a:lnTo>
                    <a:pt x="2341" y="374"/>
                  </a:lnTo>
                  <a:lnTo>
                    <a:pt x="2421" y="334"/>
                  </a:lnTo>
                  <a:lnTo>
                    <a:pt x="2501" y="297"/>
                  </a:lnTo>
                  <a:lnTo>
                    <a:pt x="2581" y="265"/>
                  </a:lnTo>
                  <a:lnTo>
                    <a:pt x="2661" y="236"/>
                  </a:lnTo>
                  <a:lnTo>
                    <a:pt x="2741" y="210"/>
                  </a:lnTo>
                  <a:lnTo>
                    <a:pt x="2821" y="185"/>
                  </a:lnTo>
                  <a:lnTo>
                    <a:pt x="2901" y="164"/>
                  </a:lnTo>
                  <a:lnTo>
                    <a:pt x="2982" y="145"/>
                  </a:lnTo>
                  <a:lnTo>
                    <a:pt x="3062" y="128"/>
                  </a:lnTo>
                  <a:lnTo>
                    <a:pt x="3142" y="112"/>
                  </a:lnTo>
                  <a:lnTo>
                    <a:pt x="3224" y="97"/>
                  </a:lnTo>
                  <a:lnTo>
                    <a:pt x="3304" y="86"/>
                  </a:lnTo>
                  <a:lnTo>
                    <a:pt x="3384" y="74"/>
                  </a:lnTo>
                  <a:lnTo>
                    <a:pt x="3464" y="65"/>
                  </a:lnTo>
                  <a:lnTo>
                    <a:pt x="3544" y="57"/>
                  </a:lnTo>
                  <a:lnTo>
                    <a:pt x="3624" y="47"/>
                  </a:lnTo>
                  <a:lnTo>
                    <a:pt x="3705" y="42"/>
                  </a:lnTo>
                  <a:lnTo>
                    <a:pt x="3785" y="36"/>
                  </a:lnTo>
                  <a:lnTo>
                    <a:pt x="3865" y="30"/>
                  </a:lnTo>
                  <a:lnTo>
                    <a:pt x="3945" y="25"/>
                  </a:lnTo>
                  <a:lnTo>
                    <a:pt x="4025" y="21"/>
                  </a:lnTo>
                  <a:lnTo>
                    <a:pt x="4105" y="17"/>
                  </a:lnTo>
                  <a:lnTo>
                    <a:pt x="4185" y="13"/>
                  </a:lnTo>
                  <a:lnTo>
                    <a:pt x="4265" y="11"/>
                  </a:lnTo>
                  <a:lnTo>
                    <a:pt x="4345" y="7"/>
                  </a:lnTo>
                  <a:lnTo>
                    <a:pt x="4426" y="5"/>
                  </a:lnTo>
                  <a:lnTo>
                    <a:pt x="4506" y="4"/>
                  </a:lnTo>
                  <a:lnTo>
                    <a:pt x="4586" y="2"/>
                  </a:lnTo>
                  <a:lnTo>
                    <a:pt x="4666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250000" y="5573880"/>
              <a:ext cx="1419480" cy="3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PaO</a:t>
              </a:r>
              <a:r>
                <a:rPr b="0" lang="fr-FR" sz="1800" spc="-1" strike="noStrike" baseline="-2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 (mmH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rot="16200000">
              <a:off x="-487440" y="3503880"/>
              <a:ext cx="1764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% saturation O</a:t>
              </a:r>
              <a:r>
                <a:rPr b="0" lang="en-US" sz="1800" spc="-1" strike="noStrike" baseline="-20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4" name=""/>
          <p:cNvSpPr/>
          <p:nvPr/>
        </p:nvSpPr>
        <p:spPr>
          <a:xfrm rot="16200000">
            <a:off x="4066200" y="3524400"/>
            <a:ext cx="1346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PO2 (mmH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743200" y="1892160"/>
            <a:ext cx="2197080" cy="9655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6134040" y="3098880"/>
            <a:ext cx="2197080" cy="96516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8166240" y="3911760"/>
            <a:ext cx="774720" cy="96516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155600" y="3670200"/>
            <a:ext cx="1067040" cy="14353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9240" y="127080"/>
            <a:ext cx="199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496320" y="114480"/>
            <a:ext cx="45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transport des gaz dans le s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187200" y="695160"/>
            <a:ext cx="23338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oxygè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3108240" y="725400"/>
            <a:ext cx="5797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hémoglobine et gradient de PO</a:t>
            </a:r>
            <a:r>
              <a:rPr b="0" i="1" lang="fr-FR" sz="19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2098800" y="137160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aptation au niveau pulmo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3860640" y="1701720"/>
            <a:ext cx="0" cy="1904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582840" y="5994360"/>
            <a:ext cx="37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elargage au niveau tiss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1663560" y="5092560"/>
            <a:ext cx="0" cy="914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62680" y="1496880"/>
            <a:ext cx="80506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transporté sous 3 formes : dissous ; bicarbonates ; composés carbamin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mposés carbaminés (liaison avec protéi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Hb.NH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+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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Hb.NH.COOH  (carbamino-hémoglobin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3371400" y="47196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3371400" y="440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371400" y="4087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371400" y="3772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371400" y="34560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371400" y="31399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732120" y="4829040"/>
            <a:ext cx="46080" cy="32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755880" y="4672080"/>
            <a:ext cx="22320" cy="32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732120" y="4514760"/>
            <a:ext cx="46080" cy="32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755880" y="4356000"/>
            <a:ext cx="22320" cy="32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732120" y="4199040"/>
            <a:ext cx="46080" cy="1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755880" y="4040280"/>
            <a:ext cx="22320" cy="32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732120" y="3882960"/>
            <a:ext cx="46080" cy="180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3755880" y="3722760"/>
            <a:ext cx="22320" cy="32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3732120" y="3565440"/>
            <a:ext cx="46080" cy="32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3755880" y="3409920"/>
            <a:ext cx="22320" cy="1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732120" y="3249720"/>
            <a:ext cx="46080" cy="1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 flipV="1">
            <a:off x="3778200" y="3219120"/>
            <a:ext cx="1800" cy="174636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3865320" y="5276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4519080" y="5276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169960" y="5276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5822640" y="5276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6441840" y="5276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 flipV="1">
            <a:off x="3973680" y="5181480"/>
            <a:ext cx="1440" cy="698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 flipV="1">
            <a:off x="4302000" y="5181480"/>
            <a:ext cx="0" cy="698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627440" y="5181480"/>
            <a:ext cx="1800" cy="698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 flipV="1">
            <a:off x="4954680" y="5181480"/>
            <a:ext cx="0" cy="698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V="1">
            <a:off x="5280120" y="5181480"/>
            <a:ext cx="1440" cy="698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 flipV="1">
            <a:off x="5608800" y="5181480"/>
            <a:ext cx="0" cy="698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 flipV="1">
            <a:off x="5932440" y="5181480"/>
            <a:ext cx="1800" cy="698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V="1">
            <a:off x="6261120" y="5181480"/>
            <a:ext cx="0" cy="698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 flipV="1">
            <a:off x="6585120" y="5181480"/>
            <a:ext cx="2880" cy="698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3943440" y="5181480"/>
            <a:ext cx="2674800" cy="32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4038480" y="3568680"/>
            <a:ext cx="2629080" cy="1523880"/>
          </a:xfrm>
          <a:custGeom>
            <a:avLst/>
            <a:gdLst/>
            <a:ahLst/>
            <a:rect l="l" t="t" r="r" b="b"/>
            <a:pathLst>
              <a:path w="1656" h="960">
                <a:moveTo>
                  <a:pt x="0" y="960"/>
                </a:moveTo>
                <a:cubicBezTo>
                  <a:pt x="129" y="865"/>
                  <a:pt x="500" y="552"/>
                  <a:pt x="776" y="392"/>
                </a:cubicBezTo>
                <a:cubicBezTo>
                  <a:pt x="1052" y="232"/>
                  <a:pt x="1473" y="82"/>
                  <a:pt x="165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949560" y="3352680"/>
            <a:ext cx="2590920" cy="1562400"/>
          </a:xfrm>
          <a:custGeom>
            <a:avLst/>
            <a:gdLst/>
            <a:ahLst/>
            <a:rect l="l" t="t" r="r" b="b"/>
            <a:pathLst>
              <a:path w="1632" h="984">
                <a:moveTo>
                  <a:pt x="0" y="984"/>
                </a:moveTo>
                <a:cubicBezTo>
                  <a:pt x="117" y="891"/>
                  <a:pt x="432" y="588"/>
                  <a:pt x="704" y="424"/>
                </a:cubicBezTo>
                <a:cubicBezTo>
                  <a:pt x="976" y="260"/>
                  <a:pt x="1439" y="88"/>
                  <a:pt x="1632" y="0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 flipH="1">
            <a:off x="3772080" y="4205160"/>
            <a:ext cx="1504800" cy="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276880" y="4218120"/>
            <a:ext cx="0" cy="96336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 flipH="1">
            <a:off x="3784680" y="3557520"/>
            <a:ext cx="2254320" cy="0"/>
          </a:xfrm>
          <a:prstGeom prst="line">
            <a:avLst/>
          </a:prstGeom>
          <a:ln w="9360">
            <a:solidFill>
              <a:srgbClr val="000066"/>
            </a:solidFill>
            <a:prstDash val="lg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032520" y="3570120"/>
            <a:ext cx="0" cy="1586160"/>
          </a:xfrm>
          <a:prstGeom prst="line">
            <a:avLst/>
          </a:prstGeom>
          <a:ln w="9360">
            <a:solidFill>
              <a:srgbClr val="00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4236120" y="5622840"/>
            <a:ext cx="1473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P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 (mm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1165320" y="3933720"/>
            <a:ext cx="2163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concentration en 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(mL/100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750960" y="6145200"/>
            <a:ext cx="82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lus grande affinité pour l’hémoglobine réduite que pour l’oxyhémoglob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6588360" y="313380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sang vein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6729480" y="342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  <a:ea typeface="Arial"/>
              </a:rPr>
              <a:t>sang artér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4191120" y="3556080"/>
            <a:ext cx="0" cy="6350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9240" y="127080"/>
            <a:ext cx="199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3496320" y="114480"/>
            <a:ext cx="45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transport des gaz dans le s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187200" y="695160"/>
            <a:ext cx="331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oxyde de carb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4280" y="936720"/>
            <a:ext cx="4260960" cy="32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es pressions partielles en gaz (P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gaz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 s’équilibrent entre les compartiments gazeux et liquid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a concentration de gaz dissous C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gaz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dépend de P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gaz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dans le liquide et de la solubilité du gaz (sol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gaz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1480" y="5562720"/>
            <a:ext cx="71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apport entre gaz dissous et pression par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87800" y="1130400"/>
            <a:ext cx="2768760" cy="2489040"/>
          </a:xfrm>
          <a:prstGeom prst="rect">
            <a:avLst/>
          </a:prstGeom>
          <a:solidFill>
            <a:srgbClr val="ffff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00760" y="2438280"/>
            <a:ext cx="2743200" cy="1168560"/>
          </a:xfrm>
          <a:prstGeom prst="rect">
            <a:avLst/>
          </a:prstGeom>
          <a:solidFill>
            <a:srgbClr val="71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42520" y="312408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31080" y="1193760"/>
            <a:ext cx="4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85480" y="160020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g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87000" y="281952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g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52960" y="2082960"/>
            <a:ext cx="0" cy="73656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74480" y="2819520"/>
            <a:ext cx="586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g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07120" y="2997360"/>
            <a:ext cx="55872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640" y="127080"/>
            <a:ext cx="4512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problème de l’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1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46080" y="1144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onnées phys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ssolution d’un gaz dans un liqu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85960" y="4533840"/>
            <a:ext cx="3035160" cy="673200"/>
            <a:chOff x="885960" y="4533840"/>
            <a:chExt cx="3035160" cy="673200"/>
          </a:xfrm>
        </p:grpSpPr>
        <p:sp>
          <p:nvSpPr>
            <p:cNvPr id="163" name=""/>
            <p:cNvSpPr/>
            <p:nvPr/>
          </p:nvSpPr>
          <p:spPr>
            <a:xfrm>
              <a:off x="1267560" y="4673520"/>
              <a:ext cx="2129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C</a:t>
              </a:r>
              <a:r>
                <a:rPr b="0" lang="fr-FR" sz="2000" spc="-1" strike="noStrike" baseline="-25000">
                  <a:solidFill>
                    <a:srgbClr val="000066"/>
                  </a:solidFill>
                  <a:latin typeface="Trebuchet MS"/>
                </a:rPr>
                <a:t>gaz</a:t>
              </a: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 = Sol</a:t>
              </a:r>
              <a:r>
                <a:rPr b="0" lang="fr-FR" sz="2000" spc="-1" strike="noStrike" baseline="-25000">
                  <a:solidFill>
                    <a:srgbClr val="000066"/>
                  </a:solidFill>
                  <a:latin typeface="Trebuchet MS"/>
                </a:rPr>
                <a:t>gaz</a:t>
              </a: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 x P</a:t>
              </a:r>
              <a:r>
                <a:rPr b="0" lang="fr-FR" sz="2000" spc="-1" strike="noStrike" baseline="-25000">
                  <a:solidFill>
                    <a:srgbClr val="000066"/>
                  </a:solidFill>
                  <a:latin typeface="Trebuchet MS"/>
                </a:rPr>
                <a:t>ga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85960" y="4533840"/>
              <a:ext cx="3035160" cy="673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69520" y="3797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Trebuchet MS"/>
              </a:rPr>
              <a:t>Loi de Hen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"/>
          <p:cNvSpPr/>
          <p:nvPr/>
        </p:nvSpPr>
        <p:spPr>
          <a:xfrm>
            <a:off x="2297160" y="2031840"/>
            <a:ext cx="6572160" cy="2884680"/>
          </a:xfrm>
          <a:custGeom>
            <a:avLst/>
            <a:gdLst/>
            <a:ahLst/>
            <a:rect l="l" t="t" r="r" b="b"/>
            <a:pathLst>
              <a:path w="1772" h="1065">
                <a:moveTo>
                  <a:pt x="1" y="584"/>
                </a:moveTo>
                <a:cubicBezTo>
                  <a:pt x="0" y="427"/>
                  <a:pt x="274" y="112"/>
                  <a:pt x="417" y="56"/>
                </a:cubicBezTo>
                <a:cubicBezTo>
                  <a:pt x="560" y="0"/>
                  <a:pt x="710" y="247"/>
                  <a:pt x="857" y="248"/>
                </a:cubicBezTo>
                <a:cubicBezTo>
                  <a:pt x="1004" y="249"/>
                  <a:pt x="1145" y="8"/>
                  <a:pt x="1297" y="64"/>
                </a:cubicBezTo>
                <a:cubicBezTo>
                  <a:pt x="1449" y="120"/>
                  <a:pt x="1772" y="424"/>
                  <a:pt x="1769" y="584"/>
                </a:cubicBezTo>
                <a:cubicBezTo>
                  <a:pt x="1766" y="744"/>
                  <a:pt x="1432" y="983"/>
                  <a:pt x="1281" y="1024"/>
                </a:cubicBezTo>
                <a:cubicBezTo>
                  <a:pt x="1130" y="1065"/>
                  <a:pt x="1008" y="836"/>
                  <a:pt x="865" y="832"/>
                </a:cubicBezTo>
                <a:cubicBezTo>
                  <a:pt x="722" y="828"/>
                  <a:pt x="568" y="1041"/>
                  <a:pt x="425" y="1000"/>
                </a:cubicBezTo>
                <a:cubicBezTo>
                  <a:pt x="282" y="959"/>
                  <a:pt x="2" y="741"/>
                  <a:pt x="1" y="584"/>
                </a:cubicBezTo>
                <a:close/>
              </a:path>
            </a:pathLst>
          </a:custGeom>
          <a:gradFill rotWithShape="0">
            <a:gsLst>
              <a:gs pos="0">
                <a:srgbClr val="febdbd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2988360" y="2763720"/>
            <a:ext cx="384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 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 + H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O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 H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H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435600" y="279252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582360" y="3513240"/>
            <a:ext cx="436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Hb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 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 + Hb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-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 Hb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-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 + H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+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  HHb + 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6299640" y="40752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carbamino-H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 rot="5400000">
            <a:off x="7166520" y="381780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6284520" y="3186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398120" y="1547640"/>
            <a:ext cx="59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H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1347840" y="1930320"/>
            <a:ext cx="493560" cy="2827440"/>
          </a:xfrm>
          <a:custGeom>
            <a:avLst/>
            <a:gdLst/>
            <a:ahLst/>
            <a:rect l="l" t="t" r="r" b="b"/>
            <a:pathLst>
              <a:path w="311" h="1040">
                <a:moveTo>
                  <a:pt x="311" y="0"/>
                </a:moveTo>
                <a:cubicBezTo>
                  <a:pt x="170" y="169"/>
                  <a:pt x="30" y="339"/>
                  <a:pt x="15" y="512"/>
                </a:cubicBezTo>
                <a:cubicBezTo>
                  <a:pt x="0" y="685"/>
                  <a:pt x="111" y="862"/>
                  <a:pt x="223" y="104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1743840" y="279252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511560" y="38592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807200" y="38592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2298600" y="3886200"/>
            <a:ext cx="2324160" cy="152280"/>
          </a:xfrm>
          <a:custGeom>
            <a:avLst/>
            <a:gdLst/>
            <a:ahLst/>
            <a:rect l="l" t="t" r="r" b="b"/>
            <a:pathLst>
              <a:path w="1464" h="96">
                <a:moveTo>
                  <a:pt x="0" y="96"/>
                </a:moveTo>
                <a:lnTo>
                  <a:pt x="1464" y="96"/>
                </a:lnTo>
                <a:lnTo>
                  <a:pt x="1464" y="0"/>
                </a:lnTo>
              </a:path>
            </a:pathLst>
          </a:custGeom>
          <a:noFill/>
          <a:ln w="93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952560" y="4040280"/>
            <a:ext cx="8762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2298600" y="2971800"/>
            <a:ext cx="5716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 flipH="1">
            <a:off x="1130400" y="2973240"/>
            <a:ext cx="5140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 flipV="1">
            <a:off x="4660920" y="1968120"/>
            <a:ext cx="0" cy="787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986080" y="1573200"/>
            <a:ext cx="80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H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 flipV="1">
            <a:off x="6388200" y="1917360"/>
            <a:ext cx="0" cy="78732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7225200" y="156060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Cl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V="1">
            <a:off x="7429680" y="1866600"/>
            <a:ext cx="0" cy="78732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7187400" y="26193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Cl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002600" y="5535720"/>
            <a:ext cx="7326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libération de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et captation d’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dans les capillaires pulmo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(mécanismes inverses dans capillaires systémiq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2666520" y="30751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diss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581280" y="3263760"/>
            <a:ext cx="4051440" cy="254160"/>
          </a:xfrm>
          <a:custGeom>
            <a:avLst/>
            <a:gdLst/>
            <a:ahLst/>
            <a:rect l="l" t="t" r="r" b="b"/>
            <a:pathLst>
              <a:path w="2552" h="208">
                <a:moveTo>
                  <a:pt x="2552" y="208"/>
                </a:moveTo>
                <a:lnTo>
                  <a:pt x="255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9240" y="127080"/>
            <a:ext cx="199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496320" y="114480"/>
            <a:ext cx="45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transport des gaz dans le s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7200" y="695160"/>
            <a:ext cx="4734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oxygène et dioxyde de carb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"/>
          <p:cNvGrpSpPr/>
          <p:nvPr/>
        </p:nvGrpSpPr>
        <p:grpSpPr>
          <a:xfrm>
            <a:off x="2778120" y="2761920"/>
            <a:ext cx="2851920" cy="3931200"/>
            <a:chOff x="2778120" y="2761920"/>
            <a:chExt cx="2851920" cy="3931200"/>
          </a:xfrm>
        </p:grpSpPr>
        <p:grpSp>
          <p:nvGrpSpPr>
            <p:cNvPr id="2489" name=""/>
            <p:cNvGrpSpPr/>
            <p:nvPr/>
          </p:nvGrpSpPr>
          <p:grpSpPr>
            <a:xfrm>
              <a:off x="2778120" y="3585960"/>
              <a:ext cx="2851920" cy="3107160"/>
              <a:chOff x="2778120" y="3585960"/>
              <a:chExt cx="2851920" cy="3107160"/>
            </a:xfrm>
          </p:grpSpPr>
          <p:sp>
            <p:nvSpPr>
              <p:cNvPr id="2490" name=""/>
              <p:cNvSpPr/>
              <p:nvPr/>
            </p:nvSpPr>
            <p:spPr>
              <a:xfrm>
                <a:off x="2779200" y="3585960"/>
                <a:ext cx="2836800" cy="31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>
                <a:off x="2791800" y="3585960"/>
                <a:ext cx="2838240" cy="31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2778120" y="5158800"/>
                <a:ext cx="2838240" cy="0"/>
              </a:xfrm>
              <a:prstGeom prst="line">
                <a:avLst/>
              </a:prstGeom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3" name=""/>
            <p:cNvSpPr/>
            <p:nvPr/>
          </p:nvSpPr>
          <p:spPr>
            <a:xfrm>
              <a:off x="3772080" y="3973320"/>
              <a:ext cx="831960" cy="820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V="1">
              <a:off x="4205520" y="3404880"/>
              <a:ext cx="0" cy="12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214800" y="3593880"/>
              <a:ext cx="1960560" cy="1447920"/>
            </a:xfrm>
            <a:custGeom>
              <a:avLst/>
              <a:gdLst/>
              <a:ahLst/>
              <a:rect l="l" t="t" r="r" b="b"/>
              <a:pathLst>
                <a:path w="1235" h="912">
                  <a:moveTo>
                    <a:pt x="557" y="0"/>
                  </a:moveTo>
                  <a:lnTo>
                    <a:pt x="0" y="912"/>
                  </a:lnTo>
                  <a:lnTo>
                    <a:pt x="1235" y="912"/>
                  </a:lnTo>
                  <a:lnTo>
                    <a:pt x="695" y="12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089600" y="2798640"/>
              <a:ext cx="209520" cy="12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4089600" y="2765160"/>
              <a:ext cx="0" cy="1238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V="1">
              <a:off x="4305600" y="2761920"/>
              <a:ext cx="0" cy="1238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9" name=""/>
          <p:cNvSpPr/>
          <p:nvPr/>
        </p:nvSpPr>
        <p:spPr>
          <a:xfrm>
            <a:off x="2213280" y="2232000"/>
            <a:ext cx="168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olume co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2138400" y="2989440"/>
            <a:ext cx="141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espace m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natom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1470600" y="4059360"/>
            <a:ext cx="149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az 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706760" y="5440320"/>
            <a:ext cx="155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ang capil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ulmon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301920" y="4849920"/>
            <a:ext cx="1663920" cy="560160"/>
          </a:xfrm>
          <a:custGeom>
            <a:avLst/>
            <a:gdLst/>
            <a:ahLst/>
            <a:rect l="l" t="t" r="r" b="b"/>
            <a:pathLst>
              <a:path w="1048" h="353">
                <a:moveTo>
                  <a:pt x="0" y="345"/>
                </a:moveTo>
                <a:cubicBezTo>
                  <a:pt x="12" y="296"/>
                  <a:pt x="29" y="112"/>
                  <a:pt x="72" y="57"/>
                </a:cubicBezTo>
                <a:cubicBezTo>
                  <a:pt x="115" y="2"/>
                  <a:pt x="132" y="25"/>
                  <a:pt x="256" y="17"/>
                </a:cubicBezTo>
                <a:cubicBezTo>
                  <a:pt x="380" y="9"/>
                  <a:pt x="692" y="2"/>
                  <a:pt x="816" y="9"/>
                </a:cubicBezTo>
                <a:cubicBezTo>
                  <a:pt x="940" y="16"/>
                  <a:pt x="961" y="0"/>
                  <a:pt x="1000" y="57"/>
                </a:cubicBezTo>
                <a:cubicBezTo>
                  <a:pt x="1039" y="114"/>
                  <a:pt x="1038" y="291"/>
                  <a:pt x="1048" y="353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908440" y="4254480"/>
            <a:ext cx="1288800" cy="11448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3552840" y="3327480"/>
            <a:ext cx="644400" cy="126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V="1">
            <a:off x="4197240" y="2158920"/>
            <a:ext cx="0" cy="95256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3798720" y="2413080"/>
            <a:ext cx="322560" cy="612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2229120" y="16365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olumes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5180760" y="16495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ébit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mL.min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076560" y="126828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réquence : 15 /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692240" y="2232000"/>
            <a:ext cx="178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entilation to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7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4344840" y="2421000"/>
            <a:ext cx="322560" cy="612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5627160" y="3411360"/>
            <a:ext cx="123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entil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5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 flipH="1">
            <a:off x="4196880" y="3606840"/>
            <a:ext cx="1352520" cy="36828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 flipV="1">
            <a:off x="3149640" y="5498640"/>
            <a:ext cx="146160" cy="30492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978440" y="5549760"/>
            <a:ext cx="463680" cy="2160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5602680" y="5389560"/>
            <a:ext cx="14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débit sangu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ulmon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-44640" y="127080"/>
            <a:ext cx="436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596480" y="114480"/>
            <a:ext cx="45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1" name=""/>
          <p:cNvGrpSpPr/>
          <p:nvPr/>
        </p:nvGrpSpPr>
        <p:grpSpPr>
          <a:xfrm>
            <a:off x="2778120" y="2761920"/>
            <a:ext cx="2851920" cy="3931200"/>
            <a:chOff x="2778120" y="2761920"/>
            <a:chExt cx="2851920" cy="3931200"/>
          </a:xfrm>
        </p:grpSpPr>
        <p:grpSp>
          <p:nvGrpSpPr>
            <p:cNvPr id="2522" name=""/>
            <p:cNvGrpSpPr/>
            <p:nvPr/>
          </p:nvGrpSpPr>
          <p:grpSpPr>
            <a:xfrm>
              <a:off x="2778120" y="3585960"/>
              <a:ext cx="2851920" cy="3107160"/>
              <a:chOff x="2778120" y="3585960"/>
              <a:chExt cx="2851920" cy="3107160"/>
            </a:xfrm>
          </p:grpSpPr>
          <p:sp>
            <p:nvSpPr>
              <p:cNvPr id="2523" name=""/>
              <p:cNvSpPr/>
              <p:nvPr/>
            </p:nvSpPr>
            <p:spPr>
              <a:xfrm>
                <a:off x="2779200" y="3585960"/>
                <a:ext cx="2836800" cy="31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H="1">
                <a:off x="2791800" y="3585960"/>
                <a:ext cx="2838240" cy="31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778120" y="5158800"/>
                <a:ext cx="2838240" cy="0"/>
              </a:xfrm>
              <a:prstGeom prst="line">
                <a:avLst/>
              </a:prstGeom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6" name=""/>
            <p:cNvSpPr/>
            <p:nvPr/>
          </p:nvSpPr>
          <p:spPr>
            <a:xfrm>
              <a:off x="3772080" y="3973320"/>
              <a:ext cx="831960" cy="820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V="1">
              <a:off x="4205520" y="3404880"/>
              <a:ext cx="0" cy="12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3214800" y="3593880"/>
              <a:ext cx="1960560" cy="1447920"/>
            </a:xfrm>
            <a:custGeom>
              <a:avLst/>
              <a:gdLst/>
              <a:ahLst/>
              <a:rect l="l" t="t" r="r" b="b"/>
              <a:pathLst>
                <a:path w="1235" h="912">
                  <a:moveTo>
                    <a:pt x="557" y="0"/>
                  </a:moveTo>
                  <a:lnTo>
                    <a:pt x="0" y="912"/>
                  </a:lnTo>
                  <a:lnTo>
                    <a:pt x="1235" y="912"/>
                  </a:lnTo>
                  <a:lnTo>
                    <a:pt x="695" y="12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4089600" y="2798640"/>
              <a:ext cx="209520" cy="12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V="1">
              <a:off x="4089600" y="2765160"/>
              <a:ext cx="0" cy="1238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V="1">
              <a:off x="4305600" y="2761920"/>
              <a:ext cx="0" cy="1238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2" name=""/>
          <p:cNvSpPr/>
          <p:nvPr/>
        </p:nvSpPr>
        <p:spPr>
          <a:xfrm>
            <a:off x="3301920" y="4849920"/>
            <a:ext cx="1663920" cy="560160"/>
          </a:xfrm>
          <a:custGeom>
            <a:avLst/>
            <a:gdLst/>
            <a:ahLst/>
            <a:rect l="l" t="t" r="r" b="b"/>
            <a:pathLst>
              <a:path w="1048" h="353">
                <a:moveTo>
                  <a:pt x="0" y="345"/>
                </a:moveTo>
                <a:cubicBezTo>
                  <a:pt x="12" y="296"/>
                  <a:pt x="29" y="112"/>
                  <a:pt x="72" y="57"/>
                </a:cubicBezTo>
                <a:cubicBezTo>
                  <a:pt x="115" y="2"/>
                  <a:pt x="132" y="25"/>
                  <a:pt x="256" y="17"/>
                </a:cubicBezTo>
                <a:cubicBezTo>
                  <a:pt x="380" y="9"/>
                  <a:pt x="692" y="2"/>
                  <a:pt x="816" y="9"/>
                </a:cubicBezTo>
                <a:cubicBezTo>
                  <a:pt x="940" y="16"/>
                  <a:pt x="961" y="0"/>
                  <a:pt x="1000" y="57"/>
                </a:cubicBezTo>
                <a:cubicBezTo>
                  <a:pt x="1039" y="114"/>
                  <a:pt x="1038" y="291"/>
                  <a:pt x="1048" y="353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V="1">
            <a:off x="4197240" y="2158920"/>
            <a:ext cx="0" cy="95256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2229120" y="16365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olumes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5180760" y="16495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ébit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mL.min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3076560" y="126828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réquence : 15 /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627160" y="3411360"/>
            <a:ext cx="123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entil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5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5602680" y="5389560"/>
            <a:ext cx="14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débit sangu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ulmon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978440" y="5549760"/>
            <a:ext cx="463680" cy="2160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 flipH="1">
            <a:off x="4196880" y="3606840"/>
            <a:ext cx="1352520" cy="36828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5664240" y="3200400"/>
            <a:ext cx="1359000" cy="317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5321160" y="2262240"/>
            <a:ext cx="3435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6037560" y="4503600"/>
            <a:ext cx="5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4" name=""/>
          <p:cNvGrpSpPr/>
          <p:nvPr/>
        </p:nvGrpSpPr>
        <p:grpSpPr>
          <a:xfrm>
            <a:off x="7269120" y="4398840"/>
            <a:ext cx="842040" cy="528120"/>
            <a:chOff x="7269120" y="4398840"/>
            <a:chExt cx="842040" cy="528120"/>
          </a:xfrm>
        </p:grpSpPr>
        <p:grpSp>
          <p:nvGrpSpPr>
            <p:cNvPr id="2545" name=""/>
            <p:cNvGrpSpPr/>
            <p:nvPr/>
          </p:nvGrpSpPr>
          <p:grpSpPr>
            <a:xfrm>
              <a:off x="7269120" y="4398840"/>
              <a:ext cx="427320" cy="528120"/>
              <a:chOff x="7269120" y="4398840"/>
              <a:chExt cx="427320" cy="528120"/>
            </a:xfrm>
          </p:grpSpPr>
          <p:sp>
            <p:nvSpPr>
              <p:cNvPr id="2546" name=""/>
              <p:cNvSpPr/>
              <p:nvPr/>
            </p:nvSpPr>
            <p:spPr>
              <a:xfrm>
                <a:off x="7269120" y="4486320"/>
                <a:ext cx="427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2000" spc="-1" strike="noStrike" baseline="-25000">
                    <a:solidFill>
                      <a:srgbClr val="000066"/>
                    </a:solidFill>
                    <a:latin typeface="Trebuchet MS"/>
                    <a:ea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7338600" y="4398840"/>
                <a:ext cx="22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7732440" y="4411800"/>
              <a:ext cx="378720" cy="483120"/>
              <a:chOff x="7732440" y="4411800"/>
              <a:chExt cx="378720" cy="483120"/>
            </a:xfrm>
          </p:grpSpPr>
          <p:sp>
            <p:nvSpPr>
              <p:cNvPr id="2549" name=""/>
              <p:cNvSpPr/>
              <p:nvPr/>
            </p:nvSpPr>
            <p:spPr>
              <a:xfrm>
                <a:off x="7732440" y="44960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7808400" y="4411800"/>
                <a:ext cx="22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1" name=""/>
            <p:cNvSpPr/>
            <p:nvPr/>
          </p:nvSpPr>
          <p:spPr>
            <a:xfrm>
              <a:off x="7574400" y="4483080"/>
              <a:ext cx="27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2" name=""/>
          <p:cNvSpPr/>
          <p:nvPr/>
        </p:nvSpPr>
        <p:spPr>
          <a:xfrm>
            <a:off x="-44640" y="127080"/>
            <a:ext cx="436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4596480" y="114480"/>
            <a:ext cx="45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"/>
          <p:cNvSpPr/>
          <p:nvPr/>
        </p:nvSpPr>
        <p:spPr>
          <a:xfrm>
            <a:off x="-44640" y="127080"/>
            <a:ext cx="436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4596480" y="114480"/>
            <a:ext cx="45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936720" y="1422360"/>
            <a:ext cx="703080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entilation trop faibl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iminution de la P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(hypox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iminution de la concentration sanguine en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ugmentation de la P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; diminution du 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hypercapnie ; acido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entilation trop fort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ugmentation de la P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(hyperox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eu d’effet sur la concentration sanguine en 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iminution de la PCO2 ; augmentation du 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hypocapnie ; alcalo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6321600" y="1144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1" name=""/>
          <p:cNvGraphicFramePr/>
          <p:nvPr/>
        </p:nvGraphicFramePr>
        <p:xfrm>
          <a:off x="349200" y="1325520"/>
          <a:ext cx="8447040" cy="4068720"/>
        </p:xfrm>
        <a:graphic>
          <a:graphicData uri="http://schemas.openxmlformats.org/drawingml/2006/table">
            <a:tbl>
              <a:tblPr/>
              <a:tblGrid>
                <a:gridCol w="2266920"/>
                <a:gridCol w="3166920"/>
                <a:gridCol w="3013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variables régulé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capte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effecte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O</a:t>
                      </a:r>
                      <a:r>
                        <a:rPr b="0" lang="en-GB" sz="20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hémorécepteurs périphér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(aorte, caroti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venti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débit sangu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résistances vasculai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CO</a:t>
                      </a:r>
                      <a:r>
                        <a:rPr b="0" lang="en-GB" sz="20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hémorécepteurs périphér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(aorte, caroti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venti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débit sangu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résistances vasculai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CO</a:t>
                      </a:r>
                      <a:r>
                        <a:rPr b="0" lang="en-GB" sz="20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hémorécepteurs centr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(tronc céréb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venti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2" name=""/>
          <p:cNvSpPr/>
          <p:nvPr/>
        </p:nvSpPr>
        <p:spPr>
          <a:xfrm>
            <a:off x="-44640" y="127080"/>
            <a:ext cx="436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"/>
          <p:cNvSpPr/>
          <p:nvPr/>
        </p:nvSpPr>
        <p:spPr>
          <a:xfrm>
            <a:off x="-44640" y="127080"/>
            <a:ext cx="436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6586920" y="11448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438120" y="3073320"/>
            <a:ext cx="2394000" cy="2889000"/>
            <a:chOff x="438120" y="3073320"/>
            <a:chExt cx="2394000" cy="2889000"/>
          </a:xfrm>
        </p:grpSpPr>
        <p:grpSp>
          <p:nvGrpSpPr>
            <p:cNvPr id="2567" name=""/>
            <p:cNvGrpSpPr/>
            <p:nvPr/>
          </p:nvGrpSpPr>
          <p:grpSpPr>
            <a:xfrm>
              <a:off x="1263600" y="3073320"/>
              <a:ext cx="749520" cy="1218960"/>
              <a:chOff x="1263600" y="3073320"/>
              <a:chExt cx="749520" cy="1218960"/>
            </a:xfrm>
          </p:grpSpPr>
          <p:sp>
            <p:nvSpPr>
              <p:cNvPr id="2568" name=""/>
              <p:cNvSpPr/>
              <p:nvPr/>
            </p:nvSpPr>
            <p:spPr>
              <a:xfrm>
                <a:off x="1674720" y="3073320"/>
                <a:ext cx="338400" cy="1201680"/>
              </a:xfrm>
              <a:custGeom>
                <a:avLst/>
                <a:gdLst/>
                <a:ahLst/>
                <a:rect l="l" t="t" r="r" b="b"/>
                <a:pathLst>
                  <a:path w="213" h="757">
                    <a:moveTo>
                      <a:pt x="213" y="757"/>
                    </a:moveTo>
                    <a:cubicBezTo>
                      <a:pt x="193" y="754"/>
                      <a:pt x="173" y="751"/>
                      <a:pt x="141" y="720"/>
                    </a:cubicBezTo>
                    <a:cubicBezTo>
                      <a:pt x="109" y="689"/>
                      <a:pt x="42" y="693"/>
                      <a:pt x="21" y="573"/>
                    </a:cubicBezTo>
                    <a:cubicBezTo>
                      <a:pt x="0" y="453"/>
                      <a:pt x="18" y="119"/>
                      <a:pt x="1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263600" y="3073320"/>
                <a:ext cx="333360" cy="1218960"/>
              </a:xfrm>
              <a:custGeom>
                <a:avLst/>
                <a:gdLst/>
                <a:ahLst/>
                <a:rect l="l" t="t" r="r" b="b"/>
                <a:pathLst>
                  <a:path w="210" h="768">
                    <a:moveTo>
                      <a:pt x="0" y="768"/>
                    </a:moveTo>
                    <a:cubicBezTo>
                      <a:pt x="20" y="765"/>
                      <a:pt x="40" y="762"/>
                      <a:pt x="72" y="731"/>
                    </a:cubicBezTo>
                    <a:cubicBezTo>
                      <a:pt x="104" y="700"/>
                      <a:pt x="174" y="705"/>
                      <a:pt x="192" y="583"/>
                    </a:cubicBezTo>
                    <a:cubicBezTo>
                      <a:pt x="210" y="461"/>
                      <a:pt x="182" y="121"/>
                      <a:pt x="18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0" name=""/>
            <p:cNvSpPr/>
            <p:nvPr/>
          </p:nvSpPr>
          <p:spPr>
            <a:xfrm>
              <a:off x="1270080" y="4144680"/>
              <a:ext cx="743040" cy="306360"/>
            </a:xfrm>
            <a:custGeom>
              <a:avLst/>
              <a:gdLst/>
              <a:ahLst/>
              <a:rect l="l" t="t" r="r" b="b"/>
              <a:pathLst>
                <a:path w="468" h="188">
                  <a:moveTo>
                    <a:pt x="468" y="188"/>
                  </a:moveTo>
                  <a:cubicBezTo>
                    <a:pt x="415" y="149"/>
                    <a:pt x="362" y="111"/>
                    <a:pt x="324" y="80"/>
                  </a:cubicBezTo>
                  <a:cubicBezTo>
                    <a:pt x="286" y="49"/>
                    <a:pt x="268" y="4"/>
                    <a:pt x="240" y="2"/>
                  </a:cubicBezTo>
                  <a:cubicBezTo>
                    <a:pt x="212" y="0"/>
                    <a:pt x="196" y="37"/>
                    <a:pt x="156" y="68"/>
                  </a:cubicBezTo>
                  <a:cubicBezTo>
                    <a:pt x="116" y="99"/>
                    <a:pt x="58" y="143"/>
                    <a:pt x="0" y="1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1" name=""/>
            <p:cNvGrpSpPr/>
            <p:nvPr/>
          </p:nvGrpSpPr>
          <p:grpSpPr>
            <a:xfrm>
              <a:off x="571320" y="3558960"/>
              <a:ext cx="911160" cy="2048040"/>
              <a:chOff x="571320" y="3558960"/>
              <a:chExt cx="911160" cy="2048040"/>
            </a:xfrm>
          </p:grpSpPr>
          <p:sp>
            <p:nvSpPr>
              <p:cNvPr id="2572" name=""/>
              <p:cNvSpPr/>
              <p:nvPr/>
            </p:nvSpPr>
            <p:spPr>
              <a:xfrm flipH="1">
                <a:off x="633240" y="3695400"/>
                <a:ext cx="787680" cy="1773000"/>
              </a:xfrm>
              <a:custGeom>
                <a:avLst/>
                <a:gdLst/>
                <a:ahLst/>
                <a:rect l="l" t="t" r="r" b="b"/>
                <a:pathLst>
                  <a:path w="524" h="1136">
                    <a:moveTo>
                      <a:pt x="35" y="445"/>
                    </a:moveTo>
                    <a:cubicBezTo>
                      <a:pt x="36" y="543"/>
                      <a:pt x="0" y="946"/>
                      <a:pt x="41" y="1041"/>
                    </a:cubicBezTo>
                    <a:cubicBezTo>
                      <a:pt x="82" y="1136"/>
                      <a:pt x="206" y="1022"/>
                      <a:pt x="281" y="1017"/>
                    </a:cubicBezTo>
                    <a:cubicBezTo>
                      <a:pt x="356" y="1012"/>
                      <a:pt x="454" y="1132"/>
                      <a:pt x="489" y="1009"/>
                    </a:cubicBezTo>
                    <a:cubicBezTo>
                      <a:pt x="524" y="886"/>
                      <a:pt x="517" y="446"/>
                      <a:pt x="489" y="281"/>
                    </a:cubicBezTo>
                    <a:cubicBezTo>
                      <a:pt x="461" y="116"/>
                      <a:pt x="389" y="34"/>
                      <a:pt x="321" y="17"/>
                    </a:cubicBezTo>
                    <a:cubicBezTo>
                      <a:pt x="253" y="0"/>
                      <a:pt x="129" y="121"/>
                      <a:pt x="81" y="177"/>
                    </a:cubicBezTo>
                    <a:cubicBezTo>
                      <a:pt x="33" y="233"/>
                      <a:pt x="43" y="316"/>
                      <a:pt x="33" y="353"/>
                    </a:cubicBezTo>
                  </a:path>
                </a:pathLst>
              </a:custGeom>
              <a:gradFill rotWithShape="0">
                <a:gsLst>
                  <a:gs pos="0">
                    <a:srgbClr val="fe9f9f"/>
                  </a:gs>
                  <a:gs pos="100000">
                    <a:srgbClr val="ff5050"/>
                  </a:gs>
                </a:gsLst>
                <a:lin ang="540000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0960" y="3558960"/>
                <a:ext cx="911160" cy="2048040"/>
              </a:xfrm>
              <a:custGeom>
                <a:avLst/>
                <a:gdLst/>
                <a:ahLst/>
                <a:rect l="l" t="t" r="r" b="b"/>
                <a:pathLst>
                  <a:path w="606" h="1313">
                    <a:moveTo>
                      <a:pt x="34" y="503"/>
                    </a:moveTo>
                    <a:cubicBezTo>
                      <a:pt x="36" y="618"/>
                      <a:pt x="0" y="1089"/>
                      <a:pt x="48" y="1201"/>
                    </a:cubicBezTo>
                    <a:cubicBezTo>
                      <a:pt x="96" y="1313"/>
                      <a:pt x="239" y="1179"/>
                      <a:pt x="325" y="1173"/>
                    </a:cubicBezTo>
                    <a:cubicBezTo>
                      <a:pt x="412" y="1168"/>
                      <a:pt x="525" y="1306"/>
                      <a:pt x="566" y="1164"/>
                    </a:cubicBezTo>
                    <a:cubicBezTo>
                      <a:pt x="606" y="1022"/>
                      <a:pt x="598" y="515"/>
                      <a:pt x="566" y="324"/>
                    </a:cubicBezTo>
                    <a:cubicBezTo>
                      <a:pt x="533" y="134"/>
                      <a:pt x="450" y="39"/>
                      <a:pt x="372" y="20"/>
                    </a:cubicBezTo>
                    <a:cubicBezTo>
                      <a:pt x="293" y="0"/>
                      <a:pt x="150" y="140"/>
                      <a:pt x="95" y="204"/>
                    </a:cubicBezTo>
                    <a:cubicBezTo>
                      <a:pt x="39" y="269"/>
                      <a:pt x="51" y="365"/>
                      <a:pt x="39" y="407"/>
                    </a:cubicBez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4" name=""/>
            <p:cNvGrpSpPr/>
            <p:nvPr/>
          </p:nvGrpSpPr>
          <p:grpSpPr>
            <a:xfrm>
              <a:off x="1752480" y="3482640"/>
              <a:ext cx="962280" cy="2136600"/>
              <a:chOff x="1752480" y="3482640"/>
              <a:chExt cx="962280" cy="2136600"/>
            </a:xfrm>
          </p:grpSpPr>
          <p:sp>
            <p:nvSpPr>
              <p:cNvPr id="2575" name=""/>
              <p:cNvSpPr/>
              <p:nvPr/>
            </p:nvSpPr>
            <p:spPr>
              <a:xfrm>
                <a:off x="1817640" y="3625200"/>
                <a:ext cx="831960" cy="1849680"/>
              </a:xfrm>
              <a:custGeom>
                <a:avLst/>
                <a:gdLst/>
                <a:ahLst/>
                <a:rect l="l" t="t" r="r" b="b"/>
                <a:pathLst>
                  <a:path w="524" h="1136">
                    <a:moveTo>
                      <a:pt x="35" y="445"/>
                    </a:moveTo>
                    <a:cubicBezTo>
                      <a:pt x="36" y="543"/>
                      <a:pt x="0" y="946"/>
                      <a:pt x="41" y="1041"/>
                    </a:cubicBezTo>
                    <a:cubicBezTo>
                      <a:pt x="82" y="1136"/>
                      <a:pt x="206" y="1022"/>
                      <a:pt x="281" y="1017"/>
                    </a:cubicBezTo>
                    <a:cubicBezTo>
                      <a:pt x="356" y="1012"/>
                      <a:pt x="454" y="1132"/>
                      <a:pt x="489" y="1009"/>
                    </a:cubicBezTo>
                    <a:cubicBezTo>
                      <a:pt x="524" y="886"/>
                      <a:pt x="517" y="446"/>
                      <a:pt x="489" y="281"/>
                    </a:cubicBezTo>
                    <a:cubicBezTo>
                      <a:pt x="461" y="116"/>
                      <a:pt x="389" y="34"/>
                      <a:pt x="321" y="17"/>
                    </a:cubicBezTo>
                    <a:cubicBezTo>
                      <a:pt x="253" y="0"/>
                      <a:pt x="129" y="121"/>
                      <a:pt x="81" y="177"/>
                    </a:cubicBezTo>
                    <a:cubicBezTo>
                      <a:pt x="33" y="233"/>
                      <a:pt x="43" y="316"/>
                      <a:pt x="33" y="353"/>
                    </a:cubicBezTo>
                  </a:path>
                </a:pathLst>
              </a:custGeom>
              <a:gradFill rotWithShape="0">
                <a:gsLst>
                  <a:gs pos="0">
                    <a:srgbClr val="fe9f9f"/>
                  </a:gs>
                  <a:gs pos="100000">
                    <a:srgbClr val="ff5050"/>
                  </a:gs>
                </a:gsLst>
                <a:lin ang="540000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1752480" y="3482640"/>
                <a:ext cx="962280" cy="2136600"/>
              </a:xfrm>
              <a:custGeom>
                <a:avLst/>
                <a:gdLst/>
                <a:ahLst/>
                <a:rect l="l" t="t" r="r" b="b"/>
                <a:pathLst>
                  <a:path w="606" h="1313">
                    <a:moveTo>
                      <a:pt x="34" y="503"/>
                    </a:moveTo>
                    <a:cubicBezTo>
                      <a:pt x="36" y="618"/>
                      <a:pt x="0" y="1089"/>
                      <a:pt x="48" y="1201"/>
                    </a:cubicBezTo>
                    <a:cubicBezTo>
                      <a:pt x="96" y="1313"/>
                      <a:pt x="239" y="1179"/>
                      <a:pt x="325" y="1173"/>
                    </a:cubicBezTo>
                    <a:cubicBezTo>
                      <a:pt x="412" y="1168"/>
                      <a:pt x="525" y="1306"/>
                      <a:pt x="566" y="1164"/>
                    </a:cubicBezTo>
                    <a:cubicBezTo>
                      <a:pt x="606" y="1022"/>
                      <a:pt x="598" y="515"/>
                      <a:pt x="566" y="324"/>
                    </a:cubicBezTo>
                    <a:cubicBezTo>
                      <a:pt x="533" y="134"/>
                      <a:pt x="450" y="39"/>
                      <a:pt x="372" y="20"/>
                    </a:cubicBezTo>
                    <a:cubicBezTo>
                      <a:pt x="293" y="0"/>
                      <a:pt x="150" y="140"/>
                      <a:pt x="95" y="204"/>
                    </a:cubicBezTo>
                    <a:cubicBezTo>
                      <a:pt x="39" y="269"/>
                      <a:pt x="51" y="365"/>
                      <a:pt x="39" y="407"/>
                    </a:cubicBez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7" name=""/>
            <p:cNvSpPr/>
            <p:nvPr/>
          </p:nvSpPr>
          <p:spPr>
            <a:xfrm>
              <a:off x="438120" y="3187440"/>
              <a:ext cx="1225440" cy="2774880"/>
            </a:xfrm>
            <a:custGeom>
              <a:avLst/>
              <a:gdLst/>
              <a:ahLst/>
              <a:rect l="l" t="t" r="r" b="b"/>
              <a:pathLst>
                <a:path w="772" h="1748">
                  <a:moveTo>
                    <a:pt x="700" y="0"/>
                  </a:moveTo>
                  <a:cubicBezTo>
                    <a:pt x="508" y="7"/>
                    <a:pt x="316" y="15"/>
                    <a:pt x="204" y="160"/>
                  </a:cubicBezTo>
                  <a:cubicBezTo>
                    <a:pt x="92" y="305"/>
                    <a:pt x="56" y="625"/>
                    <a:pt x="28" y="872"/>
                  </a:cubicBezTo>
                  <a:cubicBezTo>
                    <a:pt x="0" y="1119"/>
                    <a:pt x="12" y="1532"/>
                    <a:pt x="36" y="1640"/>
                  </a:cubicBezTo>
                  <a:cubicBezTo>
                    <a:pt x="60" y="1748"/>
                    <a:pt x="49" y="1543"/>
                    <a:pt x="172" y="1520"/>
                  </a:cubicBezTo>
                  <a:cubicBezTo>
                    <a:pt x="295" y="1497"/>
                    <a:pt x="533" y="1500"/>
                    <a:pt x="772" y="1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H="1">
              <a:off x="1606680" y="3187440"/>
              <a:ext cx="1225440" cy="2774880"/>
            </a:xfrm>
            <a:custGeom>
              <a:avLst/>
              <a:gdLst/>
              <a:ahLst/>
              <a:rect l="l" t="t" r="r" b="b"/>
              <a:pathLst>
                <a:path w="772" h="1748">
                  <a:moveTo>
                    <a:pt x="700" y="0"/>
                  </a:moveTo>
                  <a:cubicBezTo>
                    <a:pt x="508" y="7"/>
                    <a:pt x="316" y="15"/>
                    <a:pt x="204" y="160"/>
                  </a:cubicBezTo>
                  <a:cubicBezTo>
                    <a:pt x="92" y="305"/>
                    <a:pt x="56" y="625"/>
                    <a:pt x="28" y="872"/>
                  </a:cubicBezTo>
                  <a:cubicBezTo>
                    <a:pt x="0" y="1119"/>
                    <a:pt x="12" y="1532"/>
                    <a:pt x="36" y="1640"/>
                  </a:cubicBezTo>
                  <a:cubicBezTo>
                    <a:pt x="60" y="1748"/>
                    <a:pt x="49" y="1543"/>
                    <a:pt x="172" y="1520"/>
                  </a:cubicBezTo>
                  <a:cubicBezTo>
                    <a:pt x="295" y="1497"/>
                    <a:pt x="533" y="1500"/>
                    <a:pt x="772" y="1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873080" y="4062240"/>
              <a:ext cx="622440" cy="984240"/>
            </a:xfrm>
            <a:custGeom>
              <a:avLst/>
              <a:gdLst/>
              <a:ahLst/>
              <a:rect l="l" t="t" r="r" b="b"/>
              <a:pathLst>
                <a:path w="392" h="620">
                  <a:moveTo>
                    <a:pt x="0" y="89"/>
                  </a:moveTo>
                  <a:cubicBezTo>
                    <a:pt x="25" y="104"/>
                    <a:pt x="107" y="168"/>
                    <a:pt x="144" y="177"/>
                  </a:cubicBezTo>
                  <a:cubicBezTo>
                    <a:pt x="181" y="186"/>
                    <a:pt x="199" y="164"/>
                    <a:pt x="224" y="145"/>
                  </a:cubicBezTo>
                  <a:cubicBezTo>
                    <a:pt x="249" y="126"/>
                    <a:pt x="281" y="88"/>
                    <a:pt x="296" y="65"/>
                  </a:cubicBezTo>
                  <a:cubicBezTo>
                    <a:pt x="311" y="42"/>
                    <a:pt x="303" y="18"/>
                    <a:pt x="316" y="9"/>
                  </a:cubicBezTo>
                  <a:cubicBezTo>
                    <a:pt x="329" y="0"/>
                    <a:pt x="365" y="2"/>
                    <a:pt x="376" y="13"/>
                  </a:cubicBezTo>
                  <a:cubicBezTo>
                    <a:pt x="387" y="24"/>
                    <a:pt x="392" y="61"/>
                    <a:pt x="384" y="73"/>
                  </a:cubicBezTo>
                  <a:cubicBezTo>
                    <a:pt x="376" y="85"/>
                    <a:pt x="352" y="70"/>
                    <a:pt x="328" y="89"/>
                  </a:cubicBezTo>
                  <a:cubicBezTo>
                    <a:pt x="304" y="108"/>
                    <a:pt x="269" y="160"/>
                    <a:pt x="240" y="185"/>
                  </a:cubicBezTo>
                  <a:cubicBezTo>
                    <a:pt x="211" y="210"/>
                    <a:pt x="155" y="204"/>
                    <a:pt x="152" y="237"/>
                  </a:cubicBezTo>
                  <a:cubicBezTo>
                    <a:pt x="149" y="270"/>
                    <a:pt x="205" y="336"/>
                    <a:pt x="224" y="381"/>
                  </a:cubicBezTo>
                  <a:cubicBezTo>
                    <a:pt x="243" y="426"/>
                    <a:pt x="251" y="482"/>
                    <a:pt x="268" y="509"/>
                  </a:cubicBezTo>
                  <a:cubicBezTo>
                    <a:pt x="285" y="536"/>
                    <a:pt x="321" y="527"/>
                    <a:pt x="328" y="541"/>
                  </a:cubicBezTo>
                  <a:cubicBezTo>
                    <a:pt x="335" y="555"/>
                    <a:pt x="321" y="580"/>
                    <a:pt x="308" y="593"/>
                  </a:cubicBezTo>
                  <a:cubicBezTo>
                    <a:pt x="295" y="606"/>
                    <a:pt x="265" y="620"/>
                    <a:pt x="248" y="617"/>
                  </a:cubicBezTo>
                  <a:cubicBezTo>
                    <a:pt x="231" y="614"/>
                    <a:pt x="211" y="590"/>
                    <a:pt x="208" y="573"/>
                  </a:cubicBezTo>
                  <a:cubicBezTo>
                    <a:pt x="205" y="556"/>
                    <a:pt x="235" y="546"/>
                    <a:pt x="232" y="517"/>
                  </a:cubicBezTo>
                  <a:cubicBezTo>
                    <a:pt x="229" y="488"/>
                    <a:pt x="203" y="431"/>
                    <a:pt x="188" y="397"/>
                  </a:cubicBezTo>
                  <a:cubicBezTo>
                    <a:pt x="173" y="363"/>
                    <a:pt x="158" y="344"/>
                    <a:pt x="140" y="313"/>
                  </a:cubicBezTo>
                  <a:cubicBezTo>
                    <a:pt x="122" y="282"/>
                    <a:pt x="103" y="236"/>
                    <a:pt x="80" y="213"/>
                  </a:cubicBezTo>
                  <a:cubicBezTo>
                    <a:pt x="57" y="190"/>
                    <a:pt x="17" y="184"/>
                    <a:pt x="0" y="177"/>
                  </a:cubicBez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>
              <a:off x="748440" y="4093920"/>
              <a:ext cx="622440" cy="984240"/>
            </a:xfrm>
            <a:custGeom>
              <a:avLst/>
              <a:gdLst/>
              <a:ahLst/>
              <a:rect l="l" t="t" r="r" b="b"/>
              <a:pathLst>
                <a:path w="392" h="620">
                  <a:moveTo>
                    <a:pt x="0" y="89"/>
                  </a:moveTo>
                  <a:cubicBezTo>
                    <a:pt x="25" y="104"/>
                    <a:pt x="107" y="168"/>
                    <a:pt x="144" y="177"/>
                  </a:cubicBezTo>
                  <a:cubicBezTo>
                    <a:pt x="181" y="186"/>
                    <a:pt x="199" y="164"/>
                    <a:pt x="224" y="145"/>
                  </a:cubicBezTo>
                  <a:cubicBezTo>
                    <a:pt x="249" y="126"/>
                    <a:pt x="281" y="88"/>
                    <a:pt x="296" y="65"/>
                  </a:cubicBezTo>
                  <a:cubicBezTo>
                    <a:pt x="311" y="42"/>
                    <a:pt x="303" y="18"/>
                    <a:pt x="316" y="9"/>
                  </a:cubicBezTo>
                  <a:cubicBezTo>
                    <a:pt x="329" y="0"/>
                    <a:pt x="365" y="2"/>
                    <a:pt x="376" y="13"/>
                  </a:cubicBezTo>
                  <a:cubicBezTo>
                    <a:pt x="387" y="24"/>
                    <a:pt x="392" y="61"/>
                    <a:pt x="384" y="73"/>
                  </a:cubicBezTo>
                  <a:cubicBezTo>
                    <a:pt x="376" y="85"/>
                    <a:pt x="352" y="70"/>
                    <a:pt x="328" y="89"/>
                  </a:cubicBezTo>
                  <a:cubicBezTo>
                    <a:pt x="304" y="108"/>
                    <a:pt x="269" y="160"/>
                    <a:pt x="240" y="185"/>
                  </a:cubicBezTo>
                  <a:cubicBezTo>
                    <a:pt x="211" y="210"/>
                    <a:pt x="155" y="204"/>
                    <a:pt x="152" y="237"/>
                  </a:cubicBezTo>
                  <a:cubicBezTo>
                    <a:pt x="149" y="270"/>
                    <a:pt x="205" y="336"/>
                    <a:pt x="224" y="381"/>
                  </a:cubicBezTo>
                  <a:cubicBezTo>
                    <a:pt x="243" y="426"/>
                    <a:pt x="251" y="482"/>
                    <a:pt x="268" y="509"/>
                  </a:cubicBezTo>
                  <a:cubicBezTo>
                    <a:pt x="285" y="536"/>
                    <a:pt x="321" y="527"/>
                    <a:pt x="328" y="541"/>
                  </a:cubicBezTo>
                  <a:cubicBezTo>
                    <a:pt x="335" y="555"/>
                    <a:pt x="321" y="580"/>
                    <a:pt x="308" y="593"/>
                  </a:cubicBezTo>
                  <a:cubicBezTo>
                    <a:pt x="295" y="606"/>
                    <a:pt x="265" y="620"/>
                    <a:pt x="248" y="617"/>
                  </a:cubicBezTo>
                  <a:cubicBezTo>
                    <a:pt x="231" y="614"/>
                    <a:pt x="211" y="590"/>
                    <a:pt x="208" y="573"/>
                  </a:cubicBezTo>
                  <a:cubicBezTo>
                    <a:pt x="205" y="556"/>
                    <a:pt x="235" y="546"/>
                    <a:pt x="232" y="517"/>
                  </a:cubicBezTo>
                  <a:cubicBezTo>
                    <a:pt x="229" y="488"/>
                    <a:pt x="203" y="431"/>
                    <a:pt x="188" y="397"/>
                  </a:cubicBezTo>
                  <a:cubicBezTo>
                    <a:pt x="173" y="363"/>
                    <a:pt x="158" y="344"/>
                    <a:pt x="140" y="313"/>
                  </a:cubicBezTo>
                  <a:cubicBezTo>
                    <a:pt x="122" y="282"/>
                    <a:pt x="103" y="236"/>
                    <a:pt x="80" y="213"/>
                  </a:cubicBezTo>
                  <a:cubicBezTo>
                    <a:pt x="57" y="190"/>
                    <a:pt x="17" y="184"/>
                    <a:pt x="0" y="177"/>
                  </a:cubicBez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1" name=""/>
          <p:cNvGrpSpPr/>
          <p:nvPr/>
        </p:nvGrpSpPr>
        <p:grpSpPr>
          <a:xfrm>
            <a:off x="1104480" y="1020600"/>
            <a:ext cx="1260360" cy="1168200"/>
            <a:chOff x="1104480" y="1020600"/>
            <a:chExt cx="1260360" cy="1168200"/>
          </a:xfrm>
        </p:grpSpPr>
        <p:sp>
          <p:nvSpPr>
            <p:cNvPr id="2582" name=""/>
            <p:cNvSpPr/>
            <p:nvPr/>
          </p:nvSpPr>
          <p:spPr>
            <a:xfrm flipH="1">
              <a:off x="1431000" y="1020600"/>
              <a:ext cx="817560" cy="674640"/>
            </a:xfrm>
            <a:custGeom>
              <a:avLst/>
              <a:gdLst/>
              <a:ahLst/>
              <a:rect l="l" t="t" r="r" b="b"/>
              <a:pathLst>
                <a:path w="645" h="532">
                  <a:moveTo>
                    <a:pt x="495" y="41"/>
                  </a:moveTo>
                  <a:cubicBezTo>
                    <a:pt x="491" y="34"/>
                    <a:pt x="488" y="27"/>
                    <a:pt x="467" y="21"/>
                  </a:cubicBezTo>
                  <a:cubicBezTo>
                    <a:pt x="446" y="15"/>
                    <a:pt x="422" y="0"/>
                    <a:pt x="371" y="5"/>
                  </a:cubicBezTo>
                  <a:cubicBezTo>
                    <a:pt x="320" y="10"/>
                    <a:pt x="212" y="29"/>
                    <a:pt x="159" y="53"/>
                  </a:cubicBezTo>
                  <a:cubicBezTo>
                    <a:pt x="106" y="77"/>
                    <a:pt x="81" y="112"/>
                    <a:pt x="55" y="149"/>
                  </a:cubicBezTo>
                  <a:cubicBezTo>
                    <a:pt x="29" y="186"/>
                    <a:pt x="6" y="226"/>
                    <a:pt x="3" y="277"/>
                  </a:cubicBezTo>
                  <a:cubicBezTo>
                    <a:pt x="0" y="328"/>
                    <a:pt x="18" y="415"/>
                    <a:pt x="39" y="453"/>
                  </a:cubicBezTo>
                  <a:cubicBezTo>
                    <a:pt x="60" y="491"/>
                    <a:pt x="92" y="500"/>
                    <a:pt x="127" y="505"/>
                  </a:cubicBezTo>
                  <a:cubicBezTo>
                    <a:pt x="162" y="510"/>
                    <a:pt x="213" y="480"/>
                    <a:pt x="247" y="481"/>
                  </a:cubicBezTo>
                  <a:cubicBezTo>
                    <a:pt x="281" y="482"/>
                    <a:pt x="265" y="532"/>
                    <a:pt x="331" y="513"/>
                  </a:cubicBezTo>
                  <a:cubicBezTo>
                    <a:pt x="397" y="494"/>
                    <a:pt x="580" y="396"/>
                    <a:pt x="645" y="365"/>
                  </a:cubicBezTo>
                </a:path>
              </a:pathLst>
            </a:custGeom>
            <a:gradFill rotWithShape="0">
              <a:gsLst>
                <a:gs pos="0">
                  <a:srgbClr val="aeaeae"/>
                </a:gs>
                <a:gs pos="50000">
                  <a:srgbClr val="dddddd"/>
                </a:gs>
                <a:gs pos="100000">
                  <a:srgbClr val="aeaeae"/>
                </a:gs>
              </a:gsLst>
              <a:lin ang="54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H="1">
              <a:off x="1485000" y="1650600"/>
              <a:ext cx="327240" cy="538200"/>
            </a:xfrm>
            <a:custGeom>
              <a:avLst/>
              <a:gdLst/>
              <a:ahLst/>
              <a:rect l="l" t="t" r="r" b="b"/>
              <a:pathLst>
                <a:path w="730" h="1280">
                  <a:moveTo>
                    <a:pt x="52" y="92"/>
                  </a:moveTo>
                  <a:cubicBezTo>
                    <a:pt x="45" y="85"/>
                    <a:pt x="46" y="61"/>
                    <a:pt x="52" y="47"/>
                  </a:cubicBezTo>
                  <a:cubicBezTo>
                    <a:pt x="58" y="33"/>
                    <a:pt x="76" y="17"/>
                    <a:pt x="91" y="9"/>
                  </a:cubicBezTo>
                  <a:cubicBezTo>
                    <a:pt x="106" y="1"/>
                    <a:pt x="111" y="0"/>
                    <a:pt x="143" y="1"/>
                  </a:cubicBezTo>
                  <a:cubicBezTo>
                    <a:pt x="175" y="2"/>
                    <a:pt x="245" y="5"/>
                    <a:pt x="283" y="13"/>
                  </a:cubicBezTo>
                  <a:cubicBezTo>
                    <a:pt x="321" y="21"/>
                    <a:pt x="333" y="19"/>
                    <a:pt x="370" y="47"/>
                  </a:cubicBezTo>
                  <a:cubicBezTo>
                    <a:pt x="407" y="75"/>
                    <a:pt x="476" y="145"/>
                    <a:pt x="506" y="183"/>
                  </a:cubicBezTo>
                  <a:cubicBezTo>
                    <a:pt x="536" y="221"/>
                    <a:pt x="543" y="235"/>
                    <a:pt x="551" y="273"/>
                  </a:cubicBezTo>
                  <a:cubicBezTo>
                    <a:pt x="559" y="311"/>
                    <a:pt x="551" y="371"/>
                    <a:pt x="551" y="409"/>
                  </a:cubicBezTo>
                  <a:cubicBezTo>
                    <a:pt x="551" y="447"/>
                    <a:pt x="551" y="477"/>
                    <a:pt x="551" y="500"/>
                  </a:cubicBezTo>
                  <a:cubicBezTo>
                    <a:pt x="551" y="523"/>
                    <a:pt x="551" y="531"/>
                    <a:pt x="551" y="546"/>
                  </a:cubicBezTo>
                  <a:cubicBezTo>
                    <a:pt x="551" y="561"/>
                    <a:pt x="543" y="553"/>
                    <a:pt x="551" y="591"/>
                  </a:cubicBezTo>
                  <a:cubicBezTo>
                    <a:pt x="559" y="629"/>
                    <a:pt x="585" y="725"/>
                    <a:pt x="596" y="772"/>
                  </a:cubicBezTo>
                  <a:cubicBezTo>
                    <a:pt x="607" y="819"/>
                    <a:pt x="607" y="843"/>
                    <a:pt x="615" y="873"/>
                  </a:cubicBezTo>
                  <a:cubicBezTo>
                    <a:pt x="623" y="903"/>
                    <a:pt x="630" y="925"/>
                    <a:pt x="642" y="954"/>
                  </a:cubicBezTo>
                  <a:cubicBezTo>
                    <a:pt x="654" y="983"/>
                    <a:pt x="674" y="1000"/>
                    <a:pt x="687" y="1045"/>
                  </a:cubicBezTo>
                  <a:cubicBezTo>
                    <a:pt x="700" y="1090"/>
                    <a:pt x="713" y="1188"/>
                    <a:pt x="719" y="1225"/>
                  </a:cubicBezTo>
                  <a:cubicBezTo>
                    <a:pt x="725" y="1262"/>
                    <a:pt x="728" y="1261"/>
                    <a:pt x="723" y="1269"/>
                  </a:cubicBezTo>
                  <a:cubicBezTo>
                    <a:pt x="718" y="1277"/>
                    <a:pt x="730" y="1271"/>
                    <a:pt x="687" y="1271"/>
                  </a:cubicBezTo>
                  <a:cubicBezTo>
                    <a:pt x="644" y="1271"/>
                    <a:pt x="510" y="1269"/>
                    <a:pt x="467" y="1269"/>
                  </a:cubicBezTo>
                  <a:cubicBezTo>
                    <a:pt x="424" y="1269"/>
                    <a:pt x="440" y="1280"/>
                    <a:pt x="431" y="1269"/>
                  </a:cubicBezTo>
                  <a:cubicBezTo>
                    <a:pt x="422" y="1258"/>
                    <a:pt x="429" y="1250"/>
                    <a:pt x="411" y="1205"/>
                  </a:cubicBezTo>
                  <a:cubicBezTo>
                    <a:pt x="393" y="1160"/>
                    <a:pt x="346" y="1045"/>
                    <a:pt x="324" y="999"/>
                  </a:cubicBezTo>
                  <a:cubicBezTo>
                    <a:pt x="302" y="953"/>
                    <a:pt x="287" y="949"/>
                    <a:pt x="279" y="929"/>
                  </a:cubicBezTo>
                  <a:cubicBezTo>
                    <a:pt x="271" y="909"/>
                    <a:pt x="283" y="884"/>
                    <a:pt x="275" y="881"/>
                  </a:cubicBezTo>
                  <a:cubicBezTo>
                    <a:pt x="267" y="878"/>
                    <a:pt x="254" y="913"/>
                    <a:pt x="233" y="908"/>
                  </a:cubicBezTo>
                  <a:cubicBezTo>
                    <a:pt x="212" y="903"/>
                    <a:pt x="173" y="875"/>
                    <a:pt x="147" y="853"/>
                  </a:cubicBezTo>
                  <a:cubicBezTo>
                    <a:pt x="121" y="831"/>
                    <a:pt x="91" y="794"/>
                    <a:pt x="75" y="773"/>
                  </a:cubicBezTo>
                  <a:cubicBezTo>
                    <a:pt x="59" y="752"/>
                    <a:pt x="62" y="750"/>
                    <a:pt x="52" y="727"/>
                  </a:cubicBezTo>
                  <a:cubicBezTo>
                    <a:pt x="42" y="704"/>
                    <a:pt x="22" y="675"/>
                    <a:pt x="15" y="637"/>
                  </a:cubicBezTo>
                  <a:cubicBezTo>
                    <a:pt x="8" y="599"/>
                    <a:pt x="0" y="536"/>
                    <a:pt x="7" y="500"/>
                  </a:cubicBezTo>
                  <a:cubicBezTo>
                    <a:pt x="14" y="464"/>
                    <a:pt x="44" y="441"/>
                    <a:pt x="59" y="421"/>
                  </a:cubicBezTo>
                  <a:cubicBezTo>
                    <a:pt x="74" y="401"/>
                    <a:pt x="82" y="393"/>
                    <a:pt x="95" y="381"/>
                  </a:cubicBezTo>
                  <a:cubicBezTo>
                    <a:pt x="108" y="369"/>
                    <a:pt x="120" y="358"/>
                    <a:pt x="135" y="349"/>
                  </a:cubicBezTo>
                  <a:cubicBezTo>
                    <a:pt x="150" y="340"/>
                    <a:pt x="171" y="334"/>
                    <a:pt x="187" y="329"/>
                  </a:cubicBezTo>
                  <a:cubicBezTo>
                    <a:pt x="203" y="324"/>
                    <a:pt x="225" y="328"/>
                    <a:pt x="233" y="319"/>
                  </a:cubicBezTo>
                  <a:cubicBezTo>
                    <a:pt x="241" y="310"/>
                    <a:pt x="235" y="288"/>
                    <a:pt x="233" y="273"/>
                  </a:cubicBezTo>
                  <a:cubicBezTo>
                    <a:pt x="231" y="258"/>
                    <a:pt x="230" y="244"/>
                    <a:pt x="223" y="229"/>
                  </a:cubicBezTo>
                  <a:cubicBezTo>
                    <a:pt x="216" y="214"/>
                    <a:pt x="199" y="198"/>
                    <a:pt x="188" y="183"/>
                  </a:cubicBezTo>
                  <a:cubicBezTo>
                    <a:pt x="177" y="168"/>
                    <a:pt x="169" y="147"/>
                    <a:pt x="159" y="137"/>
                  </a:cubicBezTo>
                  <a:cubicBezTo>
                    <a:pt x="149" y="127"/>
                    <a:pt x="141" y="128"/>
                    <a:pt x="131" y="121"/>
                  </a:cubicBezTo>
                  <a:cubicBezTo>
                    <a:pt x="121" y="114"/>
                    <a:pt x="110" y="97"/>
                    <a:pt x="97" y="92"/>
                  </a:cubicBezTo>
                  <a:cubicBezTo>
                    <a:pt x="84" y="87"/>
                    <a:pt x="59" y="99"/>
                    <a:pt x="52" y="92"/>
                  </a:cubicBezTo>
                  <a:close/>
                </a:path>
              </a:pathLst>
            </a:custGeom>
            <a:solidFill>
              <a:srgbClr val="ff99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H="1">
              <a:off x="1158480" y="1665000"/>
              <a:ext cx="474480" cy="304920"/>
            </a:xfrm>
            <a:custGeom>
              <a:avLst/>
              <a:gdLst/>
              <a:ahLst/>
              <a:rect l="l" t="t" r="r" b="b"/>
              <a:pathLst>
                <a:path w="374" h="241">
                  <a:moveTo>
                    <a:pt x="12" y="28"/>
                  </a:moveTo>
                  <a:cubicBezTo>
                    <a:pt x="24" y="17"/>
                    <a:pt x="66" y="17"/>
                    <a:pt x="93" y="13"/>
                  </a:cubicBezTo>
                  <a:cubicBezTo>
                    <a:pt x="120" y="9"/>
                    <a:pt x="148" y="0"/>
                    <a:pt x="177" y="1"/>
                  </a:cubicBezTo>
                  <a:cubicBezTo>
                    <a:pt x="206" y="2"/>
                    <a:pt x="240" y="12"/>
                    <a:pt x="265" y="17"/>
                  </a:cubicBezTo>
                  <a:cubicBezTo>
                    <a:pt x="290" y="22"/>
                    <a:pt x="310" y="27"/>
                    <a:pt x="325" y="29"/>
                  </a:cubicBezTo>
                  <a:cubicBezTo>
                    <a:pt x="340" y="31"/>
                    <a:pt x="346" y="21"/>
                    <a:pt x="354" y="31"/>
                  </a:cubicBezTo>
                  <a:cubicBezTo>
                    <a:pt x="362" y="41"/>
                    <a:pt x="372" y="67"/>
                    <a:pt x="373" y="89"/>
                  </a:cubicBezTo>
                  <a:cubicBezTo>
                    <a:pt x="374" y="111"/>
                    <a:pt x="365" y="148"/>
                    <a:pt x="361" y="165"/>
                  </a:cubicBezTo>
                  <a:cubicBezTo>
                    <a:pt x="357" y="182"/>
                    <a:pt x="362" y="179"/>
                    <a:pt x="349" y="189"/>
                  </a:cubicBezTo>
                  <a:cubicBezTo>
                    <a:pt x="336" y="199"/>
                    <a:pt x="307" y="217"/>
                    <a:pt x="281" y="225"/>
                  </a:cubicBezTo>
                  <a:cubicBezTo>
                    <a:pt x="255" y="233"/>
                    <a:pt x="212" y="236"/>
                    <a:pt x="193" y="237"/>
                  </a:cubicBezTo>
                  <a:cubicBezTo>
                    <a:pt x="174" y="238"/>
                    <a:pt x="184" y="241"/>
                    <a:pt x="165" y="233"/>
                  </a:cubicBezTo>
                  <a:cubicBezTo>
                    <a:pt x="146" y="225"/>
                    <a:pt x="100" y="198"/>
                    <a:pt x="77" y="189"/>
                  </a:cubicBezTo>
                  <a:cubicBezTo>
                    <a:pt x="54" y="180"/>
                    <a:pt x="40" y="185"/>
                    <a:pt x="29" y="177"/>
                  </a:cubicBezTo>
                  <a:cubicBezTo>
                    <a:pt x="18" y="169"/>
                    <a:pt x="16" y="153"/>
                    <a:pt x="13" y="141"/>
                  </a:cubicBezTo>
                  <a:cubicBezTo>
                    <a:pt x="10" y="129"/>
                    <a:pt x="12" y="116"/>
                    <a:pt x="13" y="105"/>
                  </a:cubicBezTo>
                  <a:cubicBezTo>
                    <a:pt x="14" y="94"/>
                    <a:pt x="21" y="90"/>
                    <a:pt x="21" y="77"/>
                  </a:cubicBezTo>
                  <a:cubicBezTo>
                    <a:pt x="21" y="64"/>
                    <a:pt x="0" y="39"/>
                    <a:pt x="12" y="28"/>
                  </a:cubicBez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H="1">
              <a:off x="1104120" y="1047600"/>
              <a:ext cx="709560" cy="672840"/>
            </a:xfrm>
            <a:custGeom>
              <a:avLst/>
              <a:gdLst/>
              <a:ahLst/>
              <a:rect l="l" t="t" r="r" b="b"/>
              <a:pathLst>
                <a:path w="560" h="531">
                  <a:moveTo>
                    <a:pt x="256" y="232"/>
                  </a:moveTo>
                  <a:cubicBezTo>
                    <a:pt x="180" y="242"/>
                    <a:pt x="105" y="252"/>
                    <a:pt x="64" y="284"/>
                  </a:cubicBezTo>
                  <a:cubicBezTo>
                    <a:pt x="23" y="316"/>
                    <a:pt x="0" y="385"/>
                    <a:pt x="8" y="424"/>
                  </a:cubicBezTo>
                  <a:cubicBezTo>
                    <a:pt x="16" y="463"/>
                    <a:pt x="61" y="509"/>
                    <a:pt x="112" y="520"/>
                  </a:cubicBezTo>
                  <a:cubicBezTo>
                    <a:pt x="163" y="531"/>
                    <a:pt x="249" y="493"/>
                    <a:pt x="312" y="492"/>
                  </a:cubicBezTo>
                  <a:cubicBezTo>
                    <a:pt x="375" y="491"/>
                    <a:pt x="453" y="518"/>
                    <a:pt x="492" y="516"/>
                  </a:cubicBezTo>
                  <a:cubicBezTo>
                    <a:pt x="531" y="514"/>
                    <a:pt x="533" y="495"/>
                    <a:pt x="544" y="480"/>
                  </a:cubicBezTo>
                  <a:cubicBezTo>
                    <a:pt x="555" y="465"/>
                    <a:pt x="557" y="459"/>
                    <a:pt x="556" y="428"/>
                  </a:cubicBezTo>
                  <a:cubicBezTo>
                    <a:pt x="555" y="397"/>
                    <a:pt x="560" y="349"/>
                    <a:pt x="540" y="292"/>
                  </a:cubicBezTo>
                  <a:cubicBezTo>
                    <a:pt x="520" y="235"/>
                    <a:pt x="483" y="135"/>
                    <a:pt x="436" y="88"/>
                  </a:cubicBezTo>
                  <a:cubicBezTo>
                    <a:pt x="389" y="41"/>
                    <a:pt x="306" y="23"/>
                    <a:pt x="260" y="12"/>
                  </a:cubicBezTo>
                  <a:cubicBezTo>
                    <a:pt x="214" y="1"/>
                    <a:pt x="193" y="0"/>
                    <a:pt x="160" y="20"/>
                  </a:cubicBezTo>
                  <a:cubicBezTo>
                    <a:pt x="127" y="40"/>
                    <a:pt x="83" y="101"/>
                    <a:pt x="60" y="132"/>
                  </a:cubicBezTo>
                  <a:cubicBezTo>
                    <a:pt x="37" y="163"/>
                    <a:pt x="31" y="192"/>
                    <a:pt x="24" y="208"/>
                  </a:cubicBezTo>
                </a:path>
              </a:pathLst>
            </a:custGeom>
            <a:gradFill rotWithShape="0">
              <a:gsLst>
                <a:gs pos="0">
                  <a:srgbClr val="aeaeae"/>
                </a:gs>
                <a:gs pos="50000">
                  <a:srgbClr val="dddddd"/>
                </a:gs>
                <a:gs pos="100000">
                  <a:srgbClr val="aeaeae"/>
                </a:gs>
              </a:gsLst>
              <a:lin ang="54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H="1">
              <a:off x="1945800" y="1968120"/>
              <a:ext cx="41904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7" name=""/>
          <p:cNvSpPr/>
          <p:nvPr/>
        </p:nvSpPr>
        <p:spPr>
          <a:xfrm>
            <a:off x="4035600" y="3403440"/>
            <a:ext cx="4354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volume de la cav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r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3882960" y="3400560"/>
            <a:ext cx="4165560" cy="1644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3621960" y="1025640"/>
            <a:ext cx="46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ntrôle de la ventilation : tronc céréb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(+autres régions du cervea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641760" y="936720"/>
            <a:ext cx="4686120" cy="882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5969160" y="1828800"/>
            <a:ext cx="0" cy="1562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"/>
          <p:cNvSpPr/>
          <p:nvPr/>
        </p:nvSpPr>
        <p:spPr>
          <a:xfrm>
            <a:off x="7287480" y="469728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usc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4784040" y="1789200"/>
            <a:ext cx="211608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ntrôleur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705840" y="4253040"/>
            <a:ext cx="11163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a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7032240" y="4253040"/>
            <a:ext cx="12643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effec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2982240" y="47102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ém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4253040" y="1089000"/>
            <a:ext cx="32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tronc céréb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(+autres régions du cervea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4267080" y="1971720"/>
            <a:ext cx="559080" cy="2257560"/>
          </a:xfrm>
          <a:custGeom>
            <a:avLst/>
            <a:gdLst/>
            <a:ahLst/>
            <a:rect l="l" t="t" r="r" b="b"/>
            <a:pathLst>
              <a:path w="688" h="920">
                <a:moveTo>
                  <a:pt x="0" y="920"/>
                </a:moveTo>
                <a:lnTo>
                  <a:pt x="0" y="0"/>
                </a:lnTo>
                <a:lnTo>
                  <a:pt x="688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 flipH="1">
            <a:off x="6844680" y="1971720"/>
            <a:ext cx="825480" cy="2244600"/>
          </a:xfrm>
          <a:custGeom>
            <a:avLst/>
            <a:gdLst/>
            <a:ahLst/>
            <a:rect l="l" t="t" r="r" b="b"/>
            <a:pathLst>
              <a:path w="688" h="920">
                <a:moveTo>
                  <a:pt x="0" y="920"/>
                </a:moveTo>
                <a:lnTo>
                  <a:pt x="0" y="0"/>
                </a:lnTo>
                <a:lnTo>
                  <a:pt x="688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 flipH="1">
            <a:off x="4803840" y="4462560"/>
            <a:ext cx="225720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4303800" y="314784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  <a:ea typeface="Arial"/>
              </a:rPr>
              <a:t>ent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6841440" y="311004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  <a:ea typeface="Arial"/>
              </a:rPr>
              <a:t>sor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273640" y="4253040"/>
            <a:ext cx="1430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ara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335560" y="4800600"/>
            <a:ext cx="778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C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5" name=""/>
          <p:cNvGrpSpPr/>
          <p:nvPr/>
        </p:nvGrpSpPr>
        <p:grpSpPr>
          <a:xfrm>
            <a:off x="438120" y="3073320"/>
            <a:ext cx="2394000" cy="2889000"/>
            <a:chOff x="438120" y="3073320"/>
            <a:chExt cx="2394000" cy="2889000"/>
          </a:xfrm>
        </p:grpSpPr>
        <p:grpSp>
          <p:nvGrpSpPr>
            <p:cNvPr id="2606" name=""/>
            <p:cNvGrpSpPr/>
            <p:nvPr/>
          </p:nvGrpSpPr>
          <p:grpSpPr>
            <a:xfrm>
              <a:off x="1263600" y="3073320"/>
              <a:ext cx="749520" cy="1218960"/>
              <a:chOff x="1263600" y="3073320"/>
              <a:chExt cx="749520" cy="1218960"/>
            </a:xfrm>
          </p:grpSpPr>
          <p:sp>
            <p:nvSpPr>
              <p:cNvPr id="2607" name=""/>
              <p:cNvSpPr/>
              <p:nvPr/>
            </p:nvSpPr>
            <p:spPr>
              <a:xfrm>
                <a:off x="1674720" y="3073320"/>
                <a:ext cx="338400" cy="1201680"/>
              </a:xfrm>
              <a:custGeom>
                <a:avLst/>
                <a:gdLst/>
                <a:ahLst/>
                <a:rect l="l" t="t" r="r" b="b"/>
                <a:pathLst>
                  <a:path w="213" h="757">
                    <a:moveTo>
                      <a:pt x="213" y="757"/>
                    </a:moveTo>
                    <a:cubicBezTo>
                      <a:pt x="193" y="754"/>
                      <a:pt x="173" y="751"/>
                      <a:pt x="141" y="720"/>
                    </a:cubicBezTo>
                    <a:cubicBezTo>
                      <a:pt x="109" y="689"/>
                      <a:pt x="42" y="693"/>
                      <a:pt x="21" y="573"/>
                    </a:cubicBezTo>
                    <a:cubicBezTo>
                      <a:pt x="0" y="453"/>
                      <a:pt x="18" y="119"/>
                      <a:pt x="1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1263600" y="3073320"/>
                <a:ext cx="333360" cy="1218960"/>
              </a:xfrm>
              <a:custGeom>
                <a:avLst/>
                <a:gdLst/>
                <a:ahLst/>
                <a:rect l="l" t="t" r="r" b="b"/>
                <a:pathLst>
                  <a:path w="210" h="768">
                    <a:moveTo>
                      <a:pt x="0" y="768"/>
                    </a:moveTo>
                    <a:cubicBezTo>
                      <a:pt x="20" y="765"/>
                      <a:pt x="40" y="762"/>
                      <a:pt x="72" y="731"/>
                    </a:cubicBezTo>
                    <a:cubicBezTo>
                      <a:pt x="104" y="700"/>
                      <a:pt x="174" y="705"/>
                      <a:pt x="192" y="583"/>
                    </a:cubicBezTo>
                    <a:cubicBezTo>
                      <a:pt x="210" y="461"/>
                      <a:pt x="182" y="121"/>
                      <a:pt x="18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9" name=""/>
            <p:cNvSpPr/>
            <p:nvPr/>
          </p:nvSpPr>
          <p:spPr>
            <a:xfrm>
              <a:off x="1270080" y="4144680"/>
              <a:ext cx="743040" cy="306360"/>
            </a:xfrm>
            <a:custGeom>
              <a:avLst/>
              <a:gdLst/>
              <a:ahLst/>
              <a:rect l="l" t="t" r="r" b="b"/>
              <a:pathLst>
                <a:path w="468" h="188">
                  <a:moveTo>
                    <a:pt x="468" y="188"/>
                  </a:moveTo>
                  <a:cubicBezTo>
                    <a:pt x="415" y="149"/>
                    <a:pt x="362" y="111"/>
                    <a:pt x="324" y="80"/>
                  </a:cubicBezTo>
                  <a:cubicBezTo>
                    <a:pt x="286" y="49"/>
                    <a:pt x="268" y="4"/>
                    <a:pt x="240" y="2"/>
                  </a:cubicBezTo>
                  <a:cubicBezTo>
                    <a:pt x="212" y="0"/>
                    <a:pt x="196" y="37"/>
                    <a:pt x="156" y="68"/>
                  </a:cubicBezTo>
                  <a:cubicBezTo>
                    <a:pt x="116" y="99"/>
                    <a:pt x="58" y="143"/>
                    <a:pt x="0" y="1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0" name=""/>
            <p:cNvGrpSpPr/>
            <p:nvPr/>
          </p:nvGrpSpPr>
          <p:grpSpPr>
            <a:xfrm>
              <a:off x="571320" y="3558960"/>
              <a:ext cx="911160" cy="2048040"/>
              <a:chOff x="571320" y="3558960"/>
              <a:chExt cx="911160" cy="2048040"/>
            </a:xfrm>
          </p:grpSpPr>
          <p:sp>
            <p:nvSpPr>
              <p:cNvPr id="2611" name=""/>
              <p:cNvSpPr/>
              <p:nvPr/>
            </p:nvSpPr>
            <p:spPr>
              <a:xfrm flipH="1">
                <a:off x="633240" y="3695400"/>
                <a:ext cx="787680" cy="1773000"/>
              </a:xfrm>
              <a:custGeom>
                <a:avLst/>
                <a:gdLst/>
                <a:ahLst/>
                <a:rect l="l" t="t" r="r" b="b"/>
                <a:pathLst>
                  <a:path w="524" h="1136">
                    <a:moveTo>
                      <a:pt x="35" y="445"/>
                    </a:moveTo>
                    <a:cubicBezTo>
                      <a:pt x="36" y="543"/>
                      <a:pt x="0" y="946"/>
                      <a:pt x="41" y="1041"/>
                    </a:cubicBezTo>
                    <a:cubicBezTo>
                      <a:pt x="82" y="1136"/>
                      <a:pt x="206" y="1022"/>
                      <a:pt x="281" y="1017"/>
                    </a:cubicBezTo>
                    <a:cubicBezTo>
                      <a:pt x="356" y="1012"/>
                      <a:pt x="454" y="1132"/>
                      <a:pt x="489" y="1009"/>
                    </a:cubicBezTo>
                    <a:cubicBezTo>
                      <a:pt x="524" y="886"/>
                      <a:pt x="517" y="446"/>
                      <a:pt x="489" y="281"/>
                    </a:cubicBezTo>
                    <a:cubicBezTo>
                      <a:pt x="461" y="116"/>
                      <a:pt x="389" y="34"/>
                      <a:pt x="321" y="17"/>
                    </a:cubicBezTo>
                    <a:cubicBezTo>
                      <a:pt x="253" y="0"/>
                      <a:pt x="129" y="121"/>
                      <a:pt x="81" y="177"/>
                    </a:cubicBezTo>
                    <a:cubicBezTo>
                      <a:pt x="33" y="233"/>
                      <a:pt x="43" y="316"/>
                      <a:pt x="33" y="353"/>
                    </a:cubicBezTo>
                  </a:path>
                </a:pathLst>
              </a:custGeom>
              <a:gradFill rotWithShape="0">
                <a:gsLst>
                  <a:gs pos="0">
                    <a:srgbClr val="fe9f9f"/>
                  </a:gs>
                  <a:gs pos="100000">
                    <a:srgbClr val="ff5050"/>
                  </a:gs>
                </a:gsLst>
                <a:lin ang="540000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H="1">
                <a:off x="570960" y="3558960"/>
                <a:ext cx="911160" cy="2048040"/>
              </a:xfrm>
              <a:custGeom>
                <a:avLst/>
                <a:gdLst/>
                <a:ahLst/>
                <a:rect l="l" t="t" r="r" b="b"/>
                <a:pathLst>
                  <a:path w="606" h="1313">
                    <a:moveTo>
                      <a:pt x="34" y="503"/>
                    </a:moveTo>
                    <a:cubicBezTo>
                      <a:pt x="36" y="618"/>
                      <a:pt x="0" y="1089"/>
                      <a:pt x="48" y="1201"/>
                    </a:cubicBezTo>
                    <a:cubicBezTo>
                      <a:pt x="96" y="1313"/>
                      <a:pt x="239" y="1179"/>
                      <a:pt x="325" y="1173"/>
                    </a:cubicBezTo>
                    <a:cubicBezTo>
                      <a:pt x="412" y="1168"/>
                      <a:pt x="525" y="1306"/>
                      <a:pt x="566" y="1164"/>
                    </a:cubicBezTo>
                    <a:cubicBezTo>
                      <a:pt x="606" y="1022"/>
                      <a:pt x="598" y="515"/>
                      <a:pt x="566" y="324"/>
                    </a:cubicBezTo>
                    <a:cubicBezTo>
                      <a:pt x="533" y="134"/>
                      <a:pt x="450" y="39"/>
                      <a:pt x="372" y="20"/>
                    </a:cubicBezTo>
                    <a:cubicBezTo>
                      <a:pt x="293" y="0"/>
                      <a:pt x="150" y="140"/>
                      <a:pt x="95" y="204"/>
                    </a:cubicBezTo>
                    <a:cubicBezTo>
                      <a:pt x="39" y="269"/>
                      <a:pt x="51" y="365"/>
                      <a:pt x="39" y="407"/>
                    </a:cubicBez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3" name=""/>
            <p:cNvGrpSpPr/>
            <p:nvPr/>
          </p:nvGrpSpPr>
          <p:grpSpPr>
            <a:xfrm>
              <a:off x="1752480" y="3482640"/>
              <a:ext cx="962280" cy="2136600"/>
              <a:chOff x="1752480" y="3482640"/>
              <a:chExt cx="962280" cy="2136600"/>
            </a:xfrm>
          </p:grpSpPr>
          <p:sp>
            <p:nvSpPr>
              <p:cNvPr id="2614" name=""/>
              <p:cNvSpPr/>
              <p:nvPr/>
            </p:nvSpPr>
            <p:spPr>
              <a:xfrm>
                <a:off x="1817640" y="3625200"/>
                <a:ext cx="831960" cy="1849680"/>
              </a:xfrm>
              <a:custGeom>
                <a:avLst/>
                <a:gdLst/>
                <a:ahLst/>
                <a:rect l="l" t="t" r="r" b="b"/>
                <a:pathLst>
                  <a:path w="524" h="1136">
                    <a:moveTo>
                      <a:pt x="35" y="445"/>
                    </a:moveTo>
                    <a:cubicBezTo>
                      <a:pt x="36" y="543"/>
                      <a:pt x="0" y="946"/>
                      <a:pt x="41" y="1041"/>
                    </a:cubicBezTo>
                    <a:cubicBezTo>
                      <a:pt x="82" y="1136"/>
                      <a:pt x="206" y="1022"/>
                      <a:pt x="281" y="1017"/>
                    </a:cubicBezTo>
                    <a:cubicBezTo>
                      <a:pt x="356" y="1012"/>
                      <a:pt x="454" y="1132"/>
                      <a:pt x="489" y="1009"/>
                    </a:cubicBezTo>
                    <a:cubicBezTo>
                      <a:pt x="524" y="886"/>
                      <a:pt x="517" y="446"/>
                      <a:pt x="489" y="281"/>
                    </a:cubicBezTo>
                    <a:cubicBezTo>
                      <a:pt x="461" y="116"/>
                      <a:pt x="389" y="34"/>
                      <a:pt x="321" y="17"/>
                    </a:cubicBezTo>
                    <a:cubicBezTo>
                      <a:pt x="253" y="0"/>
                      <a:pt x="129" y="121"/>
                      <a:pt x="81" y="177"/>
                    </a:cubicBezTo>
                    <a:cubicBezTo>
                      <a:pt x="33" y="233"/>
                      <a:pt x="43" y="316"/>
                      <a:pt x="33" y="353"/>
                    </a:cubicBezTo>
                  </a:path>
                </a:pathLst>
              </a:custGeom>
              <a:gradFill rotWithShape="0">
                <a:gsLst>
                  <a:gs pos="0">
                    <a:srgbClr val="fe9f9f"/>
                  </a:gs>
                  <a:gs pos="100000">
                    <a:srgbClr val="ff5050"/>
                  </a:gs>
                </a:gsLst>
                <a:lin ang="540000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752480" y="3482640"/>
                <a:ext cx="962280" cy="2136600"/>
              </a:xfrm>
              <a:custGeom>
                <a:avLst/>
                <a:gdLst/>
                <a:ahLst/>
                <a:rect l="l" t="t" r="r" b="b"/>
                <a:pathLst>
                  <a:path w="606" h="1313">
                    <a:moveTo>
                      <a:pt x="34" y="503"/>
                    </a:moveTo>
                    <a:cubicBezTo>
                      <a:pt x="36" y="618"/>
                      <a:pt x="0" y="1089"/>
                      <a:pt x="48" y="1201"/>
                    </a:cubicBezTo>
                    <a:cubicBezTo>
                      <a:pt x="96" y="1313"/>
                      <a:pt x="239" y="1179"/>
                      <a:pt x="325" y="1173"/>
                    </a:cubicBezTo>
                    <a:cubicBezTo>
                      <a:pt x="412" y="1168"/>
                      <a:pt x="525" y="1306"/>
                      <a:pt x="566" y="1164"/>
                    </a:cubicBezTo>
                    <a:cubicBezTo>
                      <a:pt x="606" y="1022"/>
                      <a:pt x="598" y="515"/>
                      <a:pt x="566" y="324"/>
                    </a:cubicBezTo>
                    <a:cubicBezTo>
                      <a:pt x="533" y="134"/>
                      <a:pt x="450" y="39"/>
                      <a:pt x="372" y="20"/>
                    </a:cubicBezTo>
                    <a:cubicBezTo>
                      <a:pt x="293" y="0"/>
                      <a:pt x="150" y="140"/>
                      <a:pt x="95" y="204"/>
                    </a:cubicBezTo>
                    <a:cubicBezTo>
                      <a:pt x="39" y="269"/>
                      <a:pt x="51" y="365"/>
                      <a:pt x="39" y="407"/>
                    </a:cubicBez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6" name=""/>
            <p:cNvSpPr/>
            <p:nvPr/>
          </p:nvSpPr>
          <p:spPr>
            <a:xfrm>
              <a:off x="438120" y="3187440"/>
              <a:ext cx="1225440" cy="2774880"/>
            </a:xfrm>
            <a:custGeom>
              <a:avLst/>
              <a:gdLst/>
              <a:ahLst/>
              <a:rect l="l" t="t" r="r" b="b"/>
              <a:pathLst>
                <a:path w="772" h="1748">
                  <a:moveTo>
                    <a:pt x="700" y="0"/>
                  </a:moveTo>
                  <a:cubicBezTo>
                    <a:pt x="508" y="7"/>
                    <a:pt x="316" y="15"/>
                    <a:pt x="204" y="160"/>
                  </a:cubicBezTo>
                  <a:cubicBezTo>
                    <a:pt x="92" y="305"/>
                    <a:pt x="56" y="625"/>
                    <a:pt x="28" y="872"/>
                  </a:cubicBezTo>
                  <a:cubicBezTo>
                    <a:pt x="0" y="1119"/>
                    <a:pt x="12" y="1532"/>
                    <a:pt x="36" y="1640"/>
                  </a:cubicBezTo>
                  <a:cubicBezTo>
                    <a:pt x="60" y="1748"/>
                    <a:pt x="49" y="1543"/>
                    <a:pt x="172" y="1520"/>
                  </a:cubicBezTo>
                  <a:cubicBezTo>
                    <a:pt x="295" y="1497"/>
                    <a:pt x="533" y="1500"/>
                    <a:pt x="772" y="1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H="1">
              <a:off x="1606680" y="3187440"/>
              <a:ext cx="1225440" cy="2774880"/>
            </a:xfrm>
            <a:custGeom>
              <a:avLst/>
              <a:gdLst/>
              <a:ahLst/>
              <a:rect l="l" t="t" r="r" b="b"/>
              <a:pathLst>
                <a:path w="772" h="1748">
                  <a:moveTo>
                    <a:pt x="700" y="0"/>
                  </a:moveTo>
                  <a:cubicBezTo>
                    <a:pt x="508" y="7"/>
                    <a:pt x="316" y="15"/>
                    <a:pt x="204" y="160"/>
                  </a:cubicBezTo>
                  <a:cubicBezTo>
                    <a:pt x="92" y="305"/>
                    <a:pt x="56" y="625"/>
                    <a:pt x="28" y="872"/>
                  </a:cubicBezTo>
                  <a:cubicBezTo>
                    <a:pt x="0" y="1119"/>
                    <a:pt x="12" y="1532"/>
                    <a:pt x="36" y="1640"/>
                  </a:cubicBezTo>
                  <a:cubicBezTo>
                    <a:pt x="60" y="1748"/>
                    <a:pt x="49" y="1543"/>
                    <a:pt x="172" y="1520"/>
                  </a:cubicBezTo>
                  <a:cubicBezTo>
                    <a:pt x="295" y="1497"/>
                    <a:pt x="533" y="1500"/>
                    <a:pt x="772" y="1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1873080" y="4062240"/>
              <a:ext cx="622440" cy="984240"/>
            </a:xfrm>
            <a:custGeom>
              <a:avLst/>
              <a:gdLst/>
              <a:ahLst/>
              <a:rect l="l" t="t" r="r" b="b"/>
              <a:pathLst>
                <a:path w="392" h="620">
                  <a:moveTo>
                    <a:pt x="0" y="89"/>
                  </a:moveTo>
                  <a:cubicBezTo>
                    <a:pt x="25" y="104"/>
                    <a:pt x="107" y="168"/>
                    <a:pt x="144" y="177"/>
                  </a:cubicBezTo>
                  <a:cubicBezTo>
                    <a:pt x="181" y="186"/>
                    <a:pt x="199" y="164"/>
                    <a:pt x="224" y="145"/>
                  </a:cubicBezTo>
                  <a:cubicBezTo>
                    <a:pt x="249" y="126"/>
                    <a:pt x="281" y="88"/>
                    <a:pt x="296" y="65"/>
                  </a:cubicBezTo>
                  <a:cubicBezTo>
                    <a:pt x="311" y="42"/>
                    <a:pt x="303" y="18"/>
                    <a:pt x="316" y="9"/>
                  </a:cubicBezTo>
                  <a:cubicBezTo>
                    <a:pt x="329" y="0"/>
                    <a:pt x="365" y="2"/>
                    <a:pt x="376" y="13"/>
                  </a:cubicBezTo>
                  <a:cubicBezTo>
                    <a:pt x="387" y="24"/>
                    <a:pt x="392" y="61"/>
                    <a:pt x="384" y="73"/>
                  </a:cubicBezTo>
                  <a:cubicBezTo>
                    <a:pt x="376" y="85"/>
                    <a:pt x="352" y="70"/>
                    <a:pt x="328" y="89"/>
                  </a:cubicBezTo>
                  <a:cubicBezTo>
                    <a:pt x="304" y="108"/>
                    <a:pt x="269" y="160"/>
                    <a:pt x="240" y="185"/>
                  </a:cubicBezTo>
                  <a:cubicBezTo>
                    <a:pt x="211" y="210"/>
                    <a:pt x="155" y="204"/>
                    <a:pt x="152" y="237"/>
                  </a:cubicBezTo>
                  <a:cubicBezTo>
                    <a:pt x="149" y="270"/>
                    <a:pt x="205" y="336"/>
                    <a:pt x="224" y="381"/>
                  </a:cubicBezTo>
                  <a:cubicBezTo>
                    <a:pt x="243" y="426"/>
                    <a:pt x="251" y="482"/>
                    <a:pt x="268" y="509"/>
                  </a:cubicBezTo>
                  <a:cubicBezTo>
                    <a:pt x="285" y="536"/>
                    <a:pt x="321" y="527"/>
                    <a:pt x="328" y="541"/>
                  </a:cubicBezTo>
                  <a:cubicBezTo>
                    <a:pt x="335" y="555"/>
                    <a:pt x="321" y="580"/>
                    <a:pt x="308" y="593"/>
                  </a:cubicBezTo>
                  <a:cubicBezTo>
                    <a:pt x="295" y="606"/>
                    <a:pt x="265" y="620"/>
                    <a:pt x="248" y="617"/>
                  </a:cubicBezTo>
                  <a:cubicBezTo>
                    <a:pt x="231" y="614"/>
                    <a:pt x="211" y="590"/>
                    <a:pt x="208" y="573"/>
                  </a:cubicBezTo>
                  <a:cubicBezTo>
                    <a:pt x="205" y="556"/>
                    <a:pt x="235" y="546"/>
                    <a:pt x="232" y="517"/>
                  </a:cubicBezTo>
                  <a:cubicBezTo>
                    <a:pt x="229" y="488"/>
                    <a:pt x="203" y="431"/>
                    <a:pt x="188" y="397"/>
                  </a:cubicBezTo>
                  <a:cubicBezTo>
                    <a:pt x="173" y="363"/>
                    <a:pt x="158" y="344"/>
                    <a:pt x="140" y="313"/>
                  </a:cubicBezTo>
                  <a:cubicBezTo>
                    <a:pt x="122" y="282"/>
                    <a:pt x="103" y="236"/>
                    <a:pt x="80" y="213"/>
                  </a:cubicBezTo>
                  <a:cubicBezTo>
                    <a:pt x="57" y="190"/>
                    <a:pt x="17" y="184"/>
                    <a:pt x="0" y="177"/>
                  </a:cubicBez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H="1">
              <a:off x="748440" y="4093920"/>
              <a:ext cx="622440" cy="984240"/>
            </a:xfrm>
            <a:custGeom>
              <a:avLst/>
              <a:gdLst/>
              <a:ahLst/>
              <a:rect l="l" t="t" r="r" b="b"/>
              <a:pathLst>
                <a:path w="392" h="620">
                  <a:moveTo>
                    <a:pt x="0" y="89"/>
                  </a:moveTo>
                  <a:cubicBezTo>
                    <a:pt x="25" y="104"/>
                    <a:pt x="107" y="168"/>
                    <a:pt x="144" y="177"/>
                  </a:cubicBezTo>
                  <a:cubicBezTo>
                    <a:pt x="181" y="186"/>
                    <a:pt x="199" y="164"/>
                    <a:pt x="224" y="145"/>
                  </a:cubicBezTo>
                  <a:cubicBezTo>
                    <a:pt x="249" y="126"/>
                    <a:pt x="281" y="88"/>
                    <a:pt x="296" y="65"/>
                  </a:cubicBezTo>
                  <a:cubicBezTo>
                    <a:pt x="311" y="42"/>
                    <a:pt x="303" y="18"/>
                    <a:pt x="316" y="9"/>
                  </a:cubicBezTo>
                  <a:cubicBezTo>
                    <a:pt x="329" y="0"/>
                    <a:pt x="365" y="2"/>
                    <a:pt x="376" y="13"/>
                  </a:cubicBezTo>
                  <a:cubicBezTo>
                    <a:pt x="387" y="24"/>
                    <a:pt x="392" y="61"/>
                    <a:pt x="384" y="73"/>
                  </a:cubicBezTo>
                  <a:cubicBezTo>
                    <a:pt x="376" y="85"/>
                    <a:pt x="352" y="70"/>
                    <a:pt x="328" y="89"/>
                  </a:cubicBezTo>
                  <a:cubicBezTo>
                    <a:pt x="304" y="108"/>
                    <a:pt x="269" y="160"/>
                    <a:pt x="240" y="185"/>
                  </a:cubicBezTo>
                  <a:cubicBezTo>
                    <a:pt x="211" y="210"/>
                    <a:pt x="155" y="204"/>
                    <a:pt x="152" y="237"/>
                  </a:cubicBezTo>
                  <a:cubicBezTo>
                    <a:pt x="149" y="270"/>
                    <a:pt x="205" y="336"/>
                    <a:pt x="224" y="381"/>
                  </a:cubicBezTo>
                  <a:cubicBezTo>
                    <a:pt x="243" y="426"/>
                    <a:pt x="251" y="482"/>
                    <a:pt x="268" y="509"/>
                  </a:cubicBezTo>
                  <a:cubicBezTo>
                    <a:pt x="285" y="536"/>
                    <a:pt x="321" y="527"/>
                    <a:pt x="328" y="541"/>
                  </a:cubicBezTo>
                  <a:cubicBezTo>
                    <a:pt x="335" y="555"/>
                    <a:pt x="321" y="580"/>
                    <a:pt x="308" y="593"/>
                  </a:cubicBezTo>
                  <a:cubicBezTo>
                    <a:pt x="295" y="606"/>
                    <a:pt x="265" y="620"/>
                    <a:pt x="248" y="617"/>
                  </a:cubicBezTo>
                  <a:cubicBezTo>
                    <a:pt x="231" y="614"/>
                    <a:pt x="211" y="590"/>
                    <a:pt x="208" y="573"/>
                  </a:cubicBezTo>
                  <a:cubicBezTo>
                    <a:pt x="205" y="556"/>
                    <a:pt x="235" y="546"/>
                    <a:pt x="232" y="517"/>
                  </a:cubicBezTo>
                  <a:cubicBezTo>
                    <a:pt x="229" y="488"/>
                    <a:pt x="203" y="431"/>
                    <a:pt x="188" y="397"/>
                  </a:cubicBezTo>
                  <a:cubicBezTo>
                    <a:pt x="173" y="363"/>
                    <a:pt x="158" y="344"/>
                    <a:pt x="140" y="313"/>
                  </a:cubicBezTo>
                  <a:cubicBezTo>
                    <a:pt x="122" y="282"/>
                    <a:pt x="103" y="236"/>
                    <a:pt x="80" y="213"/>
                  </a:cubicBezTo>
                  <a:cubicBezTo>
                    <a:pt x="57" y="190"/>
                    <a:pt x="17" y="184"/>
                    <a:pt x="0" y="177"/>
                  </a:cubicBez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0" name=""/>
          <p:cNvGrpSpPr/>
          <p:nvPr/>
        </p:nvGrpSpPr>
        <p:grpSpPr>
          <a:xfrm>
            <a:off x="1104480" y="1020600"/>
            <a:ext cx="1260360" cy="1168200"/>
            <a:chOff x="1104480" y="1020600"/>
            <a:chExt cx="1260360" cy="1168200"/>
          </a:xfrm>
        </p:grpSpPr>
        <p:sp>
          <p:nvSpPr>
            <p:cNvPr id="2621" name=""/>
            <p:cNvSpPr/>
            <p:nvPr/>
          </p:nvSpPr>
          <p:spPr>
            <a:xfrm flipH="1">
              <a:off x="1431000" y="1020600"/>
              <a:ext cx="817560" cy="674640"/>
            </a:xfrm>
            <a:custGeom>
              <a:avLst/>
              <a:gdLst/>
              <a:ahLst/>
              <a:rect l="l" t="t" r="r" b="b"/>
              <a:pathLst>
                <a:path w="645" h="532">
                  <a:moveTo>
                    <a:pt x="495" y="41"/>
                  </a:moveTo>
                  <a:cubicBezTo>
                    <a:pt x="491" y="34"/>
                    <a:pt x="488" y="27"/>
                    <a:pt x="467" y="21"/>
                  </a:cubicBezTo>
                  <a:cubicBezTo>
                    <a:pt x="446" y="15"/>
                    <a:pt x="422" y="0"/>
                    <a:pt x="371" y="5"/>
                  </a:cubicBezTo>
                  <a:cubicBezTo>
                    <a:pt x="320" y="10"/>
                    <a:pt x="212" y="29"/>
                    <a:pt x="159" y="53"/>
                  </a:cubicBezTo>
                  <a:cubicBezTo>
                    <a:pt x="106" y="77"/>
                    <a:pt x="81" y="112"/>
                    <a:pt x="55" y="149"/>
                  </a:cubicBezTo>
                  <a:cubicBezTo>
                    <a:pt x="29" y="186"/>
                    <a:pt x="6" y="226"/>
                    <a:pt x="3" y="277"/>
                  </a:cubicBezTo>
                  <a:cubicBezTo>
                    <a:pt x="0" y="328"/>
                    <a:pt x="18" y="415"/>
                    <a:pt x="39" y="453"/>
                  </a:cubicBezTo>
                  <a:cubicBezTo>
                    <a:pt x="60" y="491"/>
                    <a:pt x="92" y="500"/>
                    <a:pt x="127" y="505"/>
                  </a:cubicBezTo>
                  <a:cubicBezTo>
                    <a:pt x="162" y="510"/>
                    <a:pt x="213" y="480"/>
                    <a:pt x="247" y="481"/>
                  </a:cubicBezTo>
                  <a:cubicBezTo>
                    <a:pt x="281" y="482"/>
                    <a:pt x="265" y="532"/>
                    <a:pt x="331" y="513"/>
                  </a:cubicBezTo>
                  <a:cubicBezTo>
                    <a:pt x="397" y="494"/>
                    <a:pt x="580" y="396"/>
                    <a:pt x="645" y="365"/>
                  </a:cubicBezTo>
                </a:path>
              </a:pathLst>
            </a:custGeom>
            <a:gradFill rotWithShape="0">
              <a:gsLst>
                <a:gs pos="0">
                  <a:srgbClr val="aeaeae"/>
                </a:gs>
                <a:gs pos="50000">
                  <a:srgbClr val="dddddd"/>
                </a:gs>
                <a:gs pos="100000">
                  <a:srgbClr val="aeaeae"/>
                </a:gs>
              </a:gsLst>
              <a:lin ang="54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H="1">
              <a:off x="1485000" y="1650600"/>
              <a:ext cx="327240" cy="538200"/>
            </a:xfrm>
            <a:custGeom>
              <a:avLst/>
              <a:gdLst/>
              <a:ahLst/>
              <a:rect l="l" t="t" r="r" b="b"/>
              <a:pathLst>
                <a:path w="730" h="1280">
                  <a:moveTo>
                    <a:pt x="52" y="92"/>
                  </a:moveTo>
                  <a:cubicBezTo>
                    <a:pt x="45" y="85"/>
                    <a:pt x="46" y="61"/>
                    <a:pt x="52" y="47"/>
                  </a:cubicBezTo>
                  <a:cubicBezTo>
                    <a:pt x="58" y="33"/>
                    <a:pt x="76" y="17"/>
                    <a:pt x="91" y="9"/>
                  </a:cubicBezTo>
                  <a:cubicBezTo>
                    <a:pt x="106" y="1"/>
                    <a:pt x="111" y="0"/>
                    <a:pt x="143" y="1"/>
                  </a:cubicBezTo>
                  <a:cubicBezTo>
                    <a:pt x="175" y="2"/>
                    <a:pt x="245" y="5"/>
                    <a:pt x="283" y="13"/>
                  </a:cubicBezTo>
                  <a:cubicBezTo>
                    <a:pt x="321" y="21"/>
                    <a:pt x="333" y="19"/>
                    <a:pt x="370" y="47"/>
                  </a:cubicBezTo>
                  <a:cubicBezTo>
                    <a:pt x="407" y="75"/>
                    <a:pt x="476" y="145"/>
                    <a:pt x="506" y="183"/>
                  </a:cubicBezTo>
                  <a:cubicBezTo>
                    <a:pt x="536" y="221"/>
                    <a:pt x="543" y="235"/>
                    <a:pt x="551" y="273"/>
                  </a:cubicBezTo>
                  <a:cubicBezTo>
                    <a:pt x="559" y="311"/>
                    <a:pt x="551" y="371"/>
                    <a:pt x="551" y="409"/>
                  </a:cubicBezTo>
                  <a:cubicBezTo>
                    <a:pt x="551" y="447"/>
                    <a:pt x="551" y="477"/>
                    <a:pt x="551" y="500"/>
                  </a:cubicBezTo>
                  <a:cubicBezTo>
                    <a:pt x="551" y="523"/>
                    <a:pt x="551" y="531"/>
                    <a:pt x="551" y="546"/>
                  </a:cubicBezTo>
                  <a:cubicBezTo>
                    <a:pt x="551" y="561"/>
                    <a:pt x="543" y="553"/>
                    <a:pt x="551" y="591"/>
                  </a:cubicBezTo>
                  <a:cubicBezTo>
                    <a:pt x="559" y="629"/>
                    <a:pt x="585" y="725"/>
                    <a:pt x="596" y="772"/>
                  </a:cubicBezTo>
                  <a:cubicBezTo>
                    <a:pt x="607" y="819"/>
                    <a:pt x="607" y="843"/>
                    <a:pt x="615" y="873"/>
                  </a:cubicBezTo>
                  <a:cubicBezTo>
                    <a:pt x="623" y="903"/>
                    <a:pt x="630" y="925"/>
                    <a:pt x="642" y="954"/>
                  </a:cubicBezTo>
                  <a:cubicBezTo>
                    <a:pt x="654" y="983"/>
                    <a:pt x="674" y="1000"/>
                    <a:pt x="687" y="1045"/>
                  </a:cubicBezTo>
                  <a:cubicBezTo>
                    <a:pt x="700" y="1090"/>
                    <a:pt x="713" y="1188"/>
                    <a:pt x="719" y="1225"/>
                  </a:cubicBezTo>
                  <a:cubicBezTo>
                    <a:pt x="725" y="1262"/>
                    <a:pt x="728" y="1261"/>
                    <a:pt x="723" y="1269"/>
                  </a:cubicBezTo>
                  <a:cubicBezTo>
                    <a:pt x="718" y="1277"/>
                    <a:pt x="730" y="1271"/>
                    <a:pt x="687" y="1271"/>
                  </a:cubicBezTo>
                  <a:cubicBezTo>
                    <a:pt x="644" y="1271"/>
                    <a:pt x="510" y="1269"/>
                    <a:pt x="467" y="1269"/>
                  </a:cubicBezTo>
                  <a:cubicBezTo>
                    <a:pt x="424" y="1269"/>
                    <a:pt x="440" y="1280"/>
                    <a:pt x="431" y="1269"/>
                  </a:cubicBezTo>
                  <a:cubicBezTo>
                    <a:pt x="422" y="1258"/>
                    <a:pt x="429" y="1250"/>
                    <a:pt x="411" y="1205"/>
                  </a:cubicBezTo>
                  <a:cubicBezTo>
                    <a:pt x="393" y="1160"/>
                    <a:pt x="346" y="1045"/>
                    <a:pt x="324" y="999"/>
                  </a:cubicBezTo>
                  <a:cubicBezTo>
                    <a:pt x="302" y="953"/>
                    <a:pt x="287" y="949"/>
                    <a:pt x="279" y="929"/>
                  </a:cubicBezTo>
                  <a:cubicBezTo>
                    <a:pt x="271" y="909"/>
                    <a:pt x="283" y="884"/>
                    <a:pt x="275" y="881"/>
                  </a:cubicBezTo>
                  <a:cubicBezTo>
                    <a:pt x="267" y="878"/>
                    <a:pt x="254" y="913"/>
                    <a:pt x="233" y="908"/>
                  </a:cubicBezTo>
                  <a:cubicBezTo>
                    <a:pt x="212" y="903"/>
                    <a:pt x="173" y="875"/>
                    <a:pt x="147" y="853"/>
                  </a:cubicBezTo>
                  <a:cubicBezTo>
                    <a:pt x="121" y="831"/>
                    <a:pt x="91" y="794"/>
                    <a:pt x="75" y="773"/>
                  </a:cubicBezTo>
                  <a:cubicBezTo>
                    <a:pt x="59" y="752"/>
                    <a:pt x="62" y="750"/>
                    <a:pt x="52" y="727"/>
                  </a:cubicBezTo>
                  <a:cubicBezTo>
                    <a:pt x="42" y="704"/>
                    <a:pt x="22" y="675"/>
                    <a:pt x="15" y="637"/>
                  </a:cubicBezTo>
                  <a:cubicBezTo>
                    <a:pt x="8" y="599"/>
                    <a:pt x="0" y="536"/>
                    <a:pt x="7" y="500"/>
                  </a:cubicBezTo>
                  <a:cubicBezTo>
                    <a:pt x="14" y="464"/>
                    <a:pt x="44" y="441"/>
                    <a:pt x="59" y="421"/>
                  </a:cubicBezTo>
                  <a:cubicBezTo>
                    <a:pt x="74" y="401"/>
                    <a:pt x="82" y="393"/>
                    <a:pt x="95" y="381"/>
                  </a:cubicBezTo>
                  <a:cubicBezTo>
                    <a:pt x="108" y="369"/>
                    <a:pt x="120" y="358"/>
                    <a:pt x="135" y="349"/>
                  </a:cubicBezTo>
                  <a:cubicBezTo>
                    <a:pt x="150" y="340"/>
                    <a:pt x="171" y="334"/>
                    <a:pt x="187" y="329"/>
                  </a:cubicBezTo>
                  <a:cubicBezTo>
                    <a:pt x="203" y="324"/>
                    <a:pt x="225" y="328"/>
                    <a:pt x="233" y="319"/>
                  </a:cubicBezTo>
                  <a:cubicBezTo>
                    <a:pt x="241" y="310"/>
                    <a:pt x="235" y="288"/>
                    <a:pt x="233" y="273"/>
                  </a:cubicBezTo>
                  <a:cubicBezTo>
                    <a:pt x="231" y="258"/>
                    <a:pt x="230" y="244"/>
                    <a:pt x="223" y="229"/>
                  </a:cubicBezTo>
                  <a:cubicBezTo>
                    <a:pt x="216" y="214"/>
                    <a:pt x="199" y="198"/>
                    <a:pt x="188" y="183"/>
                  </a:cubicBezTo>
                  <a:cubicBezTo>
                    <a:pt x="177" y="168"/>
                    <a:pt x="169" y="147"/>
                    <a:pt x="159" y="137"/>
                  </a:cubicBezTo>
                  <a:cubicBezTo>
                    <a:pt x="149" y="127"/>
                    <a:pt x="141" y="128"/>
                    <a:pt x="131" y="121"/>
                  </a:cubicBezTo>
                  <a:cubicBezTo>
                    <a:pt x="121" y="114"/>
                    <a:pt x="110" y="97"/>
                    <a:pt x="97" y="92"/>
                  </a:cubicBezTo>
                  <a:cubicBezTo>
                    <a:pt x="84" y="87"/>
                    <a:pt x="59" y="99"/>
                    <a:pt x="52" y="92"/>
                  </a:cubicBezTo>
                  <a:close/>
                </a:path>
              </a:pathLst>
            </a:custGeom>
            <a:solidFill>
              <a:srgbClr val="ff99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H="1">
              <a:off x="1158480" y="1665000"/>
              <a:ext cx="474480" cy="304920"/>
            </a:xfrm>
            <a:custGeom>
              <a:avLst/>
              <a:gdLst/>
              <a:ahLst/>
              <a:rect l="l" t="t" r="r" b="b"/>
              <a:pathLst>
                <a:path w="374" h="241">
                  <a:moveTo>
                    <a:pt x="12" y="28"/>
                  </a:moveTo>
                  <a:cubicBezTo>
                    <a:pt x="24" y="17"/>
                    <a:pt x="66" y="17"/>
                    <a:pt x="93" y="13"/>
                  </a:cubicBezTo>
                  <a:cubicBezTo>
                    <a:pt x="120" y="9"/>
                    <a:pt x="148" y="0"/>
                    <a:pt x="177" y="1"/>
                  </a:cubicBezTo>
                  <a:cubicBezTo>
                    <a:pt x="206" y="2"/>
                    <a:pt x="240" y="12"/>
                    <a:pt x="265" y="17"/>
                  </a:cubicBezTo>
                  <a:cubicBezTo>
                    <a:pt x="290" y="22"/>
                    <a:pt x="310" y="27"/>
                    <a:pt x="325" y="29"/>
                  </a:cubicBezTo>
                  <a:cubicBezTo>
                    <a:pt x="340" y="31"/>
                    <a:pt x="346" y="21"/>
                    <a:pt x="354" y="31"/>
                  </a:cubicBezTo>
                  <a:cubicBezTo>
                    <a:pt x="362" y="41"/>
                    <a:pt x="372" y="67"/>
                    <a:pt x="373" y="89"/>
                  </a:cubicBezTo>
                  <a:cubicBezTo>
                    <a:pt x="374" y="111"/>
                    <a:pt x="365" y="148"/>
                    <a:pt x="361" y="165"/>
                  </a:cubicBezTo>
                  <a:cubicBezTo>
                    <a:pt x="357" y="182"/>
                    <a:pt x="362" y="179"/>
                    <a:pt x="349" y="189"/>
                  </a:cubicBezTo>
                  <a:cubicBezTo>
                    <a:pt x="336" y="199"/>
                    <a:pt x="307" y="217"/>
                    <a:pt x="281" y="225"/>
                  </a:cubicBezTo>
                  <a:cubicBezTo>
                    <a:pt x="255" y="233"/>
                    <a:pt x="212" y="236"/>
                    <a:pt x="193" y="237"/>
                  </a:cubicBezTo>
                  <a:cubicBezTo>
                    <a:pt x="174" y="238"/>
                    <a:pt x="184" y="241"/>
                    <a:pt x="165" y="233"/>
                  </a:cubicBezTo>
                  <a:cubicBezTo>
                    <a:pt x="146" y="225"/>
                    <a:pt x="100" y="198"/>
                    <a:pt x="77" y="189"/>
                  </a:cubicBezTo>
                  <a:cubicBezTo>
                    <a:pt x="54" y="180"/>
                    <a:pt x="40" y="185"/>
                    <a:pt x="29" y="177"/>
                  </a:cubicBezTo>
                  <a:cubicBezTo>
                    <a:pt x="18" y="169"/>
                    <a:pt x="16" y="153"/>
                    <a:pt x="13" y="141"/>
                  </a:cubicBezTo>
                  <a:cubicBezTo>
                    <a:pt x="10" y="129"/>
                    <a:pt x="12" y="116"/>
                    <a:pt x="13" y="105"/>
                  </a:cubicBezTo>
                  <a:cubicBezTo>
                    <a:pt x="14" y="94"/>
                    <a:pt x="21" y="90"/>
                    <a:pt x="21" y="77"/>
                  </a:cubicBezTo>
                  <a:cubicBezTo>
                    <a:pt x="21" y="64"/>
                    <a:pt x="0" y="39"/>
                    <a:pt x="12" y="28"/>
                  </a:cubicBez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H="1">
              <a:off x="1104120" y="1047600"/>
              <a:ext cx="709560" cy="672840"/>
            </a:xfrm>
            <a:custGeom>
              <a:avLst/>
              <a:gdLst/>
              <a:ahLst/>
              <a:rect l="l" t="t" r="r" b="b"/>
              <a:pathLst>
                <a:path w="560" h="531">
                  <a:moveTo>
                    <a:pt x="256" y="232"/>
                  </a:moveTo>
                  <a:cubicBezTo>
                    <a:pt x="180" y="242"/>
                    <a:pt x="105" y="252"/>
                    <a:pt x="64" y="284"/>
                  </a:cubicBezTo>
                  <a:cubicBezTo>
                    <a:pt x="23" y="316"/>
                    <a:pt x="0" y="385"/>
                    <a:pt x="8" y="424"/>
                  </a:cubicBezTo>
                  <a:cubicBezTo>
                    <a:pt x="16" y="463"/>
                    <a:pt x="61" y="509"/>
                    <a:pt x="112" y="520"/>
                  </a:cubicBezTo>
                  <a:cubicBezTo>
                    <a:pt x="163" y="531"/>
                    <a:pt x="249" y="493"/>
                    <a:pt x="312" y="492"/>
                  </a:cubicBezTo>
                  <a:cubicBezTo>
                    <a:pt x="375" y="491"/>
                    <a:pt x="453" y="518"/>
                    <a:pt x="492" y="516"/>
                  </a:cubicBezTo>
                  <a:cubicBezTo>
                    <a:pt x="531" y="514"/>
                    <a:pt x="533" y="495"/>
                    <a:pt x="544" y="480"/>
                  </a:cubicBezTo>
                  <a:cubicBezTo>
                    <a:pt x="555" y="465"/>
                    <a:pt x="557" y="459"/>
                    <a:pt x="556" y="428"/>
                  </a:cubicBezTo>
                  <a:cubicBezTo>
                    <a:pt x="555" y="397"/>
                    <a:pt x="560" y="349"/>
                    <a:pt x="540" y="292"/>
                  </a:cubicBezTo>
                  <a:cubicBezTo>
                    <a:pt x="520" y="235"/>
                    <a:pt x="483" y="135"/>
                    <a:pt x="436" y="88"/>
                  </a:cubicBezTo>
                  <a:cubicBezTo>
                    <a:pt x="389" y="41"/>
                    <a:pt x="306" y="23"/>
                    <a:pt x="260" y="12"/>
                  </a:cubicBezTo>
                  <a:cubicBezTo>
                    <a:pt x="214" y="1"/>
                    <a:pt x="193" y="0"/>
                    <a:pt x="160" y="20"/>
                  </a:cubicBezTo>
                  <a:cubicBezTo>
                    <a:pt x="127" y="40"/>
                    <a:pt x="83" y="101"/>
                    <a:pt x="60" y="132"/>
                  </a:cubicBezTo>
                  <a:cubicBezTo>
                    <a:pt x="37" y="163"/>
                    <a:pt x="31" y="192"/>
                    <a:pt x="24" y="208"/>
                  </a:cubicBezTo>
                </a:path>
              </a:pathLst>
            </a:custGeom>
            <a:gradFill rotWithShape="0">
              <a:gsLst>
                <a:gs pos="0">
                  <a:srgbClr val="aeaeae"/>
                </a:gs>
                <a:gs pos="50000">
                  <a:srgbClr val="dddddd"/>
                </a:gs>
                <a:gs pos="100000">
                  <a:srgbClr val="aeaeae"/>
                </a:gs>
              </a:gsLst>
              <a:lin ang="54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 flipH="1">
              <a:off x="1945800" y="1968120"/>
              <a:ext cx="41904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5947560" y="11448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boucle de ré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-44640" y="127080"/>
            <a:ext cx="436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6T12:04:16Z</dcterms:created>
  <dc:creator>Physiologie III</dc:creator>
  <dc:description/>
  <dc:language>en-US</dc:language>
  <cp:lastModifiedBy>roux</cp:lastModifiedBy>
  <dcterms:modified xsi:type="dcterms:W3CDTF">2007-10-22T08:38:42Z</dcterms:modified>
  <cp:revision>2031</cp:revision>
  <dc:subject/>
  <dc:title>Physiopathologie de la signalisation calcique dans le muscle lisse des voies aériennes : effet des polluants atmosphériques et des anesthésiques généraux</dc:title>
</cp:coreProperties>
</file>