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55480" y="1405080"/>
            <a:ext cx="814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e contrôle de la contraction musculaire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e réflexe myota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21000" y="596880"/>
            <a:ext cx="71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itstream Vera Sans"/>
              </a:rPr>
              <a:t>UE physiologie animale</a:t>
            </a:r>
            <a:r>
              <a:rPr b="0" lang="fr-FR" sz="2400" spc="-1" strike="noStrike">
                <a:solidFill>
                  <a:srgbClr val="8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0120" cy="15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4280" y="3708360"/>
            <a:ext cx="78184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daptation cardiovasculaire à l’ischémie INSERM U 1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Bordeaux Seg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plateforme pédagogiqu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65360" y="431640"/>
            <a:ext cx="338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1440" y="206280"/>
            <a:ext cx="842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organisation du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2149560"/>
            <a:ext cx="850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musculaires squelettiques : cellules contrac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nervation mo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7680" y="1128600"/>
            <a:ext cx="81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uscles squelettiques : 2 types de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8120" y="1712880"/>
            <a:ext cx="22352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200" y="3102120"/>
            <a:ext cx="2887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880" y="3546360"/>
            <a:ext cx="750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neuromusculaires : cellules contractiles et sen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nervation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nervation mo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en fuseaux au sein du tissu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ibres neuromusculaires = fibres intrafu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ibres musculair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= fibres extrafu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23800" y="3556080"/>
            <a:ext cx="5762880" cy="57132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08160" y="3365640"/>
            <a:ext cx="2641680" cy="965160"/>
          </a:xfrm>
          <a:prstGeom prst="ellipse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63760" y="431640"/>
            <a:ext cx="2684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640" y="206280"/>
            <a:ext cx="8904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fibres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7680" y="1128600"/>
            <a:ext cx="81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intrafusales : organis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55800" y="356076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51160" y="376380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01796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10160" y="355608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9444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6736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0392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7684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8308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73720" y="356076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355608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192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0484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41400" y="3554280"/>
            <a:ext cx="33048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1468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056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11560" y="35481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72080" y="3598920"/>
            <a:ext cx="34272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11560" y="313704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83080" y="314964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8360" y="3098880"/>
            <a:ext cx="17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559040" y="3098880"/>
            <a:ext cx="17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387160" y="3097080"/>
            <a:ext cx="2032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0080" y="2760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ô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7040" y="2760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ô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29000" y="27608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région équa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3800" y="1590840"/>
            <a:ext cx="85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plurinuclé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ôles contrac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artie équatoriale non contractile + noy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6240" y="392904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471840"/>
            <a:ext cx="34272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34160" y="3622680"/>
            <a:ext cx="170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ellules à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uclé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23800" y="3556080"/>
            <a:ext cx="5762880" cy="57132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08160" y="3365640"/>
            <a:ext cx="2641680" cy="965160"/>
          </a:xfrm>
          <a:prstGeom prst="ellipse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800" y="4775040"/>
            <a:ext cx="5762880" cy="57168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63760" y="431640"/>
            <a:ext cx="2684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640" y="206280"/>
            <a:ext cx="8904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fibres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7680" y="1128600"/>
            <a:ext cx="81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intrafusales : organis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55800" y="356076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51160" y="376380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92360" y="401796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10160" y="355608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6736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0392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7684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8308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73720" y="356076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640" y="355608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31920" y="355428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0484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41400" y="3554280"/>
            <a:ext cx="33048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14680" y="3556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0560" y="35434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11560" y="35481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72080" y="3598920"/>
            <a:ext cx="34272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11560" y="313704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3080" y="314964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8360" y="3098880"/>
            <a:ext cx="17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559040" y="3098880"/>
            <a:ext cx="17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387160" y="3097080"/>
            <a:ext cx="2032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80080" y="2760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ô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17040" y="2760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ô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9000" y="27608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région équa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3800" y="1590840"/>
            <a:ext cx="85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plurinuclé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ôles contrac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artie équatoriale non contractile + noy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5680" y="4957920"/>
            <a:ext cx="34308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95760" y="4957920"/>
            <a:ext cx="34272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10160" y="478800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94440" y="478620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6736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03920" y="478620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7684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8308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73720" y="4780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640" y="4788000"/>
            <a:ext cx="330120" cy="55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31920" y="4786200"/>
            <a:ext cx="33012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0484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41400" y="4786200"/>
            <a:ext cx="330480" cy="5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1468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0560" y="477504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11560" y="4780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4957920"/>
            <a:ext cx="34308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46240" y="3929040"/>
            <a:ext cx="34308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70280" y="4957920"/>
            <a:ext cx="34272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89320" y="4957920"/>
            <a:ext cx="342720" cy="215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471840"/>
            <a:ext cx="342720" cy="216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34160" y="3622680"/>
            <a:ext cx="170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ellules à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uclé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8600" y="4842000"/>
            <a:ext cx="207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ellules à chaî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uclé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63760" y="431640"/>
            <a:ext cx="4335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160" y="206280"/>
            <a:ext cx="8451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3360" y="1311120"/>
            <a:ext cx="8508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5 à 10 fibres intrafu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1 à 3 fibres à chaîne + 3 à 7 fibres à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enveloppe de tissu conjon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L = 4 à 10 mm </a:t>
            </a: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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= 200 µ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5 à 80 fuseaux / gramme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useaux parallèles aux fibres extrafu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3360" y="849240"/>
            <a:ext cx="81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useau neuro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90840" y="2590920"/>
            <a:ext cx="4724640" cy="2044440"/>
            <a:chOff x="3390840" y="2590920"/>
            <a:chExt cx="4724640" cy="2044440"/>
          </a:xfrm>
        </p:grpSpPr>
        <p:sp>
          <p:nvSpPr>
            <p:cNvPr id="252" name=""/>
            <p:cNvSpPr/>
            <p:nvPr/>
          </p:nvSpPr>
          <p:spPr>
            <a:xfrm>
              <a:off x="3390840" y="2590920"/>
              <a:ext cx="4724640" cy="204444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178520" y="3439800"/>
              <a:ext cx="3228840" cy="326880"/>
              <a:chOff x="4178520" y="3439800"/>
              <a:chExt cx="3228840" cy="326880"/>
            </a:xfrm>
          </p:grpSpPr>
          <p:sp>
            <p:nvSpPr>
              <p:cNvPr id="254" name=""/>
              <p:cNvSpPr/>
              <p:nvPr/>
            </p:nvSpPr>
            <p:spPr>
              <a:xfrm>
                <a:off x="4180320" y="3440520"/>
                <a:ext cx="3227040" cy="32616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4520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5656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68480" y="3447720"/>
                <a:ext cx="184680" cy="311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795720" y="3446640"/>
                <a:ext cx="184680" cy="312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2444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137000" y="3446640"/>
                <a:ext cx="184680" cy="312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6572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9720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00160" y="344340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49440" y="3447720"/>
                <a:ext cx="184680" cy="311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6680" y="3439800"/>
                <a:ext cx="184680" cy="311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0540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17960" y="3439800"/>
                <a:ext cx="185040" cy="311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84704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78520" y="344052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81120" y="3443400"/>
                <a:ext cx="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9092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9432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728680" y="3542400"/>
                <a:ext cx="191880" cy="120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178520" y="2806560"/>
              <a:ext cx="3228840" cy="541080"/>
              <a:chOff x="4178520" y="2806560"/>
              <a:chExt cx="3228840" cy="541080"/>
            </a:xfrm>
          </p:grpSpPr>
          <p:sp>
            <p:nvSpPr>
              <p:cNvPr id="275" name=""/>
              <p:cNvSpPr/>
              <p:nvPr/>
            </p:nvSpPr>
            <p:spPr>
              <a:xfrm>
                <a:off x="4180320" y="2913120"/>
                <a:ext cx="3227040" cy="32004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67360" y="2806560"/>
                <a:ext cx="1479240" cy="54108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30240" y="291564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707440" y="302976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42440" y="317232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68480" y="29131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95720" y="291204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24440" y="291312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137000" y="291204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65720" y="291312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97200" y="29062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00160" y="2915640"/>
                <a:ext cx="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49440" y="29131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6680" y="291204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05400" y="29062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17960" y="2912040"/>
                <a:ext cx="18504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47040" y="291312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178520" y="29062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81120" y="29088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99040" y="293724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36800" y="312228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721840" y="286596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191120" y="3846240"/>
              <a:ext cx="3228840" cy="541080"/>
              <a:chOff x="4191120" y="3846240"/>
              <a:chExt cx="3228840" cy="541080"/>
            </a:xfrm>
          </p:grpSpPr>
          <p:sp>
            <p:nvSpPr>
              <p:cNvPr id="298" name=""/>
              <p:cNvSpPr/>
              <p:nvPr/>
            </p:nvSpPr>
            <p:spPr>
              <a:xfrm>
                <a:off x="4192920" y="3952800"/>
                <a:ext cx="3227040" cy="32004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79960" y="3846240"/>
                <a:ext cx="1479240" cy="54108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42840" y="395532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20040" y="406944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55040" y="421200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81080" y="395280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808320" y="39517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37040" y="39528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149600" y="39517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78320" y="39528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09800" y="394596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412760" y="3955320"/>
                <a:ext cx="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62040" y="395280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89280" y="3951720"/>
                <a:ext cx="18468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18000" y="394596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930560" y="3951720"/>
                <a:ext cx="185040" cy="31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59640" y="39528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91120" y="394596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93720" y="39484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1640" y="397692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49400" y="416196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34440" y="3905640"/>
                <a:ext cx="191880" cy="120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3760" y="431640"/>
            <a:ext cx="4335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3600" y="206280"/>
            <a:ext cx="8705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innervation sensitive : région équa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3360" y="1311120"/>
            <a:ext cx="850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Ia : innervation pri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yélini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gros diamètre (</a:t>
            </a: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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= 17 µm)     vitesse de conduction élevée (100 m.sec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-1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terminaison en spir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utour des fibres à chaînes et des fibres à s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3600" y="4838760"/>
            <a:ext cx="5766120" cy="460440"/>
            <a:chOff x="993600" y="4838760"/>
            <a:chExt cx="5766120" cy="460440"/>
          </a:xfrm>
        </p:grpSpPr>
        <p:sp>
          <p:nvSpPr>
            <p:cNvPr id="326" name=""/>
            <p:cNvSpPr/>
            <p:nvPr/>
          </p:nvSpPr>
          <p:spPr>
            <a:xfrm>
              <a:off x="996840" y="483876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872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6880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8320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6748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04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76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49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61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4676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2068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04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77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14440" y="4847400"/>
              <a:ext cx="33048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877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936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8460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8784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332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6236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993600" y="5586480"/>
            <a:ext cx="5766120" cy="771480"/>
            <a:chOff x="993600" y="5586480"/>
            <a:chExt cx="5766120" cy="771480"/>
          </a:xfrm>
        </p:grpSpPr>
        <p:sp>
          <p:nvSpPr>
            <p:cNvPr id="347" name=""/>
            <p:cNvSpPr/>
            <p:nvPr/>
          </p:nvSpPr>
          <p:spPr>
            <a:xfrm>
              <a:off x="996840" y="57384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81200" y="55864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28840" y="57423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24200" y="59047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65400" y="61077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8320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6748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4040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76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4988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5612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46760" y="57423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2068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04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7788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14440" y="57369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8772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9360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4600" y="57322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45120" y="57729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19280" y="60368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9760" y="56710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3600" y="3797280"/>
            <a:ext cx="5766120" cy="771480"/>
            <a:chOff x="993600" y="3797280"/>
            <a:chExt cx="5766120" cy="771480"/>
          </a:xfrm>
        </p:grpSpPr>
        <p:sp>
          <p:nvSpPr>
            <p:cNvPr id="370" name=""/>
            <p:cNvSpPr/>
            <p:nvPr/>
          </p:nvSpPr>
          <p:spPr>
            <a:xfrm>
              <a:off x="996840" y="39492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81200" y="37972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28840" y="39531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24200" y="41155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65400" y="43185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8320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748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4040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76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4988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5612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46760" y="39531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2068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04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7788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14440" y="39477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8772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9360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84600" y="39430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45120" y="39837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19280" y="42476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49760" y="38818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32748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7020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8120" y="3822840"/>
            <a:ext cx="406440" cy="77472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5562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98800" y="554976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92640" y="5600880"/>
            <a:ext cx="406440" cy="72360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320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034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748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70280" y="3835440"/>
            <a:ext cx="279360" cy="7570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70280" y="4737240"/>
            <a:ext cx="279360" cy="64296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11480" y="5626080"/>
            <a:ext cx="507960" cy="82080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62040" y="3454560"/>
            <a:ext cx="1575000" cy="2184120"/>
          </a:xfrm>
          <a:custGeom>
            <a:avLst/>
            <a:gdLst/>
            <a:ahLst/>
            <a:rect l="l" t="t" r="r" b="b"/>
            <a:pathLst>
              <a:path w="992" h="1592">
                <a:moveTo>
                  <a:pt x="0" y="0"/>
                </a:moveTo>
                <a:lnTo>
                  <a:pt x="824" y="0"/>
                </a:lnTo>
                <a:lnTo>
                  <a:pt x="824" y="1592"/>
                </a:lnTo>
                <a:lnTo>
                  <a:pt x="992" y="15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480" y="3260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63760" y="431640"/>
            <a:ext cx="4335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3600" y="206280"/>
            <a:ext cx="8705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innervation sensitive : région équato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3360" y="1311120"/>
            <a:ext cx="850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II : innervation second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yélini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aible diamètre (</a:t>
            </a: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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= 8 µm)      vitesse de conduction faible (50 m.sec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-1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terminaison en bouquet ou en spir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utour des fibres à chaînes et des fibres à sacs st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93600" y="4838760"/>
            <a:ext cx="5766120" cy="460440"/>
            <a:chOff x="993600" y="4838760"/>
            <a:chExt cx="5766120" cy="460440"/>
          </a:xfrm>
        </p:grpSpPr>
        <p:sp>
          <p:nvSpPr>
            <p:cNvPr id="412" name=""/>
            <p:cNvSpPr/>
            <p:nvPr/>
          </p:nvSpPr>
          <p:spPr>
            <a:xfrm>
              <a:off x="996840" y="483876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872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6880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8320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6748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404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76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49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561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676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2068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04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77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14440" y="4847400"/>
              <a:ext cx="33048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877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936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8460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8784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4332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6236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993600" y="5586480"/>
            <a:ext cx="5766120" cy="771480"/>
            <a:chOff x="993600" y="5586480"/>
            <a:chExt cx="5766120" cy="771480"/>
          </a:xfrm>
        </p:grpSpPr>
        <p:sp>
          <p:nvSpPr>
            <p:cNvPr id="433" name=""/>
            <p:cNvSpPr/>
            <p:nvPr/>
          </p:nvSpPr>
          <p:spPr>
            <a:xfrm>
              <a:off x="996840" y="57384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81200" y="55864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28840" y="57423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24200" y="59047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65400" y="61077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8320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6748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4040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76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4988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5612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6760" y="57423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068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04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7788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14440" y="57369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8772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360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84600" y="57322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45120" y="57729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19280" y="60368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9760" y="56710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993600" y="3797280"/>
            <a:ext cx="5766120" cy="771480"/>
            <a:chOff x="993600" y="3797280"/>
            <a:chExt cx="5766120" cy="771480"/>
          </a:xfrm>
        </p:grpSpPr>
        <p:sp>
          <p:nvSpPr>
            <p:cNvPr id="456" name=""/>
            <p:cNvSpPr/>
            <p:nvPr/>
          </p:nvSpPr>
          <p:spPr>
            <a:xfrm>
              <a:off x="996840" y="39492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81200" y="37972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8840" y="39531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24200" y="41155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65400" y="43185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8320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6748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4040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76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4988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5612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6760" y="39531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2068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04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7788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4440" y="39477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8772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360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84600" y="39430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5120" y="39837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19280" y="42476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49760" y="38818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32748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7020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48120" y="3822840"/>
            <a:ext cx="406440" cy="77472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17920" y="5562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98800" y="554976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92640" y="5600880"/>
            <a:ext cx="406440" cy="72360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320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34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748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70280" y="3835440"/>
            <a:ext cx="279360" cy="7570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0280" y="4737240"/>
            <a:ext cx="279360" cy="64296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11480" y="5626080"/>
            <a:ext cx="507960" cy="82080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62040" y="3454560"/>
            <a:ext cx="1575000" cy="2184120"/>
          </a:xfrm>
          <a:custGeom>
            <a:avLst/>
            <a:gdLst/>
            <a:ahLst/>
            <a:rect l="l" t="t" r="r" b="b"/>
            <a:pathLst>
              <a:path w="992" h="1592">
                <a:moveTo>
                  <a:pt x="0" y="0"/>
                </a:moveTo>
                <a:lnTo>
                  <a:pt x="824" y="0"/>
                </a:lnTo>
                <a:lnTo>
                  <a:pt x="824" y="1592"/>
                </a:lnTo>
                <a:lnTo>
                  <a:pt x="992" y="15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476240" y="3628800"/>
            <a:ext cx="371520" cy="533520"/>
            <a:chOff x="4476240" y="3628800"/>
            <a:chExt cx="371520" cy="533520"/>
          </a:xfrm>
        </p:grpSpPr>
        <p:sp>
          <p:nvSpPr>
            <p:cNvPr id="492" name=""/>
            <p:cNvSpPr/>
            <p:nvPr/>
          </p:nvSpPr>
          <p:spPr>
            <a:xfrm flipH="1">
              <a:off x="4476240" y="385776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47960" y="385776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647960" y="385776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647960" y="362880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485960" y="4543200"/>
            <a:ext cx="371520" cy="533520"/>
            <a:chOff x="4485960" y="4543200"/>
            <a:chExt cx="371520" cy="533520"/>
          </a:xfrm>
        </p:grpSpPr>
        <p:sp>
          <p:nvSpPr>
            <p:cNvPr id="497" name=""/>
            <p:cNvSpPr/>
            <p:nvPr/>
          </p:nvSpPr>
          <p:spPr>
            <a:xfrm flipH="1">
              <a:off x="4485960" y="477216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7680" y="477216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4657680" y="477216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657680" y="454320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848120" y="3457440"/>
            <a:ext cx="1524240" cy="1114560"/>
          </a:xfrm>
          <a:custGeom>
            <a:avLst/>
            <a:gdLst/>
            <a:ahLst/>
            <a:rect l="l" t="t" r="r" b="b"/>
            <a:pathLst>
              <a:path w="960" h="726">
                <a:moveTo>
                  <a:pt x="0" y="726"/>
                </a:moveTo>
                <a:lnTo>
                  <a:pt x="0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2160" y="616284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dyna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45160" y="36608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st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2480" y="3260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14120" y="32479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63760" y="431640"/>
            <a:ext cx="4335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3600" y="206280"/>
            <a:ext cx="8705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innervation motrice : régions polaires contrac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3360" y="1311120"/>
            <a:ext cx="8508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ibres gamma (</a:t>
            </a: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yélini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aible diamètre (</a:t>
            </a: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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= 2 à 8 µm)    vitesse de conduction faible (30 m.sec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-1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ibr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tatiques :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fibres à chaînes et à sacs st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ibr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dynamiques :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fibres à sacs dynam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93600" y="4838760"/>
            <a:ext cx="5766120" cy="460440"/>
            <a:chOff x="993600" y="4838760"/>
            <a:chExt cx="5766120" cy="460440"/>
          </a:xfrm>
        </p:grpSpPr>
        <p:sp>
          <p:nvSpPr>
            <p:cNvPr id="512" name=""/>
            <p:cNvSpPr/>
            <p:nvPr/>
          </p:nvSpPr>
          <p:spPr>
            <a:xfrm>
              <a:off x="996840" y="483876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9872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6880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8320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6748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404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76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49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61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4676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20680" y="48488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04960" y="4847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7788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14440" y="4847400"/>
              <a:ext cx="33048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8772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93600" y="48387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84600" y="4842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87840" y="498456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4332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62360" y="498456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993600" y="5586480"/>
            <a:ext cx="5766120" cy="771480"/>
            <a:chOff x="993600" y="5586480"/>
            <a:chExt cx="5766120" cy="771480"/>
          </a:xfrm>
        </p:grpSpPr>
        <p:sp>
          <p:nvSpPr>
            <p:cNvPr id="533" name=""/>
            <p:cNvSpPr/>
            <p:nvPr/>
          </p:nvSpPr>
          <p:spPr>
            <a:xfrm>
              <a:off x="996840" y="57384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81200" y="55864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28840" y="57423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24200" y="59047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65400" y="61077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8320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6748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4040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76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988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5612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6760" y="57423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20680" y="57384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04960" y="57369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7788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14440" y="57369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87720" y="57384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93600" y="57283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84600" y="57322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45120" y="57729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19280" y="60368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49760" y="56710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993600" y="3797280"/>
            <a:ext cx="5766120" cy="771480"/>
            <a:chOff x="993600" y="3797280"/>
            <a:chExt cx="5766120" cy="771480"/>
          </a:xfrm>
        </p:grpSpPr>
        <p:sp>
          <p:nvSpPr>
            <p:cNvPr id="556" name=""/>
            <p:cNvSpPr/>
            <p:nvPr/>
          </p:nvSpPr>
          <p:spPr>
            <a:xfrm>
              <a:off x="996840" y="39492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81200" y="37972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28840" y="39531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24200" y="41155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65400" y="43185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8320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6748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4040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76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4988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5612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46760" y="39531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20680" y="39492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4960" y="39477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7788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14440" y="39477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87720" y="39492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93600" y="39391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84600" y="39430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45120" y="39837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419280" y="42476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49760" y="38818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32748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70200" y="375912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3822840"/>
            <a:ext cx="406440" cy="77472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17920" y="5562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98800" y="554976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92640" y="5600880"/>
            <a:ext cx="406440" cy="72360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320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034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74840" y="47750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70280" y="3835440"/>
            <a:ext cx="279360" cy="7570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70280" y="4737240"/>
            <a:ext cx="279360" cy="64296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11480" y="5626080"/>
            <a:ext cx="507960" cy="82080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62040" y="3454560"/>
            <a:ext cx="1575000" cy="2184120"/>
          </a:xfrm>
          <a:custGeom>
            <a:avLst/>
            <a:gdLst/>
            <a:ahLst/>
            <a:rect l="l" t="t" r="r" b="b"/>
            <a:pathLst>
              <a:path w="992" h="1592">
                <a:moveTo>
                  <a:pt x="0" y="0"/>
                </a:moveTo>
                <a:lnTo>
                  <a:pt x="824" y="0"/>
                </a:lnTo>
                <a:lnTo>
                  <a:pt x="824" y="1592"/>
                </a:lnTo>
                <a:lnTo>
                  <a:pt x="992" y="15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4476240" y="3628800"/>
            <a:ext cx="371520" cy="533520"/>
            <a:chOff x="4476240" y="3628800"/>
            <a:chExt cx="371520" cy="533520"/>
          </a:xfrm>
        </p:grpSpPr>
        <p:sp>
          <p:nvSpPr>
            <p:cNvPr id="592" name=""/>
            <p:cNvSpPr/>
            <p:nvPr/>
          </p:nvSpPr>
          <p:spPr>
            <a:xfrm flipH="1">
              <a:off x="4476240" y="385776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47960" y="385776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647960" y="385776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647960" y="362880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485960" y="4543200"/>
            <a:ext cx="371520" cy="533520"/>
            <a:chOff x="4485960" y="4543200"/>
            <a:chExt cx="371520" cy="533520"/>
          </a:xfrm>
        </p:grpSpPr>
        <p:sp>
          <p:nvSpPr>
            <p:cNvPr id="597" name=""/>
            <p:cNvSpPr/>
            <p:nvPr/>
          </p:nvSpPr>
          <p:spPr>
            <a:xfrm flipH="1">
              <a:off x="4485960" y="477216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57680" y="477216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657680" y="477216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657680" y="454320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8120" y="3457440"/>
            <a:ext cx="1524240" cy="1114560"/>
          </a:xfrm>
          <a:custGeom>
            <a:avLst/>
            <a:gdLst/>
            <a:ahLst/>
            <a:rect l="l" t="t" r="r" b="b"/>
            <a:pathLst>
              <a:path w="960" h="726">
                <a:moveTo>
                  <a:pt x="0" y="726"/>
                </a:moveTo>
                <a:lnTo>
                  <a:pt x="0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2480" y="3260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414120" y="32479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56200" y="4686480"/>
            <a:ext cx="317520" cy="152280"/>
          </a:xfrm>
          <a:prstGeom prst="flowChartExtra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59600" y="5587920"/>
            <a:ext cx="317520" cy="152640"/>
          </a:xfrm>
          <a:prstGeom prst="flowChartExtra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92160" y="616284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dyna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45160" y="36608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st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3797280"/>
            <a:ext cx="317520" cy="152280"/>
          </a:xfrm>
          <a:prstGeom prst="flowChartExtra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311880" y="5473800"/>
            <a:ext cx="2032200" cy="152280"/>
          </a:xfrm>
          <a:custGeom>
            <a:avLst/>
            <a:gdLst/>
            <a:ahLst/>
            <a:rect l="l" t="t" r="r" b="b"/>
            <a:pathLst>
              <a:path w="1280" h="96">
                <a:moveTo>
                  <a:pt x="0" y="96"/>
                </a:moveTo>
                <a:lnTo>
                  <a:pt x="0" y="0"/>
                </a:lnTo>
                <a:lnTo>
                  <a:pt x="1280" y="0"/>
                </a:ln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08840" y="3664080"/>
            <a:ext cx="2031840" cy="152280"/>
          </a:xfrm>
          <a:custGeom>
            <a:avLst/>
            <a:gdLst/>
            <a:ahLst/>
            <a:rect l="l" t="t" r="r" b="b"/>
            <a:pathLst>
              <a:path w="1280" h="96">
                <a:moveTo>
                  <a:pt x="0" y="96"/>
                </a:moveTo>
                <a:lnTo>
                  <a:pt x="0" y="0"/>
                </a:lnTo>
                <a:lnTo>
                  <a:pt x="1280" y="0"/>
                </a:ln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21440" y="4559400"/>
            <a:ext cx="2031840" cy="152280"/>
          </a:xfrm>
          <a:custGeom>
            <a:avLst/>
            <a:gdLst/>
            <a:ahLst/>
            <a:rect l="l" t="t" r="r" b="b"/>
            <a:pathLst>
              <a:path w="1280" h="96">
                <a:moveTo>
                  <a:pt x="0" y="96"/>
                </a:moveTo>
                <a:lnTo>
                  <a:pt x="0" y="0"/>
                </a:lnTo>
                <a:lnTo>
                  <a:pt x="1280" y="0"/>
                </a:ln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42960" y="36781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20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 st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5520" y="541800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fibre </a:t>
            </a:r>
            <a:r>
              <a:rPr b="1" lang="fr-FR" sz="20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1" lang="fr-FR" sz="1600" spc="-1" strike="noStrike">
                <a:solidFill>
                  <a:srgbClr val="006600"/>
                </a:solidFill>
                <a:latin typeface="Arial"/>
              </a:rPr>
              <a:t> dyna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activité électrique des fibres sen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993600" y="4356000"/>
            <a:ext cx="5766120" cy="460440"/>
            <a:chOff x="993600" y="4356000"/>
            <a:chExt cx="5766120" cy="460440"/>
          </a:xfrm>
        </p:grpSpPr>
        <p:sp>
          <p:nvSpPr>
            <p:cNvPr id="619" name=""/>
            <p:cNvSpPr/>
            <p:nvPr/>
          </p:nvSpPr>
          <p:spPr>
            <a:xfrm>
              <a:off x="996840" y="43560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98720" y="450180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68800" y="450180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83200" y="436608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67480" y="4364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4040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76960" y="4364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4988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5612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46760" y="43599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20680" y="436608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4960" y="4364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7788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4440" y="4364640"/>
              <a:ext cx="33048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8772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93600" y="43560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84600" y="43599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87840" y="4501800"/>
              <a:ext cx="34308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43320" y="450180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62360" y="4501800"/>
              <a:ext cx="342720" cy="172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993600" y="5103720"/>
            <a:ext cx="5766120" cy="771480"/>
            <a:chOff x="993600" y="5103720"/>
            <a:chExt cx="5766120" cy="771480"/>
          </a:xfrm>
        </p:grpSpPr>
        <p:sp>
          <p:nvSpPr>
            <p:cNvPr id="640" name=""/>
            <p:cNvSpPr/>
            <p:nvPr/>
          </p:nvSpPr>
          <p:spPr>
            <a:xfrm>
              <a:off x="996840" y="525564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81200" y="510372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8840" y="525960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24200" y="54219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5400" y="562500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83200" y="5255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67480" y="525420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40400" y="525564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76960" y="525420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149880" y="525564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56120" y="52455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46760" y="525960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20680" y="525564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704960" y="525420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77880" y="52455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14440" y="525420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87720" y="525564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93600" y="524556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84600" y="52495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45120" y="529020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19280" y="555408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49760" y="518832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993600" y="3314880"/>
            <a:ext cx="5766120" cy="771480"/>
            <a:chOff x="993600" y="3314880"/>
            <a:chExt cx="5766120" cy="771480"/>
          </a:xfrm>
        </p:grpSpPr>
        <p:sp>
          <p:nvSpPr>
            <p:cNvPr id="663" name=""/>
            <p:cNvSpPr/>
            <p:nvPr/>
          </p:nvSpPr>
          <p:spPr>
            <a:xfrm>
              <a:off x="996840" y="3466800"/>
              <a:ext cx="5762880" cy="45648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81200" y="3314880"/>
              <a:ext cx="2641680" cy="7714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28840" y="34707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24200" y="363312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65400" y="383616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83200" y="34668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67480" y="34653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40400" y="34668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76960" y="34653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149880" y="34668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56120" y="3456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46760" y="34707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20680" y="3466800"/>
              <a:ext cx="330120" cy="44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04960" y="3465360"/>
              <a:ext cx="33012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77880" y="3456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14440" y="3465360"/>
              <a:ext cx="330480" cy="44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87720" y="346680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93600" y="345672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784600" y="3460680"/>
              <a:ext cx="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45120" y="350136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19280" y="3765240"/>
              <a:ext cx="34308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49760" y="3399480"/>
              <a:ext cx="342720" cy="17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327480" y="3276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70200" y="327672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8120" y="3340080"/>
            <a:ext cx="406440" cy="77472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17920" y="5079960"/>
            <a:ext cx="507960" cy="8510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98800" y="5067360"/>
            <a:ext cx="507960" cy="8506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92640" y="5118120"/>
            <a:ext cx="406440" cy="72396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32040" y="42926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03440" y="42926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74840" y="4292640"/>
            <a:ext cx="241560" cy="5842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70280" y="3352680"/>
            <a:ext cx="279360" cy="75744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70280" y="4254480"/>
            <a:ext cx="279360" cy="64296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11480" y="5143680"/>
            <a:ext cx="507960" cy="82044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62040" y="2971800"/>
            <a:ext cx="1575000" cy="2184480"/>
          </a:xfrm>
          <a:custGeom>
            <a:avLst/>
            <a:gdLst/>
            <a:ahLst/>
            <a:rect l="l" t="t" r="r" b="b"/>
            <a:pathLst>
              <a:path w="992" h="1592">
                <a:moveTo>
                  <a:pt x="0" y="0"/>
                </a:moveTo>
                <a:lnTo>
                  <a:pt x="824" y="0"/>
                </a:lnTo>
                <a:lnTo>
                  <a:pt x="824" y="1592"/>
                </a:lnTo>
                <a:lnTo>
                  <a:pt x="992" y="15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476240" y="3146040"/>
            <a:ext cx="371520" cy="533520"/>
            <a:chOff x="4476240" y="3146040"/>
            <a:chExt cx="371520" cy="533520"/>
          </a:xfrm>
        </p:grpSpPr>
        <p:sp>
          <p:nvSpPr>
            <p:cNvPr id="699" name=""/>
            <p:cNvSpPr/>
            <p:nvPr/>
          </p:nvSpPr>
          <p:spPr>
            <a:xfrm flipH="1">
              <a:off x="4476240" y="337500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47960" y="337500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647960" y="337500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647960" y="314604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85960" y="4060440"/>
            <a:ext cx="371520" cy="533520"/>
            <a:chOff x="4485960" y="4060440"/>
            <a:chExt cx="371520" cy="533520"/>
          </a:xfrm>
        </p:grpSpPr>
        <p:sp>
          <p:nvSpPr>
            <p:cNvPr id="704" name=""/>
            <p:cNvSpPr/>
            <p:nvPr/>
          </p:nvSpPr>
          <p:spPr>
            <a:xfrm flipH="1">
              <a:off x="4485960" y="4289400"/>
              <a:ext cx="16164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57680" y="4289400"/>
              <a:ext cx="16200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4657680" y="4289400"/>
              <a:ext cx="0" cy="295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657680" y="4060440"/>
              <a:ext cx="19980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848120" y="2975040"/>
            <a:ext cx="1524240" cy="1114200"/>
          </a:xfrm>
          <a:custGeom>
            <a:avLst/>
            <a:gdLst/>
            <a:ahLst/>
            <a:rect l="l" t="t" r="r" b="b"/>
            <a:pathLst>
              <a:path w="960" h="726">
                <a:moveTo>
                  <a:pt x="0" y="726"/>
                </a:moveTo>
                <a:lnTo>
                  <a:pt x="0" y="0"/>
                </a:lnTo>
                <a:lnTo>
                  <a:pt x="96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76880" y="26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98200" y="26337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33360" y="131112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longueur donnée stable  La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otentiels d’action de fréquence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15920" y="257796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3040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32084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1128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0172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9216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8296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7340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6384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654280" y="21589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48120" y="257652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6260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5304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4348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3392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2436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91516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10560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29604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86480" y="215748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003320" y="6261120"/>
            <a:ext cx="57150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6920" y="62071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90720" y="3276720"/>
            <a:ext cx="0" cy="314964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43880" y="3276720"/>
            <a:ext cx="0" cy="314964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activité électrique des fibres sen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33360" y="131112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à la longueur  L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des fibres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ugmentation de la fréquence des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93680" y="2971800"/>
            <a:ext cx="8647920" cy="2992320"/>
            <a:chOff x="193680" y="2971800"/>
            <a:chExt cx="8647920" cy="2992320"/>
          </a:xfrm>
        </p:grpSpPr>
        <p:grpSp>
          <p:nvGrpSpPr>
            <p:cNvPr id="742" name=""/>
            <p:cNvGrpSpPr/>
            <p:nvPr/>
          </p:nvGrpSpPr>
          <p:grpSpPr>
            <a:xfrm>
              <a:off x="193680" y="4356000"/>
              <a:ext cx="8647920" cy="460440"/>
              <a:chOff x="193680" y="4356000"/>
              <a:chExt cx="8647920" cy="460440"/>
            </a:xfrm>
          </p:grpSpPr>
          <p:sp>
            <p:nvSpPr>
              <p:cNvPr id="743" name=""/>
              <p:cNvSpPr/>
              <p:nvPr/>
            </p:nvSpPr>
            <p:spPr>
              <a:xfrm>
                <a:off x="198360" y="4356000"/>
                <a:ext cx="8643240" cy="45648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51000" y="4501800"/>
                <a:ext cx="51444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955760" y="4501800"/>
                <a:ext cx="51372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327000" y="436608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03600" y="4364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1280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117640" y="4364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92684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13656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822160" y="43599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84120" y="436608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260360" y="4364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06992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74400" y="4364640"/>
                <a:ext cx="49536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98432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93680" y="43560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879640" y="43599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584320" y="4501800"/>
                <a:ext cx="51444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17720" y="4501800"/>
                <a:ext cx="51372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346280" y="4501800"/>
                <a:ext cx="513720" cy="172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93680" y="5103720"/>
              <a:ext cx="8647920" cy="771480"/>
              <a:chOff x="193680" y="5103720"/>
              <a:chExt cx="8647920" cy="771480"/>
            </a:xfrm>
          </p:grpSpPr>
          <p:sp>
            <p:nvSpPr>
              <p:cNvPr id="764" name=""/>
              <p:cNvSpPr/>
              <p:nvPr/>
            </p:nvSpPr>
            <p:spPr>
              <a:xfrm>
                <a:off x="198360" y="5255640"/>
                <a:ext cx="8643240" cy="45648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574720" y="5103720"/>
                <a:ext cx="3961800" cy="77148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46000" y="525960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289040" y="542196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50480" y="562500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327000" y="5255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03600" y="525420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12800" y="525564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117640" y="525420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926840" y="525564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136560" y="52455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822160" y="52596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84120" y="525564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260360" y="525420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69920" y="52455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174400" y="5254200"/>
                <a:ext cx="49536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984320" y="525564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93680" y="524556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879640" y="524952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70240" y="5290200"/>
                <a:ext cx="51372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831480" y="555408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327200" y="5188320"/>
                <a:ext cx="51372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193680" y="3314880"/>
              <a:ext cx="8647920" cy="771480"/>
              <a:chOff x="193680" y="3314880"/>
              <a:chExt cx="8647920" cy="771480"/>
            </a:xfrm>
          </p:grpSpPr>
          <p:sp>
            <p:nvSpPr>
              <p:cNvPr id="787" name=""/>
              <p:cNvSpPr/>
              <p:nvPr/>
            </p:nvSpPr>
            <p:spPr>
              <a:xfrm>
                <a:off x="198360" y="3466800"/>
                <a:ext cx="8643240" cy="45648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74720" y="3314880"/>
                <a:ext cx="3961800" cy="77148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546000" y="347076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89040" y="363312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650480" y="383616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327000" y="346680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3600" y="346536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012800" y="34668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117640" y="346536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26840" y="34668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136560" y="345672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822160" y="3470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4120" y="3466800"/>
                <a:ext cx="495000" cy="446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60360" y="3465360"/>
                <a:ext cx="49500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069920" y="345672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174400" y="3465360"/>
                <a:ext cx="495360" cy="446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84320" y="346680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93680" y="345672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879640" y="3460680"/>
                <a:ext cx="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070240" y="3501360"/>
                <a:ext cx="51372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831480" y="3765240"/>
                <a:ext cx="51444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27200" y="3399480"/>
                <a:ext cx="513720" cy="172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3693960" y="3276720"/>
              <a:ext cx="761760" cy="8506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08040" y="3276720"/>
              <a:ext cx="761760" cy="8506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274920" y="3340080"/>
              <a:ext cx="609480" cy="77472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79800" y="5079960"/>
              <a:ext cx="761760" cy="8510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50760" y="5067360"/>
              <a:ext cx="761760" cy="8506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41520" y="5118120"/>
              <a:ext cx="609480" cy="72396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150800" y="4292640"/>
              <a:ext cx="362160" cy="5842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808080" y="4292640"/>
              <a:ext cx="362160" cy="5842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465000" y="4292640"/>
              <a:ext cx="362160" cy="58428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08160" y="3352680"/>
              <a:ext cx="418680" cy="75744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8160" y="4254480"/>
              <a:ext cx="418680" cy="64296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69960" y="5143680"/>
              <a:ext cx="761760" cy="82044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46160" y="2971800"/>
              <a:ext cx="2361960" cy="2184480"/>
            </a:xfrm>
            <a:custGeom>
              <a:avLst/>
              <a:gdLst/>
              <a:ahLst/>
              <a:rect l="l" t="t" r="r" b="b"/>
              <a:pathLst>
                <a:path w="992" h="1592">
                  <a:moveTo>
                    <a:pt x="0" y="0"/>
                  </a:moveTo>
                  <a:lnTo>
                    <a:pt x="824" y="0"/>
                  </a:lnTo>
                  <a:lnTo>
                    <a:pt x="824" y="1592"/>
                  </a:lnTo>
                  <a:lnTo>
                    <a:pt x="992" y="1592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5417280" y="3146040"/>
              <a:ext cx="556920" cy="533520"/>
              <a:chOff x="5417280" y="3146040"/>
              <a:chExt cx="556920" cy="533520"/>
            </a:xfrm>
          </p:grpSpPr>
          <p:sp>
            <p:nvSpPr>
              <p:cNvPr id="823" name=""/>
              <p:cNvSpPr/>
              <p:nvPr/>
            </p:nvSpPr>
            <p:spPr>
              <a:xfrm flipH="1">
                <a:off x="5417280" y="3375000"/>
                <a:ext cx="242280" cy="304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674680" y="3375000"/>
                <a:ext cx="243000" cy="304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5674680" y="3375000"/>
                <a:ext cx="0" cy="295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674680" y="3146040"/>
                <a:ext cx="299520" cy="228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5431680" y="4060440"/>
              <a:ext cx="556920" cy="533520"/>
              <a:chOff x="5431680" y="4060440"/>
              <a:chExt cx="556920" cy="533520"/>
            </a:xfrm>
          </p:grpSpPr>
          <p:sp>
            <p:nvSpPr>
              <p:cNvPr id="828" name=""/>
              <p:cNvSpPr/>
              <p:nvPr/>
            </p:nvSpPr>
            <p:spPr>
              <a:xfrm flipH="1">
                <a:off x="5431680" y="4289400"/>
                <a:ext cx="242280" cy="304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89080" y="4289400"/>
                <a:ext cx="243000" cy="304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5689080" y="4289400"/>
                <a:ext cx="0" cy="295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689080" y="4060440"/>
                <a:ext cx="299520" cy="228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5974920" y="2975040"/>
              <a:ext cx="2286000" cy="1114200"/>
            </a:xfrm>
            <a:custGeom>
              <a:avLst/>
              <a:gdLst/>
              <a:ahLst/>
              <a:rect l="l" t="t" r="r" b="b"/>
              <a:pathLst>
                <a:path w="960" h="726">
                  <a:moveTo>
                    <a:pt x="0" y="726"/>
                  </a:moveTo>
                  <a:lnTo>
                    <a:pt x="0" y="0"/>
                  </a:lnTo>
                  <a:lnTo>
                    <a:pt x="96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1015920" y="257796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54080" y="2158920"/>
            <a:ext cx="1065240" cy="419040"/>
            <a:chOff x="1054080" y="2158920"/>
            <a:chExt cx="1065240" cy="419040"/>
          </a:xfrm>
        </p:grpSpPr>
        <p:sp>
          <p:nvSpPr>
            <p:cNvPr id="835" name=""/>
            <p:cNvSpPr/>
            <p:nvPr/>
          </p:nvSpPr>
          <p:spPr>
            <a:xfrm>
              <a:off x="105408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869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3201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533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865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197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529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861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19320" y="21589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4848120" y="257652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117880" y="2157480"/>
            <a:ext cx="533160" cy="419040"/>
            <a:chOff x="2117880" y="2157480"/>
            <a:chExt cx="533160" cy="419040"/>
          </a:xfrm>
        </p:grpSpPr>
        <p:sp>
          <p:nvSpPr>
            <p:cNvPr id="846" name=""/>
            <p:cNvSpPr/>
            <p:nvPr/>
          </p:nvSpPr>
          <p:spPr>
            <a:xfrm>
              <a:off x="211788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5108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8428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1748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51040" y="2157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5398200" y="26337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676880" y="26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4915080" y="2146320"/>
            <a:ext cx="1064880" cy="419040"/>
            <a:chOff x="4915080" y="2146320"/>
            <a:chExt cx="1064880" cy="419040"/>
          </a:xfrm>
        </p:grpSpPr>
        <p:sp>
          <p:nvSpPr>
            <p:cNvPr id="854" name=""/>
            <p:cNvSpPr/>
            <p:nvPr/>
          </p:nvSpPr>
          <p:spPr>
            <a:xfrm>
              <a:off x="491508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4792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8112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1432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4716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58072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71356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676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979960" y="21463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978520" y="2144880"/>
            <a:ext cx="533520" cy="419040"/>
            <a:chOff x="5978520" y="2144880"/>
            <a:chExt cx="533520" cy="419040"/>
          </a:xfrm>
        </p:grpSpPr>
        <p:sp>
          <p:nvSpPr>
            <p:cNvPr id="864" name=""/>
            <p:cNvSpPr/>
            <p:nvPr/>
          </p:nvSpPr>
          <p:spPr>
            <a:xfrm>
              <a:off x="597852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11172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4528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7848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12040" y="2144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90440" y="3276720"/>
            <a:ext cx="0" cy="314964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826480" y="3289320"/>
            <a:ext cx="0" cy="314964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90440" y="6261120"/>
            <a:ext cx="8610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707280" y="620712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894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040" y="206280"/>
            <a:ext cx="7940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2760" y="431640"/>
            <a:ext cx="499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8040" y="1328760"/>
            <a:ext cx="80564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e réflexe rotul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aractéristique du réflexe myo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e faisceau neuro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mécanisme du réflexe myo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innervation croisée : modulation coordonnée de muscles oppo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924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925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945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957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527720" y="4416480"/>
            <a:ext cx="1064880" cy="419040"/>
            <a:chOff x="4527720" y="4416480"/>
            <a:chExt cx="1064880" cy="419040"/>
          </a:xfrm>
        </p:grpSpPr>
        <p:sp>
          <p:nvSpPr>
            <p:cNvPr id="971" name=""/>
            <p:cNvSpPr/>
            <p:nvPr/>
          </p:nvSpPr>
          <p:spPr>
            <a:xfrm>
              <a:off x="4527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6605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93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269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0598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93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326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594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92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441680" y="5349960"/>
            <a:ext cx="1065240" cy="419040"/>
            <a:chOff x="4441680" y="5349960"/>
            <a:chExt cx="1065240" cy="419040"/>
          </a:xfrm>
        </p:grpSpPr>
        <p:sp>
          <p:nvSpPr>
            <p:cNvPr id="995" name=""/>
            <p:cNvSpPr/>
            <p:nvPr/>
          </p:nvSpPr>
          <p:spPr>
            <a:xfrm>
              <a:off x="444168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574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07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40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9741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073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240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73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06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1006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400640" y="2519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1019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635800" y="534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1029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1030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27720" y="4416480"/>
            <a:ext cx="1064880" cy="419040"/>
            <a:chOff x="4527720" y="4416480"/>
            <a:chExt cx="1064880" cy="419040"/>
          </a:xfrm>
        </p:grpSpPr>
        <p:sp>
          <p:nvSpPr>
            <p:cNvPr id="1053" name=""/>
            <p:cNvSpPr/>
            <p:nvPr/>
          </p:nvSpPr>
          <p:spPr>
            <a:xfrm>
              <a:off x="4527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605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793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269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598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93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26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594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592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4441680" y="5349960"/>
            <a:ext cx="1065240" cy="419040"/>
            <a:chOff x="4441680" y="5349960"/>
            <a:chExt cx="1065240" cy="419040"/>
          </a:xfrm>
        </p:grpSpPr>
        <p:sp>
          <p:nvSpPr>
            <p:cNvPr id="1077" name=""/>
            <p:cNvSpPr/>
            <p:nvPr/>
          </p:nvSpPr>
          <p:spPr>
            <a:xfrm>
              <a:off x="444168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574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707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40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9741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1073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40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373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506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1088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6753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00640" y="2519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 flipV="1">
            <a:off x="557172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1103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5638680" y="5343480"/>
            <a:ext cx="961920" cy="419040"/>
            <a:chOff x="5638680" y="5343480"/>
            <a:chExt cx="961920" cy="419040"/>
          </a:xfrm>
        </p:grpSpPr>
        <p:sp>
          <p:nvSpPr>
            <p:cNvPr id="1111" name=""/>
            <p:cNvSpPr/>
            <p:nvPr/>
          </p:nvSpPr>
          <p:spPr>
            <a:xfrm>
              <a:off x="6600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438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276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114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52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90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63868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1120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1121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4527720" y="4416480"/>
            <a:ext cx="1064880" cy="419040"/>
            <a:chOff x="4527720" y="4416480"/>
            <a:chExt cx="1064880" cy="419040"/>
          </a:xfrm>
        </p:grpSpPr>
        <p:sp>
          <p:nvSpPr>
            <p:cNvPr id="1144" name=""/>
            <p:cNvSpPr/>
            <p:nvPr/>
          </p:nvSpPr>
          <p:spPr>
            <a:xfrm>
              <a:off x="4527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605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793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269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0598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193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26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594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592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753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943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1341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3245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515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705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896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086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4441680" y="5349960"/>
            <a:ext cx="1065240" cy="419040"/>
            <a:chOff x="4441680" y="5349960"/>
            <a:chExt cx="1065240" cy="419040"/>
          </a:xfrm>
        </p:grpSpPr>
        <p:sp>
          <p:nvSpPr>
            <p:cNvPr id="1176" name=""/>
            <p:cNvSpPr/>
            <p:nvPr/>
          </p:nvSpPr>
          <p:spPr>
            <a:xfrm>
              <a:off x="444168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74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07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40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9741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073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40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373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506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1187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6753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94368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3412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32456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51536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70580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896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08668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762600" y="3814920"/>
            <a:ext cx="134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00640" y="2519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557172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1210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5638680" y="5343480"/>
            <a:ext cx="961920" cy="419040"/>
            <a:chOff x="5638680" y="5343480"/>
            <a:chExt cx="961920" cy="419040"/>
          </a:xfrm>
        </p:grpSpPr>
        <p:sp>
          <p:nvSpPr>
            <p:cNvPr id="1218" name=""/>
            <p:cNvSpPr/>
            <p:nvPr/>
          </p:nvSpPr>
          <p:spPr>
            <a:xfrm>
              <a:off x="6600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438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276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4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952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90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63868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1227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63760" y="431640"/>
            <a:ext cx="2976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81440" y="206280"/>
            <a:ext cx="845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fuseau meuro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répons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érence entre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33360" y="131112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II : sensibles à l’amplitude de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Ia : sensibles à l’amplitude et à la vitesse de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49440" y="483552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527720" y="4416480"/>
            <a:ext cx="1064880" cy="419040"/>
            <a:chOff x="4527720" y="4416480"/>
            <a:chExt cx="1064880" cy="419040"/>
          </a:xfrm>
        </p:grpSpPr>
        <p:sp>
          <p:nvSpPr>
            <p:cNvPr id="1252" name=""/>
            <p:cNvSpPr/>
            <p:nvPr/>
          </p:nvSpPr>
          <p:spPr>
            <a:xfrm>
              <a:off x="4527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605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793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269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598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93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326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4594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92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804240" y="5376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ibr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35480" y="4433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156760" y="4883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549440" y="2298600"/>
            <a:ext cx="6956280" cy="1828800"/>
          </a:xfrm>
          <a:custGeom>
            <a:avLst/>
            <a:gdLst/>
            <a:ahLst/>
            <a:rect l="l" t="t" r="r" b="b"/>
            <a:pathLst>
              <a:path w="2840" h="520">
                <a:moveTo>
                  <a:pt x="0" y="0"/>
                </a:moveTo>
                <a:lnTo>
                  <a:pt x="0" y="520"/>
                </a:lnTo>
                <a:lnTo>
                  <a:pt x="2840" y="52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38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019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209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4004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5909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781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971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162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753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943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13412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3245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51536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70580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89624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086680" y="4419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49440" y="5769000"/>
            <a:ext cx="700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4441680" y="5349960"/>
            <a:ext cx="1065240" cy="419040"/>
            <a:chOff x="4441680" y="5349960"/>
            <a:chExt cx="1065240" cy="419040"/>
          </a:xfrm>
        </p:grpSpPr>
        <p:sp>
          <p:nvSpPr>
            <p:cNvPr id="1284" name=""/>
            <p:cNvSpPr/>
            <p:nvPr/>
          </p:nvSpPr>
          <p:spPr>
            <a:xfrm>
              <a:off x="444168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574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07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840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41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1073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405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737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506920" y="534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2156760" y="5816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1638360" y="5353200"/>
            <a:ext cx="1523880" cy="419040"/>
            <a:chOff x="1638360" y="5353200"/>
            <a:chExt cx="1523880" cy="419040"/>
          </a:xfrm>
        </p:grpSpPr>
        <p:sp>
          <p:nvSpPr>
            <p:cNvPr id="1295" name=""/>
            <p:cNvSpPr/>
            <p:nvPr/>
          </p:nvSpPr>
          <p:spPr>
            <a:xfrm>
              <a:off x="1638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828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019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2096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0048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909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813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97180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162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6753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94368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13412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32456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51536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70580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89624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86680" y="53532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552680" y="3814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762600" y="3814920"/>
            <a:ext cx="134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400640" y="2519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20976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>
            <a:off x="5571720" y="2514240"/>
            <a:ext cx="1181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3343320" y="5353200"/>
            <a:ext cx="961920" cy="419040"/>
            <a:chOff x="3343320" y="5353200"/>
            <a:chExt cx="961920" cy="419040"/>
          </a:xfrm>
        </p:grpSpPr>
        <p:sp>
          <p:nvSpPr>
            <p:cNvPr id="1318" name=""/>
            <p:cNvSpPr/>
            <p:nvPr/>
          </p:nvSpPr>
          <p:spPr>
            <a:xfrm>
              <a:off x="3343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50532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666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28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90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5296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305240" y="5353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5638680" y="5343480"/>
            <a:ext cx="961920" cy="419040"/>
            <a:chOff x="5638680" y="5343480"/>
            <a:chExt cx="961920" cy="419040"/>
          </a:xfrm>
        </p:grpSpPr>
        <p:sp>
          <p:nvSpPr>
            <p:cNvPr id="1326" name=""/>
            <p:cNvSpPr/>
            <p:nvPr/>
          </p:nvSpPr>
          <p:spPr>
            <a:xfrm>
              <a:off x="6600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43860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276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114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52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9096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638680" y="5343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17160" y="282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3289320" y="4416480"/>
            <a:ext cx="1090440" cy="419040"/>
            <a:chOff x="3289320" y="4416480"/>
            <a:chExt cx="1090440" cy="419040"/>
          </a:xfrm>
        </p:grpSpPr>
        <p:grpSp>
          <p:nvGrpSpPr>
            <p:cNvPr id="1335" name=""/>
            <p:cNvGrpSpPr/>
            <p:nvPr/>
          </p:nvGrpSpPr>
          <p:grpSpPr>
            <a:xfrm>
              <a:off x="3289320" y="4416480"/>
              <a:ext cx="550800" cy="419040"/>
              <a:chOff x="3289320" y="4416480"/>
              <a:chExt cx="550800" cy="419040"/>
            </a:xfrm>
          </p:grpSpPr>
          <p:sp>
            <p:nvSpPr>
              <p:cNvPr id="1336" name=""/>
              <p:cNvSpPr/>
              <p:nvPr/>
            </p:nvSpPr>
            <p:spPr>
              <a:xfrm>
                <a:off x="32893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3580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42684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495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5647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63348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0260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77136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840120" y="441648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5" name=""/>
            <p:cNvSpPr/>
            <p:nvPr/>
          </p:nvSpPr>
          <p:spPr>
            <a:xfrm>
              <a:off x="38973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9672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3560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0544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734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24188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1172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79760" y="44164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1800" y="206280"/>
            <a:ext cx="82792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 du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356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357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>
            <a:off x="3073320" y="4441680"/>
            <a:ext cx="4122720" cy="104796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63960" y="4772160"/>
            <a:ext cx="901800" cy="152280"/>
          </a:xfrm>
          <a:prstGeom prst="ellipse">
            <a:avLst/>
          </a:pr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334120" y="4809960"/>
            <a:ext cx="225360" cy="92160"/>
          </a:xfrm>
          <a:custGeom>
            <a:avLst/>
            <a:gdLst/>
            <a:ahLst/>
            <a:rect l="l" t="t" r="r" b="b"/>
            <a:pathLst>
              <a:path w="166" h="94">
                <a:moveTo>
                  <a:pt x="0" y="0"/>
                </a:moveTo>
                <a:cubicBezTo>
                  <a:pt x="49" y="6"/>
                  <a:pt x="52" y="1"/>
                  <a:pt x="66" y="42"/>
                </a:cubicBezTo>
                <a:cubicBezTo>
                  <a:pt x="59" y="62"/>
                  <a:pt x="49" y="94"/>
                  <a:pt x="36" y="54"/>
                </a:cubicBezTo>
                <a:cubicBezTo>
                  <a:pt x="46" y="4"/>
                  <a:pt x="56" y="12"/>
                  <a:pt x="108" y="18"/>
                </a:cubicBezTo>
                <a:cubicBezTo>
                  <a:pt x="106" y="36"/>
                  <a:pt x="110" y="56"/>
                  <a:pt x="102" y="72"/>
                </a:cubicBezTo>
                <a:cubicBezTo>
                  <a:pt x="99" y="78"/>
                  <a:pt x="86" y="72"/>
                  <a:pt x="84" y="66"/>
                </a:cubicBezTo>
                <a:cubicBezTo>
                  <a:pt x="81" y="52"/>
                  <a:pt x="84" y="37"/>
                  <a:pt x="90" y="24"/>
                </a:cubicBezTo>
                <a:cubicBezTo>
                  <a:pt x="94" y="15"/>
                  <a:pt x="118" y="9"/>
                  <a:pt x="126" y="6"/>
                </a:cubicBezTo>
                <a:cubicBezTo>
                  <a:pt x="132" y="8"/>
                  <a:pt x="140" y="7"/>
                  <a:pt x="144" y="12"/>
                </a:cubicBezTo>
                <a:cubicBezTo>
                  <a:pt x="156" y="29"/>
                  <a:pt x="166" y="59"/>
                  <a:pt x="156" y="78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527200" y="431640"/>
            <a:ext cx="338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60560" y="4349880"/>
            <a:ext cx="26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jonction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692520" y="4578480"/>
            <a:ext cx="654120" cy="250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382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383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3073320" y="4441680"/>
            <a:ext cx="4122720" cy="104796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863960" y="4772160"/>
            <a:ext cx="901800" cy="152280"/>
          </a:xfrm>
          <a:prstGeom prst="ellipse">
            <a:avLst/>
          </a:pr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334120" y="4809960"/>
            <a:ext cx="225360" cy="92160"/>
          </a:xfrm>
          <a:custGeom>
            <a:avLst/>
            <a:gdLst/>
            <a:ahLst/>
            <a:rect l="l" t="t" r="r" b="b"/>
            <a:pathLst>
              <a:path w="166" h="94">
                <a:moveTo>
                  <a:pt x="0" y="0"/>
                </a:moveTo>
                <a:cubicBezTo>
                  <a:pt x="49" y="6"/>
                  <a:pt x="52" y="1"/>
                  <a:pt x="66" y="42"/>
                </a:cubicBezTo>
                <a:cubicBezTo>
                  <a:pt x="59" y="62"/>
                  <a:pt x="49" y="94"/>
                  <a:pt x="36" y="54"/>
                </a:cubicBezTo>
                <a:cubicBezTo>
                  <a:pt x="46" y="4"/>
                  <a:pt x="56" y="12"/>
                  <a:pt x="108" y="18"/>
                </a:cubicBezTo>
                <a:cubicBezTo>
                  <a:pt x="106" y="36"/>
                  <a:pt x="110" y="56"/>
                  <a:pt x="102" y="72"/>
                </a:cubicBezTo>
                <a:cubicBezTo>
                  <a:pt x="99" y="78"/>
                  <a:pt x="86" y="72"/>
                  <a:pt x="84" y="66"/>
                </a:cubicBezTo>
                <a:cubicBezTo>
                  <a:pt x="81" y="52"/>
                  <a:pt x="84" y="37"/>
                  <a:pt x="90" y="24"/>
                </a:cubicBezTo>
                <a:cubicBezTo>
                  <a:pt x="94" y="15"/>
                  <a:pt x="118" y="9"/>
                  <a:pt x="126" y="6"/>
                </a:cubicBezTo>
                <a:cubicBezTo>
                  <a:pt x="132" y="8"/>
                  <a:pt x="140" y="7"/>
                  <a:pt x="144" y="12"/>
                </a:cubicBezTo>
                <a:cubicBezTo>
                  <a:pt x="156" y="29"/>
                  <a:pt x="166" y="59"/>
                  <a:pt x="156" y="78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098880" y="469908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175520" y="469908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86280" y="6091200"/>
            <a:ext cx="4089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951800" y="609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84120" y="892080"/>
            <a:ext cx="85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at stable : longueu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8" name=""/>
          <p:cNvGrpSpPr/>
          <p:nvPr/>
        </p:nvGrpSpPr>
        <p:grpSpPr>
          <a:xfrm>
            <a:off x="2413080" y="4568760"/>
            <a:ext cx="5303520" cy="730440"/>
            <a:chOff x="2413080" y="4568760"/>
            <a:chExt cx="5303520" cy="730440"/>
          </a:xfrm>
        </p:grpSpPr>
        <p:sp>
          <p:nvSpPr>
            <p:cNvPr id="1409" name=""/>
            <p:cNvSpPr/>
            <p:nvPr/>
          </p:nvSpPr>
          <p:spPr>
            <a:xfrm>
              <a:off x="2413080" y="4568760"/>
              <a:ext cx="5303520" cy="73044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16360" y="4798800"/>
              <a:ext cx="1159920" cy="10584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21520" y="4825440"/>
              <a:ext cx="289800" cy="6408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415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416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09888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17552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438280" y="6091200"/>
            <a:ext cx="52200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951800" y="609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84120" y="892080"/>
            <a:ext cx="85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llongement du muscle et des fuseaux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45124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68348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451240" y="5803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7175160" y="57992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2" name=""/>
          <p:cNvGrpSpPr/>
          <p:nvPr/>
        </p:nvGrpSpPr>
        <p:grpSpPr>
          <a:xfrm>
            <a:off x="2413080" y="4568760"/>
            <a:ext cx="5303520" cy="730440"/>
            <a:chOff x="2413080" y="4568760"/>
            <a:chExt cx="5303520" cy="730440"/>
          </a:xfrm>
        </p:grpSpPr>
        <p:sp>
          <p:nvSpPr>
            <p:cNvPr id="1443" name=""/>
            <p:cNvSpPr/>
            <p:nvPr/>
          </p:nvSpPr>
          <p:spPr>
            <a:xfrm>
              <a:off x="2413080" y="4568760"/>
              <a:ext cx="5303520" cy="73044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716360" y="4798800"/>
              <a:ext cx="1159920" cy="10584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321520" y="4825440"/>
              <a:ext cx="289800" cy="6408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449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450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2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09888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17552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438280" y="6091200"/>
            <a:ext cx="52200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951800" y="609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4120" y="89208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llongement du muscle et des fuseaux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des fibres Ia et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45124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8348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45280" y="41878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243760" y="3121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697640" y="2765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383200" y="25369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370240" y="2206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60880" y="2523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210120" y="1889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35788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451240" y="5803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7175160" y="57992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"/>
          <p:cNvGrpSpPr/>
          <p:nvPr/>
        </p:nvGrpSpPr>
        <p:grpSpPr>
          <a:xfrm>
            <a:off x="2413080" y="4568760"/>
            <a:ext cx="5303520" cy="730440"/>
            <a:chOff x="2413080" y="4568760"/>
            <a:chExt cx="5303520" cy="730440"/>
          </a:xfrm>
        </p:grpSpPr>
        <p:sp>
          <p:nvSpPr>
            <p:cNvPr id="1485" name=""/>
            <p:cNvSpPr/>
            <p:nvPr/>
          </p:nvSpPr>
          <p:spPr>
            <a:xfrm>
              <a:off x="2413080" y="4568760"/>
              <a:ext cx="5303520" cy="73044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16360" y="4798800"/>
              <a:ext cx="1159920" cy="10584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321520" y="4825440"/>
              <a:ext cx="289800" cy="6408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491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492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806360" y="54896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09888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175520" y="4699080"/>
            <a:ext cx="0" cy="1100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438280" y="6091200"/>
            <a:ext cx="52200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951800" y="609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84120" y="892080"/>
            <a:ext cx="85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llongement du muscle et des fuseaux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des fibres Ia e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ctivation du motoneuron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5124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68348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345280" y="41878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243760" y="3121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697640" y="2765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383200" y="25369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370240" y="2206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160880" y="2523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210120" y="1889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35788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652840" y="27273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008520" y="29941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513240" y="31971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037400" y="34131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31676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456440" y="4200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69040" y="45687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51240" y="5803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7175160" y="57992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le réflexe myo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" y="1434960"/>
            <a:ext cx="84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flexe médullaire qui permet de contrôler l’activité des muscles squelet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9440" y="431640"/>
            <a:ext cx="25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440" y="206280"/>
            <a:ext cx="7497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définition e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é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00" y="237816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ise en évidence : les réflexe rotulien et achillé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0240" y="2817720"/>
            <a:ext cx="6744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flexe rotulie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embre inférieur fléchi en repose (as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up sec au-dessous de la rotul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extension de la jam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flexe achillée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embre inférieur en appui sur le genou, pied dans le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up sec sur le tendon d’Achill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extension du 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3073320" y="4441680"/>
            <a:ext cx="4122720" cy="1986840"/>
            <a:chOff x="3073320" y="4441680"/>
            <a:chExt cx="4122720" cy="1986840"/>
          </a:xfrm>
        </p:grpSpPr>
        <p:sp>
          <p:nvSpPr>
            <p:cNvPr id="1537" name=""/>
            <p:cNvSpPr/>
            <p:nvPr/>
          </p:nvSpPr>
          <p:spPr>
            <a:xfrm>
              <a:off x="3073320" y="4441680"/>
              <a:ext cx="4122720" cy="104796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63960" y="4772160"/>
              <a:ext cx="901800" cy="15228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34120" y="4809960"/>
              <a:ext cx="225360" cy="9216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299120" y="4762440"/>
              <a:ext cx="317160" cy="152640"/>
            </a:xfrm>
            <a:prstGeom prst="flowChartExtra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806360" y="548964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5f5f5f"/>
                  </a:solidFill>
                  <a:latin typeface="Arial"/>
                </a:rPr>
                <a:t>mus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098880" y="4699080"/>
              <a:ext cx="0" cy="142236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175520" y="4699080"/>
              <a:ext cx="0" cy="142236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086280" y="6091200"/>
              <a:ext cx="4089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951800" y="60912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384120" y="892080"/>
            <a:ext cx="850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allongement du muscle et des fuseaux neuromusc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des fibres Ia e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ctivation du motoneuron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 muscu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857160" y="1886040"/>
            <a:ext cx="2166480" cy="1612440"/>
            <a:chOff x="857160" y="1886040"/>
            <a:chExt cx="2166480" cy="1612440"/>
          </a:xfrm>
        </p:grpSpPr>
        <p:grpSp>
          <p:nvGrpSpPr>
            <p:cNvPr id="1548" name=""/>
            <p:cNvGrpSpPr/>
            <p:nvPr/>
          </p:nvGrpSpPr>
          <p:grpSpPr>
            <a:xfrm>
              <a:off x="1935720" y="1886040"/>
              <a:ext cx="1087920" cy="1612080"/>
              <a:chOff x="1935720" y="1886040"/>
              <a:chExt cx="1087920" cy="1612080"/>
            </a:xfrm>
          </p:grpSpPr>
          <p:sp>
            <p:nvSpPr>
              <p:cNvPr id="1549" name=""/>
              <p:cNvSpPr/>
              <p:nvPr/>
            </p:nvSpPr>
            <p:spPr>
              <a:xfrm>
                <a:off x="1935720" y="1886040"/>
                <a:ext cx="1087920" cy="1612080"/>
              </a:xfrm>
              <a:custGeom>
                <a:avLst/>
                <a:gdLst/>
                <a:ahLst/>
                <a:rect l="l" t="t" r="r" b="b"/>
                <a:pathLst>
                  <a:path w="529" h="744">
                    <a:moveTo>
                      <a:pt x="4" y="130"/>
                    </a:moveTo>
                    <a:cubicBezTo>
                      <a:pt x="13" y="116"/>
                      <a:pt x="27" y="69"/>
                      <a:pt x="49" y="50"/>
                    </a:cubicBezTo>
                    <a:cubicBezTo>
                      <a:pt x="70" y="31"/>
                      <a:pt x="90" y="20"/>
                      <a:pt x="132" y="17"/>
                    </a:cubicBezTo>
                    <a:cubicBezTo>
                      <a:pt x="173" y="13"/>
                      <a:pt x="245" y="0"/>
                      <a:pt x="298" y="30"/>
                    </a:cubicBezTo>
                    <a:cubicBezTo>
                      <a:pt x="352" y="60"/>
                      <a:pt x="419" y="145"/>
                      <a:pt x="451" y="196"/>
                    </a:cubicBezTo>
                    <a:cubicBezTo>
                      <a:pt x="484" y="247"/>
                      <a:pt x="483" y="281"/>
                      <a:pt x="496" y="335"/>
                    </a:cubicBezTo>
                    <a:cubicBezTo>
                      <a:pt x="509" y="389"/>
                      <a:pt x="529" y="464"/>
                      <a:pt x="528" y="521"/>
                    </a:cubicBezTo>
                    <a:cubicBezTo>
                      <a:pt x="527" y="579"/>
                      <a:pt x="510" y="645"/>
                      <a:pt x="490" y="681"/>
                    </a:cubicBezTo>
                    <a:cubicBezTo>
                      <a:pt x="470" y="717"/>
                      <a:pt x="442" y="724"/>
                      <a:pt x="407" y="734"/>
                    </a:cubicBezTo>
                    <a:cubicBezTo>
                      <a:pt x="372" y="744"/>
                      <a:pt x="326" y="742"/>
                      <a:pt x="279" y="741"/>
                    </a:cubicBezTo>
                    <a:cubicBezTo>
                      <a:pt x="232" y="740"/>
                      <a:pt x="164" y="741"/>
                      <a:pt x="125" y="727"/>
                    </a:cubicBezTo>
                    <a:cubicBezTo>
                      <a:pt x="87" y="714"/>
                      <a:pt x="66" y="688"/>
                      <a:pt x="49" y="661"/>
                    </a:cubicBezTo>
                    <a:cubicBezTo>
                      <a:pt x="32" y="634"/>
                      <a:pt x="31" y="583"/>
                      <a:pt x="23" y="561"/>
                    </a:cubicBezTo>
                    <a:cubicBezTo>
                      <a:pt x="15" y="539"/>
                      <a:pt x="5" y="535"/>
                      <a:pt x="0" y="52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943640" y="2048400"/>
                <a:ext cx="891000" cy="1206720"/>
              </a:xfrm>
              <a:custGeom>
                <a:avLst/>
                <a:gdLst/>
                <a:ahLst/>
                <a:rect l="l" t="t" r="r" b="b"/>
                <a:pathLst>
                  <a:path w="433" h="557">
                    <a:moveTo>
                      <a:pt x="0" y="229"/>
                    </a:moveTo>
                    <a:cubicBezTo>
                      <a:pt x="17" y="229"/>
                      <a:pt x="35" y="230"/>
                      <a:pt x="52" y="229"/>
                    </a:cubicBezTo>
                    <a:cubicBezTo>
                      <a:pt x="69" y="228"/>
                      <a:pt x="88" y="244"/>
                      <a:pt x="100" y="225"/>
                    </a:cubicBezTo>
                    <a:cubicBezTo>
                      <a:pt x="112" y="206"/>
                      <a:pt x="116" y="144"/>
                      <a:pt x="124" y="117"/>
                    </a:cubicBezTo>
                    <a:cubicBezTo>
                      <a:pt x="132" y="90"/>
                      <a:pt x="137" y="74"/>
                      <a:pt x="148" y="61"/>
                    </a:cubicBezTo>
                    <a:cubicBezTo>
                      <a:pt x="159" y="48"/>
                      <a:pt x="170" y="43"/>
                      <a:pt x="188" y="37"/>
                    </a:cubicBezTo>
                    <a:cubicBezTo>
                      <a:pt x="206" y="31"/>
                      <a:pt x="234" y="29"/>
                      <a:pt x="256" y="25"/>
                    </a:cubicBezTo>
                    <a:cubicBezTo>
                      <a:pt x="278" y="21"/>
                      <a:pt x="305" y="17"/>
                      <a:pt x="320" y="13"/>
                    </a:cubicBezTo>
                    <a:cubicBezTo>
                      <a:pt x="335" y="9"/>
                      <a:pt x="341" y="0"/>
                      <a:pt x="348" y="1"/>
                    </a:cubicBezTo>
                    <a:cubicBezTo>
                      <a:pt x="355" y="2"/>
                      <a:pt x="365" y="7"/>
                      <a:pt x="364" y="21"/>
                    </a:cubicBezTo>
                    <a:cubicBezTo>
                      <a:pt x="363" y="35"/>
                      <a:pt x="348" y="57"/>
                      <a:pt x="340" y="85"/>
                    </a:cubicBezTo>
                    <a:cubicBezTo>
                      <a:pt x="332" y="113"/>
                      <a:pt x="326" y="164"/>
                      <a:pt x="316" y="189"/>
                    </a:cubicBezTo>
                    <a:cubicBezTo>
                      <a:pt x="306" y="214"/>
                      <a:pt x="274" y="224"/>
                      <a:pt x="280" y="237"/>
                    </a:cubicBezTo>
                    <a:cubicBezTo>
                      <a:pt x="286" y="250"/>
                      <a:pt x="329" y="252"/>
                      <a:pt x="352" y="265"/>
                    </a:cubicBezTo>
                    <a:cubicBezTo>
                      <a:pt x="375" y="278"/>
                      <a:pt x="403" y="296"/>
                      <a:pt x="416" y="317"/>
                    </a:cubicBezTo>
                    <a:cubicBezTo>
                      <a:pt x="429" y="338"/>
                      <a:pt x="431" y="365"/>
                      <a:pt x="432" y="389"/>
                    </a:cubicBezTo>
                    <a:cubicBezTo>
                      <a:pt x="433" y="413"/>
                      <a:pt x="429" y="436"/>
                      <a:pt x="424" y="461"/>
                    </a:cubicBezTo>
                    <a:cubicBezTo>
                      <a:pt x="419" y="486"/>
                      <a:pt x="417" y="526"/>
                      <a:pt x="404" y="541"/>
                    </a:cubicBezTo>
                    <a:cubicBezTo>
                      <a:pt x="391" y="556"/>
                      <a:pt x="365" y="550"/>
                      <a:pt x="348" y="553"/>
                    </a:cubicBezTo>
                    <a:cubicBezTo>
                      <a:pt x="331" y="556"/>
                      <a:pt x="319" y="557"/>
                      <a:pt x="300" y="557"/>
                    </a:cubicBezTo>
                    <a:cubicBezTo>
                      <a:pt x="281" y="557"/>
                      <a:pt x="250" y="556"/>
                      <a:pt x="236" y="553"/>
                    </a:cubicBezTo>
                    <a:cubicBezTo>
                      <a:pt x="222" y="550"/>
                      <a:pt x="227" y="545"/>
                      <a:pt x="216" y="537"/>
                    </a:cubicBezTo>
                    <a:cubicBezTo>
                      <a:pt x="205" y="529"/>
                      <a:pt x="184" y="516"/>
                      <a:pt x="172" y="505"/>
                    </a:cubicBezTo>
                    <a:cubicBezTo>
                      <a:pt x="160" y="494"/>
                      <a:pt x="152" y="484"/>
                      <a:pt x="144" y="473"/>
                    </a:cubicBezTo>
                    <a:cubicBezTo>
                      <a:pt x="136" y="462"/>
                      <a:pt x="129" y="451"/>
                      <a:pt x="124" y="441"/>
                    </a:cubicBezTo>
                    <a:cubicBezTo>
                      <a:pt x="119" y="431"/>
                      <a:pt x="121" y="420"/>
                      <a:pt x="116" y="413"/>
                    </a:cubicBezTo>
                    <a:cubicBezTo>
                      <a:pt x="111" y="406"/>
                      <a:pt x="101" y="406"/>
                      <a:pt x="92" y="401"/>
                    </a:cubicBezTo>
                    <a:cubicBezTo>
                      <a:pt x="83" y="396"/>
                      <a:pt x="79" y="390"/>
                      <a:pt x="64" y="385"/>
                    </a:cubicBezTo>
                    <a:cubicBezTo>
                      <a:pt x="49" y="380"/>
                      <a:pt x="13" y="372"/>
                      <a:pt x="0" y="369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" name=""/>
            <p:cNvSpPr/>
            <p:nvPr/>
          </p:nvSpPr>
          <p:spPr>
            <a:xfrm flipH="1">
              <a:off x="857160" y="1886040"/>
              <a:ext cx="108864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1054440" y="2048400"/>
              <a:ext cx="89136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345280" y="41878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243760" y="3121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697640" y="2765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383200" y="25369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370240" y="2206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160880" y="2523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210120" y="1889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35788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652840" y="27273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008520" y="29941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13240" y="31971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037400" y="34131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316760" y="37306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456440" y="4200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69040" y="45687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45124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683480" y="466884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513240" y="53308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396040" y="3273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983400" y="5457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5040" y="54705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646960" y="5407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078600" y="5305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535800" y="51530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f2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451240" y="5803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7175160" y="57992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3073320" y="4441680"/>
            <a:ext cx="4122720" cy="1986840"/>
            <a:chOff x="3073320" y="4441680"/>
            <a:chExt cx="4122720" cy="1986840"/>
          </a:xfrm>
        </p:grpSpPr>
        <p:sp>
          <p:nvSpPr>
            <p:cNvPr id="1594" name=""/>
            <p:cNvSpPr/>
            <p:nvPr/>
          </p:nvSpPr>
          <p:spPr>
            <a:xfrm>
              <a:off x="3073320" y="4441680"/>
              <a:ext cx="4122720" cy="104796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863960" y="4772160"/>
              <a:ext cx="901800" cy="152280"/>
            </a:xfrm>
            <a:prstGeom prst="ellipse">
              <a:avLst/>
            </a:pr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334120" y="4809960"/>
              <a:ext cx="225360" cy="92160"/>
            </a:xfrm>
            <a:custGeom>
              <a:avLst/>
              <a:gdLst/>
              <a:ahLst/>
              <a:rect l="l" t="t" r="r" b="b"/>
              <a:pathLst>
                <a:path w="166" h="94">
                  <a:moveTo>
                    <a:pt x="0" y="0"/>
                  </a:moveTo>
                  <a:cubicBezTo>
                    <a:pt x="49" y="6"/>
                    <a:pt x="52" y="1"/>
                    <a:pt x="66" y="42"/>
                  </a:cubicBezTo>
                  <a:cubicBezTo>
                    <a:pt x="59" y="62"/>
                    <a:pt x="49" y="94"/>
                    <a:pt x="36" y="54"/>
                  </a:cubicBezTo>
                  <a:cubicBezTo>
                    <a:pt x="46" y="4"/>
                    <a:pt x="56" y="12"/>
                    <a:pt x="108" y="18"/>
                  </a:cubicBezTo>
                  <a:cubicBezTo>
                    <a:pt x="106" y="36"/>
                    <a:pt x="110" y="56"/>
                    <a:pt x="102" y="72"/>
                  </a:cubicBezTo>
                  <a:cubicBezTo>
                    <a:pt x="99" y="78"/>
                    <a:pt x="86" y="72"/>
                    <a:pt x="84" y="66"/>
                  </a:cubicBezTo>
                  <a:cubicBezTo>
                    <a:pt x="81" y="52"/>
                    <a:pt x="84" y="37"/>
                    <a:pt x="90" y="24"/>
                  </a:cubicBezTo>
                  <a:cubicBezTo>
                    <a:pt x="94" y="15"/>
                    <a:pt x="118" y="9"/>
                    <a:pt x="126" y="6"/>
                  </a:cubicBezTo>
                  <a:cubicBezTo>
                    <a:pt x="132" y="8"/>
                    <a:pt x="140" y="7"/>
                    <a:pt x="144" y="12"/>
                  </a:cubicBezTo>
                  <a:cubicBezTo>
                    <a:pt x="156" y="29"/>
                    <a:pt x="166" y="59"/>
                    <a:pt x="156" y="78"/>
                  </a:cubicBez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99120" y="4762440"/>
              <a:ext cx="317160" cy="152640"/>
            </a:xfrm>
            <a:prstGeom prst="flowChartExtra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806360" y="548964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5f5f5f"/>
                  </a:solidFill>
                  <a:latin typeface="Arial"/>
                </a:rPr>
                <a:t>mus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098880" y="4699080"/>
              <a:ext cx="0" cy="142236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75520" y="4699080"/>
              <a:ext cx="0" cy="142236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086280" y="6091200"/>
              <a:ext cx="4089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951800" y="60912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384120" y="892080"/>
            <a:ext cx="850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etour à la longueur initiale : arrêt de la stimulation réflex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1935000" y="1886040"/>
            <a:ext cx="1089000" cy="1612440"/>
            <a:chOff x="1935000" y="1886040"/>
            <a:chExt cx="1089000" cy="1612440"/>
          </a:xfrm>
        </p:grpSpPr>
        <p:sp>
          <p:nvSpPr>
            <p:cNvPr id="1605" name=""/>
            <p:cNvSpPr/>
            <p:nvPr/>
          </p:nvSpPr>
          <p:spPr>
            <a:xfrm>
              <a:off x="1935000" y="1886040"/>
              <a:ext cx="1089000" cy="1612440"/>
            </a:xfrm>
            <a:custGeom>
              <a:avLst/>
              <a:gdLst/>
              <a:ahLst/>
              <a:rect l="l" t="t" r="r" b="b"/>
              <a:pathLst>
                <a:path w="529" h="744">
                  <a:moveTo>
                    <a:pt x="4" y="130"/>
                  </a:moveTo>
                  <a:cubicBezTo>
                    <a:pt x="13" y="116"/>
                    <a:pt x="27" y="69"/>
                    <a:pt x="49" y="50"/>
                  </a:cubicBezTo>
                  <a:cubicBezTo>
                    <a:pt x="70" y="31"/>
                    <a:pt x="90" y="20"/>
                    <a:pt x="132" y="17"/>
                  </a:cubicBezTo>
                  <a:cubicBezTo>
                    <a:pt x="173" y="13"/>
                    <a:pt x="245" y="0"/>
                    <a:pt x="298" y="30"/>
                  </a:cubicBezTo>
                  <a:cubicBezTo>
                    <a:pt x="352" y="60"/>
                    <a:pt x="419" y="145"/>
                    <a:pt x="451" y="196"/>
                  </a:cubicBezTo>
                  <a:cubicBezTo>
                    <a:pt x="484" y="247"/>
                    <a:pt x="483" y="281"/>
                    <a:pt x="496" y="335"/>
                  </a:cubicBezTo>
                  <a:cubicBezTo>
                    <a:pt x="509" y="389"/>
                    <a:pt x="529" y="464"/>
                    <a:pt x="528" y="521"/>
                  </a:cubicBezTo>
                  <a:cubicBezTo>
                    <a:pt x="527" y="579"/>
                    <a:pt x="510" y="645"/>
                    <a:pt x="490" y="681"/>
                  </a:cubicBezTo>
                  <a:cubicBezTo>
                    <a:pt x="470" y="717"/>
                    <a:pt x="442" y="724"/>
                    <a:pt x="407" y="734"/>
                  </a:cubicBezTo>
                  <a:cubicBezTo>
                    <a:pt x="372" y="744"/>
                    <a:pt x="326" y="742"/>
                    <a:pt x="279" y="741"/>
                  </a:cubicBezTo>
                  <a:cubicBezTo>
                    <a:pt x="232" y="740"/>
                    <a:pt x="164" y="741"/>
                    <a:pt x="125" y="727"/>
                  </a:cubicBezTo>
                  <a:cubicBezTo>
                    <a:pt x="87" y="714"/>
                    <a:pt x="66" y="688"/>
                    <a:pt x="49" y="661"/>
                  </a:cubicBezTo>
                  <a:cubicBezTo>
                    <a:pt x="32" y="634"/>
                    <a:pt x="31" y="583"/>
                    <a:pt x="23" y="561"/>
                  </a:cubicBezTo>
                  <a:cubicBezTo>
                    <a:pt x="15" y="539"/>
                    <a:pt x="5" y="535"/>
                    <a:pt x="0" y="528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942920" y="2048400"/>
              <a:ext cx="892080" cy="1207080"/>
            </a:xfrm>
            <a:custGeom>
              <a:avLst/>
              <a:gdLst/>
              <a:ahLst/>
              <a:rect l="l" t="t" r="r" b="b"/>
              <a:pathLst>
                <a:path w="433" h="557">
                  <a:moveTo>
                    <a:pt x="0" y="229"/>
                  </a:moveTo>
                  <a:cubicBezTo>
                    <a:pt x="17" y="229"/>
                    <a:pt x="35" y="230"/>
                    <a:pt x="52" y="229"/>
                  </a:cubicBezTo>
                  <a:cubicBezTo>
                    <a:pt x="69" y="228"/>
                    <a:pt x="88" y="244"/>
                    <a:pt x="100" y="225"/>
                  </a:cubicBezTo>
                  <a:cubicBezTo>
                    <a:pt x="112" y="206"/>
                    <a:pt x="116" y="144"/>
                    <a:pt x="124" y="117"/>
                  </a:cubicBezTo>
                  <a:cubicBezTo>
                    <a:pt x="132" y="90"/>
                    <a:pt x="137" y="74"/>
                    <a:pt x="148" y="61"/>
                  </a:cubicBezTo>
                  <a:cubicBezTo>
                    <a:pt x="159" y="48"/>
                    <a:pt x="170" y="43"/>
                    <a:pt x="188" y="37"/>
                  </a:cubicBezTo>
                  <a:cubicBezTo>
                    <a:pt x="206" y="31"/>
                    <a:pt x="234" y="29"/>
                    <a:pt x="256" y="25"/>
                  </a:cubicBezTo>
                  <a:cubicBezTo>
                    <a:pt x="278" y="21"/>
                    <a:pt x="305" y="17"/>
                    <a:pt x="320" y="13"/>
                  </a:cubicBezTo>
                  <a:cubicBezTo>
                    <a:pt x="335" y="9"/>
                    <a:pt x="341" y="0"/>
                    <a:pt x="348" y="1"/>
                  </a:cubicBezTo>
                  <a:cubicBezTo>
                    <a:pt x="355" y="2"/>
                    <a:pt x="365" y="7"/>
                    <a:pt x="364" y="21"/>
                  </a:cubicBezTo>
                  <a:cubicBezTo>
                    <a:pt x="363" y="35"/>
                    <a:pt x="348" y="57"/>
                    <a:pt x="340" y="85"/>
                  </a:cubicBezTo>
                  <a:cubicBezTo>
                    <a:pt x="332" y="113"/>
                    <a:pt x="326" y="164"/>
                    <a:pt x="316" y="189"/>
                  </a:cubicBezTo>
                  <a:cubicBezTo>
                    <a:pt x="306" y="214"/>
                    <a:pt x="274" y="224"/>
                    <a:pt x="280" y="237"/>
                  </a:cubicBezTo>
                  <a:cubicBezTo>
                    <a:pt x="286" y="250"/>
                    <a:pt x="329" y="252"/>
                    <a:pt x="352" y="265"/>
                  </a:cubicBezTo>
                  <a:cubicBezTo>
                    <a:pt x="375" y="278"/>
                    <a:pt x="403" y="296"/>
                    <a:pt x="416" y="317"/>
                  </a:cubicBezTo>
                  <a:cubicBezTo>
                    <a:pt x="429" y="338"/>
                    <a:pt x="431" y="365"/>
                    <a:pt x="432" y="389"/>
                  </a:cubicBezTo>
                  <a:cubicBezTo>
                    <a:pt x="433" y="413"/>
                    <a:pt x="429" y="436"/>
                    <a:pt x="424" y="461"/>
                  </a:cubicBezTo>
                  <a:cubicBezTo>
                    <a:pt x="419" y="486"/>
                    <a:pt x="417" y="526"/>
                    <a:pt x="404" y="541"/>
                  </a:cubicBezTo>
                  <a:cubicBezTo>
                    <a:pt x="391" y="556"/>
                    <a:pt x="365" y="550"/>
                    <a:pt x="348" y="553"/>
                  </a:cubicBezTo>
                  <a:cubicBezTo>
                    <a:pt x="331" y="556"/>
                    <a:pt x="319" y="557"/>
                    <a:pt x="300" y="557"/>
                  </a:cubicBezTo>
                  <a:cubicBezTo>
                    <a:pt x="281" y="557"/>
                    <a:pt x="250" y="556"/>
                    <a:pt x="236" y="553"/>
                  </a:cubicBezTo>
                  <a:cubicBezTo>
                    <a:pt x="222" y="550"/>
                    <a:pt x="227" y="545"/>
                    <a:pt x="216" y="537"/>
                  </a:cubicBezTo>
                  <a:cubicBezTo>
                    <a:pt x="205" y="529"/>
                    <a:pt x="184" y="516"/>
                    <a:pt x="172" y="505"/>
                  </a:cubicBezTo>
                  <a:cubicBezTo>
                    <a:pt x="160" y="494"/>
                    <a:pt x="152" y="484"/>
                    <a:pt x="144" y="473"/>
                  </a:cubicBezTo>
                  <a:cubicBezTo>
                    <a:pt x="136" y="462"/>
                    <a:pt x="129" y="451"/>
                    <a:pt x="124" y="441"/>
                  </a:cubicBezTo>
                  <a:cubicBezTo>
                    <a:pt x="119" y="431"/>
                    <a:pt x="121" y="420"/>
                    <a:pt x="116" y="413"/>
                  </a:cubicBezTo>
                  <a:cubicBezTo>
                    <a:pt x="111" y="406"/>
                    <a:pt x="101" y="406"/>
                    <a:pt x="92" y="401"/>
                  </a:cubicBezTo>
                  <a:cubicBezTo>
                    <a:pt x="83" y="396"/>
                    <a:pt x="79" y="390"/>
                    <a:pt x="64" y="385"/>
                  </a:cubicBezTo>
                  <a:cubicBezTo>
                    <a:pt x="49" y="380"/>
                    <a:pt x="13" y="372"/>
                    <a:pt x="0" y="369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" name=""/>
          <p:cNvSpPr/>
          <p:nvPr/>
        </p:nvSpPr>
        <p:spPr>
          <a:xfrm flipH="1">
            <a:off x="856440" y="1886040"/>
            <a:ext cx="1089000" cy="1612800"/>
          </a:xfrm>
          <a:custGeom>
            <a:avLst/>
            <a:gdLst/>
            <a:ahLst/>
            <a:rect l="l" t="t" r="r" b="b"/>
            <a:pathLst>
              <a:path w="529" h="744">
                <a:moveTo>
                  <a:pt x="4" y="130"/>
                </a:moveTo>
                <a:cubicBezTo>
                  <a:pt x="13" y="116"/>
                  <a:pt x="27" y="69"/>
                  <a:pt x="49" y="50"/>
                </a:cubicBezTo>
                <a:cubicBezTo>
                  <a:pt x="70" y="31"/>
                  <a:pt x="90" y="20"/>
                  <a:pt x="132" y="17"/>
                </a:cubicBezTo>
                <a:cubicBezTo>
                  <a:pt x="173" y="13"/>
                  <a:pt x="245" y="0"/>
                  <a:pt x="298" y="30"/>
                </a:cubicBezTo>
                <a:cubicBezTo>
                  <a:pt x="352" y="60"/>
                  <a:pt x="419" y="145"/>
                  <a:pt x="451" y="196"/>
                </a:cubicBezTo>
                <a:cubicBezTo>
                  <a:pt x="484" y="247"/>
                  <a:pt x="483" y="281"/>
                  <a:pt x="496" y="335"/>
                </a:cubicBezTo>
                <a:cubicBezTo>
                  <a:pt x="509" y="389"/>
                  <a:pt x="529" y="464"/>
                  <a:pt x="528" y="521"/>
                </a:cubicBezTo>
                <a:cubicBezTo>
                  <a:pt x="527" y="579"/>
                  <a:pt x="510" y="645"/>
                  <a:pt x="490" y="681"/>
                </a:cubicBezTo>
                <a:cubicBezTo>
                  <a:pt x="470" y="717"/>
                  <a:pt x="442" y="724"/>
                  <a:pt x="407" y="734"/>
                </a:cubicBezTo>
                <a:cubicBezTo>
                  <a:pt x="372" y="744"/>
                  <a:pt x="326" y="742"/>
                  <a:pt x="279" y="741"/>
                </a:cubicBezTo>
                <a:cubicBezTo>
                  <a:pt x="232" y="740"/>
                  <a:pt x="164" y="741"/>
                  <a:pt x="125" y="727"/>
                </a:cubicBezTo>
                <a:cubicBezTo>
                  <a:pt x="87" y="714"/>
                  <a:pt x="66" y="688"/>
                  <a:pt x="49" y="661"/>
                </a:cubicBezTo>
                <a:cubicBezTo>
                  <a:pt x="32" y="634"/>
                  <a:pt x="31" y="583"/>
                  <a:pt x="23" y="561"/>
                </a:cubicBezTo>
                <a:cubicBezTo>
                  <a:pt x="15" y="539"/>
                  <a:pt x="5" y="535"/>
                  <a:pt x="0" y="528"/>
                </a:cubicBezTo>
              </a:path>
            </a:pathLst>
          </a:custGeom>
          <a:solidFill>
            <a:srgbClr val="cccc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054080" y="2048040"/>
            <a:ext cx="892080" cy="1207800"/>
          </a:xfrm>
          <a:custGeom>
            <a:avLst/>
            <a:gdLst/>
            <a:ahLst/>
            <a:rect l="l" t="t" r="r" b="b"/>
            <a:pathLst>
              <a:path w="433" h="557">
                <a:moveTo>
                  <a:pt x="0" y="229"/>
                </a:moveTo>
                <a:cubicBezTo>
                  <a:pt x="17" y="229"/>
                  <a:pt x="35" y="230"/>
                  <a:pt x="52" y="229"/>
                </a:cubicBezTo>
                <a:cubicBezTo>
                  <a:pt x="69" y="228"/>
                  <a:pt x="88" y="244"/>
                  <a:pt x="100" y="225"/>
                </a:cubicBezTo>
                <a:cubicBezTo>
                  <a:pt x="112" y="206"/>
                  <a:pt x="116" y="144"/>
                  <a:pt x="124" y="117"/>
                </a:cubicBezTo>
                <a:cubicBezTo>
                  <a:pt x="132" y="90"/>
                  <a:pt x="137" y="74"/>
                  <a:pt x="148" y="61"/>
                </a:cubicBezTo>
                <a:cubicBezTo>
                  <a:pt x="159" y="48"/>
                  <a:pt x="170" y="43"/>
                  <a:pt x="188" y="37"/>
                </a:cubicBezTo>
                <a:cubicBezTo>
                  <a:pt x="206" y="31"/>
                  <a:pt x="234" y="29"/>
                  <a:pt x="256" y="25"/>
                </a:cubicBezTo>
                <a:cubicBezTo>
                  <a:pt x="278" y="21"/>
                  <a:pt x="305" y="17"/>
                  <a:pt x="320" y="13"/>
                </a:cubicBezTo>
                <a:cubicBezTo>
                  <a:pt x="335" y="9"/>
                  <a:pt x="341" y="0"/>
                  <a:pt x="348" y="1"/>
                </a:cubicBezTo>
                <a:cubicBezTo>
                  <a:pt x="355" y="2"/>
                  <a:pt x="365" y="7"/>
                  <a:pt x="364" y="21"/>
                </a:cubicBezTo>
                <a:cubicBezTo>
                  <a:pt x="363" y="35"/>
                  <a:pt x="348" y="57"/>
                  <a:pt x="340" y="85"/>
                </a:cubicBezTo>
                <a:cubicBezTo>
                  <a:pt x="332" y="113"/>
                  <a:pt x="326" y="164"/>
                  <a:pt x="316" y="189"/>
                </a:cubicBezTo>
                <a:cubicBezTo>
                  <a:pt x="306" y="214"/>
                  <a:pt x="274" y="224"/>
                  <a:pt x="280" y="237"/>
                </a:cubicBezTo>
                <a:cubicBezTo>
                  <a:pt x="286" y="250"/>
                  <a:pt x="329" y="252"/>
                  <a:pt x="352" y="265"/>
                </a:cubicBezTo>
                <a:cubicBezTo>
                  <a:pt x="375" y="278"/>
                  <a:pt x="403" y="296"/>
                  <a:pt x="416" y="317"/>
                </a:cubicBezTo>
                <a:cubicBezTo>
                  <a:pt x="429" y="338"/>
                  <a:pt x="431" y="365"/>
                  <a:pt x="432" y="389"/>
                </a:cubicBezTo>
                <a:cubicBezTo>
                  <a:pt x="433" y="413"/>
                  <a:pt x="429" y="436"/>
                  <a:pt x="424" y="461"/>
                </a:cubicBezTo>
                <a:cubicBezTo>
                  <a:pt x="419" y="486"/>
                  <a:pt x="417" y="526"/>
                  <a:pt x="404" y="541"/>
                </a:cubicBezTo>
                <a:cubicBezTo>
                  <a:pt x="391" y="556"/>
                  <a:pt x="365" y="550"/>
                  <a:pt x="348" y="553"/>
                </a:cubicBezTo>
                <a:cubicBezTo>
                  <a:pt x="331" y="556"/>
                  <a:pt x="319" y="557"/>
                  <a:pt x="300" y="557"/>
                </a:cubicBezTo>
                <a:cubicBezTo>
                  <a:pt x="281" y="557"/>
                  <a:pt x="250" y="556"/>
                  <a:pt x="236" y="553"/>
                </a:cubicBezTo>
                <a:cubicBezTo>
                  <a:pt x="222" y="550"/>
                  <a:pt x="227" y="545"/>
                  <a:pt x="216" y="537"/>
                </a:cubicBezTo>
                <a:cubicBezTo>
                  <a:pt x="205" y="529"/>
                  <a:pt x="184" y="516"/>
                  <a:pt x="172" y="505"/>
                </a:cubicBezTo>
                <a:cubicBezTo>
                  <a:pt x="160" y="494"/>
                  <a:pt x="152" y="484"/>
                  <a:pt x="144" y="473"/>
                </a:cubicBezTo>
                <a:cubicBezTo>
                  <a:pt x="136" y="462"/>
                  <a:pt x="129" y="451"/>
                  <a:pt x="124" y="441"/>
                </a:cubicBezTo>
                <a:cubicBezTo>
                  <a:pt x="119" y="431"/>
                  <a:pt x="121" y="420"/>
                  <a:pt x="116" y="413"/>
                </a:cubicBezTo>
                <a:cubicBezTo>
                  <a:pt x="111" y="406"/>
                  <a:pt x="101" y="406"/>
                  <a:pt x="92" y="401"/>
                </a:cubicBezTo>
                <a:cubicBezTo>
                  <a:pt x="83" y="396"/>
                  <a:pt x="79" y="390"/>
                  <a:pt x="64" y="385"/>
                </a:cubicBezTo>
                <a:cubicBezTo>
                  <a:pt x="49" y="380"/>
                  <a:pt x="13" y="372"/>
                  <a:pt x="0" y="369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400560" y="2222640"/>
            <a:ext cx="17136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17920" y="2273400"/>
            <a:ext cx="1827360" cy="2552760"/>
          </a:xfrm>
          <a:custGeom>
            <a:avLst/>
            <a:gdLst/>
            <a:ahLst/>
            <a:rect l="l" t="t" r="r" b="b"/>
            <a:pathLst>
              <a:path w="1151" h="1608">
                <a:moveTo>
                  <a:pt x="32" y="0"/>
                </a:moveTo>
                <a:cubicBezTo>
                  <a:pt x="16" y="13"/>
                  <a:pt x="0" y="27"/>
                  <a:pt x="24" y="56"/>
                </a:cubicBezTo>
                <a:cubicBezTo>
                  <a:pt x="48" y="85"/>
                  <a:pt x="71" y="116"/>
                  <a:pt x="176" y="176"/>
                </a:cubicBezTo>
                <a:cubicBezTo>
                  <a:pt x="281" y="236"/>
                  <a:pt x="517" y="345"/>
                  <a:pt x="656" y="416"/>
                </a:cubicBezTo>
                <a:cubicBezTo>
                  <a:pt x="795" y="487"/>
                  <a:pt x="933" y="556"/>
                  <a:pt x="1008" y="600"/>
                </a:cubicBezTo>
                <a:cubicBezTo>
                  <a:pt x="1083" y="644"/>
                  <a:pt x="1081" y="629"/>
                  <a:pt x="1104" y="680"/>
                </a:cubicBezTo>
                <a:cubicBezTo>
                  <a:pt x="1127" y="731"/>
                  <a:pt x="1137" y="811"/>
                  <a:pt x="1144" y="904"/>
                </a:cubicBezTo>
                <a:cubicBezTo>
                  <a:pt x="1151" y="997"/>
                  <a:pt x="1144" y="1123"/>
                  <a:pt x="1144" y="1240"/>
                </a:cubicBezTo>
                <a:cubicBezTo>
                  <a:pt x="1144" y="1357"/>
                  <a:pt x="1145" y="1548"/>
                  <a:pt x="1144" y="1608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341440" y="2008080"/>
            <a:ext cx="1113120" cy="912960"/>
          </a:xfrm>
          <a:custGeom>
            <a:avLst/>
            <a:gdLst/>
            <a:ahLst/>
            <a:rect l="l" t="t" r="r" b="b"/>
            <a:pathLst>
              <a:path w="701" h="575">
                <a:moveTo>
                  <a:pt x="701" y="175"/>
                </a:moveTo>
                <a:cubicBezTo>
                  <a:pt x="691" y="193"/>
                  <a:pt x="681" y="212"/>
                  <a:pt x="645" y="199"/>
                </a:cubicBezTo>
                <a:cubicBezTo>
                  <a:pt x="609" y="186"/>
                  <a:pt x="534" y="126"/>
                  <a:pt x="485" y="95"/>
                </a:cubicBezTo>
                <a:cubicBezTo>
                  <a:pt x="436" y="64"/>
                  <a:pt x="386" y="30"/>
                  <a:pt x="349" y="15"/>
                </a:cubicBezTo>
                <a:cubicBezTo>
                  <a:pt x="312" y="0"/>
                  <a:pt x="288" y="2"/>
                  <a:pt x="261" y="7"/>
                </a:cubicBezTo>
                <a:cubicBezTo>
                  <a:pt x="234" y="12"/>
                  <a:pt x="221" y="22"/>
                  <a:pt x="189" y="47"/>
                </a:cubicBezTo>
                <a:cubicBezTo>
                  <a:pt x="157" y="72"/>
                  <a:pt x="100" y="107"/>
                  <a:pt x="69" y="159"/>
                </a:cubicBezTo>
                <a:cubicBezTo>
                  <a:pt x="38" y="211"/>
                  <a:pt x="0" y="290"/>
                  <a:pt x="5" y="359"/>
                </a:cubicBezTo>
                <a:cubicBezTo>
                  <a:pt x="10" y="428"/>
                  <a:pt x="81" y="530"/>
                  <a:pt x="101" y="57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600280" y="3000240"/>
            <a:ext cx="1878120" cy="1809720"/>
          </a:xfrm>
          <a:custGeom>
            <a:avLst/>
            <a:gdLst/>
            <a:ahLst/>
            <a:rect l="l" t="t" r="r" b="b"/>
            <a:pathLst>
              <a:path w="1183" h="1140">
                <a:moveTo>
                  <a:pt x="0" y="0"/>
                </a:moveTo>
                <a:cubicBezTo>
                  <a:pt x="196" y="96"/>
                  <a:pt x="393" y="193"/>
                  <a:pt x="534" y="264"/>
                </a:cubicBezTo>
                <a:cubicBezTo>
                  <a:pt x="675" y="335"/>
                  <a:pt x="770" y="385"/>
                  <a:pt x="846" y="426"/>
                </a:cubicBezTo>
                <a:cubicBezTo>
                  <a:pt x="922" y="467"/>
                  <a:pt x="939" y="464"/>
                  <a:pt x="990" y="510"/>
                </a:cubicBezTo>
                <a:cubicBezTo>
                  <a:pt x="1041" y="556"/>
                  <a:pt x="1121" y="625"/>
                  <a:pt x="1152" y="702"/>
                </a:cubicBezTo>
                <a:cubicBezTo>
                  <a:pt x="1183" y="779"/>
                  <a:pt x="1172" y="899"/>
                  <a:pt x="1176" y="972"/>
                </a:cubicBezTo>
                <a:cubicBezTo>
                  <a:pt x="1180" y="1045"/>
                  <a:pt x="1178" y="1092"/>
                  <a:pt x="1176" y="1140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961080" y="22510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ibre sens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5628960" y="4248000"/>
            <a:ext cx="361800" cy="5810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904360" y="3936960"/>
            <a:ext cx="25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455560" y="379080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toneurone </a:t>
            </a:r>
            <a:r>
              <a:rPr b="1" lang="fr-FR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096920" y="35560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299120" y="4762440"/>
            <a:ext cx="317160" cy="152640"/>
          </a:xfrm>
          <a:prstGeom prst="flowChartExtra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517840" y="2911320"/>
            <a:ext cx="203040" cy="1908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81080" y="206280"/>
            <a:ext cx="8829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ise en jeu de l’arc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84120" y="1679400"/>
            <a:ext cx="8508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 Ia : réponse phasiqu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ponse rap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dépassement : raccourcissement plus important que l’étirement init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excessive des fibres Ia : spasticité (spasmes contract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ibre II : réponse tonique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imulation excessive des fibres Ia : hypertoni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rôle des fibres Ia et fibre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en absence de stimulation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634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981080" y="4686480"/>
            <a:ext cx="3111480" cy="4698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959120" y="466416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5024520" y="2260440"/>
            <a:ext cx="905760" cy="4165560"/>
            <a:chOff x="5024520" y="2260440"/>
            <a:chExt cx="905760" cy="4165560"/>
          </a:xfrm>
        </p:grpSpPr>
        <p:grpSp>
          <p:nvGrpSpPr>
            <p:cNvPr id="1643" name=""/>
            <p:cNvGrpSpPr/>
            <p:nvPr/>
          </p:nvGrpSpPr>
          <p:grpSpPr>
            <a:xfrm>
              <a:off x="5024520" y="2260440"/>
              <a:ext cx="905760" cy="4165560"/>
              <a:chOff x="5024520" y="2260440"/>
              <a:chExt cx="905760" cy="4165560"/>
            </a:xfrm>
          </p:grpSpPr>
          <p:sp>
            <p:nvSpPr>
              <p:cNvPr id="1644" name=""/>
              <p:cNvSpPr/>
              <p:nvPr/>
            </p:nvSpPr>
            <p:spPr>
              <a:xfrm>
                <a:off x="5024520" y="2260440"/>
                <a:ext cx="455400" cy="416556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>
                <a:off x="5474520" y="2260440"/>
                <a:ext cx="455400" cy="416556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5278320" y="3149640"/>
              <a:ext cx="453960" cy="2084400"/>
              <a:chOff x="5278320" y="3149640"/>
              <a:chExt cx="453960" cy="2084400"/>
            </a:xfrm>
          </p:grpSpPr>
          <p:sp>
            <p:nvSpPr>
              <p:cNvPr id="1647" name=""/>
              <p:cNvSpPr/>
              <p:nvPr/>
            </p:nvSpPr>
            <p:spPr>
              <a:xfrm>
                <a:off x="527832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>
                <a:off x="550404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5495760" y="3952800"/>
              <a:ext cx="0" cy="218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486400" y="3162240"/>
            <a:ext cx="143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511960" y="5219640"/>
            <a:ext cx="1434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012640" y="63421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886440" y="319104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63280" y="3935520"/>
            <a:ext cx="252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4524480" y="1504800"/>
            <a:ext cx="4035240" cy="622080"/>
            <a:chOff x="4524480" y="1504800"/>
            <a:chExt cx="4035240" cy="622080"/>
          </a:xfrm>
        </p:grpSpPr>
        <p:grpSp>
          <p:nvGrpSpPr>
            <p:cNvPr id="1661" name=""/>
            <p:cNvGrpSpPr/>
            <p:nvPr/>
          </p:nvGrpSpPr>
          <p:grpSpPr>
            <a:xfrm>
              <a:off x="4524480" y="1557720"/>
              <a:ext cx="4035240" cy="540000"/>
              <a:chOff x="4524480" y="1557720"/>
              <a:chExt cx="4035240" cy="5400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526640" y="1664280"/>
                <a:ext cx="4033080" cy="31968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635440" y="1557720"/>
                <a:ext cx="1848600" cy="54000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88680" y="166680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435360" y="178020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604200" y="192276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86480" y="1664280"/>
                <a:ext cx="23076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795080" y="1663200"/>
                <a:ext cx="230760" cy="312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706160" y="16642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221680" y="1663200"/>
                <a:ext cx="230760" cy="312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132760" y="16642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29756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550720" y="166680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613400" y="1664280"/>
                <a:ext cx="23076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022000" y="1663200"/>
                <a:ext cx="230760" cy="312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93308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448600" y="1663200"/>
                <a:ext cx="231120" cy="312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360040" y="16642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52448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777640" y="165960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799680" y="168804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221880" y="187272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453000" y="1617120"/>
                <a:ext cx="23976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4" name=""/>
            <p:cNvSpPr/>
            <p:nvPr/>
          </p:nvSpPr>
          <p:spPr>
            <a:xfrm>
              <a:off x="6157800" y="1531080"/>
              <a:ext cx="355320" cy="59580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397560" y="1531080"/>
              <a:ext cx="355320" cy="59580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961960" y="1575720"/>
              <a:ext cx="284400" cy="54252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837760" y="1504800"/>
              <a:ext cx="195480" cy="61020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8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1689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1" name=""/>
          <p:cNvSpPr/>
          <p:nvPr/>
        </p:nvSpPr>
        <p:spPr>
          <a:xfrm>
            <a:off x="5321160" y="3368520"/>
            <a:ext cx="185760" cy="1563840"/>
          </a:xfrm>
          <a:custGeom>
            <a:avLst/>
            <a:gdLst/>
            <a:ahLst/>
            <a:rect l="l" t="t" r="r" b="b"/>
            <a:pathLst>
              <a:path w="117" h="985">
                <a:moveTo>
                  <a:pt x="117" y="0"/>
                </a:moveTo>
                <a:cubicBezTo>
                  <a:pt x="105" y="31"/>
                  <a:pt x="56" y="125"/>
                  <a:pt x="44" y="188"/>
                </a:cubicBezTo>
                <a:cubicBezTo>
                  <a:pt x="32" y="251"/>
                  <a:pt x="50" y="288"/>
                  <a:pt x="44" y="380"/>
                </a:cubicBezTo>
                <a:cubicBezTo>
                  <a:pt x="38" y="472"/>
                  <a:pt x="0" y="649"/>
                  <a:pt x="7" y="739"/>
                </a:cubicBezTo>
                <a:cubicBezTo>
                  <a:pt x="14" y="829"/>
                  <a:pt x="70" y="878"/>
                  <a:pt x="89" y="919"/>
                </a:cubicBezTo>
                <a:cubicBezTo>
                  <a:pt x="107" y="960"/>
                  <a:pt x="112" y="972"/>
                  <a:pt x="117" y="985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504040" y="3368520"/>
            <a:ext cx="258480" cy="1563840"/>
          </a:xfrm>
          <a:custGeom>
            <a:avLst/>
            <a:gdLst/>
            <a:ahLst/>
            <a:rect l="l" t="t" r="r" b="b"/>
            <a:pathLst>
              <a:path w="163" h="985">
                <a:moveTo>
                  <a:pt x="0" y="0"/>
                </a:moveTo>
                <a:cubicBezTo>
                  <a:pt x="23" y="46"/>
                  <a:pt x="115" y="197"/>
                  <a:pt x="139" y="278"/>
                </a:cubicBezTo>
                <a:cubicBezTo>
                  <a:pt x="163" y="359"/>
                  <a:pt x="155" y="411"/>
                  <a:pt x="142" y="486"/>
                </a:cubicBezTo>
                <a:cubicBezTo>
                  <a:pt x="129" y="561"/>
                  <a:pt x="74" y="656"/>
                  <a:pt x="61" y="728"/>
                </a:cubicBezTo>
                <a:cubicBezTo>
                  <a:pt x="48" y="800"/>
                  <a:pt x="71" y="877"/>
                  <a:pt x="61" y="920"/>
                </a:cubicBezTo>
                <a:cubicBezTo>
                  <a:pt x="51" y="963"/>
                  <a:pt x="13" y="972"/>
                  <a:pt x="0" y="985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702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7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981080" y="4686480"/>
            <a:ext cx="3111480" cy="4698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959120" y="466416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395520" y="477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en absence de stimulation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63280" y="393552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relâchement 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330440" y="608796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9" name=""/>
          <p:cNvGrpSpPr/>
          <p:nvPr/>
        </p:nvGrpSpPr>
        <p:grpSpPr>
          <a:xfrm>
            <a:off x="4811760" y="1515960"/>
            <a:ext cx="3451320" cy="601920"/>
            <a:chOff x="4811760" y="1515960"/>
            <a:chExt cx="3451320" cy="601920"/>
          </a:xfrm>
        </p:grpSpPr>
        <p:grpSp>
          <p:nvGrpSpPr>
            <p:cNvPr id="1720" name=""/>
            <p:cNvGrpSpPr/>
            <p:nvPr/>
          </p:nvGrpSpPr>
          <p:grpSpPr>
            <a:xfrm>
              <a:off x="4811760" y="1548000"/>
              <a:ext cx="3451320" cy="539640"/>
              <a:chOff x="4811760" y="1548000"/>
              <a:chExt cx="3451320" cy="539640"/>
            </a:xfrm>
          </p:grpSpPr>
          <p:sp>
            <p:nvSpPr>
              <p:cNvPr id="1721" name=""/>
              <p:cNvSpPr/>
              <p:nvPr/>
            </p:nvSpPr>
            <p:spPr>
              <a:xfrm>
                <a:off x="4813560" y="1654200"/>
                <a:ext cx="3449520" cy="31932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761800" y="1548000"/>
                <a:ext cx="1581120" cy="53964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149520" y="16570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446160" y="17704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590520" y="19126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259400" y="165420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60932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53336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7400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89804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18344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825516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87720" y="165420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23728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16132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602320" y="1653480"/>
                <a:ext cx="19764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52636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81176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883480" y="164988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757920" y="1678320"/>
                <a:ext cx="20484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263640" y="186300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461280" y="1607040"/>
                <a:ext cx="20484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3" name=""/>
            <p:cNvSpPr/>
            <p:nvPr/>
          </p:nvSpPr>
          <p:spPr>
            <a:xfrm>
              <a:off x="6206760" y="1521360"/>
              <a:ext cx="234000" cy="5954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365520" y="1521360"/>
              <a:ext cx="234000" cy="5954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077880" y="1565640"/>
              <a:ext cx="187200" cy="54180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69160" y="1515960"/>
              <a:ext cx="155160" cy="60192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1748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758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981080" y="4686480"/>
            <a:ext cx="3111480" cy="4698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59120" y="466416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395520" y="477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en absence de stimulation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330440" y="608796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263280" y="393552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relâchement 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useau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290760" y="3943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276280" y="324180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rrêt des PA de la 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321160" y="3368520"/>
            <a:ext cx="185760" cy="1563840"/>
          </a:xfrm>
          <a:custGeom>
            <a:avLst/>
            <a:gdLst/>
            <a:ahLst/>
            <a:rect l="l" t="t" r="r" b="b"/>
            <a:pathLst>
              <a:path w="117" h="985">
                <a:moveTo>
                  <a:pt x="117" y="0"/>
                </a:moveTo>
                <a:cubicBezTo>
                  <a:pt x="105" y="31"/>
                  <a:pt x="56" y="125"/>
                  <a:pt x="44" y="188"/>
                </a:cubicBezTo>
                <a:cubicBezTo>
                  <a:pt x="32" y="251"/>
                  <a:pt x="50" y="288"/>
                  <a:pt x="44" y="380"/>
                </a:cubicBezTo>
                <a:cubicBezTo>
                  <a:pt x="38" y="472"/>
                  <a:pt x="0" y="649"/>
                  <a:pt x="7" y="739"/>
                </a:cubicBezTo>
                <a:cubicBezTo>
                  <a:pt x="14" y="829"/>
                  <a:pt x="70" y="878"/>
                  <a:pt x="89" y="919"/>
                </a:cubicBezTo>
                <a:cubicBezTo>
                  <a:pt x="107" y="960"/>
                  <a:pt x="112" y="972"/>
                  <a:pt x="117" y="985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04040" y="3368520"/>
            <a:ext cx="258480" cy="1563840"/>
          </a:xfrm>
          <a:custGeom>
            <a:avLst/>
            <a:gdLst/>
            <a:ahLst/>
            <a:rect l="l" t="t" r="r" b="b"/>
            <a:pathLst>
              <a:path w="163" h="985">
                <a:moveTo>
                  <a:pt x="0" y="0"/>
                </a:moveTo>
                <a:cubicBezTo>
                  <a:pt x="23" y="46"/>
                  <a:pt x="115" y="197"/>
                  <a:pt x="139" y="278"/>
                </a:cubicBezTo>
                <a:cubicBezTo>
                  <a:pt x="163" y="359"/>
                  <a:pt x="155" y="411"/>
                  <a:pt x="142" y="486"/>
                </a:cubicBezTo>
                <a:cubicBezTo>
                  <a:pt x="129" y="561"/>
                  <a:pt x="74" y="656"/>
                  <a:pt x="61" y="728"/>
                </a:cubicBezTo>
                <a:cubicBezTo>
                  <a:pt x="48" y="800"/>
                  <a:pt x="71" y="877"/>
                  <a:pt x="61" y="920"/>
                </a:cubicBezTo>
                <a:cubicBezTo>
                  <a:pt x="51" y="963"/>
                  <a:pt x="13" y="972"/>
                  <a:pt x="0" y="985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4811760" y="1515960"/>
            <a:ext cx="3451320" cy="601920"/>
            <a:chOff x="4811760" y="1515960"/>
            <a:chExt cx="3451320" cy="601920"/>
          </a:xfrm>
        </p:grpSpPr>
        <p:grpSp>
          <p:nvGrpSpPr>
            <p:cNvPr id="1781" name=""/>
            <p:cNvGrpSpPr/>
            <p:nvPr/>
          </p:nvGrpSpPr>
          <p:grpSpPr>
            <a:xfrm>
              <a:off x="4811760" y="1548000"/>
              <a:ext cx="3451320" cy="539640"/>
              <a:chOff x="4811760" y="1548000"/>
              <a:chExt cx="3451320" cy="539640"/>
            </a:xfrm>
          </p:grpSpPr>
          <p:sp>
            <p:nvSpPr>
              <p:cNvPr id="1782" name=""/>
              <p:cNvSpPr/>
              <p:nvPr/>
            </p:nvSpPr>
            <p:spPr>
              <a:xfrm>
                <a:off x="4813560" y="1654200"/>
                <a:ext cx="3449520" cy="319320"/>
              </a:xfrm>
              <a:prstGeom prst="rect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761800" y="1548000"/>
                <a:ext cx="1581120" cy="539640"/>
              </a:xfrm>
              <a:prstGeom prst="ellipse">
                <a:avLst/>
              </a:prstGeom>
              <a:gradFill rotWithShape="0">
                <a:gsLst>
                  <a:gs pos="0">
                    <a:srgbClr val="fe9372"/>
                  </a:gs>
                  <a:gs pos="50000">
                    <a:srgbClr val="ff6d3f"/>
                  </a:gs>
                  <a:gs pos="100000">
                    <a:srgbClr val="fe93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149520" y="16570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446160" y="17704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590520" y="191268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259400" y="165420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60932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53336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97400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89804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18344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8255160" y="16570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87720" y="165420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237280" y="1653480"/>
                <a:ext cx="19728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16132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602320" y="1653480"/>
                <a:ext cx="197640" cy="31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526360" y="165420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811760" y="164736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883480" y="1649880"/>
                <a:ext cx="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757920" y="1678320"/>
                <a:ext cx="20484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63640" y="1863000"/>
                <a:ext cx="20520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61280" y="1607040"/>
                <a:ext cx="204840" cy="120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4" name=""/>
            <p:cNvSpPr/>
            <p:nvPr/>
          </p:nvSpPr>
          <p:spPr>
            <a:xfrm>
              <a:off x="6206760" y="1521360"/>
              <a:ext cx="234000" cy="5954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365520" y="1521360"/>
              <a:ext cx="234000" cy="59544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077880" y="1565640"/>
              <a:ext cx="187200" cy="541800"/>
            </a:xfrm>
            <a:custGeom>
              <a:avLst/>
              <a:gdLst/>
              <a:ahLst/>
              <a:rect l="l" t="t" r="r" b="b"/>
              <a:pathLst>
                <a:path w="320" h="552">
                  <a:moveTo>
                    <a:pt x="136" y="32"/>
                  </a:moveTo>
                  <a:cubicBezTo>
                    <a:pt x="128" y="27"/>
                    <a:pt x="121" y="20"/>
                    <a:pt x="112" y="16"/>
                  </a:cubicBezTo>
                  <a:cubicBezTo>
                    <a:pt x="97" y="9"/>
                    <a:pt x="64" y="0"/>
                    <a:pt x="64" y="0"/>
                  </a:cubicBezTo>
                  <a:cubicBezTo>
                    <a:pt x="53" y="3"/>
                    <a:pt x="40" y="1"/>
                    <a:pt x="32" y="8"/>
                  </a:cubicBezTo>
                  <a:cubicBezTo>
                    <a:pt x="18" y="21"/>
                    <a:pt x="0" y="56"/>
                    <a:pt x="0" y="56"/>
                  </a:cubicBezTo>
                  <a:cubicBezTo>
                    <a:pt x="12" y="204"/>
                    <a:pt x="55" y="310"/>
                    <a:pt x="136" y="432"/>
                  </a:cubicBezTo>
                  <a:cubicBezTo>
                    <a:pt x="152" y="456"/>
                    <a:pt x="168" y="480"/>
                    <a:pt x="184" y="504"/>
                  </a:cubicBezTo>
                  <a:cubicBezTo>
                    <a:pt x="189" y="512"/>
                    <a:pt x="191" y="525"/>
                    <a:pt x="200" y="528"/>
                  </a:cubicBezTo>
                  <a:cubicBezTo>
                    <a:pt x="233" y="539"/>
                    <a:pt x="217" y="531"/>
                    <a:pt x="248" y="552"/>
                  </a:cubicBezTo>
                  <a:cubicBezTo>
                    <a:pt x="267" y="549"/>
                    <a:pt x="287" y="552"/>
                    <a:pt x="304" y="544"/>
                  </a:cubicBezTo>
                  <a:cubicBezTo>
                    <a:pt x="313" y="540"/>
                    <a:pt x="320" y="520"/>
                    <a:pt x="320" y="52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69160" y="1515960"/>
              <a:ext cx="155160" cy="601920"/>
            </a:xfrm>
            <a:custGeom>
              <a:avLst/>
              <a:gdLst/>
              <a:ahLst/>
              <a:rect l="l" t="t" r="r" b="b"/>
              <a:pathLst>
                <a:path w="176" h="477">
                  <a:moveTo>
                    <a:pt x="176" y="416"/>
                  </a:moveTo>
                  <a:cubicBezTo>
                    <a:pt x="164" y="463"/>
                    <a:pt x="172" y="477"/>
                    <a:pt x="120" y="464"/>
                  </a:cubicBezTo>
                  <a:cubicBezTo>
                    <a:pt x="89" y="417"/>
                    <a:pt x="82" y="366"/>
                    <a:pt x="72" y="312"/>
                  </a:cubicBezTo>
                  <a:cubicBezTo>
                    <a:pt x="62" y="255"/>
                    <a:pt x="43" y="192"/>
                    <a:pt x="24" y="136"/>
                  </a:cubicBezTo>
                  <a:cubicBezTo>
                    <a:pt x="21" y="109"/>
                    <a:pt x="20" y="82"/>
                    <a:pt x="16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5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816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1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1981080" y="4686480"/>
            <a:ext cx="3111480" cy="4698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959120" y="466416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395520" y="477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en absence de stimulation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01640" y="6202440"/>
            <a:ext cx="44265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hibition de la contraction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290760" y="3943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276280" y="324180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rrêt des PA de la 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5024520" y="2260440"/>
            <a:ext cx="905760" cy="4165560"/>
            <a:chOff x="5024520" y="2260440"/>
            <a:chExt cx="905760" cy="4165560"/>
          </a:xfrm>
        </p:grpSpPr>
        <p:grpSp>
          <p:nvGrpSpPr>
            <p:cNvPr id="1834" name=""/>
            <p:cNvGrpSpPr/>
            <p:nvPr/>
          </p:nvGrpSpPr>
          <p:grpSpPr>
            <a:xfrm>
              <a:off x="5024520" y="2260440"/>
              <a:ext cx="905760" cy="4165560"/>
              <a:chOff x="5024520" y="2260440"/>
              <a:chExt cx="905760" cy="4165560"/>
            </a:xfrm>
          </p:grpSpPr>
          <p:sp>
            <p:nvSpPr>
              <p:cNvPr id="1835" name=""/>
              <p:cNvSpPr/>
              <p:nvPr/>
            </p:nvSpPr>
            <p:spPr>
              <a:xfrm>
                <a:off x="5024520" y="2260440"/>
                <a:ext cx="455400" cy="416556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5474520" y="2260440"/>
                <a:ext cx="455400" cy="416556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5278320" y="3149640"/>
              <a:ext cx="453960" cy="2084400"/>
              <a:chOff x="5278320" y="3149640"/>
              <a:chExt cx="453960" cy="2084400"/>
            </a:xfrm>
          </p:grpSpPr>
          <p:sp>
            <p:nvSpPr>
              <p:cNvPr id="1838" name=""/>
              <p:cNvSpPr/>
              <p:nvPr/>
            </p:nvSpPr>
            <p:spPr>
              <a:xfrm>
                <a:off x="527832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550404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5495760" y="3952800"/>
              <a:ext cx="0" cy="218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2419200" y="5452920"/>
            <a:ext cx="25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66"/>
                </a:solidFill>
                <a:latin typeface="Arial"/>
              </a:rPr>
              <a:t>arrêt des PA de la fibre </a:t>
            </a:r>
            <a:r>
              <a:rPr b="1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avec les moto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852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981080" y="4724280"/>
            <a:ext cx="3111480" cy="4320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940040" y="468324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5024520" y="2260440"/>
            <a:ext cx="905760" cy="4165560"/>
            <a:chOff x="5024520" y="2260440"/>
            <a:chExt cx="905760" cy="4165560"/>
          </a:xfrm>
        </p:grpSpPr>
        <p:sp>
          <p:nvSpPr>
            <p:cNvPr id="1861" name=""/>
            <p:cNvSpPr/>
            <p:nvPr/>
          </p:nvSpPr>
          <p:spPr>
            <a:xfrm>
              <a:off x="5024520" y="226044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5474520" y="226044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5278320" y="3149640"/>
            <a:ext cx="453960" cy="2084400"/>
            <a:chOff x="5278320" y="3149640"/>
            <a:chExt cx="453960" cy="2084400"/>
          </a:xfrm>
        </p:grpSpPr>
        <p:grpSp>
          <p:nvGrpSpPr>
            <p:cNvPr id="1864" name=""/>
            <p:cNvGrpSpPr/>
            <p:nvPr/>
          </p:nvGrpSpPr>
          <p:grpSpPr>
            <a:xfrm>
              <a:off x="5278320" y="3149640"/>
              <a:ext cx="453960" cy="2084400"/>
              <a:chOff x="5278320" y="3149640"/>
              <a:chExt cx="453960" cy="2084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527832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5504040" y="3149640"/>
                <a:ext cx="228240" cy="208440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5495760" y="3952800"/>
              <a:ext cx="0" cy="219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012640" y="63421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5486400" y="3162240"/>
            <a:ext cx="3298320" cy="2057400"/>
            <a:chOff x="5486400" y="3162240"/>
            <a:chExt cx="3298320" cy="2057400"/>
          </a:xfrm>
        </p:grpSpPr>
        <p:sp>
          <p:nvSpPr>
            <p:cNvPr id="1874" name=""/>
            <p:cNvSpPr/>
            <p:nvPr/>
          </p:nvSpPr>
          <p:spPr>
            <a:xfrm>
              <a:off x="5486400" y="31622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511960" y="52196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886440" y="3191040"/>
              <a:ext cx="0" cy="20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263280" y="3449520"/>
              <a:ext cx="2521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33"/>
                  </a:solidFill>
                  <a:latin typeface="Arial"/>
                </a:rPr>
                <a:t>fuseau neuromuscula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8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095560" y="4705200"/>
            <a:ext cx="34002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172680" y="43736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16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4518000" y="1584360"/>
            <a:ext cx="4046040" cy="542880"/>
            <a:chOff x="4518000" y="1584360"/>
            <a:chExt cx="4046040" cy="542880"/>
          </a:xfrm>
        </p:grpSpPr>
        <p:sp>
          <p:nvSpPr>
            <p:cNvPr id="1882" name=""/>
            <p:cNvSpPr/>
            <p:nvPr/>
          </p:nvSpPr>
          <p:spPr>
            <a:xfrm>
              <a:off x="4520160" y="1691280"/>
              <a:ext cx="4043880" cy="321120"/>
            </a:xfrm>
            <a:prstGeom prst="rect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631840" y="1584360"/>
              <a:ext cx="1853640" cy="542880"/>
            </a:xfrm>
            <a:prstGeom prst="ellipse">
              <a:avLst/>
            </a:prstGeom>
            <a:gradFill rotWithShape="0">
              <a:gsLst>
                <a:gs pos="0">
                  <a:srgbClr val="fe9372"/>
                </a:gs>
                <a:gs pos="50000">
                  <a:srgbClr val="ff6d3f"/>
                </a:gs>
                <a:gs pos="100000">
                  <a:srgbClr val="fe9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086520" y="169380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433920" y="180828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603480" y="195120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387920" y="169128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797960" y="169020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708680" y="16912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225640" y="169020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136360" y="16912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298640" y="16840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555400" y="1693800"/>
              <a:ext cx="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6920" y="169128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016960" y="1690200"/>
              <a:ext cx="23148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927680" y="16840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444640" y="1690200"/>
              <a:ext cx="23184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55720" y="16912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518000" y="168408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74760" y="1686960"/>
              <a:ext cx="0" cy="32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799680" y="171540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220080" y="190116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451920" y="1643760"/>
              <a:ext cx="240480" cy="12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6154560" y="1558800"/>
            <a:ext cx="357480" cy="596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396120" y="1558800"/>
            <a:ext cx="357120" cy="596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5959440" y="1603440"/>
            <a:ext cx="285840" cy="542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5834160" y="1531800"/>
            <a:ext cx="196920" cy="6112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991640" y="1584360"/>
            <a:ext cx="223560" cy="108000"/>
          </a:xfrm>
          <a:prstGeom prst="flowChartExtra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8107200" y="1490760"/>
            <a:ext cx="457200" cy="141120"/>
          </a:xfrm>
          <a:custGeom>
            <a:avLst/>
            <a:gdLst/>
            <a:ahLst/>
            <a:rect l="l" t="t" r="r" b="b"/>
            <a:pathLst>
              <a:path w="1280" h="96">
                <a:moveTo>
                  <a:pt x="0" y="96"/>
                </a:moveTo>
                <a:lnTo>
                  <a:pt x="0" y="0"/>
                </a:lnTo>
                <a:lnTo>
                  <a:pt x="1280" y="0"/>
                </a:ln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4509000" y="1477800"/>
            <a:ext cx="572760" cy="214560"/>
            <a:chOff x="4509000" y="1477800"/>
            <a:chExt cx="572760" cy="214560"/>
          </a:xfrm>
        </p:grpSpPr>
        <p:sp>
          <p:nvSpPr>
            <p:cNvPr id="1911" name=""/>
            <p:cNvSpPr/>
            <p:nvPr/>
          </p:nvSpPr>
          <p:spPr>
            <a:xfrm flipH="1">
              <a:off x="4858560" y="1585080"/>
              <a:ext cx="222840" cy="10728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4509000" y="1477800"/>
              <a:ext cx="457200" cy="14076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3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1914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924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9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395520" y="477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330440" y="608796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05880" y="4678200"/>
            <a:ext cx="31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de la partie p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981080" y="4724280"/>
            <a:ext cx="3111480" cy="4320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940040" y="468324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172680" y="43736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16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033800" y="4325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319720" y="3149640"/>
            <a:ext cx="187200" cy="2084400"/>
          </a:xfrm>
          <a:custGeom>
            <a:avLst/>
            <a:gdLst/>
            <a:ahLst/>
            <a:rect l="l" t="t" r="r" b="b"/>
            <a:pathLst>
              <a:path w="118" h="1313">
                <a:moveTo>
                  <a:pt x="118" y="0"/>
                </a:moveTo>
                <a:cubicBezTo>
                  <a:pt x="101" y="46"/>
                  <a:pt x="30" y="198"/>
                  <a:pt x="15" y="278"/>
                </a:cubicBezTo>
                <a:cubicBezTo>
                  <a:pt x="0" y="358"/>
                  <a:pt x="20" y="400"/>
                  <a:pt x="27" y="482"/>
                </a:cubicBezTo>
                <a:cubicBezTo>
                  <a:pt x="34" y="564"/>
                  <a:pt x="57" y="681"/>
                  <a:pt x="57" y="770"/>
                </a:cubicBezTo>
                <a:cubicBezTo>
                  <a:pt x="57" y="859"/>
                  <a:pt x="17" y="926"/>
                  <a:pt x="27" y="1016"/>
                </a:cubicBezTo>
                <a:cubicBezTo>
                  <a:pt x="37" y="1106"/>
                  <a:pt x="99" y="1251"/>
                  <a:pt x="118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504040" y="3149640"/>
            <a:ext cx="209520" cy="2084400"/>
          </a:xfrm>
          <a:custGeom>
            <a:avLst/>
            <a:gdLst/>
            <a:ahLst/>
            <a:rect l="l" t="t" r="r" b="b"/>
            <a:pathLst>
              <a:path w="132" h="1313">
                <a:moveTo>
                  <a:pt x="0" y="0"/>
                </a:moveTo>
                <a:cubicBezTo>
                  <a:pt x="47" y="76"/>
                  <a:pt x="104" y="172"/>
                  <a:pt x="118" y="260"/>
                </a:cubicBezTo>
                <a:cubicBezTo>
                  <a:pt x="132" y="348"/>
                  <a:pt x="89" y="446"/>
                  <a:pt x="85" y="530"/>
                </a:cubicBezTo>
                <a:cubicBezTo>
                  <a:pt x="81" y="614"/>
                  <a:pt x="88" y="688"/>
                  <a:pt x="91" y="764"/>
                </a:cubicBezTo>
                <a:cubicBezTo>
                  <a:pt x="94" y="840"/>
                  <a:pt x="118" y="895"/>
                  <a:pt x="103" y="986"/>
                </a:cubicBezTo>
                <a:cubicBezTo>
                  <a:pt x="88" y="1077"/>
                  <a:pt x="21" y="1245"/>
                  <a:pt x="0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095560" y="4705200"/>
            <a:ext cx="34002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341040" y="3929040"/>
            <a:ext cx="221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étirement de la par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équa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816440" y="1692360"/>
            <a:ext cx="3443400" cy="32076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635800" y="1585800"/>
            <a:ext cx="1847520" cy="540000"/>
          </a:xfrm>
          <a:prstGeom prst="ellipse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087960" y="1695600"/>
            <a:ext cx="241560" cy="1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435720" y="180972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603840" y="1951200"/>
            <a:ext cx="239760" cy="1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4811760" y="1685880"/>
            <a:ext cx="966600" cy="327240"/>
            <a:chOff x="4811760" y="1685880"/>
            <a:chExt cx="966600" cy="327240"/>
          </a:xfrm>
        </p:grpSpPr>
        <p:sp>
          <p:nvSpPr>
            <p:cNvPr id="1953" name=""/>
            <p:cNvSpPr/>
            <p:nvPr/>
          </p:nvSpPr>
          <p:spPr>
            <a:xfrm>
              <a:off x="4853880" y="1692360"/>
              <a:ext cx="230760" cy="31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176080" y="1691280"/>
              <a:ext cx="23076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2712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96120" y="1691280"/>
              <a:ext cx="23076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53640" y="169236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81176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778360" y="168804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99320" y="171756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221520" y="190188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453360" y="1646280"/>
            <a:ext cx="23940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157800" y="1558800"/>
            <a:ext cx="355680" cy="5954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397560" y="1558800"/>
            <a:ext cx="355680" cy="5954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962680" y="1603440"/>
            <a:ext cx="284040" cy="542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6" name=""/>
          <p:cNvGrpSpPr/>
          <p:nvPr/>
        </p:nvGrpSpPr>
        <p:grpSpPr>
          <a:xfrm>
            <a:off x="7294680" y="1685880"/>
            <a:ext cx="965160" cy="327240"/>
            <a:chOff x="7294680" y="1685880"/>
            <a:chExt cx="965160" cy="327240"/>
          </a:xfrm>
        </p:grpSpPr>
        <p:sp>
          <p:nvSpPr>
            <p:cNvPr id="1967" name=""/>
            <p:cNvSpPr/>
            <p:nvPr/>
          </p:nvSpPr>
          <p:spPr>
            <a:xfrm>
              <a:off x="7336800" y="1692360"/>
              <a:ext cx="230400" cy="31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658640" y="1691280"/>
              <a:ext cx="23040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60968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977960" y="1691280"/>
              <a:ext cx="23040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935840" y="169236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29468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259840" y="168804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7821720" y="1479600"/>
            <a:ext cx="569880" cy="212400"/>
            <a:chOff x="7821720" y="1479600"/>
            <a:chExt cx="569880" cy="212400"/>
          </a:xfrm>
        </p:grpSpPr>
        <p:sp>
          <p:nvSpPr>
            <p:cNvPr id="1975" name=""/>
            <p:cNvSpPr/>
            <p:nvPr/>
          </p:nvSpPr>
          <p:spPr>
            <a:xfrm>
              <a:off x="7821720" y="1585800"/>
              <a:ext cx="221400" cy="10620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936920" y="1479600"/>
              <a:ext cx="454680" cy="13932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4682880" y="1479600"/>
            <a:ext cx="569880" cy="212400"/>
            <a:chOff x="4682880" y="1479600"/>
            <a:chExt cx="569880" cy="212400"/>
          </a:xfrm>
        </p:grpSpPr>
        <p:sp>
          <p:nvSpPr>
            <p:cNvPr id="1978" name=""/>
            <p:cNvSpPr/>
            <p:nvPr/>
          </p:nvSpPr>
          <p:spPr>
            <a:xfrm flipH="1">
              <a:off x="5031000" y="1585800"/>
              <a:ext cx="221400" cy="10620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4682520" y="1479600"/>
              <a:ext cx="454680" cy="13932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0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avec les moto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834160" y="1531800"/>
            <a:ext cx="196920" cy="6112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5486400" y="3162240"/>
            <a:ext cx="3298320" cy="2057400"/>
            <a:chOff x="5486400" y="3162240"/>
            <a:chExt cx="3298320" cy="2057400"/>
          </a:xfrm>
        </p:grpSpPr>
        <p:sp>
          <p:nvSpPr>
            <p:cNvPr id="1983" name=""/>
            <p:cNvSpPr/>
            <p:nvPr/>
          </p:nvSpPr>
          <p:spPr>
            <a:xfrm>
              <a:off x="5486400" y="31622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511960" y="52196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886440" y="3191040"/>
              <a:ext cx="0" cy="20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263280" y="3449520"/>
              <a:ext cx="2521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33"/>
                  </a:solidFill>
                  <a:latin typeface="Arial"/>
                </a:rPr>
                <a:t>fuseau neuromuscula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7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1988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42760" y="5288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1998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78800" y="29941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mm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33"/>
                </a:solidFill>
                <a:latin typeface="Arial"/>
              </a:rPr>
              <a:t>contrac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738080" y="319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395520" y="477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005880" y="4678200"/>
            <a:ext cx="31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ontraction de la partie p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981080" y="4724280"/>
            <a:ext cx="3111480" cy="4320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940040" y="468324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172680" y="43736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16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033800" y="4325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319720" y="3149640"/>
            <a:ext cx="187200" cy="2084400"/>
          </a:xfrm>
          <a:custGeom>
            <a:avLst/>
            <a:gdLst/>
            <a:ahLst/>
            <a:rect l="l" t="t" r="r" b="b"/>
            <a:pathLst>
              <a:path w="118" h="1313">
                <a:moveTo>
                  <a:pt x="118" y="0"/>
                </a:moveTo>
                <a:cubicBezTo>
                  <a:pt x="101" y="46"/>
                  <a:pt x="30" y="198"/>
                  <a:pt x="15" y="278"/>
                </a:cubicBezTo>
                <a:cubicBezTo>
                  <a:pt x="0" y="358"/>
                  <a:pt x="20" y="400"/>
                  <a:pt x="27" y="482"/>
                </a:cubicBezTo>
                <a:cubicBezTo>
                  <a:pt x="34" y="564"/>
                  <a:pt x="57" y="681"/>
                  <a:pt x="57" y="770"/>
                </a:cubicBezTo>
                <a:cubicBezTo>
                  <a:pt x="57" y="859"/>
                  <a:pt x="17" y="926"/>
                  <a:pt x="27" y="1016"/>
                </a:cubicBezTo>
                <a:cubicBezTo>
                  <a:pt x="37" y="1106"/>
                  <a:pt x="99" y="1251"/>
                  <a:pt x="118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504040" y="3149640"/>
            <a:ext cx="209520" cy="2084400"/>
          </a:xfrm>
          <a:custGeom>
            <a:avLst/>
            <a:gdLst/>
            <a:ahLst/>
            <a:rect l="l" t="t" r="r" b="b"/>
            <a:pathLst>
              <a:path w="132" h="1313">
                <a:moveTo>
                  <a:pt x="0" y="0"/>
                </a:moveTo>
                <a:cubicBezTo>
                  <a:pt x="47" y="76"/>
                  <a:pt x="104" y="172"/>
                  <a:pt x="118" y="260"/>
                </a:cubicBezTo>
                <a:cubicBezTo>
                  <a:pt x="132" y="348"/>
                  <a:pt x="89" y="446"/>
                  <a:pt x="85" y="530"/>
                </a:cubicBezTo>
                <a:cubicBezTo>
                  <a:pt x="81" y="614"/>
                  <a:pt x="88" y="688"/>
                  <a:pt x="91" y="764"/>
                </a:cubicBezTo>
                <a:cubicBezTo>
                  <a:pt x="94" y="840"/>
                  <a:pt x="118" y="895"/>
                  <a:pt x="103" y="986"/>
                </a:cubicBezTo>
                <a:cubicBezTo>
                  <a:pt x="88" y="1077"/>
                  <a:pt x="21" y="1245"/>
                  <a:pt x="0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095560" y="4705200"/>
            <a:ext cx="34002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341040" y="3929040"/>
            <a:ext cx="221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étirement de la par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équa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ctivation du réflexe myotatique avec les moto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00560" y="6202440"/>
            <a:ext cx="51062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as d’inhibition de la contraction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816440" y="1692360"/>
            <a:ext cx="3443400" cy="320760"/>
          </a:xfrm>
          <a:prstGeom prst="rect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635800" y="1585800"/>
            <a:ext cx="1847520" cy="540000"/>
          </a:xfrm>
          <a:prstGeom prst="ellipse">
            <a:avLst/>
          </a:prstGeom>
          <a:gradFill rotWithShape="0">
            <a:gsLst>
              <a:gs pos="0">
                <a:srgbClr val="fe9372"/>
              </a:gs>
              <a:gs pos="50000">
                <a:srgbClr val="ff6d3f"/>
              </a:gs>
              <a:gs pos="100000">
                <a:srgbClr val="fe93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087960" y="1695600"/>
            <a:ext cx="241560" cy="1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435720" y="180972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603840" y="1951200"/>
            <a:ext cx="239760" cy="1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4811760" y="1685880"/>
            <a:ext cx="966600" cy="327240"/>
            <a:chOff x="4811760" y="1685880"/>
            <a:chExt cx="966600" cy="327240"/>
          </a:xfrm>
        </p:grpSpPr>
        <p:sp>
          <p:nvSpPr>
            <p:cNvPr id="2028" name=""/>
            <p:cNvSpPr/>
            <p:nvPr/>
          </p:nvSpPr>
          <p:spPr>
            <a:xfrm>
              <a:off x="4853880" y="1692360"/>
              <a:ext cx="230760" cy="31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176080" y="1691280"/>
              <a:ext cx="23076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2712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96120" y="1691280"/>
              <a:ext cx="23076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53640" y="169236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81176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778360" y="168804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5" name=""/>
          <p:cNvSpPr/>
          <p:nvPr/>
        </p:nvSpPr>
        <p:spPr>
          <a:xfrm>
            <a:off x="6799320" y="171756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221520" y="1901880"/>
            <a:ext cx="23976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453360" y="1646280"/>
            <a:ext cx="239400" cy="119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157800" y="1558800"/>
            <a:ext cx="355680" cy="5954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397560" y="1558800"/>
            <a:ext cx="355680" cy="59544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962680" y="1603440"/>
            <a:ext cx="284040" cy="542880"/>
          </a:xfrm>
          <a:custGeom>
            <a:avLst/>
            <a:gdLst/>
            <a:ahLst/>
            <a:rect l="l" t="t" r="r" b="b"/>
            <a:pathLst>
              <a:path w="320" h="552">
                <a:moveTo>
                  <a:pt x="136" y="32"/>
                </a:moveTo>
                <a:cubicBezTo>
                  <a:pt x="128" y="27"/>
                  <a:pt x="121" y="20"/>
                  <a:pt x="112" y="16"/>
                </a:cubicBezTo>
                <a:cubicBezTo>
                  <a:pt x="97" y="9"/>
                  <a:pt x="64" y="0"/>
                  <a:pt x="64" y="0"/>
                </a:cubicBezTo>
                <a:cubicBezTo>
                  <a:pt x="53" y="3"/>
                  <a:pt x="40" y="1"/>
                  <a:pt x="32" y="8"/>
                </a:cubicBezTo>
                <a:cubicBezTo>
                  <a:pt x="18" y="21"/>
                  <a:pt x="0" y="56"/>
                  <a:pt x="0" y="56"/>
                </a:cubicBezTo>
                <a:cubicBezTo>
                  <a:pt x="12" y="204"/>
                  <a:pt x="55" y="310"/>
                  <a:pt x="136" y="432"/>
                </a:cubicBezTo>
                <a:cubicBezTo>
                  <a:pt x="152" y="456"/>
                  <a:pt x="168" y="480"/>
                  <a:pt x="184" y="504"/>
                </a:cubicBezTo>
                <a:cubicBezTo>
                  <a:pt x="189" y="512"/>
                  <a:pt x="191" y="525"/>
                  <a:pt x="200" y="528"/>
                </a:cubicBezTo>
                <a:cubicBezTo>
                  <a:pt x="233" y="539"/>
                  <a:pt x="217" y="531"/>
                  <a:pt x="248" y="552"/>
                </a:cubicBezTo>
                <a:cubicBezTo>
                  <a:pt x="267" y="549"/>
                  <a:pt x="287" y="552"/>
                  <a:pt x="304" y="544"/>
                </a:cubicBezTo>
                <a:cubicBezTo>
                  <a:pt x="313" y="540"/>
                  <a:pt x="320" y="520"/>
                  <a:pt x="320" y="52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1" name=""/>
          <p:cNvGrpSpPr/>
          <p:nvPr/>
        </p:nvGrpSpPr>
        <p:grpSpPr>
          <a:xfrm>
            <a:off x="7294680" y="1685880"/>
            <a:ext cx="965160" cy="327240"/>
            <a:chOff x="7294680" y="1685880"/>
            <a:chExt cx="965160" cy="327240"/>
          </a:xfrm>
        </p:grpSpPr>
        <p:sp>
          <p:nvSpPr>
            <p:cNvPr id="2042" name=""/>
            <p:cNvSpPr/>
            <p:nvPr/>
          </p:nvSpPr>
          <p:spPr>
            <a:xfrm>
              <a:off x="7336800" y="1692360"/>
              <a:ext cx="230400" cy="31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58640" y="1691280"/>
              <a:ext cx="23040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0968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977960" y="1691280"/>
              <a:ext cx="230400" cy="31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935840" y="169236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94680" y="168588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259840" y="168804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7821720" y="1479600"/>
            <a:ext cx="569880" cy="212400"/>
            <a:chOff x="7821720" y="1479600"/>
            <a:chExt cx="569880" cy="212400"/>
          </a:xfrm>
        </p:grpSpPr>
        <p:sp>
          <p:nvSpPr>
            <p:cNvPr id="2050" name=""/>
            <p:cNvSpPr/>
            <p:nvPr/>
          </p:nvSpPr>
          <p:spPr>
            <a:xfrm>
              <a:off x="7821720" y="1585800"/>
              <a:ext cx="221400" cy="10620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936920" y="1479600"/>
              <a:ext cx="454680" cy="13932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4682880" y="1479600"/>
            <a:ext cx="569880" cy="212400"/>
            <a:chOff x="4682880" y="1479600"/>
            <a:chExt cx="569880" cy="212400"/>
          </a:xfrm>
        </p:grpSpPr>
        <p:sp>
          <p:nvSpPr>
            <p:cNvPr id="2053" name=""/>
            <p:cNvSpPr/>
            <p:nvPr/>
          </p:nvSpPr>
          <p:spPr>
            <a:xfrm flipH="1">
              <a:off x="5031000" y="1585800"/>
              <a:ext cx="221400" cy="106200"/>
            </a:xfrm>
            <a:prstGeom prst="flowChartExtra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H="1">
              <a:off x="4682520" y="1479600"/>
              <a:ext cx="454680" cy="139320"/>
            </a:xfrm>
            <a:custGeom>
              <a:avLst/>
              <a:gdLst/>
              <a:ahLst/>
              <a:rect l="l" t="t" r="r" b="b"/>
              <a:pathLst>
                <a:path w="1280" h="96">
                  <a:moveTo>
                    <a:pt x="0" y="96"/>
                  </a:moveTo>
                  <a:lnTo>
                    <a:pt x="0" y="0"/>
                  </a:lnTo>
                  <a:lnTo>
                    <a:pt x="1280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5" name=""/>
          <p:cNvSpPr/>
          <p:nvPr/>
        </p:nvSpPr>
        <p:spPr>
          <a:xfrm>
            <a:off x="5834160" y="1531800"/>
            <a:ext cx="196920" cy="611280"/>
          </a:xfrm>
          <a:custGeom>
            <a:avLst/>
            <a:gdLst/>
            <a:ahLst/>
            <a:rect l="l" t="t" r="r" b="b"/>
            <a:pathLst>
              <a:path w="176" h="477">
                <a:moveTo>
                  <a:pt x="176" y="416"/>
                </a:moveTo>
                <a:cubicBezTo>
                  <a:pt x="164" y="463"/>
                  <a:pt x="172" y="477"/>
                  <a:pt x="120" y="464"/>
                </a:cubicBezTo>
                <a:cubicBezTo>
                  <a:pt x="89" y="417"/>
                  <a:pt x="82" y="366"/>
                  <a:pt x="72" y="312"/>
                </a:cubicBezTo>
                <a:cubicBezTo>
                  <a:pt x="62" y="255"/>
                  <a:pt x="43" y="192"/>
                  <a:pt x="24" y="136"/>
                </a:cubicBezTo>
                <a:cubicBezTo>
                  <a:pt x="21" y="109"/>
                  <a:pt x="20" y="82"/>
                  <a:pt x="16" y="56"/>
                </a:cubicBezTo>
                <a:cubicBezTo>
                  <a:pt x="13" y="37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19120" y="2857680"/>
            <a:ext cx="3888000" cy="36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8400" y="2298600"/>
            <a:ext cx="4329000" cy="6350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44960" y="2857680"/>
            <a:ext cx="590760" cy="514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92640" y="3486240"/>
            <a:ext cx="533520" cy="1887480"/>
          </a:xfrm>
          <a:custGeom>
            <a:avLst/>
            <a:gdLst>
              <a:gd name="textAreaLeft" fmla="*/ 117360 w 533520"/>
              <a:gd name="textAreaRight" fmla="*/ 416160 w 533520"/>
              <a:gd name="textAreaTop" fmla="*/ 415080 h 1887480"/>
              <a:gd name="textAreaBottom" fmla="*/ 1472400 h 18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0511600">
            <a:off x="5516280" y="2762280"/>
            <a:ext cx="247680" cy="3999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5040" y="2019240"/>
            <a:ext cx="1752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30800" y="3486240"/>
            <a:ext cx="0" cy="1887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649840" y="3067200"/>
            <a:ext cx="76320" cy="51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73560" y="2666880"/>
            <a:ext cx="51444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258120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303840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781240" y="297180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24000" y="3352680"/>
            <a:ext cx="7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43560" y="406728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85320" y="240336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quadric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8920" y="2851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ém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5560" y="389880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ibia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éron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7040" y="27655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ot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48760" y="316548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don rotu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1139760"/>
            <a:ext cx="84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tructures anatom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72120" y="3343320"/>
            <a:ext cx="438120" cy="162000"/>
          </a:xfrm>
          <a:custGeom>
            <a:avLst/>
            <a:gdLst/>
            <a:ahLst/>
            <a:rect l="l" t="t" r="r" b="b"/>
            <a:pathLst>
              <a:path w="276" h="102">
                <a:moveTo>
                  <a:pt x="12" y="102"/>
                </a:moveTo>
                <a:lnTo>
                  <a:pt x="0" y="42"/>
                </a:lnTo>
                <a:lnTo>
                  <a:pt x="144" y="30"/>
                </a:lnTo>
                <a:lnTo>
                  <a:pt x="186" y="0"/>
                </a:lnTo>
                <a:lnTo>
                  <a:pt x="276" y="9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46320" y="431640"/>
            <a:ext cx="4589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60" y="206280"/>
            <a:ext cx="7509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rotuli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6" name=""/>
          <p:cNvGrpSpPr/>
          <p:nvPr/>
        </p:nvGrpSpPr>
        <p:grpSpPr>
          <a:xfrm>
            <a:off x="5024520" y="2692440"/>
            <a:ext cx="905760" cy="3124080"/>
            <a:chOff x="5024520" y="2692440"/>
            <a:chExt cx="905760" cy="3124080"/>
          </a:xfrm>
        </p:grpSpPr>
        <p:sp>
          <p:nvSpPr>
            <p:cNvPr id="2057" name=""/>
            <p:cNvSpPr/>
            <p:nvPr/>
          </p:nvSpPr>
          <p:spPr>
            <a:xfrm>
              <a:off x="502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5474520" y="2692440"/>
              <a:ext cx="455400" cy="312408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60560" y="206280"/>
            <a:ext cx="869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es motoneurones </a:t>
            </a:r>
            <a:r>
              <a:rPr b="0" lang="en-GB" sz="2000" spc="-1" strike="noStrike">
                <a:solidFill>
                  <a:srgbClr val="8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1104840" y="3848040"/>
            <a:ext cx="1193760" cy="1143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168560" y="2273400"/>
            <a:ext cx="105408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914400" y="18763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centre céréb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52320" y="50468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6" name=""/>
          <p:cNvGrpSpPr/>
          <p:nvPr/>
        </p:nvGrpSpPr>
        <p:grpSpPr>
          <a:xfrm>
            <a:off x="1219320" y="3936960"/>
            <a:ext cx="964800" cy="939240"/>
            <a:chOff x="1219320" y="3936960"/>
            <a:chExt cx="964800" cy="939240"/>
          </a:xfrm>
        </p:grpSpPr>
        <p:sp>
          <p:nvSpPr>
            <p:cNvPr id="2067" name=""/>
            <p:cNvSpPr/>
            <p:nvPr/>
          </p:nvSpPr>
          <p:spPr>
            <a:xfrm>
              <a:off x="168300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70136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19320" y="39369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37680" y="4397040"/>
              <a:ext cx="48276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442160" y="4167360"/>
              <a:ext cx="482040" cy="479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1701720" y="2730600"/>
            <a:ext cx="254160" cy="1942920"/>
          </a:xfrm>
          <a:custGeom>
            <a:avLst/>
            <a:gdLst/>
            <a:ahLst/>
            <a:rect l="l" t="t" r="r" b="b"/>
            <a:pathLst>
              <a:path w="160" h="1224">
                <a:moveTo>
                  <a:pt x="0" y="0"/>
                </a:moveTo>
                <a:lnTo>
                  <a:pt x="2" y="1118"/>
                </a:lnTo>
                <a:lnTo>
                  <a:pt x="160" y="12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968200" y="3699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3360" y="849240"/>
            <a:ext cx="823428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ôle des moto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981080" y="4724280"/>
            <a:ext cx="3111480" cy="432000"/>
          </a:xfrm>
          <a:custGeom>
            <a:avLst/>
            <a:gdLst/>
            <a:ahLst/>
            <a:rect l="l" t="t" r="r" b="b"/>
            <a:pathLst>
              <a:path w="1920" h="360">
                <a:moveTo>
                  <a:pt x="0" y="0"/>
                </a:moveTo>
                <a:lnTo>
                  <a:pt x="360" y="360"/>
                </a:lnTo>
                <a:lnTo>
                  <a:pt x="1920" y="36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940040" y="4683240"/>
            <a:ext cx="88920" cy="889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172680" y="43736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fibre </a:t>
            </a:r>
            <a:r>
              <a:rPr b="1" lang="fr-FR" sz="1600" spc="-1" strike="noStrike">
                <a:solidFill>
                  <a:srgbClr val="3399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148920" y="511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319720" y="3149640"/>
            <a:ext cx="187200" cy="2084400"/>
          </a:xfrm>
          <a:custGeom>
            <a:avLst/>
            <a:gdLst/>
            <a:ahLst/>
            <a:rect l="l" t="t" r="r" b="b"/>
            <a:pathLst>
              <a:path w="118" h="1313">
                <a:moveTo>
                  <a:pt x="118" y="0"/>
                </a:moveTo>
                <a:cubicBezTo>
                  <a:pt x="101" y="46"/>
                  <a:pt x="30" y="198"/>
                  <a:pt x="15" y="278"/>
                </a:cubicBezTo>
                <a:cubicBezTo>
                  <a:pt x="0" y="358"/>
                  <a:pt x="20" y="400"/>
                  <a:pt x="27" y="482"/>
                </a:cubicBezTo>
                <a:cubicBezTo>
                  <a:pt x="34" y="564"/>
                  <a:pt x="57" y="681"/>
                  <a:pt x="57" y="770"/>
                </a:cubicBezTo>
                <a:cubicBezTo>
                  <a:pt x="57" y="859"/>
                  <a:pt x="17" y="926"/>
                  <a:pt x="27" y="1016"/>
                </a:cubicBezTo>
                <a:cubicBezTo>
                  <a:pt x="37" y="1106"/>
                  <a:pt x="99" y="1251"/>
                  <a:pt x="118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504040" y="3149640"/>
            <a:ext cx="209520" cy="2084400"/>
          </a:xfrm>
          <a:custGeom>
            <a:avLst/>
            <a:gdLst/>
            <a:ahLst/>
            <a:rect l="l" t="t" r="r" b="b"/>
            <a:pathLst>
              <a:path w="132" h="1313">
                <a:moveTo>
                  <a:pt x="0" y="0"/>
                </a:moveTo>
                <a:cubicBezTo>
                  <a:pt x="47" y="76"/>
                  <a:pt x="104" y="172"/>
                  <a:pt x="118" y="260"/>
                </a:cubicBezTo>
                <a:cubicBezTo>
                  <a:pt x="132" y="348"/>
                  <a:pt x="89" y="446"/>
                  <a:pt x="85" y="530"/>
                </a:cubicBezTo>
                <a:cubicBezTo>
                  <a:pt x="81" y="614"/>
                  <a:pt x="88" y="688"/>
                  <a:pt x="91" y="764"/>
                </a:cubicBezTo>
                <a:cubicBezTo>
                  <a:pt x="94" y="840"/>
                  <a:pt x="118" y="895"/>
                  <a:pt x="103" y="986"/>
                </a:cubicBezTo>
                <a:cubicBezTo>
                  <a:pt x="88" y="1077"/>
                  <a:pt x="21" y="1245"/>
                  <a:pt x="0" y="1313"/>
                </a:cubicBezTo>
              </a:path>
            </a:pathLst>
          </a:custGeom>
          <a:gradFill rotWithShape="0">
            <a:gsLst>
              <a:gs pos="0">
                <a:srgbClr val="fefeaf"/>
              </a:gs>
              <a:gs pos="100000">
                <a:srgbClr val="ffff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495760" y="3971880"/>
            <a:ext cx="0" cy="163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819440" y="4057560"/>
            <a:ext cx="3676320" cy="542880"/>
          </a:xfrm>
          <a:custGeom>
            <a:avLst/>
            <a:gdLst/>
            <a:ahLst/>
            <a:rect l="l" t="t" r="r" b="b"/>
            <a:pathLst>
              <a:path w="2316" h="342">
                <a:moveTo>
                  <a:pt x="2316" y="0"/>
                </a:moveTo>
                <a:lnTo>
                  <a:pt x="72" y="0"/>
                </a:lnTo>
                <a:lnTo>
                  <a:pt x="0" y="174"/>
                </a:lnTo>
                <a:lnTo>
                  <a:pt x="96" y="34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095560" y="4705200"/>
            <a:ext cx="34002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43080" y="1817640"/>
            <a:ext cx="880092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799000" y="2120760"/>
            <a:ext cx="508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odulation de la sensibilité à l’é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16000" y="5494320"/>
            <a:ext cx="690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0000"/>
                </a:solidFill>
                <a:latin typeface="Arial"/>
              </a:rPr>
              <a:t>pathologie : hyperactivité des neurones </a:t>
            </a:r>
            <a:r>
              <a:rPr b="1" i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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</a:t>
            </a:r>
            <a:r>
              <a:rPr b="1" i="1" lang="fr-FR" sz="2000" spc="-1" strike="noStrike">
                <a:solidFill>
                  <a:srgbClr val="990000"/>
                </a:solidFill>
                <a:latin typeface="Arial"/>
              </a:rPr>
              <a:t>hyperactivité des fibres sensitives Ia e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</a:t>
            </a:r>
            <a:r>
              <a:rPr b="1" i="1" lang="fr-FR" sz="2000" spc="-1" strike="noStrike">
                <a:solidFill>
                  <a:srgbClr val="990000"/>
                </a:solidFill>
                <a:latin typeface="Arial"/>
              </a:rPr>
              <a:t>spasticité et/ou hypertoni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7" name=""/>
          <p:cNvGrpSpPr/>
          <p:nvPr/>
        </p:nvGrpSpPr>
        <p:grpSpPr>
          <a:xfrm>
            <a:off x="4376880" y="1485360"/>
            <a:ext cx="1388160" cy="4242960"/>
            <a:chOff x="4376880" y="1485360"/>
            <a:chExt cx="1388160" cy="4242960"/>
          </a:xfrm>
        </p:grpSpPr>
        <p:sp>
          <p:nvSpPr>
            <p:cNvPr id="2088" name=""/>
            <p:cNvSpPr/>
            <p:nvPr/>
          </p:nvSpPr>
          <p:spPr>
            <a:xfrm rot="21195600">
              <a:off x="4619520" y="155016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rot="21195600">
              <a:off x="5066640" y="149760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4732560" y="2390400"/>
            <a:ext cx="695160" cy="2123280"/>
            <a:chOff x="4732560" y="2390400"/>
            <a:chExt cx="695160" cy="2123280"/>
          </a:xfrm>
        </p:grpSpPr>
        <p:sp>
          <p:nvSpPr>
            <p:cNvPr id="2091" name=""/>
            <p:cNvSpPr/>
            <p:nvPr/>
          </p:nvSpPr>
          <p:spPr>
            <a:xfrm rot="21195600">
              <a:off x="4853880" y="242280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 rot="21195600">
              <a:off x="5077440" y="239652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5043240" y="3380400"/>
            <a:ext cx="25920" cy="2178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546120" y="2971800"/>
            <a:ext cx="2328840" cy="2230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768240" y="3144960"/>
            <a:ext cx="1883880" cy="1833840"/>
            <a:chOff x="768240" y="3144960"/>
            <a:chExt cx="1883880" cy="1833840"/>
          </a:xfrm>
        </p:grpSpPr>
        <p:sp>
          <p:nvSpPr>
            <p:cNvPr id="2096" name=""/>
            <p:cNvSpPr/>
            <p:nvPr/>
          </p:nvSpPr>
          <p:spPr>
            <a:xfrm>
              <a:off x="1673640" y="314496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09640" y="4043160"/>
              <a:ext cx="94248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68240" y="314496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03880" y="4043160"/>
              <a:ext cx="94248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203480" y="359460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1" name=""/>
          <p:cNvSpPr/>
          <p:nvPr/>
        </p:nvSpPr>
        <p:spPr>
          <a:xfrm>
            <a:off x="2276640" y="4486320"/>
            <a:ext cx="172800" cy="174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81440" y="206280"/>
            <a:ext cx="8011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 crois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008000" y="251928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Arial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83840" y="35593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387520" y="4594320"/>
            <a:ext cx="2705040" cy="180720"/>
          </a:xfrm>
          <a:custGeom>
            <a:avLst/>
            <a:gdLst/>
            <a:ahLst/>
            <a:rect l="l" t="t" r="r" b="b"/>
            <a:pathLst>
              <a:path w="1704" h="296">
                <a:moveTo>
                  <a:pt x="0" y="0"/>
                </a:moveTo>
                <a:lnTo>
                  <a:pt x="274" y="296"/>
                </a:lnTo>
                <a:lnTo>
                  <a:pt x="1704" y="296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802240" y="4424400"/>
            <a:ext cx="21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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de l’extens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946160" y="3460680"/>
            <a:ext cx="3092400" cy="1035000"/>
          </a:xfrm>
          <a:custGeom>
            <a:avLst/>
            <a:gdLst/>
            <a:ahLst/>
            <a:rect l="l" t="t" r="r" b="b"/>
            <a:pathLst>
              <a:path w="1948" h="652">
                <a:moveTo>
                  <a:pt x="1948" y="0"/>
                </a:moveTo>
                <a:lnTo>
                  <a:pt x="61" y="0"/>
                </a:lnTo>
                <a:lnTo>
                  <a:pt x="0" y="329"/>
                </a:lnTo>
                <a:lnTo>
                  <a:pt x="198" y="65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803920" y="1817640"/>
            <a:ext cx="365040" cy="292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651640" y="4572000"/>
            <a:ext cx="669960" cy="558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2" name=""/>
          <p:cNvGrpSpPr/>
          <p:nvPr/>
        </p:nvGrpSpPr>
        <p:grpSpPr>
          <a:xfrm>
            <a:off x="5722200" y="4887720"/>
            <a:ext cx="922680" cy="1534320"/>
            <a:chOff x="5722200" y="4887720"/>
            <a:chExt cx="922680" cy="1534320"/>
          </a:xfrm>
        </p:grpSpPr>
        <p:sp>
          <p:nvSpPr>
            <p:cNvPr id="2113" name=""/>
            <p:cNvSpPr/>
            <p:nvPr/>
          </p:nvSpPr>
          <p:spPr>
            <a:xfrm flipH="1" rot="4481400">
              <a:off x="5923080" y="4818600"/>
              <a:ext cx="419040" cy="73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20681400">
              <a:off x="6130440" y="5213160"/>
              <a:ext cx="365040" cy="118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5" name=""/>
          <p:cNvGrpSpPr/>
          <p:nvPr/>
        </p:nvGrpSpPr>
        <p:grpSpPr>
          <a:xfrm>
            <a:off x="6256800" y="1454400"/>
            <a:ext cx="1558800" cy="4257000"/>
            <a:chOff x="6256800" y="1454400"/>
            <a:chExt cx="1558800" cy="4257000"/>
          </a:xfrm>
        </p:grpSpPr>
        <p:sp>
          <p:nvSpPr>
            <p:cNvPr id="2116" name=""/>
            <p:cNvSpPr/>
            <p:nvPr/>
          </p:nvSpPr>
          <p:spPr>
            <a:xfrm rot="550800">
              <a:off x="6585840" y="146376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 rot="550800">
              <a:off x="7030080" y="1535760"/>
              <a:ext cx="455400" cy="41655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6696000" y="2370960"/>
            <a:ext cx="780840" cy="2130120"/>
            <a:chOff x="6696000" y="2370960"/>
            <a:chExt cx="780840" cy="2130120"/>
          </a:xfrm>
        </p:grpSpPr>
        <p:sp>
          <p:nvSpPr>
            <p:cNvPr id="2119" name=""/>
            <p:cNvSpPr/>
            <p:nvPr/>
          </p:nvSpPr>
          <p:spPr>
            <a:xfrm rot="550800">
              <a:off x="6860880" y="237564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 rot="550800">
              <a:off x="7083360" y="241164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1" name=""/>
          <p:cNvSpPr/>
          <p:nvPr/>
        </p:nvSpPr>
        <p:spPr>
          <a:xfrm flipH="1">
            <a:off x="1879200" y="3873600"/>
            <a:ext cx="88920" cy="2919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308560" y="5575320"/>
            <a:ext cx="1028880" cy="7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6603840" y="5562720"/>
            <a:ext cx="114480" cy="66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038320" y="4676760"/>
            <a:ext cx="173160" cy="174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149560" y="4803840"/>
            <a:ext cx="4667040" cy="123840"/>
          </a:xfrm>
          <a:custGeom>
            <a:avLst/>
            <a:gdLst/>
            <a:ahLst/>
            <a:rect l="l" t="t" r="r" b="b"/>
            <a:pathLst>
              <a:path w="1704" h="296">
                <a:moveTo>
                  <a:pt x="0" y="0"/>
                </a:moveTo>
                <a:lnTo>
                  <a:pt x="274" y="296"/>
                </a:lnTo>
                <a:lnTo>
                  <a:pt x="1704" y="296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695600" y="4124160"/>
            <a:ext cx="257040" cy="257400"/>
          </a:xfrm>
          <a:prstGeom prst="star5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828800" y="4267080"/>
            <a:ext cx="22860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906640" y="498636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fibre </a:t>
            </a:r>
            <a:r>
              <a:rPr b="0" lang="fr-FR" sz="1600" spc="-1" strike="noStrike">
                <a:solidFill>
                  <a:srgbClr val="003366"/>
                </a:solidFill>
                <a:latin typeface="Symbol"/>
                <a:ea typeface="Symbol"/>
              </a:rPr>
              <a:t></a:t>
            </a:r>
            <a:r>
              <a:rPr b="0" lang="fr-FR" sz="1600" spc="-1" strike="noStrike">
                <a:solidFill>
                  <a:srgbClr val="003366"/>
                </a:solidFill>
                <a:latin typeface="Arial"/>
              </a:rPr>
              <a:t>du fléchiss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971640" y="5896080"/>
            <a:ext cx="257040" cy="257040"/>
          </a:xfrm>
          <a:prstGeom prst="star5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234440" y="5881680"/>
            <a:ext cx="231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interneurone inhibi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0600" y="835200"/>
            <a:ext cx="8143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odulation simultanée des muscles extenseurs et fléchis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395520" y="3084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3" name=""/>
          <p:cNvGrpSpPr/>
          <p:nvPr/>
        </p:nvGrpSpPr>
        <p:grpSpPr>
          <a:xfrm>
            <a:off x="4375800" y="1484280"/>
            <a:ext cx="1349280" cy="3910320"/>
            <a:chOff x="4375800" y="1484280"/>
            <a:chExt cx="1349280" cy="3910320"/>
          </a:xfrm>
        </p:grpSpPr>
        <p:sp>
          <p:nvSpPr>
            <p:cNvPr id="2134" name=""/>
            <p:cNvSpPr/>
            <p:nvPr/>
          </p:nvSpPr>
          <p:spPr>
            <a:xfrm rot="21195600">
              <a:off x="4599000" y="1550160"/>
              <a:ext cx="455400" cy="38307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 rot="21195600">
              <a:off x="5046120" y="1497600"/>
              <a:ext cx="455400" cy="383076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solidFill>
              <a:srgbClr val="f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4732560" y="2390400"/>
            <a:ext cx="695160" cy="2123280"/>
            <a:chOff x="4732560" y="2390400"/>
            <a:chExt cx="695160" cy="2123280"/>
          </a:xfrm>
        </p:grpSpPr>
        <p:sp>
          <p:nvSpPr>
            <p:cNvPr id="2137" name=""/>
            <p:cNvSpPr/>
            <p:nvPr/>
          </p:nvSpPr>
          <p:spPr>
            <a:xfrm rot="21195600">
              <a:off x="4853880" y="242280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H="1" rot="21195600">
              <a:off x="5077440" y="2396520"/>
              <a:ext cx="228240" cy="2084400"/>
            </a:xfrm>
            <a:custGeom>
              <a:avLst/>
              <a:gdLst/>
              <a:ahLst/>
              <a:rect l="l" t="t" r="r" b="b"/>
              <a:pathLst>
                <a:path w="283" h="2624">
                  <a:moveTo>
                    <a:pt x="283" y="0"/>
                  </a:moveTo>
                  <a:cubicBezTo>
                    <a:pt x="190" y="152"/>
                    <a:pt x="98" y="304"/>
                    <a:pt x="51" y="520"/>
                  </a:cubicBezTo>
                  <a:cubicBezTo>
                    <a:pt x="4" y="736"/>
                    <a:pt x="0" y="1055"/>
                    <a:pt x="3" y="1296"/>
                  </a:cubicBezTo>
                  <a:cubicBezTo>
                    <a:pt x="6" y="1537"/>
                    <a:pt x="30" y="1776"/>
                    <a:pt x="67" y="1968"/>
                  </a:cubicBezTo>
                  <a:cubicBezTo>
                    <a:pt x="104" y="2160"/>
                    <a:pt x="191" y="2339"/>
                    <a:pt x="227" y="2448"/>
                  </a:cubicBezTo>
                  <a:cubicBezTo>
                    <a:pt x="263" y="2557"/>
                    <a:pt x="273" y="2590"/>
                    <a:pt x="283" y="2624"/>
                  </a:cubicBezTo>
                </a:path>
              </a:pathLst>
            </a:custGeom>
            <a:gradFill rotWithShape="0">
              <a:gsLst>
                <a:gs pos="0">
                  <a:srgbClr val="fefeaf"/>
                </a:gs>
                <a:gs pos="100000">
                  <a:srgbClr val="ffff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9" name=""/>
          <p:cNvSpPr/>
          <p:nvPr/>
        </p:nvSpPr>
        <p:spPr>
          <a:xfrm>
            <a:off x="5043240" y="3380400"/>
            <a:ext cx="25920" cy="2178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46120" y="2971800"/>
            <a:ext cx="2328840" cy="2230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768240" y="3144960"/>
            <a:ext cx="1883880" cy="1833840"/>
            <a:chOff x="768240" y="3144960"/>
            <a:chExt cx="1883880" cy="1833840"/>
          </a:xfrm>
        </p:grpSpPr>
        <p:sp>
          <p:nvSpPr>
            <p:cNvPr id="2142" name=""/>
            <p:cNvSpPr/>
            <p:nvPr/>
          </p:nvSpPr>
          <p:spPr>
            <a:xfrm>
              <a:off x="1673640" y="314496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709640" y="4043160"/>
              <a:ext cx="94248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68240" y="314496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03880" y="4043160"/>
              <a:ext cx="94248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203480" y="3594600"/>
              <a:ext cx="941400" cy="9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2276640" y="4486320"/>
            <a:ext cx="172800" cy="174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81440" y="206280"/>
            <a:ext cx="8011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nervation crois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629080" y="431640"/>
            <a:ext cx="3281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387520" y="4594320"/>
            <a:ext cx="2705040" cy="180720"/>
          </a:xfrm>
          <a:custGeom>
            <a:avLst/>
            <a:gdLst/>
            <a:ahLst/>
            <a:rect l="l" t="t" r="r" b="b"/>
            <a:pathLst>
              <a:path w="1704" h="296">
                <a:moveTo>
                  <a:pt x="0" y="0"/>
                </a:moveTo>
                <a:lnTo>
                  <a:pt x="274" y="296"/>
                </a:lnTo>
                <a:lnTo>
                  <a:pt x="1704" y="296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946160" y="3460680"/>
            <a:ext cx="3092400" cy="1035000"/>
          </a:xfrm>
          <a:custGeom>
            <a:avLst/>
            <a:gdLst/>
            <a:ahLst/>
            <a:rect l="l" t="t" r="r" b="b"/>
            <a:pathLst>
              <a:path w="1948" h="652">
                <a:moveTo>
                  <a:pt x="1948" y="0"/>
                </a:moveTo>
                <a:lnTo>
                  <a:pt x="61" y="0"/>
                </a:lnTo>
                <a:lnTo>
                  <a:pt x="0" y="329"/>
                </a:lnTo>
                <a:lnTo>
                  <a:pt x="198" y="65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803920" y="1817640"/>
            <a:ext cx="365040" cy="2921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651640" y="4572000"/>
            <a:ext cx="669960" cy="558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5644800" y="4971960"/>
            <a:ext cx="751320" cy="1461600"/>
            <a:chOff x="5644800" y="4971960"/>
            <a:chExt cx="751320" cy="1461600"/>
          </a:xfrm>
        </p:grpSpPr>
        <p:sp>
          <p:nvSpPr>
            <p:cNvPr id="2156" name=""/>
            <p:cNvSpPr/>
            <p:nvPr/>
          </p:nvSpPr>
          <p:spPr>
            <a:xfrm flipH="1" rot="5275800">
              <a:off x="5810400" y="4826160"/>
              <a:ext cx="419040" cy="73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rot="21476400">
              <a:off x="5871960" y="5245920"/>
              <a:ext cx="365040" cy="118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8" name=""/>
          <p:cNvGrpSpPr/>
          <p:nvPr/>
        </p:nvGrpSpPr>
        <p:grpSpPr>
          <a:xfrm>
            <a:off x="6067080" y="1298520"/>
            <a:ext cx="1798560" cy="4390200"/>
            <a:chOff x="6067080" y="1298520"/>
            <a:chExt cx="1798560" cy="4390200"/>
          </a:xfrm>
        </p:grpSpPr>
        <p:grpSp>
          <p:nvGrpSpPr>
            <p:cNvPr id="2159" name=""/>
            <p:cNvGrpSpPr/>
            <p:nvPr/>
          </p:nvGrpSpPr>
          <p:grpSpPr>
            <a:xfrm>
              <a:off x="6067080" y="1298520"/>
              <a:ext cx="1798560" cy="4390200"/>
              <a:chOff x="6067080" y="1298520"/>
              <a:chExt cx="1798560" cy="4390200"/>
            </a:xfrm>
          </p:grpSpPr>
          <p:sp>
            <p:nvSpPr>
              <p:cNvPr id="2160" name=""/>
              <p:cNvSpPr/>
              <p:nvPr/>
            </p:nvSpPr>
            <p:spPr>
              <a:xfrm rot="865800">
                <a:off x="6601680" y="1276200"/>
                <a:ext cx="372600" cy="434268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H="1" rot="865200">
                <a:off x="6958080" y="1368000"/>
                <a:ext cx="372600" cy="434268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2" name=""/>
            <p:cNvGrpSpPr/>
            <p:nvPr/>
          </p:nvGrpSpPr>
          <p:grpSpPr>
            <a:xfrm>
              <a:off x="6570720" y="2246040"/>
              <a:ext cx="901080" cy="2197440"/>
              <a:chOff x="6570720" y="2246040"/>
              <a:chExt cx="901080" cy="2197440"/>
            </a:xfrm>
          </p:grpSpPr>
          <p:sp>
            <p:nvSpPr>
              <p:cNvPr id="2163" name=""/>
              <p:cNvSpPr/>
              <p:nvPr/>
            </p:nvSpPr>
            <p:spPr>
              <a:xfrm rot="865800">
                <a:off x="6838200" y="2234880"/>
                <a:ext cx="186480" cy="217332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 rot="865200">
                <a:off x="7017120" y="2280960"/>
                <a:ext cx="186480" cy="2173320"/>
              </a:xfrm>
              <a:custGeom>
                <a:avLst/>
                <a:gdLst/>
                <a:ahLst/>
                <a:rect l="l" t="t" r="r" b="b"/>
                <a:pathLst>
                  <a:path w="283" h="2624">
                    <a:moveTo>
                      <a:pt x="283" y="0"/>
                    </a:moveTo>
                    <a:cubicBezTo>
                      <a:pt x="190" y="152"/>
                      <a:pt x="98" y="304"/>
                      <a:pt x="51" y="520"/>
                    </a:cubicBezTo>
                    <a:cubicBezTo>
                      <a:pt x="4" y="736"/>
                      <a:pt x="0" y="1055"/>
                      <a:pt x="3" y="1296"/>
                    </a:cubicBezTo>
                    <a:cubicBezTo>
                      <a:pt x="6" y="1537"/>
                      <a:pt x="30" y="1776"/>
                      <a:pt x="67" y="1968"/>
                    </a:cubicBezTo>
                    <a:cubicBezTo>
                      <a:pt x="104" y="2160"/>
                      <a:pt x="191" y="2339"/>
                      <a:pt x="227" y="2448"/>
                    </a:cubicBezTo>
                    <a:cubicBezTo>
                      <a:pt x="263" y="2557"/>
                      <a:pt x="273" y="2590"/>
                      <a:pt x="283" y="2624"/>
                    </a:cubicBezTo>
                  </a:path>
                </a:pathLst>
              </a:custGeom>
              <a:gradFill rotWithShape="0">
                <a:gsLst>
                  <a:gs pos="0">
                    <a:srgbClr val="fefeaf"/>
                  </a:gs>
                  <a:gs pos="100000">
                    <a:srgbClr val="ffff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5" name=""/>
          <p:cNvSpPr/>
          <p:nvPr/>
        </p:nvSpPr>
        <p:spPr>
          <a:xfrm flipH="1">
            <a:off x="1879200" y="3873600"/>
            <a:ext cx="88920" cy="2919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243760" y="5196960"/>
            <a:ext cx="701280" cy="1036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6256800" y="5509440"/>
            <a:ext cx="199440" cy="639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038320" y="4676760"/>
            <a:ext cx="173160" cy="174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149560" y="4803840"/>
            <a:ext cx="4667040" cy="123840"/>
          </a:xfrm>
          <a:custGeom>
            <a:avLst/>
            <a:gdLst/>
            <a:ahLst/>
            <a:rect l="l" t="t" r="r" b="b"/>
            <a:pathLst>
              <a:path w="1704" h="296">
                <a:moveTo>
                  <a:pt x="0" y="0"/>
                </a:moveTo>
                <a:lnTo>
                  <a:pt x="274" y="296"/>
                </a:lnTo>
                <a:lnTo>
                  <a:pt x="1704" y="296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695600" y="4124160"/>
            <a:ext cx="257040" cy="257400"/>
          </a:xfrm>
          <a:prstGeom prst="star5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828800" y="4267080"/>
            <a:ext cx="22860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183840" y="35593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90600" y="835200"/>
            <a:ext cx="8143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odulation simultanée des muscles extenseurs et fléchis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395520" y="3084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1655640" y="4253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471840" y="4379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763800" y="4849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347560" y="5700600"/>
            <a:ext cx="30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contraction de l’exten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046640" y="48499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relax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du fléch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53880" y="1444680"/>
            <a:ext cx="402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timulation de la fibre I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timulation de la fibr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e l’exten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vation de l’interneurone inhibi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hibition de la fibr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u fléchi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78000" y="1434960"/>
            <a:ext cx="840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(s) complex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hiérarchisé : différents niveaux de complex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intég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régulé : réflexe myo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549440" y="431640"/>
            <a:ext cx="7421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5400" y="206280"/>
            <a:ext cx="3315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785880" y="1822680"/>
            <a:ext cx="6962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Physiologie animale : mécanismes et adaptation.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R. Eckert.</a:t>
            </a:r>
            <a:br>
              <a:rPr sz="1600"/>
            </a:b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disponible BU côte QT4.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Physiologie animale : adaptations et milieux de vie.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K. Schmidt-Nielsen.</a:t>
            </a:r>
            <a:br>
              <a:rPr sz="1600"/>
            </a:b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disponible BU côte QL47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La notion de régulation en physiologie.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P. Chevalet et al. </a:t>
            </a:r>
            <a:br>
              <a:rPr sz="1600"/>
            </a:b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disponible BU côte QT104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Physiologie humaine.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Pocock &amp; Richards.</a:t>
            </a:r>
            <a:br>
              <a:rPr sz="1600"/>
            </a:b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disponible BU côte QT10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77120" y="206280"/>
            <a:ext cx="7876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quelques éléments de bibliographie disponibles à la BU de l'univers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05040" y="2019240"/>
            <a:ext cx="4914720" cy="3353760"/>
            <a:chOff x="905040" y="2019240"/>
            <a:chExt cx="4914720" cy="3353760"/>
          </a:xfrm>
        </p:grpSpPr>
        <p:sp>
          <p:nvSpPr>
            <p:cNvPr id="81" name=""/>
            <p:cNvSpPr/>
            <p:nvPr/>
          </p:nvSpPr>
          <p:spPr>
            <a:xfrm>
              <a:off x="1419120" y="2857320"/>
              <a:ext cx="3886920" cy="362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68400" y="2298600"/>
              <a:ext cx="4328640" cy="635040"/>
            </a:xfrm>
            <a:custGeom>
              <a:avLst/>
              <a:gdLst/>
              <a:ahLst/>
              <a:rect l="l" t="t" r="r" b="b"/>
              <a:pathLst>
                <a:path w="4019" h="568">
                  <a:moveTo>
                    <a:pt x="48" y="304"/>
                  </a:moveTo>
                  <a:cubicBezTo>
                    <a:pt x="183" y="298"/>
                    <a:pt x="324" y="289"/>
                    <a:pt x="456" y="256"/>
                  </a:cubicBezTo>
                  <a:cubicBezTo>
                    <a:pt x="588" y="223"/>
                    <a:pt x="720" y="179"/>
                    <a:pt x="856" y="160"/>
                  </a:cubicBezTo>
                  <a:cubicBezTo>
                    <a:pt x="997" y="113"/>
                    <a:pt x="1149" y="72"/>
                    <a:pt x="1296" y="56"/>
                  </a:cubicBezTo>
                  <a:cubicBezTo>
                    <a:pt x="1367" y="38"/>
                    <a:pt x="1388" y="38"/>
                    <a:pt x="1480" y="32"/>
                  </a:cubicBezTo>
                  <a:cubicBezTo>
                    <a:pt x="1560" y="12"/>
                    <a:pt x="1522" y="20"/>
                    <a:pt x="1592" y="8"/>
                  </a:cubicBezTo>
                  <a:cubicBezTo>
                    <a:pt x="1732" y="14"/>
                    <a:pt x="1877" y="28"/>
                    <a:pt x="2016" y="0"/>
                  </a:cubicBezTo>
                  <a:cubicBezTo>
                    <a:pt x="2099" y="3"/>
                    <a:pt x="2181" y="3"/>
                    <a:pt x="2264" y="8"/>
                  </a:cubicBezTo>
                  <a:cubicBezTo>
                    <a:pt x="2295" y="10"/>
                    <a:pt x="2329" y="27"/>
                    <a:pt x="2360" y="32"/>
                  </a:cubicBezTo>
                  <a:cubicBezTo>
                    <a:pt x="2455" y="47"/>
                    <a:pt x="2545" y="71"/>
                    <a:pt x="2640" y="80"/>
                  </a:cubicBezTo>
                  <a:cubicBezTo>
                    <a:pt x="2758" y="104"/>
                    <a:pt x="2855" y="100"/>
                    <a:pt x="2984" y="104"/>
                  </a:cubicBezTo>
                  <a:cubicBezTo>
                    <a:pt x="3044" y="111"/>
                    <a:pt x="3129" y="118"/>
                    <a:pt x="3184" y="136"/>
                  </a:cubicBezTo>
                  <a:cubicBezTo>
                    <a:pt x="3252" y="159"/>
                    <a:pt x="3337" y="186"/>
                    <a:pt x="3408" y="200"/>
                  </a:cubicBezTo>
                  <a:cubicBezTo>
                    <a:pt x="3439" y="206"/>
                    <a:pt x="3474" y="213"/>
                    <a:pt x="3504" y="224"/>
                  </a:cubicBezTo>
                  <a:cubicBezTo>
                    <a:pt x="3515" y="228"/>
                    <a:pt x="3524" y="237"/>
                    <a:pt x="3536" y="240"/>
                  </a:cubicBezTo>
                  <a:cubicBezTo>
                    <a:pt x="3628" y="265"/>
                    <a:pt x="3758" y="261"/>
                    <a:pt x="3840" y="264"/>
                  </a:cubicBezTo>
                  <a:cubicBezTo>
                    <a:pt x="3868" y="273"/>
                    <a:pt x="3902" y="274"/>
                    <a:pt x="3928" y="288"/>
                  </a:cubicBezTo>
                  <a:cubicBezTo>
                    <a:pt x="3945" y="297"/>
                    <a:pt x="3960" y="309"/>
                    <a:pt x="3976" y="320"/>
                  </a:cubicBezTo>
                  <a:cubicBezTo>
                    <a:pt x="3984" y="325"/>
                    <a:pt x="4000" y="336"/>
                    <a:pt x="4000" y="336"/>
                  </a:cubicBezTo>
                  <a:cubicBezTo>
                    <a:pt x="4008" y="359"/>
                    <a:pt x="4019" y="366"/>
                    <a:pt x="3984" y="368"/>
                  </a:cubicBezTo>
                  <a:cubicBezTo>
                    <a:pt x="3891" y="373"/>
                    <a:pt x="3797" y="373"/>
                    <a:pt x="3704" y="376"/>
                  </a:cubicBezTo>
                  <a:cubicBezTo>
                    <a:pt x="3632" y="400"/>
                    <a:pt x="3548" y="400"/>
                    <a:pt x="3472" y="408"/>
                  </a:cubicBezTo>
                  <a:cubicBezTo>
                    <a:pt x="3430" y="422"/>
                    <a:pt x="3387" y="426"/>
                    <a:pt x="3344" y="432"/>
                  </a:cubicBezTo>
                  <a:cubicBezTo>
                    <a:pt x="3239" y="467"/>
                    <a:pt x="3132" y="479"/>
                    <a:pt x="3024" y="496"/>
                  </a:cubicBezTo>
                  <a:cubicBezTo>
                    <a:pt x="2968" y="505"/>
                    <a:pt x="2912" y="525"/>
                    <a:pt x="2856" y="536"/>
                  </a:cubicBezTo>
                  <a:cubicBezTo>
                    <a:pt x="2759" y="555"/>
                    <a:pt x="2659" y="548"/>
                    <a:pt x="2560" y="552"/>
                  </a:cubicBezTo>
                  <a:cubicBezTo>
                    <a:pt x="2397" y="568"/>
                    <a:pt x="2237" y="561"/>
                    <a:pt x="2072" y="552"/>
                  </a:cubicBezTo>
                  <a:cubicBezTo>
                    <a:pt x="1933" y="517"/>
                    <a:pt x="2084" y="552"/>
                    <a:pt x="1720" y="552"/>
                  </a:cubicBezTo>
                  <a:cubicBezTo>
                    <a:pt x="1499" y="552"/>
                    <a:pt x="1277" y="547"/>
                    <a:pt x="1056" y="544"/>
                  </a:cubicBezTo>
                  <a:cubicBezTo>
                    <a:pt x="969" y="532"/>
                    <a:pt x="892" y="499"/>
                    <a:pt x="808" y="480"/>
                  </a:cubicBezTo>
                  <a:cubicBezTo>
                    <a:pt x="743" y="466"/>
                    <a:pt x="674" y="463"/>
                    <a:pt x="608" y="456"/>
                  </a:cubicBezTo>
                  <a:cubicBezTo>
                    <a:pt x="566" y="442"/>
                    <a:pt x="522" y="437"/>
                    <a:pt x="480" y="424"/>
                  </a:cubicBezTo>
                  <a:cubicBezTo>
                    <a:pt x="432" y="410"/>
                    <a:pt x="378" y="386"/>
                    <a:pt x="328" y="384"/>
                  </a:cubicBezTo>
                  <a:cubicBezTo>
                    <a:pt x="229" y="379"/>
                    <a:pt x="131" y="379"/>
                    <a:pt x="32" y="376"/>
                  </a:cubicBezTo>
                  <a:cubicBezTo>
                    <a:pt x="24" y="368"/>
                    <a:pt x="12" y="363"/>
                    <a:pt x="8" y="352"/>
                  </a:cubicBezTo>
                  <a:cubicBezTo>
                    <a:pt x="0" y="328"/>
                    <a:pt x="36" y="316"/>
                    <a:pt x="48" y="304"/>
                  </a:cubicBezTo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44960" y="2857320"/>
              <a:ext cx="590400" cy="5148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92640" y="3486240"/>
              <a:ext cx="533520" cy="188676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414720 h 1886760"/>
                <a:gd name="textAreaBottom" fmla="*/ 1472040 h 18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511600">
              <a:off x="5515920" y="2762280"/>
              <a:ext cx="247680" cy="400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5040" y="2019240"/>
              <a:ext cx="1752840" cy="144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30800" y="3486240"/>
              <a:ext cx="0" cy="1886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649840" y="3066840"/>
              <a:ext cx="76320" cy="5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73200" y="2667240"/>
              <a:ext cx="5148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 flipH="1">
            <a:off x="6000480" y="366696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886360" y="2276640"/>
            <a:ext cx="561960" cy="1266840"/>
            <a:chOff x="5886360" y="2276640"/>
            <a:chExt cx="561960" cy="1266840"/>
          </a:xfrm>
        </p:grpSpPr>
        <p:sp>
          <p:nvSpPr>
            <p:cNvPr id="92" name=""/>
            <p:cNvSpPr/>
            <p:nvPr/>
          </p:nvSpPr>
          <p:spPr>
            <a:xfrm>
              <a:off x="5886360" y="3362400"/>
              <a:ext cx="5619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62480" y="2276640"/>
              <a:ext cx="0" cy="1162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69800" y="1139760"/>
            <a:ext cx="84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up sur le tendon rotuli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72120" y="3343320"/>
            <a:ext cx="438120" cy="162000"/>
          </a:xfrm>
          <a:custGeom>
            <a:avLst/>
            <a:gdLst/>
            <a:ahLst/>
            <a:rect l="l" t="t" r="r" b="b"/>
            <a:pathLst>
              <a:path w="276" h="102">
                <a:moveTo>
                  <a:pt x="12" y="102"/>
                </a:moveTo>
                <a:lnTo>
                  <a:pt x="0" y="42"/>
                </a:lnTo>
                <a:lnTo>
                  <a:pt x="144" y="30"/>
                </a:lnTo>
                <a:lnTo>
                  <a:pt x="186" y="0"/>
                </a:lnTo>
                <a:lnTo>
                  <a:pt x="276" y="9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6320" y="431640"/>
            <a:ext cx="4589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960" y="206280"/>
            <a:ext cx="7509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rotuli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19120" y="2857680"/>
            <a:ext cx="3888000" cy="36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68400" y="2298600"/>
            <a:ext cx="4443480" cy="6350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44960" y="2857680"/>
            <a:ext cx="590760" cy="514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2640" y="3486240"/>
            <a:ext cx="533520" cy="1887480"/>
          </a:xfrm>
          <a:custGeom>
            <a:avLst/>
            <a:gdLst>
              <a:gd name="textAreaLeft" fmla="*/ 117360 w 533520"/>
              <a:gd name="textAreaRight" fmla="*/ 416160 w 533520"/>
              <a:gd name="textAreaTop" fmla="*/ 415080 h 1887480"/>
              <a:gd name="textAreaBottom" fmla="*/ 1472400 h 18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0511600">
            <a:off x="5525640" y="2867040"/>
            <a:ext cx="247680" cy="3999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5040" y="2019240"/>
            <a:ext cx="1752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30800" y="3486240"/>
            <a:ext cx="0" cy="1887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84680" y="2283120"/>
            <a:ext cx="588600" cy="1298520"/>
            <a:chOff x="5584680" y="2283120"/>
            <a:chExt cx="588600" cy="1298520"/>
          </a:xfrm>
        </p:grpSpPr>
        <p:sp>
          <p:nvSpPr>
            <p:cNvPr id="107" name=""/>
            <p:cNvSpPr/>
            <p:nvPr/>
          </p:nvSpPr>
          <p:spPr>
            <a:xfrm rot="806400">
              <a:off x="5598000" y="3337560"/>
              <a:ext cx="5619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877720" y="2283120"/>
              <a:ext cx="270000" cy="1130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69800" y="1139760"/>
            <a:ext cx="84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du quadrice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81800" y="3181320"/>
            <a:ext cx="123840" cy="390600"/>
          </a:xfrm>
          <a:custGeom>
            <a:avLst/>
            <a:gdLst/>
            <a:ahLst/>
            <a:rect l="l" t="t" r="r" b="b"/>
            <a:pathLst>
              <a:path w="78" h="246">
                <a:moveTo>
                  <a:pt x="78" y="0"/>
                </a:moveTo>
                <a:lnTo>
                  <a:pt x="0" y="120"/>
                </a:lnTo>
                <a:lnTo>
                  <a:pt x="72" y="2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2640" y="2643120"/>
            <a:ext cx="429480" cy="35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72120" y="3343320"/>
            <a:ext cx="438120" cy="162000"/>
          </a:xfrm>
          <a:custGeom>
            <a:avLst/>
            <a:gdLst/>
            <a:ahLst/>
            <a:rect l="l" t="t" r="r" b="b"/>
            <a:pathLst>
              <a:path w="276" h="102">
                <a:moveTo>
                  <a:pt x="12" y="102"/>
                </a:moveTo>
                <a:lnTo>
                  <a:pt x="0" y="42"/>
                </a:lnTo>
                <a:lnTo>
                  <a:pt x="144" y="30"/>
                </a:lnTo>
                <a:lnTo>
                  <a:pt x="186" y="0"/>
                </a:lnTo>
                <a:lnTo>
                  <a:pt x="276" y="9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43360" y="262908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6320" y="431640"/>
            <a:ext cx="4589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960" y="206280"/>
            <a:ext cx="7509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rotuli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19120" y="2857680"/>
            <a:ext cx="3888000" cy="36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8400" y="2298600"/>
            <a:ext cx="4167000" cy="6350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44960" y="2857680"/>
            <a:ext cx="590760" cy="514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9585800">
            <a:off x="5450040" y="2685600"/>
            <a:ext cx="247320" cy="400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5040" y="2019240"/>
            <a:ext cx="1752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15880" y="2667240"/>
            <a:ext cx="543960" cy="11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86160" y="3331440"/>
            <a:ext cx="773280" cy="2064240"/>
            <a:chOff x="5186160" y="3331440"/>
            <a:chExt cx="773280" cy="2064240"/>
          </a:xfrm>
        </p:grpSpPr>
        <p:sp>
          <p:nvSpPr>
            <p:cNvPr id="124" name=""/>
            <p:cNvSpPr/>
            <p:nvPr/>
          </p:nvSpPr>
          <p:spPr>
            <a:xfrm rot="21222000">
              <a:off x="5324040" y="3484440"/>
              <a:ext cx="533520" cy="188748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415080 h 1887480"/>
                <a:gd name="textAreaBottom" fmla="*/ 1472400 h 18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60320" y="3515400"/>
              <a:ext cx="207000" cy="1875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222000">
              <a:off x="5193720" y="3354840"/>
              <a:ext cx="438120" cy="162000"/>
            </a:xfrm>
            <a:custGeom>
              <a:avLst/>
              <a:gdLst/>
              <a:ahLst/>
              <a:rect l="l" t="t" r="r" b="b"/>
              <a:pathLst>
                <a:path w="276" h="102">
                  <a:moveTo>
                    <a:pt x="12" y="102"/>
                  </a:moveTo>
                  <a:lnTo>
                    <a:pt x="0" y="42"/>
                  </a:lnTo>
                  <a:lnTo>
                    <a:pt x="144" y="30"/>
                  </a:lnTo>
                  <a:lnTo>
                    <a:pt x="186" y="0"/>
                  </a:lnTo>
                  <a:lnTo>
                    <a:pt x="276" y="9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649840" y="3009960"/>
            <a:ext cx="7632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9800" y="1139760"/>
            <a:ext cx="84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étirement du quadriceps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contraction du quadrice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62440" y="2647800"/>
            <a:ext cx="26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647800"/>
            <a:ext cx="98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600000" y="2647800"/>
            <a:ext cx="266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46320" y="431640"/>
            <a:ext cx="4589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960" y="206280"/>
            <a:ext cx="7509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rotuli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65360" y="431640"/>
            <a:ext cx="338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9800" y="113976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lorsqu’un muscle est étiré, il se contra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nécessite une innervation inta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1080" y="206280"/>
            <a:ext cx="7729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charactéris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4800" y="3452760"/>
            <a:ext cx="554364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tervention de la moelle épinièr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tervention des centres cérébraux supéri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65360" y="431640"/>
            <a:ext cx="338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2760" y="2581200"/>
            <a:ext cx="8508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décérébration : section du tronc princip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éparation de la moelle épinière et des centres cérébraux supéri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expérience sur le chat décérébré (Sherring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lexion des extenseurs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ugmentation de la contraction des muscles exten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elâchement des muscles fléchis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080" y="206280"/>
            <a:ext cx="7729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réflexe myotatiq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charactéris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7680" y="1128600"/>
            <a:ext cx="554328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tervention de la moelle épinièr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tervention des centres cérébraux supéri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880" y="5091120"/>
            <a:ext cx="741528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éflexe myotatique = réflexe médu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innervation croisée  entre muscles fléchisseurs et extenseurs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m</cp:lastModifiedBy>
  <dcterms:modified xsi:type="dcterms:W3CDTF">2011-04-05T05:10:04Z</dcterms:modified>
  <cp:revision>1045</cp:revision>
  <dc:subject/>
  <dc:title>Présentation PowerPoint</dc:title>
</cp:coreProperties>
</file>