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667500" cy="9802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72840" y="416268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7284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352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2720" y="190620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52600" y="190620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72840" y="416268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2720" y="416268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52600" y="416268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72840" y="190620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352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72840" y="568080"/>
            <a:ext cx="780732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7284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352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72840" y="416268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2840" y="190620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2040" indent="-29376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82640" indent="-2602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4680" indent="-19512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6720" indent="-19512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1959120" indent="-19692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1959120" indent="-19692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1959120" indent="-19692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1177920" y="1608120"/>
            <a:ext cx="6315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4000" spc="-1" strike="noStrike">
                <a:solidFill>
                  <a:srgbClr val="000066"/>
                </a:solidFill>
                <a:latin typeface="Trebuchet MS"/>
              </a:rPr>
              <a:t>La science antique et médiévale : les origines de la biologie moder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1596960" y="596880"/>
            <a:ext cx="754704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419120" y="114480"/>
            <a:ext cx="71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Licence Biologie - </a:t>
            </a:r>
            <a:r>
              <a:rPr b="0" lang="fr-FR" sz="2400" spc="-1" strike="noStrike">
                <a:solidFill>
                  <a:srgbClr val="000066"/>
                </a:solidFill>
                <a:latin typeface="Bitstream Vera Sans"/>
              </a:rPr>
              <a:t>UE culture générale</a:t>
            </a:r>
            <a:r>
              <a:rPr b="0" lang="fr-FR" sz="2400" spc="-1" strike="noStrike">
                <a:solidFill>
                  <a:srgbClr val="800000"/>
                </a:solidFill>
                <a:latin typeface="Bitstream Ver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395440" y="593640"/>
            <a:ext cx="48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histoire des sciences biolog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0120" cy="1514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17600" y="3687840"/>
            <a:ext cx="781848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Etienne Ro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Adaptation cardiovasculaire à l’ischémie INSERM U 10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UFR des Sciences de la Vie Université Bordeaux Sega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000" spc="-1" strike="noStrike">
                <a:solidFill>
                  <a:srgbClr val="000066"/>
                </a:solidFill>
                <a:latin typeface="Trebuchet MS"/>
              </a:rPr>
              <a:t>contact: etienne.roux@u-bordeaux2.f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000" spc="-1" strike="noStrike">
                <a:solidFill>
                  <a:srgbClr val="000066"/>
                </a:solidFill>
                <a:latin typeface="Trebuchet MS"/>
              </a:rPr>
              <a:t>support de cours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000" spc="-1" strike="noStrike">
                <a:solidFill>
                  <a:srgbClr val="000066"/>
                </a:solidFill>
                <a:latin typeface="Trebuchet MS"/>
              </a:rPr>
              <a:t>plateforme pédagogique l’UFR des sciences de la V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000" spc="-1" strike="noStrike">
                <a:solidFill>
                  <a:srgbClr val="000066"/>
                </a:solidFill>
                <a:latin typeface="Trebuchet MS"/>
              </a:rPr>
              <a:t>e-fisio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79520" y="1179360"/>
            <a:ext cx="7808760" cy="42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  <a:ea typeface="Times New Roman"/>
              </a:rPr>
              <a:t>Classification naturelle du viv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Classification naturelle : qui reflète l’organisation du viv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Refus de la dichotomie : classification par séparation successive suivant la présence ou l’absence d’un caractè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L’absence d’un caractère (caractère privatif) n’a pas la même valeur que la présence d’un caractè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« Il n’y a pas de différence de la privation, en tant précisément que privation, car il ne peut y avoir des espèces du non-être. 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  <a:ea typeface="Times New Roman"/>
              </a:rPr>
              <a:t>Conclusion : </a:t>
            </a:r>
            <a:r>
              <a:rPr b="0" i="1" lang="fr-FR" sz="2000" spc="-1" strike="noStrike">
                <a:solidFill>
                  <a:srgbClr val="000066"/>
                </a:solidFill>
                <a:latin typeface="Trebuchet MS"/>
                <a:ea typeface="Times New Roman"/>
              </a:rPr>
              <a:t>« La dichotomie est tantôt impossible, tantôt inefficace. 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840" y="127080"/>
            <a:ext cx="3055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a science grec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7200" y="695160"/>
            <a:ext cx="702324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Histoire naturelle : l’oeuvre d’Aristo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55120" y="114480"/>
            <a:ext cx="480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sciences naturelles et médecine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740640" y="725400"/>
            <a:ext cx="235584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La méthod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79520" y="1077840"/>
            <a:ext cx="780876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  <a:ea typeface="Times New Roman"/>
              </a:rPr>
              <a:t>Classification naturelle du viv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Classification naturelle : qui reflète l’organisation du viv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Principe d’analogi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« J’entends par principe d’analogie le fait que certains possèdent un poumon, et d’autres non, mais que ceux-ci, à la place du poumon, possèdent un autre organe; les uns ont du sang, les autres quelque chose d’analogue, c’est-à-dire qui joue le rôle que joue le sang chez les animaux sanguins. 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Distinction entre « propriétés et actions » (fonctions physiologiques) et « parties » (anatomi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Relation structure/fonction; subordination des fonctions (et des parti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Pertinence des critè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800000"/>
                </a:solidFill>
                <a:latin typeface="Trebuchet MS"/>
              </a:rPr>
              <a:t>« Il faut diviser selon des différences qui portent sur l’essence et non selon des différences dérivées 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4840" y="127080"/>
            <a:ext cx="3055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a science grec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7200" y="695160"/>
            <a:ext cx="702324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Histoire naturelle : l’oeuvre d’Aristo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55120" y="114480"/>
            <a:ext cx="480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sciences naturelles et médecine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740640" y="725400"/>
            <a:ext cx="235584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La méthod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79520" y="1268280"/>
            <a:ext cx="8215200" cy="55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  <a:ea typeface="Times New Roman"/>
              </a:rPr>
              <a:t>Classification naturelle du viv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Classification naturelle : qui reflète l’organisation du viv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refus de la dichotom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principe de causalité : finalité et nécessi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Principe d’analog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Relation structure-fo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Subordination des fonctions (et des parties) entre el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Pertinences des critè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Prise en compte de plusieurs critères, anatomiques et physiolog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4840" y="127080"/>
            <a:ext cx="3055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a science grec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87200" y="695160"/>
            <a:ext cx="702324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Histoire naturelle : l’oeuvre d’Aristo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55120" y="114480"/>
            <a:ext cx="480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sciences naturelles et médecine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40640" y="725400"/>
            <a:ext cx="235584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La méthod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79520" y="1268280"/>
            <a:ext cx="82152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  <a:ea typeface="Times New Roman"/>
              </a:rPr>
              <a:t>Classification naturelle du viv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8 grands « genres », séparés par des critères d’analogie, et classés dans deux grands groupes selon l’absence ou la présence de sang rou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« espèces » distinguées dans chaque « genre 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Attention : les définition que donne Aristote du « genre » et de « l’espèce » ne correspondent pas à la définition actuel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4840" y="127080"/>
            <a:ext cx="3055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a science grec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7200" y="695160"/>
            <a:ext cx="702324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Histoire naturelle : l’oeuvre d’Aristo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55120" y="114480"/>
            <a:ext cx="480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sciences naturelles et médecine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740640" y="725400"/>
            <a:ext cx="235584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La méthod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50920" y="1077840"/>
            <a:ext cx="8215200" cy="47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  <a:ea typeface="Times New Roman"/>
              </a:rPr>
              <a:t>Classification naturelle du viv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Animaux à sang rou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Quadrupèdes vivipares (auquels sont rattachés les Cétacés, les phoques et les Chauves-souri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Quadrupèdes ovipares (Lézards, tortues, batraciens, serpen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Oisea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Poiss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Animaux à sang non rou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Animaux à corps mous (céphalopod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Animaux à coque souple (langouste, crab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Animaux à revêtement écailleux (escargot, huitre, oursins,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Animaux à entailles : entailles dans les parties dorsales ou ventrales </a:t>
            </a:r>
            <a:r>
              <a:rPr b="0" lang="fr-FR" sz="2000" spc="-1" strike="noStrike">
                <a:solidFill>
                  <a:srgbClr val="800000"/>
                </a:solidFill>
                <a:latin typeface="Wingdings"/>
                <a:ea typeface="Wingdings"/>
              </a:rPr>
              <a:t>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Insec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4840" y="127080"/>
            <a:ext cx="3055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a science grec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87200" y="695160"/>
            <a:ext cx="702324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Histoire naturelle : l’oeuvre d’Aristo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55120" y="114480"/>
            <a:ext cx="480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sciences naturelles et médecine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40640" y="725400"/>
            <a:ext cx="235584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La méthod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50920" y="1077840"/>
            <a:ext cx="82152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Théophraste 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372-287 avant J.C. 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(successeur d’Aristote à la tête du « Lycée »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Application à la botan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Pas de véritables continuateurs d’Aristote dans l’Antiquité et le Moyen-Â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Traces dans l’œuvre de Pline l’ancien (23-79 ap J.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« histoire naturelle 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XIII</a:t>
            </a:r>
            <a:r>
              <a:rPr b="0" lang="fr-FR" sz="2000" spc="-1" strike="noStrike" baseline="30000">
                <a:solidFill>
                  <a:srgbClr val="800000"/>
                </a:solidFill>
                <a:latin typeface="Trebuchet MS"/>
                <a:ea typeface="Times New Roman"/>
              </a:rPr>
              <a:t>e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 siècle : Commentaire dans l’œuvre de Pierre le Gr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« De Animalibus » (1270) : classification en 4 catégories : animaux qui marchent, qui volent, qui nagent et qui ramp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XVI</a:t>
            </a:r>
            <a:r>
              <a:rPr b="0" lang="fr-FR" sz="2000" spc="-1" strike="noStrike" baseline="30000">
                <a:solidFill>
                  <a:srgbClr val="800000"/>
                </a:solidFill>
                <a:latin typeface="Trebuchet MS"/>
                <a:ea typeface="Times New Roman"/>
              </a:rPr>
              <a:t>e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 siècle : Conrad Gesner (1516-156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« Historia animalium » (155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840" y="127080"/>
            <a:ext cx="3055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a science grec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7200" y="695160"/>
            <a:ext cx="702324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Histoire naturelle : l’oeuvre d’Aristo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155120" y="114480"/>
            <a:ext cx="480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sciences naturelles et médecine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740640" y="725400"/>
            <a:ext cx="235584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Le deveni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77920" y="1103400"/>
            <a:ext cx="84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66"/>
                </a:solidFill>
                <a:latin typeface="Trebuchet MS"/>
                <a:ea typeface="Times New Roman"/>
              </a:rPr>
              <a:t>Hippocrate 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  <a:ea typeface="Times New Roman"/>
              </a:rPr>
              <a:t>(460-377 av. J-C)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79520" y="1535040"/>
            <a:ext cx="78087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66"/>
                </a:solidFill>
                <a:latin typeface="Trebuchet MS"/>
                <a:ea typeface="Times New Roman"/>
              </a:rPr>
              <a:t>Biograph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Né en 460 dans l’île de Cos (en Grèce), centre de formation médicale (Ecole de Cos) ; mort en 377 à Larissa, en Thessalie (nord-est de la Grèce actuelle) (dates supposé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Peu de données contemporaines d’Hippocrate sur sa vie (citations de Platon le présentant comme le plus grand médecin de son temp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4840" y="127080"/>
            <a:ext cx="3055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a science grec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87200" y="695160"/>
            <a:ext cx="650268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La médecine antique : d’Hippocrate à Gali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155120" y="114480"/>
            <a:ext cx="480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sciences naturelles et médecine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92120" y="4113360"/>
            <a:ext cx="83296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66"/>
                </a:solidFill>
                <a:latin typeface="Trebuchet MS"/>
                <a:ea typeface="Times New Roman"/>
              </a:rPr>
              <a:t>Œuv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66"/>
                </a:solidFill>
                <a:latin typeface="Trebuchet MS"/>
                <a:ea typeface="Arial"/>
              </a:rPr>
              <a:t>Corpus hippocratique :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 œuvres attribuées à Hippocrate ; collectionnée à l’école de médecine de Cos ; transférée à Alexandrie vers le 3</a:t>
            </a:r>
            <a:r>
              <a:rPr b="0" lang="fr-FR" sz="2000" spc="-1" strike="noStrike" baseline="30000">
                <a:solidFill>
                  <a:srgbClr val="800000"/>
                </a:solidFill>
                <a:latin typeface="Trebuchet MS"/>
                <a:ea typeface="Times New Roman"/>
              </a:rPr>
              <a:t>e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 siècle av. J-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89080" y="1623960"/>
            <a:ext cx="832932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66"/>
                </a:solidFill>
                <a:latin typeface="Trebuchet MS"/>
                <a:ea typeface="Times New Roman"/>
              </a:rPr>
              <a:t>Principes de la médecine hippocrat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Théorie sur les causes naturelles des maladi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« L’épilepsie n’est pas une maladie plus sacrée que les autres, elle a une cause naturelle, et sa nature prétenduement divine n’est due qu’à l’ignorance des hommes ».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« Chaque maladie a sa propre nature, et provient de causes externes 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77920" y="1103400"/>
            <a:ext cx="84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66"/>
                </a:solidFill>
                <a:latin typeface="Trebuchet MS"/>
                <a:ea typeface="Times New Roman"/>
              </a:rPr>
              <a:t>Hippocrate 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  <a:ea typeface="Times New Roman"/>
              </a:rPr>
              <a:t>(460-377 av. J-C)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4840" y="127080"/>
            <a:ext cx="3055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a science grec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87200" y="695160"/>
            <a:ext cx="650268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La médecine antique : d’Hippocrate à Gali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155120" y="114480"/>
            <a:ext cx="480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sciences naturelles et médecine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89080" y="1623960"/>
            <a:ext cx="83293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Principes de la médecine hippocrat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8000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Comic Sans MS"/>
                <a:ea typeface="Times New Roman"/>
              </a:rPr>
              <a:t>Pratique et connaissance de clinici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Comic Sans MS"/>
                <a:ea typeface="Times New Roman"/>
              </a:rPr>
              <a:t>« primum non nocere : tout d’abord ne pas nuire 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Comic Sans MS"/>
                <a:ea typeface="Times New Roman"/>
              </a:rPr>
              <a:t>Diagnostic : établir la malad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Comic Sans MS"/>
                <a:ea typeface="Times New Roman"/>
              </a:rPr>
              <a:t>Pronostic : prévoir le devenir de la maladie et du mal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Comic Sans MS"/>
                <a:ea typeface="Times New Roman"/>
              </a:rPr>
              <a:t>Thérapeutique : élaborée et limitée dans son efficaci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Comic Sans MS"/>
                <a:ea typeface="Times New Roman"/>
              </a:rPr>
              <a:t>diétét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77920" y="1108080"/>
            <a:ext cx="84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Hippocrate </a:t>
            </a:r>
            <a:r>
              <a:rPr b="0" lang="fr-FR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(460-377 av. J-C)</a:t>
            </a:r>
            <a:r>
              <a:rPr b="0" lang="fr-FR" sz="20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77920" y="1108080"/>
            <a:ext cx="84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Hippocrate </a:t>
            </a:r>
            <a:r>
              <a:rPr b="0" lang="fr-FR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(460-377 av. J-C)</a:t>
            </a:r>
            <a:r>
              <a:rPr b="0" lang="fr-FR" sz="20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840" y="127080"/>
            <a:ext cx="3055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a science grec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87200" y="695160"/>
            <a:ext cx="650268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La médecine antique : d’Hippocrate à Gali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155120" y="114480"/>
            <a:ext cx="480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sciences naturelles et médecine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89080" y="1623960"/>
            <a:ext cx="83293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66"/>
                </a:solidFill>
                <a:latin typeface="Trebuchet MS"/>
                <a:ea typeface="Times New Roman"/>
              </a:rPr>
              <a:t>Théorie du corps : la théorie des hum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Principe : le fonctionnement de l’organisme est réglé par 4 fluides corporels (les humeurs)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La lymphe ou phlegme ou pitui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Le sa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La bile jau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La bile noire ou atrabile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	</a:t>
            </a:r>
            <a:r>
              <a:rPr b="0" lang="fr-FR" sz="18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(NB : fluide imaginai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77920" y="1103400"/>
            <a:ext cx="84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66"/>
                </a:solidFill>
                <a:latin typeface="Trebuchet MS"/>
                <a:ea typeface="Times New Roman"/>
              </a:rPr>
              <a:t>Hippocrate 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  <a:ea typeface="Times New Roman"/>
              </a:rPr>
              <a:t>(460-377 av. J-C)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77920" y="1103400"/>
            <a:ext cx="84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66"/>
                </a:solidFill>
                <a:latin typeface="Trebuchet MS"/>
                <a:ea typeface="Times New Roman"/>
              </a:rPr>
              <a:t>Hippocrate 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  <a:ea typeface="Times New Roman"/>
              </a:rPr>
              <a:t>(460-377 av. J-C)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4840" y="127080"/>
            <a:ext cx="3055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a science grec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87200" y="695160"/>
            <a:ext cx="650268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La médecine antique : d’Hippocrate à Gali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155120" y="114480"/>
            <a:ext cx="480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sciences naturelles et médecine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7080" y="4622760"/>
            <a:ext cx="7582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Conception dérivée de la théorie des 4 éléments d’Empédoc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(490-430 avJ-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Le cosmos se compose de l’air, la terre, le feu et l’ea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57280" y="671400"/>
            <a:ext cx="8056440" cy="50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9080" indent="-2890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LA SCIENCE GRECQUE ET HELLÉNIST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buSzPct val="102837"/>
              <a:buBlip>
                <a:blip r:embed="rId1"/>
              </a:buBlip>
              <a:tabLst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1600" spc="-1" strike="noStrike">
                <a:solidFill>
                  <a:srgbClr val="800000"/>
                </a:solidFill>
                <a:latin typeface="Trebuchet MS"/>
                <a:ea typeface="Arial"/>
              </a:rPr>
              <a:t>Les origines : Thalès de Mi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buSzPct val="102837"/>
              <a:buBlip>
                <a:blip r:embed="rId2"/>
              </a:buBlip>
              <a:tabLst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1600" spc="-1" strike="noStrike">
                <a:solidFill>
                  <a:srgbClr val="800000"/>
                </a:solidFill>
                <a:latin typeface="Trebuchet MS"/>
                <a:ea typeface="Arial"/>
              </a:rPr>
              <a:t>L’histoire naturelle : l’oeuvre d’Aristo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buSzPct val="102837"/>
              <a:buBlip>
                <a:blip r:embed="rId3"/>
              </a:buBlip>
              <a:tabLst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1600" spc="-1" strike="noStrike">
                <a:solidFill>
                  <a:srgbClr val="800000"/>
                </a:solidFill>
                <a:latin typeface="Trebuchet MS"/>
                <a:ea typeface="Arial"/>
              </a:rPr>
              <a:t>La médecine : d’Hippocrate à Gali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buSzPct val="102837"/>
              <a:buBlip>
                <a:blip r:embed="rId4"/>
              </a:buBlip>
              <a:tabLst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1600" spc="-1" strike="noStrike">
                <a:solidFill>
                  <a:srgbClr val="800000"/>
                </a:solidFill>
                <a:latin typeface="Trebuchet MS"/>
                <a:ea typeface="Arial"/>
              </a:rPr>
              <a:t>Les centres de 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L’HÉRITAGE GR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buSzPct val="102837"/>
              <a:buBlip>
                <a:blip r:embed="rId5"/>
              </a:buBlip>
              <a:tabLst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1600" spc="-1" strike="noStrike">
                <a:solidFill>
                  <a:srgbClr val="800000"/>
                </a:solidFill>
                <a:latin typeface="Trebuchet MS"/>
              </a:rPr>
              <a:t> </a:t>
            </a:r>
            <a:r>
              <a:rPr b="0" lang="fr-FR" sz="1600" spc="-1" strike="noStrike">
                <a:solidFill>
                  <a:srgbClr val="800000"/>
                </a:solidFill>
                <a:latin typeface="Trebuchet MS"/>
              </a:rPr>
              <a:t>Les romains et la sci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buSzPct val="102837"/>
              <a:buBlip>
                <a:blip r:embed="rId6"/>
              </a:buBlip>
              <a:tabLst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1600" spc="-1" strike="noStrike">
                <a:solidFill>
                  <a:srgbClr val="800000"/>
                </a:solidFill>
                <a:latin typeface="Trebuchet MS"/>
              </a:rPr>
              <a:t>L’empire bizant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buSzPct val="102837"/>
              <a:buBlip>
                <a:blip r:embed="rId7"/>
              </a:buBlip>
              <a:tabLst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1600" spc="-1" strike="noStrike">
                <a:solidFill>
                  <a:srgbClr val="800000"/>
                </a:solidFill>
                <a:latin typeface="Trebuchet MS"/>
              </a:rPr>
              <a:t>la migration vers l’Orient des foyers intellectu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LA SCIENCE ARABE, héritière de la science grec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buSzPct val="102837"/>
              <a:buBlip>
                <a:blip r:embed="rId8"/>
              </a:buBlip>
              <a:tabLst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1600" spc="-1" strike="noStrike">
                <a:solidFill>
                  <a:srgbClr val="800000"/>
                </a:solidFill>
                <a:latin typeface="Trebuchet MS"/>
                <a:ea typeface="Arial"/>
              </a:rPr>
              <a:t>Bagdad et l’Or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buSzPct val="102837"/>
              <a:buBlip>
                <a:blip r:embed="rId9"/>
              </a:buBlip>
              <a:tabLst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1600" spc="-1" strike="noStrike">
                <a:solidFill>
                  <a:srgbClr val="800000"/>
                </a:solidFill>
                <a:latin typeface="Trebuchet MS"/>
                <a:ea typeface="Arial"/>
              </a:rPr>
              <a:t>L’expansion vers l’o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buSzPct val="102837"/>
              <a:buBlip>
                <a:blip r:embed="rId10"/>
              </a:buBlip>
              <a:tabLst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1600" spc="-1" strike="noStrike">
                <a:solidFill>
                  <a:srgbClr val="800000"/>
                </a:solidFill>
                <a:latin typeface="Trebuchet MS"/>
                <a:ea typeface="Arial"/>
              </a:rPr>
              <a:t>la médecine arabe : Avicenne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buSzPct val="102837"/>
              <a:buBlip>
                <a:blip r:embed="rId11"/>
              </a:buBlip>
              <a:tabLst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1600" spc="-1" strike="noStrike">
                <a:solidFill>
                  <a:srgbClr val="800000"/>
                </a:solidFill>
                <a:latin typeface="Trebuchet MS"/>
                <a:ea typeface="Arial"/>
              </a:rPr>
              <a:t>apport et limites de la médecine ara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LA TRANSMISSION À L’OCCID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buSzPct val="102837"/>
              <a:buBlip>
                <a:blip r:embed="rId12"/>
              </a:buBlip>
              <a:tabLst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1600" spc="-1" strike="noStrike">
                <a:solidFill>
                  <a:srgbClr val="800000"/>
                </a:solidFill>
                <a:latin typeface="Trebuchet MS"/>
                <a:ea typeface="Arial"/>
              </a:rPr>
              <a:t>L’Italie (XI</a:t>
            </a:r>
            <a:r>
              <a:rPr b="0" lang="fr-FR" sz="1600" spc="-1" strike="noStrike" baseline="30000">
                <a:solidFill>
                  <a:srgbClr val="800000"/>
                </a:solidFill>
                <a:latin typeface="Trebuchet MS"/>
                <a:ea typeface="Arial"/>
              </a:rPr>
              <a:t>e</a:t>
            </a:r>
            <a:r>
              <a:rPr b="0" lang="fr-FR" sz="1600" spc="-1" strike="noStrike">
                <a:solidFill>
                  <a:srgbClr val="800000"/>
                </a:solidFill>
                <a:latin typeface="Trebuchet MS"/>
                <a:ea typeface="Arial"/>
              </a:rPr>
              <a:t> sièc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buSzPct val="102837"/>
              <a:buBlip>
                <a:blip r:embed="rId13"/>
              </a:buBlip>
              <a:tabLst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1600" spc="-1" strike="noStrike">
                <a:solidFill>
                  <a:srgbClr val="800000"/>
                </a:solidFill>
                <a:latin typeface="Trebuchet MS"/>
                <a:ea typeface="Arial"/>
              </a:rPr>
              <a:t>L’Espagne (XII</a:t>
            </a:r>
            <a:r>
              <a:rPr b="0" lang="fr-FR" sz="1600" spc="-1" strike="noStrike" baseline="30000">
                <a:solidFill>
                  <a:srgbClr val="800000"/>
                </a:solidFill>
                <a:latin typeface="Trebuchet MS"/>
                <a:ea typeface="Arial"/>
              </a:rPr>
              <a:t>e</a:t>
            </a:r>
            <a:r>
              <a:rPr b="0" lang="fr-FR" sz="1600" spc="-1" strike="noStrike">
                <a:solidFill>
                  <a:srgbClr val="800000"/>
                </a:solidFill>
                <a:latin typeface="Trebuchet MS"/>
                <a:ea typeface="Arial"/>
              </a:rPr>
              <a:t> sièc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21240" y="127080"/>
            <a:ext cx="5108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rebuchet MS"/>
              </a:rPr>
              <a:t>La science antique et médiévale</a:t>
            </a:r>
            <a:r>
              <a:rPr b="0" lang="en-GB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345080" y="1144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89080" y="1623960"/>
            <a:ext cx="8329320" cy="31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66"/>
                </a:solidFill>
                <a:latin typeface="Trebuchet MS"/>
                <a:ea typeface="Times New Roman"/>
              </a:rPr>
              <a:t>Théorie du corps : la théorie des hum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Correspondance éléments – humeurs (macrocosme-microcosm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La lymphe ou phlegme ou pituite = froid et humide = eau = h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Le sang = chaud et humide = air = printem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La bile jaune = chaud et sec = feu = é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La bile noire ou atrabile = froid et sec = 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terre = autom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77920" y="1103400"/>
            <a:ext cx="84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66"/>
                </a:solidFill>
                <a:latin typeface="Trebuchet MS"/>
                <a:ea typeface="Times New Roman"/>
              </a:rPr>
              <a:t>Hippocrate 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  <a:ea typeface="Times New Roman"/>
              </a:rPr>
              <a:t>(460-377 av. J-C)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77920" y="1103400"/>
            <a:ext cx="84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66"/>
                </a:solidFill>
                <a:latin typeface="Trebuchet MS"/>
                <a:ea typeface="Times New Roman"/>
              </a:rPr>
              <a:t>Hippocrate 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  <a:ea typeface="Times New Roman"/>
              </a:rPr>
              <a:t>(460-377 av. J-C)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4840" y="127080"/>
            <a:ext cx="3055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a science grec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87200" y="695160"/>
            <a:ext cx="650268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La médecine antique : d’Hippocrate à Gali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55120" y="114480"/>
            <a:ext cx="480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sciences naturelles et médecine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1480" y="4356000"/>
            <a:ext cx="5045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Bonne santé : 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équilibre des hum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Maladie : déséquilibre des hum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thérapeutique : rééquilibrer les hum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34800" y="5587920"/>
            <a:ext cx="815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NB: Hippocrate critique l’application dogmatique de ces princi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(un aliment n’est pas caractérisé simplement par 2 de 4 caractèr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277920" y="1103400"/>
            <a:ext cx="84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66"/>
                </a:solidFill>
                <a:latin typeface="Trebuchet MS"/>
                <a:ea typeface="Times New Roman"/>
              </a:rPr>
              <a:t>Hippocrate 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  <a:ea typeface="Times New Roman"/>
              </a:rPr>
              <a:t>(460-377 av. J-C)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7920" y="1103400"/>
            <a:ext cx="84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66"/>
                </a:solidFill>
                <a:latin typeface="Trebuchet MS"/>
                <a:ea typeface="Times New Roman"/>
              </a:rPr>
              <a:t>Hippocrate 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  <a:ea typeface="Times New Roman"/>
              </a:rPr>
              <a:t>(460-377 av. J-C)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4840" y="127080"/>
            <a:ext cx="3055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a science grec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87200" y="695160"/>
            <a:ext cx="650268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La médecine antique : d’Hippocrate à Gali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155120" y="114480"/>
            <a:ext cx="480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sciences naturelles et médecine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6560" y="2176560"/>
            <a:ext cx="75056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Principe des causes naturelles des malad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Théorie du corps : théorie des hum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Application du raisonnement ratio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Description des maladies ; connaissance des fa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Description de cas médicaux concr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Diagno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Prono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thérapeutique, élaborée mais d’une efficacité limité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Conscience des limites thérapeut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Wingdings"/>
                <a:ea typeface="Wingdings"/>
              </a:rPr>
              <a:t>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« tout d’abord ne pas nuire 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chirurgie/orthopédie : superficie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Anesthésie inexistante ou très réduite : compression des carotides; opium (ophtalmologie); mandragore (hallucinogène et narcotiqu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59080" y="1650960"/>
            <a:ext cx="308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Médecine hippocrat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08080" y="1166760"/>
            <a:ext cx="84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66"/>
                </a:solidFill>
                <a:latin typeface="Trebuchet MS"/>
                <a:ea typeface="Times New Roman"/>
              </a:rPr>
              <a:t>Galien de Pergame 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  <a:ea typeface="Times New Roman"/>
              </a:rPr>
              <a:t>(129-216 ap.J-C) 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79520" y="1725480"/>
            <a:ext cx="78087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66"/>
                </a:solidFill>
                <a:latin typeface="Trebuchet MS"/>
                <a:ea typeface="Times New Roman"/>
              </a:rPr>
              <a:t>Biograph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Né à Pergame, en Turquie. Fils d’un architecte. Etude à Pergame, puis à Smyrne, puis à Alexandrie. Retour à Pergame, puis installation à Rome. Renommée considérable ; départ précipité vers Pergame, puis retour en Italie à la demande de l’empereur Marc-Aurèl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4840" y="127080"/>
            <a:ext cx="3055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a science grec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87200" y="695160"/>
            <a:ext cx="650268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La médecine antique : d’Hippocrate à Gali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155120" y="114480"/>
            <a:ext cx="480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sciences naturelles et médecine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92120" y="4075200"/>
            <a:ext cx="78087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66"/>
                </a:solidFill>
                <a:latin typeface="Trebuchet MS"/>
                <a:ea typeface="Times New Roman"/>
              </a:rPr>
              <a:t>Œuv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 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300 titres d’œuvres connues, dont 150 conservé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très grande influence : école d’Alexandrie et de Byzance ; médecine arabe et occidenta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79520" y="1725480"/>
            <a:ext cx="78087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66"/>
                </a:solidFill>
                <a:latin typeface="Trebuchet MS"/>
                <a:ea typeface="Times New Roman"/>
              </a:rPr>
              <a:t>trava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études anatomiques et médicales ; dissection, vivisection (études basées sur animaux, en particulier le porc et les singe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Travaux inspirés d’Hippocrate et d’Aristo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Anatomie et physiologie : influence d’Aristo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Pratique médicale : influence d’Hippoc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Anatomie et physiologie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système nerveux : anatomie des nerfs et rôle du cervea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Circulation sanguine : rôle des veines et des artè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Pharmacie : préparation à base de plantes médici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8080" y="1166760"/>
            <a:ext cx="84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66"/>
                </a:solidFill>
                <a:latin typeface="Trebuchet MS"/>
                <a:ea typeface="Times New Roman"/>
              </a:rPr>
              <a:t>Galien de Pergame 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  <a:ea typeface="Times New Roman"/>
              </a:rPr>
              <a:t>(129-216 ap.J-C) 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4840" y="127080"/>
            <a:ext cx="3055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a science grec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87200" y="695160"/>
            <a:ext cx="650268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La médecine antique : d’Hippocrate à Gali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155120" y="114480"/>
            <a:ext cx="480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sciences naturelles et médecine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79520" y="1725480"/>
            <a:ext cx="78087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66"/>
                </a:solidFill>
                <a:latin typeface="Trebuchet MS"/>
                <a:ea typeface="Times New Roman"/>
              </a:rPr>
              <a:t>trava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Circulation sangu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Description précise des veines et des artères (dissection du porc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Théorie de la circulation sangu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8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le sang est fabriqué au niveau du foie à partir des ali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8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Il circule dans les ve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8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Il passe en partie dans les poumons, et en partie dans le cœur, où il passe du ventricule droit au ventricule gau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8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le cœur réchauffe le sa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8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le sang est distribué dans les organes où il est consomm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8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il ressort sous forme de transpi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08080" y="1166760"/>
            <a:ext cx="84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66"/>
                </a:solidFill>
                <a:latin typeface="Trebuchet MS"/>
                <a:ea typeface="Times New Roman"/>
              </a:rPr>
              <a:t>Galien de Pergame 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  <a:ea typeface="Times New Roman"/>
              </a:rPr>
              <a:t>(129-216 ap.J-C) 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4840" y="127080"/>
            <a:ext cx="3055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a science grec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87200" y="695160"/>
            <a:ext cx="650268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La médecine antique : d’Hippocrate à Gali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55120" y="114480"/>
            <a:ext cx="480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sciences naturelles et médecine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79520" y="1535040"/>
            <a:ext cx="7808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66"/>
                </a:solidFill>
                <a:latin typeface="Trebuchet MS"/>
                <a:ea typeface="Times New Roman"/>
              </a:rPr>
              <a:t>trava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08080" y="1166760"/>
            <a:ext cx="84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66"/>
                </a:solidFill>
                <a:latin typeface="Trebuchet MS"/>
                <a:ea typeface="Times New Roman"/>
              </a:rPr>
              <a:t>Galien de Pergame 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  <a:ea typeface="Times New Roman"/>
              </a:rPr>
              <a:t>(129-216 ap.J-C) 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4840" y="127080"/>
            <a:ext cx="3055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a science grec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87200" y="695160"/>
            <a:ext cx="650268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La médecine antique : d’Hippocrate à Gali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155120" y="114480"/>
            <a:ext cx="480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sciences naturelles et médecine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31640" y="3336840"/>
            <a:ext cx="832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Modifie la théorie des humeurs, en la reliant aux tempéra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La lymphe ou phlegme = froid et humide = eau = lymphat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Le sang = chaud et humide = air = sangu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La bile jaune = chaud et sec = feu = colér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La bile noire ou atrabile = froid et sec = 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terre = mélancol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5760" y="1913760"/>
            <a:ext cx="80308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Trebuchet MS"/>
              </a:rPr>
              <a:t>Approche organiciste de la pathologie : la maladie provient de la lésion des orga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800000"/>
                </a:solidFill>
                <a:latin typeface="Trebuchet MS"/>
              </a:rPr>
              <a:t>"les lésions des fonctions viennent des parties malades qui les produisent; les maladies des parties organiques lèsent les fonctions."</a:t>
            </a:r>
            <a:r>
              <a:rPr b="0" lang="en-GB" sz="1800" spc="-1" strike="noStrike">
                <a:solidFill>
                  <a:srgbClr val="8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809640" y="2770200"/>
            <a:ext cx="78724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66"/>
                </a:solidFill>
                <a:latin typeface="Trebuchet MS"/>
                <a:ea typeface="Times New Roman"/>
              </a:rPr>
              <a:t>Ecole de Cnide (ville grecque d’Asie mineure, dans l’actuelle Turquie) :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la plus ancienne (vers -700 av. J-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médecine empir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essais d’explications des fa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persistance de l’empiris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66"/>
                </a:solidFill>
                <a:latin typeface="Trebuchet MS"/>
                <a:ea typeface="Times New Roman"/>
              </a:rPr>
              <a:t>Ecole de Cos (ou Kos, ile de la mer Égée) :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médecine rationnelle (Hippocra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obser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réflexion crit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31920" y="1473120"/>
            <a:ext cx="59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écoles : lieu de formation, d’activité et de pensé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pratique itinérante de la médec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4840" y="127080"/>
            <a:ext cx="3055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a science grec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217480" y="114480"/>
            <a:ext cx="37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Les centres de 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87200" y="695160"/>
            <a:ext cx="808992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Les écoles de médecine de la période grecque class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492120" y="2271600"/>
            <a:ext cx="79246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Fondation en 335 av. J-C. par Aristote, (près du temple dédié à Apollon Lyceu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Institution rivale de l’Académie, fondée par Plat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organis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Jardin, une salle de cours, hébergement, bibliothèq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Développement après la mort d’Aristote par son disciple Théophras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4840" y="127080"/>
            <a:ext cx="3055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a science grec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217480" y="114480"/>
            <a:ext cx="37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Les centres de 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7200" y="695160"/>
            <a:ext cx="650268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Athènes : le Lyceum et l’école aristotélicien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99080" y="1650960"/>
            <a:ext cx="686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lyceum (lycée) : lieu d’enseignement, près d’un gymn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441360" y="1787400"/>
            <a:ext cx="8218440" cy="38466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3917880" y="3981600"/>
            <a:ext cx="139680" cy="12672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07000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689120" y="4197240"/>
            <a:ext cx="139680" cy="12708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07000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047600" y="2781360"/>
            <a:ext cx="139680" cy="12708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07000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974760" y="384480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rebuchet MS"/>
              </a:rPr>
              <a:t>Babyl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91360" y="4295880"/>
            <a:ext cx="119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rebuchet MS"/>
              </a:rPr>
              <a:t>Alexandr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62600" y="3089160"/>
            <a:ext cx="959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rebuchet MS"/>
              </a:rPr>
              <a:t>Athè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1800" y="968400"/>
            <a:ext cx="730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Trebuchet MS"/>
              </a:rPr>
              <a:t>le monde méditerranéen   L’empire d’Alexandre le Gr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4840" y="127080"/>
            <a:ext cx="3055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a science grec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217480" y="114480"/>
            <a:ext cx="37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Les centres de 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263520" y="1496880"/>
            <a:ext cx="84409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Trebuchet MS"/>
                <a:ea typeface="Times New Roman"/>
              </a:rPr>
              <a:t>Alexandr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fondée par Alexandre le Gran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mort d’Alexandre à Babylone (323 av. J-C) : Ptolémée I Soter, gouverneur puis roi d’Egyp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le </a:t>
            </a:r>
            <a:r>
              <a:rPr b="1" lang="fr-FR" sz="2000" spc="-1" strike="noStrike">
                <a:solidFill>
                  <a:srgbClr val="000066"/>
                </a:solidFill>
                <a:latin typeface="Trebuchet MS"/>
                <a:ea typeface="Times New Roman"/>
              </a:rPr>
              <a:t>Museion </a:t>
            </a:r>
            <a:r>
              <a:rPr b="1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et la </a:t>
            </a:r>
            <a:r>
              <a:rPr b="1" lang="fr-FR" sz="2000" spc="-1" strike="noStrike">
                <a:solidFill>
                  <a:srgbClr val="000066"/>
                </a:solidFill>
                <a:latin typeface="Trebuchet MS"/>
                <a:ea typeface="Times New Roman"/>
              </a:rPr>
              <a:t>Bibliothèque</a:t>
            </a:r>
            <a:r>
              <a:rPr b="1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 d’Alexandr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fondés par Ptolémée I Sôter, conseillé par Démétrius de Phalère, un aristotélicien ancien gouverneur d’Athè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institutions majeures : principal foyer intellectuel du monde méditerranéen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pour plusieurs sièc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4840" y="127080"/>
            <a:ext cx="3055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a science grec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217480" y="114480"/>
            <a:ext cx="37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Les centres de 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87200" y="695160"/>
            <a:ext cx="650268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Alexandrie : centre intellectuel de l’Antiquit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41360" y="1546200"/>
            <a:ext cx="8210520" cy="4872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997520" y="4324320"/>
            <a:ext cx="139680" cy="12708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07000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17920" y="3575160"/>
            <a:ext cx="139680" cy="12672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07000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34080" y="3708360"/>
            <a:ext cx="139680" cy="12708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07000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02280" y="4908600"/>
            <a:ext cx="140040" cy="12708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07000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804080" y="5124600"/>
            <a:ext cx="139680" cy="12672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07000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7320" y="5257800"/>
            <a:ext cx="94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rebuchet MS"/>
              </a:rPr>
              <a:t>Bag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715440" y="5057640"/>
            <a:ext cx="87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rebuchet MS"/>
              </a:rPr>
              <a:t>Da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172280" y="4143240"/>
            <a:ext cx="190440" cy="209520"/>
          </a:xfrm>
          <a:prstGeom prst="ellipse">
            <a:avLst/>
          </a:prstGeom>
          <a:solidFill>
            <a:srgbClr val="ffff8d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91120" y="4133880"/>
            <a:ext cx="190440" cy="209520"/>
          </a:xfrm>
          <a:prstGeom prst="ellipse">
            <a:avLst/>
          </a:prstGeom>
          <a:solidFill>
            <a:srgbClr val="ffff8d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24800" y="5276880"/>
            <a:ext cx="190440" cy="209520"/>
          </a:xfrm>
          <a:prstGeom prst="ellipse">
            <a:avLst/>
          </a:prstGeom>
          <a:solidFill>
            <a:srgbClr val="ffff8d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64040" y="3762360"/>
            <a:ext cx="100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rebuchet MS"/>
              </a:rPr>
              <a:t>Byz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336560" y="3962520"/>
            <a:ext cx="1015920" cy="3373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rebuchet MS"/>
              </a:rPr>
              <a:t>Athè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33440" y="3762360"/>
            <a:ext cx="75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rebuchet MS"/>
              </a:rPr>
              <a:t>Ro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997600" y="5460840"/>
            <a:ext cx="139680" cy="12708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07000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562464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rebuchet MS"/>
              </a:rPr>
              <a:t>Alexandr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61800" y="968400"/>
            <a:ext cx="361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Trebuchet MS"/>
              </a:rPr>
              <a:t>le monde méditerrané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200" y="127080"/>
            <a:ext cx="2190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rebuchet MS"/>
              </a:rPr>
              <a:t>Introduction</a:t>
            </a:r>
            <a:r>
              <a:rPr b="0" lang="en-GB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668920" y="114480"/>
            <a:ext cx="348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Bref tableau histor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263520" y="1496880"/>
            <a:ext cx="84409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  <a:ea typeface="Times New Roman"/>
              </a:rPr>
              <a:t> </a:t>
            </a:r>
            <a:r>
              <a:rPr b="0" i="1" lang="fr-FR" sz="2000" spc="-1" strike="noStrike">
                <a:solidFill>
                  <a:srgbClr val="000066"/>
                </a:solidFill>
                <a:latin typeface="Trebuchet MS"/>
                <a:ea typeface="Times New Roman"/>
              </a:rPr>
              <a:t>Le « musée 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Sorte d’institution académique de recherche comprenant promenade, salle commune, réfectoire, instruments d’observation, probablement salle de dissection et observatoire, peut-être jardin zoologiqu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Entretien financé par des fonds commun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Savants nourris et rétribués. Jusqu’à 100 membr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66"/>
                </a:solidFill>
                <a:latin typeface="Trebuchet MS"/>
                <a:ea typeface="Times New Roman"/>
              </a:rPr>
              <a:t>Bibliothè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Fondation simultanée de la bibliothèque et du musée. Développée par le successeur de Ptolémée I, Ptolémée II Philadelph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jusqu’à 700 000 volumes (?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4840" y="127080"/>
            <a:ext cx="3055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a science grec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17480" y="114480"/>
            <a:ext cx="37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Les centres de 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87200" y="695160"/>
            <a:ext cx="650268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Alexandrie : centre intellectuel de l’Antiquit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407880" y="1230480"/>
            <a:ext cx="81946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attitude des Romains vis-à-vis de la science grec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culture grecque : culture de réfé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pas d’activité scientifique prop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800000"/>
                </a:solidFill>
                <a:latin typeface="Trebuchet MS"/>
              </a:rPr>
              <a:t>« il n’y a pas de science romaine »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(R. Tat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influence de la conquête roma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déplacement vers l’Occident du centre politique de la Méditerrané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les centres de formation de référence demeurent en Ori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(ex : Gali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800000"/>
                </a:solidFill>
                <a:latin typeface="Trebuchet MS"/>
              </a:rPr>
              <a:t>« l’art médical et la formation des médecins restèrent l’apanage presque exclusif des écoles d’Orient » 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(R. Tat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0320" y="127080"/>
            <a:ext cx="2502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’Héritage gr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261760" y="114480"/>
            <a:ext cx="386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Les Romains et la science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547560" y="1077840"/>
            <a:ext cx="81946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66"/>
                </a:solidFill>
                <a:latin typeface="Trebuchet MS"/>
              </a:rPr>
              <a:t>la fondation de Constantino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800000"/>
                </a:solidFill>
                <a:latin typeface="Trebuchet MS"/>
              </a:rPr>
              <a:t>330 :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fondation de Constantinople (Byzance) par l’empereur Constantin et transfert de la capitale de l’Empire romain à Constantinopl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À partir de 395, empire distinct de l’empire romain d’Occiden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empire byzantin : héritier de la tradition hellénistiq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66"/>
                </a:solidFill>
                <a:latin typeface="Trebuchet MS"/>
              </a:rPr>
              <a:t>Universités de l’empire byzant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Constantinople : fondation de l’université de Constantinople en 330 ; agrandissement en 42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Athè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Alexandr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Antio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Beyrou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Gaza.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0320" y="127080"/>
            <a:ext cx="2502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’Héritage gr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221160" y="114480"/>
            <a:ext cx="271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L’empire byzant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441360" y="1546200"/>
            <a:ext cx="8210520" cy="487224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4997520" y="4324320"/>
            <a:ext cx="139680" cy="12708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07000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746680" y="3720960"/>
            <a:ext cx="139680" cy="12708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07000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26040" y="4184640"/>
            <a:ext cx="139680" cy="12708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07000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902280" y="4908600"/>
            <a:ext cx="140040" cy="12708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07000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182000" y="4197240"/>
            <a:ext cx="139680" cy="12708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07000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699240" y="5315040"/>
            <a:ext cx="139680" cy="12708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07000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959880" y="4759200"/>
            <a:ext cx="87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rebuchet MS"/>
              </a:rPr>
              <a:t>Da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825880" y="352440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66"/>
                </a:solidFill>
                <a:latin typeface="Trebuchet MS"/>
              </a:rPr>
              <a:t>Byz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230240" y="407340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rebuchet MS"/>
              </a:rPr>
              <a:t>Edes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78600" y="4022640"/>
            <a:ext cx="10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rebuchet MS"/>
              </a:rPr>
              <a:t>Antio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791400" y="521640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rebuchet MS"/>
              </a:rPr>
              <a:t>Gaz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076720" y="562464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rebuchet MS"/>
              </a:rPr>
              <a:t>Alexandr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00840" y="5454720"/>
            <a:ext cx="139680" cy="12708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07000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336560" y="3962520"/>
            <a:ext cx="1015920" cy="3373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rebuchet MS"/>
              </a:rPr>
              <a:t>Athè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0320" y="127080"/>
            <a:ext cx="2502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’Héritage gr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221160" y="114480"/>
            <a:ext cx="271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L’empire byzant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87200" y="695160"/>
            <a:ext cx="650268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Les centres intellectue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458640" y="1332000"/>
            <a:ext cx="81946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Trebuchet MS"/>
              </a:rPr>
              <a:t>réduction de l’empire byzant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Trebuchet MS"/>
              </a:rPr>
              <a:t>fermeture des centres intellectuels demeurant dans l’emp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800000"/>
                </a:solidFill>
                <a:latin typeface="Trebuchet MS"/>
              </a:rPr>
              <a:t>489 : fermeture de l’école d’Ede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Edesse : foyer intellectuel chrétien et de littérature chrétienne syriaque, développée à partir du IIe siècle ap.J-C. Chrétiens nestoriens ; Fermeture de l’Ecole par l’empereur Zénon. Refuge à Jundishapur en Per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800000"/>
                </a:solidFill>
                <a:latin typeface="Trebuchet MS"/>
              </a:rPr>
              <a:t>529 : fermeture de l’Ecole d’Athè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L’école d’Athènes est fermée par l’empereur Justinien en 529. Refuge à Jundishapur en Per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Le syriaque remplace peu à peu le gr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0320" y="127080"/>
            <a:ext cx="2502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’Héritage gr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012640" y="114480"/>
            <a:ext cx="394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le glissement vers l’Orient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7200" y="695160"/>
            <a:ext cx="650268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La migration vers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l’Est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des foyers intellectue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441360" y="1787400"/>
            <a:ext cx="8218440" cy="384660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4870440" y="4140360"/>
            <a:ext cx="139680" cy="12672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07000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917880" y="4044960"/>
            <a:ext cx="139680" cy="12708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07000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666880" y="3917880"/>
            <a:ext cx="139680" cy="12708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07000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701720" y="4299120"/>
            <a:ext cx="139680" cy="12672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07000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962000" y="2432160"/>
            <a:ext cx="139680" cy="12672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07000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047600" y="2781360"/>
            <a:ext cx="139680" cy="12708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07000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404120" y="5353200"/>
            <a:ext cx="139680" cy="12672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07000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780960" y="492444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rebuchet MS"/>
              </a:rPr>
              <a:t>Karash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947840" y="4016520"/>
            <a:ext cx="13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rebuchet MS"/>
              </a:rPr>
              <a:t>Jundishap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01680" y="3743280"/>
            <a:ext cx="91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rebuchet MS"/>
              </a:rPr>
              <a:t>Bag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749320" y="3889440"/>
            <a:ext cx="84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rebuchet MS"/>
              </a:rPr>
              <a:t>Da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097280" y="4359240"/>
            <a:ext cx="94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rebuchet MS"/>
              </a:rPr>
              <a:t>Le C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876320" y="2568600"/>
            <a:ext cx="96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rebuchet MS"/>
              </a:rPr>
              <a:t>Byz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27840" y="2962440"/>
            <a:ext cx="95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rebuchet MS"/>
              </a:rPr>
              <a:t>Athè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0320" y="127080"/>
            <a:ext cx="2502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’Héritage gr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2640" y="114480"/>
            <a:ext cx="394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le glissement vers l’Orient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87200" y="695160"/>
            <a:ext cx="650268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Jundishapur / Gondeshapur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441360" y="1103400"/>
            <a:ext cx="822636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Fondation de Bagdad en 762 par le calife abbasside al-Mansour. Décision de faire de Bagdad un centre intellectuel. Développement par Harun-al-Rashid et Al-Mam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Arrivée des premiers médecins de Jundishap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Savants appelés de Jundishapur par al-Mansu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La fondation de la « Maison de la sagesse 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Fondation au début du IXe siècle par le calife al-Mam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Dotée d’une bibliothèque, elle avait pour vocation d’encourager la traduction scientifique et avait à sa tête un chrétien nestorien, dont le père avait été médecin à Jundishapur puis à Bag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Wingdings"/>
                <a:ea typeface="Wingdings"/>
              </a:rPr>
              <a:t>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traduction en arabe à partir des traductions syriaques, puis des textes grecs originaux (recherche de manuscri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Wingdings"/>
                <a:ea typeface="Wingdings"/>
              </a:rPr>
              <a:t>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ouvrages de médecine (inspirés de Gali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9960" y="127080"/>
            <a:ext cx="2711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a Science ara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021640" y="114480"/>
            <a:ext cx="276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Bagdad et l’Or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87200" y="695160"/>
            <a:ext cx="650268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la fondation de Bagd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378000" y="1509840"/>
            <a:ext cx="82263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extension de l’empire arabe vers l’ou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activité intellectuelle vers l’ou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royaume arabo-andalou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développement intellectuel du royaume arabo-andalou : à partir du X</a:t>
            </a:r>
            <a:r>
              <a:rPr b="0" lang="fr-FR" sz="2000" spc="-1" strike="noStrike" baseline="30000">
                <a:solidFill>
                  <a:srgbClr val="800000"/>
                </a:solidFill>
                <a:latin typeface="Trebuchet MS"/>
              </a:rPr>
              <a:t>e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siècle un foyer intellectuel maje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point de pénétration de la science et la philosophie gréco-arabe dans l’Occident chrétien lati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9960" y="127080"/>
            <a:ext cx="2711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a Science ara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15880" y="114480"/>
            <a:ext cx="35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L’expansion vers l’o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531720" y="2284560"/>
            <a:ext cx="82263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8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Arial"/>
              </a:rPr>
              <a:t>Hunayn (808-873) : médec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Arial"/>
              </a:rPr>
              <a:t>Al Kindi (801-873) : médicaments (calculs mathématiqu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Arial"/>
              </a:rPr>
              <a:t>Ar-Razi / Rhazès (865-932?) : traité de médec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Arial"/>
              </a:rPr>
              <a:t>Ibn Sina / Avicenne (980-1037) : Can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Arial"/>
              </a:rPr>
              <a:t>Al-Quasil-Al-Zahrawi /Albucasis (940? - 1013)  : chirurg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Arial"/>
              </a:rPr>
              <a:t>Al-Biruni (973 - 1050)  : pharmacopé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Arial"/>
              </a:rPr>
              <a:t>Ibn Zuhr (Avenzoar) (1091-1161) : médecine, anatom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Arial"/>
              </a:rPr>
              <a:t>Moïse ben Maimon / Maimonide / Abou-Amram (1135-120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Arial"/>
              </a:rPr>
              <a:t>Ibn-Rushd / Averroès (1126-1198) : Colliget (traité de médecine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Arial"/>
              </a:rPr>
              <a:t>Ibn-al-Nafis (1208-1289) : circulation pulmon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9960" y="127080"/>
            <a:ext cx="2711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a Science ara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913640" y="114480"/>
            <a:ext cx="353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quelques grands noms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87200" y="695160"/>
            <a:ext cx="650268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quelques grands noms de la médecine arab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341280" y="1204920"/>
            <a:ext cx="8226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66"/>
                </a:solidFill>
                <a:latin typeface="Trebuchet MS"/>
                <a:ea typeface="Times New Roman"/>
              </a:rPr>
              <a:t>Biograph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Né à Boukhara (Iran), mort à Hamada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Génie précoce. Etudia en Perse la philosophie et la médecin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Voyage dans tous les territoires arabes d’Orien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Très grande renommé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comparé à Galien – la référence insurpassable pour les Arab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960" y="127080"/>
            <a:ext cx="2711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a Science ara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913640" y="114480"/>
            <a:ext cx="353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quelques grands noms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87200" y="695160"/>
            <a:ext cx="650268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Ibn Sina / </a:t>
            </a:r>
            <a:r>
              <a:rPr b="0" lang="fr-FR" sz="2200" spc="-1" strike="noStrike" u="sng">
                <a:solidFill>
                  <a:srgbClr val="000066"/>
                </a:solidFill>
                <a:uFillTx/>
                <a:latin typeface="Trebuchet MS"/>
              </a:rPr>
              <a:t>Avicenne</a:t>
            </a: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 (980-1037) </a:t>
            </a: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53880" y="3351240"/>
            <a:ext cx="8226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66"/>
                </a:solidFill>
                <a:latin typeface="Trebuchet MS"/>
                <a:ea typeface="Times New Roman"/>
              </a:rPr>
              <a:t>Œuv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œuvre considérable dans de nombreux domaines (270 titres d’ouvrages répertorié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ouvrage principal : </a:t>
            </a:r>
            <a:r>
              <a:rPr b="0" i="1" lang="fr-FR" sz="2000" spc="-1" strike="noStrike">
                <a:solidFill>
                  <a:srgbClr val="800000"/>
                </a:solidFill>
                <a:latin typeface="Trebuchet MS"/>
              </a:rPr>
              <a:t>al Qanun / Can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Ouvrage le plus célèbre de l’histoire de la médecine. Son influence devint considérable en occident à la fin du Moyen Âge, et il resta au programme de certaines universités jusqu’à XVIII</a:t>
            </a:r>
            <a:r>
              <a:rPr b="0" lang="fr-FR" sz="2000" spc="-1" strike="noStrike" baseline="30000">
                <a:solidFill>
                  <a:srgbClr val="800000"/>
                </a:solidFill>
                <a:latin typeface="Trebuchet MS"/>
              </a:rPr>
              <a:t>e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siècle (Padoue, 1767 ; Bologne, 1800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03200" y="1063800"/>
            <a:ext cx="85345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  <a:ea typeface="Times New Roman"/>
              </a:rPr>
              <a:t>Naissance d’une philosophie naturelle 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tentative d’explication rationnelle du monde, ne faisant pas appel à des explications d’ordre théologique ou surnature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  <a:ea typeface="Times New Roman"/>
              </a:rPr>
              <a:t>Analyse critique 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cohérence logique et correspondance avec la réalité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29560" y="3467160"/>
            <a:ext cx="7334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Arial"/>
              </a:rPr>
              <a:t>naissance : Thalès de Milet (VI</a:t>
            </a:r>
            <a:r>
              <a:rPr b="0" lang="fr-FR" sz="2000" spc="-1" strike="noStrike" baseline="30000">
                <a:solidFill>
                  <a:srgbClr val="800000"/>
                </a:solidFill>
                <a:latin typeface="Trebuchet MS"/>
                <a:ea typeface="Arial"/>
              </a:rPr>
              <a:t>e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Arial"/>
              </a:rPr>
              <a:t> siècle avJ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Arial"/>
              </a:rPr>
              <a:t>organisation du cosmos : diverses formes d’un seul élé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4840" y="127080"/>
            <a:ext cx="3055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a science grec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140240" y="114480"/>
            <a:ext cx="190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Les orig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250920" y="700200"/>
            <a:ext cx="839628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  <a:ea typeface="Times New Roman"/>
              </a:rPr>
              <a:t> 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  <a:ea typeface="Times New Roman"/>
              </a:rPr>
              <a:t>reprise des principes de la médecine et de la physiologie hellénistique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 (Galien, Hippocrate, Dioscor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  <a:ea typeface="Times New Roman"/>
              </a:rPr>
              <a:t>reprise de la théorie des humeurs et des tempéraments de Galien, modifiée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 (relativisme des caractèr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influence sur la thérapeut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  <a:ea typeface="Times New Roman"/>
              </a:rPr>
              <a:t>pas de découverte anatomique majeure, 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liée à l’absence de dissection humaine (mais des écrits font référence à cette nécessité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découverte de la circulation pulmonaire par Ibn-al-Naf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  <a:ea typeface="Times New Roman"/>
              </a:rPr>
              <a:t>approche pratique de la médecine et de la chirurg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étude de nombreux cas cliniques; notion de groupes témo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description et identification de maladies (distinction variole/rougeole; rhume des foi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mise en place d’hôpita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développement des connaissances ophtalmologiques (importance des pathologies oculair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pratique de la chirurgie superficie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9960" y="127080"/>
            <a:ext cx="2711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a Science ara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017680" y="114480"/>
            <a:ext cx="277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Apports et limites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480960" y="1090440"/>
            <a:ext cx="8226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Premières traductions en latin par Constantin l’Africain (probablement né en Tunisie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Traduction d’ Hunayn : initiation au principes galén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Wingdings"/>
                <a:ea typeface="Wingdings"/>
              </a:rPr>
              <a:t>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Influence en Occident par l’intermédiaire de l’école de Salerne. Incitation au retour à Gali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-24480" y="127080"/>
            <a:ext cx="4454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a transmission à l’Occi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75920" y="685800"/>
            <a:ext cx="262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L’Italie (XI</a:t>
            </a:r>
            <a:r>
              <a:rPr b="0" lang="fr-FR" sz="2400" spc="-1" strike="noStrike" baseline="30000">
                <a:solidFill>
                  <a:srgbClr val="000066"/>
                </a:solidFill>
                <a:latin typeface="Trebuchet MS"/>
              </a:rPr>
              <a:t>e</a:t>
            </a: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 sièc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31640" y="3605040"/>
            <a:ext cx="83314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1150-1180: traduction par Gérard de Crémone (Tolède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La prise de Tolède et de sa bibliothèque par les chrétiens a apporté au monde latin une somme considérable d’ouvrages arabo-musulman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Rhazes, Avicenne, Al Zahrawi/Albucasis (chirurgie), Al Kindi (médicamen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60640" y="6083280"/>
            <a:ext cx="754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intégration</a:t>
            </a: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progressive au corpus de connaissance occide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09320" y="3086280"/>
            <a:ext cx="323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L’Espagne (XII</a:t>
            </a:r>
            <a:r>
              <a:rPr b="0" lang="fr-FR" sz="2400" spc="-1" strike="noStrike" baseline="30000">
                <a:solidFill>
                  <a:srgbClr val="000066"/>
                </a:solidFill>
                <a:latin typeface="Trebuchet MS"/>
              </a:rPr>
              <a:t>e</a:t>
            </a: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 sièc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237960" y="636480"/>
            <a:ext cx="83962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Importance de la science grecque dans l’élaboration des paradigmes scientifiques en biologie (Aristote, Hippocrate, Gali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Rôle de l’Orient dans le transmission du savoir gr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Redécouverte par l’Occident du savoir grec au bas Moyen-Â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Remise en cause tardive des paradigmes ant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76120" y="3747960"/>
            <a:ext cx="818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  </a:t>
            </a: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« La Renaissance est la fille ingrate du Moyen Âge »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René Taton (in </a:t>
            </a: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La Science antique et médiévale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8520" y="127080"/>
            <a:ext cx="1845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38520" y="127080"/>
            <a:ext cx="1845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23800" y="938160"/>
            <a:ext cx="8058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NB 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remise en cause de la théorie des humeurs : fin XVIII</a:t>
            </a:r>
            <a:r>
              <a:rPr b="0" lang="fr-FR" sz="1800" spc="-1" strike="noStrike" baseline="30000">
                <a:solidFill>
                  <a:srgbClr val="000066"/>
                </a:solidFill>
                <a:latin typeface="Trebuchet MS"/>
              </a:rPr>
              <a:t>e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_XIX</a:t>
            </a:r>
            <a:r>
              <a:rPr b="0" lang="fr-FR" sz="1800" spc="-1" strike="noStrike" baseline="30000">
                <a:solidFill>
                  <a:srgbClr val="000066"/>
                </a:solidFill>
                <a:latin typeface="Trebuchet MS"/>
              </a:rPr>
              <a:t>e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siè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remise en cause de la finalité : XIX</a:t>
            </a:r>
            <a:r>
              <a:rPr b="0" lang="fr-FR" sz="1800" spc="-1" strike="noStrike" baseline="30000">
                <a:solidFill>
                  <a:srgbClr val="000066"/>
                </a:solidFill>
                <a:latin typeface="Trebuchet MS"/>
              </a:rPr>
              <a:t>e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siè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notion d’aseptie : XIX</a:t>
            </a:r>
            <a:r>
              <a:rPr b="0" lang="fr-FR" sz="1800" spc="-1" strike="noStrike" baseline="30000">
                <a:solidFill>
                  <a:srgbClr val="000066"/>
                </a:solidFill>
                <a:latin typeface="Trebuchet MS"/>
              </a:rPr>
              <a:t>e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siè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anesthésie et chirurgie profonde : XIX</a:t>
            </a:r>
            <a:r>
              <a:rPr b="0" lang="fr-FR" sz="1800" spc="-1" strike="noStrike" baseline="30000">
                <a:solidFill>
                  <a:srgbClr val="000066"/>
                </a:solidFill>
                <a:latin typeface="Trebuchet MS"/>
              </a:rPr>
              <a:t>e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siè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thérapeutique efficace  (vaccins, corticoïdes, antibiotiques) : XIX-XX</a:t>
            </a:r>
            <a:r>
              <a:rPr b="0" lang="fr-FR" sz="1800" spc="-1" strike="noStrike" baseline="30000">
                <a:solidFill>
                  <a:srgbClr val="000066"/>
                </a:solidFill>
                <a:latin typeface="Trebuchet MS"/>
              </a:rPr>
              <a:t>e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siè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77640" y="3009960"/>
            <a:ext cx="8506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anesthésie à l’éther : 16 octobre 1846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utilisation de l’acide phénique pour la désinfection chirurgicale : 186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première utilisation de vaccin :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5 mai 1881 (moutons contre le cholér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6 juin 1885 (homme contre la r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découverte de la pénicilline : 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19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1</a:t>
            </a:r>
            <a:r>
              <a:rPr b="0" lang="fr-FR" sz="2000" spc="-1" strike="noStrike" baseline="30000">
                <a:solidFill>
                  <a:srgbClr val="800000"/>
                </a:solidFill>
                <a:latin typeface="Trebuchet MS"/>
              </a:rPr>
              <a:t>re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utilisation des corticoïdes :  194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378000" y="1255680"/>
            <a:ext cx="81025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Trebuchet MS"/>
                <a:ea typeface="Arial"/>
              </a:rPr>
              <a:t>bibliographie somm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R. Taton</a:t>
            </a:r>
            <a:r>
              <a:rPr b="0" lang="fr-FR" sz="16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 (dir ;) ; </a:t>
            </a:r>
            <a:r>
              <a:rPr b="0" i="1" lang="fr-FR" sz="16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La Science antique et médiévale, des origines à 1450</a:t>
            </a:r>
            <a:r>
              <a:rPr b="0" lang="fr-FR" sz="16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, PUF, Paris, 1994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R. Rashed</a:t>
            </a:r>
            <a:r>
              <a:rPr b="0" lang="en-GB" sz="16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 (dir). </a:t>
            </a:r>
            <a:r>
              <a:rPr b="0" i="1" lang="fr-FR" sz="16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Histoire des Sciences arabes</a:t>
            </a:r>
            <a:r>
              <a:rPr b="0" lang="fr-FR" sz="16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, Seuil, Paris, 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D. Jacquart et F. Micheau.</a:t>
            </a:r>
            <a:r>
              <a:rPr b="0" lang="fr-FR" sz="16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 </a:t>
            </a:r>
            <a:r>
              <a:rPr b="0" i="1" lang="fr-FR" sz="16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La Médecine arabe et l’Occident médiéval</a:t>
            </a:r>
            <a:r>
              <a:rPr b="0" lang="fr-FR" sz="16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. Paris, Maisonneuve et Larose, 199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F. Micheau. </a:t>
            </a:r>
            <a:r>
              <a:rPr b="1" lang="en-GB" sz="16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(dir). </a:t>
            </a:r>
            <a:r>
              <a:rPr b="0" i="1" lang="en-GB" sz="16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Les Relations des pays d’Islam avec le monde latin du milieu du Xe siècle au milieu du XIIIe siècle</a:t>
            </a:r>
            <a:r>
              <a:rPr b="1" lang="en-GB" sz="16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. </a:t>
            </a:r>
            <a:r>
              <a:rPr b="0" lang="en-GB" sz="16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Paris, ed. J. Marseille, 2000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S. C. Montgomery</a:t>
            </a:r>
            <a:r>
              <a:rPr b="0" lang="en-GB" sz="16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. </a:t>
            </a:r>
            <a:r>
              <a:rPr b="0" i="1" lang="en-GB" sz="16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Science in translation, movements of knowledge through cultures and time</a:t>
            </a:r>
            <a:r>
              <a:rPr b="0" lang="en-GB" sz="16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, University of Chicago Press, Chicago, 2000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L. Paterson</a:t>
            </a:r>
            <a:r>
              <a:rPr b="0" lang="fr-FR" sz="16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. </a:t>
            </a:r>
            <a:r>
              <a:rPr b="0" i="1" lang="fr-FR" sz="16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The world of the troubadours: Medieval Occitan Society, c.1100-c.1300.</a:t>
            </a:r>
            <a:r>
              <a:rPr b="0" lang="fr-FR" sz="1600" spc="-1" strike="noStrike">
                <a:solidFill>
                  <a:srgbClr val="800000"/>
                </a:solidFill>
                <a:latin typeface="Trebuchet MS"/>
              </a:rPr>
              <a:t> </a:t>
            </a:r>
            <a:r>
              <a:rPr b="0" lang="fr-FR" sz="16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 Cambridge University Press, 1995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-21240" y="127080"/>
            <a:ext cx="5108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rebuchet MS"/>
              </a:rPr>
              <a:t>La science antique et médiévale</a:t>
            </a:r>
            <a:r>
              <a:rPr b="0" lang="en-GB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873480" y="114480"/>
            <a:ext cx="20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bibliograph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20760" y="898560"/>
            <a:ext cx="853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Trebuchet MS"/>
                <a:ea typeface="Arial"/>
              </a:rPr>
              <a:t>Biologie 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Arial"/>
              </a:rPr>
              <a:t>sciences naturelles </a:t>
            </a:r>
            <a:r>
              <a:rPr b="0" i="1" lang="fr-FR" sz="2000" spc="-1" strike="noStrike">
                <a:solidFill>
                  <a:srgbClr val="800000"/>
                </a:solidFill>
                <a:latin typeface="Trebuchet MS"/>
                <a:ea typeface="Arial"/>
              </a:rPr>
              <a:t>versus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Arial"/>
              </a:rPr>
              <a:t> médeci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4840" y="127080"/>
            <a:ext cx="3055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a science grec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155120" y="114480"/>
            <a:ext cx="480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sciences naturelles et médecine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70000" y="2155680"/>
            <a:ext cx="8534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Trebuchet MS"/>
                <a:ea typeface="Arial"/>
              </a:rPr>
              <a:t> </a:t>
            </a:r>
            <a:r>
              <a:rPr b="1" i="1" lang="fr-FR" sz="2000" spc="-1" strike="noStrike">
                <a:solidFill>
                  <a:srgbClr val="800000"/>
                </a:solidFill>
                <a:latin typeface="Trebuchet MS"/>
                <a:ea typeface="Arial"/>
              </a:rPr>
              <a:t>Sciences naturelles :</a:t>
            </a:r>
            <a:r>
              <a:rPr b="1" lang="fr-FR" sz="2000" spc="-1" strike="noStrike">
                <a:solidFill>
                  <a:srgbClr val="800000"/>
                </a:solidFill>
                <a:latin typeface="Trebuchet MS"/>
                <a:ea typeface="Arial"/>
              </a:rPr>
              <a:t> 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Arial"/>
              </a:rPr>
              <a:t>recherche d’une organisation générale du vivant – et non une simple collection de descriptions zoologiques et botaniqu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9360" y="3819600"/>
            <a:ext cx="8534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Trebuchet MS"/>
                <a:ea typeface="Arial"/>
              </a:rPr>
              <a:t> </a:t>
            </a:r>
            <a:r>
              <a:rPr b="1" i="1" lang="fr-FR" sz="2000" spc="-1" strike="noStrike">
                <a:solidFill>
                  <a:srgbClr val="800000"/>
                </a:solidFill>
                <a:latin typeface="Trebuchet MS"/>
                <a:ea typeface="Arial"/>
              </a:rPr>
              <a:t>Médecine rationnelle</a:t>
            </a:r>
            <a:r>
              <a:rPr b="1" lang="fr-FR" sz="2000" spc="-1" strike="noStrike">
                <a:solidFill>
                  <a:srgbClr val="800000"/>
                </a:solidFill>
                <a:latin typeface="Trebuchet MS"/>
                <a:ea typeface="Arial"/>
              </a:rPr>
              <a:t> </a:t>
            </a:r>
            <a:r>
              <a:rPr b="1" i="1" lang="fr-FR" sz="2000" spc="-1" strike="noStrike">
                <a:solidFill>
                  <a:srgbClr val="800000"/>
                </a:solidFill>
                <a:latin typeface="Trebuchet MS"/>
                <a:ea typeface="Arial"/>
              </a:rPr>
              <a:t>:</a:t>
            </a:r>
            <a:r>
              <a:rPr b="1" lang="fr-FR" sz="2000" spc="-1" strike="noStrike">
                <a:solidFill>
                  <a:srgbClr val="800000"/>
                </a:solidFill>
                <a:latin typeface="Trebuchet MS"/>
                <a:ea typeface="Arial"/>
              </a:rPr>
              <a:t> 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Arial"/>
              </a:rPr>
              <a:t>causes naturelles et des maladies ; anatomie, physiologie : théorie du corps ; pharmacologie et thérapeutique : théorie de l’efficacité des trait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92120" y="1166760"/>
            <a:ext cx="78087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Aristote 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(384-322 av. J-C)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8000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Comic Sans MS"/>
                <a:ea typeface="Times New Roman"/>
              </a:rPr>
              <a:t>Né à Stagire, en Chalcidice (nord de la Grèce) ; mort à Chalc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Comic Sans MS"/>
                <a:ea typeface="Times New Roman"/>
              </a:rPr>
              <a:t>Fils d’un médecin de la cour du roi de Macédoine, il a probablement eu une formation médica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Comic Sans MS"/>
                <a:ea typeface="Times New Roman"/>
              </a:rPr>
              <a:t>Elève de l’Académie de Platon, à Athènes, où il demeure 20 ans. Départ d’athènes à la mort de Platon, voyages, puis appelé par Philippe de Macédoine pour être le précepteur d’Alexandre de Grand. Retour à Athènes. Fondation du Lyceum. Départ d’Athènes à la mort d’Alexandre (323). Mort l’année suivant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4840" y="127080"/>
            <a:ext cx="3055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a science grec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87200" y="695160"/>
            <a:ext cx="702324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Histoire naturelle : l’oeuvre d’Aristo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155120" y="114480"/>
            <a:ext cx="480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sciences naturelles et médecine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740640" y="725400"/>
            <a:ext cx="235584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Biographi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79520" y="1725480"/>
            <a:ext cx="82785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66"/>
                </a:solidFill>
                <a:latin typeface="Trebuchet MS"/>
                <a:ea typeface="Times New Roman"/>
              </a:rPr>
              <a:t> 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  <a:ea typeface="Times New Roman"/>
              </a:rPr>
              <a:t>Aristote :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 une des deux grandes figures – avec Platon – de la pensée grecque. Œuvre considérable en physique, chimie, biologie, zoologie, botanique, psychologie, théorie politique, morale, logique et métaphysique, histoire, théorie littéraire, réthoriq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domaines majeurs : inventeur de la logique formelle, créateur de la zoologie (observation et théorie : organisation du vivant). Notion de téléologie (finalité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Œuvres de </a:t>
            </a:r>
            <a:r>
              <a:rPr b="0" i="1" lang="fr-FR" sz="2000" spc="-1" strike="noStrike">
                <a:solidFill>
                  <a:srgbClr val="000066"/>
                </a:solidFill>
                <a:latin typeface="Trebuchet MS"/>
                <a:ea typeface="Times New Roman"/>
              </a:rPr>
              <a:t>zoologie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Histoire des animaux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 (traité d’anatomie et de physiologie comparé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Des parties des animaux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 (exposé de la métho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4840" y="127080"/>
            <a:ext cx="3055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a science grec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87200" y="695160"/>
            <a:ext cx="702324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Histoire naturelle : l’oeuvre d’Aristo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55120" y="114480"/>
            <a:ext cx="480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sciences naturelles et médecine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740640" y="725400"/>
            <a:ext cx="235584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Biographi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79520" y="1268280"/>
            <a:ext cx="7808760" cy="39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  <a:ea typeface="Times New Roman"/>
              </a:rPr>
              <a:t>L’étude de la nature révèle la logique du mo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« En toutes les parties de la nature il y a des merveilles. […]</a:t>
            </a:r>
            <a:r>
              <a:rPr b="0" i="1" lang="fr-FR" sz="1800" spc="-1" strike="noStrike" baseline="2000">
                <a:solidFill>
                  <a:srgbClr val="800000"/>
                </a:solidFill>
                <a:latin typeface="Trebuchet MS"/>
                <a:ea typeface="Times New Roman"/>
              </a:rPr>
              <a:t> </a:t>
            </a:r>
            <a:r>
              <a:rPr b="0" i="1" lang="fr-FR" sz="18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Entrons sans dégoût dans l’étude de chaque espèce animale; en chacune il y a de la nature et de la beauté. Ce n’est pas le hasard, mais la finalité qui règne dans les œuvres de la nature, et à un haut degré; or, la finalité qui régit la constitution ou la production d’un être est précisément ce qui donne lieu à la beauté.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Et si quelqu’un trouvait méprisable l’étude des autres animaux, il lui faudrait se mépriser lui-même, car ce n’est pas sans avoir à vaincre une grande répugnance qu’ont peut saisir de quoi se compose le genre humain, sang, chair, os, veines, et autres parties comme celles-là. 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4840" y="127080"/>
            <a:ext cx="3055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a science grec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7200" y="695160"/>
            <a:ext cx="702324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Histoire naturelle : l’oeuvre d’Aristo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55120" y="114480"/>
            <a:ext cx="480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sciences naturelles et médecine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740640" y="725400"/>
            <a:ext cx="235584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La méthod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79520" y="1268280"/>
            <a:ext cx="78087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  <a:ea typeface="Times New Roman"/>
              </a:rPr>
              <a:t>La logique du vivant est basée sur la finali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« la finalité qui régit la constitution ou la production d’un être est précisément ce qui donne lieu à la beauté. »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Deux sorte de causalité : finalité et nécessi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Finalité </a:t>
            </a:r>
            <a:r>
              <a:rPr b="0" lang="fr-FR" sz="2000" spc="-1" strike="noStrike">
                <a:solidFill>
                  <a:srgbClr val="800000"/>
                </a:solidFill>
                <a:latin typeface="Wingdings"/>
                <a:ea typeface="Wingdings"/>
              </a:rPr>
              <a:t>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 notion de fo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Nécessité </a:t>
            </a:r>
            <a:r>
              <a:rPr b="0" lang="fr-FR" sz="2000" spc="-1" strike="noStrike">
                <a:solidFill>
                  <a:srgbClr val="800000"/>
                </a:solidFill>
                <a:latin typeface="Wingdings"/>
                <a:ea typeface="Wingdings"/>
              </a:rPr>
              <a:t>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 notion de fonction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  <a:ea typeface="Times New Roman"/>
              </a:rPr>
              <a:t>Finalité en biologie : paradigme remis en cause par Darw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4840" y="127080"/>
            <a:ext cx="3055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a science grec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7200" y="695160"/>
            <a:ext cx="702324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Histoire naturelle : l’oeuvre d’Aristo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55120" y="114480"/>
            <a:ext cx="480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sciences naturelles et médecine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740640" y="725400"/>
            <a:ext cx="235584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La méthod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5T17:47:16Z</dcterms:created>
  <dc:creator>esteve</dc:creator>
  <dc:description/>
  <dc:language>en-US</dc:language>
  <cp:lastModifiedBy>Rm</cp:lastModifiedBy>
  <dcterms:modified xsi:type="dcterms:W3CDTF">2011-01-25T14:01:47Z</dcterms:modified>
  <cp:revision>839</cp:revision>
  <dc:subject/>
  <dc:title>Présentation PowerPoint</dc:title>
</cp:coreProperties>
</file>