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736640" y="2255760"/>
            <a:ext cx="63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e système digest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95200" y="3498840"/>
            <a:ext cx="78184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Laboratoire de Physiologie Cellulaire Respiratoire INSERM U 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Victor Segalen Bordeaux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e-fisio.net      site de l’UFR des sciences de la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7520" y="0"/>
          <a:ext cx="1533600" cy="15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0"/>
                    <a:ext cx="153360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1596960" y="596880"/>
            <a:ext cx="7547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19120" y="1144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icence Biologie cellulaire et phys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60840" y="60660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UE physiologie des systè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4720" y="519264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sécrétions biliaires et pancréatiqu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nzymes de digestion des glucides, lipides, protides ; neutralisation du pH (pancréas) ; sels biliaires : digestion des lipides (fo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22840" y="1131840"/>
            <a:ext cx="2057400" cy="12938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179000">
            <a:off x="4878000" y="2663640"/>
            <a:ext cx="792360" cy="16491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9" name="" descr=""/>
          <p:cNvPicPr/>
          <p:nvPr/>
        </p:nvPicPr>
        <p:blipFill>
          <a:blip r:embed="rId1"/>
          <a:stretch/>
        </p:blipFill>
        <p:spPr>
          <a:xfrm>
            <a:off x="4038480" y="1542960"/>
            <a:ext cx="4033800" cy="4456080"/>
          </a:xfrm>
          <a:prstGeom prst="rect">
            <a:avLst/>
          </a:prstGeom>
          <a:ln w="0">
            <a:noFill/>
          </a:ln>
        </p:spPr>
      </p:pic>
      <p:sp>
        <p:nvSpPr>
          <p:cNvPr id="2150" name=""/>
          <p:cNvSpPr/>
          <p:nvPr/>
        </p:nvSpPr>
        <p:spPr>
          <a:xfrm>
            <a:off x="3782880" y="37148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782880" y="37148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188320" y="11365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i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5092560" y="3208320"/>
            <a:ext cx="622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437080" y="5291280"/>
            <a:ext cx="62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5437080" y="5291280"/>
            <a:ext cx="62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646160" y="141768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6108840" y="5114880"/>
            <a:ext cx="0" cy="9000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7637400" y="4100400"/>
            <a:ext cx="542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586560" y="3740040"/>
            <a:ext cx="430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754320" y="3780000"/>
            <a:ext cx="2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540560" y="3759120"/>
            <a:ext cx="77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495920" y="36720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7191360" y="3956040"/>
            <a:ext cx="326880" cy="328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586560" y="3740040"/>
            <a:ext cx="430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540560" y="3759120"/>
            <a:ext cx="77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7189920" y="3713040"/>
            <a:ext cx="525240" cy="52560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7015320" y="4017960"/>
            <a:ext cx="525240" cy="5256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7754760" y="410544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445000" y="2274840"/>
            <a:ext cx="32868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446880" y="1720800"/>
            <a:ext cx="0" cy="1082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289560" y="2141640"/>
            <a:ext cx="319320" cy="42696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28" y="0"/>
                </a:moveTo>
                <a:lnTo>
                  <a:pt x="23" y="1"/>
                </a:lnTo>
                <a:lnTo>
                  <a:pt x="17" y="2"/>
                </a:lnTo>
                <a:lnTo>
                  <a:pt x="9" y="8"/>
                </a:lnTo>
                <a:lnTo>
                  <a:pt x="2" y="16"/>
                </a:lnTo>
                <a:lnTo>
                  <a:pt x="1" y="23"/>
                </a:lnTo>
                <a:lnTo>
                  <a:pt x="0" y="28"/>
                </a:lnTo>
                <a:lnTo>
                  <a:pt x="0" y="196"/>
                </a:lnTo>
                <a:lnTo>
                  <a:pt x="1" y="201"/>
                </a:lnTo>
                <a:lnTo>
                  <a:pt x="2" y="207"/>
                </a:lnTo>
                <a:lnTo>
                  <a:pt x="9" y="215"/>
                </a:lnTo>
                <a:lnTo>
                  <a:pt x="17" y="222"/>
                </a:lnTo>
                <a:lnTo>
                  <a:pt x="23" y="223"/>
                </a:lnTo>
                <a:lnTo>
                  <a:pt x="28" y="224"/>
                </a:lnTo>
                <a:lnTo>
                  <a:pt x="140" y="224"/>
                </a:lnTo>
                <a:lnTo>
                  <a:pt x="145" y="223"/>
                </a:lnTo>
                <a:lnTo>
                  <a:pt x="152" y="222"/>
                </a:lnTo>
                <a:lnTo>
                  <a:pt x="160" y="215"/>
                </a:lnTo>
                <a:lnTo>
                  <a:pt x="166" y="207"/>
                </a:lnTo>
                <a:lnTo>
                  <a:pt x="167" y="201"/>
                </a:lnTo>
                <a:lnTo>
                  <a:pt x="168" y="196"/>
                </a:lnTo>
                <a:lnTo>
                  <a:pt x="168" y="28"/>
                </a:lnTo>
                <a:lnTo>
                  <a:pt x="167" y="23"/>
                </a:lnTo>
                <a:lnTo>
                  <a:pt x="166" y="16"/>
                </a:lnTo>
                <a:lnTo>
                  <a:pt x="160" y="8"/>
                </a:lnTo>
                <a:lnTo>
                  <a:pt x="152" y="2"/>
                </a:lnTo>
                <a:lnTo>
                  <a:pt x="145" y="1"/>
                </a:lnTo>
                <a:lnTo>
                  <a:pt x="14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442120" y="171756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5784840" y="171720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4854600" y="2289240"/>
            <a:ext cx="32868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851360" y="173340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flipV="1">
            <a:off x="5194440" y="173304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907320" y="2282760"/>
            <a:ext cx="328680" cy="328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6904080" y="172548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V="1">
            <a:off x="7246800" y="172512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5952960" y="5386320"/>
            <a:ext cx="32868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161680" y="2865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7135560" y="141768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768720" y="139860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311520" y="142416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753160" y="2882880"/>
            <a:ext cx="253800" cy="16765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044680" y="3798720"/>
            <a:ext cx="1169640" cy="274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aabf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tid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 flipH="1">
            <a:off x="6264000" y="2895480"/>
            <a:ext cx="415800" cy="163836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981040" y="462456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35480" y="3357720"/>
            <a:ext cx="309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eptidases cytoplasm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- et tripeptid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xtrusion au pôle bas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3 transporteurs différ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49920" y="725400"/>
            <a:ext cx="3206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nsport transcellula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"/>
          <p:cNvSpPr/>
          <p:nvPr/>
        </p:nvSpPr>
        <p:spPr>
          <a:xfrm>
            <a:off x="971280" y="1814400"/>
            <a:ext cx="319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urtout triglycér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+ phospholip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+ stérols et esters de sté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urces dans l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/>
          <p:nvPr/>
        </p:nvSpPr>
        <p:spPr>
          <a:xfrm>
            <a:off x="511920" y="1316160"/>
            <a:ext cx="7968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éparation du contenu stomachal en phase aqueuse et phase lipid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rmation d’émulsion limitée par l’acid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on de lipases pré-duodénal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 lingual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rat) 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gastriqu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hom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s lipases ne sont pas indispensables à la digestion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60096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stom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"/>
          <p:cNvSpPr/>
          <p:nvPr/>
        </p:nvSpPr>
        <p:spPr>
          <a:xfrm>
            <a:off x="669960" y="1311120"/>
            <a:ext cx="828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Trebuchet MS"/>
              </a:rPr>
              <a:t>lipases pancréa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glycérol ester oxydas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lipase)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riglycérid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monoglycérides + 2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holestérol ester hydrolas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er de cholestérol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holestérol +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hospholipase A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osphatid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lysophosphatides +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600960" y="725400"/>
            <a:ext cx="235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Trebuchet MS"/>
              </a:rPr>
              <a:t>duodénum, jéjun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/>
          <p:nvPr/>
        </p:nvSpPr>
        <p:spPr>
          <a:xfrm>
            <a:off x="689040" y="1311120"/>
            <a:ext cx="8283600" cy="26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Trebuchet MS"/>
              </a:rPr>
              <a:t>rôle des sels biliair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1/ lipides en émulsion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lipides avant diges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ermet l’activité enzyma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ipases : hydrosolu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’activité enzymatique est proportionnelle à l’interface eau-lip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inactivée par les sels bi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olipa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mpêche l’inactivation de la lipase par les sels bili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600960" y="725400"/>
            <a:ext cx="235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Trebuchet MS"/>
              </a:rPr>
              <a:t>duodénum, jéjun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89040" y="4397400"/>
            <a:ext cx="828360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2/ formation de micelle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produits de la diges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grégats de 20 à 30 moléc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centration minimale de sels bilaires nécessaires à la formation des mic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533520" y="1398600"/>
            <a:ext cx="83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ntact des micelle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avec la membrane plasmique des cellules de la bordure en bros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bsorption passiv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G de grande taille (+ lysophosphatides)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ransport facilité (MVM-FABP) couplé à un influx de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holestérol libre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érifié dans la membrane plasmiqu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uis désestérifié avant libération dans le cyto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49908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pôle apic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"/>
          <p:cNvSpPr/>
          <p:nvPr/>
        </p:nvSpPr>
        <p:spPr>
          <a:xfrm>
            <a:off x="482760" y="1398600"/>
            <a:ext cx="83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iaison à des protéines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ABP (fatty acid-binding protein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devenir des lipides dans l’entérocy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98600" y="2351160"/>
            <a:ext cx="83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ansport vers le réticulum endo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synthèse des triglycérides, phospholipides, esters de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98600" y="314784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ormation de pro-chylomicron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gouttelettes lipidiq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98600" y="371952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ansfert dans l’appareil de Golgi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chylomicrons (lipides + apoproté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98600" y="425304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ocy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98600" y="4811760"/>
            <a:ext cx="83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ssage dans les vaisseaux lymphatique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anal thoracique lympha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98600" y="534528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irculation sangu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7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2238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410360" y="3351240"/>
            <a:ext cx="51588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414240" y="3351240"/>
            <a:ext cx="36936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255360" y="2436840"/>
            <a:ext cx="10386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VB-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576600" y="140976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646520" y="135900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5214960" y="90180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903400" y="142236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5189400" y="143496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5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2266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255360" y="2436840"/>
            <a:ext cx="10386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VB-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410360" y="3351240"/>
            <a:ext cx="51588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414240" y="3351240"/>
            <a:ext cx="36936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4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2295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255360" y="2436840"/>
            <a:ext cx="10386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VB-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410360" y="3351240"/>
            <a:ext cx="51588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3414240" y="3351240"/>
            <a:ext cx="36936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3200" y="5003640"/>
            <a:ext cx="823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intestin grêl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egmentation ; digestion et ab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lucides, lipides, protides, N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, eau, sécrétions digestives, cellules desquam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773400">
            <a:off x="5151600" y="2390400"/>
            <a:ext cx="2438280" cy="704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2330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860640" y="3914640"/>
            <a:ext cx="15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resynthè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410360" y="3351240"/>
            <a:ext cx="51588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414240" y="3351240"/>
            <a:ext cx="36936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255360" y="2436840"/>
            <a:ext cx="10386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VB-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5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2366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gradFill rotWithShape="0">
            <a:gsLst>
              <a:gs pos="0">
                <a:srgbClr val="fed79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010400" y="582948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hylomic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3860640" y="3914640"/>
            <a:ext cx="15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resynthè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10360" y="3351240"/>
            <a:ext cx="51588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14240" y="3351240"/>
            <a:ext cx="36936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6255360" y="2436840"/>
            <a:ext cx="10386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VB-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4324320" y="4343400"/>
            <a:ext cx="0" cy="77616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3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2404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419800" y="4943520"/>
            <a:ext cx="922320" cy="973080"/>
          </a:xfrm>
          <a:prstGeom prst="ellipse">
            <a:avLst/>
          </a:prstGeom>
          <a:gradFill rotWithShape="0">
            <a:gsLst>
              <a:gs pos="0">
                <a:srgbClr val="fed79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gradFill rotWithShape="0">
            <a:gsLst>
              <a:gs pos="0">
                <a:srgbClr val="fed79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010400" y="582948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hylomic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860640" y="3914640"/>
            <a:ext cx="15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resynthè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410360" y="3351240"/>
            <a:ext cx="51588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414240" y="3351240"/>
            <a:ext cx="36936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255360" y="2436840"/>
            <a:ext cx="10386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VB-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324320" y="4343400"/>
            <a:ext cx="0" cy="77616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933800" y="5303880"/>
            <a:ext cx="351000" cy="1062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"/>
          <p:cNvSpPr/>
          <p:nvPr/>
        </p:nvSpPr>
        <p:spPr>
          <a:xfrm>
            <a:off x="568440" y="1433520"/>
            <a:ext cx="79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de-DE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de-DE" sz="2000" spc="-1" strike="noStrike">
                <a:solidFill>
                  <a:srgbClr val="990000"/>
                </a:solidFill>
                <a:latin typeface="Trebuchet MS"/>
              </a:rPr>
              <a:t>vitamines A, D, E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bsorption passive à partir des mic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itamines liposolubl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276880" y="135000"/>
            <a:ext cx="3797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bsorption des vitam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93680" y="286704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itamines hydrosolubl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549360" y="3405240"/>
            <a:ext cx="7921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transport vitamine/Na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2+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sauf B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itamine C : absorption par un cotransport vitamine C/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itamines B1, B2, B6 : cotransport vitamine/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itamine B12 : fixation au Facteur intrinsèque dans l’intestio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iaison à un récepteur dans l’iléon terminal 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"/>
          <p:cNvSpPr/>
          <p:nvPr/>
        </p:nvSpPr>
        <p:spPr>
          <a:xfrm>
            <a:off x="466560" y="1154160"/>
            <a:ext cx="821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bsorption par voie transcellulaire ; liaison dans le cytosol à une CaB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xtrusion au pôle basal par PMCA et échangeur Na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-Ca</a:t>
            </a:r>
            <a:r>
              <a:rPr b="0" lang="fr-FR" sz="20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alc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262480" y="135000"/>
            <a:ext cx="3783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bsorption des minér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93680" y="232092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5640" y="2576520"/>
            <a:ext cx="7921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fer lié à l’hème de l’hémoglo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bsorption du fer et de l’hè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ibération du 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iaison à la ferritine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iaison à la transferr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xtrusion dans la circulation sangu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Fe</a:t>
            </a:r>
            <a:r>
              <a:rPr b="0" i="1" lang="fr-FR" sz="20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ixation à des récepteurs spécif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bsor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iaison à la ferritine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iaison à la transfer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xtrusion dans la circulation sangu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7" name="" descr=""/>
          <p:cNvPicPr/>
          <p:nvPr/>
        </p:nvPicPr>
        <p:blipFill>
          <a:blip r:embed="rId1"/>
          <a:stretch/>
        </p:blipFill>
        <p:spPr>
          <a:xfrm>
            <a:off x="3603600" y="1312920"/>
            <a:ext cx="1746360" cy="3562200"/>
          </a:xfrm>
          <a:prstGeom prst="rect">
            <a:avLst/>
          </a:prstGeom>
          <a:ln w="0">
            <a:noFill/>
          </a:ln>
        </p:spPr>
      </p:pic>
      <p:sp>
        <p:nvSpPr>
          <p:cNvPr id="2458" name=""/>
          <p:cNvSpPr/>
          <p:nvPr/>
        </p:nvSpPr>
        <p:spPr>
          <a:xfrm>
            <a:off x="512640" y="1584360"/>
            <a:ext cx="31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apport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gestion : 2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aliv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uc gastrique : 2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uc pancréatiqu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bile : 0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crétion intestinal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5551560" y="3368520"/>
            <a:ext cx="24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réabsorption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testin grêle : 8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ôlon : 0,4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01920" y="458316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élimination fécale :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50 à 100 m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bilan hyd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99960" y="5218200"/>
            <a:ext cx="80200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s mouvements d’eau suivent les mouvements des électrol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ux nets : absorption intestinale (surtout jéjunum et ilé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ux importants dans les deux sen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6" name="" descr=""/>
          <p:cNvPicPr/>
          <p:nvPr/>
        </p:nvPicPr>
        <p:blipFill>
          <a:blip r:embed="rId1"/>
          <a:stretch/>
        </p:blipFill>
        <p:spPr>
          <a:xfrm>
            <a:off x="5880240" y="1643040"/>
            <a:ext cx="2146320" cy="3030480"/>
          </a:xfrm>
          <a:prstGeom prst="rect">
            <a:avLst/>
          </a:prstGeom>
          <a:ln w="0">
            <a:noFill/>
          </a:ln>
        </p:spPr>
      </p:pic>
      <p:sp>
        <p:nvSpPr>
          <p:cNvPr id="2467" name=""/>
          <p:cNvSpPr/>
          <p:nvPr/>
        </p:nvSpPr>
        <p:spPr>
          <a:xfrm>
            <a:off x="5295960" y="2197080"/>
            <a:ext cx="107928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295960" y="4191120"/>
            <a:ext cx="11682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837360" y="3070080"/>
            <a:ext cx="32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lux dans les deux s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399960" y="5218200"/>
            <a:ext cx="80200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s mouvements d’eau suivent les mouvements des électrol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ux nets : absorption intestinale (surtout jéjunum et ilé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ux importants dans les deux sen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bilan hyd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568520" y="3998880"/>
            <a:ext cx="4083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ryptes de Lierberkühn : excré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555920" y="1992240"/>
            <a:ext cx="4082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mmets des villosités : 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"/>
          <p:cNvSpPr/>
          <p:nvPr/>
        </p:nvSpPr>
        <p:spPr>
          <a:xfrm>
            <a:off x="352440" y="138276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entrée 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700 à 800 mmol/j (alimentation + sécré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sorti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5 mmo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bsorption : surtout duodénum et jéjunum prox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bsorption essentiellement par voie para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jonction serrées plus perméables au niveau du duodén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t du jéjunum supérieu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+ voie transcellulaire :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transport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avec AA, glucose-galacto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effet synergique : conséquence sur la réhydratation orale : eau + sel + gluco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rtie au pôle basolatéral par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-K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ATP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d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"/>
          <p:cNvSpPr/>
          <p:nvPr/>
        </p:nvSpPr>
        <p:spPr>
          <a:xfrm>
            <a:off x="555480" y="1459080"/>
            <a:ext cx="78868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de-DE" sz="1800" spc="-1" strike="noStrike">
                <a:solidFill>
                  <a:srgbClr val="990000"/>
                </a:solidFill>
                <a:latin typeface="Trebuchet MS"/>
              </a:rPr>
              <a:t>jéjunum :</a:t>
            </a:r>
            <a:r>
              <a:rPr b="0" lang="de-DE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90000"/>
                </a:solidFill>
                <a:latin typeface="Trebuchet MS"/>
              </a:rPr>
              <a:t>(absorption maxi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bsorption passive paracellulaire qui suit les mouvements de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iléon, côlon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bsorption paracellulaire + absorption transcellulaire couplée à la sortie de H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l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"/>
          <p:cNvSpPr/>
          <p:nvPr/>
        </p:nvSpPr>
        <p:spPr>
          <a:xfrm>
            <a:off x="555480" y="1459080"/>
            <a:ext cx="788688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duodénum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écrétion par le 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jéjunum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bsorption (passage transcellulaire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iléon, côlon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xcrétion couplée à l’entrée de 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ux net : dépend de la concentration en H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équilibre : 45 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87200" y="682560"/>
            <a:ext cx="43308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0" lang="fr-FR" sz="22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958200">
            <a:off x="5400360" y="3106800"/>
            <a:ext cx="2449440" cy="19130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7600" y="5168880"/>
            <a:ext cx="656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gros intesti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ockage, brassage, absorp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"/>
          <p:cNvSpPr/>
          <p:nvPr/>
        </p:nvSpPr>
        <p:spPr>
          <a:xfrm>
            <a:off x="555480" y="1268280"/>
            <a:ext cx="788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entrée :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120 mmo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sorti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10 mmo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intestin grêl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absorption passive para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ôlon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flux net = excré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bsorption de K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liée à l’absorption d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arrhée sévère prolongée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hypokalié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blèmes liés à l’hypokaliémie : arythmie cardia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22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"/>
          <p:cNvSpPr/>
          <p:nvPr/>
        </p:nvSpPr>
        <p:spPr>
          <a:xfrm>
            <a:off x="644400" y="1370160"/>
            <a:ext cx="8147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intestin grêl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de façon isosmo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uodénum : jonction serrées très perméables : passage essentiellement paracellul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léon : passage paracellulaire et trans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ôlon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ontre le gradient osmotique entre la lumière et le secteur plas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e contenu du côlon est hyperosmo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 / sécrétion d’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absorption d’ea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3" name="" descr=""/>
          <p:cNvPicPr/>
          <p:nvPr/>
        </p:nvPicPr>
        <p:blipFill>
          <a:blip r:embed="rId1"/>
          <a:stretch/>
        </p:blipFill>
        <p:spPr>
          <a:xfrm>
            <a:off x="2193840" y="1446120"/>
            <a:ext cx="3316320" cy="4791240"/>
          </a:xfrm>
          <a:prstGeom prst="rect">
            <a:avLst/>
          </a:prstGeom>
          <a:ln w="0">
            <a:noFill/>
          </a:ln>
        </p:spPr>
      </p:pic>
      <p:pic>
        <p:nvPicPr>
          <p:cNvPr id="2504" name="" descr=""/>
          <p:cNvPicPr/>
          <p:nvPr/>
        </p:nvPicPr>
        <p:blipFill>
          <a:blip r:embed="rId2"/>
          <a:stretch/>
        </p:blipFill>
        <p:spPr>
          <a:xfrm>
            <a:off x="4822920" y="1460520"/>
            <a:ext cx="3316320" cy="4790880"/>
          </a:xfrm>
          <a:prstGeom prst="rect">
            <a:avLst/>
          </a:prstGeom>
          <a:ln w="0">
            <a:noFill/>
          </a:ln>
        </p:spPr>
      </p:pic>
      <p:sp>
        <p:nvSpPr>
          <p:cNvPr id="2505" name=""/>
          <p:cNvSpPr/>
          <p:nvPr/>
        </p:nvSpPr>
        <p:spPr>
          <a:xfrm>
            <a:off x="5916600" y="4834080"/>
            <a:ext cx="571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5813280" y="2817720"/>
            <a:ext cx="1800" cy="12924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5662440" y="1863720"/>
            <a:ext cx="314280" cy="964800"/>
            <a:chOff x="5662440" y="1863720"/>
            <a:chExt cx="314280" cy="964800"/>
          </a:xfrm>
        </p:grpSpPr>
        <p:sp>
          <p:nvSpPr>
            <p:cNvPr id="2508" name=""/>
            <p:cNvSpPr/>
            <p:nvPr/>
          </p:nvSpPr>
          <p:spPr>
            <a:xfrm>
              <a:off x="5676840" y="1878120"/>
              <a:ext cx="285120" cy="936000"/>
            </a:xfrm>
            <a:custGeom>
              <a:avLst/>
              <a:gdLst/>
              <a:ahLst/>
              <a:rect l="l" t="t" r="r" b="b"/>
              <a:pathLst>
                <a:path w="138" h="454">
                  <a:moveTo>
                    <a:pt x="69" y="0"/>
                  </a:move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lnTo>
                    <a:pt x="0" y="397"/>
                  </a:lnTo>
                  <a:lnTo>
                    <a:pt x="1" y="409"/>
                  </a:lnTo>
                  <a:lnTo>
                    <a:pt x="5" y="419"/>
                  </a:lnTo>
                  <a:lnTo>
                    <a:pt x="12" y="429"/>
                  </a:lnTo>
                  <a:lnTo>
                    <a:pt x="20" y="438"/>
                  </a:lnTo>
                  <a:lnTo>
                    <a:pt x="30" y="444"/>
                  </a:lnTo>
                  <a:lnTo>
                    <a:pt x="41" y="450"/>
                  </a:lnTo>
                  <a:lnTo>
                    <a:pt x="55" y="453"/>
                  </a:lnTo>
                  <a:lnTo>
                    <a:pt x="69" y="454"/>
                  </a:lnTo>
                  <a:lnTo>
                    <a:pt x="83" y="453"/>
                  </a:lnTo>
                  <a:lnTo>
                    <a:pt x="96" y="450"/>
                  </a:lnTo>
                  <a:lnTo>
                    <a:pt x="107" y="444"/>
                  </a:lnTo>
                  <a:lnTo>
                    <a:pt x="118" y="438"/>
                  </a:lnTo>
                  <a:lnTo>
                    <a:pt x="126" y="429"/>
                  </a:lnTo>
                  <a:lnTo>
                    <a:pt x="132" y="419"/>
                  </a:lnTo>
                  <a:lnTo>
                    <a:pt x="137" y="409"/>
                  </a:lnTo>
                  <a:lnTo>
                    <a:pt x="138" y="397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676840" y="1878120"/>
              <a:ext cx="285120" cy="233280"/>
            </a:xfrm>
            <a:custGeom>
              <a:avLst/>
              <a:gdLst/>
              <a:ahLst/>
              <a:rect l="l" t="t" r="r" b="b"/>
              <a:pathLst>
                <a:path w="138" h="113">
                  <a:moveTo>
                    <a:pt x="0" y="57"/>
                  </a:moveTo>
                  <a:lnTo>
                    <a:pt x="1" y="68"/>
                  </a:lnTo>
                  <a:lnTo>
                    <a:pt x="5" y="79"/>
                  </a:lnTo>
                  <a:lnTo>
                    <a:pt x="12" y="88"/>
                  </a:lnTo>
                  <a:lnTo>
                    <a:pt x="20" y="96"/>
                  </a:lnTo>
                  <a:lnTo>
                    <a:pt x="30" y="103"/>
                  </a:lnTo>
                  <a:lnTo>
                    <a:pt x="41" y="108"/>
                  </a:lnTo>
                  <a:lnTo>
                    <a:pt x="55" y="112"/>
                  </a:lnTo>
                  <a:lnTo>
                    <a:pt x="69" y="113"/>
                  </a:lnTo>
                  <a:lnTo>
                    <a:pt x="83" y="112"/>
                  </a:lnTo>
                  <a:lnTo>
                    <a:pt x="96" y="108"/>
                  </a:lnTo>
                  <a:lnTo>
                    <a:pt x="107" y="103"/>
                  </a:lnTo>
                  <a:lnTo>
                    <a:pt x="118" y="96"/>
                  </a:lnTo>
                  <a:lnTo>
                    <a:pt x="126" y="88"/>
                  </a:lnTo>
                  <a:lnTo>
                    <a:pt x="132" y="79"/>
                  </a:lnTo>
                  <a:lnTo>
                    <a:pt x="137" y="68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662440" y="1863720"/>
              <a:ext cx="314280" cy="964800"/>
            </a:xfrm>
            <a:custGeom>
              <a:avLst/>
              <a:gdLst/>
              <a:ahLst/>
              <a:rect l="l" t="t" r="r" b="b"/>
              <a:pathLst>
                <a:path w="152" h="468">
                  <a:moveTo>
                    <a:pt x="62" y="1"/>
                  </a:moveTo>
                  <a:lnTo>
                    <a:pt x="59" y="2"/>
                  </a:lnTo>
                  <a:lnTo>
                    <a:pt x="46" y="6"/>
                  </a:lnTo>
                  <a:lnTo>
                    <a:pt x="34" y="10"/>
                  </a:lnTo>
                  <a:lnTo>
                    <a:pt x="32" y="11"/>
                  </a:lnTo>
                  <a:lnTo>
                    <a:pt x="22" y="19"/>
                  </a:lnTo>
                  <a:lnTo>
                    <a:pt x="13" y="27"/>
                  </a:lnTo>
                  <a:lnTo>
                    <a:pt x="7" y="36"/>
                  </a:lnTo>
                  <a:lnTo>
                    <a:pt x="6" y="42"/>
                  </a:lnTo>
                  <a:lnTo>
                    <a:pt x="1" y="52"/>
                  </a:lnTo>
                  <a:lnTo>
                    <a:pt x="0" y="64"/>
                  </a:lnTo>
                  <a:lnTo>
                    <a:pt x="0" y="404"/>
                  </a:lnTo>
                  <a:lnTo>
                    <a:pt x="1" y="416"/>
                  </a:lnTo>
                  <a:lnTo>
                    <a:pt x="6" y="426"/>
                  </a:lnTo>
                  <a:lnTo>
                    <a:pt x="7" y="432"/>
                  </a:lnTo>
                  <a:lnTo>
                    <a:pt x="13" y="441"/>
                  </a:lnTo>
                  <a:lnTo>
                    <a:pt x="22" y="449"/>
                  </a:lnTo>
                  <a:lnTo>
                    <a:pt x="32" y="457"/>
                  </a:lnTo>
                  <a:lnTo>
                    <a:pt x="34" y="458"/>
                  </a:lnTo>
                  <a:lnTo>
                    <a:pt x="46" y="462"/>
                  </a:lnTo>
                  <a:lnTo>
                    <a:pt x="59" y="466"/>
                  </a:lnTo>
                  <a:lnTo>
                    <a:pt x="62" y="467"/>
                  </a:lnTo>
                  <a:lnTo>
                    <a:pt x="76" y="468"/>
                  </a:lnTo>
                  <a:lnTo>
                    <a:pt x="90" y="467"/>
                  </a:lnTo>
                  <a:lnTo>
                    <a:pt x="92" y="466"/>
                  </a:lnTo>
                  <a:lnTo>
                    <a:pt x="105" y="462"/>
                  </a:lnTo>
                  <a:lnTo>
                    <a:pt x="118" y="458"/>
                  </a:lnTo>
                  <a:lnTo>
                    <a:pt x="120" y="457"/>
                  </a:lnTo>
                  <a:lnTo>
                    <a:pt x="130" y="449"/>
                  </a:lnTo>
                  <a:lnTo>
                    <a:pt x="138" y="441"/>
                  </a:lnTo>
                  <a:lnTo>
                    <a:pt x="145" y="432"/>
                  </a:lnTo>
                  <a:lnTo>
                    <a:pt x="146" y="426"/>
                  </a:lnTo>
                  <a:lnTo>
                    <a:pt x="150" y="416"/>
                  </a:lnTo>
                  <a:lnTo>
                    <a:pt x="152" y="404"/>
                  </a:lnTo>
                  <a:lnTo>
                    <a:pt x="152" y="64"/>
                  </a:lnTo>
                  <a:lnTo>
                    <a:pt x="150" y="52"/>
                  </a:lnTo>
                  <a:lnTo>
                    <a:pt x="146" y="42"/>
                  </a:lnTo>
                  <a:lnTo>
                    <a:pt x="145" y="36"/>
                  </a:lnTo>
                  <a:lnTo>
                    <a:pt x="138" y="27"/>
                  </a:lnTo>
                  <a:lnTo>
                    <a:pt x="130" y="19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05" y="6"/>
                  </a:lnTo>
                  <a:lnTo>
                    <a:pt x="92" y="2"/>
                  </a:lnTo>
                  <a:lnTo>
                    <a:pt x="90" y="1"/>
                  </a:lnTo>
                  <a:lnTo>
                    <a:pt x="76" y="0"/>
                  </a:lnTo>
                  <a:lnTo>
                    <a:pt x="62" y="1"/>
                  </a:lnTo>
                  <a:close/>
                  <a:moveTo>
                    <a:pt x="76" y="13"/>
                  </a:moveTo>
                  <a:lnTo>
                    <a:pt x="90" y="14"/>
                  </a:lnTo>
                  <a:lnTo>
                    <a:pt x="90" y="8"/>
                  </a:lnTo>
                  <a:lnTo>
                    <a:pt x="87" y="14"/>
                  </a:lnTo>
                  <a:lnTo>
                    <a:pt x="100" y="18"/>
                  </a:lnTo>
                  <a:lnTo>
                    <a:pt x="112" y="22"/>
                  </a:lnTo>
                  <a:lnTo>
                    <a:pt x="114" y="17"/>
                  </a:lnTo>
                  <a:lnTo>
                    <a:pt x="110" y="21"/>
                  </a:lnTo>
                  <a:lnTo>
                    <a:pt x="120" y="29"/>
                  </a:lnTo>
                  <a:lnTo>
                    <a:pt x="129" y="36"/>
                  </a:lnTo>
                  <a:lnTo>
                    <a:pt x="135" y="46"/>
                  </a:lnTo>
                  <a:lnTo>
                    <a:pt x="139" y="42"/>
                  </a:lnTo>
                  <a:lnTo>
                    <a:pt x="133" y="42"/>
                  </a:lnTo>
                  <a:lnTo>
                    <a:pt x="137" y="52"/>
                  </a:lnTo>
                  <a:lnTo>
                    <a:pt x="138" y="64"/>
                  </a:lnTo>
                  <a:lnTo>
                    <a:pt x="138" y="404"/>
                  </a:lnTo>
                  <a:lnTo>
                    <a:pt x="137" y="416"/>
                  </a:lnTo>
                  <a:lnTo>
                    <a:pt x="133" y="426"/>
                  </a:lnTo>
                  <a:lnTo>
                    <a:pt x="139" y="426"/>
                  </a:lnTo>
                  <a:lnTo>
                    <a:pt x="135" y="422"/>
                  </a:lnTo>
                  <a:lnTo>
                    <a:pt x="129" y="432"/>
                  </a:lnTo>
                  <a:lnTo>
                    <a:pt x="120" y="439"/>
                  </a:lnTo>
                  <a:lnTo>
                    <a:pt x="110" y="447"/>
                  </a:lnTo>
                  <a:lnTo>
                    <a:pt x="114" y="451"/>
                  </a:lnTo>
                  <a:lnTo>
                    <a:pt x="112" y="446"/>
                  </a:lnTo>
                  <a:lnTo>
                    <a:pt x="100" y="450"/>
                  </a:lnTo>
                  <a:lnTo>
                    <a:pt x="87" y="453"/>
                  </a:lnTo>
                  <a:lnTo>
                    <a:pt x="90" y="460"/>
                  </a:lnTo>
                  <a:lnTo>
                    <a:pt x="90" y="453"/>
                  </a:lnTo>
                  <a:lnTo>
                    <a:pt x="76" y="455"/>
                  </a:lnTo>
                  <a:lnTo>
                    <a:pt x="62" y="453"/>
                  </a:lnTo>
                  <a:lnTo>
                    <a:pt x="62" y="460"/>
                  </a:lnTo>
                  <a:lnTo>
                    <a:pt x="65" y="453"/>
                  </a:lnTo>
                  <a:lnTo>
                    <a:pt x="52" y="450"/>
                  </a:lnTo>
                  <a:lnTo>
                    <a:pt x="40" y="446"/>
                  </a:lnTo>
                  <a:lnTo>
                    <a:pt x="37" y="451"/>
                  </a:lnTo>
                  <a:lnTo>
                    <a:pt x="42" y="447"/>
                  </a:lnTo>
                  <a:lnTo>
                    <a:pt x="32" y="439"/>
                  </a:lnTo>
                  <a:lnTo>
                    <a:pt x="23" y="432"/>
                  </a:lnTo>
                  <a:lnTo>
                    <a:pt x="17" y="422"/>
                  </a:lnTo>
                  <a:lnTo>
                    <a:pt x="12" y="426"/>
                  </a:lnTo>
                  <a:lnTo>
                    <a:pt x="19" y="426"/>
                  </a:lnTo>
                  <a:lnTo>
                    <a:pt x="14" y="416"/>
                  </a:lnTo>
                  <a:lnTo>
                    <a:pt x="13" y="404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2"/>
                  </a:lnTo>
                  <a:lnTo>
                    <a:pt x="12" y="42"/>
                  </a:lnTo>
                  <a:lnTo>
                    <a:pt x="17" y="46"/>
                  </a:lnTo>
                  <a:lnTo>
                    <a:pt x="23" y="36"/>
                  </a:lnTo>
                  <a:lnTo>
                    <a:pt x="32" y="29"/>
                  </a:lnTo>
                  <a:lnTo>
                    <a:pt x="42" y="21"/>
                  </a:lnTo>
                  <a:lnTo>
                    <a:pt x="37" y="17"/>
                  </a:lnTo>
                  <a:lnTo>
                    <a:pt x="40" y="22"/>
                  </a:lnTo>
                  <a:lnTo>
                    <a:pt x="52" y="18"/>
                  </a:lnTo>
                  <a:lnTo>
                    <a:pt x="65" y="14"/>
                  </a:lnTo>
                  <a:lnTo>
                    <a:pt x="62" y="8"/>
                  </a:lnTo>
                  <a:lnTo>
                    <a:pt x="62" y="14"/>
                  </a:lnTo>
                  <a:lnTo>
                    <a:pt x="7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662440" y="1995840"/>
              <a:ext cx="314280" cy="127440"/>
            </a:xfrm>
            <a:custGeom>
              <a:avLst/>
              <a:gdLst/>
              <a:ahLst/>
              <a:rect l="l" t="t" r="r" b="b"/>
              <a:pathLst>
                <a:path w="152" h="62">
                  <a:moveTo>
                    <a:pt x="13" y="0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6" y="22"/>
                  </a:lnTo>
                  <a:lnTo>
                    <a:pt x="7" y="26"/>
                  </a:lnTo>
                  <a:lnTo>
                    <a:pt x="13" y="36"/>
                  </a:lnTo>
                  <a:lnTo>
                    <a:pt x="22" y="45"/>
                  </a:lnTo>
                  <a:lnTo>
                    <a:pt x="32" y="51"/>
                  </a:lnTo>
                  <a:lnTo>
                    <a:pt x="34" y="53"/>
                  </a:lnTo>
                  <a:lnTo>
                    <a:pt x="46" y="58"/>
                  </a:lnTo>
                  <a:lnTo>
                    <a:pt x="59" y="60"/>
                  </a:lnTo>
                  <a:lnTo>
                    <a:pt x="62" y="61"/>
                  </a:lnTo>
                  <a:lnTo>
                    <a:pt x="76" y="62"/>
                  </a:lnTo>
                  <a:lnTo>
                    <a:pt x="90" y="61"/>
                  </a:lnTo>
                  <a:lnTo>
                    <a:pt x="92" y="60"/>
                  </a:lnTo>
                  <a:lnTo>
                    <a:pt x="105" y="58"/>
                  </a:lnTo>
                  <a:lnTo>
                    <a:pt x="118" y="53"/>
                  </a:lnTo>
                  <a:lnTo>
                    <a:pt x="120" y="51"/>
                  </a:lnTo>
                  <a:lnTo>
                    <a:pt x="130" y="45"/>
                  </a:lnTo>
                  <a:lnTo>
                    <a:pt x="138" y="36"/>
                  </a:lnTo>
                  <a:lnTo>
                    <a:pt x="145" y="26"/>
                  </a:lnTo>
                  <a:lnTo>
                    <a:pt x="146" y="22"/>
                  </a:lnTo>
                  <a:lnTo>
                    <a:pt x="150" y="11"/>
                  </a:lnTo>
                  <a:lnTo>
                    <a:pt x="152" y="0"/>
                  </a:lnTo>
                  <a:lnTo>
                    <a:pt x="138" y="0"/>
                  </a:lnTo>
                  <a:lnTo>
                    <a:pt x="137" y="11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35" y="16"/>
                  </a:lnTo>
                  <a:lnTo>
                    <a:pt x="129" y="26"/>
                  </a:lnTo>
                  <a:lnTo>
                    <a:pt x="120" y="35"/>
                  </a:lnTo>
                  <a:lnTo>
                    <a:pt x="110" y="42"/>
                  </a:lnTo>
                  <a:lnTo>
                    <a:pt x="114" y="46"/>
                  </a:lnTo>
                  <a:lnTo>
                    <a:pt x="112" y="40"/>
                  </a:lnTo>
                  <a:lnTo>
                    <a:pt x="100" y="46"/>
                  </a:lnTo>
                  <a:lnTo>
                    <a:pt x="87" y="48"/>
                  </a:lnTo>
                  <a:lnTo>
                    <a:pt x="90" y="55"/>
                  </a:lnTo>
                  <a:lnTo>
                    <a:pt x="90" y="48"/>
                  </a:lnTo>
                  <a:lnTo>
                    <a:pt x="76" y="49"/>
                  </a:lnTo>
                  <a:lnTo>
                    <a:pt x="62" y="48"/>
                  </a:lnTo>
                  <a:lnTo>
                    <a:pt x="62" y="55"/>
                  </a:lnTo>
                  <a:lnTo>
                    <a:pt x="65" y="48"/>
                  </a:lnTo>
                  <a:lnTo>
                    <a:pt x="52" y="46"/>
                  </a:lnTo>
                  <a:lnTo>
                    <a:pt x="40" y="40"/>
                  </a:lnTo>
                  <a:lnTo>
                    <a:pt x="37" y="46"/>
                  </a:lnTo>
                  <a:lnTo>
                    <a:pt x="42" y="42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6"/>
                  </a:lnTo>
                  <a:lnTo>
                    <a:pt x="12" y="22"/>
                  </a:lnTo>
                  <a:lnTo>
                    <a:pt x="19" y="22"/>
                  </a:lnTo>
                  <a:lnTo>
                    <a:pt x="14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2" name=""/>
          <p:cNvSpPr/>
          <p:nvPr/>
        </p:nvSpPr>
        <p:spPr>
          <a:xfrm>
            <a:off x="5916600" y="4834080"/>
            <a:ext cx="571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5972040" y="2610000"/>
            <a:ext cx="708120" cy="652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4" name=""/>
          <p:cNvGrpSpPr/>
          <p:nvPr/>
        </p:nvGrpSpPr>
        <p:grpSpPr>
          <a:xfrm>
            <a:off x="5662440" y="1863720"/>
            <a:ext cx="314280" cy="964800"/>
            <a:chOff x="5662440" y="1863720"/>
            <a:chExt cx="314280" cy="964800"/>
          </a:xfrm>
        </p:grpSpPr>
        <p:sp>
          <p:nvSpPr>
            <p:cNvPr id="2515" name=""/>
            <p:cNvSpPr/>
            <p:nvPr/>
          </p:nvSpPr>
          <p:spPr>
            <a:xfrm>
              <a:off x="5676840" y="1878120"/>
              <a:ext cx="285120" cy="936000"/>
            </a:xfrm>
            <a:custGeom>
              <a:avLst/>
              <a:gdLst/>
              <a:ahLst/>
              <a:rect l="l" t="t" r="r" b="b"/>
              <a:pathLst>
                <a:path w="138" h="454">
                  <a:moveTo>
                    <a:pt x="69" y="0"/>
                  </a:move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lnTo>
                    <a:pt x="0" y="397"/>
                  </a:lnTo>
                  <a:lnTo>
                    <a:pt x="1" y="409"/>
                  </a:lnTo>
                  <a:lnTo>
                    <a:pt x="5" y="419"/>
                  </a:lnTo>
                  <a:lnTo>
                    <a:pt x="12" y="429"/>
                  </a:lnTo>
                  <a:lnTo>
                    <a:pt x="20" y="438"/>
                  </a:lnTo>
                  <a:lnTo>
                    <a:pt x="30" y="444"/>
                  </a:lnTo>
                  <a:lnTo>
                    <a:pt x="41" y="450"/>
                  </a:lnTo>
                  <a:lnTo>
                    <a:pt x="55" y="453"/>
                  </a:lnTo>
                  <a:lnTo>
                    <a:pt x="69" y="454"/>
                  </a:lnTo>
                  <a:lnTo>
                    <a:pt x="83" y="453"/>
                  </a:lnTo>
                  <a:lnTo>
                    <a:pt x="96" y="450"/>
                  </a:lnTo>
                  <a:lnTo>
                    <a:pt x="107" y="444"/>
                  </a:lnTo>
                  <a:lnTo>
                    <a:pt x="118" y="438"/>
                  </a:lnTo>
                  <a:lnTo>
                    <a:pt x="126" y="429"/>
                  </a:lnTo>
                  <a:lnTo>
                    <a:pt x="132" y="419"/>
                  </a:lnTo>
                  <a:lnTo>
                    <a:pt x="137" y="409"/>
                  </a:lnTo>
                  <a:lnTo>
                    <a:pt x="138" y="397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676840" y="1878120"/>
              <a:ext cx="285120" cy="233280"/>
            </a:xfrm>
            <a:custGeom>
              <a:avLst/>
              <a:gdLst/>
              <a:ahLst/>
              <a:rect l="l" t="t" r="r" b="b"/>
              <a:pathLst>
                <a:path w="138" h="113">
                  <a:moveTo>
                    <a:pt x="0" y="57"/>
                  </a:moveTo>
                  <a:lnTo>
                    <a:pt x="1" y="68"/>
                  </a:lnTo>
                  <a:lnTo>
                    <a:pt x="5" y="79"/>
                  </a:lnTo>
                  <a:lnTo>
                    <a:pt x="12" y="88"/>
                  </a:lnTo>
                  <a:lnTo>
                    <a:pt x="20" y="96"/>
                  </a:lnTo>
                  <a:lnTo>
                    <a:pt x="30" y="103"/>
                  </a:lnTo>
                  <a:lnTo>
                    <a:pt x="41" y="108"/>
                  </a:lnTo>
                  <a:lnTo>
                    <a:pt x="55" y="112"/>
                  </a:lnTo>
                  <a:lnTo>
                    <a:pt x="69" y="113"/>
                  </a:lnTo>
                  <a:lnTo>
                    <a:pt x="83" y="112"/>
                  </a:lnTo>
                  <a:lnTo>
                    <a:pt x="96" y="108"/>
                  </a:lnTo>
                  <a:lnTo>
                    <a:pt x="107" y="103"/>
                  </a:lnTo>
                  <a:lnTo>
                    <a:pt x="118" y="96"/>
                  </a:lnTo>
                  <a:lnTo>
                    <a:pt x="126" y="88"/>
                  </a:lnTo>
                  <a:lnTo>
                    <a:pt x="132" y="79"/>
                  </a:lnTo>
                  <a:lnTo>
                    <a:pt x="137" y="68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662440" y="1863720"/>
              <a:ext cx="314280" cy="964800"/>
            </a:xfrm>
            <a:custGeom>
              <a:avLst/>
              <a:gdLst/>
              <a:ahLst/>
              <a:rect l="l" t="t" r="r" b="b"/>
              <a:pathLst>
                <a:path w="152" h="468">
                  <a:moveTo>
                    <a:pt x="62" y="1"/>
                  </a:moveTo>
                  <a:lnTo>
                    <a:pt x="59" y="2"/>
                  </a:lnTo>
                  <a:lnTo>
                    <a:pt x="46" y="6"/>
                  </a:lnTo>
                  <a:lnTo>
                    <a:pt x="34" y="10"/>
                  </a:lnTo>
                  <a:lnTo>
                    <a:pt x="32" y="11"/>
                  </a:lnTo>
                  <a:lnTo>
                    <a:pt x="22" y="19"/>
                  </a:lnTo>
                  <a:lnTo>
                    <a:pt x="13" y="27"/>
                  </a:lnTo>
                  <a:lnTo>
                    <a:pt x="7" y="36"/>
                  </a:lnTo>
                  <a:lnTo>
                    <a:pt x="6" y="42"/>
                  </a:lnTo>
                  <a:lnTo>
                    <a:pt x="1" y="52"/>
                  </a:lnTo>
                  <a:lnTo>
                    <a:pt x="0" y="64"/>
                  </a:lnTo>
                  <a:lnTo>
                    <a:pt x="0" y="404"/>
                  </a:lnTo>
                  <a:lnTo>
                    <a:pt x="1" y="416"/>
                  </a:lnTo>
                  <a:lnTo>
                    <a:pt x="6" y="426"/>
                  </a:lnTo>
                  <a:lnTo>
                    <a:pt x="7" y="432"/>
                  </a:lnTo>
                  <a:lnTo>
                    <a:pt x="13" y="441"/>
                  </a:lnTo>
                  <a:lnTo>
                    <a:pt x="22" y="449"/>
                  </a:lnTo>
                  <a:lnTo>
                    <a:pt x="32" y="457"/>
                  </a:lnTo>
                  <a:lnTo>
                    <a:pt x="34" y="458"/>
                  </a:lnTo>
                  <a:lnTo>
                    <a:pt x="46" y="462"/>
                  </a:lnTo>
                  <a:lnTo>
                    <a:pt x="59" y="466"/>
                  </a:lnTo>
                  <a:lnTo>
                    <a:pt x="62" y="467"/>
                  </a:lnTo>
                  <a:lnTo>
                    <a:pt x="76" y="468"/>
                  </a:lnTo>
                  <a:lnTo>
                    <a:pt x="90" y="467"/>
                  </a:lnTo>
                  <a:lnTo>
                    <a:pt x="92" y="466"/>
                  </a:lnTo>
                  <a:lnTo>
                    <a:pt x="105" y="462"/>
                  </a:lnTo>
                  <a:lnTo>
                    <a:pt x="118" y="458"/>
                  </a:lnTo>
                  <a:lnTo>
                    <a:pt x="120" y="457"/>
                  </a:lnTo>
                  <a:lnTo>
                    <a:pt x="130" y="449"/>
                  </a:lnTo>
                  <a:lnTo>
                    <a:pt x="138" y="441"/>
                  </a:lnTo>
                  <a:lnTo>
                    <a:pt x="145" y="432"/>
                  </a:lnTo>
                  <a:lnTo>
                    <a:pt x="146" y="426"/>
                  </a:lnTo>
                  <a:lnTo>
                    <a:pt x="150" y="416"/>
                  </a:lnTo>
                  <a:lnTo>
                    <a:pt x="152" y="404"/>
                  </a:lnTo>
                  <a:lnTo>
                    <a:pt x="152" y="64"/>
                  </a:lnTo>
                  <a:lnTo>
                    <a:pt x="150" y="52"/>
                  </a:lnTo>
                  <a:lnTo>
                    <a:pt x="146" y="42"/>
                  </a:lnTo>
                  <a:lnTo>
                    <a:pt x="145" y="36"/>
                  </a:lnTo>
                  <a:lnTo>
                    <a:pt x="138" y="27"/>
                  </a:lnTo>
                  <a:lnTo>
                    <a:pt x="130" y="19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05" y="6"/>
                  </a:lnTo>
                  <a:lnTo>
                    <a:pt x="92" y="2"/>
                  </a:lnTo>
                  <a:lnTo>
                    <a:pt x="90" y="1"/>
                  </a:lnTo>
                  <a:lnTo>
                    <a:pt x="76" y="0"/>
                  </a:lnTo>
                  <a:lnTo>
                    <a:pt x="62" y="1"/>
                  </a:lnTo>
                  <a:close/>
                  <a:moveTo>
                    <a:pt x="76" y="13"/>
                  </a:moveTo>
                  <a:lnTo>
                    <a:pt x="90" y="14"/>
                  </a:lnTo>
                  <a:lnTo>
                    <a:pt x="90" y="8"/>
                  </a:lnTo>
                  <a:lnTo>
                    <a:pt x="87" y="14"/>
                  </a:lnTo>
                  <a:lnTo>
                    <a:pt x="100" y="18"/>
                  </a:lnTo>
                  <a:lnTo>
                    <a:pt x="112" y="22"/>
                  </a:lnTo>
                  <a:lnTo>
                    <a:pt x="114" y="17"/>
                  </a:lnTo>
                  <a:lnTo>
                    <a:pt x="110" y="21"/>
                  </a:lnTo>
                  <a:lnTo>
                    <a:pt x="120" y="29"/>
                  </a:lnTo>
                  <a:lnTo>
                    <a:pt x="129" y="36"/>
                  </a:lnTo>
                  <a:lnTo>
                    <a:pt x="135" y="46"/>
                  </a:lnTo>
                  <a:lnTo>
                    <a:pt x="139" y="42"/>
                  </a:lnTo>
                  <a:lnTo>
                    <a:pt x="133" y="42"/>
                  </a:lnTo>
                  <a:lnTo>
                    <a:pt x="137" y="52"/>
                  </a:lnTo>
                  <a:lnTo>
                    <a:pt x="138" y="64"/>
                  </a:lnTo>
                  <a:lnTo>
                    <a:pt x="138" y="404"/>
                  </a:lnTo>
                  <a:lnTo>
                    <a:pt x="137" y="416"/>
                  </a:lnTo>
                  <a:lnTo>
                    <a:pt x="133" y="426"/>
                  </a:lnTo>
                  <a:lnTo>
                    <a:pt x="139" y="426"/>
                  </a:lnTo>
                  <a:lnTo>
                    <a:pt x="135" y="422"/>
                  </a:lnTo>
                  <a:lnTo>
                    <a:pt x="129" y="432"/>
                  </a:lnTo>
                  <a:lnTo>
                    <a:pt x="120" y="439"/>
                  </a:lnTo>
                  <a:lnTo>
                    <a:pt x="110" y="447"/>
                  </a:lnTo>
                  <a:lnTo>
                    <a:pt x="114" y="451"/>
                  </a:lnTo>
                  <a:lnTo>
                    <a:pt x="112" y="446"/>
                  </a:lnTo>
                  <a:lnTo>
                    <a:pt x="100" y="450"/>
                  </a:lnTo>
                  <a:lnTo>
                    <a:pt x="87" y="453"/>
                  </a:lnTo>
                  <a:lnTo>
                    <a:pt x="90" y="460"/>
                  </a:lnTo>
                  <a:lnTo>
                    <a:pt x="90" y="453"/>
                  </a:lnTo>
                  <a:lnTo>
                    <a:pt x="76" y="455"/>
                  </a:lnTo>
                  <a:lnTo>
                    <a:pt x="62" y="453"/>
                  </a:lnTo>
                  <a:lnTo>
                    <a:pt x="62" y="460"/>
                  </a:lnTo>
                  <a:lnTo>
                    <a:pt x="65" y="453"/>
                  </a:lnTo>
                  <a:lnTo>
                    <a:pt x="52" y="450"/>
                  </a:lnTo>
                  <a:lnTo>
                    <a:pt x="40" y="446"/>
                  </a:lnTo>
                  <a:lnTo>
                    <a:pt x="37" y="451"/>
                  </a:lnTo>
                  <a:lnTo>
                    <a:pt x="42" y="447"/>
                  </a:lnTo>
                  <a:lnTo>
                    <a:pt x="32" y="439"/>
                  </a:lnTo>
                  <a:lnTo>
                    <a:pt x="23" y="432"/>
                  </a:lnTo>
                  <a:lnTo>
                    <a:pt x="17" y="422"/>
                  </a:lnTo>
                  <a:lnTo>
                    <a:pt x="12" y="426"/>
                  </a:lnTo>
                  <a:lnTo>
                    <a:pt x="19" y="426"/>
                  </a:lnTo>
                  <a:lnTo>
                    <a:pt x="14" y="416"/>
                  </a:lnTo>
                  <a:lnTo>
                    <a:pt x="13" y="404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2"/>
                  </a:lnTo>
                  <a:lnTo>
                    <a:pt x="12" y="42"/>
                  </a:lnTo>
                  <a:lnTo>
                    <a:pt x="17" y="46"/>
                  </a:lnTo>
                  <a:lnTo>
                    <a:pt x="23" y="36"/>
                  </a:lnTo>
                  <a:lnTo>
                    <a:pt x="32" y="29"/>
                  </a:lnTo>
                  <a:lnTo>
                    <a:pt x="42" y="21"/>
                  </a:lnTo>
                  <a:lnTo>
                    <a:pt x="37" y="17"/>
                  </a:lnTo>
                  <a:lnTo>
                    <a:pt x="40" y="22"/>
                  </a:lnTo>
                  <a:lnTo>
                    <a:pt x="52" y="18"/>
                  </a:lnTo>
                  <a:lnTo>
                    <a:pt x="65" y="14"/>
                  </a:lnTo>
                  <a:lnTo>
                    <a:pt x="62" y="8"/>
                  </a:lnTo>
                  <a:lnTo>
                    <a:pt x="62" y="14"/>
                  </a:lnTo>
                  <a:lnTo>
                    <a:pt x="76" y="1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662440" y="1995840"/>
              <a:ext cx="314280" cy="127440"/>
            </a:xfrm>
            <a:custGeom>
              <a:avLst/>
              <a:gdLst/>
              <a:ahLst/>
              <a:rect l="l" t="t" r="r" b="b"/>
              <a:pathLst>
                <a:path w="152" h="62">
                  <a:moveTo>
                    <a:pt x="13" y="0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6" y="22"/>
                  </a:lnTo>
                  <a:lnTo>
                    <a:pt x="7" y="26"/>
                  </a:lnTo>
                  <a:lnTo>
                    <a:pt x="13" y="36"/>
                  </a:lnTo>
                  <a:lnTo>
                    <a:pt x="22" y="45"/>
                  </a:lnTo>
                  <a:lnTo>
                    <a:pt x="32" y="51"/>
                  </a:lnTo>
                  <a:lnTo>
                    <a:pt x="34" y="53"/>
                  </a:lnTo>
                  <a:lnTo>
                    <a:pt x="46" y="58"/>
                  </a:lnTo>
                  <a:lnTo>
                    <a:pt x="59" y="60"/>
                  </a:lnTo>
                  <a:lnTo>
                    <a:pt x="62" y="61"/>
                  </a:lnTo>
                  <a:lnTo>
                    <a:pt x="76" y="62"/>
                  </a:lnTo>
                  <a:lnTo>
                    <a:pt x="90" y="61"/>
                  </a:lnTo>
                  <a:lnTo>
                    <a:pt x="92" y="60"/>
                  </a:lnTo>
                  <a:lnTo>
                    <a:pt x="105" y="58"/>
                  </a:lnTo>
                  <a:lnTo>
                    <a:pt x="118" y="53"/>
                  </a:lnTo>
                  <a:lnTo>
                    <a:pt x="120" y="51"/>
                  </a:lnTo>
                  <a:lnTo>
                    <a:pt x="130" y="45"/>
                  </a:lnTo>
                  <a:lnTo>
                    <a:pt x="138" y="36"/>
                  </a:lnTo>
                  <a:lnTo>
                    <a:pt x="145" y="26"/>
                  </a:lnTo>
                  <a:lnTo>
                    <a:pt x="146" y="22"/>
                  </a:lnTo>
                  <a:lnTo>
                    <a:pt x="150" y="11"/>
                  </a:lnTo>
                  <a:lnTo>
                    <a:pt x="152" y="0"/>
                  </a:lnTo>
                  <a:lnTo>
                    <a:pt x="138" y="0"/>
                  </a:lnTo>
                  <a:lnTo>
                    <a:pt x="137" y="11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35" y="16"/>
                  </a:lnTo>
                  <a:lnTo>
                    <a:pt x="129" y="26"/>
                  </a:lnTo>
                  <a:lnTo>
                    <a:pt x="120" y="35"/>
                  </a:lnTo>
                  <a:lnTo>
                    <a:pt x="110" y="42"/>
                  </a:lnTo>
                  <a:lnTo>
                    <a:pt x="114" y="46"/>
                  </a:lnTo>
                  <a:lnTo>
                    <a:pt x="112" y="40"/>
                  </a:lnTo>
                  <a:lnTo>
                    <a:pt x="100" y="46"/>
                  </a:lnTo>
                  <a:lnTo>
                    <a:pt x="87" y="48"/>
                  </a:lnTo>
                  <a:lnTo>
                    <a:pt x="90" y="55"/>
                  </a:lnTo>
                  <a:lnTo>
                    <a:pt x="90" y="48"/>
                  </a:lnTo>
                  <a:lnTo>
                    <a:pt x="76" y="49"/>
                  </a:lnTo>
                  <a:lnTo>
                    <a:pt x="62" y="48"/>
                  </a:lnTo>
                  <a:lnTo>
                    <a:pt x="62" y="55"/>
                  </a:lnTo>
                  <a:lnTo>
                    <a:pt x="65" y="48"/>
                  </a:lnTo>
                  <a:lnTo>
                    <a:pt x="52" y="46"/>
                  </a:lnTo>
                  <a:lnTo>
                    <a:pt x="40" y="40"/>
                  </a:lnTo>
                  <a:lnTo>
                    <a:pt x="37" y="46"/>
                  </a:lnTo>
                  <a:lnTo>
                    <a:pt x="42" y="42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6"/>
                  </a:lnTo>
                  <a:lnTo>
                    <a:pt x="12" y="22"/>
                  </a:lnTo>
                  <a:lnTo>
                    <a:pt x="19" y="22"/>
                  </a:lnTo>
                  <a:lnTo>
                    <a:pt x="14" y="11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9" name=""/>
          <p:cNvSpPr/>
          <p:nvPr/>
        </p:nvSpPr>
        <p:spPr>
          <a:xfrm flipV="1">
            <a:off x="5816520" y="4660560"/>
            <a:ext cx="0" cy="16002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5581800" y="5433840"/>
            <a:ext cx="461880" cy="452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V="1">
            <a:off x="6032520" y="5117760"/>
            <a:ext cx="0" cy="13590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 flipV="1">
            <a:off x="5575320" y="5117760"/>
            <a:ext cx="0" cy="13590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V="1">
            <a:off x="5803920" y="1333440"/>
            <a:ext cx="0" cy="7495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6480000" y="4967280"/>
            <a:ext cx="708120" cy="652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5" name=""/>
          <p:cNvGrpSpPr/>
          <p:nvPr/>
        </p:nvGrpSpPr>
        <p:grpSpPr>
          <a:xfrm>
            <a:off x="7135920" y="4870440"/>
            <a:ext cx="286920" cy="1004400"/>
            <a:chOff x="7135920" y="4870440"/>
            <a:chExt cx="286920" cy="1004400"/>
          </a:xfrm>
        </p:grpSpPr>
        <p:sp>
          <p:nvSpPr>
            <p:cNvPr id="2526" name=""/>
            <p:cNvSpPr/>
            <p:nvPr/>
          </p:nvSpPr>
          <p:spPr>
            <a:xfrm>
              <a:off x="7150320" y="4882320"/>
              <a:ext cx="258120" cy="980280"/>
            </a:xfrm>
            <a:custGeom>
              <a:avLst/>
              <a:gdLst/>
              <a:ahLst/>
              <a:rect l="l" t="t" r="r" b="b"/>
              <a:pathLst>
                <a:path w="125" h="475">
                  <a:moveTo>
                    <a:pt x="62" y="0"/>
                  </a:moveTo>
                  <a:lnTo>
                    <a:pt x="50" y="2"/>
                  </a:lnTo>
                  <a:lnTo>
                    <a:pt x="38" y="5"/>
                  </a:lnTo>
                  <a:lnTo>
                    <a:pt x="27" y="10"/>
                  </a:lnTo>
                  <a:lnTo>
                    <a:pt x="19" y="18"/>
                  </a:lnTo>
                  <a:lnTo>
                    <a:pt x="11" y="27"/>
                  </a:lnTo>
                  <a:lnTo>
                    <a:pt x="5" y="37"/>
                  </a:lnTo>
                  <a:lnTo>
                    <a:pt x="1" y="48"/>
                  </a:lnTo>
                  <a:lnTo>
                    <a:pt x="0" y="60"/>
                  </a:lnTo>
                  <a:lnTo>
                    <a:pt x="0" y="415"/>
                  </a:lnTo>
                  <a:lnTo>
                    <a:pt x="1" y="427"/>
                  </a:lnTo>
                  <a:lnTo>
                    <a:pt x="5" y="438"/>
                  </a:lnTo>
                  <a:lnTo>
                    <a:pt x="11" y="448"/>
                  </a:lnTo>
                  <a:lnTo>
                    <a:pt x="19" y="457"/>
                  </a:lnTo>
                  <a:lnTo>
                    <a:pt x="27" y="465"/>
                  </a:lnTo>
                  <a:lnTo>
                    <a:pt x="38" y="470"/>
                  </a:lnTo>
                  <a:lnTo>
                    <a:pt x="50" y="473"/>
                  </a:lnTo>
                  <a:lnTo>
                    <a:pt x="62" y="475"/>
                  </a:lnTo>
                  <a:lnTo>
                    <a:pt x="75" y="473"/>
                  </a:lnTo>
                  <a:lnTo>
                    <a:pt x="87" y="470"/>
                  </a:lnTo>
                  <a:lnTo>
                    <a:pt x="98" y="465"/>
                  </a:lnTo>
                  <a:lnTo>
                    <a:pt x="106" y="457"/>
                  </a:lnTo>
                  <a:lnTo>
                    <a:pt x="114" y="448"/>
                  </a:lnTo>
                  <a:lnTo>
                    <a:pt x="119" y="438"/>
                  </a:lnTo>
                  <a:lnTo>
                    <a:pt x="124" y="427"/>
                  </a:lnTo>
                  <a:lnTo>
                    <a:pt x="125" y="415"/>
                  </a:lnTo>
                  <a:lnTo>
                    <a:pt x="125" y="60"/>
                  </a:lnTo>
                  <a:lnTo>
                    <a:pt x="124" y="48"/>
                  </a:lnTo>
                  <a:lnTo>
                    <a:pt x="119" y="37"/>
                  </a:lnTo>
                  <a:lnTo>
                    <a:pt x="114" y="27"/>
                  </a:lnTo>
                  <a:lnTo>
                    <a:pt x="106" y="18"/>
                  </a:lnTo>
                  <a:lnTo>
                    <a:pt x="98" y="10"/>
                  </a:lnTo>
                  <a:lnTo>
                    <a:pt x="87" y="5"/>
                  </a:lnTo>
                  <a:lnTo>
                    <a:pt x="75" y="2"/>
                  </a:lnTo>
                  <a:lnTo>
                    <a:pt x="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150320" y="4882320"/>
              <a:ext cx="258120" cy="2455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60"/>
                  </a:moveTo>
                  <a:lnTo>
                    <a:pt x="1" y="72"/>
                  </a:lnTo>
                  <a:lnTo>
                    <a:pt x="5" y="83"/>
                  </a:lnTo>
                  <a:lnTo>
                    <a:pt x="11" y="93"/>
                  </a:lnTo>
                  <a:lnTo>
                    <a:pt x="19" y="101"/>
                  </a:lnTo>
                  <a:lnTo>
                    <a:pt x="27" y="109"/>
                  </a:lnTo>
                  <a:lnTo>
                    <a:pt x="38" y="115"/>
                  </a:lnTo>
                  <a:lnTo>
                    <a:pt x="50" y="118"/>
                  </a:lnTo>
                  <a:lnTo>
                    <a:pt x="62" y="119"/>
                  </a:lnTo>
                  <a:lnTo>
                    <a:pt x="75" y="118"/>
                  </a:lnTo>
                  <a:lnTo>
                    <a:pt x="87" y="115"/>
                  </a:lnTo>
                  <a:lnTo>
                    <a:pt x="98" y="109"/>
                  </a:lnTo>
                  <a:lnTo>
                    <a:pt x="106" y="101"/>
                  </a:lnTo>
                  <a:lnTo>
                    <a:pt x="114" y="93"/>
                  </a:lnTo>
                  <a:lnTo>
                    <a:pt x="119" y="83"/>
                  </a:lnTo>
                  <a:lnTo>
                    <a:pt x="124" y="72"/>
                  </a:lnTo>
                  <a:lnTo>
                    <a:pt x="125" y="60"/>
                  </a:lnTo>
                  <a:lnTo>
                    <a:pt x="124" y="48"/>
                  </a:lnTo>
                  <a:lnTo>
                    <a:pt x="119" y="37"/>
                  </a:lnTo>
                  <a:lnTo>
                    <a:pt x="114" y="27"/>
                  </a:lnTo>
                  <a:lnTo>
                    <a:pt x="106" y="18"/>
                  </a:lnTo>
                  <a:lnTo>
                    <a:pt x="98" y="10"/>
                  </a:lnTo>
                  <a:lnTo>
                    <a:pt x="87" y="5"/>
                  </a:lnTo>
                  <a:lnTo>
                    <a:pt x="75" y="2"/>
                  </a:lnTo>
                  <a:lnTo>
                    <a:pt x="62" y="0"/>
                  </a:lnTo>
                  <a:lnTo>
                    <a:pt x="50" y="2"/>
                  </a:lnTo>
                  <a:lnTo>
                    <a:pt x="38" y="5"/>
                  </a:lnTo>
                  <a:lnTo>
                    <a:pt x="27" y="10"/>
                  </a:lnTo>
                  <a:lnTo>
                    <a:pt x="19" y="18"/>
                  </a:lnTo>
                  <a:lnTo>
                    <a:pt x="11" y="27"/>
                  </a:lnTo>
                  <a:lnTo>
                    <a:pt x="5" y="37"/>
                  </a:lnTo>
                  <a:lnTo>
                    <a:pt x="1" y="48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135920" y="4870440"/>
              <a:ext cx="286920" cy="1004400"/>
            </a:xfrm>
            <a:custGeom>
              <a:avLst/>
              <a:gdLst/>
              <a:ahLst/>
              <a:rect l="l" t="t" r="r" b="b"/>
              <a:pathLst>
                <a:path w="139" h="487">
                  <a:moveTo>
                    <a:pt x="57" y="1"/>
                  </a:moveTo>
                  <a:lnTo>
                    <a:pt x="54" y="2"/>
                  </a:lnTo>
                  <a:lnTo>
                    <a:pt x="43" y="5"/>
                  </a:lnTo>
                  <a:lnTo>
                    <a:pt x="32" y="11"/>
                  </a:lnTo>
                  <a:lnTo>
                    <a:pt x="30" y="12"/>
                  </a:lnTo>
                  <a:lnTo>
                    <a:pt x="20" y="19"/>
                  </a:lnTo>
                  <a:lnTo>
                    <a:pt x="12" y="27"/>
                  </a:lnTo>
                  <a:lnTo>
                    <a:pt x="7" y="37"/>
                  </a:lnTo>
                  <a:lnTo>
                    <a:pt x="6" y="43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421"/>
                  </a:lnTo>
                  <a:lnTo>
                    <a:pt x="1" y="433"/>
                  </a:lnTo>
                  <a:lnTo>
                    <a:pt x="6" y="444"/>
                  </a:lnTo>
                  <a:lnTo>
                    <a:pt x="7" y="450"/>
                  </a:lnTo>
                  <a:lnTo>
                    <a:pt x="12" y="460"/>
                  </a:lnTo>
                  <a:lnTo>
                    <a:pt x="20" y="469"/>
                  </a:lnTo>
                  <a:lnTo>
                    <a:pt x="30" y="475"/>
                  </a:lnTo>
                  <a:lnTo>
                    <a:pt x="32" y="476"/>
                  </a:lnTo>
                  <a:lnTo>
                    <a:pt x="43" y="482"/>
                  </a:lnTo>
                  <a:lnTo>
                    <a:pt x="54" y="485"/>
                  </a:lnTo>
                  <a:lnTo>
                    <a:pt x="57" y="486"/>
                  </a:lnTo>
                  <a:lnTo>
                    <a:pt x="69" y="487"/>
                  </a:lnTo>
                  <a:lnTo>
                    <a:pt x="82" y="486"/>
                  </a:lnTo>
                  <a:lnTo>
                    <a:pt x="85" y="485"/>
                  </a:lnTo>
                  <a:lnTo>
                    <a:pt x="97" y="482"/>
                  </a:lnTo>
                  <a:lnTo>
                    <a:pt x="107" y="476"/>
                  </a:lnTo>
                  <a:lnTo>
                    <a:pt x="109" y="475"/>
                  </a:lnTo>
                  <a:lnTo>
                    <a:pt x="119" y="469"/>
                  </a:lnTo>
                  <a:lnTo>
                    <a:pt x="126" y="460"/>
                  </a:lnTo>
                  <a:lnTo>
                    <a:pt x="132" y="450"/>
                  </a:lnTo>
                  <a:lnTo>
                    <a:pt x="133" y="444"/>
                  </a:lnTo>
                  <a:lnTo>
                    <a:pt x="137" y="433"/>
                  </a:lnTo>
                  <a:lnTo>
                    <a:pt x="139" y="421"/>
                  </a:lnTo>
                  <a:lnTo>
                    <a:pt x="139" y="66"/>
                  </a:lnTo>
                  <a:lnTo>
                    <a:pt x="137" y="54"/>
                  </a:lnTo>
                  <a:lnTo>
                    <a:pt x="133" y="43"/>
                  </a:lnTo>
                  <a:lnTo>
                    <a:pt x="132" y="37"/>
                  </a:lnTo>
                  <a:lnTo>
                    <a:pt x="126" y="27"/>
                  </a:lnTo>
                  <a:lnTo>
                    <a:pt x="119" y="19"/>
                  </a:lnTo>
                  <a:lnTo>
                    <a:pt x="109" y="12"/>
                  </a:lnTo>
                  <a:lnTo>
                    <a:pt x="107" y="11"/>
                  </a:lnTo>
                  <a:lnTo>
                    <a:pt x="97" y="5"/>
                  </a:lnTo>
                  <a:lnTo>
                    <a:pt x="85" y="2"/>
                  </a:lnTo>
                  <a:lnTo>
                    <a:pt x="82" y="1"/>
                  </a:lnTo>
                  <a:lnTo>
                    <a:pt x="69" y="0"/>
                  </a:lnTo>
                  <a:lnTo>
                    <a:pt x="57" y="1"/>
                  </a:lnTo>
                  <a:close/>
                  <a:moveTo>
                    <a:pt x="69" y="13"/>
                  </a:moveTo>
                  <a:lnTo>
                    <a:pt x="82" y="14"/>
                  </a:lnTo>
                  <a:lnTo>
                    <a:pt x="82" y="8"/>
                  </a:lnTo>
                  <a:lnTo>
                    <a:pt x="79" y="14"/>
                  </a:lnTo>
                  <a:lnTo>
                    <a:pt x="91" y="17"/>
                  </a:lnTo>
                  <a:lnTo>
                    <a:pt x="101" y="23"/>
                  </a:lnTo>
                  <a:lnTo>
                    <a:pt x="105" y="16"/>
                  </a:lnTo>
                  <a:lnTo>
                    <a:pt x="99" y="22"/>
                  </a:lnTo>
                  <a:lnTo>
                    <a:pt x="109" y="28"/>
                  </a:lnTo>
                  <a:lnTo>
                    <a:pt x="117" y="37"/>
                  </a:lnTo>
                  <a:lnTo>
                    <a:pt x="122" y="47"/>
                  </a:lnTo>
                  <a:lnTo>
                    <a:pt x="126" y="43"/>
                  </a:lnTo>
                  <a:lnTo>
                    <a:pt x="120" y="43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5" y="421"/>
                  </a:lnTo>
                  <a:lnTo>
                    <a:pt x="124" y="433"/>
                  </a:lnTo>
                  <a:lnTo>
                    <a:pt x="120" y="444"/>
                  </a:lnTo>
                  <a:lnTo>
                    <a:pt x="126" y="444"/>
                  </a:lnTo>
                  <a:lnTo>
                    <a:pt x="122" y="440"/>
                  </a:lnTo>
                  <a:lnTo>
                    <a:pt x="117" y="450"/>
                  </a:lnTo>
                  <a:lnTo>
                    <a:pt x="109" y="459"/>
                  </a:lnTo>
                  <a:lnTo>
                    <a:pt x="99" y="465"/>
                  </a:lnTo>
                  <a:lnTo>
                    <a:pt x="105" y="471"/>
                  </a:lnTo>
                  <a:lnTo>
                    <a:pt x="101" y="464"/>
                  </a:lnTo>
                  <a:lnTo>
                    <a:pt x="91" y="470"/>
                  </a:lnTo>
                  <a:lnTo>
                    <a:pt x="79" y="473"/>
                  </a:lnTo>
                  <a:lnTo>
                    <a:pt x="82" y="479"/>
                  </a:lnTo>
                  <a:lnTo>
                    <a:pt x="82" y="473"/>
                  </a:lnTo>
                  <a:lnTo>
                    <a:pt x="69" y="474"/>
                  </a:lnTo>
                  <a:lnTo>
                    <a:pt x="57" y="473"/>
                  </a:lnTo>
                  <a:lnTo>
                    <a:pt x="57" y="479"/>
                  </a:lnTo>
                  <a:lnTo>
                    <a:pt x="60" y="473"/>
                  </a:lnTo>
                  <a:lnTo>
                    <a:pt x="49" y="470"/>
                  </a:lnTo>
                  <a:lnTo>
                    <a:pt x="38" y="464"/>
                  </a:lnTo>
                  <a:lnTo>
                    <a:pt x="34" y="471"/>
                  </a:lnTo>
                  <a:lnTo>
                    <a:pt x="40" y="465"/>
                  </a:lnTo>
                  <a:lnTo>
                    <a:pt x="30" y="459"/>
                  </a:lnTo>
                  <a:lnTo>
                    <a:pt x="22" y="450"/>
                  </a:lnTo>
                  <a:lnTo>
                    <a:pt x="17" y="440"/>
                  </a:lnTo>
                  <a:lnTo>
                    <a:pt x="12" y="444"/>
                  </a:lnTo>
                  <a:lnTo>
                    <a:pt x="19" y="444"/>
                  </a:lnTo>
                  <a:lnTo>
                    <a:pt x="15" y="433"/>
                  </a:lnTo>
                  <a:lnTo>
                    <a:pt x="14" y="421"/>
                  </a:lnTo>
                  <a:lnTo>
                    <a:pt x="14" y="66"/>
                  </a:lnTo>
                  <a:lnTo>
                    <a:pt x="15" y="54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17" y="47"/>
                  </a:lnTo>
                  <a:lnTo>
                    <a:pt x="22" y="37"/>
                  </a:lnTo>
                  <a:lnTo>
                    <a:pt x="30" y="28"/>
                  </a:lnTo>
                  <a:lnTo>
                    <a:pt x="40" y="22"/>
                  </a:lnTo>
                  <a:lnTo>
                    <a:pt x="34" y="16"/>
                  </a:lnTo>
                  <a:lnTo>
                    <a:pt x="38" y="23"/>
                  </a:lnTo>
                  <a:lnTo>
                    <a:pt x="49" y="17"/>
                  </a:lnTo>
                  <a:lnTo>
                    <a:pt x="60" y="14"/>
                  </a:lnTo>
                  <a:lnTo>
                    <a:pt x="57" y="8"/>
                  </a:lnTo>
                  <a:lnTo>
                    <a:pt x="57" y="14"/>
                  </a:lnTo>
                  <a:lnTo>
                    <a:pt x="69" y="1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135920" y="5006520"/>
              <a:ext cx="286920" cy="13608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4" y="0"/>
                  </a:moveTo>
                  <a:lnTo>
                    <a:pt x="0" y="0"/>
                  </a:lnTo>
                  <a:lnTo>
                    <a:pt x="1" y="12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12" y="38"/>
                  </a:lnTo>
                  <a:lnTo>
                    <a:pt x="20" y="47"/>
                  </a:lnTo>
                  <a:lnTo>
                    <a:pt x="30" y="54"/>
                  </a:lnTo>
                  <a:lnTo>
                    <a:pt x="32" y="55"/>
                  </a:lnTo>
                  <a:lnTo>
                    <a:pt x="43" y="60"/>
                  </a:lnTo>
                  <a:lnTo>
                    <a:pt x="54" y="63"/>
                  </a:lnTo>
                  <a:lnTo>
                    <a:pt x="57" y="64"/>
                  </a:lnTo>
                  <a:lnTo>
                    <a:pt x="69" y="66"/>
                  </a:lnTo>
                  <a:lnTo>
                    <a:pt x="82" y="64"/>
                  </a:lnTo>
                  <a:lnTo>
                    <a:pt x="85" y="63"/>
                  </a:lnTo>
                  <a:lnTo>
                    <a:pt x="97" y="60"/>
                  </a:lnTo>
                  <a:lnTo>
                    <a:pt x="107" y="55"/>
                  </a:lnTo>
                  <a:lnTo>
                    <a:pt x="109" y="54"/>
                  </a:lnTo>
                  <a:lnTo>
                    <a:pt x="119" y="47"/>
                  </a:lnTo>
                  <a:lnTo>
                    <a:pt x="126" y="38"/>
                  </a:lnTo>
                  <a:lnTo>
                    <a:pt x="132" y="28"/>
                  </a:lnTo>
                  <a:lnTo>
                    <a:pt x="133" y="23"/>
                  </a:lnTo>
                  <a:lnTo>
                    <a:pt x="137" y="12"/>
                  </a:lnTo>
                  <a:lnTo>
                    <a:pt x="139" y="0"/>
                  </a:lnTo>
                  <a:lnTo>
                    <a:pt x="125" y="0"/>
                  </a:lnTo>
                  <a:lnTo>
                    <a:pt x="124" y="12"/>
                  </a:lnTo>
                  <a:lnTo>
                    <a:pt x="120" y="23"/>
                  </a:lnTo>
                  <a:lnTo>
                    <a:pt x="126" y="23"/>
                  </a:lnTo>
                  <a:lnTo>
                    <a:pt x="122" y="18"/>
                  </a:lnTo>
                  <a:lnTo>
                    <a:pt x="117" y="28"/>
                  </a:lnTo>
                  <a:lnTo>
                    <a:pt x="109" y="37"/>
                  </a:lnTo>
                  <a:lnTo>
                    <a:pt x="99" y="44"/>
                  </a:lnTo>
                  <a:lnTo>
                    <a:pt x="105" y="49"/>
                  </a:lnTo>
                  <a:lnTo>
                    <a:pt x="101" y="43"/>
                  </a:lnTo>
                  <a:lnTo>
                    <a:pt x="91" y="48"/>
                  </a:lnTo>
                  <a:lnTo>
                    <a:pt x="79" y="51"/>
                  </a:lnTo>
                  <a:lnTo>
                    <a:pt x="82" y="58"/>
                  </a:lnTo>
                  <a:lnTo>
                    <a:pt x="82" y="51"/>
                  </a:lnTo>
                  <a:lnTo>
                    <a:pt x="69" y="52"/>
                  </a:lnTo>
                  <a:lnTo>
                    <a:pt x="57" y="51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49" y="48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40" y="44"/>
                  </a:lnTo>
                  <a:lnTo>
                    <a:pt x="30" y="37"/>
                  </a:lnTo>
                  <a:lnTo>
                    <a:pt x="22" y="28"/>
                  </a:lnTo>
                  <a:lnTo>
                    <a:pt x="17" y="18"/>
                  </a:lnTo>
                  <a:lnTo>
                    <a:pt x="12" y="23"/>
                  </a:lnTo>
                  <a:lnTo>
                    <a:pt x="19" y="23"/>
                  </a:lnTo>
                  <a:lnTo>
                    <a:pt x="15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0" name=""/>
          <p:cNvSpPr/>
          <p:nvPr/>
        </p:nvSpPr>
        <p:spPr>
          <a:xfrm>
            <a:off x="7286760" y="4624560"/>
            <a:ext cx="1440" cy="4888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7289640" y="5892840"/>
            <a:ext cx="0" cy="4064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2" name=""/>
          <p:cNvGrpSpPr/>
          <p:nvPr/>
        </p:nvGrpSpPr>
        <p:grpSpPr>
          <a:xfrm>
            <a:off x="6230880" y="4897440"/>
            <a:ext cx="286920" cy="1004400"/>
            <a:chOff x="6230880" y="4897440"/>
            <a:chExt cx="286920" cy="1004400"/>
          </a:xfrm>
        </p:grpSpPr>
        <p:sp>
          <p:nvSpPr>
            <p:cNvPr id="2533" name=""/>
            <p:cNvSpPr/>
            <p:nvPr/>
          </p:nvSpPr>
          <p:spPr>
            <a:xfrm>
              <a:off x="6245280" y="4911840"/>
              <a:ext cx="258480" cy="977760"/>
            </a:xfrm>
            <a:custGeom>
              <a:avLst/>
              <a:gdLst/>
              <a:ahLst/>
              <a:rect l="l" t="t" r="r" b="b"/>
              <a:pathLst>
                <a:path w="125" h="474">
                  <a:moveTo>
                    <a:pt x="62" y="0"/>
                  </a:moveTo>
                  <a:lnTo>
                    <a:pt x="50" y="1"/>
                  </a:lnTo>
                  <a:lnTo>
                    <a:pt x="38" y="4"/>
                  </a:lnTo>
                  <a:lnTo>
                    <a:pt x="27" y="10"/>
                  </a:lnTo>
                  <a:lnTo>
                    <a:pt x="19" y="17"/>
                  </a:lnTo>
                  <a:lnTo>
                    <a:pt x="11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414"/>
                  </a:lnTo>
                  <a:lnTo>
                    <a:pt x="1" y="427"/>
                  </a:lnTo>
                  <a:lnTo>
                    <a:pt x="5" y="438"/>
                  </a:lnTo>
                  <a:lnTo>
                    <a:pt x="11" y="447"/>
                  </a:lnTo>
                  <a:lnTo>
                    <a:pt x="19" y="456"/>
                  </a:lnTo>
                  <a:lnTo>
                    <a:pt x="27" y="464"/>
                  </a:lnTo>
                  <a:lnTo>
                    <a:pt x="38" y="469"/>
                  </a:lnTo>
                  <a:lnTo>
                    <a:pt x="50" y="473"/>
                  </a:lnTo>
                  <a:lnTo>
                    <a:pt x="62" y="474"/>
                  </a:lnTo>
                  <a:lnTo>
                    <a:pt x="75" y="473"/>
                  </a:lnTo>
                  <a:lnTo>
                    <a:pt x="87" y="469"/>
                  </a:lnTo>
                  <a:lnTo>
                    <a:pt x="98" y="464"/>
                  </a:lnTo>
                  <a:lnTo>
                    <a:pt x="106" y="456"/>
                  </a:lnTo>
                  <a:lnTo>
                    <a:pt x="114" y="447"/>
                  </a:lnTo>
                  <a:lnTo>
                    <a:pt x="120" y="438"/>
                  </a:lnTo>
                  <a:lnTo>
                    <a:pt x="124" y="427"/>
                  </a:lnTo>
                  <a:lnTo>
                    <a:pt x="125" y="414"/>
                  </a:lnTo>
                  <a:lnTo>
                    <a:pt x="125" y="59"/>
                  </a:lnTo>
                  <a:lnTo>
                    <a:pt x="124" y="47"/>
                  </a:lnTo>
                  <a:lnTo>
                    <a:pt x="120" y="36"/>
                  </a:lnTo>
                  <a:lnTo>
                    <a:pt x="114" y="26"/>
                  </a:lnTo>
                  <a:lnTo>
                    <a:pt x="106" y="17"/>
                  </a:lnTo>
                  <a:lnTo>
                    <a:pt x="98" y="10"/>
                  </a:lnTo>
                  <a:lnTo>
                    <a:pt x="87" y="4"/>
                  </a:lnTo>
                  <a:lnTo>
                    <a:pt x="75" y="1"/>
                  </a:lnTo>
                  <a:lnTo>
                    <a:pt x="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245280" y="4911840"/>
              <a:ext cx="258480" cy="24300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59"/>
                  </a:moveTo>
                  <a:lnTo>
                    <a:pt x="1" y="71"/>
                  </a:lnTo>
                  <a:lnTo>
                    <a:pt x="5" y="82"/>
                  </a:lnTo>
                  <a:lnTo>
                    <a:pt x="11" y="92"/>
                  </a:lnTo>
                  <a:lnTo>
                    <a:pt x="19" y="101"/>
                  </a:lnTo>
                  <a:lnTo>
                    <a:pt x="27" y="108"/>
                  </a:lnTo>
                  <a:lnTo>
                    <a:pt x="38" y="114"/>
                  </a:lnTo>
                  <a:lnTo>
                    <a:pt x="50" y="117"/>
                  </a:lnTo>
                  <a:lnTo>
                    <a:pt x="62" y="118"/>
                  </a:lnTo>
                  <a:lnTo>
                    <a:pt x="75" y="117"/>
                  </a:lnTo>
                  <a:lnTo>
                    <a:pt x="87" y="114"/>
                  </a:lnTo>
                  <a:lnTo>
                    <a:pt x="98" y="108"/>
                  </a:lnTo>
                  <a:lnTo>
                    <a:pt x="106" y="101"/>
                  </a:lnTo>
                  <a:lnTo>
                    <a:pt x="114" y="92"/>
                  </a:lnTo>
                  <a:lnTo>
                    <a:pt x="120" y="82"/>
                  </a:lnTo>
                  <a:lnTo>
                    <a:pt x="124" y="71"/>
                  </a:lnTo>
                  <a:lnTo>
                    <a:pt x="125" y="59"/>
                  </a:lnTo>
                  <a:lnTo>
                    <a:pt x="124" y="47"/>
                  </a:lnTo>
                  <a:lnTo>
                    <a:pt x="120" y="36"/>
                  </a:lnTo>
                  <a:lnTo>
                    <a:pt x="114" y="26"/>
                  </a:lnTo>
                  <a:lnTo>
                    <a:pt x="106" y="17"/>
                  </a:lnTo>
                  <a:lnTo>
                    <a:pt x="98" y="10"/>
                  </a:lnTo>
                  <a:lnTo>
                    <a:pt x="87" y="4"/>
                  </a:lnTo>
                  <a:lnTo>
                    <a:pt x="75" y="1"/>
                  </a:lnTo>
                  <a:lnTo>
                    <a:pt x="62" y="0"/>
                  </a:lnTo>
                  <a:lnTo>
                    <a:pt x="50" y="1"/>
                  </a:lnTo>
                  <a:lnTo>
                    <a:pt x="38" y="4"/>
                  </a:lnTo>
                  <a:lnTo>
                    <a:pt x="27" y="10"/>
                  </a:lnTo>
                  <a:lnTo>
                    <a:pt x="19" y="17"/>
                  </a:lnTo>
                  <a:lnTo>
                    <a:pt x="11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230880" y="4897440"/>
              <a:ext cx="286920" cy="1004400"/>
            </a:xfrm>
            <a:custGeom>
              <a:avLst/>
              <a:gdLst/>
              <a:ahLst/>
              <a:rect l="l" t="t" r="r" b="b"/>
              <a:pathLst>
                <a:path w="139" h="487">
                  <a:moveTo>
                    <a:pt x="57" y="1"/>
                  </a:moveTo>
                  <a:lnTo>
                    <a:pt x="54" y="2"/>
                  </a:lnTo>
                  <a:lnTo>
                    <a:pt x="43" y="6"/>
                  </a:lnTo>
                  <a:lnTo>
                    <a:pt x="32" y="11"/>
                  </a:lnTo>
                  <a:lnTo>
                    <a:pt x="30" y="12"/>
                  </a:lnTo>
                  <a:lnTo>
                    <a:pt x="20" y="19"/>
                  </a:lnTo>
                  <a:lnTo>
                    <a:pt x="12" y="27"/>
                  </a:lnTo>
                  <a:lnTo>
                    <a:pt x="7" y="37"/>
                  </a:lnTo>
                  <a:lnTo>
                    <a:pt x="6" y="43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421"/>
                  </a:lnTo>
                  <a:lnTo>
                    <a:pt x="1" y="434"/>
                  </a:lnTo>
                  <a:lnTo>
                    <a:pt x="6" y="445"/>
                  </a:lnTo>
                  <a:lnTo>
                    <a:pt x="7" y="450"/>
                  </a:lnTo>
                  <a:lnTo>
                    <a:pt x="12" y="460"/>
                  </a:lnTo>
                  <a:lnTo>
                    <a:pt x="20" y="469"/>
                  </a:lnTo>
                  <a:lnTo>
                    <a:pt x="30" y="475"/>
                  </a:lnTo>
                  <a:lnTo>
                    <a:pt x="32" y="476"/>
                  </a:lnTo>
                  <a:lnTo>
                    <a:pt x="43" y="482"/>
                  </a:lnTo>
                  <a:lnTo>
                    <a:pt x="54" y="485"/>
                  </a:lnTo>
                  <a:lnTo>
                    <a:pt x="57" y="486"/>
                  </a:lnTo>
                  <a:lnTo>
                    <a:pt x="69" y="487"/>
                  </a:lnTo>
                  <a:lnTo>
                    <a:pt x="82" y="486"/>
                  </a:lnTo>
                  <a:lnTo>
                    <a:pt x="85" y="485"/>
                  </a:lnTo>
                  <a:lnTo>
                    <a:pt x="97" y="482"/>
                  </a:lnTo>
                  <a:lnTo>
                    <a:pt x="107" y="476"/>
                  </a:lnTo>
                  <a:lnTo>
                    <a:pt x="109" y="475"/>
                  </a:lnTo>
                  <a:lnTo>
                    <a:pt x="119" y="469"/>
                  </a:lnTo>
                  <a:lnTo>
                    <a:pt x="127" y="460"/>
                  </a:lnTo>
                  <a:lnTo>
                    <a:pt x="132" y="450"/>
                  </a:lnTo>
                  <a:lnTo>
                    <a:pt x="133" y="445"/>
                  </a:lnTo>
                  <a:lnTo>
                    <a:pt x="137" y="434"/>
                  </a:lnTo>
                  <a:lnTo>
                    <a:pt x="139" y="421"/>
                  </a:lnTo>
                  <a:lnTo>
                    <a:pt x="139" y="66"/>
                  </a:lnTo>
                  <a:lnTo>
                    <a:pt x="137" y="54"/>
                  </a:lnTo>
                  <a:lnTo>
                    <a:pt x="133" y="43"/>
                  </a:lnTo>
                  <a:lnTo>
                    <a:pt x="132" y="37"/>
                  </a:lnTo>
                  <a:lnTo>
                    <a:pt x="127" y="27"/>
                  </a:lnTo>
                  <a:lnTo>
                    <a:pt x="119" y="19"/>
                  </a:lnTo>
                  <a:lnTo>
                    <a:pt x="109" y="12"/>
                  </a:lnTo>
                  <a:lnTo>
                    <a:pt x="107" y="11"/>
                  </a:lnTo>
                  <a:lnTo>
                    <a:pt x="97" y="6"/>
                  </a:lnTo>
                  <a:lnTo>
                    <a:pt x="85" y="2"/>
                  </a:lnTo>
                  <a:lnTo>
                    <a:pt x="82" y="1"/>
                  </a:lnTo>
                  <a:lnTo>
                    <a:pt x="69" y="0"/>
                  </a:lnTo>
                  <a:lnTo>
                    <a:pt x="57" y="1"/>
                  </a:lnTo>
                  <a:close/>
                  <a:moveTo>
                    <a:pt x="69" y="13"/>
                  </a:moveTo>
                  <a:lnTo>
                    <a:pt x="82" y="14"/>
                  </a:lnTo>
                  <a:lnTo>
                    <a:pt x="82" y="8"/>
                  </a:lnTo>
                  <a:lnTo>
                    <a:pt x="79" y="14"/>
                  </a:lnTo>
                  <a:lnTo>
                    <a:pt x="91" y="18"/>
                  </a:lnTo>
                  <a:lnTo>
                    <a:pt x="101" y="23"/>
                  </a:lnTo>
                  <a:lnTo>
                    <a:pt x="105" y="17"/>
                  </a:lnTo>
                  <a:lnTo>
                    <a:pt x="99" y="22"/>
                  </a:lnTo>
                  <a:lnTo>
                    <a:pt x="109" y="29"/>
                  </a:lnTo>
                  <a:lnTo>
                    <a:pt x="117" y="37"/>
                  </a:lnTo>
                  <a:lnTo>
                    <a:pt x="122" y="47"/>
                  </a:lnTo>
                  <a:lnTo>
                    <a:pt x="127" y="43"/>
                  </a:lnTo>
                  <a:lnTo>
                    <a:pt x="120" y="43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5" y="421"/>
                  </a:lnTo>
                  <a:lnTo>
                    <a:pt x="124" y="434"/>
                  </a:lnTo>
                  <a:lnTo>
                    <a:pt x="120" y="445"/>
                  </a:lnTo>
                  <a:lnTo>
                    <a:pt x="127" y="445"/>
                  </a:lnTo>
                  <a:lnTo>
                    <a:pt x="122" y="440"/>
                  </a:lnTo>
                  <a:lnTo>
                    <a:pt x="117" y="450"/>
                  </a:lnTo>
                  <a:lnTo>
                    <a:pt x="109" y="459"/>
                  </a:lnTo>
                  <a:lnTo>
                    <a:pt x="99" y="465"/>
                  </a:lnTo>
                  <a:lnTo>
                    <a:pt x="105" y="471"/>
                  </a:lnTo>
                  <a:lnTo>
                    <a:pt x="101" y="464"/>
                  </a:lnTo>
                  <a:lnTo>
                    <a:pt x="91" y="470"/>
                  </a:lnTo>
                  <a:lnTo>
                    <a:pt x="79" y="473"/>
                  </a:lnTo>
                  <a:lnTo>
                    <a:pt x="82" y="480"/>
                  </a:lnTo>
                  <a:lnTo>
                    <a:pt x="82" y="473"/>
                  </a:lnTo>
                  <a:lnTo>
                    <a:pt x="69" y="474"/>
                  </a:lnTo>
                  <a:lnTo>
                    <a:pt x="57" y="473"/>
                  </a:lnTo>
                  <a:lnTo>
                    <a:pt x="57" y="480"/>
                  </a:lnTo>
                  <a:lnTo>
                    <a:pt x="60" y="473"/>
                  </a:lnTo>
                  <a:lnTo>
                    <a:pt x="49" y="470"/>
                  </a:lnTo>
                  <a:lnTo>
                    <a:pt x="38" y="464"/>
                  </a:lnTo>
                  <a:lnTo>
                    <a:pt x="34" y="471"/>
                  </a:lnTo>
                  <a:lnTo>
                    <a:pt x="40" y="465"/>
                  </a:lnTo>
                  <a:lnTo>
                    <a:pt x="30" y="459"/>
                  </a:lnTo>
                  <a:lnTo>
                    <a:pt x="22" y="450"/>
                  </a:lnTo>
                  <a:lnTo>
                    <a:pt x="17" y="440"/>
                  </a:lnTo>
                  <a:lnTo>
                    <a:pt x="12" y="445"/>
                  </a:lnTo>
                  <a:lnTo>
                    <a:pt x="19" y="445"/>
                  </a:lnTo>
                  <a:lnTo>
                    <a:pt x="15" y="434"/>
                  </a:lnTo>
                  <a:lnTo>
                    <a:pt x="14" y="421"/>
                  </a:lnTo>
                  <a:lnTo>
                    <a:pt x="14" y="66"/>
                  </a:lnTo>
                  <a:lnTo>
                    <a:pt x="15" y="54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17" y="47"/>
                  </a:lnTo>
                  <a:lnTo>
                    <a:pt x="22" y="37"/>
                  </a:lnTo>
                  <a:lnTo>
                    <a:pt x="30" y="29"/>
                  </a:lnTo>
                  <a:lnTo>
                    <a:pt x="40" y="22"/>
                  </a:lnTo>
                  <a:lnTo>
                    <a:pt x="34" y="17"/>
                  </a:lnTo>
                  <a:lnTo>
                    <a:pt x="38" y="23"/>
                  </a:lnTo>
                  <a:lnTo>
                    <a:pt x="49" y="18"/>
                  </a:lnTo>
                  <a:lnTo>
                    <a:pt x="60" y="14"/>
                  </a:lnTo>
                  <a:lnTo>
                    <a:pt x="57" y="8"/>
                  </a:lnTo>
                  <a:lnTo>
                    <a:pt x="57" y="14"/>
                  </a:lnTo>
                  <a:lnTo>
                    <a:pt x="69" y="1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230880" y="5033520"/>
              <a:ext cx="286920" cy="13608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4" y="0"/>
                  </a:moveTo>
                  <a:lnTo>
                    <a:pt x="0" y="0"/>
                  </a:lnTo>
                  <a:lnTo>
                    <a:pt x="1" y="12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12" y="38"/>
                  </a:lnTo>
                  <a:lnTo>
                    <a:pt x="20" y="47"/>
                  </a:lnTo>
                  <a:lnTo>
                    <a:pt x="30" y="54"/>
                  </a:lnTo>
                  <a:lnTo>
                    <a:pt x="32" y="55"/>
                  </a:lnTo>
                  <a:lnTo>
                    <a:pt x="43" y="60"/>
                  </a:lnTo>
                  <a:lnTo>
                    <a:pt x="54" y="64"/>
                  </a:lnTo>
                  <a:lnTo>
                    <a:pt x="57" y="65"/>
                  </a:lnTo>
                  <a:lnTo>
                    <a:pt x="69" y="66"/>
                  </a:lnTo>
                  <a:lnTo>
                    <a:pt x="82" y="65"/>
                  </a:lnTo>
                  <a:lnTo>
                    <a:pt x="85" y="64"/>
                  </a:lnTo>
                  <a:lnTo>
                    <a:pt x="97" y="60"/>
                  </a:lnTo>
                  <a:lnTo>
                    <a:pt x="107" y="55"/>
                  </a:lnTo>
                  <a:lnTo>
                    <a:pt x="109" y="54"/>
                  </a:lnTo>
                  <a:lnTo>
                    <a:pt x="119" y="47"/>
                  </a:lnTo>
                  <a:lnTo>
                    <a:pt x="127" y="38"/>
                  </a:lnTo>
                  <a:lnTo>
                    <a:pt x="132" y="28"/>
                  </a:lnTo>
                  <a:lnTo>
                    <a:pt x="133" y="23"/>
                  </a:lnTo>
                  <a:lnTo>
                    <a:pt x="137" y="12"/>
                  </a:lnTo>
                  <a:lnTo>
                    <a:pt x="139" y="0"/>
                  </a:lnTo>
                  <a:lnTo>
                    <a:pt x="125" y="0"/>
                  </a:lnTo>
                  <a:lnTo>
                    <a:pt x="124" y="12"/>
                  </a:lnTo>
                  <a:lnTo>
                    <a:pt x="120" y="23"/>
                  </a:lnTo>
                  <a:lnTo>
                    <a:pt x="127" y="23"/>
                  </a:lnTo>
                  <a:lnTo>
                    <a:pt x="122" y="19"/>
                  </a:lnTo>
                  <a:lnTo>
                    <a:pt x="117" y="28"/>
                  </a:lnTo>
                  <a:lnTo>
                    <a:pt x="109" y="37"/>
                  </a:lnTo>
                  <a:lnTo>
                    <a:pt x="99" y="44"/>
                  </a:lnTo>
                  <a:lnTo>
                    <a:pt x="105" y="49"/>
                  </a:lnTo>
                  <a:lnTo>
                    <a:pt x="101" y="43"/>
                  </a:lnTo>
                  <a:lnTo>
                    <a:pt x="91" y="48"/>
                  </a:lnTo>
                  <a:lnTo>
                    <a:pt x="79" y="51"/>
                  </a:lnTo>
                  <a:lnTo>
                    <a:pt x="82" y="58"/>
                  </a:lnTo>
                  <a:lnTo>
                    <a:pt x="82" y="51"/>
                  </a:lnTo>
                  <a:lnTo>
                    <a:pt x="69" y="53"/>
                  </a:lnTo>
                  <a:lnTo>
                    <a:pt x="57" y="51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49" y="48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40" y="44"/>
                  </a:lnTo>
                  <a:lnTo>
                    <a:pt x="30" y="37"/>
                  </a:lnTo>
                  <a:lnTo>
                    <a:pt x="22" y="28"/>
                  </a:lnTo>
                  <a:lnTo>
                    <a:pt x="17" y="19"/>
                  </a:lnTo>
                  <a:lnTo>
                    <a:pt x="12" y="23"/>
                  </a:lnTo>
                  <a:lnTo>
                    <a:pt x="19" y="23"/>
                  </a:lnTo>
                  <a:lnTo>
                    <a:pt x="15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7" name=""/>
          <p:cNvSpPr/>
          <p:nvPr/>
        </p:nvSpPr>
        <p:spPr>
          <a:xfrm>
            <a:off x="6384960" y="4649760"/>
            <a:ext cx="1440" cy="4888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375240" y="5905440"/>
            <a:ext cx="0" cy="4064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116040" y="1459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5452"/>
                </a:solidFill>
                <a:latin typeface="Trebuchet MS"/>
              </a:rPr>
              <a:t>CF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592240" y="993600"/>
            <a:ext cx="4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5618880" y="42829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2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393880" y="485784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176520" y="630540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5934960" y="4870440"/>
            <a:ext cx="2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7217640" y="6305400"/>
            <a:ext cx="2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V="1">
            <a:off x="5168880" y="1727280"/>
            <a:ext cx="0" cy="30859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400480" y="1320840"/>
            <a:ext cx="1511280" cy="48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41360" y="1382760"/>
            <a:ext cx="370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des cryp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ôle basal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ptation active de 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cotransport 2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/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/ K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ôle apic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rtie de 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par canal CFTR (régulé+ par AM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008320" y="139068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864680" y="101448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 / sécrétion d’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écrétion d’ea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"/>
          <p:cNvSpPr/>
          <p:nvPr/>
        </p:nvSpPr>
        <p:spPr>
          <a:xfrm>
            <a:off x="466560" y="1301760"/>
            <a:ext cx="814104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gonistes activant la sécrétion : VIP (AM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c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 ; ACh (C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holéra : infection par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Vibrio choler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oxines : activateur irréversible de la adénylate cyclas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AM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vation des CFTR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ortie de 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ortie d’eau : diarrhée (10 à 20 L/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shydratation, hypovolémie, acidose métabolique…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mort (50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ose cystique : mutation du CFTR (population USA : 1/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omozygote : mucovisci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étérozygote : plus grande résistance au vibrion cholé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dulation de la sécrétion d’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1" name=""/>
          <p:cNvGraphicFramePr/>
          <p:nvPr/>
        </p:nvGraphicFramePr>
        <p:xfrm>
          <a:off x="511200" y="1281240"/>
          <a:ext cx="7996320" cy="5155920"/>
        </p:xfrm>
        <a:graphic>
          <a:graphicData uri="http://schemas.openxmlformats.org/drawingml/2006/table">
            <a:tbl>
              <a:tblPr/>
              <a:tblGrid>
                <a:gridCol w="2343240"/>
                <a:gridCol w="3191040"/>
                <a:gridCol w="24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écré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absor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ellules épithél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éroton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omatostat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gastr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neurotens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lamina prop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métabolites de l’A. ara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ist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latelet-activating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bradykin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neur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noradréna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éroton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neuropeptid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V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ubstance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V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adréna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stagland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orticostéroï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eptide atrial natriurét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minéralocorticoï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alciton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angiotens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dulation de la sécrétion d’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"/>
          <p:cNvSpPr/>
          <p:nvPr/>
        </p:nvSpPr>
        <p:spPr>
          <a:xfrm>
            <a:off x="441360" y="933480"/>
            <a:ext cx="830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activité du TD :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rganisation de base : plan commun à la plupart des Métazo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rande variations de fonctionnement (liée à la variabilité du mili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écanismes complexes : motilité, sécrétion, digestion, ab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pacité d’ajustement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ise de nourriture non 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tat physiologique : effort, croissance, grossess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dulation complexe : nerveuse, humorale, parac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ombreuses interconnexion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u sein du système diges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vec d’autres systèmes : régulation de la volémie, du pH, de la calcémie, de la kaliémi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41760" y="127080"/>
            <a:ext cx="180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37040" y="1177920"/>
            <a:ext cx="40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séreu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ouche conjonctive externe, sécrétion a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92840" y="2665440"/>
            <a:ext cx="49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sculeus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lisse)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une couche de muscle longitudinal (exter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une couche de muscle circulaire (inter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43280" y="1400040"/>
            <a:ext cx="1390680" cy="46692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94600" y="257976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70480" y="308124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sous-muqueu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tissu conjonctif, vaisseaux sanguins et lympha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43280" y="1400040"/>
            <a:ext cx="2104920" cy="1143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94600" y="257976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90280" y="29750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431800" y="345276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62320" y="3722760"/>
            <a:ext cx="481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queu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épithéliales, exocrines et endo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queuse musculaire :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dification de la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19800" y="3257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431800" y="317340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43280" y="1400040"/>
            <a:ext cx="2286000" cy="15336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94600" y="257976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53280" y="3537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épithé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717640" y="3719520"/>
            <a:ext cx="9590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90280" y="29750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431800" y="345276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19800" y="3257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431800" y="317340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43280" y="1400040"/>
            <a:ext cx="2286000" cy="218124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607200" y="524340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lexus myentérique (ou d’Auerb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33040" y="472608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lexus sous-muqueux (ou de Meissn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384280" y="494820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384280" y="542124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94600" y="257976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3280" y="3537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épithé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17640" y="3719520"/>
            <a:ext cx="9590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90280" y="29750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431800" y="345276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9800" y="3257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431800" y="317340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43280" y="1400040"/>
            <a:ext cx="2286000" cy="258156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05440" y="4200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système nerveux intrinsèqu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3960" y="1490760"/>
            <a:ext cx="186156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48960" y="1484280"/>
            <a:ext cx="179604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4120920" y="2134800"/>
            <a:ext cx="546120" cy="26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89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18600" y="4151160"/>
            <a:ext cx="61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efférentes : tronc cérébral / moelle épin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afférentes : chémorécepteurs, mécan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04440" y="3305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80"/>
                </a:solidFill>
                <a:latin typeface="Trebuchet MS"/>
              </a:rPr>
              <a:t>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0480" y="1636560"/>
            <a:ext cx="28098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76680" y="2019240"/>
            <a:ext cx="0" cy="1143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092560" y="2006640"/>
            <a:ext cx="0" cy="129528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11160" y="5413320"/>
            <a:ext cx="71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SN auton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67680" y="11448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7360" y="880920"/>
            <a:ext cx="802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besoins énergétiques tissulaires / cell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stituants tissulaires / cell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nimaux : hétérotrop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ource de composés organiques extérie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7360" y="2709720"/>
            <a:ext cx="80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bsorption d’aliments ; production et absorption de nut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6440" y="3324240"/>
            <a:ext cx="7949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xydation de nutri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duction d’énergie / de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/ consommation d’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6440" y="4226040"/>
            <a:ext cx="81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utilisation des nutriments comme constituants cell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sommation d’é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5153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dratation :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absorption d’eau (pas toujours nécessa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6320" y="1490760"/>
            <a:ext cx="19746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1200" y="4110120"/>
            <a:ext cx="857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erf vague : oesophage, estomac, intestin grêle, pancréas, gros intestin prox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erf pelvien : gros intestin distal, rectum, 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04280" y="1509840"/>
            <a:ext cx="135576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tronc céréb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5960" y="2274840"/>
            <a:ext cx="147924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oëlle épin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43480" y="1681200"/>
            <a:ext cx="425160" cy="150804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39840" y="2471760"/>
            <a:ext cx="1521000" cy="72396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70440" y="17874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v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71960" y="218772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pelv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4120920" y="2134800"/>
            <a:ext cx="546120" cy="26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89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56160" y="1484280"/>
            <a:ext cx="427356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parasympathi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timula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04440" y="3305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80"/>
                </a:solidFill>
                <a:latin typeface="Trebuchet MS"/>
              </a:rPr>
              <a:t>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N parasympath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6320" y="1490760"/>
            <a:ext cx="19746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3420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parasympathiques préganglionnair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ynapses dans les plexus sous-muqueux et myenté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postganglionnaires :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ML ; C. exocrines ; C. endo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05960" y="2274840"/>
            <a:ext cx="147924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oëlle épin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9840" y="2471760"/>
            <a:ext cx="1521000" cy="72396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70440" y="17874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v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71960" y="218772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pelv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56160" y="1484280"/>
            <a:ext cx="427356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parasympathi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timula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386800" y="4654440"/>
            <a:ext cx="77364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24960" y="4654440"/>
            <a:ext cx="10800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écré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62280" y="4654440"/>
            <a:ext cx="11088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endo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806560" y="4332240"/>
            <a:ext cx="2181240" cy="317520"/>
            <a:chOff x="2806560" y="4332240"/>
            <a:chExt cx="2181240" cy="317520"/>
          </a:xfrm>
        </p:grpSpPr>
        <p:sp>
          <p:nvSpPr>
            <p:cNvPr id="448" name=""/>
            <p:cNvSpPr/>
            <p:nvPr/>
          </p:nvSpPr>
          <p:spPr>
            <a:xfrm>
              <a:off x="2806560" y="4332240"/>
              <a:ext cx="0" cy="30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63880" y="4338000"/>
              <a:ext cx="0" cy="300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87800" y="4338000"/>
              <a:ext cx="0" cy="31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73640" y="3614760"/>
            <a:ext cx="125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46560" y="3614760"/>
            <a:ext cx="1427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N parasympath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04280" y="1509840"/>
            <a:ext cx="135576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tronc céréb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43480" y="1681200"/>
            <a:ext cx="425160" cy="150804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5089320" y="1498680"/>
            <a:ext cx="22230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93280" y="2314440"/>
            <a:ext cx="22291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ganglions sympath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59600" y="1811160"/>
            <a:ext cx="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2637000"/>
            <a:ext cx="0" cy="330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53200" y="2951280"/>
            <a:ext cx="1422360" cy="228600"/>
          </a:xfrm>
          <a:custGeom>
            <a:avLst/>
            <a:gdLst/>
            <a:ahLst/>
            <a:rect l="l" t="t" r="r" b="b"/>
            <a:pathLst>
              <a:path w="504" h="510">
                <a:moveTo>
                  <a:pt x="504" y="0"/>
                </a:moveTo>
                <a:lnTo>
                  <a:pt x="0" y="0"/>
                </a:lnTo>
                <a:lnTo>
                  <a:pt x="0" y="51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17960" y="266400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ost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3240" y="187956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ré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6200000">
            <a:off x="4120920" y="2134800"/>
            <a:ext cx="546120" cy="26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89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39600" y="1484280"/>
            <a:ext cx="191052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04440" y="3305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80"/>
                </a:solidFill>
                <a:latin typeface="Trebuchet MS"/>
              </a:rPr>
              <a:t>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9840" y="1674720"/>
            <a:ext cx="37908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sympath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hibi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273800" y="725400"/>
            <a:ext cx="1797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N sympath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089320" y="1498680"/>
            <a:ext cx="22230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93280" y="2314440"/>
            <a:ext cx="22291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ganglions sympath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59600" y="1811160"/>
            <a:ext cx="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2637000"/>
            <a:ext cx="0" cy="1981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53200" y="2951280"/>
            <a:ext cx="1422360" cy="228600"/>
          </a:xfrm>
          <a:custGeom>
            <a:avLst/>
            <a:gdLst/>
            <a:ahLst/>
            <a:rect l="l" t="t" r="r" b="b"/>
            <a:pathLst>
              <a:path w="504" h="510">
                <a:moveTo>
                  <a:pt x="504" y="0"/>
                </a:moveTo>
                <a:lnTo>
                  <a:pt x="0" y="0"/>
                </a:lnTo>
                <a:lnTo>
                  <a:pt x="0" y="51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17960" y="266400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ost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13240" y="187956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ré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239600" y="1484280"/>
            <a:ext cx="191052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9840" y="5052960"/>
            <a:ext cx="84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préganglionnair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part T8-L2 ; synapses dans les ganglions prévertéb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postganglionnaires : plexus sous-muqueux et myentérique (+ vaisseaux sanguins, quelques C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9840" y="1674720"/>
            <a:ext cx="37908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sympath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hibi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73640" y="3614760"/>
            <a:ext cx="125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246560" y="3614760"/>
            <a:ext cx="1427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86120" y="383076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776760" y="397512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73720" y="4654440"/>
            <a:ext cx="9928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vaiss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angu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273800" y="725400"/>
            <a:ext cx="1797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N sympath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87640" y="325584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73640" y="3614760"/>
            <a:ext cx="125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46560" y="3614760"/>
            <a:ext cx="1427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86120" y="383076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776760" y="397512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86800" y="4654440"/>
            <a:ext cx="77364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24960" y="4654440"/>
            <a:ext cx="10800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écré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62280" y="4654440"/>
            <a:ext cx="11088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endo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73720" y="4654440"/>
            <a:ext cx="9928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vaiss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angu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806560" y="4332240"/>
            <a:ext cx="2181240" cy="317520"/>
            <a:chOff x="2806560" y="4332240"/>
            <a:chExt cx="2181240" cy="317520"/>
          </a:xfrm>
        </p:grpSpPr>
        <p:sp>
          <p:nvSpPr>
            <p:cNvPr id="509" name=""/>
            <p:cNvSpPr/>
            <p:nvPr/>
          </p:nvSpPr>
          <p:spPr>
            <a:xfrm>
              <a:off x="2806560" y="4332240"/>
              <a:ext cx="0" cy="30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63880" y="4338000"/>
              <a:ext cx="0" cy="300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87800" y="4338000"/>
              <a:ext cx="0" cy="31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921280" y="3817800"/>
            <a:ext cx="546120" cy="809640"/>
          </a:xfrm>
          <a:custGeom>
            <a:avLst/>
            <a:gdLst/>
            <a:ahLst/>
            <a:rect l="l" t="t" r="r" b="b"/>
            <a:pathLst>
              <a:path w="144" h="654">
                <a:moveTo>
                  <a:pt x="0" y="0"/>
                </a:moveTo>
                <a:lnTo>
                  <a:pt x="144" y="0"/>
                </a:lnTo>
                <a:lnTo>
                  <a:pt x="144" y="65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4600" y="1319040"/>
            <a:ext cx="3502080" cy="181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plexus myentérique (Auerb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tilité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97440" y="1319040"/>
            <a:ext cx="514656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plexus sous-muqueux (Meiss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bit sangu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tilité et sécrétion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is de l’information en provenance du S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flexes loc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in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705960" y="2274840"/>
            <a:ext cx="147924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oëlle épin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7640" y="325584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73640" y="3614760"/>
            <a:ext cx="125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46560" y="3614760"/>
            <a:ext cx="1427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786120" y="383076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776760" y="397512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7560" y="1517760"/>
            <a:ext cx="165744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79000" y="1511280"/>
            <a:ext cx="159804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9840" y="2471760"/>
            <a:ext cx="1521000" cy="72396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71960" y="218772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pelv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89320" y="1498680"/>
            <a:ext cx="22230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93280" y="2314440"/>
            <a:ext cx="22291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ganglions sympath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59600" y="1811160"/>
            <a:ext cx="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86800" y="4654440"/>
            <a:ext cx="77364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24960" y="4654440"/>
            <a:ext cx="10800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écré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62280" y="4654440"/>
            <a:ext cx="11088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endo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273720" y="4654440"/>
            <a:ext cx="9928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vaiss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angu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781680" y="2637000"/>
            <a:ext cx="0" cy="20192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53200" y="2951280"/>
            <a:ext cx="1422360" cy="228600"/>
          </a:xfrm>
          <a:custGeom>
            <a:avLst/>
            <a:gdLst/>
            <a:ahLst/>
            <a:rect l="l" t="t" r="r" b="b"/>
            <a:pathLst>
              <a:path w="504" h="510">
                <a:moveTo>
                  <a:pt x="504" y="0"/>
                </a:moveTo>
                <a:lnTo>
                  <a:pt x="0" y="0"/>
                </a:lnTo>
                <a:lnTo>
                  <a:pt x="0" y="51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806560" y="4332240"/>
            <a:ext cx="2181240" cy="317520"/>
            <a:chOff x="2806560" y="4332240"/>
            <a:chExt cx="2181240" cy="317520"/>
          </a:xfrm>
        </p:grpSpPr>
        <p:sp>
          <p:nvSpPr>
            <p:cNvPr id="540" name=""/>
            <p:cNvSpPr/>
            <p:nvPr/>
          </p:nvSpPr>
          <p:spPr>
            <a:xfrm>
              <a:off x="2806560" y="4332240"/>
              <a:ext cx="0" cy="30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63880" y="4338000"/>
              <a:ext cx="0" cy="300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87800" y="4338000"/>
              <a:ext cx="0" cy="31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5921280" y="3817800"/>
            <a:ext cx="546120" cy="809640"/>
          </a:xfrm>
          <a:custGeom>
            <a:avLst/>
            <a:gdLst/>
            <a:ahLst/>
            <a:rect l="l" t="t" r="r" b="b"/>
            <a:pathLst>
              <a:path w="144" h="654">
                <a:moveTo>
                  <a:pt x="0" y="0"/>
                </a:moveTo>
                <a:lnTo>
                  <a:pt x="144" y="0"/>
                </a:lnTo>
                <a:lnTo>
                  <a:pt x="144" y="65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17960" y="266400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ost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13240" y="187956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ré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54520" y="5419800"/>
            <a:ext cx="1247400" cy="672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mot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péristal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seg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21440" y="5419800"/>
            <a:ext cx="953280" cy="106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sécré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HCO</a:t>
            </a:r>
            <a:r>
              <a:rPr b="1" lang="fr-FR" sz="1200" spc="-1" strike="noStrike" baseline="-25000">
                <a:solidFill>
                  <a:srgbClr val="000099"/>
                </a:solidFill>
                <a:latin typeface="Trebuchet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59400" y="5410080"/>
            <a:ext cx="2205000" cy="1219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horm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gast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cholécyctokinine (C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sécré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peptide inhibiteur gastrique (G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67720" y="5437080"/>
            <a:ext cx="1326600" cy="307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débit sangu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06560" y="5186520"/>
            <a:ext cx="0" cy="247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41920" y="5186520"/>
            <a:ext cx="0" cy="247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70600" y="5186520"/>
            <a:ext cx="0" cy="247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061040" y="518652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200" y="682560"/>
            <a:ext cx="534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trôle nerveux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9840" y="4341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71720" y="69840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chéma géné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04280" y="1509840"/>
            <a:ext cx="135576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tronc céréb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43480" y="1681200"/>
            <a:ext cx="425160" cy="150804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070440" y="17874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v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519000" y="1512720"/>
            <a:ext cx="2809800" cy="368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60600" y="2930400"/>
            <a:ext cx="2336760" cy="11494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plexus myenté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plexus sous-muqu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216320" y="3371760"/>
            <a:ext cx="0" cy="3049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4857840" y="3362040"/>
            <a:ext cx="0" cy="3142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37080" y="1936800"/>
            <a:ext cx="0" cy="968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8640" y="3222720"/>
            <a:ext cx="20811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77320" y="3218040"/>
            <a:ext cx="2506320" cy="1310760"/>
          </a:xfrm>
          <a:prstGeom prst="rect">
            <a:avLst/>
          </a:prstGeom>
          <a:gradFill rotWithShape="0">
            <a:gsLst>
              <a:gs pos="0">
                <a:srgbClr val="fec49d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usculeuse exte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uqueuse muscul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ellules endocr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ellules sécrét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vaisseaux sangu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37080" y="2352600"/>
            <a:ext cx="3079800" cy="857160"/>
          </a:xfrm>
          <a:custGeom>
            <a:avLst/>
            <a:gdLst/>
            <a:ahLst/>
            <a:rect l="l" t="t" r="r" b="b"/>
            <a:pathLst>
              <a:path w="1008" h="1044">
                <a:moveTo>
                  <a:pt x="0" y="0"/>
                </a:moveTo>
                <a:lnTo>
                  <a:pt x="1008" y="0"/>
                </a:lnTo>
                <a:lnTo>
                  <a:pt x="1008" y="10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35040" y="1800360"/>
            <a:ext cx="2040120" cy="1427040"/>
          </a:xfrm>
          <a:custGeom>
            <a:avLst/>
            <a:gdLst/>
            <a:ahLst/>
            <a:rect l="l" t="t" r="r" b="b"/>
            <a:pathLst>
              <a:path w="666" h="1536">
                <a:moveTo>
                  <a:pt x="0" y="1536"/>
                </a:moveTo>
                <a:lnTo>
                  <a:pt x="0" y="0"/>
                </a:lnTo>
                <a:lnTo>
                  <a:pt x="66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0160" y="1424160"/>
            <a:ext cx="23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afférences vagales 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splan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557600" y="1978200"/>
            <a:ext cx="26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efférences sympath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et parasympath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16160" y="3956040"/>
            <a:ext cx="19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afférences lo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05040" y="3517920"/>
            <a:ext cx="635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95920" y="3517920"/>
            <a:ext cx="635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5800" y="4651200"/>
            <a:ext cx="820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hémorécepteurs, mécanorécepteur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queuse, musculeuse exte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orps cellulair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lexus myentérique et sous-muque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onnections axonales avec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des plexus : réflexes loc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ystème nerveux central : réflexes cent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7200" y="682560"/>
            <a:ext cx="534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ies réflexes centrales et locales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579240" y="1192320"/>
            <a:ext cx="71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éristaltisme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1093680" y="2185920"/>
            <a:ext cx="2278080" cy="2898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5197320" y="2195640"/>
            <a:ext cx="2141640" cy="288432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2158920" y="3200400"/>
            <a:ext cx="0" cy="1460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50040" y="347976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50040" y="28954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7200" y="682560"/>
            <a:ext cx="534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éristaltisme et seg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19200" y="130644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 muscle lisse gastro-intestinal = effecteur de la mot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625320" y="2185920"/>
            <a:ext cx="2548080" cy="36910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521160" y="4232160"/>
            <a:ext cx="9428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34200" y="419112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jonction « gap 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873520" y="2468520"/>
            <a:ext cx="1000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5120" y="237816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ilament interméd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67000" y="3081240"/>
            <a:ext cx="966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18000" y="306864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yofil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28840" y="3662280"/>
            <a:ext cx="138600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06120" y="3583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jonction m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éc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73440" y="5060880"/>
            <a:ext cx="898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71240" y="50706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rps d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487520" y="257652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1881360" y="3252960"/>
            <a:ext cx="8474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109600" y="3773520"/>
            <a:ext cx="6397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901520" y="4357800"/>
            <a:ext cx="8478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408040" y="5272200"/>
            <a:ext cx="7966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4120" y="2830680"/>
            <a:ext cx="342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e muscle lisse gastro-intestinal =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scle lisse mono-un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ppareil contractil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0240" y="5929200"/>
            <a:ext cx="47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schéma de l’organisation du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737280" y="1571760"/>
            <a:ext cx="778860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les muscle lisses pluri-unitai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as de potentiel d'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as de propagation électrique de cellule à cell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action t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ex : les myocytes des voies aériennes (réactivité bronch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les muscles lisses mono-unitai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jonctions de cellule à cell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ransmission  d'un potentiel d'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action phas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1" i="1" lang="fr-FR" sz="2000" spc="-1" strike="noStrike">
                <a:solidFill>
                  <a:srgbClr val="990000"/>
                </a:solidFill>
                <a:latin typeface="Trebuchet MS"/>
              </a:rPr>
              <a:t>ex : myocytes responsables du péristaltisme intest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ppareil contractil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79520" y="1071720"/>
            <a:ext cx="763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gestion (au sens lar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= réponse au problème de la fourniture en nut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ransformation des aliments en nutriments assimil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limination des déchets : éléments non dig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+ élimination des produits du catabolis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67680" y="11448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240" y="4444920"/>
            <a:ext cx="631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structures spécialisées et leur fonctionnemen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système diges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800" y="4381560"/>
            <a:ext cx="7137360" cy="87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161360" y="1414440"/>
            <a:ext cx="19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2+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+ calmodu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5160" y="140796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a-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43560" y="343548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c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615840" y="3708360"/>
            <a:ext cx="6253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04720" y="2104920"/>
            <a:ext cx="852480" cy="274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MLC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905280" y="2770200"/>
            <a:ext cx="1386000" cy="541080"/>
            <a:chOff x="3905280" y="2770200"/>
            <a:chExt cx="1386000" cy="541080"/>
          </a:xfrm>
        </p:grpSpPr>
        <p:grpSp>
          <p:nvGrpSpPr>
            <p:cNvPr id="626" name=""/>
            <p:cNvGrpSpPr/>
            <p:nvPr/>
          </p:nvGrpSpPr>
          <p:grpSpPr>
            <a:xfrm>
              <a:off x="4583160" y="2770200"/>
              <a:ext cx="708120" cy="541080"/>
              <a:chOff x="4583160" y="2770200"/>
              <a:chExt cx="708120" cy="541080"/>
            </a:xfrm>
          </p:grpSpPr>
          <p:sp>
            <p:nvSpPr>
              <p:cNvPr id="627" name=""/>
              <p:cNvSpPr/>
              <p:nvPr/>
            </p:nvSpPr>
            <p:spPr>
              <a:xfrm>
                <a:off x="4583160" y="2770200"/>
                <a:ext cx="671760" cy="473040"/>
              </a:xfrm>
              <a:custGeom>
                <a:avLst/>
                <a:gdLst/>
                <a:ahLst/>
                <a:rect l="l" t="t" r="r" b="b"/>
                <a:pathLst>
                  <a:path w="848" h="596">
                    <a:moveTo>
                      <a:pt x="0" y="0"/>
                    </a:moveTo>
                    <a:lnTo>
                      <a:pt x="41" y="1"/>
                    </a:lnTo>
                    <a:lnTo>
                      <a:pt x="81" y="3"/>
                    </a:lnTo>
                    <a:lnTo>
                      <a:pt x="120" y="7"/>
                    </a:lnTo>
                    <a:lnTo>
                      <a:pt x="160" y="12"/>
                    </a:lnTo>
                    <a:lnTo>
                      <a:pt x="198" y="19"/>
                    </a:lnTo>
                    <a:lnTo>
                      <a:pt x="235" y="26"/>
                    </a:lnTo>
                    <a:lnTo>
                      <a:pt x="273" y="36"/>
                    </a:lnTo>
                    <a:lnTo>
                      <a:pt x="309" y="46"/>
                    </a:lnTo>
                    <a:lnTo>
                      <a:pt x="379" y="71"/>
                    </a:lnTo>
                    <a:lnTo>
                      <a:pt x="446" y="100"/>
                    </a:lnTo>
                    <a:lnTo>
                      <a:pt x="509" y="134"/>
                    </a:lnTo>
                    <a:lnTo>
                      <a:pt x="567" y="171"/>
                    </a:lnTo>
                    <a:lnTo>
                      <a:pt x="621" y="214"/>
                    </a:lnTo>
                    <a:lnTo>
                      <a:pt x="671" y="260"/>
                    </a:lnTo>
                    <a:lnTo>
                      <a:pt x="694" y="283"/>
                    </a:lnTo>
                    <a:lnTo>
                      <a:pt x="716" y="308"/>
                    </a:lnTo>
                    <a:lnTo>
                      <a:pt x="736" y="335"/>
                    </a:lnTo>
                    <a:lnTo>
                      <a:pt x="754" y="361"/>
                    </a:lnTo>
                    <a:lnTo>
                      <a:pt x="771" y="388"/>
                    </a:lnTo>
                    <a:lnTo>
                      <a:pt x="787" y="416"/>
                    </a:lnTo>
                    <a:lnTo>
                      <a:pt x="802" y="444"/>
                    </a:lnTo>
                    <a:lnTo>
                      <a:pt x="814" y="473"/>
                    </a:lnTo>
                    <a:lnTo>
                      <a:pt x="826" y="503"/>
                    </a:lnTo>
                    <a:lnTo>
                      <a:pt x="835" y="534"/>
                    </a:lnTo>
                    <a:lnTo>
                      <a:pt x="843" y="564"/>
                    </a:lnTo>
                    <a:lnTo>
                      <a:pt x="848" y="596"/>
                    </a:lnTo>
                  </a:path>
                </a:pathLst>
              </a:custGeom>
              <a:noFill/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221440" y="324000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89" h="91">
                    <a:moveTo>
                      <a:pt x="0" y="6"/>
                    </a:moveTo>
                    <a:lnTo>
                      <a:pt x="52" y="91"/>
                    </a:lnTo>
                    <a:lnTo>
                      <a:pt x="8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3905280" y="2770200"/>
              <a:ext cx="677880" cy="541080"/>
            </a:xfrm>
            <a:custGeom>
              <a:avLst/>
              <a:gdLst/>
              <a:ahLst/>
              <a:rect l="l" t="t" r="r" b="b"/>
              <a:pathLst>
                <a:path w="854" h="683">
                  <a:moveTo>
                    <a:pt x="0" y="683"/>
                  </a:moveTo>
                  <a:lnTo>
                    <a:pt x="1" y="647"/>
                  </a:lnTo>
                  <a:lnTo>
                    <a:pt x="4" y="613"/>
                  </a:lnTo>
                  <a:lnTo>
                    <a:pt x="9" y="579"/>
                  </a:lnTo>
                  <a:lnTo>
                    <a:pt x="17" y="546"/>
                  </a:lnTo>
                  <a:lnTo>
                    <a:pt x="26" y="513"/>
                  </a:lnTo>
                  <a:lnTo>
                    <a:pt x="38" y="480"/>
                  </a:lnTo>
                  <a:lnTo>
                    <a:pt x="51" y="448"/>
                  </a:lnTo>
                  <a:lnTo>
                    <a:pt x="67" y="416"/>
                  </a:lnTo>
                  <a:lnTo>
                    <a:pt x="84" y="386"/>
                  </a:lnTo>
                  <a:lnTo>
                    <a:pt x="103" y="357"/>
                  </a:lnTo>
                  <a:lnTo>
                    <a:pt x="124" y="328"/>
                  </a:lnTo>
                  <a:lnTo>
                    <a:pt x="146" y="301"/>
                  </a:lnTo>
                  <a:lnTo>
                    <a:pt x="170" y="274"/>
                  </a:lnTo>
                  <a:lnTo>
                    <a:pt x="195" y="249"/>
                  </a:lnTo>
                  <a:lnTo>
                    <a:pt x="221" y="224"/>
                  </a:lnTo>
                  <a:lnTo>
                    <a:pt x="250" y="200"/>
                  </a:lnTo>
                  <a:lnTo>
                    <a:pt x="279" y="178"/>
                  </a:lnTo>
                  <a:lnTo>
                    <a:pt x="311" y="156"/>
                  </a:lnTo>
                  <a:lnTo>
                    <a:pt x="377" y="117"/>
                  </a:lnTo>
                  <a:lnTo>
                    <a:pt x="411" y="99"/>
                  </a:lnTo>
                  <a:lnTo>
                    <a:pt x="447" y="83"/>
                  </a:lnTo>
                  <a:lnTo>
                    <a:pt x="484" y="67"/>
                  </a:lnTo>
                  <a:lnTo>
                    <a:pt x="522" y="54"/>
                  </a:lnTo>
                  <a:lnTo>
                    <a:pt x="560" y="41"/>
                  </a:lnTo>
                  <a:lnTo>
                    <a:pt x="600" y="30"/>
                  </a:lnTo>
                  <a:lnTo>
                    <a:pt x="641" y="21"/>
                  </a:lnTo>
                  <a:lnTo>
                    <a:pt x="682" y="15"/>
                  </a:lnTo>
                  <a:lnTo>
                    <a:pt x="724" y="8"/>
                  </a:lnTo>
                  <a:lnTo>
                    <a:pt x="767" y="4"/>
                  </a:lnTo>
                  <a:lnTo>
                    <a:pt x="811" y="1"/>
                  </a:lnTo>
                  <a:lnTo>
                    <a:pt x="854" y="0"/>
                  </a:ln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870360" y="4010040"/>
            <a:ext cx="1396440" cy="541440"/>
            <a:chOff x="3870360" y="4010040"/>
            <a:chExt cx="1396440" cy="541440"/>
          </a:xfrm>
        </p:grpSpPr>
        <p:grpSp>
          <p:nvGrpSpPr>
            <p:cNvPr id="631" name=""/>
            <p:cNvGrpSpPr/>
            <p:nvPr/>
          </p:nvGrpSpPr>
          <p:grpSpPr>
            <a:xfrm>
              <a:off x="3870360" y="4010040"/>
              <a:ext cx="708840" cy="541440"/>
              <a:chOff x="3870360" y="4010040"/>
              <a:chExt cx="708840" cy="541440"/>
            </a:xfrm>
          </p:grpSpPr>
          <p:sp>
            <p:nvSpPr>
              <p:cNvPr id="632" name=""/>
              <p:cNvSpPr/>
              <p:nvPr/>
            </p:nvSpPr>
            <p:spPr>
              <a:xfrm>
                <a:off x="3904920" y="4078440"/>
                <a:ext cx="674280" cy="473040"/>
              </a:xfrm>
              <a:custGeom>
                <a:avLst/>
                <a:gdLst/>
                <a:ahLst/>
                <a:rect l="l" t="t" r="r" b="b"/>
                <a:pathLst>
                  <a:path w="849" h="597">
                    <a:moveTo>
                      <a:pt x="849" y="597"/>
                    </a:moveTo>
                    <a:lnTo>
                      <a:pt x="808" y="595"/>
                    </a:lnTo>
                    <a:lnTo>
                      <a:pt x="769" y="594"/>
                    </a:lnTo>
                    <a:lnTo>
                      <a:pt x="729" y="590"/>
                    </a:lnTo>
                    <a:lnTo>
                      <a:pt x="690" y="585"/>
                    </a:lnTo>
                    <a:lnTo>
                      <a:pt x="652" y="578"/>
                    </a:lnTo>
                    <a:lnTo>
                      <a:pt x="613" y="570"/>
                    </a:lnTo>
                    <a:lnTo>
                      <a:pt x="576" y="561"/>
                    </a:lnTo>
                    <a:lnTo>
                      <a:pt x="540" y="550"/>
                    </a:lnTo>
                    <a:lnTo>
                      <a:pt x="470" y="525"/>
                    </a:lnTo>
                    <a:lnTo>
                      <a:pt x="402" y="496"/>
                    </a:lnTo>
                    <a:lnTo>
                      <a:pt x="340" y="462"/>
                    </a:lnTo>
                    <a:lnTo>
                      <a:pt x="281" y="424"/>
                    </a:lnTo>
                    <a:lnTo>
                      <a:pt x="227" y="382"/>
                    </a:lnTo>
                    <a:lnTo>
                      <a:pt x="177" y="336"/>
                    </a:lnTo>
                    <a:lnTo>
                      <a:pt x="155" y="312"/>
                    </a:lnTo>
                    <a:lnTo>
                      <a:pt x="132" y="287"/>
                    </a:lnTo>
                    <a:lnTo>
                      <a:pt x="112" y="262"/>
                    </a:lnTo>
                    <a:lnTo>
                      <a:pt x="94" y="234"/>
                    </a:lnTo>
                    <a:lnTo>
                      <a:pt x="77" y="208"/>
                    </a:lnTo>
                    <a:lnTo>
                      <a:pt x="61" y="180"/>
                    </a:lnTo>
                    <a:lnTo>
                      <a:pt x="46" y="151"/>
                    </a:lnTo>
                    <a:lnTo>
                      <a:pt x="35" y="122"/>
                    </a:lnTo>
                    <a:lnTo>
                      <a:pt x="23" y="92"/>
                    </a:lnTo>
                    <a:lnTo>
                      <a:pt x="14" y="62"/>
                    </a:lnTo>
                    <a:lnTo>
                      <a:pt x="6" y="31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870360" y="40100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88" h="91">
                    <a:moveTo>
                      <a:pt x="88" y="84"/>
                    </a:moveTo>
                    <a:lnTo>
                      <a:pt x="37" y="0"/>
                    </a:lnTo>
                    <a:lnTo>
                      <a:pt x="0" y="91"/>
                    </a:lnTo>
                    <a:lnTo>
                      <a:pt x="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4589280" y="4010040"/>
              <a:ext cx="677520" cy="541440"/>
            </a:xfrm>
            <a:custGeom>
              <a:avLst/>
              <a:gdLst/>
              <a:ahLst/>
              <a:rect l="l" t="t" r="r" b="b"/>
              <a:pathLst>
                <a:path w="854" h="683">
                  <a:moveTo>
                    <a:pt x="854" y="0"/>
                  </a:moveTo>
                  <a:lnTo>
                    <a:pt x="852" y="36"/>
                  </a:lnTo>
                  <a:lnTo>
                    <a:pt x="850" y="70"/>
                  </a:lnTo>
                  <a:lnTo>
                    <a:pt x="845" y="104"/>
                  </a:lnTo>
                  <a:lnTo>
                    <a:pt x="837" y="137"/>
                  </a:lnTo>
                  <a:lnTo>
                    <a:pt x="827" y="170"/>
                  </a:lnTo>
                  <a:lnTo>
                    <a:pt x="816" y="203"/>
                  </a:lnTo>
                  <a:lnTo>
                    <a:pt x="802" y="235"/>
                  </a:lnTo>
                  <a:lnTo>
                    <a:pt x="787" y="266"/>
                  </a:lnTo>
                  <a:lnTo>
                    <a:pt x="769" y="296"/>
                  </a:lnTo>
                  <a:lnTo>
                    <a:pt x="751" y="325"/>
                  </a:lnTo>
                  <a:lnTo>
                    <a:pt x="730" y="354"/>
                  </a:lnTo>
                  <a:lnTo>
                    <a:pt x="707" y="382"/>
                  </a:lnTo>
                  <a:lnTo>
                    <a:pt x="684" y="408"/>
                  </a:lnTo>
                  <a:lnTo>
                    <a:pt x="659" y="434"/>
                  </a:lnTo>
                  <a:lnTo>
                    <a:pt x="632" y="459"/>
                  </a:lnTo>
                  <a:lnTo>
                    <a:pt x="603" y="482"/>
                  </a:lnTo>
                  <a:lnTo>
                    <a:pt x="574" y="505"/>
                  </a:lnTo>
                  <a:lnTo>
                    <a:pt x="543" y="527"/>
                  </a:lnTo>
                  <a:lnTo>
                    <a:pt x="477" y="567"/>
                  </a:lnTo>
                  <a:lnTo>
                    <a:pt x="442" y="584"/>
                  </a:lnTo>
                  <a:lnTo>
                    <a:pt x="407" y="600"/>
                  </a:lnTo>
                  <a:lnTo>
                    <a:pt x="370" y="615"/>
                  </a:lnTo>
                  <a:lnTo>
                    <a:pt x="332" y="629"/>
                  </a:lnTo>
                  <a:lnTo>
                    <a:pt x="293" y="642"/>
                  </a:lnTo>
                  <a:lnTo>
                    <a:pt x="254" y="652"/>
                  </a:lnTo>
                  <a:lnTo>
                    <a:pt x="213" y="662"/>
                  </a:lnTo>
                  <a:lnTo>
                    <a:pt x="172" y="669"/>
                  </a:lnTo>
                  <a:lnTo>
                    <a:pt x="130" y="675"/>
                  </a:lnTo>
                  <a:lnTo>
                    <a:pt x="87" y="679"/>
                  </a:lnTo>
                  <a:lnTo>
                    <a:pt x="43" y="681"/>
                  </a:lnTo>
                  <a:lnTo>
                    <a:pt x="0" y="683"/>
                  </a:ln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4417920" y="4924440"/>
            <a:ext cx="27936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24160" y="5027760"/>
            <a:ext cx="849600" cy="274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MLC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4583160" y="4587480"/>
            <a:ext cx="1440" cy="376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196360" y="4564080"/>
            <a:ext cx="10828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26000" y="4836960"/>
            <a:ext cx="908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11600" y="4564080"/>
            <a:ext cx="122760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177600" y="5070600"/>
            <a:ext cx="15638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[Ca</a:t>
            </a:r>
            <a:r>
              <a:rPr b="0" lang="fr-FR" sz="1800" spc="-1" strike="noStrike" baseline="30000">
                <a:solidFill>
                  <a:srgbClr val="ff3300"/>
                </a:solidFill>
                <a:latin typeface="Trebuchet MS"/>
              </a:rPr>
              <a:t>2+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]</a:t>
            </a:r>
            <a:r>
              <a:rPr b="0" lang="fr-FR" sz="1800" spc="-1" strike="noStrike" baseline="-25000">
                <a:solidFill>
                  <a:srgbClr val="ff3300"/>
                </a:solidFill>
                <a:latin typeface="Trebuchet MS"/>
              </a:rPr>
              <a:t>i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 =</a:t>
            </a:r>
            <a:r>
              <a:rPr b="0" lang="fr-FR" sz="1800" spc="-1" strike="noStrike" baseline="30000">
                <a:solidFill>
                  <a:srgbClr val="ff33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 1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35280" y="3670200"/>
            <a:ext cx="766800" cy="893880"/>
          </a:xfrm>
          <a:custGeom>
            <a:avLst/>
            <a:gdLst/>
            <a:ahLst/>
            <a:rect l="l" t="t" r="r" b="b"/>
            <a:pathLst>
              <a:path w="316" h="1126">
                <a:moveTo>
                  <a:pt x="316" y="0"/>
                </a:moveTo>
                <a:lnTo>
                  <a:pt x="0" y="0"/>
                </a:lnTo>
                <a:lnTo>
                  <a:pt x="0" y="1126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723000" y="3670200"/>
            <a:ext cx="250920" cy="889200"/>
          </a:xfrm>
          <a:custGeom>
            <a:avLst/>
            <a:gdLst/>
            <a:ahLst/>
            <a:rect l="l" t="t" r="r" b="b"/>
            <a:pathLst>
              <a:path w="317" h="1119">
                <a:moveTo>
                  <a:pt x="0" y="0"/>
                </a:moveTo>
                <a:lnTo>
                  <a:pt x="317" y="0"/>
                </a:lnTo>
                <a:lnTo>
                  <a:pt x="317" y="1119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0560" y="1684440"/>
            <a:ext cx="2880" cy="33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5240" y="2422440"/>
            <a:ext cx="3240" cy="277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54520" y="3535200"/>
            <a:ext cx="172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–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– Ac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73800" y="5086440"/>
            <a:ext cx="17053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[Ca</a:t>
            </a:r>
            <a:r>
              <a:rPr b="0" lang="fr-FR" sz="1800" spc="-1" strike="noStrike" baseline="30000">
                <a:solidFill>
                  <a:srgbClr val="ff3300"/>
                </a:solidFill>
                <a:latin typeface="Trebuchet MS"/>
              </a:rPr>
              <a:t>2+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]</a:t>
            </a:r>
            <a:r>
              <a:rPr b="0" lang="fr-FR" sz="1800" spc="-1" strike="noStrike" baseline="-25000">
                <a:solidFill>
                  <a:srgbClr val="ff3300"/>
                </a:solidFill>
                <a:latin typeface="Trebuchet MS"/>
              </a:rPr>
              <a:t>i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 =</a:t>
            </a:r>
            <a:r>
              <a:rPr b="0" lang="fr-FR" sz="1800" spc="-1" strike="noStrike" baseline="30000">
                <a:solidFill>
                  <a:srgbClr val="ff33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 10n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51160" y="1579680"/>
            <a:ext cx="743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80080" y="3505320"/>
            <a:ext cx="199800" cy="322200"/>
          </a:xfrm>
          <a:prstGeom prst="ellipse">
            <a:avLst/>
          </a:prstGeom>
          <a:noFill/>
          <a:ln w="176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7000" y="5929200"/>
            <a:ext cx="64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fonctionnement de l’appareil contractile du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ppareil contractil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4240" y="17762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lectrophysiologi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64240" y="17762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32720" y="2990880"/>
            <a:ext cx="754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scillation du potentiel membranaire de repos (-40 à -80 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ndes lentes : rythme électrique de 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intersticielles : jonctions gap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ML couch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ML couche longitud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ropagation par couplage de CML à CML (+ efficace pour CML circulai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36840" y="1663560"/>
            <a:ext cx="3276360" cy="10670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lectrophysiologi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4240" y="17762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32720" y="2990880"/>
            <a:ext cx="754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scillation du potentiel membranaire de repos (-40 à -80 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ndes lentes : rythme électrique de 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intersticielles : jonctions gap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ML couch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ML couche longitud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ropagation par couplage de CML à CML (+ efficace pour CML circulai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euil de PA : bouffées de PA (10-20 msec - 1-10 / 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969160" y="1135080"/>
            <a:ext cx="888840" cy="7365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03720" y="1173240"/>
            <a:ext cx="888840" cy="7365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7746840" y="1739880"/>
            <a:ext cx="31752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lectrophysiologi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16200" y="2744640"/>
            <a:ext cx="5943600" cy="986040"/>
          </a:xfrm>
          <a:custGeom>
            <a:avLst/>
            <a:gdLst/>
            <a:ahLst/>
            <a:rect l="l" t="t" r="r" b="b"/>
            <a:pathLst>
              <a:path w="3744" h="621">
                <a:moveTo>
                  <a:pt x="0" y="599"/>
                </a:moveTo>
                <a:cubicBezTo>
                  <a:pt x="49" y="599"/>
                  <a:pt x="98" y="600"/>
                  <a:pt x="140" y="599"/>
                </a:cubicBezTo>
                <a:cubicBezTo>
                  <a:pt x="182" y="598"/>
                  <a:pt x="213" y="608"/>
                  <a:pt x="252" y="595"/>
                </a:cubicBezTo>
                <a:cubicBezTo>
                  <a:pt x="291" y="582"/>
                  <a:pt x="339" y="534"/>
                  <a:pt x="372" y="519"/>
                </a:cubicBezTo>
                <a:cubicBezTo>
                  <a:pt x="405" y="504"/>
                  <a:pt x="416" y="496"/>
                  <a:pt x="448" y="503"/>
                </a:cubicBezTo>
                <a:cubicBezTo>
                  <a:pt x="480" y="510"/>
                  <a:pt x="532" y="543"/>
                  <a:pt x="564" y="559"/>
                </a:cubicBezTo>
                <a:cubicBezTo>
                  <a:pt x="596" y="575"/>
                  <a:pt x="579" y="592"/>
                  <a:pt x="640" y="599"/>
                </a:cubicBezTo>
                <a:cubicBezTo>
                  <a:pt x="701" y="606"/>
                  <a:pt x="836" y="602"/>
                  <a:pt x="928" y="603"/>
                </a:cubicBezTo>
                <a:cubicBezTo>
                  <a:pt x="1020" y="604"/>
                  <a:pt x="1089" y="604"/>
                  <a:pt x="1192" y="603"/>
                </a:cubicBezTo>
                <a:cubicBezTo>
                  <a:pt x="1295" y="602"/>
                  <a:pt x="1459" y="621"/>
                  <a:pt x="1548" y="599"/>
                </a:cubicBezTo>
                <a:cubicBezTo>
                  <a:pt x="1637" y="577"/>
                  <a:pt x="1669" y="534"/>
                  <a:pt x="1724" y="471"/>
                </a:cubicBezTo>
                <a:cubicBezTo>
                  <a:pt x="1779" y="408"/>
                  <a:pt x="1831" y="274"/>
                  <a:pt x="1880" y="223"/>
                </a:cubicBezTo>
                <a:cubicBezTo>
                  <a:pt x="1929" y="172"/>
                  <a:pt x="1974" y="161"/>
                  <a:pt x="2016" y="163"/>
                </a:cubicBezTo>
                <a:cubicBezTo>
                  <a:pt x="2058" y="165"/>
                  <a:pt x="2092" y="196"/>
                  <a:pt x="2132" y="235"/>
                </a:cubicBezTo>
                <a:cubicBezTo>
                  <a:pt x="2172" y="274"/>
                  <a:pt x="2219" y="347"/>
                  <a:pt x="2256" y="395"/>
                </a:cubicBezTo>
                <a:cubicBezTo>
                  <a:pt x="2293" y="443"/>
                  <a:pt x="2319" y="492"/>
                  <a:pt x="2352" y="523"/>
                </a:cubicBezTo>
                <a:cubicBezTo>
                  <a:pt x="2385" y="554"/>
                  <a:pt x="2409" y="570"/>
                  <a:pt x="2452" y="583"/>
                </a:cubicBezTo>
                <a:cubicBezTo>
                  <a:pt x="2495" y="596"/>
                  <a:pt x="2545" y="601"/>
                  <a:pt x="2612" y="603"/>
                </a:cubicBezTo>
                <a:cubicBezTo>
                  <a:pt x="2679" y="605"/>
                  <a:pt x="2797" y="612"/>
                  <a:pt x="2856" y="595"/>
                </a:cubicBezTo>
                <a:cubicBezTo>
                  <a:pt x="2915" y="578"/>
                  <a:pt x="2933" y="546"/>
                  <a:pt x="2964" y="499"/>
                </a:cubicBezTo>
                <a:cubicBezTo>
                  <a:pt x="2995" y="452"/>
                  <a:pt x="3020" y="376"/>
                  <a:pt x="3040" y="315"/>
                </a:cubicBezTo>
                <a:cubicBezTo>
                  <a:pt x="3060" y="254"/>
                  <a:pt x="3059" y="184"/>
                  <a:pt x="3084" y="135"/>
                </a:cubicBezTo>
                <a:cubicBezTo>
                  <a:pt x="3109" y="86"/>
                  <a:pt x="3151" y="38"/>
                  <a:pt x="3188" y="19"/>
                </a:cubicBezTo>
                <a:cubicBezTo>
                  <a:pt x="3225" y="0"/>
                  <a:pt x="3275" y="14"/>
                  <a:pt x="3304" y="23"/>
                </a:cubicBezTo>
                <a:cubicBezTo>
                  <a:pt x="3333" y="32"/>
                  <a:pt x="3339" y="42"/>
                  <a:pt x="3360" y="71"/>
                </a:cubicBezTo>
                <a:cubicBezTo>
                  <a:pt x="3381" y="100"/>
                  <a:pt x="3409" y="140"/>
                  <a:pt x="3428" y="195"/>
                </a:cubicBezTo>
                <a:cubicBezTo>
                  <a:pt x="3447" y="250"/>
                  <a:pt x="3456" y="342"/>
                  <a:pt x="3476" y="399"/>
                </a:cubicBezTo>
                <a:cubicBezTo>
                  <a:pt x="3496" y="456"/>
                  <a:pt x="3516" y="508"/>
                  <a:pt x="3548" y="539"/>
                </a:cubicBezTo>
                <a:cubicBezTo>
                  <a:pt x="3580" y="570"/>
                  <a:pt x="3635" y="576"/>
                  <a:pt x="3668" y="583"/>
                </a:cubicBezTo>
                <a:cubicBezTo>
                  <a:pt x="3701" y="590"/>
                  <a:pt x="3722" y="586"/>
                  <a:pt x="3744" y="583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816200" y="2003400"/>
            <a:ext cx="5838840" cy="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19440" y="2882520"/>
            <a:ext cx="0" cy="1057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19440" y="3940200"/>
            <a:ext cx="592452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64240" y="17762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9000" y="3122640"/>
            <a:ext cx="1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8880" y="4646520"/>
            <a:ext cx="740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euil de contraction (&lt; seuil PA) : sommation temporelle du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dulation : SN intrinsèque et extrinsèque ; hormones ; para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746840" y="1994040"/>
            <a:ext cx="36864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lectrophysiologi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466560" y="1419120"/>
            <a:ext cx="8007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olontaire ou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ous le contrôle du centre bulb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action des muscles du pharynx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nde de contraction rapide (15 cm /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déglutition et motilité oesophag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lévation du voile du pal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ermeture du naso-pharyn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ermeture du laryn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pulsion du bol alimentaire dans l’oesop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06560" y="1144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glutition &amp;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oesophag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87200" y="682560"/>
            <a:ext cx="1791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églutition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96920" y="1617840"/>
            <a:ext cx="1627200" cy="4036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2079720" y="1641600"/>
            <a:ext cx="59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 :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scle strié (partie crâni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scle lisse (partie caud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35080" y="3098880"/>
            <a:ext cx="1568160" cy="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49520" y="3102120"/>
            <a:ext cx="633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s d’activité péristaltique spontan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glutition </a:t>
            </a:r>
            <a:r>
              <a:rPr b="0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activité péristal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1625760" y="163800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363680" y="2208240"/>
            <a:ext cx="93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.stri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1625760" y="3149280"/>
            <a:ext cx="0" cy="2019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356840" y="3719520"/>
            <a:ext cx="92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.l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706560" y="1144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glutition &amp;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oesophag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7200" y="682560"/>
            <a:ext cx="3822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éristaltisme oesophag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421200" y="6216480"/>
            <a:ext cx="45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variation de pression intra-oesophagien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49400" y="1355760"/>
            <a:ext cx="2533680" cy="596880"/>
          </a:xfrm>
          <a:custGeom>
            <a:avLst/>
            <a:gdLst/>
            <a:ahLst/>
            <a:rect l="l" t="t" r="r" b="b"/>
            <a:pathLst>
              <a:path w="1698" h="376">
                <a:moveTo>
                  <a:pt x="0" y="376"/>
                </a:moveTo>
                <a:cubicBezTo>
                  <a:pt x="83" y="374"/>
                  <a:pt x="403" y="375"/>
                  <a:pt x="498" y="364"/>
                </a:cubicBezTo>
                <a:cubicBezTo>
                  <a:pt x="593" y="353"/>
                  <a:pt x="553" y="365"/>
                  <a:pt x="570" y="310"/>
                </a:cubicBezTo>
                <a:cubicBezTo>
                  <a:pt x="587" y="255"/>
                  <a:pt x="590" y="68"/>
                  <a:pt x="600" y="34"/>
                </a:cubicBezTo>
                <a:cubicBezTo>
                  <a:pt x="610" y="0"/>
                  <a:pt x="622" y="62"/>
                  <a:pt x="630" y="106"/>
                </a:cubicBezTo>
                <a:cubicBezTo>
                  <a:pt x="638" y="150"/>
                  <a:pt x="642" y="257"/>
                  <a:pt x="648" y="298"/>
                </a:cubicBezTo>
                <a:cubicBezTo>
                  <a:pt x="654" y="339"/>
                  <a:pt x="651" y="340"/>
                  <a:pt x="666" y="352"/>
                </a:cubicBezTo>
                <a:cubicBezTo>
                  <a:pt x="681" y="364"/>
                  <a:pt x="605" y="368"/>
                  <a:pt x="738" y="370"/>
                </a:cubicBezTo>
                <a:cubicBezTo>
                  <a:pt x="871" y="372"/>
                  <a:pt x="1304" y="365"/>
                  <a:pt x="1464" y="364"/>
                </a:cubicBezTo>
                <a:cubicBezTo>
                  <a:pt x="1624" y="363"/>
                  <a:pt x="1661" y="363"/>
                  <a:pt x="1698" y="36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49400" y="2082960"/>
            <a:ext cx="2541600" cy="631800"/>
          </a:xfrm>
          <a:custGeom>
            <a:avLst/>
            <a:gdLst/>
            <a:ahLst/>
            <a:rect l="l" t="t" r="r" b="b"/>
            <a:pathLst>
              <a:path w="1704" h="398">
                <a:moveTo>
                  <a:pt x="0" y="194"/>
                </a:moveTo>
                <a:cubicBezTo>
                  <a:pt x="209" y="191"/>
                  <a:pt x="416" y="185"/>
                  <a:pt x="510" y="188"/>
                </a:cubicBezTo>
                <a:cubicBezTo>
                  <a:pt x="604" y="191"/>
                  <a:pt x="540" y="179"/>
                  <a:pt x="564" y="212"/>
                </a:cubicBezTo>
                <a:cubicBezTo>
                  <a:pt x="588" y="245"/>
                  <a:pt x="631" y="398"/>
                  <a:pt x="654" y="386"/>
                </a:cubicBezTo>
                <a:cubicBezTo>
                  <a:pt x="677" y="374"/>
                  <a:pt x="686" y="204"/>
                  <a:pt x="702" y="140"/>
                </a:cubicBezTo>
                <a:cubicBezTo>
                  <a:pt x="718" y="76"/>
                  <a:pt x="736" y="4"/>
                  <a:pt x="750" y="2"/>
                </a:cubicBezTo>
                <a:cubicBezTo>
                  <a:pt x="764" y="0"/>
                  <a:pt x="775" y="100"/>
                  <a:pt x="788" y="128"/>
                </a:cubicBezTo>
                <a:cubicBezTo>
                  <a:pt x="801" y="156"/>
                  <a:pt x="789" y="163"/>
                  <a:pt x="828" y="170"/>
                </a:cubicBezTo>
                <a:cubicBezTo>
                  <a:pt x="867" y="177"/>
                  <a:pt x="874" y="170"/>
                  <a:pt x="1020" y="170"/>
                </a:cubicBezTo>
                <a:cubicBezTo>
                  <a:pt x="1166" y="170"/>
                  <a:pt x="1435" y="170"/>
                  <a:pt x="1704" y="17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949400" y="2496960"/>
            <a:ext cx="2725920" cy="2070360"/>
            <a:chOff x="1949400" y="2496960"/>
            <a:chExt cx="2725920" cy="2070360"/>
          </a:xfrm>
        </p:grpSpPr>
        <p:sp>
          <p:nvSpPr>
            <p:cNvPr id="765" name=""/>
            <p:cNvSpPr/>
            <p:nvPr/>
          </p:nvSpPr>
          <p:spPr>
            <a:xfrm>
              <a:off x="1949400" y="2496960"/>
              <a:ext cx="2571840" cy="615960"/>
            </a:xfrm>
            <a:custGeom>
              <a:avLst/>
              <a:gdLst/>
              <a:ahLst/>
              <a:rect l="l" t="t" r="r" b="b"/>
              <a:pathLst>
                <a:path w="1724" h="388">
                  <a:moveTo>
                    <a:pt x="0" y="379"/>
                  </a:moveTo>
                  <a:cubicBezTo>
                    <a:pt x="266" y="378"/>
                    <a:pt x="533" y="378"/>
                    <a:pt x="652" y="379"/>
                  </a:cubicBezTo>
                  <a:cubicBezTo>
                    <a:pt x="771" y="380"/>
                    <a:pt x="690" y="388"/>
                    <a:pt x="716" y="383"/>
                  </a:cubicBezTo>
                  <a:cubicBezTo>
                    <a:pt x="742" y="378"/>
                    <a:pt x="783" y="374"/>
                    <a:pt x="808" y="347"/>
                  </a:cubicBezTo>
                  <a:cubicBezTo>
                    <a:pt x="833" y="320"/>
                    <a:pt x="845" y="271"/>
                    <a:pt x="864" y="219"/>
                  </a:cubicBezTo>
                  <a:cubicBezTo>
                    <a:pt x="883" y="167"/>
                    <a:pt x="906" y="70"/>
                    <a:pt x="920" y="35"/>
                  </a:cubicBezTo>
                  <a:cubicBezTo>
                    <a:pt x="934" y="0"/>
                    <a:pt x="939" y="2"/>
                    <a:pt x="948" y="11"/>
                  </a:cubicBezTo>
                  <a:cubicBezTo>
                    <a:pt x="957" y="20"/>
                    <a:pt x="967" y="51"/>
                    <a:pt x="976" y="87"/>
                  </a:cubicBezTo>
                  <a:cubicBezTo>
                    <a:pt x="985" y="123"/>
                    <a:pt x="989" y="184"/>
                    <a:pt x="1004" y="227"/>
                  </a:cubicBezTo>
                  <a:cubicBezTo>
                    <a:pt x="1019" y="270"/>
                    <a:pt x="1051" y="325"/>
                    <a:pt x="1068" y="347"/>
                  </a:cubicBezTo>
                  <a:cubicBezTo>
                    <a:pt x="1085" y="369"/>
                    <a:pt x="1050" y="356"/>
                    <a:pt x="1108" y="359"/>
                  </a:cubicBezTo>
                  <a:cubicBezTo>
                    <a:pt x="1166" y="362"/>
                    <a:pt x="1338" y="363"/>
                    <a:pt x="1416" y="363"/>
                  </a:cubicBezTo>
                  <a:cubicBezTo>
                    <a:pt x="1494" y="363"/>
                    <a:pt x="1525" y="360"/>
                    <a:pt x="1576" y="359"/>
                  </a:cubicBezTo>
                  <a:cubicBezTo>
                    <a:pt x="1627" y="358"/>
                    <a:pt x="1693" y="356"/>
                    <a:pt x="1724" y="355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54080" y="3216240"/>
              <a:ext cx="2675160" cy="665280"/>
            </a:xfrm>
            <a:custGeom>
              <a:avLst/>
              <a:gdLst/>
              <a:ahLst/>
              <a:rect l="l" t="t" r="r" b="b"/>
              <a:pathLst>
                <a:path w="1792" h="419">
                  <a:moveTo>
                    <a:pt x="0" y="406"/>
                  </a:moveTo>
                  <a:cubicBezTo>
                    <a:pt x="137" y="407"/>
                    <a:pt x="679" y="409"/>
                    <a:pt x="828" y="410"/>
                  </a:cubicBezTo>
                  <a:cubicBezTo>
                    <a:pt x="977" y="411"/>
                    <a:pt x="866" y="419"/>
                    <a:pt x="892" y="414"/>
                  </a:cubicBezTo>
                  <a:cubicBezTo>
                    <a:pt x="918" y="409"/>
                    <a:pt x="959" y="405"/>
                    <a:pt x="984" y="378"/>
                  </a:cubicBezTo>
                  <a:cubicBezTo>
                    <a:pt x="1009" y="351"/>
                    <a:pt x="1021" y="302"/>
                    <a:pt x="1040" y="250"/>
                  </a:cubicBezTo>
                  <a:cubicBezTo>
                    <a:pt x="1059" y="198"/>
                    <a:pt x="1080" y="107"/>
                    <a:pt x="1096" y="66"/>
                  </a:cubicBezTo>
                  <a:cubicBezTo>
                    <a:pt x="1112" y="25"/>
                    <a:pt x="1124" y="0"/>
                    <a:pt x="1136" y="6"/>
                  </a:cubicBezTo>
                  <a:cubicBezTo>
                    <a:pt x="1148" y="12"/>
                    <a:pt x="1156" y="61"/>
                    <a:pt x="1168" y="102"/>
                  </a:cubicBezTo>
                  <a:cubicBezTo>
                    <a:pt x="1180" y="143"/>
                    <a:pt x="1193" y="211"/>
                    <a:pt x="1208" y="254"/>
                  </a:cubicBezTo>
                  <a:cubicBezTo>
                    <a:pt x="1223" y="297"/>
                    <a:pt x="1236" y="340"/>
                    <a:pt x="1256" y="362"/>
                  </a:cubicBezTo>
                  <a:cubicBezTo>
                    <a:pt x="1276" y="384"/>
                    <a:pt x="1272" y="381"/>
                    <a:pt x="1328" y="386"/>
                  </a:cubicBezTo>
                  <a:cubicBezTo>
                    <a:pt x="1384" y="391"/>
                    <a:pt x="1517" y="394"/>
                    <a:pt x="1592" y="394"/>
                  </a:cubicBezTo>
                  <a:cubicBezTo>
                    <a:pt x="1667" y="394"/>
                    <a:pt x="1760" y="387"/>
                    <a:pt x="1776" y="386"/>
                  </a:cubicBezTo>
                  <a:cubicBezTo>
                    <a:pt x="1792" y="385"/>
                    <a:pt x="1706" y="386"/>
                    <a:pt x="1688" y="386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60560" y="3927600"/>
              <a:ext cx="2714760" cy="639720"/>
            </a:xfrm>
            <a:custGeom>
              <a:avLst/>
              <a:gdLst/>
              <a:ahLst/>
              <a:rect l="l" t="t" r="r" b="b"/>
              <a:pathLst>
                <a:path w="1819" h="403">
                  <a:moveTo>
                    <a:pt x="0" y="394"/>
                  </a:moveTo>
                  <a:cubicBezTo>
                    <a:pt x="169" y="394"/>
                    <a:pt x="828" y="393"/>
                    <a:pt x="1016" y="394"/>
                  </a:cubicBezTo>
                  <a:cubicBezTo>
                    <a:pt x="1204" y="395"/>
                    <a:pt x="1093" y="403"/>
                    <a:pt x="1128" y="398"/>
                  </a:cubicBezTo>
                  <a:cubicBezTo>
                    <a:pt x="1163" y="393"/>
                    <a:pt x="1202" y="393"/>
                    <a:pt x="1228" y="366"/>
                  </a:cubicBezTo>
                  <a:cubicBezTo>
                    <a:pt x="1254" y="339"/>
                    <a:pt x="1267" y="292"/>
                    <a:pt x="1284" y="238"/>
                  </a:cubicBezTo>
                  <a:cubicBezTo>
                    <a:pt x="1301" y="184"/>
                    <a:pt x="1315" y="80"/>
                    <a:pt x="1328" y="42"/>
                  </a:cubicBezTo>
                  <a:cubicBezTo>
                    <a:pt x="1341" y="4"/>
                    <a:pt x="1350" y="0"/>
                    <a:pt x="1360" y="10"/>
                  </a:cubicBezTo>
                  <a:cubicBezTo>
                    <a:pt x="1370" y="20"/>
                    <a:pt x="1379" y="63"/>
                    <a:pt x="1388" y="102"/>
                  </a:cubicBezTo>
                  <a:cubicBezTo>
                    <a:pt x="1397" y="141"/>
                    <a:pt x="1403" y="201"/>
                    <a:pt x="1416" y="242"/>
                  </a:cubicBezTo>
                  <a:cubicBezTo>
                    <a:pt x="1429" y="283"/>
                    <a:pt x="1447" y="328"/>
                    <a:pt x="1464" y="350"/>
                  </a:cubicBezTo>
                  <a:cubicBezTo>
                    <a:pt x="1481" y="372"/>
                    <a:pt x="1484" y="370"/>
                    <a:pt x="1520" y="374"/>
                  </a:cubicBezTo>
                  <a:cubicBezTo>
                    <a:pt x="1556" y="378"/>
                    <a:pt x="1633" y="375"/>
                    <a:pt x="1680" y="374"/>
                  </a:cubicBezTo>
                  <a:cubicBezTo>
                    <a:pt x="1727" y="373"/>
                    <a:pt x="1789" y="371"/>
                    <a:pt x="1804" y="370"/>
                  </a:cubicBezTo>
                  <a:cubicBezTo>
                    <a:pt x="1819" y="369"/>
                    <a:pt x="1775" y="370"/>
                    <a:pt x="1768" y="370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1967040" y="4867200"/>
            <a:ext cx="2757240" cy="641520"/>
          </a:xfrm>
          <a:custGeom>
            <a:avLst/>
            <a:gdLst/>
            <a:ahLst/>
            <a:rect l="l" t="t" r="r" b="b"/>
            <a:pathLst>
              <a:path w="1848" h="404">
                <a:moveTo>
                  <a:pt x="0" y="158"/>
                </a:moveTo>
                <a:cubicBezTo>
                  <a:pt x="181" y="153"/>
                  <a:pt x="363" y="149"/>
                  <a:pt x="476" y="150"/>
                </a:cubicBezTo>
                <a:cubicBezTo>
                  <a:pt x="589" y="151"/>
                  <a:pt x="625" y="144"/>
                  <a:pt x="676" y="162"/>
                </a:cubicBezTo>
                <a:cubicBezTo>
                  <a:pt x="727" y="180"/>
                  <a:pt x="749" y="221"/>
                  <a:pt x="780" y="258"/>
                </a:cubicBezTo>
                <a:cubicBezTo>
                  <a:pt x="811" y="295"/>
                  <a:pt x="826" y="360"/>
                  <a:pt x="860" y="382"/>
                </a:cubicBezTo>
                <a:cubicBezTo>
                  <a:pt x="894" y="404"/>
                  <a:pt x="918" y="390"/>
                  <a:pt x="984" y="390"/>
                </a:cubicBezTo>
                <a:cubicBezTo>
                  <a:pt x="1050" y="390"/>
                  <a:pt x="1195" y="395"/>
                  <a:pt x="1256" y="382"/>
                </a:cubicBezTo>
                <a:cubicBezTo>
                  <a:pt x="1317" y="369"/>
                  <a:pt x="1321" y="343"/>
                  <a:pt x="1348" y="314"/>
                </a:cubicBezTo>
                <a:cubicBezTo>
                  <a:pt x="1375" y="285"/>
                  <a:pt x="1392" y="254"/>
                  <a:pt x="1416" y="210"/>
                </a:cubicBezTo>
                <a:cubicBezTo>
                  <a:pt x="1440" y="166"/>
                  <a:pt x="1466" y="85"/>
                  <a:pt x="1492" y="50"/>
                </a:cubicBezTo>
                <a:cubicBezTo>
                  <a:pt x="1518" y="15"/>
                  <a:pt x="1548" y="0"/>
                  <a:pt x="1572" y="2"/>
                </a:cubicBezTo>
                <a:cubicBezTo>
                  <a:pt x="1596" y="4"/>
                  <a:pt x="1617" y="42"/>
                  <a:pt x="1636" y="62"/>
                </a:cubicBezTo>
                <a:cubicBezTo>
                  <a:pt x="1655" y="82"/>
                  <a:pt x="1666" y="112"/>
                  <a:pt x="1684" y="122"/>
                </a:cubicBezTo>
                <a:cubicBezTo>
                  <a:pt x="1702" y="132"/>
                  <a:pt x="1717" y="122"/>
                  <a:pt x="1744" y="122"/>
                </a:cubicBezTo>
                <a:cubicBezTo>
                  <a:pt x="1771" y="122"/>
                  <a:pt x="1809" y="122"/>
                  <a:pt x="1848" y="122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940040" y="1685880"/>
            <a:ext cx="2774880" cy="3971880"/>
          </a:xfrm>
          <a:custGeom>
            <a:avLst/>
            <a:gdLst/>
            <a:ahLst/>
            <a:rect l="l" t="t" r="r" b="b"/>
            <a:pathLst>
              <a:path w="1860" h="2502">
                <a:moveTo>
                  <a:pt x="0" y="0"/>
                </a:moveTo>
                <a:lnTo>
                  <a:pt x="0" y="2502"/>
                </a:lnTo>
                <a:lnTo>
                  <a:pt x="1860" y="250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81360" y="1390680"/>
            <a:ext cx="0" cy="426708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196920" y="1617840"/>
            <a:ext cx="1627200" cy="403668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4842000" y="49053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xation du sphincter inférieur de l’oesophage (SIO) (2 à 3 sec après le début de la dégluti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490840" y="571356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16200000">
            <a:off x="1171800" y="34750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706560" y="1144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glutition &amp;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oesophag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87200" y="682560"/>
            <a:ext cx="3822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éristaltisme oesophag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842000" y="325440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uis contraction renforc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nde péristaltique le long du corps de l’oesophage (2,5 à 5 cm /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819680" y="21621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âchement du sphincter supérieur de l’oesophage (SSO) : 0,5 -1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19680" y="13366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pulsion du bol alimentaire dans l’oesoph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933480" y="2894040"/>
            <a:ext cx="3562200" cy="641160"/>
          </a:xfrm>
          <a:custGeom>
            <a:avLst/>
            <a:gdLst/>
            <a:ahLst/>
            <a:rect l="l" t="t" r="r" b="b"/>
            <a:pathLst>
              <a:path w="2244" h="404">
                <a:moveTo>
                  <a:pt x="0" y="127"/>
                </a:moveTo>
                <a:cubicBezTo>
                  <a:pt x="79" y="124"/>
                  <a:pt x="158" y="121"/>
                  <a:pt x="264" y="151"/>
                </a:cubicBezTo>
                <a:cubicBezTo>
                  <a:pt x="370" y="181"/>
                  <a:pt x="538" y="267"/>
                  <a:pt x="636" y="307"/>
                </a:cubicBezTo>
                <a:cubicBezTo>
                  <a:pt x="734" y="347"/>
                  <a:pt x="771" y="378"/>
                  <a:pt x="852" y="391"/>
                </a:cubicBezTo>
                <a:cubicBezTo>
                  <a:pt x="933" y="404"/>
                  <a:pt x="1057" y="392"/>
                  <a:pt x="1122" y="385"/>
                </a:cubicBezTo>
                <a:cubicBezTo>
                  <a:pt x="1187" y="378"/>
                  <a:pt x="1197" y="375"/>
                  <a:pt x="1242" y="349"/>
                </a:cubicBezTo>
                <a:cubicBezTo>
                  <a:pt x="1287" y="323"/>
                  <a:pt x="1335" y="279"/>
                  <a:pt x="1392" y="229"/>
                </a:cubicBezTo>
                <a:cubicBezTo>
                  <a:pt x="1449" y="179"/>
                  <a:pt x="1536" y="87"/>
                  <a:pt x="1584" y="49"/>
                </a:cubicBezTo>
                <a:cubicBezTo>
                  <a:pt x="1632" y="11"/>
                  <a:pt x="1648" y="0"/>
                  <a:pt x="1680" y="1"/>
                </a:cubicBezTo>
                <a:cubicBezTo>
                  <a:pt x="1712" y="2"/>
                  <a:pt x="1729" y="36"/>
                  <a:pt x="1776" y="55"/>
                </a:cubicBezTo>
                <a:cubicBezTo>
                  <a:pt x="1823" y="74"/>
                  <a:pt x="1904" y="103"/>
                  <a:pt x="1965" y="115"/>
                </a:cubicBezTo>
                <a:cubicBezTo>
                  <a:pt x="2026" y="127"/>
                  <a:pt x="2096" y="125"/>
                  <a:pt x="2142" y="127"/>
                </a:cubicBezTo>
                <a:cubicBezTo>
                  <a:pt x="2188" y="129"/>
                  <a:pt x="2223" y="127"/>
                  <a:pt x="2244" y="127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923760" y="3095640"/>
            <a:ext cx="3571920" cy="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219320" y="40291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006560" y="40258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4320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318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7463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320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9177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749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0415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1081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1747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01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3274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4224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4703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462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6035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6798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846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8702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8703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1371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848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33404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434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10220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02040" y="50734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7972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512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4004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860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068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9256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4960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652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656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4322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162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526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33020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13976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920880" y="4343400"/>
            <a:ext cx="35748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901800" y="5380200"/>
            <a:ext cx="35748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302120" y="1886040"/>
            <a:ext cx="300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ibre vagale excitatrice (FV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ibre vagale inhibitrice (FV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914400" y="2666520"/>
            <a:ext cx="0" cy="9622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920880" y="3768840"/>
            <a:ext cx="0" cy="96192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920880" y="4844520"/>
            <a:ext cx="0" cy="9622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16200000">
            <a:off x="114480" y="306252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rot="16200000">
            <a:off x="-334800" y="4677480"/>
            <a:ext cx="186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tivité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32400" y="4048200"/>
            <a:ext cx="4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501440" y="49975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5789880" y="2336760"/>
            <a:ext cx="2235600" cy="3217320"/>
            <a:chOff x="5789880" y="2336760"/>
            <a:chExt cx="2235600" cy="3217320"/>
          </a:xfrm>
        </p:grpSpPr>
        <p:sp>
          <p:nvSpPr>
            <p:cNvPr id="836" name=""/>
            <p:cNvSpPr/>
            <p:nvPr/>
          </p:nvSpPr>
          <p:spPr>
            <a:xfrm>
              <a:off x="6359400" y="3449520"/>
              <a:ext cx="249480" cy="198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59600" y="3449520"/>
              <a:ext cx="249120" cy="1987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372360" y="4637160"/>
              <a:ext cx="236520" cy="2412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94400" y="3659040"/>
              <a:ext cx="0" cy="1003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068960" y="4637160"/>
              <a:ext cx="236880" cy="241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83440" y="3670200"/>
              <a:ext cx="0" cy="100188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72360" y="3141720"/>
              <a:ext cx="236520" cy="2412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66080" y="3141720"/>
              <a:ext cx="236520" cy="241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183440" y="2776680"/>
              <a:ext cx="0" cy="3744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6494400" y="2776680"/>
              <a:ext cx="0" cy="374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255720" y="2336760"/>
              <a:ext cx="113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FVE      F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937480" y="3351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59840" y="3351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974200" y="4573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372080" y="456264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553440" y="35384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789880" y="3919680"/>
              <a:ext cx="56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3300"/>
                  </a:solidFill>
                  <a:latin typeface="Trebuchet MS"/>
                </a:rPr>
                <a:t>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3300"/>
                  </a:solidFill>
                  <a:latin typeface="Trebuchet MS"/>
                </a:rPr>
                <a:t>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2280" y="3894120"/>
              <a:ext cx="49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8080"/>
                  </a:solidFill>
                  <a:latin typeface="Trebuchet MS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8080"/>
                  </a:solidFill>
                  <a:latin typeface="Trebuchet MS"/>
                </a:rPr>
                <a:t>V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5835600" y="4941720"/>
              <a:ext cx="1998360" cy="612360"/>
              <a:chOff x="5835600" y="4941720"/>
              <a:chExt cx="1998360" cy="612360"/>
            </a:xfrm>
          </p:grpSpPr>
          <p:sp>
            <p:nvSpPr>
              <p:cNvPr id="855" name=""/>
              <p:cNvSpPr/>
              <p:nvPr/>
            </p:nvSpPr>
            <p:spPr>
              <a:xfrm>
                <a:off x="5835600" y="4941720"/>
                <a:ext cx="1998360" cy="612360"/>
              </a:xfrm>
              <a:prstGeom prst="ellipse">
                <a:avLst/>
              </a:prstGeom>
              <a:gradFill rotWithShape="0">
                <a:gsLst>
                  <a:gs pos="0">
                    <a:srgbClr val="750808"/>
                  </a:gs>
                  <a:gs pos="50000">
                    <a:srgbClr val="ff1313"/>
                  </a:gs>
                  <a:gs pos="100000">
                    <a:srgbClr val="7508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510600" y="5056920"/>
                <a:ext cx="273240" cy="319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6805440" y="504684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rebuchet MS"/>
                </a:rPr>
                <a:t>C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551160" y="1351080"/>
            <a:ext cx="72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activité mécanique et électrique du sphincter inférieur de l’oesophage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06560" y="1144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glutition &amp;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oesophag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7200" y="682560"/>
            <a:ext cx="378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éristaltisme oesophag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480960" y="1835280"/>
            <a:ext cx="4443480" cy="325116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525240" y="1827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040760" y="2846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yl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14080" y="55609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596480" y="19605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un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739320" y="458640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r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646640" y="50054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925880" y="306216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zone pace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858680" y="2033640"/>
            <a:ext cx="12538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482840" y="3279600"/>
            <a:ext cx="0" cy="87336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46080" y="4743360"/>
            <a:ext cx="0" cy="87336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4522320" y="3259080"/>
            <a:ext cx="4539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647720" y="4743360"/>
            <a:ext cx="714600" cy="190440"/>
          </a:xfrm>
          <a:custGeom>
            <a:avLst/>
            <a:gdLst/>
            <a:ahLst/>
            <a:rect l="l" t="t" r="r" b="b"/>
            <a:pathLst>
              <a:path w="450" h="120">
                <a:moveTo>
                  <a:pt x="0" y="0"/>
                </a:moveTo>
                <a:lnTo>
                  <a:pt x="0" y="120"/>
                </a:lnTo>
                <a:lnTo>
                  <a:pt x="450" y="120"/>
                </a:lnTo>
                <a:lnTo>
                  <a:pt x="450" y="12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419200" y="3314880"/>
            <a:ext cx="2467080" cy="1618920"/>
          </a:xfrm>
          <a:custGeom>
            <a:avLst/>
            <a:gdLst/>
            <a:ahLst/>
            <a:rect l="l" t="t" r="r" b="b"/>
            <a:pathLst>
              <a:path w="1500" h="1020">
                <a:moveTo>
                  <a:pt x="0" y="912"/>
                </a:moveTo>
                <a:lnTo>
                  <a:pt x="0" y="1020"/>
                </a:lnTo>
                <a:lnTo>
                  <a:pt x="986" y="756"/>
                </a:lnTo>
                <a:lnTo>
                  <a:pt x="1500" y="242"/>
                </a:lnTo>
                <a:lnTo>
                  <a:pt x="150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4809960" y="3324240"/>
            <a:ext cx="763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67160" y="1992240"/>
            <a:ext cx="1419120" cy="1189080"/>
          </a:xfrm>
          <a:custGeom>
            <a:avLst/>
            <a:gdLst/>
            <a:ahLst/>
            <a:rect l="l" t="t" r="r" b="b"/>
            <a:pathLst>
              <a:path w="894" h="749">
                <a:moveTo>
                  <a:pt x="852" y="749"/>
                </a:moveTo>
                <a:lnTo>
                  <a:pt x="894" y="743"/>
                </a:lnTo>
                <a:lnTo>
                  <a:pt x="894" y="359"/>
                </a:lnTo>
                <a:lnTo>
                  <a:pt x="660" y="0"/>
                </a:lnTo>
                <a:lnTo>
                  <a:pt x="0" y="0"/>
                </a:lnTo>
                <a:lnTo>
                  <a:pt x="0" y="191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033080" y="5129280"/>
            <a:ext cx="46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royage des ali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vacuation contrôlée vers le 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87200" y="682560"/>
            <a:ext cx="3746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de l’estom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7680" y="1382760"/>
            <a:ext cx="8057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0000"/>
                </a:solidFill>
                <a:latin typeface="Trebuchet MS"/>
              </a:rPr>
              <a:t>grande variabilité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ans la prise de nourr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ans le type de nourr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ans les besoins quantitatifs / qualita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buveurs de liq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icroph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acroph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herbiv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rniv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tritiv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ymbiose éventuelle (ex : digestion de la cellulo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81280" y="114480"/>
            <a:ext cx="46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bases de physiologie compa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0600" y="5557680"/>
            <a:ext cx="87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en relation avec l’anatomie et le fonctionnement de l’appareil digestif (système digest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57680" y="3097080"/>
            <a:ext cx="3930840" cy="20408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B : certains nutriments indispens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(non synthétisés à partir de précurs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ides aminés essenti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ides gras essenti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itam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   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variable selon les espè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ypes d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74520" y="1098720"/>
            <a:ext cx="3767400" cy="27558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235440" y="4108320"/>
            <a:ext cx="880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malaxage des aliments : formation du chy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traction de la partier caudale de l’estomac : onde lente (3 / 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rigine : pacemaker de l’estomac : onde lente du 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nde de contraction vers l’antre : propagation des ali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ermeture de la partie distale de l’antre : refoulement des aliments en arr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mplexe électrique migrant : ondes de contraction lentes toutes les 9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y compris si estomac v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060800" y="1344600"/>
            <a:ext cx="496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réservoir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undus et partie haute du corps de l’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xation de réception : réflexe vago-va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stension de l’estomac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NC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relaxation (NO, V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87200" y="682560"/>
            <a:ext cx="4635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ctivité contractile de l’estom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279440" y="4619520"/>
            <a:ext cx="584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vidang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énomène contrô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iquide / solide ; taille des particules alimentaires (1 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889520" y="1841400"/>
            <a:ext cx="2882880" cy="1797120"/>
          </a:xfrm>
          <a:custGeom>
            <a:avLst/>
            <a:gdLst/>
            <a:ahLst/>
            <a:rect l="l" t="t" r="r" b="b"/>
            <a:pathLst>
              <a:path w="1852" h="1132">
                <a:moveTo>
                  <a:pt x="0" y="0"/>
                </a:moveTo>
                <a:lnTo>
                  <a:pt x="0" y="1132"/>
                </a:lnTo>
                <a:lnTo>
                  <a:pt x="1852" y="1132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613480" y="3638520"/>
            <a:ext cx="0" cy="44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337440" y="3645000"/>
            <a:ext cx="0" cy="44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61040" y="3645000"/>
            <a:ext cx="0" cy="44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896000" y="1806480"/>
            <a:ext cx="2933640" cy="1832040"/>
          </a:xfrm>
          <a:custGeom>
            <a:avLst/>
            <a:gdLst/>
            <a:ahLst/>
            <a:rect l="l" t="t" r="r" b="b"/>
            <a:pathLst>
              <a:path w="1848" h="1154">
                <a:moveTo>
                  <a:pt x="0" y="1154"/>
                </a:moveTo>
                <a:cubicBezTo>
                  <a:pt x="17" y="1084"/>
                  <a:pt x="53" y="870"/>
                  <a:pt x="104" y="730"/>
                </a:cubicBezTo>
                <a:cubicBezTo>
                  <a:pt x="155" y="590"/>
                  <a:pt x="216" y="422"/>
                  <a:pt x="304" y="314"/>
                </a:cubicBezTo>
                <a:cubicBezTo>
                  <a:pt x="392" y="206"/>
                  <a:pt x="522" y="132"/>
                  <a:pt x="632" y="82"/>
                </a:cubicBezTo>
                <a:cubicBezTo>
                  <a:pt x="742" y="32"/>
                  <a:pt x="876" y="27"/>
                  <a:pt x="966" y="14"/>
                </a:cubicBezTo>
                <a:cubicBezTo>
                  <a:pt x="1056" y="1"/>
                  <a:pt x="1025" y="4"/>
                  <a:pt x="1172" y="2"/>
                </a:cubicBezTo>
                <a:cubicBezTo>
                  <a:pt x="1319" y="0"/>
                  <a:pt x="1583" y="2"/>
                  <a:pt x="1848" y="2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889520" y="1801800"/>
            <a:ext cx="2940120" cy="1847880"/>
          </a:xfrm>
          <a:custGeom>
            <a:avLst/>
            <a:gdLst/>
            <a:ahLst/>
            <a:rect l="l" t="t" r="r" b="b"/>
            <a:pathLst>
              <a:path w="1852" h="1164">
                <a:moveTo>
                  <a:pt x="0" y="1157"/>
                </a:moveTo>
                <a:cubicBezTo>
                  <a:pt x="43" y="1152"/>
                  <a:pt x="175" y="1164"/>
                  <a:pt x="260" y="1125"/>
                </a:cubicBezTo>
                <a:cubicBezTo>
                  <a:pt x="345" y="1086"/>
                  <a:pt x="408" y="1021"/>
                  <a:pt x="508" y="925"/>
                </a:cubicBezTo>
                <a:cubicBezTo>
                  <a:pt x="608" y="829"/>
                  <a:pt x="741" y="670"/>
                  <a:pt x="860" y="549"/>
                </a:cubicBezTo>
                <a:cubicBezTo>
                  <a:pt x="979" y="428"/>
                  <a:pt x="1123" y="279"/>
                  <a:pt x="1220" y="197"/>
                </a:cubicBezTo>
                <a:cubicBezTo>
                  <a:pt x="1317" y="115"/>
                  <a:pt x="1379" y="88"/>
                  <a:pt x="1444" y="57"/>
                </a:cubicBezTo>
                <a:cubicBezTo>
                  <a:pt x="1509" y="26"/>
                  <a:pt x="1540" y="18"/>
                  <a:pt x="1608" y="9"/>
                </a:cubicBezTo>
                <a:cubicBezTo>
                  <a:pt x="1676" y="0"/>
                  <a:pt x="1764" y="0"/>
                  <a:pt x="1852" y="1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74520" y="1098720"/>
            <a:ext cx="3767400" cy="27558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7862040" y="3460680"/>
            <a:ext cx="10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emps (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935960" y="3689280"/>
            <a:ext cx="26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        1         2          3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781760" y="3651120"/>
            <a:ext cx="0" cy="44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4762440" y="1838160"/>
            <a:ext cx="1238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16200000">
            <a:off x="4067640" y="27648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id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81600" y="167004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0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038920" y="165564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liq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429960" y="26528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87200" y="682560"/>
            <a:ext cx="3098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idange de l’estom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150840" y="1384200"/>
            <a:ext cx="2035080" cy="148932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2951280" y="2849400"/>
            <a:ext cx="4362480" cy="447840"/>
          </a:xfrm>
          <a:prstGeom prst="rect">
            <a:avLst/>
          </a:prstGeom>
          <a:gradFill rotWithShape="0">
            <a:gsLst>
              <a:gs pos="0">
                <a:srgbClr val="fe9d85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idange gas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251240" y="2035080"/>
            <a:ext cx="0" cy="814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726080" y="2035080"/>
            <a:ext cx="0" cy="814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83240" y="2435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109480" y="2203560"/>
            <a:ext cx="165744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913840" y="2203560"/>
            <a:ext cx="127332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20840" y="2435400"/>
            <a:ext cx="2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173400" y="4233960"/>
            <a:ext cx="3633840" cy="5461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382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279600" y="4319640"/>
            <a:ext cx="443160" cy="40644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282920" y="4308480"/>
            <a:ext cx="443160" cy="40788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640480" y="4297320"/>
            <a:ext cx="442800" cy="40788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004160" y="4332240"/>
            <a:ext cx="185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66"/>
                </a:solidFill>
                <a:latin typeface="Trebuchet MS"/>
              </a:rPr>
              <a:t>princip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66"/>
                </a:solidFill>
                <a:latin typeface="Trebuchet MS"/>
              </a:rPr>
              <a:t>chémorécepteu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66"/>
                </a:solidFill>
                <a:latin typeface="Trebuchet MS"/>
              </a:rPr>
              <a:t>duodén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73920" y="5051520"/>
            <a:ext cx="8085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id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390560" y="5041800"/>
            <a:ext cx="865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ra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865120" y="5037120"/>
            <a:ext cx="439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3500280" y="331128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4494240" y="330012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5883120" y="330012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956320" y="3679920"/>
            <a:ext cx="10522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sécré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172400" y="3583080"/>
            <a:ext cx="5616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G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53920" y="3646440"/>
            <a:ext cx="9655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gastr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586320" y="4725720"/>
            <a:ext cx="0" cy="353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4610160" y="4705200"/>
            <a:ext cx="0" cy="35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5999040" y="4705200"/>
            <a:ext cx="0" cy="35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476440" y="1874880"/>
            <a:ext cx="1879560" cy="4052880"/>
          </a:xfrm>
          <a:custGeom>
            <a:avLst/>
            <a:gdLst/>
            <a:ahLst/>
            <a:rect l="l" t="t" r="r" b="b"/>
            <a:pathLst>
              <a:path w="1184" h="2553">
                <a:moveTo>
                  <a:pt x="1176" y="2539"/>
                </a:moveTo>
                <a:lnTo>
                  <a:pt x="1184" y="2547"/>
                </a:lnTo>
                <a:lnTo>
                  <a:pt x="0" y="2553"/>
                </a:lnTo>
                <a:lnTo>
                  <a:pt x="0" y="0"/>
                </a:lnTo>
                <a:lnTo>
                  <a:pt x="953" y="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335480" y="4716360"/>
            <a:ext cx="0" cy="12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21000" y="4722840"/>
            <a:ext cx="0" cy="12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13960" y="3176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536360" y="3173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958720" y="31622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46320" y="1727280"/>
            <a:ext cx="22230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trôle de la vidange gast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788080" y="725400"/>
            <a:ext cx="33559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elation duodénum-estom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2384280" y="1839960"/>
            <a:ext cx="615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entre du vomissement (SNC) + récepteurs duodénaux/gastr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éristaltime inverse (duodénum+ estoma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+ inspiration (dépression oesophag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+ contraction muscles abdominaux (supress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+ ouverture réflexe du S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1"/>
          <a:stretch/>
        </p:blipFill>
        <p:spPr>
          <a:xfrm>
            <a:off x="150840" y="1384200"/>
            <a:ext cx="2035080" cy="148932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016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trôle de la vidange gast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727680" y="725400"/>
            <a:ext cx="22640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vomissement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01680" y="107172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vité de segmentation et de péristalt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36400" y="2716200"/>
            <a:ext cx="8089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à jeûn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 :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lexe moteur migrant (CMM) : activité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initiation au niveau du pacemaker gastrique 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propagation jusqu’à la valvule iléo-coecale en 90-120 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ase I (35-65 min) :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ase II (25-60 min) : activité irréguli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ase III (5–10 min) : activité régulière et propag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295880" y="1550880"/>
            <a:ext cx="3565080" cy="1095480"/>
            <a:chOff x="4295880" y="1550880"/>
            <a:chExt cx="3565080" cy="1095480"/>
          </a:xfrm>
        </p:grpSpPr>
        <p:pic>
          <p:nvPicPr>
            <p:cNvPr id="958" name="" descr=""/>
            <p:cNvPicPr/>
            <p:nvPr/>
          </p:nvPicPr>
          <p:blipFill>
            <a:blip r:embed="rId1"/>
            <a:stretch/>
          </p:blipFill>
          <p:spPr>
            <a:xfrm>
              <a:off x="4295880" y="1550880"/>
              <a:ext cx="13003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2"/>
            <a:stretch/>
          </p:blipFill>
          <p:spPr>
            <a:xfrm>
              <a:off x="6638400" y="1554480"/>
              <a:ext cx="122256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4903920" y="1934280"/>
              <a:ext cx="0" cy="551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96840" y="203976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96840" y="181908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065560" y="11448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de l’intestin gr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tilité à jeû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01680" y="107172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vité de segmentation et de péristalt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36400" y="2716200"/>
            <a:ext cx="80899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à jeûn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 :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omplexe moteur migrant (CMM) : activité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initiation au niveau du pacemaker gastrique </a:t>
            </a:r>
            <a:r>
              <a:rPr b="0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propagation jusqu’à la valvule iléo-coecale en 90-120 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hase I (35-65 min) : 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hase II (25-60 min) : activité irrégul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hase III (5–10 min) : activité régulière et propag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repas  :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ctivité semblable à phases II et III : segmentation (fractionnement et refoulement du chyme dans les 2 sens) + péristaltis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4295880" y="1550880"/>
            <a:ext cx="3565080" cy="1095480"/>
            <a:chOff x="4295880" y="1550880"/>
            <a:chExt cx="3565080" cy="1095480"/>
          </a:xfrm>
        </p:grpSpPr>
        <p:pic>
          <p:nvPicPr>
            <p:cNvPr id="970" name="" descr=""/>
            <p:cNvPicPr/>
            <p:nvPr/>
          </p:nvPicPr>
          <p:blipFill>
            <a:blip r:embed="rId1"/>
            <a:stretch/>
          </p:blipFill>
          <p:spPr>
            <a:xfrm>
              <a:off x="4295880" y="1550880"/>
              <a:ext cx="13003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2"/>
            <a:stretch/>
          </p:blipFill>
          <p:spPr>
            <a:xfrm>
              <a:off x="6638400" y="1554480"/>
              <a:ext cx="122256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4903920" y="1934280"/>
              <a:ext cx="0" cy="551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296840" y="203976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296840" y="181908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065560" y="11448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de l’intestin gr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tilité après un rep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695160" y="1266840"/>
            <a:ext cx="785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efoulement du chyme dans les 2 sens) + péristaltis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action de segmentation : formation de « hautra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uvement de masse (1 – 3 /j) : péristaltisme avec avancée importante du contenu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035320" y="1144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du gros l’inte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aecum et côlon proximal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339840" y="3108240"/>
            <a:ext cx="8537400" cy="3689280"/>
            <a:chOff x="339840" y="3108240"/>
            <a:chExt cx="8537400" cy="3689280"/>
          </a:xfrm>
        </p:grpSpPr>
        <p:sp>
          <p:nvSpPr>
            <p:cNvPr id="985" name=""/>
            <p:cNvSpPr/>
            <p:nvPr/>
          </p:nvSpPr>
          <p:spPr>
            <a:xfrm>
              <a:off x="339840" y="3108240"/>
              <a:ext cx="4711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fr-FR" sz="2200" spc="-1" strike="noStrike">
                  <a:solidFill>
                    <a:srgbClr val="000066"/>
                  </a:solidFill>
                  <a:latin typeface="Trebuchet MS"/>
                </a:rPr>
                <a:t>côlon dist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04880" y="3654360"/>
              <a:ext cx="817236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refoulement du chyme dans les 2 sens) + péristaltism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matériel fécale semi-solide (réabsorption d’ea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propulsion lente vers le rect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réflexe gastro-colique : aliments dans l’estomac </a:t>
              </a:r>
              <a:r>
                <a:rPr b="0" lang="fr-FR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 motilité du côl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composante parasympathique rapide (réponse nerveuse à la distens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composante hormonale lente (distension </a:t>
              </a:r>
              <a:r>
                <a:rPr b="0" lang="fr-FR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 gastrine, CC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44400" y="1521000"/>
            <a:ext cx="7550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phincter involontaire (muscle lis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phincter volontaire (muscle stri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emplissage de l’ampoule anale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réflexe de défé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flexe recto-sphinctérie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flexe recto-anal inhibiteur : relaxation involontaire du sphincter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flexe recto-anal excitateur : contraction volontaire du sphincter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263000" y="1144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fé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ectum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568440" y="952560"/>
            <a:ext cx="6905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écrétions exocrines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ibérées dans la lumière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écrétions endocrines /paracrine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ibérées dans la circulation / loca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écrétions exocrines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3357720" y="1376280"/>
            <a:ext cx="2157120" cy="440064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5273640" y="3187800"/>
            <a:ext cx="9907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84480" y="3936960"/>
            <a:ext cx="26701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378160" y="3213000"/>
            <a:ext cx="14223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4" name=""/>
          <p:cNvGraphicFramePr/>
          <p:nvPr/>
        </p:nvGraphicFramePr>
        <p:xfrm>
          <a:off x="1057320" y="3738600"/>
          <a:ext cx="2438280" cy="245592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rebuchet MS"/>
                          <a:ea typeface="Arial"/>
                        </a:rPr>
                        <a:t>pancré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H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iso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lipases pancré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té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a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5" name=""/>
          <p:cNvGraphicFramePr/>
          <p:nvPr/>
        </p:nvGraphicFramePr>
        <p:xfrm>
          <a:off x="5553000" y="2989440"/>
          <a:ext cx="2540160" cy="1663560"/>
        </p:xfrm>
        <a:graphic>
          <a:graphicData uri="http://schemas.openxmlformats.org/drawingml/2006/table">
            <a:tbl>
              <a:tblPr/>
              <a:tblGrid>
                <a:gridCol w="254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Verdana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Verdana"/>
                          <a:ea typeface="Arial"/>
                        </a:rPr>
                        <a:t>H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Verdana"/>
                          <a:ea typeface="Arial"/>
                        </a:rPr>
                        <a:t>pepsinogè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Verdana"/>
                          <a:ea typeface="Arial"/>
                        </a:rPr>
                        <a:t>facteur intrinsèque (F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5807160" y="1006560"/>
          <a:ext cx="1778040" cy="1754280"/>
        </p:xfrm>
        <a:graphic>
          <a:graphicData uri="http://schemas.openxmlformats.org/drawingml/2006/table">
            <a:tbl>
              <a:tblPr/>
              <a:tblGrid>
                <a:gridCol w="1778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hypo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Verdana"/>
                          <a:ea typeface="Arial"/>
                        </a:rPr>
                        <a:t>s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H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PS"/>
                          <a:ea typeface="SymbolPS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lysos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7" name=""/>
          <p:cNvGraphicFramePr/>
          <p:nvPr/>
        </p:nvGraphicFramePr>
        <p:xfrm>
          <a:off x="816120" y="1625760"/>
          <a:ext cx="2409840" cy="1753920"/>
        </p:xfrm>
        <a:graphic>
          <a:graphicData uri="http://schemas.openxmlformats.org/drawingml/2006/table">
            <a:tbl>
              <a:tblPr/>
              <a:tblGrid>
                <a:gridCol w="240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els bil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igments bil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lécith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olesté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rebuchet MS"/>
                          <a:ea typeface="Arial"/>
                        </a:rPr>
                        <a:t>foie (bi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8" name=""/>
          <p:cNvGraphicFramePr/>
          <p:nvPr/>
        </p:nvGraphicFramePr>
        <p:xfrm>
          <a:off x="5641920" y="4830840"/>
          <a:ext cx="1663920" cy="1403280"/>
        </p:xfrm>
        <a:graphic>
          <a:graphicData uri="http://schemas.openxmlformats.org/drawingml/2006/table">
            <a:tbl>
              <a:tblPr/>
              <a:tblGrid>
                <a:gridCol w="1663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rebuchet MS"/>
                          <a:ea typeface="Arial"/>
                        </a:rPr>
                        <a:t>intes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électrol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mu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9" name=""/>
          <p:cNvSpPr/>
          <p:nvPr/>
        </p:nvSpPr>
        <p:spPr>
          <a:xfrm>
            <a:off x="4121280" y="5029200"/>
            <a:ext cx="18666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003640" y="1536840"/>
            <a:ext cx="10288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81280" y="114480"/>
            <a:ext cx="46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bases de physiologie compa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86840" y="1154160"/>
            <a:ext cx="4134600" cy="5575320"/>
            <a:chOff x="186840" y="1154160"/>
            <a:chExt cx="4134600" cy="557532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339840" y="1521000"/>
              <a:ext cx="1595160" cy="44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472760" y="1154160"/>
              <a:ext cx="23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apport des ali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63800" y="1979640"/>
              <a:ext cx="161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(stock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des alimen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6840" y="6361200"/>
              <a:ext cx="243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rejet des excré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90720" y="5956200"/>
              <a:ext cx="0" cy="343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19240" y="2705040"/>
              <a:ext cx="0" cy="1663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92160" y="2031840"/>
              <a:ext cx="0" cy="546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97080" y="3760920"/>
              <a:ext cx="0" cy="1663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28600" y="304632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diges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49720" y="4253040"/>
              <a:ext cx="146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absor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assimi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34920" y="1790640"/>
              <a:ext cx="297000" cy="3898800"/>
            </a:xfrm>
            <a:custGeom>
              <a:avLst/>
              <a:gdLst/>
              <a:ahLst/>
              <a:rect l="l" t="t" r="r" b="b"/>
              <a:pathLst>
                <a:path w="187" h="2456">
                  <a:moveTo>
                    <a:pt x="107" y="0"/>
                  </a:moveTo>
                  <a:cubicBezTo>
                    <a:pt x="104" y="250"/>
                    <a:pt x="102" y="500"/>
                    <a:pt x="99" y="712"/>
                  </a:cubicBezTo>
                  <a:cubicBezTo>
                    <a:pt x="96" y="924"/>
                    <a:pt x="76" y="1132"/>
                    <a:pt x="91" y="1272"/>
                  </a:cubicBezTo>
                  <a:cubicBezTo>
                    <a:pt x="106" y="1412"/>
                    <a:pt x="187" y="1480"/>
                    <a:pt x="187" y="1552"/>
                  </a:cubicBezTo>
                  <a:cubicBezTo>
                    <a:pt x="187" y="1624"/>
                    <a:pt x="96" y="1643"/>
                    <a:pt x="91" y="1704"/>
                  </a:cubicBezTo>
                  <a:cubicBezTo>
                    <a:pt x="86" y="1765"/>
                    <a:pt x="168" y="1859"/>
                    <a:pt x="155" y="1920"/>
                  </a:cubicBezTo>
                  <a:cubicBezTo>
                    <a:pt x="142" y="1981"/>
                    <a:pt x="22" y="2011"/>
                    <a:pt x="11" y="2072"/>
                  </a:cubicBezTo>
                  <a:cubicBezTo>
                    <a:pt x="0" y="2133"/>
                    <a:pt x="88" y="2233"/>
                    <a:pt x="91" y="2288"/>
                  </a:cubicBezTo>
                  <a:cubicBezTo>
                    <a:pt x="94" y="2343"/>
                    <a:pt x="36" y="2372"/>
                    <a:pt x="27" y="2400"/>
                  </a:cubicBezTo>
                  <a:cubicBezTo>
                    <a:pt x="18" y="2428"/>
                    <a:pt x="33" y="2444"/>
                    <a:pt x="35" y="245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92240" y="13334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288" y="0"/>
                  </a:moveTo>
                  <a:lnTo>
                    <a:pt x="0" y="0"/>
                  </a:lnTo>
                  <a:lnTo>
                    <a:pt x="0" y="12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39600" y="5450040"/>
              <a:ext cx="248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stockage des déch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05120" y="5400720"/>
              <a:ext cx="0" cy="4554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fonctionnel géné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2525760"/>
            <a:ext cx="45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écrétions digestives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zymes, HCl, sels biliair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5880" y="1611360"/>
            <a:ext cx="45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ransit : motilité intest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95880" y="3745080"/>
            <a:ext cx="456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bsorption, assimila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utriments , médicaments, tox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équilibre hyd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1280" y="5994360"/>
            <a:ext cx="53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00"/>
                </a:solidFill>
                <a:latin typeface="Trebuchet MS"/>
              </a:rPr>
              <a:t>régulation endocrine : gastrine, sécrétine</a:t>
            </a:r>
            <a:r>
              <a:rPr b="0" lang="fr-FR" sz="2000" spc="-1" strike="noStrike">
                <a:solidFill>
                  <a:srgbClr val="cc0000"/>
                </a:solidFill>
                <a:latin typeface="Trebuchet MS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487440" y="1643040"/>
            <a:ext cx="2157480" cy="440064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1422360" y="2836800"/>
            <a:ext cx="1222560" cy="12272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3352680" y="1384200"/>
          <a:ext cx="4951440" cy="1009800"/>
        </p:xfrm>
        <a:graphic>
          <a:graphicData uri="http://schemas.openxmlformats.org/drawingml/2006/table">
            <a:tbl>
              <a:tblPr/>
              <a:tblGrid>
                <a:gridCol w="1866960"/>
                <a:gridCol w="1430280"/>
                <a:gridCol w="165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du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ffe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gastr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intes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horm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3340080" y="1384200"/>
          <a:ext cx="5091120" cy="3368880"/>
        </p:xfrm>
        <a:graphic>
          <a:graphicData uri="http://schemas.openxmlformats.org/drawingml/2006/table">
            <a:tbl>
              <a:tblPr/>
              <a:tblGrid>
                <a:gridCol w="1919160"/>
                <a:gridCol w="1471680"/>
                <a:gridCol w="1700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du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ffe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gastr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</a:t>
                      </a: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intest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intes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olécystokinine (CC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duodénum, jéju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pancréas,  fo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écré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duodé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pancréas,  fo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G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duodénum, jéju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 (pancré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487440" y="1643040"/>
            <a:ext cx="2157480" cy="440064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>
            <a:off x="965160" y="3878280"/>
            <a:ext cx="689040" cy="871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378240" y="5438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NB : autres hormones (pancréas endocr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horm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487440" y="1643040"/>
            <a:ext cx="2157480" cy="440064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2876040" y="3656160"/>
            <a:ext cx="39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ction paracrine : à courte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8" name=""/>
          <p:cNvGraphicFramePr/>
          <p:nvPr/>
        </p:nvGraphicFramePr>
        <p:xfrm>
          <a:off x="3352680" y="1384200"/>
          <a:ext cx="3297240" cy="1098720"/>
        </p:xfrm>
        <a:graphic>
          <a:graphicData uri="http://schemas.openxmlformats.org/drawingml/2006/table">
            <a:tbl>
              <a:tblPr/>
              <a:tblGrid>
                <a:gridCol w="1866960"/>
                <a:gridCol w="1430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média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du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ist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omatosta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9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édiateurs paracr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693800" y="2384280"/>
            <a:ext cx="5667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glandes salivaires principales (90 % salive) :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ubling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parot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ous-maxil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glandes salivaires annexes (10 % sal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glandes salivaires et appareil sécré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512640" y="1370160"/>
            <a:ext cx="618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acinus : cellules séreuses (zymogène) + cellules à 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alive prim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3938760" y="1816200"/>
            <a:ext cx="3978000" cy="342108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1730880" y="432108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nduit saliv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97280" y="2317680"/>
            <a:ext cx="217440" cy="1600200"/>
          </a:xfrm>
          <a:custGeom>
            <a:avLst/>
            <a:gdLst/>
            <a:ahLst/>
            <a:rect l="l" t="t" r="r" b="b"/>
            <a:pathLst>
              <a:path w="114" h="840">
                <a:moveTo>
                  <a:pt x="108" y="0"/>
                </a:moveTo>
                <a:lnTo>
                  <a:pt x="0" y="0"/>
                </a:lnTo>
                <a:lnTo>
                  <a:pt x="0" y="840"/>
                </a:lnTo>
                <a:lnTo>
                  <a:pt x="114" y="840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952360" y="28591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ci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7295760" y="3243240"/>
            <a:ext cx="27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6986520" y="3346560"/>
            <a:ext cx="92160" cy="171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170480" y="2854440"/>
            <a:ext cx="90360" cy="19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739280" y="2916360"/>
            <a:ext cx="105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sal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prim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6518160" y="2558520"/>
            <a:ext cx="125640" cy="466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482160" y="226224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6129360" y="2546280"/>
            <a:ext cx="92160" cy="411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855400" y="2147760"/>
            <a:ext cx="694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278040" y="3129120"/>
            <a:ext cx="125640" cy="399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6060960" y="3049560"/>
            <a:ext cx="68400" cy="39996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848920" y="340524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025680" y="344016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564240" y="4718160"/>
            <a:ext cx="639720" cy="330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149600" y="486396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salive défin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14800" y="5484960"/>
            <a:ext cx="540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drainage : divers canaux innervés et vascularis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modification de la composition de la sal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alive défin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606840" y="4508640"/>
            <a:ext cx="11174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glandes salivaires et appareil sécré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3938760" y="1816200"/>
            <a:ext cx="3978000" cy="342108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1730880" y="432108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nduit saliv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797280" y="2317680"/>
            <a:ext cx="217440" cy="1600200"/>
          </a:xfrm>
          <a:custGeom>
            <a:avLst/>
            <a:gdLst/>
            <a:ahLst/>
            <a:rect l="l" t="t" r="r" b="b"/>
            <a:pathLst>
              <a:path w="114" h="840">
                <a:moveTo>
                  <a:pt x="108" y="0"/>
                </a:moveTo>
                <a:lnTo>
                  <a:pt x="0" y="0"/>
                </a:lnTo>
                <a:lnTo>
                  <a:pt x="0" y="840"/>
                </a:lnTo>
                <a:lnTo>
                  <a:pt x="114" y="840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952360" y="28591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ci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7295760" y="3243240"/>
            <a:ext cx="27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6986520" y="3346560"/>
            <a:ext cx="92160" cy="171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7170480" y="2854440"/>
            <a:ext cx="90360" cy="19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739280" y="2916360"/>
            <a:ext cx="105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sal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prim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6518160" y="2558520"/>
            <a:ext cx="125640" cy="466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482160" y="226224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6129360" y="2546280"/>
            <a:ext cx="92160" cy="411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55400" y="2147760"/>
            <a:ext cx="694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6278040" y="3129120"/>
            <a:ext cx="125640" cy="399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6060960" y="3049560"/>
            <a:ext cx="68400" cy="39996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848920" y="340524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025680" y="344016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564240" y="4718160"/>
            <a:ext cx="639720" cy="330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149600" y="486396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salive défin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606840" y="4508640"/>
            <a:ext cx="11174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02640" y="1359000"/>
            <a:ext cx="30855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tection de la 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ubrification des al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but de la 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antibact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rôle et composition de la sal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426960" y="1260360"/>
            <a:ext cx="86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amylase saliv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lycoproté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on à pH neutre (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inhibée par l’acidité gastr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upe les liaisons </a:t>
            </a:r>
            <a:r>
              <a:rPr b="0" lang="fr-FR" sz="1800" spc="-1" strike="noStrike">
                <a:solidFill>
                  <a:srgbClr val="990000"/>
                </a:solidFill>
                <a:latin typeface="SymbolPS"/>
                <a:ea typeface="SymbolPS"/>
              </a:rPr>
              <a:t>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-1-4 glucidiques de l’ami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rôle et composition de la sal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2280" y="2655720"/>
            <a:ext cx="86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 ling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gestion des lipides ( 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22280" y="3457440"/>
            <a:ext cx="86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ysosy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téine glycolytique : coupe les chaînes des polysaccharides bactéri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tibact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22280" y="4549680"/>
            <a:ext cx="86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c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el visqueux et lubrifiant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viscosité de la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22280" y="5388120"/>
            <a:ext cx="86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immunoglobu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mmunoglobulines plasmatiques (IgA, IgM, IgG)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gA sécrétoires : synthétisées par les plasmocytes de la 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249120" y="1704960"/>
            <a:ext cx="8525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alive primaire : isot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naux salivaires : réabsorption active d’ions (NaCl) + canaux imperméables à l’eau :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salive secondaire hypot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bit moyen : 1 à 2 litres / 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ffet du débit sur la composi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i le débit est augmenté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a composition de la salive secondaire se rapproche de celle de la salive prim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formation de la sal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638280" y="1469520"/>
            <a:ext cx="791820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ous le contrôle du système nerveux auto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pas de modulation horm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entre salivaire (bulbe rachidi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hémorécepteurs, mécanorécepteurs bucc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flexe simple : stimulation des récepteurs périphé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flexe acquis ou conditionné : sans stimulation buc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odeur, vue de la nourriture, ou stimulus assoc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flexe de Pavlov (1849-1936 ; prix Nobel en 19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948600" y="5118120"/>
            <a:ext cx="76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stimulation de la sécrétion : parasympathique </a:t>
            </a:r>
            <a:r>
              <a:rPr b="1" lang="en-GB" sz="2000" spc="-1" strike="noStrike">
                <a:solidFill>
                  <a:srgbClr val="000066"/>
                </a:solidFill>
                <a:latin typeface="Trebuchet MS"/>
              </a:rPr>
              <a:t>et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sympat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saliv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saliv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63320" y="1347840"/>
            <a:ext cx="72385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parasympat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alive aqueuse et riche en enzy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des récepteurs muscariniques, production d’IP</a:t>
            </a:r>
            <a:r>
              <a:rPr b="0" lang="en-GB" sz="20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inhibition muscarinique (atropine) : bouche sèch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82400" y="3036960"/>
            <a:ext cx="77094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sympat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alive épaisse, riche en mu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des récepteurs </a:t>
            </a:r>
            <a:r>
              <a:rPr b="0" lang="en-GB" sz="2000" spc="-1" strike="noStrike">
                <a:solidFill>
                  <a:srgbClr val="990000"/>
                </a:solidFill>
                <a:latin typeface="SymbolPS"/>
                <a:ea typeface="SymbolPS"/>
              </a:rPr>
              <a:t>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-adrénergiques, production d’AMP</a:t>
            </a:r>
            <a:r>
              <a:rPr b="0" lang="en-GB" sz="2000" spc="-1" strike="noStrike" baseline="-25000">
                <a:solidFill>
                  <a:srgbClr val="9900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7040" y="5046840"/>
            <a:ext cx="63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production de saliv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augmentée par : aliments, odeurs, nausée, réfle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diminuée par : sommeil, deshydratation, p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60880" y="1900080"/>
            <a:ext cx="4695840" cy="1673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059360" y="4519440"/>
            <a:ext cx="4698720" cy="112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39920" y="38815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55720" y="3871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jab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67000" y="385920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és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85720" y="38592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15600" y="143352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12800" y="57006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1800" y="2744640"/>
            <a:ext cx="0" cy="11541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64240" y="4255920"/>
            <a:ext cx="0" cy="7477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2730600"/>
            <a:ext cx="0" cy="11556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4255920"/>
            <a:ext cx="0" cy="7477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51520" y="4255920"/>
            <a:ext cx="0" cy="798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22920" y="5079960"/>
            <a:ext cx="0" cy="6224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3040" y="4255920"/>
            <a:ext cx="0" cy="8114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1790640"/>
            <a:ext cx="0" cy="12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2732040"/>
            <a:ext cx="0" cy="11415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93040" y="2908440"/>
            <a:ext cx="0" cy="9921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99760" y="11034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sec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19840" y="60436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nné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1280" y="114480"/>
            <a:ext cx="46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bases de physiologie compa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86840" y="1154160"/>
            <a:ext cx="4134600" cy="5575320"/>
            <a:chOff x="186840" y="1154160"/>
            <a:chExt cx="4134600" cy="557532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39840" y="1521000"/>
              <a:ext cx="1595160" cy="44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472760" y="1154160"/>
              <a:ext cx="23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apport des ali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63800" y="1979640"/>
              <a:ext cx="161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(stock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des alimen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6840" y="6361200"/>
              <a:ext cx="243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rejet des excré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5956200"/>
              <a:ext cx="0" cy="343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19240" y="2705040"/>
              <a:ext cx="0" cy="1663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92160" y="2031840"/>
              <a:ext cx="0" cy="546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97080" y="3760920"/>
              <a:ext cx="0" cy="1663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28600" y="304632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diges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49720" y="4253040"/>
              <a:ext cx="146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absor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assimi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34920" y="1790640"/>
              <a:ext cx="297000" cy="3898800"/>
            </a:xfrm>
            <a:custGeom>
              <a:avLst/>
              <a:gdLst/>
              <a:ahLst/>
              <a:rect l="l" t="t" r="r" b="b"/>
              <a:pathLst>
                <a:path w="187" h="2456">
                  <a:moveTo>
                    <a:pt x="107" y="0"/>
                  </a:moveTo>
                  <a:cubicBezTo>
                    <a:pt x="104" y="250"/>
                    <a:pt x="102" y="500"/>
                    <a:pt x="99" y="712"/>
                  </a:cubicBezTo>
                  <a:cubicBezTo>
                    <a:pt x="96" y="924"/>
                    <a:pt x="76" y="1132"/>
                    <a:pt x="91" y="1272"/>
                  </a:cubicBezTo>
                  <a:cubicBezTo>
                    <a:pt x="106" y="1412"/>
                    <a:pt x="187" y="1480"/>
                    <a:pt x="187" y="1552"/>
                  </a:cubicBezTo>
                  <a:cubicBezTo>
                    <a:pt x="187" y="1624"/>
                    <a:pt x="96" y="1643"/>
                    <a:pt x="91" y="1704"/>
                  </a:cubicBezTo>
                  <a:cubicBezTo>
                    <a:pt x="86" y="1765"/>
                    <a:pt x="168" y="1859"/>
                    <a:pt x="155" y="1920"/>
                  </a:cubicBezTo>
                  <a:cubicBezTo>
                    <a:pt x="142" y="1981"/>
                    <a:pt x="22" y="2011"/>
                    <a:pt x="11" y="2072"/>
                  </a:cubicBezTo>
                  <a:cubicBezTo>
                    <a:pt x="0" y="2133"/>
                    <a:pt x="88" y="2233"/>
                    <a:pt x="91" y="2288"/>
                  </a:cubicBezTo>
                  <a:cubicBezTo>
                    <a:pt x="94" y="2343"/>
                    <a:pt x="36" y="2372"/>
                    <a:pt x="27" y="2400"/>
                  </a:cubicBezTo>
                  <a:cubicBezTo>
                    <a:pt x="18" y="2428"/>
                    <a:pt x="33" y="2444"/>
                    <a:pt x="35" y="245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92240" y="13334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288" y="0"/>
                  </a:moveTo>
                  <a:lnTo>
                    <a:pt x="0" y="0"/>
                  </a:lnTo>
                  <a:lnTo>
                    <a:pt x="0" y="12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39600" y="5450040"/>
              <a:ext cx="248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stockage des déch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05120" y="5400720"/>
              <a:ext cx="0" cy="4554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fonctionnel géné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625320" y="2144880"/>
            <a:ext cx="3287880" cy="418140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3446640" y="4452840"/>
            <a:ext cx="76500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66640" y="42372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ellules princip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606840" y="2932200"/>
            <a:ext cx="204840" cy="925560"/>
          </a:xfrm>
          <a:custGeom>
            <a:avLst/>
            <a:gdLst/>
            <a:ahLst/>
            <a:rect l="l" t="t" r="r" b="b"/>
            <a:pathLst>
              <a:path w="108" h="486">
                <a:moveTo>
                  <a:pt x="0" y="0"/>
                </a:moveTo>
                <a:lnTo>
                  <a:pt x="108" y="0"/>
                </a:lnTo>
                <a:lnTo>
                  <a:pt x="108" y="486"/>
                </a:lnTo>
                <a:lnTo>
                  <a:pt x="24" y="486"/>
                </a:lnTo>
              </a:path>
            </a:pathLst>
          </a:custGeom>
          <a:noFill/>
          <a:ln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45160" y="3048120"/>
            <a:ext cx="173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ellules à mu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u col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193920" y="2378160"/>
            <a:ext cx="527040" cy="30168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692520" y="2019240"/>
            <a:ext cx="207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ellules épithéli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superfici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475000" y="5492880"/>
            <a:ext cx="1805040" cy="16020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251240" y="54579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ryp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365640" y="4932360"/>
            <a:ext cx="84600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157280" y="473220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ellules parié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22440" y="1407600"/>
            <a:ext cx="34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uc gastrique : 1 à 2 litres /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HCl, mucus, enzy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composition et produ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622440" y="1407600"/>
            <a:ext cx="34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uc gastrique : 1 à 2 litres /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HCl, mucus, enzy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4086360" y="2463840"/>
          <a:ext cx="4689360" cy="3227400"/>
        </p:xfrm>
        <a:graphic>
          <a:graphicData uri="http://schemas.openxmlformats.org/drawingml/2006/table">
            <a:tbl>
              <a:tblPr/>
              <a:tblGrid>
                <a:gridCol w="1863720"/>
                <a:gridCol w="2825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ellules pariét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ellules princip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epsinogène            facteur intrinsèque (F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lipase gastr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ellules muque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mu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ellules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gastr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mastocytes, histaminoc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ist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625320" y="2144880"/>
            <a:ext cx="3287880" cy="418140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composition et produ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565920" y="1293840"/>
            <a:ext cx="47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 = 2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[H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] du suc gastrique : 150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duction d’HCl par les cellules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2935440" y="2224080"/>
            <a:ext cx="5834520" cy="4260960"/>
            <a:chOff x="2935440" y="2224080"/>
            <a:chExt cx="5834520" cy="4260960"/>
          </a:xfrm>
        </p:grpSpPr>
        <p:sp>
          <p:nvSpPr>
            <p:cNvPr id="1139" name=""/>
            <p:cNvSpPr/>
            <p:nvPr/>
          </p:nvSpPr>
          <p:spPr>
            <a:xfrm>
              <a:off x="2935440" y="3602160"/>
              <a:ext cx="5437080" cy="2170080"/>
            </a:xfrm>
            <a:prstGeom prst="roundRect">
              <a:avLst>
                <a:gd name="adj" fmla="val 12495"/>
              </a:avLst>
            </a:prstGeom>
            <a:noFill/>
            <a:ln cap="rnd" w="22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5442120" y="5345280"/>
              <a:ext cx="509760" cy="82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442120" y="5338440"/>
              <a:ext cx="50976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621760" y="596124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Na</a:t>
              </a:r>
              <a:r>
                <a:rPr b="1" lang="fr-FR" sz="1600" spc="-1" strike="noStrike" baseline="30000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743720" y="5122800"/>
              <a:ext cx="38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K</a:t>
              </a:r>
              <a:r>
                <a:rPr b="1" lang="fr-FR" sz="1600" spc="-1" strike="noStrike" baseline="30000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927680" y="5373720"/>
              <a:ext cx="514080" cy="82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927680" y="5363640"/>
              <a:ext cx="514080" cy="82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77840" y="5276880"/>
              <a:ext cx="16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Na-K-ATPase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321680" y="3568680"/>
              <a:ext cx="15372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73960" y="3338640"/>
              <a:ext cx="109440" cy="495000"/>
            </a:xfrm>
            <a:custGeom>
              <a:avLst/>
              <a:gdLst/>
              <a:ahLst/>
              <a:rect l="l" t="t" r="r" b="b"/>
              <a:pathLst>
                <a:path w="72" h="325">
                  <a:moveTo>
                    <a:pt x="71" y="0"/>
                  </a:moveTo>
                  <a:lnTo>
                    <a:pt x="0" y="0"/>
                  </a:lnTo>
                  <a:lnTo>
                    <a:pt x="0" y="324"/>
                  </a:lnTo>
                  <a:lnTo>
                    <a:pt x="71" y="324"/>
                  </a:lnTo>
                </a:path>
              </a:pathLst>
            </a:custGeom>
            <a:noFill/>
            <a:ln cap="rnd" w="255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216920" y="3346560"/>
              <a:ext cx="110880" cy="495360"/>
            </a:xfrm>
            <a:custGeom>
              <a:avLst/>
              <a:gdLst/>
              <a:ahLst/>
              <a:rect l="l" t="t" r="r" b="b"/>
              <a:pathLst>
                <a:path w="73" h="325">
                  <a:moveTo>
                    <a:pt x="0" y="0"/>
                  </a:moveTo>
                  <a:lnTo>
                    <a:pt x="72" y="0"/>
                  </a:lnTo>
                  <a:lnTo>
                    <a:pt x="72" y="324"/>
                  </a:lnTo>
                  <a:lnTo>
                    <a:pt x="0" y="324"/>
                  </a:lnTo>
                </a:path>
              </a:pathLst>
            </a:custGeom>
            <a:noFill/>
            <a:ln cap="rnd" w="255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404120" y="3098880"/>
              <a:ext cx="0" cy="9810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16200000">
              <a:off x="5265000" y="5621760"/>
              <a:ext cx="315720" cy="314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16200000">
              <a:off x="7081920" y="5607000"/>
              <a:ext cx="317520" cy="333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7059600" y="5345280"/>
              <a:ext cx="0" cy="815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402680" y="5332320"/>
              <a:ext cx="0" cy="8413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500240" y="4981680"/>
              <a:ext cx="41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rebuchet MS"/>
                </a:rPr>
                <a:t>Cl</a:t>
              </a:r>
              <a:r>
                <a:rPr b="1" lang="fr-FR" sz="1600" spc="-1" strike="noStrike" baseline="30000">
                  <a:solidFill>
                    <a:srgbClr val="ff3300"/>
                  </a:solidFill>
                  <a:latin typeface="Trebuchet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220440" y="5850000"/>
              <a:ext cx="73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rebuchet MS"/>
                </a:rPr>
                <a:t>HCO</a:t>
              </a:r>
              <a:r>
                <a:rPr b="1" lang="fr-FR" sz="1600" spc="-1" strike="noStrike" baseline="-25000">
                  <a:solidFill>
                    <a:srgbClr val="ff3300"/>
                  </a:solidFill>
                  <a:latin typeface="Trebuchet MS"/>
                </a:rPr>
                <a:t>3</a:t>
              </a:r>
              <a:r>
                <a:rPr b="1" lang="fr-FR" sz="1600" spc="-1" strike="noStrike" baseline="30000">
                  <a:solidFill>
                    <a:srgbClr val="ff3300"/>
                  </a:solidFill>
                  <a:latin typeface="Trebuchet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480000" y="3154320"/>
              <a:ext cx="510480" cy="82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480000" y="3147120"/>
              <a:ext cx="510480" cy="8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966280" y="3182760"/>
              <a:ext cx="513720" cy="82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5966280" y="3172680"/>
              <a:ext cx="513720" cy="82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16200000">
              <a:off x="6302880" y="3431160"/>
              <a:ext cx="316080" cy="314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43360" y="2575080"/>
              <a:ext cx="162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H</a:t>
              </a:r>
              <a:r>
                <a:rPr b="1" lang="fr-FR" sz="1600" spc="-1" strike="noStrike" baseline="30000">
                  <a:solidFill>
                    <a:srgbClr val="000066"/>
                  </a:solidFill>
                  <a:latin typeface="Trebuchet MS"/>
                </a:rPr>
                <a:t>+</a:t>
              </a: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-K</a:t>
              </a:r>
              <a:r>
                <a:rPr b="1" lang="fr-FR" sz="1600" spc="-1" strike="noStrike" baseline="30000">
                  <a:solidFill>
                    <a:srgbClr val="000066"/>
                  </a:solidFill>
                  <a:latin typeface="Trebuchet MS"/>
                </a:rPr>
                <a:t>+</a:t>
              </a: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-ATPase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495560" y="2862360"/>
              <a:ext cx="41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rebuchet MS"/>
                </a:rPr>
                <a:t>Cl</a:t>
              </a:r>
              <a:r>
                <a:rPr b="1" lang="fr-FR" sz="1600" spc="-1" strike="noStrike" baseline="30000">
                  <a:solidFill>
                    <a:srgbClr val="ff3300"/>
                  </a:solidFill>
                  <a:latin typeface="Trebuchet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12040" y="4224240"/>
              <a:ext cx="0" cy="97164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786360" y="288936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rebuchet MS"/>
                </a:rPr>
                <a:t>H</a:t>
              </a:r>
              <a:r>
                <a:rPr b="1" lang="fr-FR" sz="1600" spc="-1" strike="noStrike" baseline="30000">
                  <a:solidFill>
                    <a:srgbClr val="ff3300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705640" y="3587760"/>
              <a:ext cx="15372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857920" y="3357720"/>
              <a:ext cx="111240" cy="495000"/>
            </a:xfrm>
            <a:custGeom>
              <a:avLst/>
              <a:gdLst/>
              <a:ahLst/>
              <a:rect l="l" t="t" r="r" b="b"/>
              <a:pathLst>
                <a:path w="72" h="325">
                  <a:moveTo>
                    <a:pt x="71" y="0"/>
                  </a:moveTo>
                  <a:lnTo>
                    <a:pt x="0" y="0"/>
                  </a:lnTo>
                  <a:lnTo>
                    <a:pt x="0" y="324"/>
                  </a:lnTo>
                  <a:lnTo>
                    <a:pt x="71" y="324"/>
                  </a:lnTo>
                </a:path>
              </a:pathLst>
            </a:custGeom>
            <a:noFill/>
            <a:ln cap="rnd" w="255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00880" y="3365640"/>
              <a:ext cx="112680" cy="495000"/>
            </a:xfrm>
            <a:custGeom>
              <a:avLst/>
              <a:gdLst/>
              <a:ahLst/>
              <a:rect l="l" t="t" r="r" b="b"/>
              <a:pathLst>
                <a:path w="73" h="325">
                  <a:moveTo>
                    <a:pt x="0" y="0"/>
                  </a:moveTo>
                  <a:lnTo>
                    <a:pt x="72" y="0"/>
                  </a:lnTo>
                  <a:lnTo>
                    <a:pt x="72" y="324"/>
                  </a:lnTo>
                  <a:lnTo>
                    <a:pt x="0" y="324"/>
                  </a:lnTo>
                </a:path>
              </a:pathLst>
            </a:custGeom>
            <a:noFill/>
            <a:ln cap="rnd" w="255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89520" y="3117960"/>
              <a:ext cx="0" cy="9810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70880" y="3871800"/>
              <a:ext cx="38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K</a:t>
              </a:r>
              <a:r>
                <a:rPr b="1" lang="fr-FR" sz="1600" spc="-1" strike="noStrike" baseline="30000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333600" y="4554360"/>
              <a:ext cx="2643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CO</a:t>
              </a:r>
              <a:r>
                <a:rPr b="1" lang="fr-FR" sz="16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 + H</a:t>
              </a:r>
              <a:r>
                <a:rPr b="1" lang="fr-FR" sz="16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O</a:t>
              </a: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	</a:t>
              </a: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 H</a:t>
              </a:r>
              <a:r>
                <a:rPr b="1" lang="fr-FR" sz="16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CO</a:t>
              </a:r>
              <a:r>
                <a:rPr b="1" lang="fr-FR" sz="1600" spc="-1" strike="noStrike" baseline="-25000">
                  <a:solidFill>
                    <a:srgbClr val="000066"/>
                  </a:solidFill>
                  <a:latin typeface="Trebuchet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75160" y="4727520"/>
              <a:ext cx="7239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105600" y="4724280"/>
              <a:ext cx="342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702120" y="424512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rebuchet MS"/>
                </a:rPr>
                <a:t>H</a:t>
              </a:r>
              <a:r>
                <a:rPr b="1" lang="fr-FR" sz="1600" spc="-1" strike="noStrike" baseline="30000">
                  <a:solidFill>
                    <a:srgbClr val="ff3300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549120" y="4532400"/>
              <a:ext cx="73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rebuchet MS"/>
                </a:rPr>
                <a:t>HCO</a:t>
              </a:r>
              <a:r>
                <a:rPr b="1" lang="fr-FR" sz="1600" spc="-1" strike="noStrike" baseline="-25000">
                  <a:solidFill>
                    <a:srgbClr val="ff3300"/>
                  </a:solidFill>
                  <a:latin typeface="Trebuchet MS"/>
                </a:rPr>
                <a:t>3</a:t>
              </a:r>
              <a:r>
                <a:rPr b="1" lang="fr-FR" sz="1600" spc="-1" strike="noStrike" baseline="30000">
                  <a:solidFill>
                    <a:srgbClr val="ff3300"/>
                  </a:solidFill>
                  <a:latin typeface="Trebuchet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58160" y="4967280"/>
              <a:ext cx="0" cy="28584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48640" y="4025880"/>
              <a:ext cx="0" cy="285840"/>
            </a:xfrm>
            <a:prstGeom prst="line">
              <a:avLst/>
            </a:prstGeom>
            <a:ln w="9360">
              <a:solidFill>
                <a:srgbClr val="0000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615920" y="4324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437240" y="2224080"/>
              <a:ext cx="1332720" cy="36828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pôle ap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485840" y="6116760"/>
              <a:ext cx="1273320" cy="36828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pôle bas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ac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2935440" y="3602160"/>
            <a:ext cx="5437080" cy="217008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5442120" y="5345280"/>
            <a:ext cx="50976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 flipV="1">
            <a:off x="5442120" y="5338440"/>
            <a:ext cx="509760" cy="81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621760" y="596124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743720" y="512280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927680" y="537372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927680" y="536364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577840" y="527688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-K-ATPa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321680" y="3568680"/>
            <a:ext cx="1537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473960" y="3338640"/>
            <a:ext cx="109440" cy="49500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216920" y="3346560"/>
            <a:ext cx="110880" cy="49536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404120" y="309888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16200000">
            <a:off x="5265000" y="5621760"/>
            <a:ext cx="31572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rot="16200000">
            <a:off x="7081920" y="5607000"/>
            <a:ext cx="317520" cy="333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059600" y="5345280"/>
            <a:ext cx="0" cy="81576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402680" y="533232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500240" y="498168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20440" y="58500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6480000" y="3154320"/>
            <a:ext cx="5104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 flipV="1">
            <a:off x="6480000" y="3147120"/>
            <a:ext cx="510480" cy="8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966280" y="3182760"/>
            <a:ext cx="513720" cy="82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5966280" y="3172680"/>
            <a:ext cx="51372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16200000">
            <a:off x="6302880" y="3431160"/>
            <a:ext cx="31608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643360" y="257508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-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-ATPa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495560" y="286236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412040" y="4224240"/>
            <a:ext cx="0" cy="9716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786360" y="288936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705640" y="3587760"/>
            <a:ext cx="1537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857920" y="3357720"/>
            <a:ext cx="111240" cy="49500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600880" y="3365640"/>
            <a:ext cx="112680" cy="4950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789520" y="311796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870880" y="387180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333600" y="4554360"/>
            <a:ext cx="264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O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475160" y="4727520"/>
            <a:ext cx="72396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105600" y="472428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702120" y="424512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549120" y="45324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58160" y="4967280"/>
            <a:ext cx="0" cy="2858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48640" y="4025880"/>
            <a:ext cx="0" cy="2858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615920" y="43243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437240" y="2224080"/>
            <a:ext cx="1332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ôle a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485840" y="6116760"/>
            <a:ext cx="12733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ôle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37400" y="1319040"/>
            <a:ext cx="70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complexe sécrétoire : pompe H</a:t>
            </a:r>
            <a:r>
              <a:rPr b="0" lang="en-GB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-K</a:t>
            </a:r>
            <a:r>
              <a:rPr b="0" lang="en-GB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-ATPase + canal K</a:t>
            </a:r>
            <a:r>
              <a:rPr b="0" lang="en-GB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+ canal Cl</a:t>
            </a:r>
            <a:r>
              <a:rPr b="0" lang="en-GB" sz="1800" spc="-1" strike="noStrike" baseline="30000">
                <a:solidFill>
                  <a:srgbClr val="990000"/>
                </a:solidFill>
                <a:latin typeface="Trebuchet MS"/>
              </a:rPr>
              <a:t>-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dépense énergétique très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181480" y="2463840"/>
            <a:ext cx="2832120" cy="1828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ac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/>
          <p:nvPr/>
        </p:nvSpPr>
        <p:spPr>
          <a:xfrm>
            <a:off x="424440" y="5420520"/>
            <a:ext cx="84650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0" lang="en-GB" sz="18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:</a:t>
            </a: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5 % de la sécrétion acide ; rôle de protection de l’épithélium (+ muc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confiné dans la couche de muc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149640" y="1592280"/>
            <a:ext cx="3854520" cy="2531880"/>
          </a:xfrm>
          <a:prstGeom prst="rect">
            <a:avLst/>
          </a:prstGeom>
          <a:gradFill rotWithShape="0">
            <a:gsLst>
              <a:gs pos="0">
                <a:srgbClr val="feeade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912840" y="20620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H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901760" y="20397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H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537800" y="3619440"/>
            <a:ext cx="694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609880" y="35971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H =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130560" y="399096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113360" y="399096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097600" y="399096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080040" y="3987720"/>
            <a:ext cx="92412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60800" y="3579840"/>
            <a:ext cx="3824280" cy="0"/>
          </a:xfrm>
          <a:prstGeom prst="line">
            <a:avLst/>
          </a:prstGeom>
          <a:ln w="1908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production de bicarbon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3149640" y="1592280"/>
            <a:ext cx="3854520" cy="2531880"/>
          </a:xfrm>
          <a:prstGeom prst="rect">
            <a:avLst/>
          </a:prstGeom>
          <a:gradFill rotWithShape="0">
            <a:gsLst>
              <a:gs pos="0">
                <a:srgbClr val="feeade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912840" y="20620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H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901760" y="20397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H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537800" y="3619440"/>
            <a:ext cx="694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609880" y="35971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H =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30560" y="399096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113360" y="399096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097600" y="399096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080040" y="3987720"/>
            <a:ext cx="92412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160800" y="3579840"/>
            <a:ext cx="3824280" cy="0"/>
          </a:xfrm>
          <a:prstGeom prst="line">
            <a:avLst/>
          </a:prstGeom>
          <a:ln w="1908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98600" y="47768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Trebuchet MS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mouvements pas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Trebuchet MS"/>
              </a:rPr>
              <a:t>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glycoprotéines hydroph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eau et muc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2315880" y="47880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princip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371680" y="4613400"/>
            <a:ext cx="2094120" cy="73188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861080" y="4597560"/>
            <a:ext cx="2093760" cy="73152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866120" y="478476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621880" y="3127320"/>
            <a:ext cx="1581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43280" y="3149640"/>
            <a:ext cx="1376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370920" y="26049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389640" y="37148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935760" y="2976480"/>
            <a:ext cx="0" cy="7844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235400" y="340056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601520" y="3905280"/>
            <a:ext cx="5540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162400" y="4121280"/>
            <a:ext cx="457200" cy="46980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240" y="246"/>
                </a:move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3241800" y="3571920"/>
            <a:ext cx="0" cy="1030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719520" y="3533760"/>
            <a:ext cx="857160" cy="595440"/>
          </a:xfrm>
          <a:custGeom>
            <a:avLst/>
            <a:gdLst/>
            <a:ahLst/>
            <a:rect l="l" t="t" r="r" b="b"/>
            <a:pathLst>
              <a:path w="426" h="312">
                <a:moveTo>
                  <a:pt x="426" y="312"/>
                </a:moveTo>
                <a:lnTo>
                  <a:pt x="0" y="31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03880" y="3378240"/>
            <a:ext cx="6969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732120" y="2847960"/>
            <a:ext cx="1590840" cy="285840"/>
          </a:xfrm>
          <a:custGeom>
            <a:avLst/>
            <a:gdLst/>
            <a:ahLst/>
            <a:rect l="l" t="t" r="r" b="b"/>
            <a:pathLst>
              <a:path w="834" h="150">
                <a:moveTo>
                  <a:pt x="834" y="150"/>
                </a:moveTo>
                <a:lnTo>
                  <a:pt x="834" y="0"/>
                </a:lnTo>
                <a:lnTo>
                  <a:pt x="0" y="0"/>
                </a:lnTo>
                <a:lnTo>
                  <a:pt x="0" y="15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40360" y="1362240"/>
            <a:ext cx="512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epsinogène : précurseur de la 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epsine : dégradation des protéines en 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e pepsinogè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514440" y="1700280"/>
            <a:ext cx="76262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stimulation de la sécrétion ac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ystème sympathique : 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récepteurs muscariniqu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IP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élévation [Ca]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(inhibiteur pharmacologique : atrop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ystème hormonal : gast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récepteur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IP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élévation [Ca]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+ libération hista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ystème paracrine : histamine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récepteur H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AMPc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P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(inhibiteur pharmacologique : cimétid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30560" y="1268280"/>
            <a:ext cx="81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production acide : externalisation / internalisation du complexe sécré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068800" y="3639960"/>
            <a:ext cx="3417840" cy="180216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740720" y="3606840"/>
            <a:ext cx="15408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893000" y="3376440"/>
            <a:ext cx="10944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635960" y="3384720"/>
            <a:ext cx="110880" cy="4950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823160" y="313704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7254720" y="3192480"/>
            <a:ext cx="5104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H="1" flipV="1">
            <a:off x="7254720" y="3185280"/>
            <a:ext cx="510480" cy="8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41000" y="3220920"/>
            <a:ext cx="51372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6741000" y="3210840"/>
            <a:ext cx="51372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rot="16200000">
            <a:off x="7077600" y="3469320"/>
            <a:ext cx="31608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14600" y="290052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383240" y="290196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480000" y="3625920"/>
            <a:ext cx="15408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632640" y="3395520"/>
            <a:ext cx="11124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75240" y="3403440"/>
            <a:ext cx="113040" cy="49536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564240" y="315612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45600" y="390996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846680" y="3835440"/>
            <a:ext cx="465120" cy="347760"/>
          </a:xfrm>
          <a:prstGeom prst="rect">
            <a:avLst/>
          </a:prstGeom>
          <a:solidFill>
            <a:srgbClr val="ff1313"/>
          </a:solidFill>
          <a:ln w="255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003320" y="592920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ACh + histamine : effet potentialisa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830840" y="4923000"/>
            <a:ext cx="465120" cy="34740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08840" y="2832120"/>
            <a:ext cx="218412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46720" y="4000680"/>
            <a:ext cx="6094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479920" y="3706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4120" y="4635360"/>
            <a:ext cx="1409760" cy="457200"/>
          </a:xfrm>
          <a:custGeom>
            <a:avLst/>
            <a:gdLst/>
            <a:ahLst/>
            <a:rect l="l" t="t" r="r" b="b"/>
            <a:pathLst>
              <a:path w="888" h="288">
                <a:moveTo>
                  <a:pt x="0" y="288"/>
                </a:moveTo>
                <a:lnTo>
                  <a:pt x="888" y="288"/>
                </a:lnTo>
                <a:lnTo>
                  <a:pt x="888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479920" y="479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846680" y="4368960"/>
            <a:ext cx="465120" cy="3474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84880" y="4305240"/>
            <a:ext cx="1041480" cy="216000"/>
          </a:xfrm>
          <a:custGeom>
            <a:avLst/>
            <a:gdLst/>
            <a:ahLst/>
            <a:rect l="l" t="t" r="r" b="b"/>
            <a:pathLst>
              <a:path w="888" h="288">
                <a:moveTo>
                  <a:pt x="0" y="288"/>
                </a:moveTo>
                <a:lnTo>
                  <a:pt x="888" y="288"/>
                </a:lnTo>
                <a:lnTo>
                  <a:pt x="888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479920" y="4214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gast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91160" y="1670040"/>
            <a:ext cx="8896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2000" spc="-1" strike="noStrike">
                <a:solidFill>
                  <a:srgbClr val="990000"/>
                </a:solidFill>
                <a:latin typeface="Trebuchet MS"/>
              </a:rPr>
              <a:t>inhibition de la sécrétion acid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estomac (antr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troaction négative : pH bas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gastrin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production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duodénum :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pH bas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sécrétine, réflexe nerveux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production HCl, gas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duodénum et jéjunum :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acides gras, monoglycérides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GIP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production HCl, gas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gast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452520" y="1774800"/>
            <a:ext cx="864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céphal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du nerf vague :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st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gastr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distension gastrique, peptones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production de gastrin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st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intestinal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lipide, pH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production de sécrétine, GIP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gast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6280" y="516888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ractus gastro-intestinal (TGI) : milieu extér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8" name=""/>
          <p:cNvGrpSpPr/>
          <p:nvPr/>
        </p:nvGrpSpPr>
        <p:grpSpPr>
          <a:xfrm>
            <a:off x="2085840" y="2617920"/>
            <a:ext cx="5943600" cy="2935800"/>
            <a:chOff x="2085840" y="2617920"/>
            <a:chExt cx="5943600" cy="2935800"/>
          </a:xfrm>
        </p:grpSpPr>
        <p:pic>
          <p:nvPicPr>
            <p:cNvPr id="1329" name="" descr=""/>
            <p:cNvPicPr/>
            <p:nvPr/>
          </p:nvPicPr>
          <p:blipFill>
            <a:blip r:embed="rId1"/>
            <a:stretch/>
          </p:blipFill>
          <p:spPr>
            <a:xfrm>
              <a:off x="2151000" y="2911320"/>
              <a:ext cx="58784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2751120" y="4610160"/>
              <a:ext cx="0" cy="6296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85840" y="5216400"/>
              <a:ext cx="123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duodén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271680" y="2765160"/>
              <a:ext cx="206280" cy="479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812680" y="2673360"/>
              <a:ext cx="52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b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5357520" y="2849040"/>
              <a:ext cx="503280" cy="6742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743440" y="2617920"/>
              <a:ext cx="218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ilots de Langerha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(pancréas endocr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106960" y="4321080"/>
              <a:ext cx="0" cy="5871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95520" y="3889440"/>
              <a:ext cx="0" cy="10267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786840" y="486252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cana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703760" y="486252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acin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871800" y="5129280"/>
              <a:ext cx="1577880" cy="102600"/>
            </a:xfrm>
            <a:custGeom>
              <a:avLst/>
              <a:gdLst/>
              <a:ahLst/>
              <a:rect l="l" t="t" r="r" b="b"/>
              <a:pathLst>
                <a:path w="828" h="54">
                  <a:moveTo>
                    <a:pt x="0" y="0"/>
                  </a:moveTo>
                  <a:lnTo>
                    <a:pt x="0" y="54"/>
                  </a:lnTo>
                  <a:lnTo>
                    <a:pt x="828" y="54"/>
                  </a:lnTo>
                  <a:lnTo>
                    <a:pt x="828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650400" y="5191200"/>
              <a:ext cx="20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(pancréas exocr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889000" y="4130640"/>
              <a:ext cx="479520" cy="399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03520" y="3489120"/>
              <a:ext cx="125280" cy="777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1947600" y="1146240"/>
            <a:ext cx="50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pancréas : sécrétion exocrine et endoc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66560" y="5751360"/>
            <a:ext cx="67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(sécrétion endoc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insuline, glucagon, somatostatine, polypeptide pancréa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78600" y="1763640"/>
            <a:ext cx="38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ion exocrine (1 à 2 litres / j)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ion enzy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ion aqueuse alca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1" name=""/>
          <p:cNvGraphicFramePr/>
          <p:nvPr/>
        </p:nvGraphicFramePr>
        <p:xfrm>
          <a:off x="698400" y="1562040"/>
          <a:ext cx="1943280" cy="351000"/>
        </p:xfrm>
        <a:graphic>
          <a:graphicData uri="http://schemas.openxmlformats.org/drawingml/2006/table">
            <a:tbl>
              <a:tblPr/>
              <a:tblGrid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PS"/>
                          <a:ea typeface="SymbolPS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2" name=""/>
          <p:cNvGraphicFramePr/>
          <p:nvPr/>
        </p:nvGraphicFramePr>
        <p:xfrm>
          <a:off x="2730600" y="1562040"/>
          <a:ext cx="3009960" cy="106056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iacylglycérol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hospholipase 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olestérol ester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3" name=""/>
          <p:cNvGraphicFramePr/>
          <p:nvPr/>
        </p:nvGraphicFramePr>
        <p:xfrm>
          <a:off x="5918040" y="1566720"/>
          <a:ext cx="2819520" cy="385920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carboxypeptidase 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carboxypeptidase 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carboxypeptidase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carboxypeptidase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ypsinogèn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ypsinogèn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ypsinogèn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ymotrypsinogè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élastas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élastas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inhibiteur de la tryps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4" name=""/>
          <p:cNvSpPr/>
          <p:nvPr/>
        </p:nvSpPr>
        <p:spPr>
          <a:xfrm>
            <a:off x="6247080" y="59929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384200" y="2108160"/>
            <a:ext cx="0" cy="3822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000680" y="2793960"/>
            <a:ext cx="0" cy="31496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70600" y="5676840"/>
            <a:ext cx="0" cy="292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principales enzymes &amp; protéines associé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44880" y="599292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lucides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508200" y="5992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2984400" y="3133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amylase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olysacchar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disacchar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enzym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9" name=""/>
          <p:cNvGraphicFramePr/>
          <p:nvPr/>
        </p:nvGraphicFramePr>
        <p:xfrm>
          <a:off x="698400" y="1562040"/>
          <a:ext cx="1943280" cy="351000"/>
        </p:xfrm>
        <a:graphic>
          <a:graphicData uri="http://schemas.openxmlformats.org/drawingml/2006/table">
            <a:tbl>
              <a:tblPr/>
              <a:tblGrid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PS"/>
                          <a:ea typeface="SymbolPS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0" name=""/>
          <p:cNvSpPr/>
          <p:nvPr/>
        </p:nvSpPr>
        <p:spPr>
          <a:xfrm>
            <a:off x="344880" y="599292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lucides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384200" y="2108160"/>
            <a:ext cx="0" cy="3822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1397160" y="5992920"/>
            <a:ext cx="11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ipides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273400" y="3357720"/>
            <a:ext cx="66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lipase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eule enzyme capable d’une digestion complète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insuffisante pancréatique exocrine : stéatorrh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4" name=""/>
          <p:cNvGraphicFramePr/>
          <p:nvPr/>
        </p:nvGraphicFramePr>
        <p:xfrm>
          <a:off x="714240" y="1566720"/>
          <a:ext cx="3009960" cy="106056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iacylglycérol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hospholipase 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olestérol ester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5" name=""/>
          <p:cNvSpPr/>
          <p:nvPr/>
        </p:nvSpPr>
        <p:spPr>
          <a:xfrm>
            <a:off x="1984320" y="2798640"/>
            <a:ext cx="0" cy="31496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enzym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/>
          <p:nvPr/>
        </p:nvSpPr>
        <p:spPr>
          <a:xfrm>
            <a:off x="4856760" y="3105000"/>
            <a:ext cx="1605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ry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497840" y="3711600"/>
            <a:ext cx="232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hymotry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460040" y="4896000"/>
            <a:ext cx="2462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carboxypeptid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847760" y="2117880"/>
            <a:ext cx="1587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ntérokin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240680" y="3105000"/>
            <a:ext cx="1055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ry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738680" y="4324320"/>
            <a:ext cx="1776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hymotry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657320" y="5460840"/>
            <a:ext cx="208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rboxypeptid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38880" y="2496960"/>
            <a:ext cx="0" cy="5860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485040" y="3349800"/>
            <a:ext cx="60804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721480" y="2841480"/>
            <a:ext cx="2062080" cy="231840"/>
          </a:xfrm>
          <a:custGeom>
            <a:avLst/>
            <a:gdLst/>
            <a:ahLst/>
            <a:rect l="l" t="t" r="r" b="b"/>
            <a:pathLst>
              <a:path w="1182" h="132">
                <a:moveTo>
                  <a:pt x="1182" y="132"/>
                </a:moveTo>
                <a:lnTo>
                  <a:pt x="1182" y="0"/>
                </a:lnTo>
                <a:lnTo>
                  <a:pt x="0" y="0"/>
                </a:lnTo>
                <a:lnTo>
                  <a:pt x="0" y="132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783560" y="3506760"/>
            <a:ext cx="0" cy="1665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6883560" y="5162400"/>
            <a:ext cx="90000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6840360" y="3936960"/>
            <a:ext cx="94320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931000" y="4114800"/>
            <a:ext cx="0" cy="198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951520" y="5319720"/>
            <a:ext cx="0" cy="198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66000" y="401148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activation dans le 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14240" y="1579680"/>
            <a:ext cx="344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proté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ées sous forme inactice (zymogène)  + inhibiteur de la try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rotection du pancréas contre ses propres proté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854240" y="156060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enzym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1097640" y="1455480"/>
            <a:ext cx="351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liquide alcalin riche en NaH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219400" y="2862360"/>
            <a:ext cx="4251240" cy="216828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4284720" y="4592520"/>
            <a:ext cx="5104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 flipV="1">
            <a:off x="4284720" y="4585320"/>
            <a:ext cx="510480" cy="8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543920" y="433692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317920" y="562284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770280" y="462132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3770280" y="461088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494240" y="2852640"/>
            <a:ext cx="15408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646520" y="2620800"/>
            <a:ext cx="10980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89480" y="2629080"/>
            <a:ext cx="112680" cy="4950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578480" y="238140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rot="16200000">
            <a:off x="4106160" y="4869360"/>
            <a:ext cx="315720" cy="3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rot="16200000">
            <a:off x="5169600" y="2705400"/>
            <a:ext cx="315720" cy="333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5146560" y="2444760"/>
            <a:ext cx="0" cy="814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489640" y="243216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626720" y="310680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336280" y="21258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669560" y="215568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585120" y="2433600"/>
            <a:ext cx="0" cy="278784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580120" y="3760920"/>
            <a:ext cx="2206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O        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672000" y="398628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741920" y="398304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290920" y="383544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568840" y="5614920"/>
            <a:ext cx="901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+ 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477040" y="4170240"/>
            <a:ext cx="0" cy="28440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487840" y="3333600"/>
            <a:ext cx="0" cy="28584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623760" y="354348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122120" y="2322360"/>
            <a:ext cx="1332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ôle a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113480" y="5148360"/>
            <a:ext cx="12733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ôle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821680" y="5637240"/>
            <a:ext cx="215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       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46600" y="580392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997520" y="580536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697120" y="4192560"/>
            <a:ext cx="117360" cy="1612800"/>
          </a:xfrm>
          <a:custGeom>
            <a:avLst/>
            <a:gdLst/>
            <a:ahLst/>
            <a:rect l="l" t="t" r="r" b="b"/>
            <a:pathLst>
              <a:path w="90" h="756">
                <a:moveTo>
                  <a:pt x="90" y="756"/>
                </a:move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09360" y="210996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052240" y="358776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637080" y="436104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68680" y="5006880"/>
            <a:ext cx="154080" cy="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720960" y="4757760"/>
            <a:ext cx="11124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63920" y="4765680"/>
            <a:ext cx="112680" cy="49536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652920" y="451800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rot="16200000">
            <a:off x="5157720" y="4832280"/>
            <a:ext cx="316080" cy="33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5478480" y="4592160"/>
            <a:ext cx="0" cy="81468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146560" y="455616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20120" y="3592440"/>
            <a:ext cx="15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nali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aqueuse alca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819360" y="1648800"/>
            <a:ext cx="74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arois des canaux perméables à l’eau : suc pancréatique isoto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460600" y="2517840"/>
            <a:ext cx="3772080" cy="2562120"/>
          </a:xfrm>
          <a:custGeom>
            <a:avLst/>
            <a:gdLst/>
            <a:ahLst/>
            <a:rect l="l" t="t" r="r" b="b"/>
            <a:pathLst>
              <a:path w="2376" h="1614">
                <a:moveTo>
                  <a:pt x="0" y="0"/>
                </a:moveTo>
                <a:lnTo>
                  <a:pt x="0" y="1614"/>
                </a:lnTo>
                <a:lnTo>
                  <a:pt x="2376" y="1614"/>
                </a:lnTo>
              </a:path>
            </a:pathLst>
          </a:custGeom>
          <a:noFill/>
          <a:ln w="93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460600" y="2955960"/>
            <a:ext cx="368604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653440" y="261612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Na</a:t>
            </a:r>
            <a:r>
              <a:rPr b="1" lang="fr-FR" sz="16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rot="10800000">
            <a:off x="2460600" y="3032640"/>
            <a:ext cx="7333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 rot="10800000">
            <a:off x="2460600" y="3107880"/>
            <a:ext cx="7333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944880" y="51642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582520" y="307332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ff0000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ff0000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742720" y="448308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80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8080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104480" y="580464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effet du débit sur la compo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rot="16200000">
            <a:off x="1143360" y="33994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aqueuse alca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6" name=""/>
          <p:cNvGrpSpPr/>
          <p:nvPr/>
        </p:nvGrpSpPr>
        <p:grpSpPr>
          <a:xfrm>
            <a:off x="1276200" y="2143080"/>
            <a:ext cx="7175520" cy="4056840"/>
            <a:chOff x="1276200" y="2143080"/>
            <a:chExt cx="7175520" cy="4056840"/>
          </a:xfrm>
        </p:grpSpPr>
        <p:sp>
          <p:nvSpPr>
            <p:cNvPr id="1467" name=""/>
            <p:cNvSpPr/>
            <p:nvPr/>
          </p:nvSpPr>
          <p:spPr>
            <a:xfrm>
              <a:off x="6697440" y="2293920"/>
              <a:ext cx="919080" cy="3070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1beb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66"/>
                  </a:solidFill>
                  <a:latin typeface="Trebuchet MS"/>
                </a:rPr>
                <a:t>   </a:t>
              </a:r>
              <a:r>
                <a:rPr b="1" lang="fr-FR" sz="1400" spc="-1" strike="noStrike">
                  <a:solidFill>
                    <a:srgbClr val="000066"/>
                  </a:solidFill>
                  <a:latin typeface="Trebuchet MS"/>
                </a:rPr>
                <a:t>SNC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149640" y="3055680"/>
              <a:ext cx="4937040" cy="8874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c4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65640" y="2678040"/>
              <a:ext cx="0" cy="388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948120" y="3894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962400" y="266832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605040" y="4940280"/>
              <a:ext cx="3932280" cy="582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feb382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719520" y="5032080"/>
              <a:ext cx="480960" cy="435240"/>
            </a:xfrm>
            <a:prstGeom prst="rect">
              <a:avLst/>
            </a:prstGeom>
            <a:gradFill rotWithShape="0">
              <a:gsLst>
                <a:gs pos="0">
                  <a:srgbClr val="b5d2d2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965480" y="5020920"/>
              <a:ext cx="1908360" cy="433440"/>
            </a:xfrm>
            <a:prstGeom prst="rect">
              <a:avLst/>
            </a:prstGeom>
            <a:gradFill rotWithShape="0">
              <a:gsLst>
                <a:gs pos="0">
                  <a:srgbClr val="b5d2d2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643560" y="5862600"/>
              <a:ext cx="8679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acidi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621400" y="5862600"/>
              <a:ext cx="9061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gra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932000" y="5859360"/>
              <a:ext cx="4611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3960720" y="3660120"/>
              <a:ext cx="0" cy="136044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6257880" y="3671640"/>
              <a:ext cx="0" cy="13384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81120" y="4362120"/>
              <a:ext cx="1121040" cy="33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Trebuchet MS"/>
                </a:rPr>
                <a:t>sécrét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25600" y="4362120"/>
              <a:ext cx="573840" cy="33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Trebuchet MS"/>
                </a:rPr>
                <a:t>C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3971880" y="5466960"/>
              <a:ext cx="0" cy="37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6016320" y="5466960"/>
              <a:ext cx="0" cy="37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360960" y="3296880"/>
              <a:ext cx="23997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Trebuchet MS"/>
                </a:rPr>
                <a:t>cellules canalicula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822640" y="3294000"/>
              <a:ext cx="19944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Trebuchet MS"/>
                </a:rPr>
                <a:t>cellules acineu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55440" y="3933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638760" y="26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5145120" y="5473440"/>
              <a:ext cx="0" cy="378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86440" y="2427120"/>
              <a:ext cx="1565280" cy="2811600"/>
            </a:xfrm>
            <a:custGeom>
              <a:avLst/>
              <a:gdLst/>
              <a:ahLst/>
              <a:rect l="l" t="t" r="r" b="b"/>
              <a:pathLst>
                <a:path w="822" h="1662">
                  <a:moveTo>
                    <a:pt x="0" y="1662"/>
                  </a:moveTo>
                  <a:lnTo>
                    <a:pt x="822" y="1662"/>
                  </a:lnTo>
                  <a:lnTo>
                    <a:pt x="822" y="0"/>
                  </a:lnTo>
                  <a:lnTo>
                    <a:pt x="39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091120" y="2145960"/>
              <a:ext cx="150192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rebuchet MS"/>
                </a:rPr>
                <a:t>sécré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rebuchet MS"/>
                </a:rPr>
                <a:t>enzymat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062160" y="2143080"/>
              <a:ext cx="18784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rebuchet MS"/>
                </a:rPr>
                <a:t>sécré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rebuchet MS"/>
                </a:rPr>
                <a:t>alcaline aque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4480920" y="4547880"/>
              <a:ext cx="14209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470480" y="4276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6119640" y="2739960"/>
              <a:ext cx="0" cy="51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257360" y="2749320"/>
              <a:ext cx="0" cy="503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76200" y="4929120"/>
              <a:ext cx="22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66"/>
                  </a:solidFill>
                  <a:latin typeface="Trebuchet MS"/>
                </a:rPr>
                <a:t>chémorécepteu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66"/>
                  </a:solidFill>
                  <a:latin typeface="Trebuchet MS"/>
                </a:rPr>
                <a:t>duodéna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439920" y="1265400"/>
            <a:ext cx="30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horm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uodénum : sécrétine, C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arasympat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pancré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895320" y="1254240"/>
            <a:ext cx="684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céphal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du nerf vague :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sécrétion enzymatiqu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gastr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distension gastriqu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réflexe vago-vag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sécrétion enzymatiqu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intestinal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pH bas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sécrétine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sécrétion aqueuse alca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acides gras, acides aminés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C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flexe vago-vagal entéro-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sécrétion enzymatiqu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pancré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664200" y="125748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foie : organe comp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062040" y="114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bili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foie et 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44400" y="1914480"/>
            <a:ext cx="490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fonction métabo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glucides, lipides,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ynthèse, élimination,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63840" y="3159000"/>
            <a:ext cx="7268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traitement des déchets orga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atabolisme protéiqu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atabolisme lipidique (cholestérol)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acides bili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atabolisme de l’hémoglobin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pigments bili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680" y="4695840"/>
            <a:ext cx="38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i="1" lang="fr-FR" sz="2000" spc="-1" strike="noStrike">
                <a:solidFill>
                  <a:srgbClr val="990000"/>
                </a:solidFill>
                <a:latin typeface="Trebuchet MS"/>
              </a:rPr>
              <a:t>di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ôle des acides bili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4720" y="5192640"/>
            <a:ext cx="688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bouche, pharynx, oesophage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royage de la nourriture, mélange à la salive (amylase), propulsion du bol alimentaire dans l’esto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55600" y="1384200"/>
            <a:ext cx="2768760" cy="2032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-109440" y="1712880"/>
            <a:ext cx="9345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écrétion biliaire : production de la bile par les hépatoc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bile hépatocy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modifiée dans les canaux bili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bile cana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ockée et modifiée dans la vésicule bili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bile vési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excrétion bili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ontraction du muscle lisse vésiculaire et du canal choléd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libération dans le duodé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acides biliaires : métabolites du cholesté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acides biliaires conjugés à la choline ou à la taurine : sels bili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NB : différents des pigments biliaires = bilirubine (dégradation hémoglob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062040" y="114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bili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81320" y="121752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rebuchet MS"/>
              </a:rPr>
              <a:t>la bile : sécrétion exocrine du fo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écrétion et excrétion biliair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482760" y="1468440"/>
            <a:ext cx="84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émulsifiants des graiss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formation de micell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solubilisation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action des lipases facilitée ; absorption des lipides facilit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308560" y="2314440"/>
            <a:ext cx="3164040" cy="3810240"/>
          </a:xfrm>
          <a:custGeom>
            <a:avLst/>
            <a:gdLst/>
            <a:ahLst/>
            <a:rect l="l" t="t" r="r" b="b"/>
            <a:pathLst>
              <a:path w="1993" h="2400">
                <a:moveTo>
                  <a:pt x="1984" y="2400"/>
                </a:moveTo>
                <a:cubicBezTo>
                  <a:pt x="1983" y="2309"/>
                  <a:pt x="1993" y="1991"/>
                  <a:pt x="1976" y="1856"/>
                </a:cubicBezTo>
                <a:cubicBezTo>
                  <a:pt x="1959" y="1721"/>
                  <a:pt x="1899" y="1817"/>
                  <a:pt x="1880" y="1592"/>
                </a:cubicBezTo>
                <a:cubicBezTo>
                  <a:pt x="1861" y="1367"/>
                  <a:pt x="1868" y="735"/>
                  <a:pt x="1864" y="504"/>
                </a:cubicBezTo>
                <a:cubicBezTo>
                  <a:pt x="1860" y="273"/>
                  <a:pt x="1887" y="255"/>
                  <a:pt x="1856" y="208"/>
                </a:cubicBezTo>
                <a:cubicBezTo>
                  <a:pt x="1825" y="161"/>
                  <a:pt x="1709" y="187"/>
                  <a:pt x="1680" y="224"/>
                </a:cubicBezTo>
                <a:cubicBezTo>
                  <a:pt x="1651" y="261"/>
                  <a:pt x="1681" y="313"/>
                  <a:pt x="1680" y="432"/>
                </a:cubicBezTo>
                <a:cubicBezTo>
                  <a:pt x="1679" y="551"/>
                  <a:pt x="1677" y="821"/>
                  <a:pt x="1672" y="936"/>
                </a:cubicBezTo>
                <a:cubicBezTo>
                  <a:pt x="1667" y="1051"/>
                  <a:pt x="1667" y="1111"/>
                  <a:pt x="1648" y="1120"/>
                </a:cubicBezTo>
                <a:cubicBezTo>
                  <a:pt x="1629" y="1129"/>
                  <a:pt x="1599" y="1052"/>
                  <a:pt x="1560" y="992"/>
                </a:cubicBezTo>
                <a:cubicBezTo>
                  <a:pt x="1521" y="932"/>
                  <a:pt x="1485" y="841"/>
                  <a:pt x="1416" y="760"/>
                </a:cubicBezTo>
                <a:cubicBezTo>
                  <a:pt x="1347" y="679"/>
                  <a:pt x="1167" y="567"/>
                  <a:pt x="1144" y="504"/>
                </a:cubicBezTo>
                <a:cubicBezTo>
                  <a:pt x="1121" y="441"/>
                  <a:pt x="1221" y="437"/>
                  <a:pt x="1280" y="384"/>
                </a:cubicBezTo>
                <a:cubicBezTo>
                  <a:pt x="1339" y="331"/>
                  <a:pt x="1501" y="237"/>
                  <a:pt x="1496" y="184"/>
                </a:cubicBezTo>
                <a:cubicBezTo>
                  <a:pt x="1491" y="131"/>
                  <a:pt x="1369" y="75"/>
                  <a:pt x="1248" y="64"/>
                </a:cubicBezTo>
                <a:cubicBezTo>
                  <a:pt x="1127" y="53"/>
                  <a:pt x="943" y="123"/>
                  <a:pt x="768" y="120"/>
                </a:cubicBezTo>
                <a:cubicBezTo>
                  <a:pt x="593" y="117"/>
                  <a:pt x="315" y="0"/>
                  <a:pt x="200" y="48"/>
                </a:cubicBezTo>
                <a:cubicBezTo>
                  <a:pt x="85" y="96"/>
                  <a:pt x="96" y="289"/>
                  <a:pt x="80" y="408"/>
                </a:cubicBezTo>
                <a:cubicBezTo>
                  <a:pt x="64" y="527"/>
                  <a:pt x="111" y="620"/>
                  <a:pt x="104" y="760"/>
                </a:cubicBezTo>
                <a:cubicBezTo>
                  <a:pt x="97" y="900"/>
                  <a:pt x="0" y="1177"/>
                  <a:pt x="40" y="1248"/>
                </a:cubicBezTo>
                <a:cubicBezTo>
                  <a:pt x="80" y="1319"/>
                  <a:pt x="201" y="1279"/>
                  <a:pt x="344" y="1184"/>
                </a:cubicBezTo>
                <a:cubicBezTo>
                  <a:pt x="487" y="1089"/>
                  <a:pt x="740" y="733"/>
                  <a:pt x="896" y="680"/>
                </a:cubicBezTo>
                <a:cubicBezTo>
                  <a:pt x="1052" y="627"/>
                  <a:pt x="1163" y="755"/>
                  <a:pt x="1280" y="864"/>
                </a:cubicBezTo>
                <a:cubicBezTo>
                  <a:pt x="1397" y="973"/>
                  <a:pt x="1535" y="1208"/>
                  <a:pt x="1600" y="1336"/>
                </a:cubicBezTo>
                <a:cubicBezTo>
                  <a:pt x="1665" y="1464"/>
                  <a:pt x="1675" y="1543"/>
                  <a:pt x="1672" y="1632"/>
                </a:cubicBezTo>
                <a:cubicBezTo>
                  <a:pt x="1669" y="1721"/>
                  <a:pt x="1601" y="1747"/>
                  <a:pt x="1584" y="1872"/>
                </a:cubicBezTo>
                <a:cubicBezTo>
                  <a:pt x="1567" y="1997"/>
                  <a:pt x="1571" y="2277"/>
                  <a:pt x="1568" y="2384"/>
                </a:cubicBezTo>
              </a:path>
            </a:pathLst>
          </a:custGeom>
          <a:solidFill>
            <a:srgbClr val="ffff99"/>
          </a:solidFill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810560" y="2340000"/>
            <a:ext cx="622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359400" y="2774880"/>
            <a:ext cx="0" cy="295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397560" y="3211560"/>
            <a:ext cx="1638360" cy="1515960"/>
          </a:xfrm>
          <a:custGeom>
            <a:avLst/>
            <a:gdLst/>
            <a:ahLst/>
            <a:rect l="l" t="t" r="r" b="b"/>
            <a:pathLst>
              <a:path w="1032" h="955">
                <a:moveTo>
                  <a:pt x="0" y="19"/>
                </a:moveTo>
                <a:cubicBezTo>
                  <a:pt x="65" y="23"/>
                  <a:pt x="279" y="0"/>
                  <a:pt x="388" y="35"/>
                </a:cubicBezTo>
                <a:cubicBezTo>
                  <a:pt x="497" y="70"/>
                  <a:pt x="583" y="162"/>
                  <a:pt x="655" y="230"/>
                </a:cubicBezTo>
                <a:cubicBezTo>
                  <a:pt x="727" y="298"/>
                  <a:pt x="766" y="357"/>
                  <a:pt x="822" y="445"/>
                </a:cubicBezTo>
                <a:cubicBezTo>
                  <a:pt x="878" y="533"/>
                  <a:pt x="956" y="675"/>
                  <a:pt x="991" y="760"/>
                </a:cubicBezTo>
                <a:cubicBezTo>
                  <a:pt x="1026" y="845"/>
                  <a:pt x="1023" y="915"/>
                  <a:pt x="1032" y="955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778360" y="3228840"/>
            <a:ext cx="2293920" cy="1764000"/>
          </a:xfrm>
          <a:custGeom>
            <a:avLst/>
            <a:gdLst/>
            <a:ahLst/>
            <a:rect l="l" t="t" r="r" b="b"/>
            <a:pathLst>
              <a:path w="1445" h="1111">
                <a:moveTo>
                  <a:pt x="1416" y="992"/>
                </a:moveTo>
                <a:cubicBezTo>
                  <a:pt x="1425" y="1024"/>
                  <a:pt x="1434" y="1056"/>
                  <a:pt x="1410" y="1070"/>
                </a:cubicBezTo>
                <a:cubicBezTo>
                  <a:pt x="1386" y="1084"/>
                  <a:pt x="1445" y="1075"/>
                  <a:pt x="1272" y="1076"/>
                </a:cubicBezTo>
                <a:cubicBezTo>
                  <a:pt x="1099" y="1077"/>
                  <a:pt x="574" y="1075"/>
                  <a:pt x="372" y="1076"/>
                </a:cubicBezTo>
                <a:cubicBezTo>
                  <a:pt x="170" y="1077"/>
                  <a:pt x="120" y="1111"/>
                  <a:pt x="60" y="1082"/>
                </a:cubicBezTo>
                <a:cubicBezTo>
                  <a:pt x="0" y="1053"/>
                  <a:pt x="20" y="959"/>
                  <a:pt x="12" y="902"/>
                </a:cubicBezTo>
                <a:cubicBezTo>
                  <a:pt x="4" y="845"/>
                  <a:pt x="11" y="820"/>
                  <a:pt x="12" y="740"/>
                </a:cubicBezTo>
                <a:cubicBezTo>
                  <a:pt x="13" y="660"/>
                  <a:pt x="16" y="501"/>
                  <a:pt x="18" y="422"/>
                </a:cubicBezTo>
                <a:cubicBezTo>
                  <a:pt x="20" y="343"/>
                  <a:pt x="22" y="321"/>
                  <a:pt x="24" y="266"/>
                </a:cubicBezTo>
                <a:cubicBezTo>
                  <a:pt x="26" y="211"/>
                  <a:pt x="11" y="134"/>
                  <a:pt x="30" y="92"/>
                </a:cubicBezTo>
                <a:cubicBezTo>
                  <a:pt x="49" y="50"/>
                  <a:pt x="86" y="28"/>
                  <a:pt x="138" y="14"/>
                </a:cubicBezTo>
                <a:cubicBezTo>
                  <a:pt x="190" y="0"/>
                  <a:pt x="300" y="9"/>
                  <a:pt x="342" y="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766120" y="249696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ynthè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619600" y="3225960"/>
            <a:ext cx="2473560" cy="2301840"/>
          </a:xfrm>
          <a:custGeom>
            <a:avLst/>
            <a:gdLst/>
            <a:ahLst/>
            <a:rect l="l" t="t" r="r" b="b"/>
            <a:pathLst>
              <a:path w="1558" h="1450">
                <a:moveTo>
                  <a:pt x="1546" y="1138"/>
                </a:moveTo>
                <a:cubicBezTo>
                  <a:pt x="1543" y="1182"/>
                  <a:pt x="1558" y="1354"/>
                  <a:pt x="1528" y="1402"/>
                </a:cubicBezTo>
                <a:cubicBezTo>
                  <a:pt x="1498" y="1450"/>
                  <a:pt x="1557" y="1421"/>
                  <a:pt x="1369" y="1425"/>
                </a:cubicBezTo>
                <a:cubicBezTo>
                  <a:pt x="1181" y="1429"/>
                  <a:pt x="618" y="1428"/>
                  <a:pt x="402" y="1425"/>
                </a:cubicBezTo>
                <a:cubicBezTo>
                  <a:pt x="186" y="1422"/>
                  <a:pt x="134" y="1430"/>
                  <a:pt x="70" y="1408"/>
                </a:cubicBezTo>
                <a:cubicBezTo>
                  <a:pt x="6" y="1386"/>
                  <a:pt x="25" y="1337"/>
                  <a:pt x="16" y="1294"/>
                </a:cubicBezTo>
                <a:cubicBezTo>
                  <a:pt x="7" y="1251"/>
                  <a:pt x="16" y="1222"/>
                  <a:pt x="16" y="1150"/>
                </a:cubicBezTo>
                <a:cubicBezTo>
                  <a:pt x="16" y="1078"/>
                  <a:pt x="17" y="996"/>
                  <a:pt x="16" y="862"/>
                </a:cubicBezTo>
                <a:cubicBezTo>
                  <a:pt x="15" y="728"/>
                  <a:pt x="12" y="478"/>
                  <a:pt x="10" y="346"/>
                </a:cubicBezTo>
                <a:cubicBezTo>
                  <a:pt x="8" y="214"/>
                  <a:pt x="0" y="126"/>
                  <a:pt x="4" y="70"/>
                </a:cubicBezTo>
                <a:cubicBezTo>
                  <a:pt x="8" y="14"/>
                  <a:pt x="11" y="20"/>
                  <a:pt x="34" y="10"/>
                </a:cubicBezTo>
                <a:cubicBezTo>
                  <a:pt x="57" y="0"/>
                  <a:pt x="120" y="10"/>
                  <a:pt x="142" y="1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411960" y="57895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éli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8089920" y="5029200"/>
            <a:ext cx="0" cy="10573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085800" y="27226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813080" y="57070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585480" y="45226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8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534720" y="50720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57360" y="2690640"/>
            <a:ext cx="44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cycle entéro-hépat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ynthèse hépatique (0,2-0,6 g/j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libération dans le duodénum (12-36 g/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réabsorption au niveau de l’iléon terminal, du rectum (9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veine porte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foi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+ élimination fécale (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062040" y="114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bili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écrétion et excrétion biliair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/>
          <p:nvPr/>
        </p:nvSpPr>
        <p:spPr>
          <a:xfrm>
            <a:off x="5346720" y="2031840"/>
            <a:ext cx="622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18360" y="2662200"/>
            <a:ext cx="91908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</a:rPr>
              <a:t>   </a:t>
            </a:r>
            <a:r>
              <a:rPr b="1" lang="fr-FR" sz="1400" spc="-1" strike="noStrike">
                <a:solidFill>
                  <a:srgbClr val="000066"/>
                </a:solidFill>
                <a:latin typeface="Trebuchet MS"/>
              </a:rPr>
              <a:t>S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013360" y="3424320"/>
            <a:ext cx="2984400" cy="8874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ec48b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486560" y="3046320"/>
            <a:ext cx="0" cy="5922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483320" y="303696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027760" y="5308560"/>
            <a:ext cx="3030480" cy="5824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382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918040" y="5389560"/>
            <a:ext cx="1908360" cy="43344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01040" y="6230880"/>
            <a:ext cx="906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gra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11640" y="6227640"/>
            <a:ext cx="4611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6778800" y="4039920"/>
            <a:ext cx="0" cy="133812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446520" y="4730760"/>
            <a:ext cx="57384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C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7095960" y="5835240"/>
            <a:ext cx="0" cy="376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070240" y="3662280"/>
            <a:ext cx="2827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cellules musculaires li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876360" y="4302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159680" y="300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224760" y="5829120"/>
            <a:ext cx="0" cy="377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851600" y="2795760"/>
            <a:ext cx="536760" cy="2811240"/>
          </a:xfrm>
          <a:custGeom>
            <a:avLst/>
            <a:gdLst/>
            <a:ahLst/>
            <a:rect l="l" t="t" r="r" b="b"/>
            <a:pathLst>
              <a:path w="822" h="1662">
                <a:moveTo>
                  <a:pt x="0" y="1662"/>
                </a:moveTo>
                <a:lnTo>
                  <a:pt x="822" y="1662"/>
                </a:lnTo>
                <a:lnTo>
                  <a:pt x="822" y="0"/>
                </a:lnTo>
                <a:lnTo>
                  <a:pt x="396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762280" y="5300640"/>
            <a:ext cx="22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66"/>
                </a:solidFill>
                <a:latin typeface="Trebuchet MS"/>
              </a:rPr>
              <a:t>chémorécepteu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66"/>
                </a:solidFill>
                <a:latin typeface="Trebuchet MS"/>
              </a:rPr>
              <a:t>duodén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4920" y="1306440"/>
            <a:ext cx="8143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ériode interdigestive : remplissage passif de la vésicule bil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écoulement de la bile dans la vésic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relaxation réceptrice du muscle lisse de la paroi vési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as d’excrétion bil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ériode post-prandial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CCK, 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stimulation de l’excrétion bil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vésicule biliaire : con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canal cholédoque : onde péristal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sphincter d’Oddi : ouver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062040" y="114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bili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dulation de la sécrétion et de l’excrétion biliair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416520" y="1287360"/>
            <a:ext cx="8512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mucus, électrolytes, eau (1,5 litre / 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duodé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entérokinas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+ enzymes sécrétées par le pancréas mais activées dans le duodé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+ enzymes présentes dans la bordure en brosse mais sont sécrét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essentiellement production de mu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4306320" y="2448000"/>
            <a:ext cx="3448440" cy="1355400"/>
            <a:chOff x="4306320" y="2448000"/>
            <a:chExt cx="3448440" cy="1355400"/>
          </a:xfrm>
        </p:grpSpPr>
        <p:sp>
          <p:nvSpPr>
            <p:cNvPr id="1565" name=""/>
            <p:cNvSpPr/>
            <p:nvPr/>
          </p:nvSpPr>
          <p:spPr>
            <a:xfrm>
              <a:off x="4315320" y="3435120"/>
              <a:ext cx="160560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trypsinogè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306320" y="2448000"/>
              <a:ext cx="15872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entérokin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699240" y="3435120"/>
              <a:ext cx="105552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tryps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897440" y="2827080"/>
              <a:ext cx="0" cy="5860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943600" y="3679920"/>
              <a:ext cx="6080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180040" y="3171600"/>
              <a:ext cx="2062080" cy="231840"/>
            </a:xfrm>
            <a:custGeom>
              <a:avLst/>
              <a:gdLst/>
              <a:ahLst/>
              <a:rect l="l" t="t" r="r" b="b"/>
              <a:pathLst>
                <a:path w="1182" h="132">
                  <a:moveTo>
                    <a:pt x="1182" y="132"/>
                  </a:moveTo>
                  <a:lnTo>
                    <a:pt x="1182" y="0"/>
                  </a:lnTo>
                  <a:lnTo>
                    <a:pt x="0" y="0"/>
                  </a:lnTo>
                  <a:lnTo>
                    <a:pt x="0" y="132"/>
                  </a:ln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5724000" y="1144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sécrétions 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uodénum et côl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685800" y="747720"/>
            <a:ext cx="808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diges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ransformation des aliments en nutriments assimil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cessus essentiellement chimique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ction d’enzymes sécrétées dans la lumière ou présentes à la surface de l’épithélium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310720" y="1144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finitions et 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23880" y="2773440"/>
            <a:ext cx="78343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expériences de Réaumur sur la digestion (17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«Une buse, à qui j’avais seulement arraché quelques plumes des ailes pour la laisser vivre en liberté dans mon jardin, fut destinée à des expérie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Je plaçai dans un tube de fer blanc ouvert par les deux bouts, un morceau de viande. Le tube ainsi garni fut donné à la buse pour son premier déjeu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Ce ne fut que le lendemain que je trouvai le tube qu’elle venait de rendre : il avait toute sa rondeur ; on ne trouvait sur sa surface extérieure aucune trace de frott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Le morceau de viande avait été réduit peut-être au quart de son premier volume ; ce qui en restait était couvert par une espèce de bouillie, venue probablement des parties qui avaient été dissoutes. 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« Observations sur la digestion des oiseaux 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René Antoine Ferchault de Réaumur (1752)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" descr=""/>
          <p:cNvPicPr/>
          <p:nvPr/>
        </p:nvPicPr>
        <p:blipFill>
          <a:blip r:embed="rId1"/>
          <a:stretch/>
        </p:blipFill>
        <p:spPr>
          <a:xfrm>
            <a:off x="2879640" y="2558880"/>
            <a:ext cx="2425680" cy="3422880"/>
          </a:xfrm>
          <a:prstGeom prst="rect">
            <a:avLst/>
          </a:prstGeom>
          <a:ln w="0">
            <a:noFill/>
          </a:ln>
        </p:spPr>
      </p:pic>
      <p:sp>
        <p:nvSpPr>
          <p:cNvPr id="1581" name=""/>
          <p:cNvSpPr/>
          <p:nvPr/>
        </p:nvSpPr>
        <p:spPr>
          <a:xfrm>
            <a:off x="5324400" y="542592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rdure en brosse de l’intesti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4626000" y="4456080"/>
            <a:ext cx="287280" cy="1030320"/>
          </a:xfrm>
          <a:prstGeom prst="line">
            <a:avLst/>
          </a:prstGeom>
          <a:ln w="11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992840" y="4276800"/>
            <a:ext cx="245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rypte de Lieberkü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134680" y="260496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illos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4629240" y="2776680"/>
            <a:ext cx="425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078160" y="2967120"/>
            <a:ext cx="40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ellules : pôle apical : microvillos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2560" y="747720"/>
            <a:ext cx="72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absorp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cessus par lequel les nutriments, sels minéraux, vitamines, eau… sont transportées à travers la paroi de l’intestin dans le sang ou dans la lymp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" descr=""/>
          <p:cNvPicPr/>
          <p:nvPr/>
        </p:nvPicPr>
        <p:blipFill>
          <a:blip r:embed="rId2"/>
          <a:stretch/>
        </p:blipFill>
        <p:spPr>
          <a:xfrm>
            <a:off x="1452600" y="2486160"/>
            <a:ext cx="2462040" cy="3396960"/>
          </a:xfrm>
          <a:prstGeom prst="rect">
            <a:avLst/>
          </a:prstGeom>
          <a:ln w="0">
            <a:noFill/>
          </a:ln>
        </p:spPr>
      </p:pic>
      <p:sp>
        <p:nvSpPr>
          <p:cNvPr id="1589" name=""/>
          <p:cNvSpPr/>
          <p:nvPr/>
        </p:nvSpPr>
        <p:spPr>
          <a:xfrm>
            <a:off x="2952720" y="5030640"/>
            <a:ext cx="120600" cy="36720"/>
          </a:xfrm>
          <a:custGeom>
            <a:avLst/>
            <a:gdLst/>
            <a:ahLst/>
            <a:rect l="l" t="t" r="r" b="b"/>
            <a:pathLst>
              <a:path w="76" h="23">
                <a:moveTo>
                  <a:pt x="0" y="7"/>
                </a:moveTo>
                <a:cubicBezTo>
                  <a:pt x="21" y="3"/>
                  <a:pt x="43" y="0"/>
                  <a:pt x="56" y="3"/>
                </a:cubicBezTo>
                <a:cubicBezTo>
                  <a:pt x="69" y="6"/>
                  <a:pt x="72" y="14"/>
                  <a:pt x="76" y="23"/>
                </a:cubicBezTo>
              </a:path>
            </a:pathLst>
          </a:custGeom>
          <a:noFill/>
          <a:ln w="1260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310720" y="1144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finitions et 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4289760" y="5792760"/>
            <a:ext cx="29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bsorption trans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bsorption para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4" name="" descr=""/>
          <p:cNvPicPr/>
          <p:nvPr/>
        </p:nvPicPr>
        <p:blipFill>
          <a:blip r:embed="rId1"/>
          <a:stretch/>
        </p:blipFill>
        <p:spPr>
          <a:xfrm>
            <a:off x="4214880" y="2311560"/>
            <a:ext cx="1573200" cy="2773080"/>
          </a:xfrm>
          <a:prstGeom prst="rect">
            <a:avLst/>
          </a:prstGeom>
          <a:ln w="0">
            <a:noFill/>
          </a:ln>
        </p:spPr>
      </p:pic>
      <p:pic>
        <p:nvPicPr>
          <p:cNvPr id="1595" name="" descr=""/>
          <p:cNvPicPr/>
          <p:nvPr/>
        </p:nvPicPr>
        <p:blipFill>
          <a:blip r:embed="rId2"/>
          <a:stretch/>
        </p:blipFill>
        <p:spPr>
          <a:xfrm>
            <a:off x="2779560" y="2311560"/>
            <a:ext cx="1573200" cy="2773080"/>
          </a:xfrm>
          <a:prstGeom prst="rect">
            <a:avLst/>
          </a:prstGeom>
          <a:ln w="0">
            <a:noFill/>
          </a:ln>
        </p:spPr>
      </p:pic>
      <p:grpSp>
        <p:nvGrpSpPr>
          <p:cNvPr id="1596" name=""/>
          <p:cNvGrpSpPr/>
          <p:nvPr/>
        </p:nvGrpSpPr>
        <p:grpSpPr>
          <a:xfrm>
            <a:off x="4214880" y="2130480"/>
            <a:ext cx="153720" cy="3191760"/>
            <a:chOff x="4214880" y="2130480"/>
            <a:chExt cx="153720" cy="3191760"/>
          </a:xfrm>
        </p:grpSpPr>
        <p:sp>
          <p:nvSpPr>
            <p:cNvPr id="1597" name=""/>
            <p:cNvSpPr/>
            <p:nvPr/>
          </p:nvSpPr>
          <p:spPr>
            <a:xfrm>
              <a:off x="4292640" y="2130480"/>
              <a:ext cx="1440" cy="304560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214880" y="5169960"/>
              <a:ext cx="153720" cy="1522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0"/>
                  </a:moveTo>
                  <a:lnTo>
                    <a:pt x="41" y="80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" name=""/>
          <p:cNvSpPr/>
          <p:nvPr/>
        </p:nvSpPr>
        <p:spPr>
          <a:xfrm>
            <a:off x="4243320" y="2860560"/>
            <a:ext cx="127080" cy="29232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4890960" y="2170080"/>
            <a:ext cx="153720" cy="1096560"/>
            <a:chOff x="4890960" y="2170080"/>
            <a:chExt cx="153720" cy="1096560"/>
          </a:xfrm>
        </p:grpSpPr>
        <p:sp>
          <p:nvSpPr>
            <p:cNvPr id="1601" name=""/>
            <p:cNvSpPr/>
            <p:nvPr/>
          </p:nvSpPr>
          <p:spPr>
            <a:xfrm>
              <a:off x="4968720" y="2170080"/>
              <a:ext cx="1800" cy="94968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890960" y="3114000"/>
              <a:ext cx="153720" cy="15264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0"/>
                  </a:moveTo>
                  <a:lnTo>
                    <a:pt x="41" y="80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3" name=""/>
          <p:cNvGrpSpPr/>
          <p:nvPr/>
        </p:nvGrpSpPr>
        <p:grpSpPr>
          <a:xfrm>
            <a:off x="5313240" y="3521160"/>
            <a:ext cx="434880" cy="369360"/>
            <a:chOff x="5313240" y="3521160"/>
            <a:chExt cx="434880" cy="369360"/>
          </a:xfrm>
        </p:grpSpPr>
        <p:sp>
          <p:nvSpPr>
            <p:cNvPr id="1604" name=""/>
            <p:cNvSpPr/>
            <p:nvPr/>
          </p:nvSpPr>
          <p:spPr>
            <a:xfrm>
              <a:off x="5313240" y="3521160"/>
              <a:ext cx="324360" cy="27432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580360" y="3732480"/>
              <a:ext cx="167760" cy="158040"/>
            </a:xfrm>
            <a:custGeom>
              <a:avLst/>
              <a:gdLst/>
              <a:ahLst/>
              <a:rect l="l" t="t" r="r" b="b"/>
              <a:pathLst>
                <a:path w="88" h="83">
                  <a:moveTo>
                    <a:pt x="0" y="61"/>
                  </a:moveTo>
                  <a:lnTo>
                    <a:pt x="88" y="83"/>
                  </a:lnTo>
                  <a:lnTo>
                    <a:pt x="54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6" name=""/>
          <p:cNvSpPr/>
          <p:nvPr/>
        </p:nvSpPr>
        <p:spPr>
          <a:xfrm>
            <a:off x="499680" y="5608800"/>
            <a:ext cx="40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ellules : pôle apical : microvillos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2560" y="747720"/>
            <a:ext cx="72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absorp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cessus par lequel les nutriments, sels minéraux, vitamines, eau… sont transportées à travers la paroi de l’intestin dans le sang ou dans la lymp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310720" y="1144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finitions et 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"/>
          <p:cNvSpPr/>
          <p:nvPr/>
        </p:nvSpPr>
        <p:spPr>
          <a:xfrm>
            <a:off x="784080" y="1268280"/>
            <a:ext cx="790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olysaccharid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idon : chaînes ramifiées de molécules de gluc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urce principale de carbohyd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ylose : chaîne linéaire de molécules de gluc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ose : non digestible par les enzymes du TGI (symbiose : rumin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1254240" y="3112920"/>
            <a:ext cx="6184800" cy="3183480"/>
            <a:chOff x="1254240" y="3112920"/>
            <a:chExt cx="6184800" cy="3183480"/>
          </a:xfrm>
        </p:grpSpPr>
        <p:grpSp>
          <p:nvGrpSpPr>
            <p:cNvPr id="1613" name=""/>
            <p:cNvGrpSpPr/>
            <p:nvPr/>
          </p:nvGrpSpPr>
          <p:grpSpPr>
            <a:xfrm>
              <a:off x="4788000" y="3115800"/>
              <a:ext cx="986040" cy="1560600"/>
              <a:chOff x="4788000" y="3115800"/>
              <a:chExt cx="986040" cy="1560600"/>
            </a:xfrm>
          </p:grpSpPr>
          <p:sp>
            <p:nvSpPr>
              <p:cNvPr id="1614" name=""/>
              <p:cNvSpPr/>
              <p:nvPr/>
            </p:nvSpPr>
            <p:spPr>
              <a:xfrm>
                <a:off x="4790880" y="3674520"/>
                <a:ext cx="838080" cy="68112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991040" y="33364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788000" y="401904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997520" y="40287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435640" y="434772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343480" y="3627000"/>
                <a:ext cx="14256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274360" y="357156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626080" y="40158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839480" y="3115800"/>
                <a:ext cx="68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CH</a:t>
                </a:r>
                <a:r>
                  <a:rPr b="1" lang="fr-FR" sz="1200" spc="-1" strike="noStrike" baseline="-25000">
                    <a:solidFill>
                      <a:srgbClr val="000066"/>
                    </a:solidFill>
                    <a:latin typeface="Trebuchet MS"/>
                  </a:rPr>
                  <a:t>2</a:t>
                </a: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471280" y="428256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1254240" y="3112920"/>
              <a:ext cx="3531600" cy="1567440"/>
              <a:chOff x="1254240" y="3112920"/>
              <a:chExt cx="3531600" cy="1567440"/>
            </a:xfrm>
          </p:grpSpPr>
          <p:grpSp>
            <p:nvGrpSpPr>
              <p:cNvPr id="1625" name=""/>
              <p:cNvGrpSpPr/>
              <p:nvPr/>
            </p:nvGrpSpPr>
            <p:grpSpPr>
              <a:xfrm>
                <a:off x="3609720" y="3115800"/>
                <a:ext cx="1176120" cy="1559880"/>
                <a:chOff x="3609720" y="3115800"/>
                <a:chExt cx="1176120" cy="155988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3612960" y="3674160"/>
                  <a:ext cx="838080" cy="68076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812760" y="33361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609720" y="401868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819240" y="4028400"/>
                  <a:ext cx="0" cy="32796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4257360" y="43473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4165200" y="362664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4096440" y="357120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4447800" y="401544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3661560" y="3115800"/>
                  <a:ext cx="6854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Trebuchet MS"/>
                    </a:rPr>
                    <a:t>2</a:t>
                  </a: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4447800" y="434736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4557240" y="427752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4474440" y="421092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1254240" y="3112920"/>
                <a:ext cx="2351520" cy="1567440"/>
                <a:chOff x="1254240" y="3112920"/>
                <a:chExt cx="2351520" cy="1567440"/>
              </a:xfrm>
            </p:grpSpPr>
            <p:grpSp>
              <p:nvGrpSpPr>
                <p:cNvPr id="1639" name=""/>
                <p:cNvGrpSpPr/>
                <p:nvPr/>
              </p:nvGrpSpPr>
              <p:grpSpPr>
                <a:xfrm>
                  <a:off x="1254240" y="3120480"/>
                  <a:ext cx="1176120" cy="1559880"/>
                  <a:chOff x="1254240" y="3120480"/>
                  <a:chExt cx="1176120" cy="155988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>
                    <a:off x="1257480" y="3678840"/>
                    <a:ext cx="83808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29">
                        <a:moveTo>
                          <a:pt x="402" y="0"/>
                        </a:moveTo>
                        <a:lnTo>
                          <a:pt x="126" y="0"/>
                        </a:lnTo>
                        <a:lnTo>
                          <a:pt x="0" y="213"/>
                        </a:lnTo>
                        <a:lnTo>
                          <a:pt x="129" y="429"/>
                        </a:lnTo>
                        <a:lnTo>
                          <a:pt x="405" y="429"/>
                        </a:lnTo>
                        <a:lnTo>
                          <a:pt x="528" y="210"/>
                        </a:lnTo>
                        <a:lnTo>
                          <a:pt x="4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1457280" y="334080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1254240" y="402336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1463760" y="4033080"/>
                    <a:ext cx="0" cy="32796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1901880" y="435204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1809720" y="3631320"/>
                    <a:ext cx="14292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1740960" y="357588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2092320" y="402012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1306080" y="3120480"/>
                    <a:ext cx="68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CH</a:t>
                    </a:r>
                    <a:r>
                      <a:rPr b="1" lang="fr-FR" sz="1200" spc="-1" strike="noStrike" baseline="-25000">
                        <a:solidFill>
                          <a:srgbClr val="000066"/>
                        </a:solidFill>
                        <a:latin typeface="Trebuchet MS"/>
                      </a:rPr>
                      <a:t>2</a:t>
                    </a: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2092320" y="4352040"/>
                    <a:ext cx="338040" cy="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2201760" y="4282200"/>
                    <a:ext cx="14292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2118960" y="421560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2" name=""/>
                <p:cNvGrpSpPr/>
                <p:nvPr/>
              </p:nvGrpSpPr>
              <p:grpSpPr>
                <a:xfrm>
                  <a:off x="2430360" y="3112920"/>
                  <a:ext cx="1175400" cy="1559880"/>
                  <a:chOff x="2430360" y="3112920"/>
                  <a:chExt cx="1175400" cy="1559880"/>
                </a:xfrm>
              </p:grpSpPr>
              <p:sp>
                <p:nvSpPr>
                  <p:cNvPr id="1653" name=""/>
                  <p:cNvSpPr/>
                  <p:nvPr/>
                </p:nvSpPr>
                <p:spPr>
                  <a:xfrm>
                    <a:off x="2433240" y="3671280"/>
                    <a:ext cx="83772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29">
                        <a:moveTo>
                          <a:pt x="402" y="0"/>
                        </a:moveTo>
                        <a:lnTo>
                          <a:pt x="126" y="0"/>
                        </a:lnTo>
                        <a:lnTo>
                          <a:pt x="0" y="213"/>
                        </a:lnTo>
                        <a:lnTo>
                          <a:pt x="129" y="429"/>
                        </a:lnTo>
                        <a:lnTo>
                          <a:pt x="405" y="429"/>
                        </a:lnTo>
                        <a:lnTo>
                          <a:pt x="528" y="210"/>
                        </a:lnTo>
                        <a:lnTo>
                          <a:pt x="4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2633040" y="333324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2430360" y="401580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2639520" y="4025520"/>
                    <a:ext cx="0" cy="32796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3077640" y="434448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2985480" y="3623760"/>
                    <a:ext cx="14256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2916720" y="356832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3268080" y="401256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2481480" y="3112920"/>
                    <a:ext cx="68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CH</a:t>
                    </a:r>
                    <a:r>
                      <a:rPr b="1" lang="fr-FR" sz="1200" spc="-1" strike="noStrike" baseline="-25000">
                        <a:solidFill>
                          <a:srgbClr val="000066"/>
                        </a:solidFill>
                        <a:latin typeface="Trebuchet MS"/>
                      </a:rPr>
                      <a:t>2</a:t>
                    </a: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3268080" y="4344480"/>
                    <a:ext cx="337680" cy="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3377520" y="4274640"/>
                    <a:ext cx="14256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3294360" y="420804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65" name=""/>
            <p:cNvGrpSpPr/>
            <p:nvPr/>
          </p:nvGrpSpPr>
          <p:grpSpPr>
            <a:xfrm>
              <a:off x="6597720" y="4731840"/>
              <a:ext cx="841320" cy="1560600"/>
              <a:chOff x="6597720" y="4731840"/>
              <a:chExt cx="841320" cy="1560600"/>
            </a:xfrm>
          </p:grpSpPr>
          <p:sp>
            <p:nvSpPr>
              <p:cNvPr id="1666" name=""/>
              <p:cNvSpPr/>
              <p:nvPr/>
            </p:nvSpPr>
            <p:spPr>
              <a:xfrm>
                <a:off x="6600960" y="5290920"/>
                <a:ext cx="838080" cy="68076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800760" y="495252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597720" y="563544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807240" y="56448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245360" y="59637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153200" y="5243040"/>
                <a:ext cx="142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084440" y="518760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435800" y="56322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649560" y="4731840"/>
                <a:ext cx="68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CH</a:t>
                </a:r>
                <a:r>
                  <a:rPr b="1" lang="fr-FR" sz="1200" spc="-1" strike="noStrike" baseline="-25000">
                    <a:solidFill>
                      <a:srgbClr val="000066"/>
                    </a:solidFill>
                    <a:latin typeface="Trebuchet MS"/>
                  </a:rPr>
                  <a:t>2</a:t>
                </a: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4241880" y="4728960"/>
              <a:ext cx="2352600" cy="1567440"/>
              <a:chOff x="4241880" y="4728960"/>
              <a:chExt cx="2352600" cy="1567440"/>
            </a:xfrm>
          </p:grpSpPr>
          <p:grpSp>
            <p:nvGrpSpPr>
              <p:cNvPr id="1676" name=""/>
              <p:cNvGrpSpPr/>
              <p:nvPr/>
            </p:nvGrpSpPr>
            <p:grpSpPr>
              <a:xfrm>
                <a:off x="4241880" y="4736520"/>
                <a:ext cx="1176120" cy="1559880"/>
                <a:chOff x="4241880" y="4736520"/>
                <a:chExt cx="1176120" cy="155988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4245120" y="5294880"/>
                  <a:ext cx="838080" cy="68076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4444920" y="495684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4241880" y="563940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4451400" y="5649120"/>
                  <a:ext cx="0" cy="32796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4889520" y="596808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4797360" y="524736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728600" y="519192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079960" y="56361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4293720" y="4736520"/>
                  <a:ext cx="6854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Trebuchet MS"/>
                    </a:rPr>
                    <a:t>2</a:t>
                  </a: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5079960" y="596808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5189400" y="589824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106600" y="583164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9" name=""/>
              <p:cNvGrpSpPr/>
              <p:nvPr/>
            </p:nvGrpSpPr>
            <p:grpSpPr>
              <a:xfrm>
                <a:off x="5418360" y="4728960"/>
                <a:ext cx="1176120" cy="1559880"/>
                <a:chOff x="5418360" y="4728960"/>
                <a:chExt cx="1176120" cy="155988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5421600" y="5287320"/>
                  <a:ext cx="838080" cy="68076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5621400" y="494928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5418360" y="563184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627880" y="5641560"/>
                  <a:ext cx="0" cy="32796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6066000" y="59605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5973840" y="523980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5905080" y="518436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6256440" y="562860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483520" y="4728960"/>
                  <a:ext cx="4460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Trebuchet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6256440" y="596052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6365880" y="589068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6283080" y="582408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2" name=""/>
            <p:cNvSpPr/>
            <p:nvPr/>
          </p:nvSpPr>
          <p:spPr>
            <a:xfrm>
              <a:off x="5622840" y="451620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3" name=""/>
          <p:cNvSpPr/>
          <p:nvPr/>
        </p:nvSpPr>
        <p:spPr>
          <a:xfrm>
            <a:off x="1245240" y="516744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i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urces dans l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784080" y="1268280"/>
            <a:ext cx="790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olysaccharid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ido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y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disaccharides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ucrose (saccharose)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     la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1869480" y="3033720"/>
            <a:ext cx="1919160" cy="2692440"/>
            <a:chOff x="1869480" y="3033720"/>
            <a:chExt cx="1919160" cy="2692440"/>
          </a:xfrm>
        </p:grpSpPr>
        <p:sp>
          <p:nvSpPr>
            <p:cNvPr id="1710" name=""/>
            <p:cNvSpPr/>
            <p:nvPr/>
          </p:nvSpPr>
          <p:spPr>
            <a:xfrm>
              <a:off x="2647440" y="3033720"/>
              <a:ext cx="68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Trebuchet MS"/>
                </a:rPr>
                <a:t>CH</a:t>
              </a:r>
              <a:r>
                <a:rPr b="1" lang="fr-FR" sz="12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r>
                <a:rPr b="1" lang="fr-FR" sz="1200" spc="-1" strike="noStrike">
                  <a:solidFill>
                    <a:srgbClr val="000066"/>
                  </a:solidFill>
                  <a:latin typeface="Trebuchet MS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1" name=""/>
            <p:cNvGrpSpPr/>
            <p:nvPr/>
          </p:nvGrpSpPr>
          <p:grpSpPr>
            <a:xfrm>
              <a:off x="2430360" y="4627440"/>
              <a:ext cx="838440" cy="1098720"/>
              <a:chOff x="2430360" y="4627440"/>
              <a:chExt cx="838440" cy="1098720"/>
            </a:xfrm>
          </p:grpSpPr>
          <p:sp>
            <p:nvSpPr>
              <p:cNvPr id="1712" name=""/>
              <p:cNvSpPr/>
              <p:nvPr/>
            </p:nvSpPr>
            <p:spPr>
              <a:xfrm>
                <a:off x="2430360" y="4721400"/>
                <a:ext cx="833400" cy="676080"/>
              </a:xfrm>
              <a:custGeom>
                <a:avLst/>
                <a:gdLst/>
                <a:ahLst/>
                <a:rect l="l" t="t" r="r" b="b"/>
                <a:pathLst>
                  <a:path w="525" h="426">
                    <a:moveTo>
                      <a:pt x="264" y="0"/>
                    </a:moveTo>
                    <a:lnTo>
                      <a:pt x="525" y="219"/>
                    </a:lnTo>
                    <a:lnTo>
                      <a:pt x="396" y="426"/>
                    </a:lnTo>
                    <a:lnTo>
                      <a:pt x="120" y="426"/>
                    </a:lnTo>
                    <a:lnTo>
                      <a:pt x="0" y="207"/>
                    </a:lnTo>
                    <a:lnTo>
                      <a:pt x="26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774880" y="4656240"/>
                <a:ext cx="142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690280" y="462744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268800" y="47433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263760" y="50688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059280" y="507384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616120" y="53974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430360" y="472140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0" name=""/>
            <p:cNvSpPr/>
            <p:nvPr/>
          </p:nvSpPr>
          <p:spPr>
            <a:xfrm>
              <a:off x="3103200" y="5335560"/>
              <a:ext cx="68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Trebuchet MS"/>
                </a:rPr>
                <a:t>CH</a:t>
              </a:r>
              <a:r>
                <a:rPr b="1" lang="fr-FR" sz="12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r>
                <a:rPr b="1" lang="fr-FR" sz="1200" spc="-1" strike="noStrike">
                  <a:solidFill>
                    <a:srgbClr val="000066"/>
                  </a:solidFill>
                  <a:latin typeface="Trebuchet MS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869480" y="4525920"/>
              <a:ext cx="68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Trebuchet MS"/>
                </a:rPr>
                <a:t>CH</a:t>
              </a:r>
              <a:r>
                <a:rPr b="1" lang="fr-FR" sz="12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r>
                <a:rPr b="1" lang="fr-FR" sz="1200" spc="-1" strike="noStrike">
                  <a:solidFill>
                    <a:srgbClr val="000066"/>
                  </a:solidFill>
                  <a:latin typeface="Trebuchet MS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109320" y="4532400"/>
              <a:ext cx="30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Trebuchet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3" name=""/>
            <p:cNvGrpSpPr/>
            <p:nvPr/>
          </p:nvGrpSpPr>
          <p:grpSpPr>
            <a:xfrm>
              <a:off x="2616120" y="3254400"/>
              <a:ext cx="841320" cy="1339920"/>
              <a:chOff x="2616120" y="3254400"/>
              <a:chExt cx="841320" cy="1339920"/>
            </a:xfrm>
          </p:grpSpPr>
          <p:sp>
            <p:nvSpPr>
              <p:cNvPr id="1724" name=""/>
              <p:cNvSpPr/>
              <p:nvPr/>
            </p:nvSpPr>
            <p:spPr>
              <a:xfrm>
                <a:off x="2619360" y="3592440"/>
                <a:ext cx="838080" cy="68112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819520" y="32544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616120" y="39369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825640" y="394668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263760" y="426564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171960" y="3544920"/>
                <a:ext cx="142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103200" y="348948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454560" y="39243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2" name=""/>
          <p:cNvSpPr/>
          <p:nvPr/>
        </p:nvSpPr>
        <p:spPr>
          <a:xfrm>
            <a:off x="5013360" y="4583160"/>
            <a:ext cx="838080" cy="681120"/>
          </a:xfrm>
          <a:custGeom>
            <a:avLst/>
            <a:gdLst/>
            <a:ahLst/>
            <a:rect l="l" t="t" r="r" b="b"/>
            <a:pathLst>
              <a:path w="528" h="429">
                <a:moveTo>
                  <a:pt x="402" y="0"/>
                </a:moveTo>
                <a:lnTo>
                  <a:pt x="126" y="0"/>
                </a:lnTo>
                <a:lnTo>
                  <a:pt x="0" y="213"/>
                </a:lnTo>
                <a:lnTo>
                  <a:pt x="129" y="429"/>
                </a:lnTo>
                <a:lnTo>
                  <a:pt x="405" y="429"/>
                </a:lnTo>
                <a:lnTo>
                  <a:pt x="528" y="210"/>
                </a:lnTo>
                <a:lnTo>
                  <a:pt x="40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213520" y="4245120"/>
            <a:ext cx="0" cy="328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010120" y="4591080"/>
            <a:ext cx="0" cy="32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5219640" y="4937040"/>
            <a:ext cx="0" cy="32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657760" y="5256360"/>
            <a:ext cx="0" cy="328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565600" y="4535640"/>
            <a:ext cx="1429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496840" y="447984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848200" y="4591080"/>
            <a:ext cx="0" cy="32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5848200" y="3192480"/>
            <a:ext cx="841320" cy="1560600"/>
            <a:chOff x="5848200" y="3192480"/>
            <a:chExt cx="841320" cy="1560600"/>
          </a:xfrm>
        </p:grpSpPr>
        <p:grpSp>
          <p:nvGrpSpPr>
            <p:cNvPr id="1741" name=""/>
            <p:cNvGrpSpPr/>
            <p:nvPr/>
          </p:nvGrpSpPr>
          <p:grpSpPr>
            <a:xfrm>
              <a:off x="5848200" y="3413160"/>
              <a:ext cx="841320" cy="1339920"/>
              <a:chOff x="5848200" y="3413160"/>
              <a:chExt cx="841320" cy="1339920"/>
            </a:xfrm>
          </p:grpSpPr>
          <p:sp>
            <p:nvSpPr>
              <p:cNvPr id="1742" name=""/>
              <p:cNvSpPr/>
              <p:nvPr/>
            </p:nvSpPr>
            <p:spPr>
              <a:xfrm>
                <a:off x="5851440" y="3751200"/>
                <a:ext cx="838080" cy="68112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051600" y="34131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848200" y="409572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057720" y="410544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495840" y="44244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404040" y="3703680"/>
                <a:ext cx="142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335280" y="364824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686640" y="408312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0" name=""/>
            <p:cNvSpPr/>
            <p:nvPr/>
          </p:nvSpPr>
          <p:spPr>
            <a:xfrm>
              <a:off x="5900040" y="3192480"/>
              <a:ext cx="68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Trebuchet MS"/>
                </a:rPr>
                <a:t>CH</a:t>
              </a:r>
              <a:r>
                <a:rPr b="1" lang="fr-FR" sz="12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r>
                <a:rPr b="1" lang="fr-FR" sz="1200" spc="-1" strike="noStrike">
                  <a:solidFill>
                    <a:srgbClr val="000066"/>
                  </a:solidFill>
                  <a:latin typeface="Trebuchet MS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5054040" y="4017960"/>
            <a:ext cx="68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Trebuchet MS"/>
              </a:rPr>
              <a:t>CH</a:t>
            </a:r>
            <a:r>
              <a:rPr b="1" lang="fr-FR" sz="1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200" spc="-1" strike="noStrike">
                <a:solidFill>
                  <a:srgbClr val="000066"/>
                </a:solidFill>
                <a:latin typeface="Trebuchet MS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693760" y="4365720"/>
            <a:ext cx="3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96960" y="38926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glucose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fructose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332480" y="3956040"/>
            <a:ext cx="11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gala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urces dans l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/>
          <p:nvPr/>
        </p:nvSpPr>
        <p:spPr>
          <a:xfrm>
            <a:off x="784080" y="1268280"/>
            <a:ext cx="790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olysaccharid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disaccharides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ucrose (saccharose)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la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onosaccharides 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glucose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142800" y="3452760"/>
            <a:ext cx="68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Trebuchet MS"/>
              </a:rPr>
              <a:t>CH</a:t>
            </a:r>
            <a:r>
              <a:rPr b="1" lang="fr-FR" sz="1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200" spc="-1" strike="noStrike">
                <a:solidFill>
                  <a:srgbClr val="000066"/>
                </a:solidFill>
                <a:latin typeface="Trebuchet MS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5486400" y="3941640"/>
            <a:ext cx="838080" cy="1098720"/>
            <a:chOff x="5486400" y="3941640"/>
            <a:chExt cx="838080" cy="1098720"/>
          </a:xfrm>
        </p:grpSpPr>
        <p:sp>
          <p:nvSpPr>
            <p:cNvPr id="1762" name=""/>
            <p:cNvSpPr/>
            <p:nvPr/>
          </p:nvSpPr>
          <p:spPr>
            <a:xfrm>
              <a:off x="5486400" y="4035600"/>
              <a:ext cx="833040" cy="676080"/>
            </a:xfrm>
            <a:custGeom>
              <a:avLst/>
              <a:gdLst/>
              <a:ahLst/>
              <a:rect l="l" t="t" r="r" b="b"/>
              <a:pathLst>
                <a:path w="525" h="426">
                  <a:moveTo>
                    <a:pt x="264" y="0"/>
                  </a:moveTo>
                  <a:lnTo>
                    <a:pt x="525" y="219"/>
                  </a:lnTo>
                  <a:lnTo>
                    <a:pt x="396" y="426"/>
                  </a:lnTo>
                  <a:lnTo>
                    <a:pt x="120" y="426"/>
                  </a:lnTo>
                  <a:lnTo>
                    <a:pt x="0" y="207"/>
                  </a:lnTo>
                  <a:lnTo>
                    <a:pt x="264" y="0"/>
                  </a:lnTo>
                  <a:close/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30560" y="3970440"/>
              <a:ext cx="14256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745960" y="3941640"/>
              <a:ext cx="30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Trebuchet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324480" y="405756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319440" y="438300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114960" y="4388040"/>
              <a:ext cx="0" cy="328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671800" y="471168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486400" y="4035600"/>
              <a:ext cx="0" cy="328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0" name=""/>
          <p:cNvSpPr/>
          <p:nvPr/>
        </p:nvSpPr>
        <p:spPr>
          <a:xfrm>
            <a:off x="6158880" y="4649760"/>
            <a:ext cx="68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Trebuchet MS"/>
              </a:rPr>
              <a:t>CH</a:t>
            </a:r>
            <a:r>
              <a:rPr b="1" lang="fr-FR" sz="1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200" spc="-1" strike="noStrike">
                <a:solidFill>
                  <a:srgbClr val="000066"/>
                </a:solidFill>
                <a:latin typeface="Trebuchet MS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925520" y="3840120"/>
            <a:ext cx="68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Trebuchet MS"/>
              </a:rPr>
              <a:t>CH</a:t>
            </a:r>
            <a:r>
              <a:rPr b="1" lang="fr-FR" sz="1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200" spc="-1" strike="noStrike">
                <a:solidFill>
                  <a:srgbClr val="000066"/>
                </a:solidFill>
                <a:latin typeface="Trebuchet MS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2" name=""/>
          <p:cNvGrpSpPr/>
          <p:nvPr/>
        </p:nvGrpSpPr>
        <p:grpSpPr>
          <a:xfrm>
            <a:off x="3111480" y="3673440"/>
            <a:ext cx="841320" cy="1339920"/>
            <a:chOff x="3111480" y="3673440"/>
            <a:chExt cx="841320" cy="1339920"/>
          </a:xfrm>
        </p:grpSpPr>
        <p:sp>
          <p:nvSpPr>
            <p:cNvPr id="1773" name=""/>
            <p:cNvSpPr/>
            <p:nvPr/>
          </p:nvSpPr>
          <p:spPr>
            <a:xfrm>
              <a:off x="3114720" y="4011480"/>
              <a:ext cx="838080" cy="681120"/>
            </a:xfrm>
            <a:custGeom>
              <a:avLst/>
              <a:gdLst/>
              <a:ahLst/>
              <a:rect l="l" t="t" r="r" b="b"/>
              <a:pathLst>
                <a:path w="528" h="429">
                  <a:moveTo>
                    <a:pt x="402" y="0"/>
                  </a:moveTo>
                  <a:lnTo>
                    <a:pt x="126" y="0"/>
                  </a:lnTo>
                  <a:lnTo>
                    <a:pt x="0" y="213"/>
                  </a:lnTo>
                  <a:lnTo>
                    <a:pt x="129" y="429"/>
                  </a:lnTo>
                  <a:lnTo>
                    <a:pt x="405" y="429"/>
                  </a:lnTo>
                  <a:lnTo>
                    <a:pt x="528" y="21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314880" y="367344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111480" y="435600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321000" y="4365720"/>
              <a:ext cx="0" cy="328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759120" y="468468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667320" y="3963960"/>
              <a:ext cx="14292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598560" y="3908520"/>
              <a:ext cx="30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Trebuchet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949920" y="434340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urces dans l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4280" y="4915080"/>
            <a:ext cx="857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estomac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emplissage, stockage, malaxage, évac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but de digestion des protéines, formation du chy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oduction endocrine (gastr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9558800">
            <a:off x="3218040" y="2547720"/>
            <a:ext cx="2176200" cy="1331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/>
          <p:nvPr/>
        </p:nvSpPr>
        <p:spPr>
          <a:xfrm>
            <a:off x="588960" y="1341360"/>
            <a:ext cx="64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SymbolPS"/>
                <a:ea typeface="SymbolPS"/>
              </a:rPr>
              <a:t>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-amylases salivaire et pancréatiqu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nzymes sécrétées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 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hydrolyse des liaisons a-1,4 in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886320" y="5567400"/>
            <a:ext cx="67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gestion de l’amidon dans le duodénum : 1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altose (2 G), maltotriose (3 G), dextrines (4 à 9 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1355760" y="2325600"/>
            <a:ext cx="6184800" cy="3183480"/>
            <a:chOff x="1355760" y="2325600"/>
            <a:chExt cx="6184800" cy="3183480"/>
          </a:xfrm>
        </p:grpSpPr>
        <p:grpSp>
          <p:nvGrpSpPr>
            <p:cNvPr id="1788" name=""/>
            <p:cNvGrpSpPr/>
            <p:nvPr/>
          </p:nvGrpSpPr>
          <p:grpSpPr>
            <a:xfrm>
              <a:off x="4889520" y="2328480"/>
              <a:ext cx="986040" cy="1560600"/>
              <a:chOff x="4889520" y="2328480"/>
              <a:chExt cx="986040" cy="1560600"/>
            </a:xfrm>
          </p:grpSpPr>
          <p:sp>
            <p:nvSpPr>
              <p:cNvPr id="1789" name=""/>
              <p:cNvSpPr/>
              <p:nvPr/>
            </p:nvSpPr>
            <p:spPr>
              <a:xfrm>
                <a:off x="4892400" y="2887200"/>
                <a:ext cx="838080" cy="68112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092560" y="25491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889520" y="323172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099040" y="324144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37160" y="35604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445000" y="2839680"/>
                <a:ext cx="14256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375880" y="278424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727600" y="32284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941000" y="2328480"/>
                <a:ext cx="68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CH</a:t>
                </a:r>
                <a:r>
                  <a:rPr b="1" lang="fr-FR" sz="1200" spc="-1" strike="noStrike" baseline="-25000">
                    <a:solidFill>
                      <a:srgbClr val="000066"/>
                    </a:solidFill>
                    <a:latin typeface="Trebuchet MS"/>
                  </a:rPr>
                  <a:t>2</a:t>
                </a: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572800" y="349524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9" name=""/>
            <p:cNvGrpSpPr/>
            <p:nvPr/>
          </p:nvGrpSpPr>
          <p:grpSpPr>
            <a:xfrm>
              <a:off x="1355760" y="2325600"/>
              <a:ext cx="3531600" cy="1567440"/>
              <a:chOff x="1355760" y="2325600"/>
              <a:chExt cx="3531600" cy="1567440"/>
            </a:xfrm>
          </p:grpSpPr>
          <p:grpSp>
            <p:nvGrpSpPr>
              <p:cNvPr id="1800" name=""/>
              <p:cNvGrpSpPr/>
              <p:nvPr/>
            </p:nvGrpSpPr>
            <p:grpSpPr>
              <a:xfrm>
                <a:off x="3711240" y="2328480"/>
                <a:ext cx="1176120" cy="1559880"/>
                <a:chOff x="3711240" y="2328480"/>
                <a:chExt cx="1176120" cy="155988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3714480" y="2886840"/>
                  <a:ext cx="838080" cy="68076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3914280" y="254880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3711240" y="32313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3920760" y="3241080"/>
                  <a:ext cx="0" cy="32796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4358880" y="356004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4266720" y="283932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4197960" y="278388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4549320" y="32281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3763080" y="2328480"/>
                  <a:ext cx="6854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Trebuchet MS"/>
                    </a:rPr>
                    <a:t>2</a:t>
                  </a: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4549320" y="356004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4658760" y="349020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4575960" y="342360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3" name=""/>
              <p:cNvGrpSpPr/>
              <p:nvPr/>
            </p:nvGrpSpPr>
            <p:grpSpPr>
              <a:xfrm>
                <a:off x="1355760" y="2325600"/>
                <a:ext cx="2351520" cy="1567440"/>
                <a:chOff x="1355760" y="2325600"/>
                <a:chExt cx="2351520" cy="1567440"/>
              </a:xfrm>
            </p:grpSpPr>
            <p:grpSp>
              <p:nvGrpSpPr>
                <p:cNvPr id="1814" name=""/>
                <p:cNvGrpSpPr/>
                <p:nvPr/>
              </p:nvGrpSpPr>
              <p:grpSpPr>
                <a:xfrm>
                  <a:off x="1355760" y="2333160"/>
                  <a:ext cx="1176120" cy="1559880"/>
                  <a:chOff x="1355760" y="2333160"/>
                  <a:chExt cx="1176120" cy="1559880"/>
                </a:xfrm>
              </p:grpSpPr>
              <p:sp>
                <p:nvSpPr>
                  <p:cNvPr id="1815" name=""/>
                  <p:cNvSpPr/>
                  <p:nvPr/>
                </p:nvSpPr>
                <p:spPr>
                  <a:xfrm>
                    <a:off x="1359000" y="2891520"/>
                    <a:ext cx="83808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29">
                        <a:moveTo>
                          <a:pt x="402" y="0"/>
                        </a:moveTo>
                        <a:lnTo>
                          <a:pt x="126" y="0"/>
                        </a:lnTo>
                        <a:lnTo>
                          <a:pt x="0" y="213"/>
                        </a:lnTo>
                        <a:lnTo>
                          <a:pt x="129" y="429"/>
                        </a:lnTo>
                        <a:lnTo>
                          <a:pt x="405" y="429"/>
                        </a:lnTo>
                        <a:lnTo>
                          <a:pt x="528" y="210"/>
                        </a:lnTo>
                        <a:lnTo>
                          <a:pt x="4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>
                    <a:off x="1558800" y="255348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1355760" y="323604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1565280" y="3245760"/>
                    <a:ext cx="0" cy="32796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2003400" y="356472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1911240" y="2844000"/>
                    <a:ext cx="14292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1842480" y="278856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2193840" y="323280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1407600" y="2333160"/>
                    <a:ext cx="68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CH</a:t>
                    </a:r>
                    <a:r>
                      <a:rPr b="1" lang="fr-FR" sz="1200" spc="-1" strike="noStrike" baseline="-25000">
                        <a:solidFill>
                          <a:srgbClr val="000066"/>
                        </a:solidFill>
                        <a:latin typeface="Trebuchet MS"/>
                      </a:rPr>
                      <a:t>2</a:t>
                    </a: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2193840" y="3564720"/>
                    <a:ext cx="338040" cy="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>
                    <a:off x="2303280" y="3494880"/>
                    <a:ext cx="14292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2220480" y="342828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7" name=""/>
                <p:cNvGrpSpPr/>
                <p:nvPr/>
              </p:nvGrpSpPr>
              <p:grpSpPr>
                <a:xfrm>
                  <a:off x="2531880" y="2325600"/>
                  <a:ext cx="1175400" cy="1559880"/>
                  <a:chOff x="2531880" y="2325600"/>
                  <a:chExt cx="1175400" cy="1559880"/>
                </a:xfrm>
              </p:grpSpPr>
              <p:sp>
                <p:nvSpPr>
                  <p:cNvPr id="1828" name=""/>
                  <p:cNvSpPr/>
                  <p:nvPr/>
                </p:nvSpPr>
                <p:spPr>
                  <a:xfrm>
                    <a:off x="2534760" y="2883960"/>
                    <a:ext cx="83772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29">
                        <a:moveTo>
                          <a:pt x="402" y="0"/>
                        </a:moveTo>
                        <a:lnTo>
                          <a:pt x="126" y="0"/>
                        </a:lnTo>
                        <a:lnTo>
                          <a:pt x="0" y="213"/>
                        </a:lnTo>
                        <a:lnTo>
                          <a:pt x="129" y="429"/>
                        </a:lnTo>
                        <a:lnTo>
                          <a:pt x="405" y="429"/>
                        </a:lnTo>
                        <a:lnTo>
                          <a:pt x="528" y="210"/>
                        </a:lnTo>
                        <a:lnTo>
                          <a:pt x="4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2734560" y="254592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>
                    <a:off x="2531880" y="322848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2741040" y="3238200"/>
                    <a:ext cx="0" cy="32796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3179160" y="355716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>
                    <a:off x="3087000" y="2836440"/>
                    <a:ext cx="14256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3018240" y="278100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3369600" y="322524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>
                    <a:off x="2583000" y="2325600"/>
                    <a:ext cx="68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CH</a:t>
                    </a:r>
                    <a:r>
                      <a:rPr b="1" lang="fr-FR" sz="1200" spc="-1" strike="noStrike" baseline="-25000">
                        <a:solidFill>
                          <a:srgbClr val="000066"/>
                        </a:solidFill>
                        <a:latin typeface="Trebuchet MS"/>
                      </a:rPr>
                      <a:t>2</a:t>
                    </a: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3369600" y="3557160"/>
                    <a:ext cx="337680" cy="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>
                    <a:off x="3479040" y="3487320"/>
                    <a:ext cx="14256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3395880" y="342072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40" name=""/>
            <p:cNvGrpSpPr/>
            <p:nvPr/>
          </p:nvGrpSpPr>
          <p:grpSpPr>
            <a:xfrm>
              <a:off x="6699240" y="3944520"/>
              <a:ext cx="841320" cy="1560600"/>
              <a:chOff x="6699240" y="3944520"/>
              <a:chExt cx="841320" cy="1560600"/>
            </a:xfrm>
          </p:grpSpPr>
          <p:sp>
            <p:nvSpPr>
              <p:cNvPr id="1841" name=""/>
              <p:cNvSpPr/>
              <p:nvPr/>
            </p:nvSpPr>
            <p:spPr>
              <a:xfrm>
                <a:off x="6702480" y="4503600"/>
                <a:ext cx="838080" cy="68076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902280" y="41652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699240" y="484812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908760" y="48574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346880" y="517644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254720" y="4455720"/>
                <a:ext cx="142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185960" y="440028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537320" y="48448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751080" y="3944520"/>
                <a:ext cx="68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CH</a:t>
                </a:r>
                <a:r>
                  <a:rPr b="1" lang="fr-FR" sz="1200" spc="-1" strike="noStrike" baseline="-25000">
                    <a:solidFill>
                      <a:srgbClr val="000066"/>
                    </a:solidFill>
                    <a:latin typeface="Trebuchet MS"/>
                  </a:rPr>
                  <a:t>2</a:t>
                </a: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4343400" y="3941640"/>
              <a:ext cx="2352600" cy="1567440"/>
              <a:chOff x="4343400" y="3941640"/>
              <a:chExt cx="2352600" cy="1567440"/>
            </a:xfrm>
          </p:grpSpPr>
          <p:grpSp>
            <p:nvGrpSpPr>
              <p:cNvPr id="1851" name=""/>
              <p:cNvGrpSpPr/>
              <p:nvPr/>
            </p:nvGrpSpPr>
            <p:grpSpPr>
              <a:xfrm>
                <a:off x="4343400" y="3949200"/>
                <a:ext cx="1176120" cy="1559880"/>
                <a:chOff x="4343400" y="3949200"/>
                <a:chExt cx="1176120" cy="1559880"/>
              </a:xfrm>
            </p:grpSpPr>
            <p:sp>
              <p:nvSpPr>
                <p:cNvPr id="1852" name=""/>
                <p:cNvSpPr/>
                <p:nvPr/>
              </p:nvSpPr>
              <p:spPr>
                <a:xfrm>
                  <a:off x="4346640" y="4507560"/>
                  <a:ext cx="838080" cy="68076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546440" y="41695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343400" y="485208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552920" y="4861800"/>
                  <a:ext cx="0" cy="32796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991040" y="51807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4898880" y="446004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4830120" y="440460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5181480" y="484884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4395240" y="3949200"/>
                  <a:ext cx="6854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Trebuchet MS"/>
                    </a:rPr>
                    <a:t>2</a:t>
                  </a: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181480" y="518076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290920" y="511092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208120" y="504432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5519880" y="3941640"/>
                <a:ext cx="1176120" cy="1559880"/>
                <a:chOff x="5519880" y="3941640"/>
                <a:chExt cx="1176120" cy="155988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5523120" y="4500000"/>
                  <a:ext cx="838080" cy="68076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5722920" y="41619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5519880" y="48445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5729400" y="4854240"/>
                  <a:ext cx="0" cy="32796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6167520" y="517320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6075360" y="445248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6006600" y="439704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6357960" y="484128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5585040" y="3941640"/>
                  <a:ext cx="4460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Trebuchet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6357960" y="517320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6467400" y="510336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6384600" y="503676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7" name=""/>
            <p:cNvSpPr/>
            <p:nvPr/>
          </p:nvSpPr>
          <p:spPr>
            <a:xfrm>
              <a:off x="5724360" y="372888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8" name=""/>
          <p:cNvSpPr/>
          <p:nvPr/>
        </p:nvSpPr>
        <p:spPr>
          <a:xfrm>
            <a:off x="3340080" y="3340080"/>
            <a:ext cx="444600" cy="41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nzymes sécrété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"/>
          <p:cNvSpPr/>
          <p:nvPr/>
        </p:nvSpPr>
        <p:spPr>
          <a:xfrm>
            <a:off x="781200" y="1332000"/>
            <a:ext cx="6312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oligosaccharidas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ans la bordure en brosse du duodénum et du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sucra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ucros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fructose +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acta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lactos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galactose +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glucoamyla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maltose, maltotrios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gluc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SymbolPS"/>
                <a:ea typeface="SymbolPS"/>
              </a:rPr>
              <a:t>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-dextrina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live la liaison a-1,6 : dextrin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gluc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527120" y="5683320"/>
            <a:ext cx="6462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056240" y="5684760"/>
            <a:ext cx="7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lact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265640" y="561960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986280" y="570708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ucr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5014800" y="5697360"/>
            <a:ext cx="127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-dextri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938640" y="5694480"/>
            <a:ext cx="146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gluco-am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547640" y="364500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017000" y="3665520"/>
            <a:ext cx="6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lac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1720800" y="39402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 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251960" y="3665520"/>
            <a:ext cx="73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ucr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321000" y="3957480"/>
            <a:ext cx="939960" cy="473400"/>
          </a:xfrm>
          <a:custGeom>
            <a:avLst/>
            <a:gdLst/>
            <a:ahLst/>
            <a:rect l="l" t="t" r="r" b="b"/>
            <a:pathLst>
              <a:path w="539" h="298">
                <a:moveTo>
                  <a:pt x="0" y="0"/>
                </a:moveTo>
                <a:lnTo>
                  <a:pt x="55" y="2"/>
                </a:lnTo>
                <a:lnTo>
                  <a:pt x="109" y="7"/>
                </a:lnTo>
                <a:lnTo>
                  <a:pt x="160" y="14"/>
                </a:lnTo>
                <a:lnTo>
                  <a:pt x="209" y="24"/>
                </a:lnTo>
                <a:lnTo>
                  <a:pt x="257" y="37"/>
                </a:lnTo>
                <a:lnTo>
                  <a:pt x="301" y="51"/>
                </a:lnTo>
                <a:lnTo>
                  <a:pt x="343" y="69"/>
                </a:lnTo>
                <a:lnTo>
                  <a:pt x="381" y="88"/>
                </a:lnTo>
                <a:lnTo>
                  <a:pt x="415" y="109"/>
                </a:lnTo>
                <a:lnTo>
                  <a:pt x="447" y="132"/>
                </a:lnTo>
                <a:lnTo>
                  <a:pt x="474" y="156"/>
                </a:lnTo>
                <a:lnTo>
                  <a:pt x="486" y="169"/>
                </a:lnTo>
                <a:lnTo>
                  <a:pt x="497" y="182"/>
                </a:lnTo>
                <a:lnTo>
                  <a:pt x="506" y="196"/>
                </a:lnTo>
                <a:lnTo>
                  <a:pt x="515" y="210"/>
                </a:lnTo>
                <a:lnTo>
                  <a:pt x="522" y="224"/>
                </a:lnTo>
                <a:lnTo>
                  <a:pt x="528" y="239"/>
                </a:lnTo>
                <a:lnTo>
                  <a:pt x="532" y="253"/>
                </a:lnTo>
                <a:lnTo>
                  <a:pt x="537" y="267"/>
                </a:lnTo>
                <a:lnTo>
                  <a:pt x="538" y="283"/>
                </a:lnTo>
                <a:lnTo>
                  <a:pt x="539" y="29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823440" y="344952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al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700320" y="3673440"/>
            <a:ext cx="109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altotri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769080" y="4200480"/>
            <a:ext cx="357120" cy="268200"/>
          </a:xfrm>
          <a:custGeom>
            <a:avLst/>
            <a:gdLst/>
            <a:ahLst/>
            <a:rect l="l" t="t" r="r" b="b"/>
            <a:pathLst>
              <a:path w="207" h="169">
                <a:moveTo>
                  <a:pt x="0" y="0"/>
                </a:moveTo>
                <a:lnTo>
                  <a:pt x="21" y="1"/>
                </a:lnTo>
                <a:lnTo>
                  <a:pt x="42" y="3"/>
                </a:lnTo>
                <a:lnTo>
                  <a:pt x="62" y="7"/>
                </a:lnTo>
                <a:lnTo>
                  <a:pt x="80" y="13"/>
                </a:lnTo>
                <a:lnTo>
                  <a:pt x="99" y="21"/>
                </a:lnTo>
                <a:lnTo>
                  <a:pt x="116" y="28"/>
                </a:lnTo>
                <a:lnTo>
                  <a:pt x="132" y="38"/>
                </a:lnTo>
                <a:lnTo>
                  <a:pt x="147" y="49"/>
                </a:lnTo>
                <a:lnTo>
                  <a:pt x="160" y="61"/>
                </a:lnTo>
                <a:lnTo>
                  <a:pt x="172" y="75"/>
                </a:lnTo>
                <a:lnTo>
                  <a:pt x="182" y="89"/>
                </a:lnTo>
                <a:lnTo>
                  <a:pt x="191" y="103"/>
                </a:lnTo>
                <a:lnTo>
                  <a:pt x="198" y="119"/>
                </a:lnTo>
                <a:lnTo>
                  <a:pt x="203" y="135"/>
                </a:lnTo>
                <a:lnTo>
                  <a:pt x="206" y="152"/>
                </a:lnTo>
                <a:lnTo>
                  <a:pt x="207" y="169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063400" y="366696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extr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5457960" y="4143240"/>
            <a:ext cx="476280" cy="516240"/>
          </a:xfrm>
          <a:custGeom>
            <a:avLst/>
            <a:gdLst/>
            <a:ahLst/>
            <a:rect l="l" t="t" r="r" b="b"/>
            <a:pathLst>
              <a:path w="245" h="325">
                <a:moveTo>
                  <a:pt x="245" y="0"/>
                </a:moveTo>
                <a:lnTo>
                  <a:pt x="219" y="3"/>
                </a:lnTo>
                <a:lnTo>
                  <a:pt x="195" y="7"/>
                </a:lnTo>
                <a:lnTo>
                  <a:pt x="172" y="15"/>
                </a:lnTo>
                <a:lnTo>
                  <a:pt x="149" y="26"/>
                </a:lnTo>
                <a:lnTo>
                  <a:pt x="128" y="40"/>
                </a:lnTo>
                <a:lnTo>
                  <a:pt x="108" y="56"/>
                </a:lnTo>
                <a:lnTo>
                  <a:pt x="89" y="74"/>
                </a:lnTo>
                <a:lnTo>
                  <a:pt x="72" y="95"/>
                </a:lnTo>
                <a:lnTo>
                  <a:pt x="56" y="118"/>
                </a:lnTo>
                <a:lnTo>
                  <a:pt x="42" y="144"/>
                </a:lnTo>
                <a:lnTo>
                  <a:pt x="30" y="170"/>
                </a:lnTo>
                <a:lnTo>
                  <a:pt x="19" y="199"/>
                </a:lnTo>
                <a:lnTo>
                  <a:pt x="11" y="229"/>
                </a:lnTo>
                <a:lnTo>
                  <a:pt x="5" y="259"/>
                </a:lnTo>
                <a:lnTo>
                  <a:pt x="1" y="291"/>
                </a:lnTo>
                <a:lnTo>
                  <a:pt x="0" y="3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673320" y="390852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247560" y="40370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3913200" y="4371840"/>
            <a:ext cx="10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527120" y="5683320"/>
            <a:ext cx="6462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265640" y="561960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562040" y="4230720"/>
            <a:ext cx="382680" cy="515880"/>
          </a:xfrm>
          <a:custGeom>
            <a:avLst/>
            <a:gdLst/>
            <a:ahLst/>
            <a:rect l="l" t="t" r="r" b="b"/>
            <a:pathLst>
              <a:path w="245" h="325">
                <a:moveTo>
                  <a:pt x="245" y="0"/>
                </a:moveTo>
                <a:lnTo>
                  <a:pt x="220" y="3"/>
                </a:lnTo>
                <a:lnTo>
                  <a:pt x="196" y="7"/>
                </a:lnTo>
                <a:lnTo>
                  <a:pt x="172" y="15"/>
                </a:lnTo>
                <a:lnTo>
                  <a:pt x="149" y="26"/>
                </a:lnTo>
                <a:lnTo>
                  <a:pt x="128" y="40"/>
                </a:lnTo>
                <a:lnTo>
                  <a:pt x="108" y="56"/>
                </a:lnTo>
                <a:lnTo>
                  <a:pt x="90" y="74"/>
                </a:lnTo>
                <a:lnTo>
                  <a:pt x="72" y="95"/>
                </a:lnTo>
                <a:lnTo>
                  <a:pt x="57" y="118"/>
                </a:lnTo>
                <a:lnTo>
                  <a:pt x="42" y="144"/>
                </a:lnTo>
                <a:lnTo>
                  <a:pt x="30" y="170"/>
                </a:lnTo>
                <a:lnTo>
                  <a:pt x="19" y="199"/>
                </a:lnTo>
                <a:lnTo>
                  <a:pt x="11" y="229"/>
                </a:lnTo>
                <a:lnTo>
                  <a:pt x="6" y="260"/>
                </a:lnTo>
                <a:lnTo>
                  <a:pt x="2" y="292"/>
                </a:lnTo>
                <a:lnTo>
                  <a:pt x="0" y="3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971880" y="4262400"/>
            <a:ext cx="328680" cy="473040"/>
          </a:xfrm>
          <a:custGeom>
            <a:avLst/>
            <a:gdLst/>
            <a:ahLst/>
            <a:rect l="l" t="t" r="r" b="b"/>
            <a:pathLst>
              <a:path w="207" h="298">
                <a:moveTo>
                  <a:pt x="0" y="0"/>
                </a:moveTo>
                <a:lnTo>
                  <a:pt x="21" y="1"/>
                </a:lnTo>
                <a:lnTo>
                  <a:pt x="42" y="7"/>
                </a:lnTo>
                <a:lnTo>
                  <a:pt x="62" y="14"/>
                </a:lnTo>
                <a:lnTo>
                  <a:pt x="81" y="23"/>
                </a:lnTo>
                <a:lnTo>
                  <a:pt x="99" y="37"/>
                </a:lnTo>
                <a:lnTo>
                  <a:pt x="116" y="51"/>
                </a:lnTo>
                <a:lnTo>
                  <a:pt x="132" y="69"/>
                </a:lnTo>
                <a:lnTo>
                  <a:pt x="147" y="87"/>
                </a:lnTo>
                <a:lnTo>
                  <a:pt x="160" y="108"/>
                </a:lnTo>
                <a:lnTo>
                  <a:pt x="172" y="132"/>
                </a:lnTo>
                <a:lnTo>
                  <a:pt x="182" y="156"/>
                </a:lnTo>
                <a:lnTo>
                  <a:pt x="191" y="182"/>
                </a:lnTo>
                <a:lnTo>
                  <a:pt x="198" y="210"/>
                </a:lnTo>
                <a:lnTo>
                  <a:pt x="203" y="238"/>
                </a:lnTo>
                <a:lnTo>
                  <a:pt x="206" y="267"/>
                </a:lnTo>
                <a:lnTo>
                  <a:pt x="207" y="29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309680" y="3960720"/>
            <a:ext cx="0" cy="716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560840" y="3952800"/>
            <a:ext cx="0" cy="78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284800" y="3960720"/>
            <a:ext cx="0" cy="75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189920" y="3960720"/>
            <a:ext cx="0" cy="614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6" name="" descr=""/>
          <p:cNvPicPr/>
          <p:nvPr/>
        </p:nvPicPr>
        <p:blipFill>
          <a:blip r:embed="rId1"/>
          <a:stretch/>
        </p:blipFill>
        <p:spPr>
          <a:xfrm>
            <a:off x="800280" y="4376880"/>
            <a:ext cx="6771960" cy="1209600"/>
          </a:xfrm>
          <a:prstGeom prst="rect">
            <a:avLst/>
          </a:prstGeom>
          <a:ln w="0">
            <a:noFill/>
          </a:ln>
        </p:spPr>
      </p:pic>
      <p:sp>
        <p:nvSpPr>
          <p:cNvPr id="1917" name=""/>
          <p:cNvSpPr/>
          <p:nvPr/>
        </p:nvSpPr>
        <p:spPr>
          <a:xfrm>
            <a:off x="2006640" y="4681440"/>
            <a:ext cx="1879560" cy="7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917720" y="4813200"/>
            <a:ext cx="205740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968480" y="4794120"/>
            <a:ext cx="1981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955880" y="5238720"/>
            <a:ext cx="1981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70680" y="4599000"/>
            <a:ext cx="69840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006960" y="4775040"/>
            <a:ext cx="88272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987880" y="4762440"/>
            <a:ext cx="96552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5975280" y="5207040"/>
            <a:ext cx="9651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000480" y="389412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476520" y="725400"/>
            <a:ext cx="56199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nzymes présentes dans la bordure intestin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700560" y="1332000"/>
            <a:ext cx="694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urtout duodénum et partie supérieure du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transporteur au glucose et au galacto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GLT1 (couplé au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2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/ 1 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transporteur au fructo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GLUT5 (transport facilit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25680" y="5680080"/>
            <a:ext cx="646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054440" y="5681520"/>
            <a:ext cx="7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lact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455920" y="587844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209320" y="594036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GL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467160" y="5878440"/>
            <a:ext cx="654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267720" y="5940360"/>
            <a:ext cx="6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GLUT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264200" y="561672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984840" y="570384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ucr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013360" y="5694480"/>
            <a:ext cx="127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-dextri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163920" y="593568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GL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937200" y="5691240"/>
            <a:ext cx="146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gluco-am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546200" y="364176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2486160" y="3954600"/>
            <a:ext cx="1773000" cy="492120"/>
            <a:chOff x="2486160" y="3954600"/>
            <a:chExt cx="1773000" cy="492120"/>
          </a:xfrm>
        </p:grpSpPr>
        <p:sp>
          <p:nvSpPr>
            <p:cNvPr id="1945" name=""/>
            <p:cNvSpPr/>
            <p:nvPr/>
          </p:nvSpPr>
          <p:spPr>
            <a:xfrm>
              <a:off x="3319560" y="3954600"/>
              <a:ext cx="939600" cy="473040"/>
            </a:xfrm>
            <a:custGeom>
              <a:avLst/>
              <a:gdLst/>
              <a:ahLst/>
              <a:rect l="l" t="t" r="r" b="b"/>
              <a:pathLst>
                <a:path w="539" h="298">
                  <a:moveTo>
                    <a:pt x="0" y="0"/>
                  </a:moveTo>
                  <a:lnTo>
                    <a:pt x="55" y="2"/>
                  </a:lnTo>
                  <a:lnTo>
                    <a:pt x="109" y="7"/>
                  </a:lnTo>
                  <a:lnTo>
                    <a:pt x="160" y="14"/>
                  </a:lnTo>
                  <a:lnTo>
                    <a:pt x="209" y="24"/>
                  </a:lnTo>
                  <a:lnTo>
                    <a:pt x="257" y="37"/>
                  </a:lnTo>
                  <a:lnTo>
                    <a:pt x="301" y="51"/>
                  </a:lnTo>
                  <a:lnTo>
                    <a:pt x="343" y="69"/>
                  </a:lnTo>
                  <a:lnTo>
                    <a:pt x="381" y="88"/>
                  </a:lnTo>
                  <a:lnTo>
                    <a:pt x="415" y="109"/>
                  </a:lnTo>
                  <a:lnTo>
                    <a:pt x="447" y="132"/>
                  </a:lnTo>
                  <a:lnTo>
                    <a:pt x="474" y="156"/>
                  </a:lnTo>
                  <a:lnTo>
                    <a:pt x="486" y="169"/>
                  </a:lnTo>
                  <a:lnTo>
                    <a:pt x="497" y="182"/>
                  </a:lnTo>
                  <a:lnTo>
                    <a:pt x="506" y="196"/>
                  </a:lnTo>
                  <a:lnTo>
                    <a:pt x="515" y="210"/>
                  </a:lnTo>
                  <a:lnTo>
                    <a:pt x="522" y="224"/>
                  </a:lnTo>
                  <a:lnTo>
                    <a:pt x="528" y="239"/>
                  </a:lnTo>
                  <a:lnTo>
                    <a:pt x="532" y="253"/>
                  </a:lnTo>
                  <a:lnTo>
                    <a:pt x="537" y="267"/>
                  </a:lnTo>
                  <a:lnTo>
                    <a:pt x="538" y="283"/>
                  </a:lnTo>
                  <a:lnTo>
                    <a:pt x="539" y="29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486160" y="3954600"/>
              <a:ext cx="833400" cy="492120"/>
            </a:xfrm>
            <a:custGeom>
              <a:avLst/>
              <a:gdLst/>
              <a:ahLst/>
              <a:rect l="l" t="t" r="r" b="b"/>
              <a:pathLst>
                <a:path w="478" h="310">
                  <a:moveTo>
                    <a:pt x="478" y="0"/>
                  </a:moveTo>
                  <a:lnTo>
                    <a:pt x="434" y="2"/>
                  </a:lnTo>
                  <a:lnTo>
                    <a:pt x="391" y="7"/>
                  </a:lnTo>
                  <a:lnTo>
                    <a:pt x="350" y="14"/>
                  </a:lnTo>
                  <a:lnTo>
                    <a:pt x="309" y="24"/>
                  </a:lnTo>
                  <a:lnTo>
                    <a:pt x="270" y="37"/>
                  </a:lnTo>
                  <a:lnTo>
                    <a:pt x="233" y="52"/>
                  </a:lnTo>
                  <a:lnTo>
                    <a:pt x="197" y="70"/>
                  </a:lnTo>
                  <a:lnTo>
                    <a:pt x="165" y="90"/>
                  </a:lnTo>
                  <a:lnTo>
                    <a:pt x="135" y="111"/>
                  </a:lnTo>
                  <a:lnTo>
                    <a:pt x="106" y="135"/>
                  </a:lnTo>
                  <a:lnTo>
                    <a:pt x="81" y="160"/>
                  </a:lnTo>
                  <a:lnTo>
                    <a:pt x="58" y="188"/>
                  </a:lnTo>
                  <a:lnTo>
                    <a:pt x="39" y="217"/>
                  </a:lnTo>
                  <a:lnTo>
                    <a:pt x="22" y="246"/>
                  </a:lnTo>
                  <a:lnTo>
                    <a:pt x="10" y="278"/>
                  </a:lnTo>
                  <a:lnTo>
                    <a:pt x="0" y="31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7" name=""/>
          <p:cNvGrpSpPr/>
          <p:nvPr/>
        </p:nvGrpSpPr>
        <p:grpSpPr>
          <a:xfrm>
            <a:off x="6504120" y="4197240"/>
            <a:ext cx="620280" cy="320760"/>
            <a:chOff x="6504120" y="4197240"/>
            <a:chExt cx="620280" cy="320760"/>
          </a:xfrm>
        </p:grpSpPr>
        <p:sp>
          <p:nvSpPr>
            <p:cNvPr id="1948" name=""/>
            <p:cNvSpPr/>
            <p:nvPr/>
          </p:nvSpPr>
          <p:spPr>
            <a:xfrm>
              <a:off x="6766560" y="4197240"/>
              <a:ext cx="357840" cy="268200"/>
            </a:xfrm>
            <a:custGeom>
              <a:avLst/>
              <a:gdLst/>
              <a:ahLst/>
              <a:rect l="l" t="t" r="r" b="b"/>
              <a:pathLst>
                <a:path w="207" h="169">
                  <a:moveTo>
                    <a:pt x="0" y="0"/>
                  </a:moveTo>
                  <a:lnTo>
                    <a:pt x="21" y="1"/>
                  </a:lnTo>
                  <a:lnTo>
                    <a:pt x="42" y="3"/>
                  </a:lnTo>
                  <a:lnTo>
                    <a:pt x="62" y="7"/>
                  </a:lnTo>
                  <a:lnTo>
                    <a:pt x="80" y="13"/>
                  </a:lnTo>
                  <a:lnTo>
                    <a:pt x="99" y="21"/>
                  </a:lnTo>
                  <a:lnTo>
                    <a:pt x="116" y="28"/>
                  </a:lnTo>
                  <a:lnTo>
                    <a:pt x="132" y="38"/>
                  </a:lnTo>
                  <a:lnTo>
                    <a:pt x="147" y="49"/>
                  </a:lnTo>
                  <a:lnTo>
                    <a:pt x="160" y="61"/>
                  </a:lnTo>
                  <a:lnTo>
                    <a:pt x="172" y="75"/>
                  </a:lnTo>
                  <a:lnTo>
                    <a:pt x="182" y="89"/>
                  </a:lnTo>
                  <a:lnTo>
                    <a:pt x="191" y="103"/>
                  </a:lnTo>
                  <a:lnTo>
                    <a:pt x="198" y="119"/>
                  </a:lnTo>
                  <a:lnTo>
                    <a:pt x="203" y="135"/>
                  </a:lnTo>
                  <a:lnTo>
                    <a:pt x="206" y="152"/>
                  </a:lnTo>
                  <a:lnTo>
                    <a:pt x="207" y="16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504120" y="4197240"/>
              <a:ext cx="252360" cy="320760"/>
            </a:xfrm>
            <a:custGeom>
              <a:avLst/>
              <a:gdLst/>
              <a:ahLst/>
              <a:rect l="l" t="t" r="r" b="b"/>
              <a:pathLst>
                <a:path w="146" h="202">
                  <a:moveTo>
                    <a:pt x="146" y="0"/>
                  </a:moveTo>
                  <a:lnTo>
                    <a:pt x="133" y="1"/>
                  </a:lnTo>
                  <a:lnTo>
                    <a:pt x="120" y="4"/>
                  </a:lnTo>
                  <a:lnTo>
                    <a:pt x="108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3"/>
                  </a:lnTo>
                  <a:lnTo>
                    <a:pt x="63" y="45"/>
                  </a:lnTo>
                  <a:lnTo>
                    <a:pt x="53" y="57"/>
                  </a:lnTo>
                  <a:lnTo>
                    <a:pt x="43" y="71"/>
                  </a:lnTo>
                  <a:lnTo>
                    <a:pt x="35" y="87"/>
                  </a:lnTo>
                  <a:lnTo>
                    <a:pt x="26" y="103"/>
                  </a:lnTo>
                  <a:lnTo>
                    <a:pt x="20" y="122"/>
                  </a:lnTo>
                  <a:lnTo>
                    <a:pt x="7" y="161"/>
                  </a:lnTo>
                  <a:lnTo>
                    <a:pt x="0" y="20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0" name=""/>
          <p:cNvSpPr/>
          <p:nvPr/>
        </p:nvSpPr>
        <p:spPr>
          <a:xfrm>
            <a:off x="2525400" y="443088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5456160" y="4140360"/>
            <a:ext cx="972360" cy="515880"/>
            <a:chOff x="5456160" y="4140360"/>
            <a:chExt cx="972360" cy="515880"/>
          </a:xfrm>
        </p:grpSpPr>
        <p:sp>
          <p:nvSpPr>
            <p:cNvPr id="1952" name=""/>
            <p:cNvSpPr/>
            <p:nvPr/>
          </p:nvSpPr>
          <p:spPr>
            <a:xfrm>
              <a:off x="5943240" y="4140360"/>
              <a:ext cx="4852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0" y="0"/>
                  </a:moveTo>
                  <a:lnTo>
                    <a:pt x="22" y="1"/>
                  </a:lnTo>
                  <a:lnTo>
                    <a:pt x="44" y="5"/>
                  </a:lnTo>
                  <a:lnTo>
                    <a:pt x="66" y="10"/>
                  </a:lnTo>
                  <a:lnTo>
                    <a:pt x="87" y="18"/>
                  </a:lnTo>
                  <a:lnTo>
                    <a:pt x="107" y="27"/>
                  </a:lnTo>
                  <a:lnTo>
                    <a:pt x="126" y="39"/>
                  </a:lnTo>
                  <a:lnTo>
                    <a:pt x="144" y="51"/>
                  </a:lnTo>
                  <a:lnTo>
                    <a:pt x="161" y="67"/>
                  </a:lnTo>
                  <a:lnTo>
                    <a:pt x="177" y="82"/>
                  </a:lnTo>
                  <a:lnTo>
                    <a:pt x="192" y="100"/>
                  </a:lnTo>
                  <a:lnTo>
                    <a:pt x="205" y="118"/>
                  </a:lnTo>
                  <a:lnTo>
                    <a:pt x="217" y="139"/>
                  </a:lnTo>
                  <a:lnTo>
                    <a:pt x="228" y="160"/>
                  </a:lnTo>
                  <a:lnTo>
                    <a:pt x="237" y="183"/>
                  </a:lnTo>
                  <a:lnTo>
                    <a:pt x="245" y="207"/>
                  </a:lnTo>
                  <a:lnTo>
                    <a:pt x="250" y="2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56160" y="4140360"/>
              <a:ext cx="475920" cy="515880"/>
            </a:xfrm>
            <a:custGeom>
              <a:avLst/>
              <a:gdLst/>
              <a:ahLst/>
              <a:rect l="l" t="t" r="r" b="b"/>
              <a:pathLst>
                <a:path w="245" h="325">
                  <a:moveTo>
                    <a:pt x="245" y="0"/>
                  </a:moveTo>
                  <a:lnTo>
                    <a:pt x="219" y="3"/>
                  </a:lnTo>
                  <a:lnTo>
                    <a:pt x="195" y="7"/>
                  </a:lnTo>
                  <a:lnTo>
                    <a:pt x="172" y="15"/>
                  </a:lnTo>
                  <a:lnTo>
                    <a:pt x="149" y="26"/>
                  </a:lnTo>
                  <a:lnTo>
                    <a:pt x="128" y="40"/>
                  </a:lnTo>
                  <a:lnTo>
                    <a:pt x="108" y="56"/>
                  </a:lnTo>
                  <a:lnTo>
                    <a:pt x="89" y="74"/>
                  </a:lnTo>
                  <a:lnTo>
                    <a:pt x="72" y="95"/>
                  </a:lnTo>
                  <a:lnTo>
                    <a:pt x="56" y="118"/>
                  </a:lnTo>
                  <a:lnTo>
                    <a:pt x="42" y="144"/>
                  </a:lnTo>
                  <a:lnTo>
                    <a:pt x="30" y="170"/>
                  </a:lnTo>
                  <a:lnTo>
                    <a:pt x="19" y="199"/>
                  </a:lnTo>
                  <a:lnTo>
                    <a:pt x="11" y="229"/>
                  </a:lnTo>
                  <a:lnTo>
                    <a:pt x="5" y="259"/>
                  </a:lnTo>
                  <a:lnTo>
                    <a:pt x="1" y="291"/>
                  </a:lnTo>
                  <a:lnTo>
                    <a:pt x="0" y="3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4" name=""/>
          <p:cNvSpPr/>
          <p:nvPr/>
        </p:nvSpPr>
        <p:spPr>
          <a:xfrm>
            <a:off x="3911760" y="4368960"/>
            <a:ext cx="10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525680" y="5680080"/>
            <a:ext cx="646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455920" y="587844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467160" y="5878440"/>
            <a:ext cx="654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264200" y="561672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560600" y="4227480"/>
            <a:ext cx="382680" cy="515880"/>
          </a:xfrm>
          <a:custGeom>
            <a:avLst/>
            <a:gdLst/>
            <a:ahLst/>
            <a:rect l="l" t="t" r="r" b="b"/>
            <a:pathLst>
              <a:path w="245" h="325">
                <a:moveTo>
                  <a:pt x="245" y="0"/>
                </a:moveTo>
                <a:lnTo>
                  <a:pt x="220" y="3"/>
                </a:lnTo>
                <a:lnTo>
                  <a:pt x="196" y="7"/>
                </a:lnTo>
                <a:lnTo>
                  <a:pt x="172" y="15"/>
                </a:lnTo>
                <a:lnTo>
                  <a:pt x="149" y="26"/>
                </a:lnTo>
                <a:lnTo>
                  <a:pt x="128" y="40"/>
                </a:lnTo>
                <a:lnTo>
                  <a:pt x="108" y="56"/>
                </a:lnTo>
                <a:lnTo>
                  <a:pt x="90" y="74"/>
                </a:lnTo>
                <a:lnTo>
                  <a:pt x="72" y="95"/>
                </a:lnTo>
                <a:lnTo>
                  <a:pt x="57" y="118"/>
                </a:lnTo>
                <a:lnTo>
                  <a:pt x="42" y="144"/>
                </a:lnTo>
                <a:lnTo>
                  <a:pt x="30" y="170"/>
                </a:lnTo>
                <a:lnTo>
                  <a:pt x="19" y="199"/>
                </a:lnTo>
                <a:lnTo>
                  <a:pt x="11" y="229"/>
                </a:lnTo>
                <a:lnTo>
                  <a:pt x="6" y="260"/>
                </a:lnTo>
                <a:lnTo>
                  <a:pt x="2" y="292"/>
                </a:lnTo>
                <a:lnTo>
                  <a:pt x="0" y="3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941480" y="4227480"/>
            <a:ext cx="390600" cy="366840"/>
          </a:xfrm>
          <a:custGeom>
            <a:avLst/>
            <a:gdLst/>
            <a:ahLst/>
            <a:rect l="l" t="t" r="r" b="b"/>
            <a:pathLst>
              <a:path w="250" h="231">
                <a:moveTo>
                  <a:pt x="0" y="0"/>
                </a:moveTo>
                <a:lnTo>
                  <a:pt x="22" y="2"/>
                </a:lnTo>
                <a:lnTo>
                  <a:pt x="44" y="5"/>
                </a:lnTo>
                <a:lnTo>
                  <a:pt x="66" y="10"/>
                </a:lnTo>
                <a:lnTo>
                  <a:pt x="87" y="18"/>
                </a:lnTo>
                <a:lnTo>
                  <a:pt x="107" y="27"/>
                </a:lnTo>
                <a:lnTo>
                  <a:pt x="125" y="39"/>
                </a:lnTo>
                <a:lnTo>
                  <a:pt x="143" y="51"/>
                </a:lnTo>
                <a:lnTo>
                  <a:pt x="161" y="67"/>
                </a:lnTo>
                <a:lnTo>
                  <a:pt x="176" y="82"/>
                </a:lnTo>
                <a:lnTo>
                  <a:pt x="192" y="100"/>
                </a:lnTo>
                <a:lnTo>
                  <a:pt x="205" y="118"/>
                </a:lnTo>
                <a:lnTo>
                  <a:pt x="217" y="139"/>
                </a:lnTo>
                <a:lnTo>
                  <a:pt x="228" y="160"/>
                </a:lnTo>
                <a:lnTo>
                  <a:pt x="237" y="183"/>
                </a:lnTo>
                <a:lnTo>
                  <a:pt x="245" y="207"/>
                </a:lnTo>
                <a:lnTo>
                  <a:pt x="250" y="231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1" name=""/>
          <p:cNvGrpSpPr/>
          <p:nvPr/>
        </p:nvGrpSpPr>
        <p:grpSpPr>
          <a:xfrm>
            <a:off x="3666960" y="4259160"/>
            <a:ext cx="631800" cy="473040"/>
            <a:chOff x="3666960" y="4259160"/>
            <a:chExt cx="631800" cy="473040"/>
          </a:xfrm>
        </p:grpSpPr>
        <p:sp>
          <p:nvSpPr>
            <p:cNvPr id="1962" name=""/>
            <p:cNvSpPr/>
            <p:nvPr/>
          </p:nvSpPr>
          <p:spPr>
            <a:xfrm>
              <a:off x="3970080" y="4259160"/>
              <a:ext cx="328680" cy="473040"/>
            </a:xfrm>
            <a:custGeom>
              <a:avLst/>
              <a:gdLst/>
              <a:ahLst/>
              <a:rect l="l" t="t" r="r" b="b"/>
              <a:pathLst>
                <a:path w="207" h="298">
                  <a:moveTo>
                    <a:pt x="0" y="0"/>
                  </a:moveTo>
                  <a:lnTo>
                    <a:pt x="21" y="1"/>
                  </a:lnTo>
                  <a:lnTo>
                    <a:pt x="42" y="7"/>
                  </a:lnTo>
                  <a:lnTo>
                    <a:pt x="62" y="14"/>
                  </a:lnTo>
                  <a:lnTo>
                    <a:pt x="81" y="23"/>
                  </a:lnTo>
                  <a:lnTo>
                    <a:pt x="99" y="37"/>
                  </a:lnTo>
                  <a:lnTo>
                    <a:pt x="116" y="51"/>
                  </a:lnTo>
                  <a:lnTo>
                    <a:pt x="132" y="69"/>
                  </a:lnTo>
                  <a:lnTo>
                    <a:pt x="147" y="87"/>
                  </a:lnTo>
                  <a:lnTo>
                    <a:pt x="160" y="108"/>
                  </a:lnTo>
                  <a:lnTo>
                    <a:pt x="172" y="132"/>
                  </a:lnTo>
                  <a:lnTo>
                    <a:pt x="182" y="156"/>
                  </a:lnTo>
                  <a:lnTo>
                    <a:pt x="191" y="182"/>
                  </a:lnTo>
                  <a:lnTo>
                    <a:pt x="198" y="210"/>
                  </a:lnTo>
                  <a:lnTo>
                    <a:pt x="203" y="238"/>
                  </a:lnTo>
                  <a:lnTo>
                    <a:pt x="206" y="267"/>
                  </a:lnTo>
                  <a:lnTo>
                    <a:pt x="207" y="29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666960" y="4259160"/>
              <a:ext cx="307800" cy="407880"/>
            </a:xfrm>
            <a:custGeom>
              <a:avLst/>
              <a:gdLst/>
              <a:ahLst/>
              <a:rect l="l" t="t" r="r" b="b"/>
              <a:pathLst>
                <a:path w="194" h="257">
                  <a:moveTo>
                    <a:pt x="194" y="0"/>
                  </a:moveTo>
                  <a:lnTo>
                    <a:pt x="176" y="1"/>
                  </a:lnTo>
                  <a:lnTo>
                    <a:pt x="158" y="6"/>
                  </a:lnTo>
                  <a:lnTo>
                    <a:pt x="142" y="11"/>
                  </a:lnTo>
                  <a:lnTo>
                    <a:pt x="125" y="20"/>
                  </a:lnTo>
                  <a:lnTo>
                    <a:pt x="110" y="30"/>
                  </a:lnTo>
                  <a:lnTo>
                    <a:pt x="95" y="43"/>
                  </a:lnTo>
                  <a:lnTo>
                    <a:pt x="81" y="58"/>
                  </a:lnTo>
                  <a:lnTo>
                    <a:pt x="68" y="74"/>
                  </a:lnTo>
                  <a:lnTo>
                    <a:pt x="56" y="92"/>
                  </a:lnTo>
                  <a:lnTo>
                    <a:pt x="44" y="112"/>
                  </a:lnTo>
                  <a:lnTo>
                    <a:pt x="34" y="133"/>
                  </a:lnTo>
                  <a:lnTo>
                    <a:pt x="24" y="156"/>
                  </a:lnTo>
                  <a:lnTo>
                    <a:pt x="16" y="179"/>
                  </a:lnTo>
                  <a:lnTo>
                    <a:pt x="9" y="204"/>
                  </a:lnTo>
                  <a:lnTo>
                    <a:pt x="4" y="230"/>
                  </a:lnTo>
                  <a:lnTo>
                    <a:pt x="0" y="25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4" name=""/>
          <p:cNvSpPr/>
          <p:nvPr/>
        </p:nvSpPr>
        <p:spPr>
          <a:xfrm>
            <a:off x="1308240" y="3957480"/>
            <a:ext cx="0" cy="716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362320" y="476244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590920" y="4775040"/>
            <a:ext cx="0" cy="78768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568680" y="471168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559400" y="3949560"/>
            <a:ext cx="0" cy="78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283360" y="3957480"/>
            <a:ext cx="0" cy="75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7188120" y="3957480"/>
            <a:ext cx="0" cy="614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283440" y="461016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499080" y="464832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017760" y="435456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4" name="" descr=""/>
          <p:cNvPicPr/>
          <p:nvPr/>
        </p:nvPicPr>
        <p:blipFill>
          <a:blip r:embed="rId1"/>
          <a:stretch/>
        </p:blipFill>
        <p:spPr>
          <a:xfrm>
            <a:off x="798480" y="4373640"/>
            <a:ext cx="6772320" cy="1209600"/>
          </a:xfrm>
          <a:prstGeom prst="rect">
            <a:avLst/>
          </a:prstGeom>
          <a:ln w="0">
            <a:noFill/>
          </a:ln>
        </p:spPr>
      </p:pic>
      <p:sp>
        <p:nvSpPr>
          <p:cNvPr id="1975" name=""/>
          <p:cNvSpPr/>
          <p:nvPr/>
        </p:nvSpPr>
        <p:spPr>
          <a:xfrm>
            <a:off x="1547640" y="364500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1017000" y="3665520"/>
            <a:ext cx="6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lac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720800" y="39402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 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251960" y="3665520"/>
            <a:ext cx="73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ucr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23440" y="344952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al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700320" y="3673440"/>
            <a:ext cx="109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altotri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5063400" y="366696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extr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673320" y="390852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247560" y="40370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000480" y="389412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nsport apic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"/>
          <p:cNvSpPr/>
          <p:nvPr/>
        </p:nvSpPr>
        <p:spPr>
          <a:xfrm>
            <a:off x="675720" y="132228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ôle basal : transport facilité (GLU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5" name="" descr=""/>
          <p:cNvPicPr/>
          <p:nvPr/>
        </p:nvPicPr>
        <p:blipFill>
          <a:blip r:embed="rId1"/>
          <a:stretch/>
        </p:blipFill>
        <p:spPr>
          <a:xfrm>
            <a:off x="4060800" y="2081160"/>
            <a:ext cx="3651120" cy="4032360"/>
          </a:xfrm>
          <a:prstGeom prst="rect">
            <a:avLst/>
          </a:prstGeom>
          <a:ln w="0">
            <a:noFill/>
          </a:ln>
        </p:spPr>
      </p:pic>
      <p:sp>
        <p:nvSpPr>
          <p:cNvPr id="1996" name=""/>
          <p:cNvSpPr/>
          <p:nvPr/>
        </p:nvSpPr>
        <p:spPr>
          <a:xfrm>
            <a:off x="7321680" y="4290840"/>
            <a:ext cx="590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6183360" y="3900600"/>
            <a:ext cx="4651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68040" y="39448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216920" y="3921120"/>
            <a:ext cx="84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174440" y="3827520"/>
            <a:ext cx="5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838920" y="4133880"/>
            <a:ext cx="355680" cy="357120"/>
          </a:xfrm>
          <a:prstGeom prst="ellipse">
            <a:avLst/>
          </a:prstGeom>
          <a:solidFill>
            <a:srgbClr val="ffffff"/>
          </a:solidFill>
          <a:ln w="270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094440" y="2722680"/>
            <a:ext cx="353880" cy="35712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541920" y="2082960"/>
            <a:ext cx="590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842080" y="1957320"/>
            <a:ext cx="655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993280" y="1471680"/>
            <a:ext cx="262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173560" y="1944720"/>
            <a:ext cx="354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259600" y="1776240"/>
            <a:ext cx="10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521240" y="3216240"/>
            <a:ext cx="809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847040" y="3308400"/>
            <a:ext cx="6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GLUT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480000" y="3060720"/>
            <a:ext cx="798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930640" y="3301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GL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968720" y="4998960"/>
            <a:ext cx="81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526640" y="5773680"/>
            <a:ext cx="6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GLU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183360" y="3900600"/>
            <a:ext cx="4651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7216920" y="3921120"/>
            <a:ext cx="84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541920" y="2082960"/>
            <a:ext cx="590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5842080" y="1957320"/>
            <a:ext cx="655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173560" y="1944720"/>
            <a:ext cx="354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480000" y="3060720"/>
            <a:ext cx="798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968720" y="4998960"/>
            <a:ext cx="81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426000" y="181296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326200" y="2181240"/>
            <a:ext cx="0" cy="1170000"/>
          </a:xfrm>
          <a:prstGeom prst="line">
            <a:avLst/>
          </a:prstGeom>
          <a:ln w="1908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154480" y="2635200"/>
            <a:ext cx="347760" cy="463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28" y="0"/>
                </a:moveTo>
                <a:lnTo>
                  <a:pt x="23" y="1"/>
                </a:lnTo>
                <a:lnTo>
                  <a:pt x="17" y="2"/>
                </a:lnTo>
                <a:lnTo>
                  <a:pt x="9" y="8"/>
                </a:lnTo>
                <a:lnTo>
                  <a:pt x="2" y="16"/>
                </a:lnTo>
                <a:lnTo>
                  <a:pt x="1" y="23"/>
                </a:lnTo>
                <a:lnTo>
                  <a:pt x="0" y="28"/>
                </a:lnTo>
                <a:lnTo>
                  <a:pt x="0" y="196"/>
                </a:lnTo>
                <a:lnTo>
                  <a:pt x="1" y="201"/>
                </a:lnTo>
                <a:lnTo>
                  <a:pt x="2" y="207"/>
                </a:lnTo>
                <a:lnTo>
                  <a:pt x="9" y="215"/>
                </a:lnTo>
                <a:lnTo>
                  <a:pt x="17" y="222"/>
                </a:lnTo>
                <a:lnTo>
                  <a:pt x="23" y="223"/>
                </a:lnTo>
                <a:lnTo>
                  <a:pt x="28" y="224"/>
                </a:lnTo>
                <a:lnTo>
                  <a:pt x="140" y="224"/>
                </a:lnTo>
                <a:lnTo>
                  <a:pt x="145" y="223"/>
                </a:lnTo>
                <a:lnTo>
                  <a:pt x="152" y="222"/>
                </a:lnTo>
                <a:lnTo>
                  <a:pt x="160" y="215"/>
                </a:lnTo>
                <a:lnTo>
                  <a:pt x="166" y="207"/>
                </a:lnTo>
                <a:lnTo>
                  <a:pt x="167" y="201"/>
                </a:lnTo>
                <a:lnTo>
                  <a:pt x="168" y="196"/>
                </a:lnTo>
                <a:lnTo>
                  <a:pt x="168" y="28"/>
                </a:lnTo>
                <a:lnTo>
                  <a:pt x="167" y="23"/>
                </a:lnTo>
                <a:lnTo>
                  <a:pt x="166" y="16"/>
                </a:lnTo>
                <a:lnTo>
                  <a:pt x="160" y="8"/>
                </a:lnTo>
                <a:lnTo>
                  <a:pt x="152" y="2"/>
                </a:lnTo>
                <a:lnTo>
                  <a:pt x="145" y="1"/>
                </a:lnTo>
                <a:lnTo>
                  <a:pt x="14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089760" y="2119320"/>
            <a:ext cx="0" cy="1170000"/>
          </a:xfrm>
          <a:prstGeom prst="line">
            <a:avLst/>
          </a:prstGeom>
          <a:ln w="1908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461280" y="2119320"/>
            <a:ext cx="0" cy="1170000"/>
          </a:xfrm>
          <a:prstGeom prst="line">
            <a:avLst/>
          </a:prstGeom>
          <a:ln w="1908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5842080" y="5100480"/>
            <a:ext cx="0" cy="1170000"/>
          </a:xfrm>
          <a:prstGeom prst="line">
            <a:avLst/>
          </a:prstGeom>
          <a:ln w="1908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668920" y="5419800"/>
            <a:ext cx="345960" cy="46332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28" y="0"/>
                </a:moveTo>
                <a:lnTo>
                  <a:pt x="23" y="1"/>
                </a:lnTo>
                <a:lnTo>
                  <a:pt x="17" y="2"/>
                </a:lnTo>
                <a:lnTo>
                  <a:pt x="8" y="9"/>
                </a:lnTo>
                <a:lnTo>
                  <a:pt x="2" y="17"/>
                </a:lnTo>
                <a:lnTo>
                  <a:pt x="1" y="23"/>
                </a:lnTo>
                <a:lnTo>
                  <a:pt x="0" y="28"/>
                </a:lnTo>
                <a:lnTo>
                  <a:pt x="0" y="196"/>
                </a:lnTo>
                <a:lnTo>
                  <a:pt x="1" y="201"/>
                </a:lnTo>
                <a:lnTo>
                  <a:pt x="2" y="208"/>
                </a:lnTo>
                <a:lnTo>
                  <a:pt x="8" y="216"/>
                </a:lnTo>
                <a:lnTo>
                  <a:pt x="17" y="222"/>
                </a:lnTo>
                <a:lnTo>
                  <a:pt x="23" y="223"/>
                </a:lnTo>
                <a:lnTo>
                  <a:pt x="28" y="224"/>
                </a:lnTo>
                <a:lnTo>
                  <a:pt x="140" y="224"/>
                </a:lnTo>
                <a:lnTo>
                  <a:pt x="145" y="223"/>
                </a:lnTo>
                <a:lnTo>
                  <a:pt x="151" y="222"/>
                </a:lnTo>
                <a:lnTo>
                  <a:pt x="160" y="216"/>
                </a:lnTo>
                <a:lnTo>
                  <a:pt x="166" y="208"/>
                </a:lnTo>
                <a:lnTo>
                  <a:pt x="167" y="201"/>
                </a:lnTo>
                <a:lnTo>
                  <a:pt x="168" y="196"/>
                </a:lnTo>
                <a:lnTo>
                  <a:pt x="168" y="28"/>
                </a:lnTo>
                <a:lnTo>
                  <a:pt x="167" y="23"/>
                </a:lnTo>
                <a:lnTo>
                  <a:pt x="166" y="17"/>
                </a:lnTo>
                <a:lnTo>
                  <a:pt x="160" y="9"/>
                </a:lnTo>
                <a:lnTo>
                  <a:pt x="151" y="2"/>
                </a:lnTo>
                <a:lnTo>
                  <a:pt x="145" y="1"/>
                </a:lnTo>
                <a:lnTo>
                  <a:pt x="14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837480" y="3871800"/>
            <a:ext cx="569880" cy="5698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647040" y="4202280"/>
            <a:ext cx="569880" cy="56988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453080" y="42973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1" name="" descr=""/>
          <p:cNvPicPr/>
          <p:nvPr/>
        </p:nvPicPr>
        <p:blipFill>
          <a:blip r:embed="rId2"/>
          <a:stretch/>
        </p:blipFill>
        <p:spPr>
          <a:xfrm>
            <a:off x="1220760" y="2095560"/>
            <a:ext cx="3651120" cy="4032360"/>
          </a:xfrm>
          <a:prstGeom prst="rect">
            <a:avLst/>
          </a:prstGeom>
          <a:ln w="0">
            <a:noFill/>
          </a:ln>
        </p:spPr>
      </p:pic>
      <p:sp>
        <p:nvSpPr>
          <p:cNvPr id="2032" name=""/>
          <p:cNvSpPr/>
          <p:nvPr/>
        </p:nvSpPr>
        <p:spPr>
          <a:xfrm>
            <a:off x="4433760" y="2992320"/>
            <a:ext cx="115920" cy="32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nsport bas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>
            <a:off x="118440" y="1217520"/>
            <a:ext cx="8935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bsorption mono-disaccharides : absorption complète dans l’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idon : 6 à 10 % non digéré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ôlon : source de carbone pour la flore bactér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intolérance au la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ficit de lactase : digestion du lactose par colonies bactérienn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atulences, augmentation de la motilité diges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50 % des adultes sont intolérants au lactose (surtout Asie, Afr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olérance congénitale au lactose : beaucoup plus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-malabsorption des gluci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"/>
          <p:cNvSpPr/>
          <p:nvPr/>
        </p:nvSpPr>
        <p:spPr>
          <a:xfrm>
            <a:off x="574920" y="1738440"/>
            <a:ext cx="688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pport très variable en quantité / en qua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esoin adulte : 0,5 à 0,7g/j/kg de poids corpor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ys pauvres ; apport insuffis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ciété développée : apport en protéines trop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téines ingérées, sécrétées, provenant des cellules exfoli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urces dans l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"/>
          <p:cNvSpPr/>
          <p:nvPr/>
        </p:nvSpPr>
        <p:spPr>
          <a:xfrm>
            <a:off x="702360" y="1285920"/>
            <a:ext cx="25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epsinogène </a:t>
            </a:r>
            <a:r>
              <a:rPr b="0" i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 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833120" y="440676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princip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889280" y="4232160"/>
            <a:ext cx="2093760" cy="73188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378320" y="4216320"/>
            <a:ext cx="2093760" cy="73188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383720" y="440388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139120" y="2746440"/>
            <a:ext cx="1581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160880" y="2768760"/>
            <a:ext cx="1376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888160" y="22240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906880" y="33336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453360" y="2595600"/>
            <a:ext cx="0" cy="7840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753000" y="30193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118760" y="3524400"/>
            <a:ext cx="5540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680000" y="3740040"/>
            <a:ext cx="457200" cy="47016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240" y="246"/>
                </a:move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2759040" y="3190680"/>
            <a:ext cx="0" cy="102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36760" y="3152880"/>
            <a:ext cx="857520" cy="595080"/>
          </a:xfrm>
          <a:custGeom>
            <a:avLst/>
            <a:gdLst/>
            <a:ahLst/>
            <a:rect l="l" t="t" r="r" b="b"/>
            <a:pathLst>
              <a:path w="426" h="312">
                <a:moveTo>
                  <a:pt x="426" y="312"/>
                </a:moveTo>
                <a:lnTo>
                  <a:pt x="0" y="31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5721480" y="2997360"/>
            <a:ext cx="6969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249720" y="2467080"/>
            <a:ext cx="1590480" cy="285480"/>
          </a:xfrm>
          <a:custGeom>
            <a:avLst/>
            <a:gdLst/>
            <a:ahLst/>
            <a:rect l="l" t="t" r="r" b="b"/>
            <a:pathLst>
              <a:path w="834" h="150">
                <a:moveTo>
                  <a:pt x="834" y="150"/>
                </a:moveTo>
                <a:lnTo>
                  <a:pt x="834" y="0"/>
                </a:lnTo>
                <a:lnTo>
                  <a:pt x="0" y="0"/>
                </a:lnTo>
                <a:lnTo>
                  <a:pt x="0" y="15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13360" y="5675400"/>
            <a:ext cx="68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drolyse au maximum 15 % des protéines en AA et 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60096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stom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/>
          <p:nvPr/>
        </p:nvSpPr>
        <p:spPr>
          <a:xfrm>
            <a:off x="579960" y="1265400"/>
            <a:ext cx="5796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Trebuchet MS"/>
              </a:rPr>
              <a:t>enzymes sécrétées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suc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trypsine, chymotrypsine, carboxypeptidase, élast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(activation par entéropeptidase et tryps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oligo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20280" y="3257640"/>
            <a:ext cx="7962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Trebuchet MS"/>
              </a:rPr>
              <a:t>enzymes de la bordure en brosse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duodénum et surtout jéjunum prox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amino-oligopeptidases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n-pept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AA + (n-1)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aminopeptidases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di- tripept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dipeptidyl aminopeptidase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n-pept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(n-2)-peptides + dipept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6600960" y="725400"/>
            <a:ext cx="235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Trebuchet MS"/>
              </a:rPr>
              <a:t>duodénum, jéjun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"/>
          <p:cNvSpPr/>
          <p:nvPr/>
        </p:nvSpPr>
        <p:spPr>
          <a:xfrm>
            <a:off x="952560" y="5089320"/>
            <a:ext cx="78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absorption d’AA, de di- et de tri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rotéines intactes : pas d’absorption (sauf Ig du colostrum chez les rongeurs et les Rumin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absorption des di- et tripeptides : plus rapide que des mono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99560" y="4430880"/>
            <a:ext cx="220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mino-oligo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32920" y="4440240"/>
            <a:ext cx="164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mino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661080" y="4102200"/>
            <a:ext cx="1701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6693480" y="4202280"/>
            <a:ext cx="1640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dipeptidy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mino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287880" y="1701720"/>
            <a:ext cx="1377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22440" y="1719360"/>
            <a:ext cx="129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lig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757520" y="1874880"/>
            <a:ext cx="1539720" cy="1289160"/>
          </a:xfrm>
          <a:custGeom>
            <a:avLst/>
            <a:gdLst/>
            <a:ahLst/>
            <a:rect l="l" t="t" r="r" b="b"/>
            <a:pathLst>
              <a:path w="970" h="812">
                <a:moveTo>
                  <a:pt x="970" y="0"/>
                </a:moveTo>
                <a:lnTo>
                  <a:pt x="0" y="0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459960" y="2100240"/>
            <a:ext cx="100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425040" y="2389320"/>
            <a:ext cx="103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r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2696400" y="2760840"/>
            <a:ext cx="1346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ides amin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2181240" y="2374920"/>
            <a:ext cx="890640" cy="928800"/>
          </a:xfrm>
          <a:custGeom>
            <a:avLst/>
            <a:gdLst/>
            <a:ahLst/>
            <a:rect l="l" t="t" r="r" b="b"/>
            <a:pathLst>
              <a:path w="561" h="585">
                <a:moveTo>
                  <a:pt x="561" y="0"/>
                </a:moveTo>
                <a:lnTo>
                  <a:pt x="503" y="10"/>
                </a:lnTo>
                <a:lnTo>
                  <a:pt x="445" y="25"/>
                </a:lnTo>
                <a:lnTo>
                  <a:pt x="391" y="43"/>
                </a:lnTo>
                <a:lnTo>
                  <a:pt x="339" y="66"/>
                </a:lnTo>
                <a:lnTo>
                  <a:pt x="290" y="94"/>
                </a:lnTo>
                <a:lnTo>
                  <a:pt x="243" y="124"/>
                </a:lnTo>
                <a:lnTo>
                  <a:pt x="200" y="159"/>
                </a:lnTo>
                <a:lnTo>
                  <a:pt x="161" y="196"/>
                </a:lnTo>
                <a:lnTo>
                  <a:pt x="126" y="236"/>
                </a:lnTo>
                <a:lnTo>
                  <a:pt x="93" y="279"/>
                </a:lnTo>
                <a:lnTo>
                  <a:pt x="66" y="326"/>
                </a:lnTo>
                <a:lnTo>
                  <a:pt x="43" y="374"/>
                </a:lnTo>
                <a:lnTo>
                  <a:pt x="25" y="424"/>
                </a:lnTo>
                <a:lnTo>
                  <a:pt x="10" y="476"/>
                </a:lnTo>
                <a:lnTo>
                  <a:pt x="3" y="530"/>
                </a:lnTo>
                <a:lnTo>
                  <a:pt x="0" y="58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982880" y="1976400"/>
            <a:ext cx="1017360" cy="1257480"/>
          </a:xfrm>
          <a:custGeom>
            <a:avLst/>
            <a:gdLst/>
            <a:ahLst/>
            <a:rect l="l" t="t" r="r" b="b"/>
            <a:pathLst>
              <a:path w="641" h="792">
                <a:moveTo>
                  <a:pt x="641" y="0"/>
                </a:moveTo>
                <a:lnTo>
                  <a:pt x="607" y="5"/>
                </a:lnTo>
                <a:lnTo>
                  <a:pt x="574" y="13"/>
                </a:lnTo>
                <a:lnTo>
                  <a:pt x="542" y="21"/>
                </a:lnTo>
                <a:lnTo>
                  <a:pt x="509" y="32"/>
                </a:lnTo>
                <a:lnTo>
                  <a:pt x="478" y="43"/>
                </a:lnTo>
                <a:lnTo>
                  <a:pt x="448" y="57"/>
                </a:lnTo>
                <a:lnTo>
                  <a:pt x="417" y="72"/>
                </a:lnTo>
                <a:lnTo>
                  <a:pt x="389" y="88"/>
                </a:lnTo>
                <a:lnTo>
                  <a:pt x="359" y="105"/>
                </a:lnTo>
                <a:lnTo>
                  <a:pt x="332" y="123"/>
                </a:lnTo>
                <a:lnTo>
                  <a:pt x="306" y="144"/>
                </a:lnTo>
                <a:lnTo>
                  <a:pt x="279" y="165"/>
                </a:lnTo>
                <a:lnTo>
                  <a:pt x="230" y="212"/>
                </a:lnTo>
                <a:lnTo>
                  <a:pt x="185" y="262"/>
                </a:lnTo>
                <a:lnTo>
                  <a:pt x="144" y="317"/>
                </a:lnTo>
                <a:lnTo>
                  <a:pt x="107" y="375"/>
                </a:lnTo>
                <a:lnTo>
                  <a:pt x="76" y="438"/>
                </a:lnTo>
                <a:lnTo>
                  <a:pt x="49" y="503"/>
                </a:lnTo>
                <a:lnTo>
                  <a:pt x="28" y="572"/>
                </a:lnTo>
                <a:lnTo>
                  <a:pt x="19" y="608"/>
                </a:lnTo>
                <a:lnTo>
                  <a:pt x="13" y="643"/>
                </a:lnTo>
                <a:lnTo>
                  <a:pt x="7" y="680"/>
                </a:lnTo>
                <a:lnTo>
                  <a:pt x="3" y="717"/>
                </a:lnTo>
                <a:lnTo>
                  <a:pt x="1" y="754"/>
                </a:lnTo>
                <a:lnTo>
                  <a:pt x="0" y="79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654440" y="1863720"/>
            <a:ext cx="2770200" cy="1241280"/>
          </a:xfrm>
          <a:custGeom>
            <a:avLst/>
            <a:gdLst/>
            <a:ahLst/>
            <a:rect l="l" t="t" r="r" b="b"/>
            <a:pathLst>
              <a:path w="1745" h="782">
                <a:moveTo>
                  <a:pt x="0" y="0"/>
                </a:moveTo>
                <a:lnTo>
                  <a:pt x="1745" y="0"/>
                </a:lnTo>
                <a:lnTo>
                  <a:pt x="1745" y="78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722840" y="2297160"/>
            <a:ext cx="2419200" cy="760320"/>
          </a:xfrm>
          <a:custGeom>
            <a:avLst/>
            <a:gdLst/>
            <a:ahLst/>
            <a:rect l="l" t="t" r="r" b="b"/>
            <a:pathLst>
              <a:path w="1524" h="479">
                <a:moveTo>
                  <a:pt x="0" y="0"/>
                </a:moveTo>
                <a:lnTo>
                  <a:pt x="157" y="5"/>
                </a:lnTo>
                <a:lnTo>
                  <a:pt x="309" y="15"/>
                </a:lnTo>
                <a:lnTo>
                  <a:pt x="383" y="21"/>
                </a:lnTo>
                <a:lnTo>
                  <a:pt x="455" y="28"/>
                </a:lnTo>
                <a:lnTo>
                  <a:pt x="527" y="36"/>
                </a:lnTo>
                <a:lnTo>
                  <a:pt x="596" y="45"/>
                </a:lnTo>
                <a:lnTo>
                  <a:pt x="663" y="55"/>
                </a:lnTo>
                <a:lnTo>
                  <a:pt x="730" y="66"/>
                </a:lnTo>
                <a:lnTo>
                  <a:pt x="794" y="79"/>
                </a:lnTo>
                <a:lnTo>
                  <a:pt x="855" y="91"/>
                </a:lnTo>
                <a:lnTo>
                  <a:pt x="915" y="104"/>
                </a:lnTo>
                <a:lnTo>
                  <a:pt x="972" y="119"/>
                </a:lnTo>
                <a:lnTo>
                  <a:pt x="1028" y="134"/>
                </a:lnTo>
                <a:lnTo>
                  <a:pt x="1080" y="150"/>
                </a:lnTo>
                <a:lnTo>
                  <a:pt x="1131" y="166"/>
                </a:lnTo>
                <a:lnTo>
                  <a:pt x="1178" y="183"/>
                </a:lnTo>
                <a:lnTo>
                  <a:pt x="1223" y="200"/>
                </a:lnTo>
                <a:lnTo>
                  <a:pt x="1266" y="219"/>
                </a:lnTo>
                <a:lnTo>
                  <a:pt x="1306" y="238"/>
                </a:lnTo>
                <a:lnTo>
                  <a:pt x="1341" y="258"/>
                </a:lnTo>
                <a:lnTo>
                  <a:pt x="1376" y="278"/>
                </a:lnTo>
                <a:lnTo>
                  <a:pt x="1405" y="299"/>
                </a:lnTo>
                <a:lnTo>
                  <a:pt x="1432" y="320"/>
                </a:lnTo>
                <a:lnTo>
                  <a:pt x="1456" y="342"/>
                </a:lnTo>
                <a:lnTo>
                  <a:pt x="1476" y="364"/>
                </a:lnTo>
                <a:lnTo>
                  <a:pt x="1493" y="386"/>
                </a:lnTo>
                <a:lnTo>
                  <a:pt x="1506" y="409"/>
                </a:lnTo>
                <a:lnTo>
                  <a:pt x="1516" y="433"/>
                </a:lnTo>
                <a:lnTo>
                  <a:pt x="1522" y="456"/>
                </a:lnTo>
                <a:lnTo>
                  <a:pt x="1524" y="479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199040" y="2933640"/>
            <a:ext cx="299880" cy="284400"/>
          </a:xfrm>
          <a:custGeom>
            <a:avLst/>
            <a:gdLst/>
            <a:ahLst/>
            <a:rect l="l" t="t" r="r" b="b"/>
            <a:pathLst>
              <a:path w="189" h="179">
                <a:moveTo>
                  <a:pt x="0" y="0"/>
                </a:moveTo>
                <a:lnTo>
                  <a:pt x="40" y="12"/>
                </a:lnTo>
                <a:lnTo>
                  <a:pt x="76" y="27"/>
                </a:lnTo>
                <a:lnTo>
                  <a:pt x="109" y="46"/>
                </a:lnTo>
                <a:lnTo>
                  <a:pt x="135" y="67"/>
                </a:lnTo>
                <a:lnTo>
                  <a:pt x="158" y="92"/>
                </a:lnTo>
                <a:lnTo>
                  <a:pt x="167" y="105"/>
                </a:lnTo>
                <a:lnTo>
                  <a:pt x="176" y="119"/>
                </a:lnTo>
                <a:lnTo>
                  <a:pt x="181" y="134"/>
                </a:lnTo>
                <a:lnTo>
                  <a:pt x="186" y="148"/>
                </a:lnTo>
                <a:lnTo>
                  <a:pt x="187" y="163"/>
                </a:lnTo>
                <a:lnTo>
                  <a:pt x="189" y="179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632480" y="2460600"/>
            <a:ext cx="1082520" cy="527040"/>
          </a:xfrm>
          <a:custGeom>
            <a:avLst/>
            <a:gdLst/>
            <a:ahLst/>
            <a:rect l="l" t="t" r="r" b="b"/>
            <a:pathLst>
              <a:path w="682" h="332">
                <a:moveTo>
                  <a:pt x="0" y="0"/>
                </a:moveTo>
                <a:lnTo>
                  <a:pt x="70" y="1"/>
                </a:lnTo>
                <a:lnTo>
                  <a:pt x="137" y="8"/>
                </a:lnTo>
                <a:lnTo>
                  <a:pt x="202" y="15"/>
                </a:lnTo>
                <a:lnTo>
                  <a:pt x="265" y="26"/>
                </a:lnTo>
                <a:lnTo>
                  <a:pt x="325" y="41"/>
                </a:lnTo>
                <a:lnTo>
                  <a:pt x="380" y="57"/>
                </a:lnTo>
                <a:lnTo>
                  <a:pt x="434" y="76"/>
                </a:lnTo>
                <a:lnTo>
                  <a:pt x="481" y="97"/>
                </a:lnTo>
                <a:lnTo>
                  <a:pt x="526" y="121"/>
                </a:lnTo>
                <a:lnTo>
                  <a:pt x="566" y="146"/>
                </a:lnTo>
                <a:lnTo>
                  <a:pt x="600" y="174"/>
                </a:lnTo>
                <a:lnTo>
                  <a:pt x="628" y="203"/>
                </a:lnTo>
                <a:lnTo>
                  <a:pt x="640" y="218"/>
                </a:lnTo>
                <a:lnTo>
                  <a:pt x="650" y="234"/>
                </a:lnTo>
                <a:lnTo>
                  <a:pt x="661" y="250"/>
                </a:lnTo>
                <a:lnTo>
                  <a:pt x="668" y="266"/>
                </a:lnTo>
                <a:lnTo>
                  <a:pt x="674" y="282"/>
                </a:lnTo>
                <a:lnTo>
                  <a:pt x="679" y="298"/>
                </a:lnTo>
                <a:lnTo>
                  <a:pt x="680" y="315"/>
                </a:lnTo>
                <a:lnTo>
                  <a:pt x="682" y="332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1" name="" descr=""/>
          <p:cNvPicPr/>
          <p:nvPr/>
        </p:nvPicPr>
        <p:blipFill>
          <a:blip r:embed="rId1"/>
          <a:stretch/>
        </p:blipFill>
        <p:spPr>
          <a:xfrm>
            <a:off x="1114560" y="3071880"/>
            <a:ext cx="6937200" cy="1166760"/>
          </a:xfrm>
          <a:prstGeom prst="rect">
            <a:avLst/>
          </a:prstGeom>
          <a:ln w="0">
            <a:noFill/>
          </a:ln>
        </p:spPr>
      </p:pic>
      <p:sp>
        <p:nvSpPr>
          <p:cNvPr id="2102" name=""/>
          <p:cNvSpPr/>
          <p:nvPr/>
        </p:nvSpPr>
        <p:spPr>
          <a:xfrm>
            <a:off x="3343320" y="3247920"/>
            <a:ext cx="523800" cy="8575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94240" y="3111480"/>
            <a:ext cx="0" cy="1219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321160" y="3216240"/>
            <a:ext cx="809640" cy="876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715000" y="2984400"/>
            <a:ext cx="0" cy="1219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nsport apic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/>
          <p:nvPr/>
        </p:nvSpPr>
        <p:spPr>
          <a:xfrm>
            <a:off x="787320" y="4964040"/>
            <a:ext cx="3305160" cy="916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A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ansporteurs spécifiqu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lés ou non à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581360" y="4964040"/>
            <a:ext cx="3063960" cy="916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- et tri-peptid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ansporteur non spécifiqu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lé à H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6661080" y="4102200"/>
            <a:ext cx="1701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287880" y="1701720"/>
            <a:ext cx="1377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358440" y="1719360"/>
            <a:ext cx="119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olig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757520" y="1874880"/>
            <a:ext cx="1539720" cy="1289160"/>
          </a:xfrm>
          <a:custGeom>
            <a:avLst/>
            <a:gdLst/>
            <a:ahLst/>
            <a:rect l="l" t="t" r="r" b="b"/>
            <a:pathLst>
              <a:path w="970" h="812">
                <a:moveTo>
                  <a:pt x="970" y="0"/>
                </a:moveTo>
                <a:lnTo>
                  <a:pt x="0" y="0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483000" y="210024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d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440880" y="238932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r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2732040" y="2760840"/>
            <a:ext cx="130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cides amin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2181240" y="2374920"/>
            <a:ext cx="890640" cy="928800"/>
          </a:xfrm>
          <a:custGeom>
            <a:avLst/>
            <a:gdLst/>
            <a:ahLst/>
            <a:rect l="l" t="t" r="r" b="b"/>
            <a:pathLst>
              <a:path w="561" h="585">
                <a:moveTo>
                  <a:pt x="561" y="0"/>
                </a:moveTo>
                <a:lnTo>
                  <a:pt x="503" y="10"/>
                </a:lnTo>
                <a:lnTo>
                  <a:pt x="445" y="25"/>
                </a:lnTo>
                <a:lnTo>
                  <a:pt x="391" y="43"/>
                </a:lnTo>
                <a:lnTo>
                  <a:pt x="339" y="66"/>
                </a:lnTo>
                <a:lnTo>
                  <a:pt x="290" y="94"/>
                </a:lnTo>
                <a:lnTo>
                  <a:pt x="243" y="124"/>
                </a:lnTo>
                <a:lnTo>
                  <a:pt x="200" y="159"/>
                </a:lnTo>
                <a:lnTo>
                  <a:pt x="161" y="196"/>
                </a:lnTo>
                <a:lnTo>
                  <a:pt x="126" y="236"/>
                </a:lnTo>
                <a:lnTo>
                  <a:pt x="93" y="279"/>
                </a:lnTo>
                <a:lnTo>
                  <a:pt x="66" y="326"/>
                </a:lnTo>
                <a:lnTo>
                  <a:pt x="43" y="374"/>
                </a:lnTo>
                <a:lnTo>
                  <a:pt x="25" y="424"/>
                </a:lnTo>
                <a:lnTo>
                  <a:pt x="10" y="476"/>
                </a:lnTo>
                <a:lnTo>
                  <a:pt x="3" y="530"/>
                </a:lnTo>
                <a:lnTo>
                  <a:pt x="0" y="585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982880" y="1976400"/>
            <a:ext cx="1017360" cy="1257480"/>
          </a:xfrm>
          <a:custGeom>
            <a:avLst/>
            <a:gdLst/>
            <a:ahLst/>
            <a:rect l="l" t="t" r="r" b="b"/>
            <a:pathLst>
              <a:path w="641" h="792">
                <a:moveTo>
                  <a:pt x="641" y="0"/>
                </a:moveTo>
                <a:lnTo>
                  <a:pt x="607" y="5"/>
                </a:lnTo>
                <a:lnTo>
                  <a:pt x="574" y="13"/>
                </a:lnTo>
                <a:lnTo>
                  <a:pt x="542" y="21"/>
                </a:lnTo>
                <a:lnTo>
                  <a:pt x="509" y="32"/>
                </a:lnTo>
                <a:lnTo>
                  <a:pt x="478" y="43"/>
                </a:lnTo>
                <a:lnTo>
                  <a:pt x="448" y="57"/>
                </a:lnTo>
                <a:lnTo>
                  <a:pt x="417" y="72"/>
                </a:lnTo>
                <a:lnTo>
                  <a:pt x="389" y="88"/>
                </a:lnTo>
                <a:lnTo>
                  <a:pt x="359" y="105"/>
                </a:lnTo>
                <a:lnTo>
                  <a:pt x="332" y="123"/>
                </a:lnTo>
                <a:lnTo>
                  <a:pt x="306" y="144"/>
                </a:lnTo>
                <a:lnTo>
                  <a:pt x="279" y="165"/>
                </a:lnTo>
                <a:lnTo>
                  <a:pt x="230" y="212"/>
                </a:lnTo>
                <a:lnTo>
                  <a:pt x="185" y="262"/>
                </a:lnTo>
                <a:lnTo>
                  <a:pt x="144" y="317"/>
                </a:lnTo>
                <a:lnTo>
                  <a:pt x="107" y="375"/>
                </a:lnTo>
                <a:lnTo>
                  <a:pt x="76" y="438"/>
                </a:lnTo>
                <a:lnTo>
                  <a:pt x="49" y="503"/>
                </a:lnTo>
                <a:lnTo>
                  <a:pt x="28" y="572"/>
                </a:lnTo>
                <a:lnTo>
                  <a:pt x="19" y="608"/>
                </a:lnTo>
                <a:lnTo>
                  <a:pt x="13" y="643"/>
                </a:lnTo>
                <a:lnTo>
                  <a:pt x="7" y="680"/>
                </a:lnTo>
                <a:lnTo>
                  <a:pt x="3" y="717"/>
                </a:lnTo>
                <a:lnTo>
                  <a:pt x="1" y="754"/>
                </a:lnTo>
                <a:lnTo>
                  <a:pt x="0" y="792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654440" y="1863720"/>
            <a:ext cx="2770200" cy="1241280"/>
          </a:xfrm>
          <a:custGeom>
            <a:avLst/>
            <a:gdLst/>
            <a:ahLst/>
            <a:rect l="l" t="t" r="r" b="b"/>
            <a:pathLst>
              <a:path w="1745" h="782">
                <a:moveTo>
                  <a:pt x="0" y="0"/>
                </a:moveTo>
                <a:lnTo>
                  <a:pt x="1745" y="0"/>
                </a:lnTo>
                <a:lnTo>
                  <a:pt x="1745" y="782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722840" y="2297160"/>
            <a:ext cx="2419200" cy="760320"/>
          </a:xfrm>
          <a:custGeom>
            <a:avLst/>
            <a:gdLst/>
            <a:ahLst/>
            <a:rect l="l" t="t" r="r" b="b"/>
            <a:pathLst>
              <a:path w="1524" h="479">
                <a:moveTo>
                  <a:pt x="0" y="0"/>
                </a:moveTo>
                <a:lnTo>
                  <a:pt x="157" y="5"/>
                </a:lnTo>
                <a:lnTo>
                  <a:pt x="309" y="15"/>
                </a:lnTo>
                <a:lnTo>
                  <a:pt x="383" y="21"/>
                </a:lnTo>
                <a:lnTo>
                  <a:pt x="455" y="28"/>
                </a:lnTo>
                <a:lnTo>
                  <a:pt x="527" y="36"/>
                </a:lnTo>
                <a:lnTo>
                  <a:pt x="596" y="45"/>
                </a:lnTo>
                <a:lnTo>
                  <a:pt x="663" y="55"/>
                </a:lnTo>
                <a:lnTo>
                  <a:pt x="730" y="66"/>
                </a:lnTo>
                <a:lnTo>
                  <a:pt x="794" y="79"/>
                </a:lnTo>
                <a:lnTo>
                  <a:pt x="855" y="91"/>
                </a:lnTo>
                <a:lnTo>
                  <a:pt x="915" y="104"/>
                </a:lnTo>
                <a:lnTo>
                  <a:pt x="972" y="119"/>
                </a:lnTo>
                <a:lnTo>
                  <a:pt x="1028" y="134"/>
                </a:lnTo>
                <a:lnTo>
                  <a:pt x="1080" y="150"/>
                </a:lnTo>
                <a:lnTo>
                  <a:pt x="1131" y="166"/>
                </a:lnTo>
                <a:lnTo>
                  <a:pt x="1178" y="183"/>
                </a:lnTo>
                <a:lnTo>
                  <a:pt x="1223" y="200"/>
                </a:lnTo>
                <a:lnTo>
                  <a:pt x="1266" y="219"/>
                </a:lnTo>
                <a:lnTo>
                  <a:pt x="1306" y="238"/>
                </a:lnTo>
                <a:lnTo>
                  <a:pt x="1341" y="258"/>
                </a:lnTo>
                <a:lnTo>
                  <a:pt x="1376" y="278"/>
                </a:lnTo>
                <a:lnTo>
                  <a:pt x="1405" y="299"/>
                </a:lnTo>
                <a:lnTo>
                  <a:pt x="1432" y="320"/>
                </a:lnTo>
                <a:lnTo>
                  <a:pt x="1456" y="342"/>
                </a:lnTo>
                <a:lnTo>
                  <a:pt x="1476" y="364"/>
                </a:lnTo>
                <a:lnTo>
                  <a:pt x="1493" y="386"/>
                </a:lnTo>
                <a:lnTo>
                  <a:pt x="1506" y="409"/>
                </a:lnTo>
                <a:lnTo>
                  <a:pt x="1516" y="433"/>
                </a:lnTo>
                <a:lnTo>
                  <a:pt x="1522" y="456"/>
                </a:lnTo>
                <a:lnTo>
                  <a:pt x="1524" y="479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199040" y="2933640"/>
            <a:ext cx="299880" cy="284400"/>
          </a:xfrm>
          <a:custGeom>
            <a:avLst/>
            <a:gdLst/>
            <a:ahLst/>
            <a:rect l="l" t="t" r="r" b="b"/>
            <a:pathLst>
              <a:path w="189" h="179">
                <a:moveTo>
                  <a:pt x="0" y="0"/>
                </a:moveTo>
                <a:lnTo>
                  <a:pt x="40" y="12"/>
                </a:lnTo>
                <a:lnTo>
                  <a:pt x="76" y="27"/>
                </a:lnTo>
                <a:lnTo>
                  <a:pt x="109" y="46"/>
                </a:lnTo>
                <a:lnTo>
                  <a:pt x="135" y="67"/>
                </a:lnTo>
                <a:lnTo>
                  <a:pt x="158" y="92"/>
                </a:lnTo>
                <a:lnTo>
                  <a:pt x="167" y="105"/>
                </a:lnTo>
                <a:lnTo>
                  <a:pt x="176" y="119"/>
                </a:lnTo>
                <a:lnTo>
                  <a:pt x="181" y="134"/>
                </a:lnTo>
                <a:lnTo>
                  <a:pt x="186" y="148"/>
                </a:lnTo>
                <a:lnTo>
                  <a:pt x="187" y="163"/>
                </a:lnTo>
                <a:lnTo>
                  <a:pt x="189" y="179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518000" y="2460600"/>
            <a:ext cx="1197000" cy="527040"/>
          </a:xfrm>
          <a:custGeom>
            <a:avLst/>
            <a:gdLst/>
            <a:ahLst/>
            <a:rect l="l" t="t" r="r" b="b"/>
            <a:pathLst>
              <a:path w="682" h="332">
                <a:moveTo>
                  <a:pt x="0" y="0"/>
                </a:moveTo>
                <a:lnTo>
                  <a:pt x="70" y="1"/>
                </a:lnTo>
                <a:lnTo>
                  <a:pt x="137" y="8"/>
                </a:lnTo>
                <a:lnTo>
                  <a:pt x="202" y="15"/>
                </a:lnTo>
                <a:lnTo>
                  <a:pt x="265" y="26"/>
                </a:lnTo>
                <a:lnTo>
                  <a:pt x="325" y="41"/>
                </a:lnTo>
                <a:lnTo>
                  <a:pt x="380" y="57"/>
                </a:lnTo>
                <a:lnTo>
                  <a:pt x="434" y="76"/>
                </a:lnTo>
                <a:lnTo>
                  <a:pt x="481" y="97"/>
                </a:lnTo>
                <a:lnTo>
                  <a:pt x="526" y="121"/>
                </a:lnTo>
                <a:lnTo>
                  <a:pt x="566" y="146"/>
                </a:lnTo>
                <a:lnTo>
                  <a:pt x="600" y="174"/>
                </a:lnTo>
                <a:lnTo>
                  <a:pt x="628" y="203"/>
                </a:lnTo>
                <a:lnTo>
                  <a:pt x="640" y="218"/>
                </a:lnTo>
                <a:lnTo>
                  <a:pt x="650" y="234"/>
                </a:lnTo>
                <a:lnTo>
                  <a:pt x="661" y="250"/>
                </a:lnTo>
                <a:lnTo>
                  <a:pt x="668" y="266"/>
                </a:lnTo>
                <a:lnTo>
                  <a:pt x="674" y="282"/>
                </a:lnTo>
                <a:lnTo>
                  <a:pt x="679" y="298"/>
                </a:lnTo>
                <a:lnTo>
                  <a:pt x="680" y="315"/>
                </a:lnTo>
                <a:lnTo>
                  <a:pt x="682" y="332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2" name="" descr=""/>
          <p:cNvPicPr/>
          <p:nvPr/>
        </p:nvPicPr>
        <p:blipFill>
          <a:blip r:embed="rId1"/>
          <a:stretch/>
        </p:blipFill>
        <p:spPr>
          <a:xfrm>
            <a:off x="1114560" y="3071880"/>
            <a:ext cx="6937200" cy="1166760"/>
          </a:xfrm>
          <a:prstGeom prst="rect">
            <a:avLst/>
          </a:prstGeom>
          <a:ln w="0">
            <a:noFill/>
          </a:ln>
        </p:spPr>
      </p:pic>
      <p:sp>
        <p:nvSpPr>
          <p:cNvPr id="2133" name=""/>
          <p:cNvSpPr/>
          <p:nvPr/>
        </p:nvSpPr>
        <p:spPr>
          <a:xfrm>
            <a:off x="3594240" y="3035160"/>
            <a:ext cx="0" cy="1295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5715000" y="2984400"/>
            <a:ext cx="0" cy="12193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416400" y="3111480"/>
            <a:ext cx="0" cy="1219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172320" y="43927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928480" y="285588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006960" y="3098880"/>
            <a:ext cx="0" cy="12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97000" y="3276720"/>
            <a:ext cx="1344600" cy="933480"/>
          </a:xfrm>
          <a:custGeom>
            <a:avLst/>
            <a:gdLst/>
            <a:ahLst/>
            <a:rect l="l" t="t" r="r" b="b"/>
            <a:pathLst>
              <a:path w="823" h="588">
                <a:moveTo>
                  <a:pt x="158" y="12"/>
                </a:moveTo>
                <a:cubicBezTo>
                  <a:pt x="138" y="14"/>
                  <a:pt x="117" y="12"/>
                  <a:pt x="98" y="18"/>
                </a:cubicBezTo>
                <a:cubicBezTo>
                  <a:pt x="84" y="22"/>
                  <a:pt x="62" y="42"/>
                  <a:pt x="62" y="42"/>
                </a:cubicBezTo>
                <a:cubicBezTo>
                  <a:pt x="49" y="62"/>
                  <a:pt x="33" y="70"/>
                  <a:pt x="20" y="90"/>
                </a:cubicBezTo>
                <a:cubicBezTo>
                  <a:pt x="18" y="104"/>
                  <a:pt x="18" y="118"/>
                  <a:pt x="14" y="132"/>
                </a:cubicBezTo>
                <a:cubicBezTo>
                  <a:pt x="12" y="139"/>
                  <a:pt x="2" y="143"/>
                  <a:pt x="2" y="150"/>
                </a:cubicBezTo>
                <a:cubicBezTo>
                  <a:pt x="0" y="230"/>
                  <a:pt x="5" y="310"/>
                  <a:pt x="8" y="390"/>
                </a:cubicBezTo>
                <a:cubicBezTo>
                  <a:pt x="14" y="523"/>
                  <a:pt x="87" y="519"/>
                  <a:pt x="194" y="546"/>
                </a:cubicBezTo>
                <a:cubicBezTo>
                  <a:pt x="220" y="563"/>
                  <a:pt x="260" y="580"/>
                  <a:pt x="290" y="588"/>
                </a:cubicBezTo>
                <a:cubicBezTo>
                  <a:pt x="390" y="580"/>
                  <a:pt x="453" y="568"/>
                  <a:pt x="560" y="564"/>
                </a:cubicBezTo>
                <a:cubicBezTo>
                  <a:pt x="592" y="559"/>
                  <a:pt x="625" y="556"/>
                  <a:pt x="656" y="546"/>
                </a:cubicBezTo>
                <a:cubicBezTo>
                  <a:pt x="696" y="506"/>
                  <a:pt x="653" y="544"/>
                  <a:pt x="692" y="522"/>
                </a:cubicBezTo>
                <a:cubicBezTo>
                  <a:pt x="705" y="515"/>
                  <a:pt x="728" y="498"/>
                  <a:pt x="728" y="498"/>
                </a:cubicBezTo>
                <a:cubicBezTo>
                  <a:pt x="745" y="472"/>
                  <a:pt x="765" y="451"/>
                  <a:pt x="782" y="426"/>
                </a:cubicBezTo>
                <a:cubicBezTo>
                  <a:pt x="784" y="418"/>
                  <a:pt x="787" y="410"/>
                  <a:pt x="788" y="402"/>
                </a:cubicBezTo>
                <a:cubicBezTo>
                  <a:pt x="791" y="378"/>
                  <a:pt x="789" y="354"/>
                  <a:pt x="794" y="330"/>
                </a:cubicBezTo>
                <a:cubicBezTo>
                  <a:pt x="797" y="317"/>
                  <a:pt x="808" y="307"/>
                  <a:pt x="812" y="294"/>
                </a:cubicBezTo>
                <a:cubicBezTo>
                  <a:pt x="809" y="198"/>
                  <a:pt x="823" y="40"/>
                  <a:pt x="704" y="0"/>
                </a:cubicBezTo>
                <a:cubicBezTo>
                  <a:pt x="678" y="9"/>
                  <a:pt x="655" y="9"/>
                  <a:pt x="632" y="24"/>
                </a:cubicBezTo>
                <a:cubicBezTo>
                  <a:pt x="583" y="98"/>
                  <a:pt x="621" y="51"/>
                  <a:pt x="416" y="36"/>
                </a:cubicBezTo>
                <a:cubicBezTo>
                  <a:pt x="248" y="23"/>
                  <a:pt x="455" y="27"/>
                  <a:pt x="362" y="18"/>
                </a:cubicBezTo>
                <a:cubicBezTo>
                  <a:pt x="254" y="7"/>
                  <a:pt x="322" y="12"/>
                  <a:pt x="158" y="12"/>
                </a:cubicBez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6913440" y="3087720"/>
            <a:ext cx="966960" cy="1025640"/>
          </a:xfrm>
          <a:custGeom>
            <a:avLst/>
            <a:gdLst/>
            <a:ahLst/>
            <a:rect l="l" t="t" r="r" b="b"/>
            <a:pathLst>
              <a:path w="609" h="646">
                <a:moveTo>
                  <a:pt x="133" y="41"/>
                </a:moveTo>
                <a:cubicBezTo>
                  <a:pt x="86" y="47"/>
                  <a:pt x="38" y="60"/>
                  <a:pt x="19" y="77"/>
                </a:cubicBezTo>
                <a:cubicBezTo>
                  <a:pt x="0" y="94"/>
                  <a:pt x="22" y="83"/>
                  <a:pt x="19" y="143"/>
                </a:cubicBezTo>
                <a:cubicBezTo>
                  <a:pt x="16" y="203"/>
                  <a:pt x="0" y="370"/>
                  <a:pt x="1" y="437"/>
                </a:cubicBezTo>
                <a:cubicBezTo>
                  <a:pt x="2" y="504"/>
                  <a:pt x="19" y="514"/>
                  <a:pt x="25" y="545"/>
                </a:cubicBezTo>
                <a:cubicBezTo>
                  <a:pt x="31" y="576"/>
                  <a:pt x="2" y="609"/>
                  <a:pt x="37" y="623"/>
                </a:cubicBezTo>
                <a:cubicBezTo>
                  <a:pt x="72" y="637"/>
                  <a:pt x="156" y="626"/>
                  <a:pt x="235" y="629"/>
                </a:cubicBezTo>
                <a:cubicBezTo>
                  <a:pt x="314" y="632"/>
                  <a:pt x="451" y="646"/>
                  <a:pt x="511" y="641"/>
                </a:cubicBezTo>
                <a:cubicBezTo>
                  <a:pt x="571" y="636"/>
                  <a:pt x="581" y="617"/>
                  <a:pt x="595" y="599"/>
                </a:cubicBezTo>
                <a:cubicBezTo>
                  <a:pt x="609" y="581"/>
                  <a:pt x="595" y="619"/>
                  <a:pt x="595" y="533"/>
                </a:cubicBezTo>
                <a:cubicBezTo>
                  <a:pt x="595" y="447"/>
                  <a:pt x="601" y="166"/>
                  <a:pt x="595" y="83"/>
                </a:cubicBezTo>
                <a:cubicBezTo>
                  <a:pt x="589" y="0"/>
                  <a:pt x="608" y="42"/>
                  <a:pt x="559" y="35"/>
                </a:cubicBezTo>
                <a:cubicBezTo>
                  <a:pt x="510" y="28"/>
                  <a:pt x="374" y="40"/>
                  <a:pt x="301" y="41"/>
                </a:cubicBezTo>
                <a:cubicBezTo>
                  <a:pt x="228" y="42"/>
                  <a:pt x="180" y="35"/>
                  <a:pt x="133" y="41"/>
                </a:cubicBez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290840" y="3197160"/>
            <a:ext cx="527400" cy="1003320"/>
          </a:xfrm>
          <a:custGeom>
            <a:avLst/>
            <a:gdLst/>
            <a:ahLst/>
            <a:rect l="l" t="t" r="r" b="b"/>
            <a:pathLst>
              <a:path w="332" h="632">
                <a:moveTo>
                  <a:pt x="73" y="36"/>
                </a:moveTo>
                <a:cubicBezTo>
                  <a:pt x="47" y="34"/>
                  <a:pt x="18" y="8"/>
                  <a:pt x="9" y="26"/>
                </a:cubicBezTo>
                <a:cubicBezTo>
                  <a:pt x="0" y="44"/>
                  <a:pt x="21" y="79"/>
                  <a:pt x="21" y="146"/>
                </a:cubicBezTo>
                <a:cubicBezTo>
                  <a:pt x="21" y="213"/>
                  <a:pt x="10" y="362"/>
                  <a:pt x="9" y="428"/>
                </a:cubicBezTo>
                <a:cubicBezTo>
                  <a:pt x="8" y="494"/>
                  <a:pt x="12" y="508"/>
                  <a:pt x="14" y="540"/>
                </a:cubicBezTo>
                <a:cubicBezTo>
                  <a:pt x="16" y="572"/>
                  <a:pt x="1" y="604"/>
                  <a:pt x="20" y="618"/>
                </a:cubicBezTo>
                <a:cubicBezTo>
                  <a:pt x="39" y="632"/>
                  <a:pt x="98" y="626"/>
                  <a:pt x="128" y="624"/>
                </a:cubicBezTo>
                <a:cubicBezTo>
                  <a:pt x="158" y="622"/>
                  <a:pt x="177" y="615"/>
                  <a:pt x="201" y="608"/>
                </a:cubicBezTo>
                <a:cubicBezTo>
                  <a:pt x="225" y="601"/>
                  <a:pt x="256" y="602"/>
                  <a:pt x="273" y="584"/>
                </a:cubicBezTo>
                <a:cubicBezTo>
                  <a:pt x="290" y="566"/>
                  <a:pt x="294" y="584"/>
                  <a:pt x="303" y="500"/>
                </a:cubicBezTo>
                <a:cubicBezTo>
                  <a:pt x="312" y="416"/>
                  <a:pt x="325" y="156"/>
                  <a:pt x="325" y="78"/>
                </a:cubicBezTo>
                <a:cubicBezTo>
                  <a:pt x="325" y="0"/>
                  <a:pt x="332" y="37"/>
                  <a:pt x="306" y="30"/>
                </a:cubicBezTo>
                <a:cubicBezTo>
                  <a:pt x="279" y="23"/>
                  <a:pt x="205" y="35"/>
                  <a:pt x="165" y="36"/>
                </a:cubicBezTo>
                <a:cubicBezTo>
                  <a:pt x="125" y="37"/>
                  <a:pt x="98" y="30"/>
                  <a:pt x="73" y="36"/>
                </a:cubicBez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616120" y="2757600"/>
            <a:ext cx="1473120" cy="2649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352680" y="2048040"/>
            <a:ext cx="1130400" cy="607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nsport apic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oux</cp:lastModifiedBy>
  <dcterms:modified xsi:type="dcterms:W3CDTF">2007-11-10T20:38:51Z</dcterms:modified>
  <cp:revision>1431</cp:revision>
  <dc:subject/>
  <dc:title>Présentation PowerPoint</dc:title>
</cp:coreProperties>
</file>