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7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26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28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7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526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2840" y="568080"/>
            <a:ext cx="78073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468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672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55480" y="1405080"/>
            <a:ext cx="8143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4000" spc="-1" strike="noStrike">
                <a:solidFill>
                  <a:srgbClr val="000066"/>
                </a:solidFill>
                <a:latin typeface="Trebuchet MS"/>
              </a:rPr>
              <a:t>Le contrôle de la contraction musculaire 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4000" spc="-1" strike="noStrike">
                <a:solidFill>
                  <a:srgbClr val="000066"/>
                </a:solidFill>
                <a:latin typeface="Trebuchet MS"/>
              </a:rPr>
              <a:t>le réflexe myotat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17600" y="3763800"/>
            <a:ext cx="78184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ienne Ro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Laboratoire de Physiologie Cellulaire Respiratoire INSERM U 8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UFR des Sciences de la Vie Université Victor Segalen Bordeaux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contact: etienne.roux@u-bordeaux2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support de cour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e-fisio.net      site de l’UFR des sciences de la V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47520" y="0"/>
          <a:ext cx="1533600" cy="153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0"/>
                    <a:ext cx="153360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1596960" y="596880"/>
            <a:ext cx="7547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19120" y="114480"/>
            <a:ext cx="71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icence Bi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1000" y="596880"/>
            <a:ext cx="71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Bitstream Vera Sans"/>
              </a:rPr>
              <a:t>UE physiologie animale</a:t>
            </a:r>
            <a:r>
              <a:rPr b="0" lang="fr-FR" sz="2400" spc="-1" strike="noStrike">
                <a:solidFill>
                  <a:srgbClr val="8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65360" y="431640"/>
            <a:ext cx="338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1440" y="206280"/>
            <a:ext cx="842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organisation du mus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1640" y="2149560"/>
            <a:ext cx="850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ellules musculaires squelettiques : cellules contrac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innervation mot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7680" y="1128600"/>
            <a:ext cx="81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muscles squelettiques : 2 types de fib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8120" y="1712880"/>
            <a:ext cx="223524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ibres musc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200" y="3102120"/>
            <a:ext cx="28872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ibres neuromusc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880" y="3546360"/>
            <a:ext cx="7505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ellules neuromusculaires : cellules contractiles et sen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innervation sen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innervation mot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organisation en fuseaux au sein du tissu mu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fibres neuromusculaires = fibres intrafu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fibres musculaires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= fibres extrafu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23800" y="3556080"/>
            <a:ext cx="5762880" cy="571320"/>
          </a:xfrm>
          <a:prstGeom prst="rect">
            <a:avLst/>
          </a:prstGeom>
          <a:gradFill rotWithShape="0">
            <a:gsLst>
              <a:gs pos="0">
                <a:srgbClr val="fe9372"/>
              </a:gs>
              <a:gs pos="50000">
                <a:srgbClr val="ff6d3f"/>
              </a:gs>
              <a:gs pos="100000">
                <a:srgbClr val="fe93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08160" y="3365640"/>
            <a:ext cx="2641680" cy="965160"/>
          </a:xfrm>
          <a:prstGeom prst="ellipse">
            <a:avLst/>
          </a:prstGeom>
          <a:gradFill rotWithShape="0">
            <a:gsLst>
              <a:gs pos="0">
                <a:srgbClr val="fe9372"/>
              </a:gs>
              <a:gs pos="50000">
                <a:srgbClr val="ff6d3f"/>
              </a:gs>
              <a:gs pos="100000">
                <a:srgbClr val="fe93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63760" y="431640"/>
            <a:ext cx="26845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9640" y="206280"/>
            <a:ext cx="89042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fibres neuromusc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7680" y="1128600"/>
            <a:ext cx="81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fibres intrafusales : organis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55800" y="3560760"/>
            <a:ext cx="343080" cy="216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51160" y="3763800"/>
            <a:ext cx="343080" cy="216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92360" y="4017960"/>
            <a:ext cx="343080" cy="216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10160" y="3556080"/>
            <a:ext cx="330120" cy="55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94440" y="3554280"/>
            <a:ext cx="330120" cy="5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67360" y="35560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03920" y="3554280"/>
            <a:ext cx="330120" cy="5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76840" y="35560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83080" y="35434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73720" y="356076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7640" y="3556080"/>
            <a:ext cx="330120" cy="55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31920" y="3554280"/>
            <a:ext cx="330120" cy="5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04840" y="35434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41400" y="3554280"/>
            <a:ext cx="330480" cy="5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14680" y="35560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0560" y="35434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1560" y="354816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72080" y="3598920"/>
            <a:ext cx="342720" cy="216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11560" y="313704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83080" y="314964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58360" y="3098880"/>
            <a:ext cx="170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559040" y="3098880"/>
            <a:ext cx="170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387160" y="3097080"/>
            <a:ext cx="2032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80080" y="2760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pô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17040" y="2760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pô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29000" y="276084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région équator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3800" y="1590840"/>
            <a:ext cx="85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ellules plurinuclé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pôles contrac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partie équatoriale non contractile + noy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46240" y="3929040"/>
            <a:ext cx="343080" cy="216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3471840"/>
            <a:ext cx="342720" cy="216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34160" y="3622680"/>
            <a:ext cx="170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cellules à s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nuclé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23800" y="3556080"/>
            <a:ext cx="5762880" cy="571320"/>
          </a:xfrm>
          <a:prstGeom prst="rect">
            <a:avLst/>
          </a:prstGeom>
          <a:gradFill rotWithShape="0">
            <a:gsLst>
              <a:gs pos="0">
                <a:srgbClr val="fe9372"/>
              </a:gs>
              <a:gs pos="50000">
                <a:srgbClr val="ff6d3f"/>
              </a:gs>
              <a:gs pos="100000">
                <a:srgbClr val="fe93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08160" y="3365640"/>
            <a:ext cx="2641680" cy="965160"/>
          </a:xfrm>
          <a:prstGeom prst="ellipse">
            <a:avLst/>
          </a:prstGeom>
          <a:gradFill rotWithShape="0">
            <a:gsLst>
              <a:gs pos="0">
                <a:srgbClr val="fe9372"/>
              </a:gs>
              <a:gs pos="50000">
                <a:srgbClr val="ff6d3f"/>
              </a:gs>
              <a:gs pos="100000">
                <a:srgbClr val="fe93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3800" y="4775040"/>
            <a:ext cx="5762880" cy="571680"/>
          </a:xfrm>
          <a:prstGeom prst="rect">
            <a:avLst/>
          </a:prstGeom>
          <a:gradFill rotWithShape="0">
            <a:gsLst>
              <a:gs pos="0">
                <a:srgbClr val="fe9372"/>
              </a:gs>
              <a:gs pos="50000">
                <a:srgbClr val="ff6d3f"/>
              </a:gs>
              <a:gs pos="100000">
                <a:srgbClr val="fe93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63760" y="431640"/>
            <a:ext cx="26845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9640" y="206280"/>
            <a:ext cx="89042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fibres neuromusc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7680" y="1128600"/>
            <a:ext cx="81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fibres intrafusales : organis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55800" y="3560760"/>
            <a:ext cx="343080" cy="216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51160" y="3763800"/>
            <a:ext cx="343080" cy="216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92360" y="4017960"/>
            <a:ext cx="343080" cy="216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10160" y="3556080"/>
            <a:ext cx="330120" cy="55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94440" y="3554280"/>
            <a:ext cx="330120" cy="5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67360" y="35560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03920" y="3554280"/>
            <a:ext cx="330120" cy="5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76840" y="35560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83080" y="35434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73720" y="356076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640" y="3556080"/>
            <a:ext cx="330120" cy="55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31920" y="3554280"/>
            <a:ext cx="330120" cy="5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04840" y="35434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41400" y="3554280"/>
            <a:ext cx="330480" cy="5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14680" y="35560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0560" y="35434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11560" y="354816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72080" y="3598920"/>
            <a:ext cx="342720" cy="216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11560" y="313704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83080" y="314964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58360" y="3098880"/>
            <a:ext cx="170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559040" y="3098880"/>
            <a:ext cx="170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387160" y="3097080"/>
            <a:ext cx="2032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80080" y="2760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pô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17040" y="2760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pô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29000" y="276084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région équator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3800" y="1590840"/>
            <a:ext cx="85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ellules plurinuclé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pôles contrac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partie équatoriale non contractile + noy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25680" y="4957920"/>
            <a:ext cx="343080" cy="2156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95760" y="4957920"/>
            <a:ext cx="342720" cy="2156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10160" y="4788000"/>
            <a:ext cx="330120" cy="55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94440" y="4786200"/>
            <a:ext cx="330120" cy="5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67360" y="477504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3920" y="4786200"/>
            <a:ext cx="330120" cy="5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76840" y="477504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83080" y="477504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73720" y="47800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4788000"/>
            <a:ext cx="330120" cy="55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31920" y="4786200"/>
            <a:ext cx="330120" cy="5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04840" y="477504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41400" y="4786200"/>
            <a:ext cx="330480" cy="5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14680" y="477504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0560" y="477504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11560" y="47800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4957920"/>
            <a:ext cx="343080" cy="2156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46240" y="3929040"/>
            <a:ext cx="343080" cy="216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70280" y="4957920"/>
            <a:ext cx="342720" cy="2156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89320" y="4957920"/>
            <a:ext cx="342720" cy="2156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3471840"/>
            <a:ext cx="342720" cy="216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34160" y="3622680"/>
            <a:ext cx="170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cellules à s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nuclé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8600" y="4842000"/>
            <a:ext cx="207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cellules à chaî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nuclé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63760" y="431640"/>
            <a:ext cx="4335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2160" y="206280"/>
            <a:ext cx="84510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3360" y="1311120"/>
            <a:ext cx="8508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5 à 10 fibres intrafu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1 à 3 fibres à chaîne + 3 à 7 fibres à s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enveloppe de tissu conjonc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L = 4 à 10 mm </a:t>
            </a:r>
            <a:r>
              <a:rPr b="1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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= 200 µ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5 à 80 fuseaux / gramme de mus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useaux parallèles aux fibres extrafu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3360" y="849240"/>
            <a:ext cx="819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fuseau neuromu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390840" y="2590920"/>
            <a:ext cx="4724640" cy="2044440"/>
            <a:chOff x="3390840" y="2590920"/>
            <a:chExt cx="4724640" cy="2044440"/>
          </a:xfrm>
        </p:grpSpPr>
        <p:sp>
          <p:nvSpPr>
            <p:cNvPr id="253" name=""/>
            <p:cNvSpPr/>
            <p:nvPr/>
          </p:nvSpPr>
          <p:spPr>
            <a:xfrm>
              <a:off x="3390840" y="2590920"/>
              <a:ext cx="4724640" cy="2044440"/>
            </a:xfrm>
            <a:prstGeom prst="ellipse">
              <a:avLst/>
            </a:prstGeom>
            <a:gradFill rotWithShape="0">
              <a:gsLst>
                <a:gs pos="0">
                  <a:srgbClr val="fefeaf"/>
                </a:gs>
                <a:gs pos="100000">
                  <a:srgbClr val="ffff7d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4178520" y="3439800"/>
              <a:ext cx="3228840" cy="326880"/>
              <a:chOff x="4178520" y="3439800"/>
              <a:chExt cx="3228840" cy="326880"/>
            </a:xfrm>
          </p:grpSpPr>
          <p:sp>
            <p:nvSpPr>
              <p:cNvPr id="255" name=""/>
              <p:cNvSpPr/>
              <p:nvPr/>
            </p:nvSpPr>
            <p:spPr>
              <a:xfrm>
                <a:off x="4180320" y="3440520"/>
                <a:ext cx="3227040" cy="326160"/>
              </a:xfrm>
              <a:prstGeom prst="rect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45200" y="3542400"/>
                <a:ext cx="191880" cy="120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956560" y="3542400"/>
                <a:ext cx="191880" cy="120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468480" y="3447720"/>
                <a:ext cx="184680" cy="311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795720" y="3446640"/>
                <a:ext cx="184680" cy="312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724440" y="3440520"/>
                <a:ext cx="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137000" y="3446640"/>
                <a:ext cx="184680" cy="312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65720" y="3440520"/>
                <a:ext cx="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397200" y="3440520"/>
                <a:ext cx="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400160" y="3443400"/>
                <a:ext cx="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49440" y="3447720"/>
                <a:ext cx="184680" cy="311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76680" y="3439800"/>
                <a:ext cx="184680" cy="311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05400" y="3440520"/>
                <a:ext cx="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17960" y="3439800"/>
                <a:ext cx="185040" cy="311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47040" y="3440520"/>
                <a:ext cx="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178520" y="3440520"/>
                <a:ext cx="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81120" y="3443400"/>
                <a:ext cx="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190920" y="3542400"/>
                <a:ext cx="191880" cy="120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494320" y="3542400"/>
                <a:ext cx="191880" cy="120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728680" y="3542400"/>
                <a:ext cx="191880" cy="120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178520" y="2806560"/>
              <a:ext cx="3228840" cy="541080"/>
              <a:chOff x="4178520" y="2806560"/>
              <a:chExt cx="3228840" cy="541080"/>
            </a:xfrm>
          </p:grpSpPr>
          <p:sp>
            <p:nvSpPr>
              <p:cNvPr id="276" name=""/>
              <p:cNvSpPr/>
              <p:nvPr/>
            </p:nvSpPr>
            <p:spPr>
              <a:xfrm>
                <a:off x="4180320" y="2913120"/>
                <a:ext cx="3227040" cy="320040"/>
              </a:xfrm>
              <a:prstGeom prst="rect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67360" y="2806560"/>
                <a:ext cx="1479240" cy="541080"/>
              </a:xfrm>
              <a:prstGeom prst="ellipse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430240" y="2915640"/>
                <a:ext cx="191880" cy="120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707440" y="3029760"/>
                <a:ext cx="191880" cy="120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842440" y="3172320"/>
                <a:ext cx="191880" cy="120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68480" y="2913120"/>
                <a:ext cx="184680" cy="31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95720" y="2912040"/>
                <a:ext cx="184680" cy="31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24440" y="291312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137000" y="2912040"/>
                <a:ext cx="184680" cy="31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065720" y="291312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397200" y="290628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00160" y="2915640"/>
                <a:ext cx="0" cy="32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9440" y="2913120"/>
                <a:ext cx="184680" cy="31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576680" y="2912040"/>
                <a:ext cx="184680" cy="31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505400" y="290628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917960" y="2912040"/>
                <a:ext cx="185040" cy="31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847040" y="291312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178520" y="290628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181120" y="290880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999040" y="2937240"/>
                <a:ext cx="191880" cy="120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36800" y="3122280"/>
                <a:ext cx="191880" cy="120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721840" y="2865960"/>
                <a:ext cx="191880" cy="120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4191120" y="3846240"/>
              <a:ext cx="3228840" cy="541080"/>
              <a:chOff x="4191120" y="3846240"/>
              <a:chExt cx="3228840" cy="541080"/>
            </a:xfrm>
          </p:grpSpPr>
          <p:sp>
            <p:nvSpPr>
              <p:cNvPr id="299" name=""/>
              <p:cNvSpPr/>
              <p:nvPr/>
            </p:nvSpPr>
            <p:spPr>
              <a:xfrm>
                <a:off x="4192920" y="3952800"/>
                <a:ext cx="3227040" cy="320040"/>
              </a:xfrm>
              <a:prstGeom prst="rect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079960" y="3846240"/>
                <a:ext cx="1479240" cy="541080"/>
              </a:xfrm>
              <a:prstGeom prst="ellipse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42840" y="3955320"/>
                <a:ext cx="191880" cy="120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20040" y="4069440"/>
                <a:ext cx="191880" cy="120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855040" y="4212000"/>
                <a:ext cx="191880" cy="120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481080" y="3952800"/>
                <a:ext cx="184680" cy="31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808320" y="3951720"/>
                <a:ext cx="184680" cy="31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737040" y="395280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149600" y="3951720"/>
                <a:ext cx="184680" cy="31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078320" y="395280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409800" y="394596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412760" y="3955320"/>
                <a:ext cx="0" cy="32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62040" y="3952800"/>
                <a:ext cx="184680" cy="31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589280" y="3951720"/>
                <a:ext cx="184680" cy="31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18000" y="394596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30560" y="3951720"/>
                <a:ext cx="185040" cy="31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59640" y="395280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191120" y="394596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193720" y="394848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011640" y="3976920"/>
                <a:ext cx="191880" cy="120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549400" y="4161960"/>
                <a:ext cx="191880" cy="120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734440" y="3905640"/>
                <a:ext cx="191880" cy="120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63760" y="431640"/>
            <a:ext cx="4335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3600" y="206280"/>
            <a:ext cx="87055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n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innervation sensitive : région équato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3360" y="1311120"/>
            <a:ext cx="8508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fibres Ia : innervation prim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ibres myélinis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gros diamètre (</a:t>
            </a:r>
            <a:r>
              <a:rPr b="1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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= 17 µm)     vitesse de conduction élevée (100 m.sec</a:t>
            </a:r>
            <a:r>
              <a:rPr b="0" lang="fr-FR" sz="2000" spc="-1" strike="noStrike" baseline="30000">
                <a:solidFill>
                  <a:srgbClr val="800000"/>
                </a:solidFill>
                <a:latin typeface="Arial"/>
                <a:ea typeface="Times New Roman"/>
              </a:rPr>
              <a:t>-1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terminaison en spir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autour des fibres à chaînes et des fibres à sa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993600" y="4838760"/>
            <a:ext cx="5766120" cy="460440"/>
            <a:chOff x="993600" y="4838760"/>
            <a:chExt cx="5766120" cy="460440"/>
          </a:xfrm>
        </p:grpSpPr>
        <p:sp>
          <p:nvSpPr>
            <p:cNvPr id="327" name=""/>
            <p:cNvSpPr/>
            <p:nvPr/>
          </p:nvSpPr>
          <p:spPr>
            <a:xfrm>
              <a:off x="996840" y="4838760"/>
              <a:ext cx="5762880" cy="45648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98720" y="4984560"/>
              <a:ext cx="34308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68800" y="4984560"/>
              <a:ext cx="34272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83200" y="484884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67480" y="4847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4040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76960" y="4847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4988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5612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46760" y="48427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20680" y="484884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04960" y="4847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7788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14440" y="4847400"/>
              <a:ext cx="33048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8772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9360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84600" y="48427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87840" y="4984560"/>
              <a:ext cx="34308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43320" y="4984560"/>
              <a:ext cx="34272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62360" y="4984560"/>
              <a:ext cx="34272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993600" y="5586480"/>
            <a:ext cx="5766120" cy="771480"/>
            <a:chOff x="993600" y="5586480"/>
            <a:chExt cx="5766120" cy="771480"/>
          </a:xfrm>
        </p:grpSpPr>
        <p:sp>
          <p:nvSpPr>
            <p:cNvPr id="348" name=""/>
            <p:cNvSpPr/>
            <p:nvPr/>
          </p:nvSpPr>
          <p:spPr>
            <a:xfrm>
              <a:off x="996840" y="5738400"/>
              <a:ext cx="5762880" cy="45648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81200" y="5586480"/>
              <a:ext cx="2641680" cy="771480"/>
            </a:xfrm>
            <a:prstGeom prst="ellipse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28840" y="57423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24200" y="590472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965400" y="61077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083200" y="5738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67480" y="57369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540400" y="57384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76960" y="57369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49880" y="57384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56120" y="57283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46760" y="57423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20680" y="5738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04960" y="57369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77880" y="57283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14440" y="5736960"/>
              <a:ext cx="33048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87720" y="57384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93600" y="57283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784600" y="573228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45120" y="577296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19280" y="603684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49760" y="567108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993600" y="3797280"/>
            <a:ext cx="5766120" cy="771480"/>
            <a:chOff x="993600" y="3797280"/>
            <a:chExt cx="5766120" cy="771480"/>
          </a:xfrm>
        </p:grpSpPr>
        <p:sp>
          <p:nvSpPr>
            <p:cNvPr id="371" name=""/>
            <p:cNvSpPr/>
            <p:nvPr/>
          </p:nvSpPr>
          <p:spPr>
            <a:xfrm>
              <a:off x="996840" y="3949200"/>
              <a:ext cx="5762880" cy="45648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81200" y="3797280"/>
              <a:ext cx="2641680" cy="771480"/>
            </a:xfrm>
            <a:prstGeom prst="ellipse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28840" y="39531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24200" y="411552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65400" y="43185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83200" y="39492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667480" y="39477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540400" y="39492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76960" y="39477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49880" y="39492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56120" y="39391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746760" y="39531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20680" y="39492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04960" y="39477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77880" y="39391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14440" y="3947760"/>
              <a:ext cx="33048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87720" y="39492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93600" y="39391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84600" y="394308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45120" y="398376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19280" y="424764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49760" y="388188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3327480" y="3759120"/>
            <a:ext cx="507960" cy="8510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70200" y="3759120"/>
            <a:ext cx="507960" cy="8510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48120" y="3822840"/>
            <a:ext cx="406440" cy="77472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17920" y="5562720"/>
            <a:ext cx="507960" cy="8506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98800" y="5549760"/>
            <a:ext cx="507960" cy="8510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292640" y="5600880"/>
            <a:ext cx="406440" cy="72360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32040" y="4775040"/>
            <a:ext cx="241560" cy="5842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403440" y="4775040"/>
            <a:ext cx="241560" cy="5842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74840" y="4775040"/>
            <a:ext cx="241560" cy="5842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70280" y="3835440"/>
            <a:ext cx="279360" cy="75708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70280" y="4737240"/>
            <a:ext cx="279360" cy="64296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11480" y="5626080"/>
            <a:ext cx="507960" cy="82080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562040" y="3454560"/>
            <a:ext cx="1575000" cy="2184120"/>
          </a:xfrm>
          <a:custGeom>
            <a:avLst/>
            <a:gdLst/>
            <a:ahLst/>
            <a:rect l="l" t="t" r="r" b="b"/>
            <a:pathLst>
              <a:path w="992" h="1592">
                <a:moveTo>
                  <a:pt x="0" y="0"/>
                </a:moveTo>
                <a:lnTo>
                  <a:pt x="824" y="0"/>
                </a:lnTo>
                <a:lnTo>
                  <a:pt x="824" y="1592"/>
                </a:lnTo>
                <a:lnTo>
                  <a:pt x="992" y="1592"/>
                </a:ln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480" y="32608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63760" y="431640"/>
            <a:ext cx="4335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3600" y="206280"/>
            <a:ext cx="87055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n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innervation sensitive : région équato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3360" y="1311120"/>
            <a:ext cx="8508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fibres II : innervation second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ibres myélinis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aible diamètre (</a:t>
            </a:r>
            <a:r>
              <a:rPr b="1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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= 8 µm)      vitesse de conduction faible (50 m.sec</a:t>
            </a:r>
            <a:r>
              <a:rPr b="0" lang="fr-FR" sz="2000" spc="-1" strike="noStrike" baseline="30000">
                <a:solidFill>
                  <a:srgbClr val="800000"/>
                </a:solidFill>
                <a:latin typeface="Arial"/>
                <a:ea typeface="Times New Roman"/>
              </a:rPr>
              <a:t>-1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terminaison en bouquet ou en spir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autour des fibres à chaînes et des fibres à sacs sta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993600" y="4838760"/>
            <a:ext cx="5766120" cy="460440"/>
            <a:chOff x="993600" y="4838760"/>
            <a:chExt cx="5766120" cy="460440"/>
          </a:xfrm>
        </p:grpSpPr>
        <p:sp>
          <p:nvSpPr>
            <p:cNvPr id="413" name=""/>
            <p:cNvSpPr/>
            <p:nvPr/>
          </p:nvSpPr>
          <p:spPr>
            <a:xfrm>
              <a:off x="996840" y="4838760"/>
              <a:ext cx="5762880" cy="45648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898720" y="4984560"/>
              <a:ext cx="34308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68800" y="4984560"/>
              <a:ext cx="34272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83200" y="484884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667480" y="4847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54040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76960" y="4847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14988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5612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46760" y="48427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20680" y="484884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04960" y="4847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57788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14440" y="4847400"/>
              <a:ext cx="33048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8772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9360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84600" y="48427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87840" y="4984560"/>
              <a:ext cx="34308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343320" y="4984560"/>
              <a:ext cx="34272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62360" y="4984560"/>
              <a:ext cx="34272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993600" y="5586480"/>
            <a:ext cx="5766120" cy="771480"/>
            <a:chOff x="993600" y="5586480"/>
            <a:chExt cx="5766120" cy="771480"/>
          </a:xfrm>
        </p:grpSpPr>
        <p:sp>
          <p:nvSpPr>
            <p:cNvPr id="434" name=""/>
            <p:cNvSpPr/>
            <p:nvPr/>
          </p:nvSpPr>
          <p:spPr>
            <a:xfrm>
              <a:off x="996840" y="5738400"/>
              <a:ext cx="5762880" cy="45648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581200" y="5586480"/>
              <a:ext cx="2641680" cy="771480"/>
            </a:xfrm>
            <a:prstGeom prst="ellipse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28840" y="57423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24200" y="590472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65400" y="61077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083200" y="5738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67480" y="57369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40400" y="57384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76960" y="57369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49880" y="57384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56120" y="57283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46760" y="57423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20680" y="5738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04960" y="57369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77880" y="57283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14440" y="5736960"/>
              <a:ext cx="33048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87720" y="57384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93600" y="57283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84600" y="573228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245120" y="577296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19280" y="603684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749760" y="567108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993600" y="3797280"/>
            <a:ext cx="5766120" cy="771480"/>
            <a:chOff x="993600" y="3797280"/>
            <a:chExt cx="5766120" cy="771480"/>
          </a:xfrm>
        </p:grpSpPr>
        <p:sp>
          <p:nvSpPr>
            <p:cNvPr id="457" name=""/>
            <p:cNvSpPr/>
            <p:nvPr/>
          </p:nvSpPr>
          <p:spPr>
            <a:xfrm>
              <a:off x="996840" y="3949200"/>
              <a:ext cx="5762880" cy="45648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81200" y="3797280"/>
              <a:ext cx="2641680" cy="771480"/>
            </a:xfrm>
            <a:prstGeom prst="ellipse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28840" y="39531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724200" y="411552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65400" y="43185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83200" y="39492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67480" y="39477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40400" y="39492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76960" y="39477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149880" y="39492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56120" y="39391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46760" y="39531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120680" y="39492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704960" y="39477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77880" y="39391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314440" y="3947760"/>
              <a:ext cx="33048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187720" y="39492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93600" y="39391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84600" y="394308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45120" y="398376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19280" y="424764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49760" y="388188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3327480" y="3759120"/>
            <a:ext cx="507960" cy="8510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670200" y="3759120"/>
            <a:ext cx="507960" cy="8510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48120" y="3822840"/>
            <a:ext cx="406440" cy="77472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17920" y="5562720"/>
            <a:ext cx="507960" cy="8506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98800" y="5549760"/>
            <a:ext cx="507960" cy="8510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92640" y="5600880"/>
            <a:ext cx="406440" cy="72360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32040" y="4775040"/>
            <a:ext cx="241560" cy="5842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03440" y="4775040"/>
            <a:ext cx="241560" cy="5842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74840" y="4775040"/>
            <a:ext cx="241560" cy="5842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70280" y="3835440"/>
            <a:ext cx="279360" cy="75708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70280" y="4737240"/>
            <a:ext cx="279360" cy="64296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111480" y="5626080"/>
            <a:ext cx="507960" cy="82080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62040" y="3454560"/>
            <a:ext cx="1575000" cy="2184120"/>
          </a:xfrm>
          <a:custGeom>
            <a:avLst/>
            <a:gdLst/>
            <a:ahLst/>
            <a:rect l="l" t="t" r="r" b="b"/>
            <a:pathLst>
              <a:path w="992" h="1592">
                <a:moveTo>
                  <a:pt x="0" y="0"/>
                </a:moveTo>
                <a:lnTo>
                  <a:pt x="824" y="0"/>
                </a:lnTo>
                <a:lnTo>
                  <a:pt x="824" y="1592"/>
                </a:lnTo>
                <a:lnTo>
                  <a:pt x="992" y="1592"/>
                </a:ln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476240" y="3628800"/>
            <a:ext cx="371520" cy="533520"/>
            <a:chOff x="4476240" y="3628800"/>
            <a:chExt cx="371520" cy="533520"/>
          </a:xfrm>
        </p:grpSpPr>
        <p:sp>
          <p:nvSpPr>
            <p:cNvPr id="493" name=""/>
            <p:cNvSpPr/>
            <p:nvPr/>
          </p:nvSpPr>
          <p:spPr>
            <a:xfrm flipH="1">
              <a:off x="4476240" y="3857760"/>
              <a:ext cx="16164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47960" y="3857760"/>
              <a:ext cx="16200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647960" y="3857760"/>
              <a:ext cx="0" cy="295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4647960" y="3628800"/>
              <a:ext cx="199800" cy="228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4485960" y="4543200"/>
            <a:ext cx="371520" cy="533520"/>
            <a:chOff x="4485960" y="4543200"/>
            <a:chExt cx="371520" cy="533520"/>
          </a:xfrm>
        </p:grpSpPr>
        <p:sp>
          <p:nvSpPr>
            <p:cNvPr id="498" name=""/>
            <p:cNvSpPr/>
            <p:nvPr/>
          </p:nvSpPr>
          <p:spPr>
            <a:xfrm flipH="1">
              <a:off x="4485960" y="4772160"/>
              <a:ext cx="16164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57680" y="4772160"/>
              <a:ext cx="16200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4657680" y="4772160"/>
              <a:ext cx="0" cy="295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4657680" y="4543200"/>
              <a:ext cx="199800" cy="228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4848120" y="3457440"/>
            <a:ext cx="1524240" cy="1114560"/>
          </a:xfrm>
          <a:custGeom>
            <a:avLst/>
            <a:gdLst/>
            <a:ahLst/>
            <a:rect l="l" t="t" r="r" b="b"/>
            <a:pathLst>
              <a:path w="960" h="726">
                <a:moveTo>
                  <a:pt x="0" y="726"/>
                </a:moveTo>
                <a:lnTo>
                  <a:pt x="0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92160" y="616284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dynam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45160" y="366084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sta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2480" y="32608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14120" y="32479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fibre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63760" y="431640"/>
            <a:ext cx="4335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3600" y="206280"/>
            <a:ext cx="87055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n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innervation motrice : régions polaires contrac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33360" y="1311120"/>
            <a:ext cx="8508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fibres gamma (</a:t>
            </a:r>
            <a:r>
              <a:rPr b="1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ibres myélinis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aible diamètre (</a:t>
            </a:r>
            <a:r>
              <a:rPr b="1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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= 2 à 8 µm)    vitesse de conduction faible (30 m.sec</a:t>
            </a:r>
            <a:r>
              <a:rPr b="0" lang="fr-FR" sz="2000" spc="-1" strike="noStrike" baseline="30000">
                <a:solidFill>
                  <a:srgbClr val="800000"/>
                </a:solidFill>
                <a:latin typeface="Arial"/>
                <a:ea typeface="Times New Roman"/>
              </a:rPr>
              <a:t>-1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fibres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tatiques :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fibres à chaînes et à sacs sta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fibres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dynamiques :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fibres à sacs dynam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993600" y="4838760"/>
            <a:ext cx="5766120" cy="460440"/>
            <a:chOff x="993600" y="4838760"/>
            <a:chExt cx="5766120" cy="460440"/>
          </a:xfrm>
        </p:grpSpPr>
        <p:sp>
          <p:nvSpPr>
            <p:cNvPr id="513" name=""/>
            <p:cNvSpPr/>
            <p:nvPr/>
          </p:nvSpPr>
          <p:spPr>
            <a:xfrm>
              <a:off x="996840" y="4838760"/>
              <a:ext cx="5762880" cy="45648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98720" y="4984560"/>
              <a:ext cx="34308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68800" y="4984560"/>
              <a:ext cx="34272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83200" y="484884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67480" y="4847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54040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6960" y="4847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4988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5612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46760" y="48427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20680" y="484884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704960" y="4847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57788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14440" y="4847400"/>
              <a:ext cx="33048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18772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9360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84600" y="48427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87840" y="4984560"/>
              <a:ext cx="34308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43320" y="4984560"/>
              <a:ext cx="34272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62360" y="4984560"/>
              <a:ext cx="34272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993600" y="5586480"/>
            <a:ext cx="5766120" cy="771480"/>
            <a:chOff x="993600" y="5586480"/>
            <a:chExt cx="5766120" cy="771480"/>
          </a:xfrm>
        </p:grpSpPr>
        <p:sp>
          <p:nvSpPr>
            <p:cNvPr id="534" name=""/>
            <p:cNvSpPr/>
            <p:nvPr/>
          </p:nvSpPr>
          <p:spPr>
            <a:xfrm>
              <a:off x="996840" y="5738400"/>
              <a:ext cx="5762880" cy="45648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81200" y="5586480"/>
              <a:ext cx="2641680" cy="771480"/>
            </a:xfrm>
            <a:prstGeom prst="ellipse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28840" y="57423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24200" y="590472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65400" y="61077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83200" y="5738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667480" y="57369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40400" y="57384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276960" y="57369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49880" y="57384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956120" y="57283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746760" y="57423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0680" y="5738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04960" y="57369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577880" y="57283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314440" y="5736960"/>
              <a:ext cx="33048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187720" y="57384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93600" y="57283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784600" y="573228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45120" y="577296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19280" y="603684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749760" y="567108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993600" y="3797280"/>
            <a:ext cx="5766120" cy="771480"/>
            <a:chOff x="993600" y="3797280"/>
            <a:chExt cx="5766120" cy="771480"/>
          </a:xfrm>
        </p:grpSpPr>
        <p:sp>
          <p:nvSpPr>
            <p:cNvPr id="557" name=""/>
            <p:cNvSpPr/>
            <p:nvPr/>
          </p:nvSpPr>
          <p:spPr>
            <a:xfrm>
              <a:off x="996840" y="3949200"/>
              <a:ext cx="5762880" cy="45648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81200" y="3797280"/>
              <a:ext cx="2641680" cy="771480"/>
            </a:xfrm>
            <a:prstGeom prst="ellipse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8840" y="39531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724200" y="411552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65400" y="43185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83200" y="39492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667480" y="39477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40400" y="39492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76960" y="39477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149880" y="39492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956120" y="39391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46760" y="39531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120680" y="39492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04960" y="39477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77880" y="39391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14440" y="3947760"/>
              <a:ext cx="33048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87720" y="39492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93600" y="39391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84600" y="394308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45120" y="398376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19280" y="424764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749760" y="388188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3327480" y="3759120"/>
            <a:ext cx="507960" cy="8510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670200" y="3759120"/>
            <a:ext cx="507960" cy="8510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48120" y="3822840"/>
            <a:ext cx="406440" cy="77472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17920" y="5562720"/>
            <a:ext cx="507960" cy="8506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898800" y="5549760"/>
            <a:ext cx="507960" cy="8510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292640" y="5600880"/>
            <a:ext cx="406440" cy="72360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32040" y="4775040"/>
            <a:ext cx="241560" cy="5842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03440" y="4775040"/>
            <a:ext cx="241560" cy="5842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174840" y="4775040"/>
            <a:ext cx="241560" cy="5842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70280" y="3835440"/>
            <a:ext cx="279360" cy="75708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870280" y="4737240"/>
            <a:ext cx="279360" cy="64296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111480" y="5626080"/>
            <a:ext cx="507960" cy="82080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62040" y="3454560"/>
            <a:ext cx="1575000" cy="2184120"/>
          </a:xfrm>
          <a:custGeom>
            <a:avLst/>
            <a:gdLst/>
            <a:ahLst/>
            <a:rect l="l" t="t" r="r" b="b"/>
            <a:pathLst>
              <a:path w="992" h="1592">
                <a:moveTo>
                  <a:pt x="0" y="0"/>
                </a:moveTo>
                <a:lnTo>
                  <a:pt x="824" y="0"/>
                </a:lnTo>
                <a:lnTo>
                  <a:pt x="824" y="1592"/>
                </a:lnTo>
                <a:lnTo>
                  <a:pt x="992" y="1592"/>
                </a:ln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4476240" y="3628800"/>
            <a:ext cx="371520" cy="533520"/>
            <a:chOff x="4476240" y="3628800"/>
            <a:chExt cx="371520" cy="533520"/>
          </a:xfrm>
        </p:grpSpPr>
        <p:sp>
          <p:nvSpPr>
            <p:cNvPr id="593" name=""/>
            <p:cNvSpPr/>
            <p:nvPr/>
          </p:nvSpPr>
          <p:spPr>
            <a:xfrm flipH="1">
              <a:off x="4476240" y="3857760"/>
              <a:ext cx="16164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647960" y="3857760"/>
              <a:ext cx="16200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647960" y="3857760"/>
              <a:ext cx="0" cy="295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4647960" y="3628800"/>
              <a:ext cx="199800" cy="228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485960" y="4543200"/>
            <a:ext cx="371520" cy="533520"/>
            <a:chOff x="4485960" y="4543200"/>
            <a:chExt cx="371520" cy="533520"/>
          </a:xfrm>
        </p:grpSpPr>
        <p:sp>
          <p:nvSpPr>
            <p:cNvPr id="598" name=""/>
            <p:cNvSpPr/>
            <p:nvPr/>
          </p:nvSpPr>
          <p:spPr>
            <a:xfrm flipH="1">
              <a:off x="4485960" y="4772160"/>
              <a:ext cx="16164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657680" y="4772160"/>
              <a:ext cx="16200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4657680" y="4772160"/>
              <a:ext cx="0" cy="295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4657680" y="4543200"/>
              <a:ext cx="199800" cy="228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4848120" y="3457440"/>
            <a:ext cx="1524240" cy="1114560"/>
          </a:xfrm>
          <a:custGeom>
            <a:avLst/>
            <a:gdLst/>
            <a:ahLst/>
            <a:rect l="l" t="t" r="r" b="b"/>
            <a:pathLst>
              <a:path w="960" h="726">
                <a:moveTo>
                  <a:pt x="0" y="726"/>
                </a:moveTo>
                <a:lnTo>
                  <a:pt x="0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62480" y="32608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414120" y="32479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fibre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956200" y="4686480"/>
            <a:ext cx="317520" cy="152280"/>
          </a:xfrm>
          <a:prstGeom prst="flowChartExtra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159600" y="5587920"/>
            <a:ext cx="317520" cy="152640"/>
          </a:xfrm>
          <a:prstGeom prst="flowChartExtra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92160" y="616284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dynam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145160" y="366084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sta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943600" y="3797280"/>
            <a:ext cx="317520" cy="152280"/>
          </a:xfrm>
          <a:prstGeom prst="flowChartExtra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311880" y="5473800"/>
            <a:ext cx="2032200" cy="152280"/>
          </a:xfrm>
          <a:custGeom>
            <a:avLst/>
            <a:gdLst/>
            <a:ahLst/>
            <a:rect l="l" t="t" r="r" b="b"/>
            <a:pathLst>
              <a:path w="1280" h="96">
                <a:moveTo>
                  <a:pt x="0" y="96"/>
                </a:moveTo>
                <a:lnTo>
                  <a:pt x="0" y="0"/>
                </a:lnTo>
                <a:lnTo>
                  <a:pt x="1280" y="0"/>
                </a:ln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08840" y="3664080"/>
            <a:ext cx="2031840" cy="152280"/>
          </a:xfrm>
          <a:custGeom>
            <a:avLst/>
            <a:gdLst/>
            <a:ahLst/>
            <a:rect l="l" t="t" r="r" b="b"/>
            <a:pathLst>
              <a:path w="1280" h="96">
                <a:moveTo>
                  <a:pt x="0" y="96"/>
                </a:moveTo>
                <a:lnTo>
                  <a:pt x="0" y="0"/>
                </a:lnTo>
                <a:lnTo>
                  <a:pt x="1280" y="0"/>
                </a:lnTo>
              </a:path>
            </a:pathLst>
          </a:custGeom>
          <a:noFill/>
          <a:ln w="284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121440" y="4559400"/>
            <a:ext cx="2031840" cy="152280"/>
          </a:xfrm>
          <a:custGeom>
            <a:avLst/>
            <a:gdLst/>
            <a:ahLst/>
            <a:rect l="l" t="t" r="r" b="b"/>
            <a:pathLst>
              <a:path w="1280" h="96">
                <a:moveTo>
                  <a:pt x="0" y="96"/>
                </a:moveTo>
                <a:lnTo>
                  <a:pt x="0" y="0"/>
                </a:lnTo>
                <a:lnTo>
                  <a:pt x="1280" y="0"/>
                </a:lnTo>
              </a:path>
            </a:pathLst>
          </a:custGeom>
          <a:noFill/>
          <a:ln w="284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942960" y="36781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9966"/>
                </a:solidFill>
                <a:latin typeface="Arial"/>
              </a:rPr>
              <a:t>fibre </a:t>
            </a:r>
            <a:r>
              <a:rPr b="1" lang="fr-FR" sz="2000" spc="-1" strike="noStrike">
                <a:solidFill>
                  <a:srgbClr val="339966"/>
                </a:solidFill>
                <a:latin typeface="Symbol"/>
                <a:ea typeface="Symbol"/>
              </a:rPr>
              <a:t></a:t>
            </a:r>
            <a:r>
              <a:rPr b="1" lang="fr-FR" sz="1600" spc="-1" strike="noStrike">
                <a:solidFill>
                  <a:srgbClr val="339966"/>
                </a:solidFill>
                <a:latin typeface="Arial"/>
              </a:rPr>
              <a:t> sta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815520" y="5418000"/>
            <a:ext cx="19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00"/>
                </a:solidFill>
                <a:latin typeface="Arial"/>
              </a:rPr>
              <a:t>fibre </a:t>
            </a:r>
            <a:r>
              <a:rPr b="1" lang="fr-FR" sz="2000" spc="-1" strike="noStrike">
                <a:solidFill>
                  <a:srgbClr val="006600"/>
                </a:solidFill>
                <a:latin typeface="Symbol"/>
                <a:ea typeface="Symbol"/>
              </a:rPr>
              <a:t></a:t>
            </a:r>
            <a:r>
              <a:rPr b="1" lang="fr-FR" sz="1600" spc="-1" strike="noStrike">
                <a:solidFill>
                  <a:srgbClr val="006600"/>
                </a:solidFill>
                <a:latin typeface="Arial"/>
              </a:rPr>
              <a:t> dynam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63760" y="431640"/>
            <a:ext cx="2976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81440" y="206280"/>
            <a:ext cx="84592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réponse à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activité électrique des fibres sen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993600" y="4356000"/>
            <a:ext cx="5766120" cy="460440"/>
            <a:chOff x="993600" y="4356000"/>
            <a:chExt cx="5766120" cy="460440"/>
          </a:xfrm>
        </p:grpSpPr>
        <p:sp>
          <p:nvSpPr>
            <p:cNvPr id="620" name=""/>
            <p:cNvSpPr/>
            <p:nvPr/>
          </p:nvSpPr>
          <p:spPr>
            <a:xfrm>
              <a:off x="996840" y="4356000"/>
              <a:ext cx="5762880" cy="45648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898720" y="4501800"/>
              <a:ext cx="34308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68800" y="4501800"/>
              <a:ext cx="34272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083200" y="436608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7480" y="436464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540400" y="43560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76960" y="436464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49880" y="43560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956120" y="43560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46760" y="43599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20680" y="436608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04960" y="436464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577880" y="43560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314440" y="4364640"/>
              <a:ext cx="33048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187720" y="43560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993600" y="43560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784600" y="43599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87840" y="4501800"/>
              <a:ext cx="34308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343320" y="4501800"/>
              <a:ext cx="34272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762360" y="4501800"/>
              <a:ext cx="34272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993600" y="5103720"/>
            <a:ext cx="5766120" cy="771480"/>
            <a:chOff x="993600" y="5103720"/>
            <a:chExt cx="5766120" cy="771480"/>
          </a:xfrm>
        </p:grpSpPr>
        <p:sp>
          <p:nvSpPr>
            <p:cNvPr id="641" name=""/>
            <p:cNvSpPr/>
            <p:nvPr/>
          </p:nvSpPr>
          <p:spPr>
            <a:xfrm>
              <a:off x="996840" y="5255640"/>
              <a:ext cx="5762880" cy="45648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81200" y="5103720"/>
              <a:ext cx="2641680" cy="771480"/>
            </a:xfrm>
            <a:prstGeom prst="ellipse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28840" y="525960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24200" y="54219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65400" y="562500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83200" y="525564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667480" y="525420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540400" y="525564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276960" y="525420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149880" y="525564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956120" y="52455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746760" y="525960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120680" y="525564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704960" y="525420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77880" y="52455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314440" y="5254200"/>
              <a:ext cx="33048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87720" y="525564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93600" y="52455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84600" y="52495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45120" y="529020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19280" y="555408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49760" y="518832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993600" y="3314880"/>
            <a:ext cx="5766120" cy="771480"/>
            <a:chOff x="993600" y="3314880"/>
            <a:chExt cx="5766120" cy="771480"/>
          </a:xfrm>
        </p:grpSpPr>
        <p:sp>
          <p:nvSpPr>
            <p:cNvPr id="664" name=""/>
            <p:cNvSpPr/>
            <p:nvPr/>
          </p:nvSpPr>
          <p:spPr>
            <a:xfrm>
              <a:off x="996840" y="3466800"/>
              <a:ext cx="5762880" cy="45648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81200" y="3314880"/>
              <a:ext cx="2641680" cy="771480"/>
            </a:xfrm>
            <a:prstGeom prst="ellipse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28840" y="34707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724200" y="363312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65400" y="38361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83200" y="34668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67480" y="34653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540400" y="34668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276960" y="34653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149880" y="34668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956120" y="34567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746760" y="34707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120680" y="34668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04960" y="34653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577880" y="34567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14440" y="3465360"/>
              <a:ext cx="33048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187720" y="34668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93600" y="34567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784600" y="346068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45120" y="350136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419280" y="376524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749760" y="339948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327480" y="3276720"/>
            <a:ext cx="507960" cy="8506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670200" y="3276720"/>
            <a:ext cx="507960" cy="8506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048120" y="3340080"/>
            <a:ext cx="406440" cy="77472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517920" y="5079960"/>
            <a:ext cx="507960" cy="8510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98800" y="5067360"/>
            <a:ext cx="507960" cy="8506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92640" y="5118120"/>
            <a:ext cx="406440" cy="72396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32040" y="4292640"/>
            <a:ext cx="241560" cy="5842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403440" y="4292640"/>
            <a:ext cx="241560" cy="5842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74840" y="4292640"/>
            <a:ext cx="241560" cy="5842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870280" y="3352680"/>
            <a:ext cx="279360" cy="75744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870280" y="4254480"/>
            <a:ext cx="279360" cy="64296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11480" y="5143680"/>
            <a:ext cx="507960" cy="82044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62040" y="2971800"/>
            <a:ext cx="1575000" cy="2184480"/>
          </a:xfrm>
          <a:custGeom>
            <a:avLst/>
            <a:gdLst/>
            <a:ahLst/>
            <a:rect l="l" t="t" r="r" b="b"/>
            <a:pathLst>
              <a:path w="992" h="1592">
                <a:moveTo>
                  <a:pt x="0" y="0"/>
                </a:moveTo>
                <a:lnTo>
                  <a:pt x="824" y="0"/>
                </a:lnTo>
                <a:lnTo>
                  <a:pt x="824" y="1592"/>
                </a:lnTo>
                <a:lnTo>
                  <a:pt x="992" y="1592"/>
                </a:ln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4476240" y="3146040"/>
            <a:ext cx="371520" cy="533520"/>
            <a:chOff x="4476240" y="3146040"/>
            <a:chExt cx="371520" cy="533520"/>
          </a:xfrm>
        </p:grpSpPr>
        <p:sp>
          <p:nvSpPr>
            <p:cNvPr id="700" name=""/>
            <p:cNvSpPr/>
            <p:nvPr/>
          </p:nvSpPr>
          <p:spPr>
            <a:xfrm flipH="1">
              <a:off x="4476240" y="3375000"/>
              <a:ext cx="16164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647960" y="3375000"/>
              <a:ext cx="16200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4647960" y="3375000"/>
              <a:ext cx="0" cy="295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4647960" y="3146040"/>
              <a:ext cx="199800" cy="228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4485960" y="4060440"/>
            <a:ext cx="371520" cy="533520"/>
            <a:chOff x="4485960" y="4060440"/>
            <a:chExt cx="371520" cy="533520"/>
          </a:xfrm>
        </p:grpSpPr>
        <p:sp>
          <p:nvSpPr>
            <p:cNvPr id="705" name=""/>
            <p:cNvSpPr/>
            <p:nvPr/>
          </p:nvSpPr>
          <p:spPr>
            <a:xfrm flipH="1">
              <a:off x="4485960" y="4289400"/>
              <a:ext cx="16164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57680" y="4289400"/>
              <a:ext cx="16200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4657680" y="4289400"/>
              <a:ext cx="0" cy="295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4657680" y="4060440"/>
              <a:ext cx="199800" cy="228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4848120" y="2975040"/>
            <a:ext cx="1524240" cy="1114200"/>
          </a:xfrm>
          <a:custGeom>
            <a:avLst/>
            <a:gdLst/>
            <a:ahLst/>
            <a:rect l="l" t="t" r="r" b="b"/>
            <a:pathLst>
              <a:path w="960" h="726">
                <a:moveTo>
                  <a:pt x="0" y="726"/>
                </a:moveTo>
                <a:lnTo>
                  <a:pt x="0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76880" y="2633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398200" y="263376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fibre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33360" y="1311120"/>
            <a:ext cx="850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longueur donnée stable  La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potentiels d’action de fréquence 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15920" y="257796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130400" y="21589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320840" y="21589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11280" y="21589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701720" y="21589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92160" y="21589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082960" y="21589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73400" y="21589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63840" y="21589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54280" y="21589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848120" y="257652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962600" y="215748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53040" y="215748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43480" y="215748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533920" y="215748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724360" y="215748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915160" y="215748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105600" y="215748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296040" y="215748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486480" y="215748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003320" y="6261120"/>
            <a:ext cx="57150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706920" y="62071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990720" y="3276720"/>
            <a:ext cx="0" cy="314964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43880" y="3276720"/>
            <a:ext cx="0" cy="314964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63760" y="431640"/>
            <a:ext cx="2976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81440" y="206280"/>
            <a:ext cx="84592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réponse à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activité électrique des fibres sen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3360" y="1311120"/>
            <a:ext cx="850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étirement à la longueur  L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timulation des fibres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augmentation de la fréquence des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93680" y="2971800"/>
            <a:ext cx="8647920" cy="2992320"/>
            <a:chOff x="193680" y="2971800"/>
            <a:chExt cx="8647920" cy="2992320"/>
          </a:xfrm>
        </p:grpSpPr>
        <p:grpSp>
          <p:nvGrpSpPr>
            <p:cNvPr id="743" name=""/>
            <p:cNvGrpSpPr/>
            <p:nvPr/>
          </p:nvGrpSpPr>
          <p:grpSpPr>
            <a:xfrm>
              <a:off x="193680" y="4356000"/>
              <a:ext cx="8647920" cy="460440"/>
              <a:chOff x="193680" y="4356000"/>
              <a:chExt cx="8647920" cy="460440"/>
            </a:xfrm>
          </p:grpSpPr>
          <p:sp>
            <p:nvSpPr>
              <p:cNvPr id="744" name=""/>
              <p:cNvSpPr/>
              <p:nvPr/>
            </p:nvSpPr>
            <p:spPr>
              <a:xfrm>
                <a:off x="198360" y="4356000"/>
                <a:ext cx="8643240" cy="456480"/>
              </a:xfrm>
              <a:prstGeom prst="rect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051000" y="4501800"/>
                <a:ext cx="514440" cy="172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955760" y="4501800"/>
                <a:ext cx="513720" cy="172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327000" y="4366080"/>
                <a:ext cx="495000" cy="446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203600" y="4364640"/>
                <a:ext cx="495000" cy="446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012800" y="435600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117640" y="4364640"/>
                <a:ext cx="495000" cy="446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926840" y="435600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136560" y="435600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822160" y="435996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4120" y="4366080"/>
                <a:ext cx="495000" cy="446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260360" y="4364640"/>
                <a:ext cx="495000" cy="446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069920" y="435600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174400" y="4364640"/>
                <a:ext cx="495360" cy="446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984320" y="435600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93680" y="435600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879640" y="435996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584320" y="4501800"/>
                <a:ext cx="514440" cy="172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717720" y="4501800"/>
                <a:ext cx="513720" cy="172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346280" y="4501800"/>
                <a:ext cx="513720" cy="172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193680" y="5103720"/>
              <a:ext cx="8647920" cy="771480"/>
              <a:chOff x="193680" y="5103720"/>
              <a:chExt cx="8647920" cy="771480"/>
            </a:xfrm>
          </p:grpSpPr>
          <p:sp>
            <p:nvSpPr>
              <p:cNvPr id="765" name=""/>
              <p:cNvSpPr/>
              <p:nvPr/>
            </p:nvSpPr>
            <p:spPr>
              <a:xfrm>
                <a:off x="198360" y="5255640"/>
                <a:ext cx="8643240" cy="456480"/>
              </a:xfrm>
              <a:prstGeom prst="rect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574720" y="5103720"/>
                <a:ext cx="3961800" cy="771480"/>
              </a:xfrm>
              <a:prstGeom prst="ellipse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546000" y="5259600"/>
                <a:ext cx="514440" cy="172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289040" y="5421960"/>
                <a:ext cx="514440" cy="172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650480" y="5625000"/>
                <a:ext cx="514440" cy="172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327000" y="5255640"/>
                <a:ext cx="495000" cy="446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203600" y="5254200"/>
                <a:ext cx="495000" cy="446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012800" y="525564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117640" y="5254200"/>
                <a:ext cx="495000" cy="446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926840" y="525564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136560" y="524556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822160" y="525960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4120" y="5255640"/>
                <a:ext cx="495000" cy="446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260360" y="5254200"/>
                <a:ext cx="495000" cy="446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069920" y="524556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174400" y="5254200"/>
                <a:ext cx="495360" cy="446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984320" y="525564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93680" y="524556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879640" y="524952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070240" y="5290200"/>
                <a:ext cx="513720" cy="172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831480" y="5554080"/>
                <a:ext cx="514440" cy="172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327200" y="5188320"/>
                <a:ext cx="513720" cy="172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193680" y="3314880"/>
              <a:ext cx="8647920" cy="771480"/>
              <a:chOff x="193680" y="3314880"/>
              <a:chExt cx="8647920" cy="771480"/>
            </a:xfrm>
          </p:grpSpPr>
          <p:sp>
            <p:nvSpPr>
              <p:cNvPr id="788" name=""/>
              <p:cNvSpPr/>
              <p:nvPr/>
            </p:nvSpPr>
            <p:spPr>
              <a:xfrm>
                <a:off x="198360" y="3466800"/>
                <a:ext cx="8643240" cy="456480"/>
              </a:xfrm>
              <a:prstGeom prst="rect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574720" y="3314880"/>
                <a:ext cx="3961800" cy="771480"/>
              </a:xfrm>
              <a:prstGeom prst="ellipse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546000" y="3470760"/>
                <a:ext cx="514440" cy="172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289040" y="3633120"/>
                <a:ext cx="514440" cy="172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650480" y="3836160"/>
                <a:ext cx="514440" cy="172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327000" y="3466800"/>
                <a:ext cx="495000" cy="446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203600" y="3465360"/>
                <a:ext cx="495000" cy="446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012800" y="346680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117640" y="3465360"/>
                <a:ext cx="495000" cy="446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926840" y="346680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136560" y="345672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822160" y="34707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84120" y="3466800"/>
                <a:ext cx="495000" cy="446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260360" y="3465360"/>
                <a:ext cx="495000" cy="446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069920" y="345672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174400" y="3465360"/>
                <a:ext cx="495360" cy="446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984320" y="346680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93680" y="345672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879640" y="346068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70240" y="3501360"/>
                <a:ext cx="513720" cy="172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831480" y="3765240"/>
                <a:ext cx="514440" cy="172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327200" y="3399480"/>
                <a:ext cx="513720" cy="172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3693960" y="3276720"/>
              <a:ext cx="761760" cy="85068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208040" y="3276720"/>
              <a:ext cx="761760" cy="85068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274920" y="3340080"/>
              <a:ext cx="609480" cy="77472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979800" y="5079960"/>
              <a:ext cx="761760" cy="85104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550760" y="5067360"/>
              <a:ext cx="761760" cy="85068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141520" y="5118120"/>
              <a:ext cx="609480" cy="72396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150800" y="4292640"/>
              <a:ext cx="362160" cy="58428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808080" y="4292640"/>
              <a:ext cx="362160" cy="58428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465000" y="4292640"/>
              <a:ext cx="362160" cy="58428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8160" y="3352680"/>
              <a:ext cx="418680" cy="757440"/>
            </a:xfrm>
            <a:custGeom>
              <a:avLst/>
              <a:gdLst/>
              <a:ahLst/>
              <a:rect l="l" t="t" r="r" b="b"/>
              <a:pathLst>
                <a:path w="176" h="477">
                  <a:moveTo>
                    <a:pt x="176" y="416"/>
                  </a:moveTo>
                  <a:cubicBezTo>
                    <a:pt x="164" y="463"/>
                    <a:pt x="172" y="477"/>
                    <a:pt x="120" y="464"/>
                  </a:cubicBezTo>
                  <a:cubicBezTo>
                    <a:pt x="89" y="417"/>
                    <a:pt x="82" y="366"/>
                    <a:pt x="72" y="312"/>
                  </a:cubicBezTo>
                  <a:cubicBezTo>
                    <a:pt x="62" y="255"/>
                    <a:pt x="43" y="192"/>
                    <a:pt x="24" y="136"/>
                  </a:cubicBezTo>
                  <a:cubicBezTo>
                    <a:pt x="21" y="109"/>
                    <a:pt x="20" y="82"/>
                    <a:pt x="16" y="56"/>
                  </a:cubicBezTo>
                  <a:cubicBezTo>
                    <a:pt x="13" y="37"/>
                    <a:pt x="0" y="0"/>
                    <a:pt x="0" y="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08160" y="4254480"/>
              <a:ext cx="418680" cy="642960"/>
            </a:xfrm>
            <a:custGeom>
              <a:avLst/>
              <a:gdLst/>
              <a:ahLst/>
              <a:rect l="l" t="t" r="r" b="b"/>
              <a:pathLst>
                <a:path w="176" h="477">
                  <a:moveTo>
                    <a:pt x="176" y="416"/>
                  </a:moveTo>
                  <a:cubicBezTo>
                    <a:pt x="164" y="463"/>
                    <a:pt x="172" y="477"/>
                    <a:pt x="120" y="464"/>
                  </a:cubicBezTo>
                  <a:cubicBezTo>
                    <a:pt x="89" y="417"/>
                    <a:pt x="82" y="366"/>
                    <a:pt x="72" y="312"/>
                  </a:cubicBezTo>
                  <a:cubicBezTo>
                    <a:pt x="62" y="255"/>
                    <a:pt x="43" y="192"/>
                    <a:pt x="24" y="136"/>
                  </a:cubicBezTo>
                  <a:cubicBezTo>
                    <a:pt x="21" y="109"/>
                    <a:pt x="20" y="82"/>
                    <a:pt x="16" y="56"/>
                  </a:cubicBezTo>
                  <a:cubicBezTo>
                    <a:pt x="13" y="37"/>
                    <a:pt x="0" y="0"/>
                    <a:pt x="0" y="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369960" y="5143680"/>
              <a:ext cx="761760" cy="820440"/>
            </a:xfrm>
            <a:custGeom>
              <a:avLst/>
              <a:gdLst/>
              <a:ahLst/>
              <a:rect l="l" t="t" r="r" b="b"/>
              <a:pathLst>
                <a:path w="176" h="477">
                  <a:moveTo>
                    <a:pt x="176" y="416"/>
                  </a:moveTo>
                  <a:cubicBezTo>
                    <a:pt x="164" y="463"/>
                    <a:pt x="172" y="477"/>
                    <a:pt x="120" y="464"/>
                  </a:cubicBezTo>
                  <a:cubicBezTo>
                    <a:pt x="89" y="417"/>
                    <a:pt x="82" y="366"/>
                    <a:pt x="72" y="312"/>
                  </a:cubicBezTo>
                  <a:cubicBezTo>
                    <a:pt x="62" y="255"/>
                    <a:pt x="43" y="192"/>
                    <a:pt x="24" y="136"/>
                  </a:cubicBezTo>
                  <a:cubicBezTo>
                    <a:pt x="21" y="109"/>
                    <a:pt x="20" y="82"/>
                    <a:pt x="16" y="56"/>
                  </a:cubicBezTo>
                  <a:cubicBezTo>
                    <a:pt x="13" y="37"/>
                    <a:pt x="0" y="0"/>
                    <a:pt x="0" y="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46160" y="2971800"/>
              <a:ext cx="2361960" cy="2184480"/>
            </a:xfrm>
            <a:custGeom>
              <a:avLst/>
              <a:gdLst/>
              <a:ahLst/>
              <a:rect l="l" t="t" r="r" b="b"/>
              <a:pathLst>
                <a:path w="992" h="1592">
                  <a:moveTo>
                    <a:pt x="0" y="0"/>
                  </a:moveTo>
                  <a:lnTo>
                    <a:pt x="824" y="0"/>
                  </a:lnTo>
                  <a:lnTo>
                    <a:pt x="824" y="1592"/>
                  </a:lnTo>
                  <a:lnTo>
                    <a:pt x="992" y="1592"/>
                  </a:ln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5417280" y="3146040"/>
              <a:ext cx="556920" cy="533520"/>
              <a:chOff x="5417280" y="3146040"/>
              <a:chExt cx="556920" cy="533520"/>
            </a:xfrm>
          </p:grpSpPr>
          <p:sp>
            <p:nvSpPr>
              <p:cNvPr id="824" name=""/>
              <p:cNvSpPr/>
              <p:nvPr/>
            </p:nvSpPr>
            <p:spPr>
              <a:xfrm flipH="1">
                <a:off x="5417280" y="3375000"/>
                <a:ext cx="242280" cy="3045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674680" y="3375000"/>
                <a:ext cx="243000" cy="3045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5674680" y="3375000"/>
                <a:ext cx="0" cy="2952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5674680" y="3146040"/>
                <a:ext cx="299520" cy="228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431680" y="4060440"/>
              <a:ext cx="556920" cy="533520"/>
              <a:chOff x="5431680" y="4060440"/>
              <a:chExt cx="556920" cy="533520"/>
            </a:xfrm>
          </p:grpSpPr>
          <p:sp>
            <p:nvSpPr>
              <p:cNvPr id="829" name=""/>
              <p:cNvSpPr/>
              <p:nvPr/>
            </p:nvSpPr>
            <p:spPr>
              <a:xfrm flipH="1">
                <a:off x="5431680" y="4289400"/>
                <a:ext cx="242280" cy="3045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689080" y="4289400"/>
                <a:ext cx="243000" cy="3045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689080" y="4289400"/>
                <a:ext cx="0" cy="2952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5689080" y="4060440"/>
                <a:ext cx="299520" cy="228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>
              <a:off x="5974920" y="2975040"/>
              <a:ext cx="2286000" cy="1114200"/>
            </a:xfrm>
            <a:custGeom>
              <a:avLst/>
              <a:gdLst/>
              <a:ahLst/>
              <a:rect l="l" t="t" r="r" b="b"/>
              <a:pathLst>
                <a:path w="960" h="726">
                  <a:moveTo>
                    <a:pt x="0" y="726"/>
                  </a:moveTo>
                  <a:lnTo>
                    <a:pt x="0" y="0"/>
                  </a:lnTo>
                  <a:lnTo>
                    <a:pt x="96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1015920" y="257796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1054080" y="2158920"/>
            <a:ext cx="1065240" cy="419040"/>
            <a:chOff x="1054080" y="2158920"/>
            <a:chExt cx="1065240" cy="419040"/>
          </a:xfrm>
        </p:grpSpPr>
        <p:sp>
          <p:nvSpPr>
            <p:cNvPr id="836" name=""/>
            <p:cNvSpPr/>
            <p:nvPr/>
          </p:nvSpPr>
          <p:spPr>
            <a:xfrm>
              <a:off x="1054080" y="21589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186920" y="21589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320120" y="21589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453320" y="21589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586520" y="21589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719720" y="21589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52920" y="21589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986120" y="21589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19320" y="21589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4848120" y="257652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117880" y="2157480"/>
            <a:ext cx="533160" cy="419040"/>
            <a:chOff x="2117880" y="2157480"/>
            <a:chExt cx="533160" cy="419040"/>
          </a:xfrm>
        </p:grpSpPr>
        <p:sp>
          <p:nvSpPr>
            <p:cNvPr id="847" name=""/>
            <p:cNvSpPr/>
            <p:nvPr/>
          </p:nvSpPr>
          <p:spPr>
            <a:xfrm>
              <a:off x="2117880" y="2157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251080" y="2157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384280" y="2157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517480" y="2157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651040" y="2157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5398200" y="263376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fibre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676880" y="2633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4915080" y="2146320"/>
            <a:ext cx="1064880" cy="419040"/>
            <a:chOff x="4915080" y="2146320"/>
            <a:chExt cx="1064880" cy="419040"/>
          </a:xfrm>
        </p:grpSpPr>
        <p:sp>
          <p:nvSpPr>
            <p:cNvPr id="855" name=""/>
            <p:cNvSpPr/>
            <p:nvPr/>
          </p:nvSpPr>
          <p:spPr>
            <a:xfrm>
              <a:off x="4915080" y="21463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047920" y="21463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181120" y="21463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314320" y="21463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447160" y="21463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580720" y="21463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713560" y="21463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846760" y="21463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79960" y="21463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5978520" y="2144880"/>
            <a:ext cx="533520" cy="419040"/>
            <a:chOff x="5978520" y="2144880"/>
            <a:chExt cx="533520" cy="419040"/>
          </a:xfrm>
        </p:grpSpPr>
        <p:sp>
          <p:nvSpPr>
            <p:cNvPr id="865" name=""/>
            <p:cNvSpPr/>
            <p:nvPr/>
          </p:nvSpPr>
          <p:spPr>
            <a:xfrm>
              <a:off x="5978520" y="21448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111720" y="21448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245280" y="21448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378480" y="21448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512040" y="21448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190440" y="3276720"/>
            <a:ext cx="0" cy="314964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826480" y="3289320"/>
            <a:ext cx="0" cy="314964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90440" y="6261120"/>
            <a:ext cx="86108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707280" y="620712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63760" y="431640"/>
            <a:ext cx="2976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81440" y="206280"/>
            <a:ext cx="84592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réponse à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différence entre fibres Ia et fibres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549440" y="4835520"/>
            <a:ext cx="700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04240" y="537696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fibre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35480" y="4433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156760" y="4883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549440" y="2298600"/>
            <a:ext cx="6956280" cy="1828800"/>
          </a:xfrm>
          <a:custGeom>
            <a:avLst/>
            <a:gdLst/>
            <a:ahLst/>
            <a:rect l="l" t="t" r="r" b="b"/>
            <a:pathLst>
              <a:path w="2840" h="520">
                <a:moveTo>
                  <a:pt x="0" y="0"/>
                </a:moveTo>
                <a:lnTo>
                  <a:pt x="0" y="520"/>
                </a:lnTo>
                <a:lnTo>
                  <a:pt x="2840" y="52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38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828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019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096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4004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59092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781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971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162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549440" y="5769000"/>
            <a:ext cx="700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156760" y="5816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1638360" y="5353200"/>
            <a:ext cx="1523880" cy="419040"/>
            <a:chOff x="1638360" y="5353200"/>
            <a:chExt cx="1523880" cy="419040"/>
          </a:xfrm>
        </p:grpSpPr>
        <p:sp>
          <p:nvSpPr>
            <p:cNvPr id="895" name=""/>
            <p:cNvSpPr/>
            <p:nvPr/>
          </p:nvSpPr>
          <p:spPr>
            <a:xfrm>
              <a:off x="16383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82880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19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20968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40048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5909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7813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97180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162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1552680" y="381492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7160" y="28288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ongu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5040" y="206280"/>
            <a:ext cx="79405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52760" y="431640"/>
            <a:ext cx="499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8040" y="1328760"/>
            <a:ext cx="805644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le réflexe rotul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caractéristique du réflexe myot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le faisceau neuromus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mécanisme du réflexe myot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innervation croisée : modulation coordonnée de muscles oppos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263760" y="431640"/>
            <a:ext cx="2976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81440" y="206280"/>
            <a:ext cx="84592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réponse à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différence entre fibres Ia et fibres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549440" y="4835520"/>
            <a:ext cx="700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04240" y="537696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fibre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35480" y="4433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156760" y="4883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549440" y="2298600"/>
            <a:ext cx="6956280" cy="1828800"/>
          </a:xfrm>
          <a:custGeom>
            <a:avLst/>
            <a:gdLst/>
            <a:ahLst/>
            <a:rect l="l" t="t" r="r" b="b"/>
            <a:pathLst>
              <a:path w="2840" h="520">
                <a:moveTo>
                  <a:pt x="0" y="0"/>
                </a:moveTo>
                <a:lnTo>
                  <a:pt x="0" y="520"/>
                </a:lnTo>
                <a:lnTo>
                  <a:pt x="2840" y="52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638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828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019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2096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4004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9092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781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971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162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3289320" y="4416480"/>
            <a:ext cx="1090440" cy="419040"/>
            <a:chOff x="3289320" y="4416480"/>
            <a:chExt cx="1090440" cy="419040"/>
          </a:xfrm>
        </p:grpSpPr>
        <p:grpSp>
          <p:nvGrpSpPr>
            <p:cNvPr id="925" name=""/>
            <p:cNvGrpSpPr/>
            <p:nvPr/>
          </p:nvGrpSpPr>
          <p:grpSpPr>
            <a:xfrm>
              <a:off x="3289320" y="4416480"/>
              <a:ext cx="550800" cy="419040"/>
              <a:chOff x="3289320" y="4416480"/>
              <a:chExt cx="550800" cy="419040"/>
            </a:xfrm>
          </p:grpSpPr>
          <p:sp>
            <p:nvSpPr>
              <p:cNvPr id="926" name=""/>
              <p:cNvSpPr/>
              <p:nvPr/>
            </p:nvSpPr>
            <p:spPr>
              <a:xfrm>
                <a:off x="32893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35808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42684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49560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5647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3348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70260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77136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401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>
              <a:off x="38973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9672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0356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10544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17348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24188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1172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797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1549440" y="5769000"/>
            <a:ext cx="700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156760" y="5816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1638360" y="5353200"/>
            <a:ext cx="1523880" cy="419040"/>
            <a:chOff x="1638360" y="5353200"/>
            <a:chExt cx="1523880" cy="419040"/>
          </a:xfrm>
        </p:grpSpPr>
        <p:sp>
          <p:nvSpPr>
            <p:cNvPr id="946" name=""/>
            <p:cNvSpPr/>
            <p:nvPr/>
          </p:nvSpPr>
          <p:spPr>
            <a:xfrm>
              <a:off x="16383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82880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9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20968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0048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5909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7813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97180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162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>
            <a:off x="1552680" y="381492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3209760" y="2514240"/>
            <a:ext cx="11811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3343320" y="5353200"/>
            <a:ext cx="961920" cy="419040"/>
            <a:chOff x="3343320" y="5353200"/>
            <a:chExt cx="961920" cy="419040"/>
          </a:xfrm>
        </p:grpSpPr>
        <p:sp>
          <p:nvSpPr>
            <p:cNvPr id="958" name=""/>
            <p:cNvSpPr/>
            <p:nvPr/>
          </p:nvSpPr>
          <p:spPr>
            <a:xfrm>
              <a:off x="33433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5053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666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828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990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152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305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" name=""/>
          <p:cNvSpPr/>
          <p:nvPr/>
        </p:nvSpPr>
        <p:spPr>
          <a:xfrm>
            <a:off x="317160" y="28288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ongu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263760" y="431640"/>
            <a:ext cx="2976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81440" y="206280"/>
            <a:ext cx="84592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réponse à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différence entre fibres Ia et fibres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549440" y="4835520"/>
            <a:ext cx="700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4527720" y="4416480"/>
            <a:ext cx="1064880" cy="419040"/>
            <a:chOff x="4527720" y="4416480"/>
            <a:chExt cx="1064880" cy="419040"/>
          </a:xfrm>
        </p:grpSpPr>
        <p:sp>
          <p:nvSpPr>
            <p:cNvPr id="972" name=""/>
            <p:cNvSpPr/>
            <p:nvPr/>
          </p:nvSpPr>
          <p:spPr>
            <a:xfrm>
              <a:off x="452772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6605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7937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9269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0598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1933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3262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594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5926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804240" y="537696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fibre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5480" y="4433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156760" y="4883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549440" y="2298600"/>
            <a:ext cx="6956280" cy="1828800"/>
          </a:xfrm>
          <a:custGeom>
            <a:avLst/>
            <a:gdLst/>
            <a:ahLst/>
            <a:rect l="l" t="t" r="r" b="b"/>
            <a:pathLst>
              <a:path w="2840" h="520">
                <a:moveTo>
                  <a:pt x="0" y="0"/>
                </a:moveTo>
                <a:lnTo>
                  <a:pt x="0" y="520"/>
                </a:lnTo>
                <a:lnTo>
                  <a:pt x="2840" y="52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638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828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019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2096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4004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59092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781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971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62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549440" y="5769000"/>
            <a:ext cx="700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4441680" y="5349960"/>
            <a:ext cx="1065240" cy="419040"/>
            <a:chOff x="4441680" y="5349960"/>
            <a:chExt cx="1065240" cy="419040"/>
          </a:xfrm>
        </p:grpSpPr>
        <p:sp>
          <p:nvSpPr>
            <p:cNvPr id="996" name=""/>
            <p:cNvSpPr/>
            <p:nvPr/>
          </p:nvSpPr>
          <p:spPr>
            <a:xfrm>
              <a:off x="444168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5745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7077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409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9741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1073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2405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3737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5069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2156760" y="5816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1638360" y="5353200"/>
            <a:ext cx="1523880" cy="419040"/>
            <a:chOff x="1638360" y="5353200"/>
            <a:chExt cx="1523880" cy="419040"/>
          </a:xfrm>
        </p:grpSpPr>
        <p:sp>
          <p:nvSpPr>
            <p:cNvPr id="1007" name=""/>
            <p:cNvSpPr/>
            <p:nvPr/>
          </p:nvSpPr>
          <p:spPr>
            <a:xfrm>
              <a:off x="16383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82880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019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20968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40048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5909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7813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7180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162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1552680" y="381492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400640" y="2519280"/>
            <a:ext cx="11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209760" y="2514240"/>
            <a:ext cx="11811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3343320" y="5353200"/>
            <a:ext cx="961920" cy="419040"/>
            <a:chOff x="3343320" y="5353200"/>
            <a:chExt cx="961920" cy="419040"/>
          </a:xfrm>
        </p:grpSpPr>
        <p:sp>
          <p:nvSpPr>
            <p:cNvPr id="1020" name=""/>
            <p:cNvSpPr/>
            <p:nvPr/>
          </p:nvSpPr>
          <p:spPr>
            <a:xfrm>
              <a:off x="33433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5053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666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828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990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152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305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317160" y="28288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ongu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635800" y="5346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3289320" y="4416480"/>
            <a:ext cx="1090440" cy="419040"/>
            <a:chOff x="3289320" y="4416480"/>
            <a:chExt cx="1090440" cy="419040"/>
          </a:xfrm>
        </p:grpSpPr>
        <p:grpSp>
          <p:nvGrpSpPr>
            <p:cNvPr id="1030" name=""/>
            <p:cNvGrpSpPr/>
            <p:nvPr/>
          </p:nvGrpSpPr>
          <p:grpSpPr>
            <a:xfrm>
              <a:off x="3289320" y="4416480"/>
              <a:ext cx="550800" cy="419040"/>
              <a:chOff x="3289320" y="4416480"/>
              <a:chExt cx="550800" cy="419040"/>
            </a:xfrm>
          </p:grpSpPr>
          <p:sp>
            <p:nvSpPr>
              <p:cNvPr id="1031" name=""/>
              <p:cNvSpPr/>
              <p:nvPr/>
            </p:nvSpPr>
            <p:spPr>
              <a:xfrm>
                <a:off x="32893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35808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42684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49560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5647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63348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70260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77136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8401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0" name=""/>
            <p:cNvSpPr/>
            <p:nvPr/>
          </p:nvSpPr>
          <p:spPr>
            <a:xfrm>
              <a:off x="38973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9672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0356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10544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17348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24188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31172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3797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263760" y="431640"/>
            <a:ext cx="2976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81440" y="206280"/>
            <a:ext cx="84592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réponse à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différence entre fibres Ia et fibres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549440" y="4835520"/>
            <a:ext cx="700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4527720" y="4416480"/>
            <a:ext cx="1064880" cy="419040"/>
            <a:chOff x="4527720" y="4416480"/>
            <a:chExt cx="1064880" cy="419040"/>
          </a:xfrm>
        </p:grpSpPr>
        <p:sp>
          <p:nvSpPr>
            <p:cNvPr id="1054" name=""/>
            <p:cNvSpPr/>
            <p:nvPr/>
          </p:nvSpPr>
          <p:spPr>
            <a:xfrm>
              <a:off x="452772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6605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7937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9269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0598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1933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3262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4594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5926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804240" y="537696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fibre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35480" y="4433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156760" y="4883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549440" y="2298600"/>
            <a:ext cx="6956280" cy="1828800"/>
          </a:xfrm>
          <a:custGeom>
            <a:avLst/>
            <a:gdLst/>
            <a:ahLst/>
            <a:rect l="l" t="t" r="r" b="b"/>
            <a:pathLst>
              <a:path w="2840" h="520">
                <a:moveTo>
                  <a:pt x="0" y="0"/>
                </a:moveTo>
                <a:lnTo>
                  <a:pt x="0" y="520"/>
                </a:lnTo>
                <a:lnTo>
                  <a:pt x="2840" y="52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38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828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19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2096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4004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59092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781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971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162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549440" y="5769000"/>
            <a:ext cx="700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4441680" y="5349960"/>
            <a:ext cx="1065240" cy="419040"/>
            <a:chOff x="4441680" y="5349960"/>
            <a:chExt cx="1065240" cy="419040"/>
          </a:xfrm>
        </p:grpSpPr>
        <p:sp>
          <p:nvSpPr>
            <p:cNvPr id="1078" name=""/>
            <p:cNvSpPr/>
            <p:nvPr/>
          </p:nvSpPr>
          <p:spPr>
            <a:xfrm>
              <a:off x="444168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5745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7077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8409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9741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1073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2405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3737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5069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2156760" y="5816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1638360" y="5353200"/>
            <a:ext cx="1523880" cy="419040"/>
            <a:chOff x="1638360" y="5353200"/>
            <a:chExt cx="1523880" cy="419040"/>
          </a:xfrm>
        </p:grpSpPr>
        <p:sp>
          <p:nvSpPr>
            <p:cNvPr id="1089" name=""/>
            <p:cNvSpPr/>
            <p:nvPr/>
          </p:nvSpPr>
          <p:spPr>
            <a:xfrm>
              <a:off x="16383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82880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019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20968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40048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5909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7813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97180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162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" name=""/>
          <p:cNvSpPr/>
          <p:nvPr/>
        </p:nvSpPr>
        <p:spPr>
          <a:xfrm>
            <a:off x="675324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552680" y="381492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400640" y="2519280"/>
            <a:ext cx="11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3209760" y="2514240"/>
            <a:ext cx="11811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 flipV="1">
            <a:off x="5571720" y="2514240"/>
            <a:ext cx="11811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3343320" y="5353200"/>
            <a:ext cx="961920" cy="419040"/>
            <a:chOff x="3343320" y="5353200"/>
            <a:chExt cx="961920" cy="419040"/>
          </a:xfrm>
        </p:grpSpPr>
        <p:sp>
          <p:nvSpPr>
            <p:cNvPr id="1104" name=""/>
            <p:cNvSpPr/>
            <p:nvPr/>
          </p:nvSpPr>
          <p:spPr>
            <a:xfrm>
              <a:off x="33433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5053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66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828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990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152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05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5638680" y="5343480"/>
            <a:ext cx="961920" cy="419040"/>
            <a:chOff x="5638680" y="5343480"/>
            <a:chExt cx="961920" cy="419040"/>
          </a:xfrm>
        </p:grpSpPr>
        <p:sp>
          <p:nvSpPr>
            <p:cNvPr id="1112" name=""/>
            <p:cNvSpPr/>
            <p:nvPr/>
          </p:nvSpPr>
          <p:spPr>
            <a:xfrm>
              <a:off x="660060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43860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27696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11496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5296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79096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63868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317160" y="28288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ongu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3289320" y="4416480"/>
            <a:ext cx="1090440" cy="419040"/>
            <a:chOff x="3289320" y="4416480"/>
            <a:chExt cx="1090440" cy="419040"/>
          </a:xfrm>
        </p:grpSpPr>
        <p:grpSp>
          <p:nvGrpSpPr>
            <p:cNvPr id="1121" name=""/>
            <p:cNvGrpSpPr/>
            <p:nvPr/>
          </p:nvGrpSpPr>
          <p:grpSpPr>
            <a:xfrm>
              <a:off x="3289320" y="4416480"/>
              <a:ext cx="550800" cy="419040"/>
              <a:chOff x="3289320" y="4416480"/>
              <a:chExt cx="550800" cy="419040"/>
            </a:xfrm>
          </p:grpSpPr>
          <p:sp>
            <p:nvSpPr>
              <p:cNvPr id="1122" name=""/>
              <p:cNvSpPr/>
              <p:nvPr/>
            </p:nvSpPr>
            <p:spPr>
              <a:xfrm>
                <a:off x="32893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35808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42684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49560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5647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63348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70260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77136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8401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1" name=""/>
            <p:cNvSpPr/>
            <p:nvPr/>
          </p:nvSpPr>
          <p:spPr>
            <a:xfrm>
              <a:off x="38973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9672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0356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10544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7348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24188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31172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3797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263760" y="431640"/>
            <a:ext cx="2976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81440" y="206280"/>
            <a:ext cx="84592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réponse à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différence entre fibres Ia et fibres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549440" y="4835520"/>
            <a:ext cx="700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4527720" y="4416480"/>
            <a:ext cx="1064880" cy="419040"/>
            <a:chOff x="4527720" y="4416480"/>
            <a:chExt cx="1064880" cy="419040"/>
          </a:xfrm>
        </p:grpSpPr>
        <p:sp>
          <p:nvSpPr>
            <p:cNvPr id="1145" name=""/>
            <p:cNvSpPr/>
            <p:nvPr/>
          </p:nvSpPr>
          <p:spPr>
            <a:xfrm>
              <a:off x="452772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605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7937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9269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0598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1933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3262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594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5926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804240" y="537696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fibre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35480" y="4433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156760" y="4883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549440" y="2298600"/>
            <a:ext cx="6956280" cy="1828800"/>
          </a:xfrm>
          <a:custGeom>
            <a:avLst/>
            <a:gdLst/>
            <a:ahLst/>
            <a:rect l="l" t="t" r="r" b="b"/>
            <a:pathLst>
              <a:path w="2840" h="520">
                <a:moveTo>
                  <a:pt x="0" y="0"/>
                </a:moveTo>
                <a:lnTo>
                  <a:pt x="0" y="520"/>
                </a:lnTo>
                <a:lnTo>
                  <a:pt x="2840" y="52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638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828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019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2096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4004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781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971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162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753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9436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13412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3245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515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705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896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80866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549440" y="5769000"/>
            <a:ext cx="700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4441680" y="5349960"/>
            <a:ext cx="1065240" cy="419040"/>
            <a:chOff x="4441680" y="5349960"/>
            <a:chExt cx="1065240" cy="419040"/>
          </a:xfrm>
        </p:grpSpPr>
        <p:sp>
          <p:nvSpPr>
            <p:cNvPr id="1177" name=""/>
            <p:cNvSpPr/>
            <p:nvPr/>
          </p:nvSpPr>
          <p:spPr>
            <a:xfrm>
              <a:off x="444168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5745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7077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8409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9741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1073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405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3737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5069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6" name=""/>
          <p:cNvSpPr/>
          <p:nvPr/>
        </p:nvSpPr>
        <p:spPr>
          <a:xfrm>
            <a:off x="2156760" y="5816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1638360" y="5353200"/>
            <a:ext cx="1523880" cy="419040"/>
            <a:chOff x="1638360" y="5353200"/>
            <a:chExt cx="1523880" cy="419040"/>
          </a:xfrm>
        </p:grpSpPr>
        <p:sp>
          <p:nvSpPr>
            <p:cNvPr id="1188" name=""/>
            <p:cNvSpPr/>
            <p:nvPr/>
          </p:nvSpPr>
          <p:spPr>
            <a:xfrm>
              <a:off x="16383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82880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019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20968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40048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5909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7813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97180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162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7" name=""/>
          <p:cNvSpPr/>
          <p:nvPr/>
        </p:nvSpPr>
        <p:spPr>
          <a:xfrm>
            <a:off x="675324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94368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13412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32456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51536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70580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89624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08668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552680" y="381492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762600" y="3814920"/>
            <a:ext cx="134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00640" y="2519280"/>
            <a:ext cx="11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3209760" y="2514240"/>
            <a:ext cx="11811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 flipV="1">
            <a:off x="5571720" y="2514240"/>
            <a:ext cx="11811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3343320" y="5353200"/>
            <a:ext cx="961920" cy="419040"/>
            <a:chOff x="3343320" y="5353200"/>
            <a:chExt cx="961920" cy="419040"/>
          </a:xfrm>
        </p:grpSpPr>
        <p:sp>
          <p:nvSpPr>
            <p:cNvPr id="1211" name=""/>
            <p:cNvSpPr/>
            <p:nvPr/>
          </p:nvSpPr>
          <p:spPr>
            <a:xfrm>
              <a:off x="33433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5053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666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828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990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152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305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638680" y="5343480"/>
            <a:ext cx="961920" cy="419040"/>
            <a:chOff x="5638680" y="5343480"/>
            <a:chExt cx="961920" cy="419040"/>
          </a:xfrm>
        </p:grpSpPr>
        <p:sp>
          <p:nvSpPr>
            <p:cNvPr id="1219" name=""/>
            <p:cNvSpPr/>
            <p:nvPr/>
          </p:nvSpPr>
          <p:spPr>
            <a:xfrm>
              <a:off x="660060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43860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27696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11496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95296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096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63868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317160" y="28288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ongu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3289320" y="4416480"/>
            <a:ext cx="1090440" cy="419040"/>
            <a:chOff x="3289320" y="4416480"/>
            <a:chExt cx="1090440" cy="419040"/>
          </a:xfrm>
        </p:grpSpPr>
        <p:grpSp>
          <p:nvGrpSpPr>
            <p:cNvPr id="1228" name=""/>
            <p:cNvGrpSpPr/>
            <p:nvPr/>
          </p:nvGrpSpPr>
          <p:grpSpPr>
            <a:xfrm>
              <a:off x="3289320" y="4416480"/>
              <a:ext cx="550800" cy="419040"/>
              <a:chOff x="3289320" y="4416480"/>
              <a:chExt cx="550800" cy="419040"/>
            </a:xfrm>
          </p:grpSpPr>
          <p:sp>
            <p:nvSpPr>
              <p:cNvPr id="1229" name=""/>
              <p:cNvSpPr/>
              <p:nvPr/>
            </p:nvSpPr>
            <p:spPr>
              <a:xfrm>
                <a:off x="32893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35808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42684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49560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5647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63348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70260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77136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8401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8" name=""/>
            <p:cNvSpPr/>
            <p:nvPr/>
          </p:nvSpPr>
          <p:spPr>
            <a:xfrm>
              <a:off x="38973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9672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0356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10544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17348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24188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1172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797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263760" y="431640"/>
            <a:ext cx="2976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81440" y="206280"/>
            <a:ext cx="84592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réponse à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différence entre fibres Ia et fibres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33360" y="1311120"/>
            <a:ext cx="850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ibres II : sensibles à l’amplitude de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ibres Ia : sensibles à l’amplitude et à la vitesse de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549440" y="4835520"/>
            <a:ext cx="700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4527720" y="4416480"/>
            <a:ext cx="1064880" cy="419040"/>
            <a:chOff x="4527720" y="4416480"/>
            <a:chExt cx="1064880" cy="419040"/>
          </a:xfrm>
        </p:grpSpPr>
        <p:sp>
          <p:nvSpPr>
            <p:cNvPr id="1253" name=""/>
            <p:cNvSpPr/>
            <p:nvPr/>
          </p:nvSpPr>
          <p:spPr>
            <a:xfrm>
              <a:off x="452772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605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7937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9269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0598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1933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3262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4594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5926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804240" y="537696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fibre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35480" y="4433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156760" y="4883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549440" y="2298600"/>
            <a:ext cx="6956280" cy="1828800"/>
          </a:xfrm>
          <a:custGeom>
            <a:avLst/>
            <a:gdLst/>
            <a:ahLst/>
            <a:rect l="l" t="t" r="r" b="b"/>
            <a:pathLst>
              <a:path w="2840" h="520">
                <a:moveTo>
                  <a:pt x="0" y="0"/>
                </a:moveTo>
                <a:lnTo>
                  <a:pt x="0" y="520"/>
                </a:lnTo>
                <a:lnTo>
                  <a:pt x="2840" y="52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638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828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019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2096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4004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59092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781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971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162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753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9436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13412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3245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515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705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896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80866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549440" y="5769000"/>
            <a:ext cx="700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4441680" y="5349960"/>
            <a:ext cx="1065240" cy="419040"/>
            <a:chOff x="4441680" y="5349960"/>
            <a:chExt cx="1065240" cy="419040"/>
          </a:xfrm>
        </p:grpSpPr>
        <p:sp>
          <p:nvSpPr>
            <p:cNvPr id="1285" name=""/>
            <p:cNvSpPr/>
            <p:nvPr/>
          </p:nvSpPr>
          <p:spPr>
            <a:xfrm>
              <a:off x="444168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5745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7077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8409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741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1073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2405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3737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5069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2156760" y="5816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1638360" y="5353200"/>
            <a:ext cx="1523880" cy="419040"/>
            <a:chOff x="1638360" y="5353200"/>
            <a:chExt cx="1523880" cy="419040"/>
          </a:xfrm>
        </p:grpSpPr>
        <p:sp>
          <p:nvSpPr>
            <p:cNvPr id="1296" name=""/>
            <p:cNvSpPr/>
            <p:nvPr/>
          </p:nvSpPr>
          <p:spPr>
            <a:xfrm>
              <a:off x="16383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82880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019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20968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40048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5909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7813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97180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162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675324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94368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13412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32456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51536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70580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89624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808668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552680" y="381492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762600" y="3814920"/>
            <a:ext cx="134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400640" y="2519280"/>
            <a:ext cx="11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3209760" y="2514240"/>
            <a:ext cx="11811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 flipV="1">
            <a:off x="5571720" y="2514240"/>
            <a:ext cx="11811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8" name=""/>
          <p:cNvGrpSpPr/>
          <p:nvPr/>
        </p:nvGrpSpPr>
        <p:grpSpPr>
          <a:xfrm>
            <a:off x="3343320" y="5353200"/>
            <a:ext cx="961920" cy="419040"/>
            <a:chOff x="3343320" y="5353200"/>
            <a:chExt cx="961920" cy="419040"/>
          </a:xfrm>
        </p:grpSpPr>
        <p:sp>
          <p:nvSpPr>
            <p:cNvPr id="1319" name=""/>
            <p:cNvSpPr/>
            <p:nvPr/>
          </p:nvSpPr>
          <p:spPr>
            <a:xfrm>
              <a:off x="33433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5053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666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828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990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152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05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5638680" y="5343480"/>
            <a:ext cx="961920" cy="419040"/>
            <a:chOff x="5638680" y="5343480"/>
            <a:chExt cx="961920" cy="419040"/>
          </a:xfrm>
        </p:grpSpPr>
        <p:sp>
          <p:nvSpPr>
            <p:cNvPr id="1327" name=""/>
            <p:cNvSpPr/>
            <p:nvPr/>
          </p:nvSpPr>
          <p:spPr>
            <a:xfrm>
              <a:off x="660060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43860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27696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11496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95296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79096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63868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4" name=""/>
          <p:cNvSpPr/>
          <p:nvPr/>
        </p:nvSpPr>
        <p:spPr>
          <a:xfrm>
            <a:off x="317160" y="28288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ongu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3289320" y="4416480"/>
            <a:ext cx="1090440" cy="419040"/>
            <a:chOff x="3289320" y="4416480"/>
            <a:chExt cx="1090440" cy="419040"/>
          </a:xfrm>
        </p:grpSpPr>
        <p:grpSp>
          <p:nvGrpSpPr>
            <p:cNvPr id="1336" name=""/>
            <p:cNvGrpSpPr/>
            <p:nvPr/>
          </p:nvGrpSpPr>
          <p:grpSpPr>
            <a:xfrm>
              <a:off x="3289320" y="4416480"/>
              <a:ext cx="550800" cy="419040"/>
              <a:chOff x="3289320" y="4416480"/>
              <a:chExt cx="550800" cy="419040"/>
            </a:xfrm>
          </p:grpSpPr>
          <p:sp>
            <p:nvSpPr>
              <p:cNvPr id="1337" name=""/>
              <p:cNvSpPr/>
              <p:nvPr/>
            </p:nvSpPr>
            <p:spPr>
              <a:xfrm>
                <a:off x="32893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35808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342684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349560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35647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63348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370260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377136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38401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6" name=""/>
            <p:cNvSpPr/>
            <p:nvPr/>
          </p:nvSpPr>
          <p:spPr>
            <a:xfrm>
              <a:off x="38973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9672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0356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10544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7348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24188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31172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3797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81800" y="206280"/>
            <a:ext cx="82792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nervation du mus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857160" y="1886040"/>
            <a:ext cx="2166480" cy="1612440"/>
            <a:chOff x="857160" y="1886040"/>
            <a:chExt cx="2166480" cy="1612440"/>
          </a:xfrm>
        </p:grpSpPr>
        <p:grpSp>
          <p:nvGrpSpPr>
            <p:cNvPr id="1357" name=""/>
            <p:cNvGrpSpPr/>
            <p:nvPr/>
          </p:nvGrpSpPr>
          <p:grpSpPr>
            <a:xfrm>
              <a:off x="1935720" y="1886040"/>
              <a:ext cx="1087920" cy="1612080"/>
              <a:chOff x="1935720" y="1886040"/>
              <a:chExt cx="1087920" cy="1612080"/>
            </a:xfrm>
          </p:grpSpPr>
          <p:sp>
            <p:nvSpPr>
              <p:cNvPr id="1358" name=""/>
              <p:cNvSpPr/>
              <p:nvPr/>
            </p:nvSpPr>
            <p:spPr>
              <a:xfrm>
                <a:off x="1935720" y="1886040"/>
                <a:ext cx="1087920" cy="1612080"/>
              </a:xfrm>
              <a:custGeom>
                <a:avLst/>
                <a:gdLst/>
                <a:ahLst/>
                <a:rect l="l" t="t" r="r" b="b"/>
                <a:pathLst>
                  <a:path w="529" h="744">
                    <a:moveTo>
                      <a:pt x="4" y="130"/>
                    </a:moveTo>
                    <a:cubicBezTo>
                      <a:pt x="13" y="116"/>
                      <a:pt x="27" y="69"/>
                      <a:pt x="49" y="50"/>
                    </a:cubicBezTo>
                    <a:cubicBezTo>
                      <a:pt x="70" y="31"/>
                      <a:pt x="90" y="20"/>
                      <a:pt x="132" y="17"/>
                    </a:cubicBezTo>
                    <a:cubicBezTo>
                      <a:pt x="173" y="13"/>
                      <a:pt x="245" y="0"/>
                      <a:pt x="298" y="30"/>
                    </a:cubicBezTo>
                    <a:cubicBezTo>
                      <a:pt x="352" y="60"/>
                      <a:pt x="419" y="145"/>
                      <a:pt x="451" y="196"/>
                    </a:cubicBezTo>
                    <a:cubicBezTo>
                      <a:pt x="484" y="247"/>
                      <a:pt x="483" y="281"/>
                      <a:pt x="496" y="335"/>
                    </a:cubicBezTo>
                    <a:cubicBezTo>
                      <a:pt x="509" y="389"/>
                      <a:pt x="529" y="464"/>
                      <a:pt x="528" y="521"/>
                    </a:cubicBezTo>
                    <a:cubicBezTo>
                      <a:pt x="527" y="579"/>
                      <a:pt x="510" y="645"/>
                      <a:pt x="490" y="681"/>
                    </a:cubicBezTo>
                    <a:cubicBezTo>
                      <a:pt x="470" y="717"/>
                      <a:pt x="442" y="724"/>
                      <a:pt x="407" y="734"/>
                    </a:cubicBezTo>
                    <a:cubicBezTo>
                      <a:pt x="372" y="744"/>
                      <a:pt x="326" y="742"/>
                      <a:pt x="279" y="741"/>
                    </a:cubicBezTo>
                    <a:cubicBezTo>
                      <a:pt x="232" y="740"/>
                      <a:pt x="164" y="741"/>
                      <a:pt x="125" y="727"/>
                    </a:cubicBezTo>
                    <a:cubicBezTo>
                      <a:pt x="87" y="714"/>
                      <a:pt x="66" y="688"/>
                      <a:pt x="49" y="661"/>
                    </a:cubicBezTo>
                    <a:cubicBezTo>
                      <a:pt x="32" y="634"/>
                      <a:pt x="31" y="583"/>
                      <a:pt x="23" y="561"/>
                    </a:cubicBezTo>
                    <a:cubicBezTo>
                      <a:pt x="15" y="539"/>
                      <a:pt x="5" y="535"/>
                      <a:pt x="0" y="528"/>
                    </a:cubicBez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943640" y="2048400"/>
                <a:ext cx="891000" cy="1206720"/>
              </a:xfrm>
              <a:custGeom>
                <a:avLst/>
                <a:gdLst/>
                <a:ahLst/>
                <a:rect l="l" t="t" r="r" b="b"/>
                <a:pathLst>
                  <a:path w="433" h="557">
                    <a:moveTo>
                      <a:pt x="0" y="229"/>
                    </a:moveTo>
                    <a:cubicBezTo>
                      <a:pt x="17" y="229"/>
                      <a:pt x="35" y="230"/>
                      <a:pt x="52" y="229"/>
                    </a:cubicBezTo>
                    <a:cubicBezTo>
                      <a:pt x="69" y="228"/>
                      <a:pt x="88" y="244"/>
                      <a:pt x="100" y="225"/>
                    </a:cubicBezTo>
                    <a:cubicBezTo>
                      <a:pt x="112" y="206"/>
                      <a:pt x="116" y="144"/>
                      <a:pt x="124" y="117"/>
                    </a:cubicBezTo>
                    <a:cubicBezTo>
                      <a:pt x="132" y="90"/>
                      <a:pt x="137" y="74"/>
                      <a:pt x="148" y="61"/>
                    </a:cubicBezTo>
                    <a:cubicBezTo>
                      <a:pt x="159" y="48"/>
                      <a:pt x="170" y="43"/>
                      <a:pt x="188" y="37"/>
                    </a:cubicBezTo>
                    <a:cubicBezTo>
                      <a:pt x="206" y="31"/>
                      <a:pt x="234" y="29"/>
                      <a:pt x="256" y="25"/>
                    </a:cubicBezTo>
                    <a:cubicBezTo>
                      <a:pt x="278" y="21"/>
                      <a:pt x="305" y="17"/>
                      <a:pt x="320" y="13"/>
                    </a:cubicBezTo>
                    <a:cubicBezTo>
                      <a:pt x="335" y="9"/>
                      <a:pt x="341" y="0"/>
                      <a:pt x="348" y="1"/>
                    </a:cubicBezTo>
                    <a:cubicBezTo>
                      <a:pt x="355" y="2"/>
                      <a:pt x="365" y="7"/>
                      <a:pt x="364" y="21"/>
                    </a:cubicBezTo>
                    <a:cubicBezTo>
                      <a:pt x="363" y="35"/>
                      <a:pt x="348" y="57"/>
                      <a:pt x="340" y="85"/>
                    </a:cubicBezTo>
                    <a:cubicBezTo>
                      <a:pt x="332" y="113"/>
                      <a:pt x="326" y="164"/>
                      <a:pt x="316" y="189"/>
                    </a:cubicBezTo>
                    <a:cubicBezTo>
                      <a:pt x="306" y="214"/>
                      <a:pt x="274" y="224"/>
                      <a:pt x="280" y="237"/>
                    </a:cubicBezTo>
                    <a:cubicBezTo>
                      <a:pt x="286" y="250"/>
                      <a:pt x="329" y="252"/>
                      <a:pt x="352" y="265"/>
                    </a:cubicBezTo>
                    <a:cubicBezTo>
                      <a:pt x="375" y="278"/>
                      <a:pt x="403" y="296"/>
                      <a:pt x="416" y="317"/>
                    </a:cubicBezTo>
                    <a:cubicBezTo>
                      <a:pt x="429" y="338"/>
                      <a:pt x="431" y="365"/>
                      <a:pt x="432" y="389"/>
                    </a:cubicBezTo>
                    <a:cubicBezTo>
                      <a:pt x="433" y="413"/>
                      <a:pt x="429" y="436"/>
                      <a:pt x="424" y="461"/>
                    </a:cubicBezTo>
                    <a:cubicBezTo>
                      <a:pt x="419" y="486"/>
                      <a:pt x="417" y="526"/>
                      <a:pt x="404" y="541"/>
                    </a:cubicBezTo>
                    <a:cubicBezTo>
                      <a:pt x="391" y="556"/>
                      <a:pt x="365" y="550"/>
                      <a:pt x="348" y="553"/>
                    </a:cubicBezTo>
                    <a:cubicBezTo>
                      <a:pt x="331" y="556"/>
                      <a:pt x="319" y="557"/>
                      <a:pt x="300" y="557"/>
                    </a:cubicBezTo>
                    <a:cubicBezTo>
                      <a:pt x="281" y="557"/>
                      <a:pt x="250" y="556"/>
                      <a:pt x="236" y="553"/>
                    </a:cubicBezTo>
                    <a:cubicBezTo>
                      <a:pt x="222" y="550"/>
                      <a:pt x="227" y="545"/>
                      <a:pt x="216" y="537"/>
                    </a:cubicBezTo>
                    <a:cubicBezTo>
                      <a:pt x="205" y="529"/>
                      <a:pt x="184" y="516"/>
                      <a:pt x="172" y="505"/>
                    </a:cubicBezTo>
                    <a:cubicBezTo>
                      <a:pt x="160" y="494"/>
                      <a:pt x="152" y="484"/>
                      <a:pt x="144" y="473"/>
                    </a:cubicBezTo>
                    <a:cubicBezTo>
                      <a:pt x="136" y="462"/>
                      <a:pt x="129" y="451"/>
                      <a:pt x="124" y="441"/>
                    </a:cubicBezTo>
                    <a:cubicBezTo>
                      <a:pt x="119" y="431"/>
                      <a:pt x="121" y="420"/>
                      <a:pt x="116" y="413"/>
                    </a:cubicBezTo>
                    <a:cubicBezTo>
                      <a:pt x="111" y="406"/>
                      <a:pt x="101" y="406"/>
                      <a:pt x="92" y="401"/>
                    </a:cubicBezTo>
                    <a:cubicBezTo>
                      <a:pt x="83" y="396"/>
                      <a:pt x="79" y="390"/>
                      <a:pt x="64" y="385"/>
                    </a:cubicBezTo>
                    <a:cubicBezTo>
                      <a:pt x="49" y="380"/>
                      <a:pt x="13" y="372"/>
                      <a:pt x="0" y="369"/>
                    </a:cubicBez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0" name=""/>
            <p:cNvSpPr/>
            <p:nvPr/>
          </p:nvSpPr>
          <p:spPr>
            <a:xfrm flipH="1">
              <a:off x="857160" y="1886040"/>
              <a:ext cx="1088640" cy="1612440"/>
            </a:xfrm>
            <a:custGeom>
              <a:avLst/>
              <a:gdLst/>
              <a:ahLst/>
              <a:rect l="l" t="t" r="r" b="b"/>
              <a:pathLst>
                <a:path w="529" h="744">
                  <a:moveTo>
                    <a:pt x="4" y="130"/>
                  </a:moveTo>
                  <a:cubicBezTo>
                    <a:pt x="13" y="116"/>
                    <a:pt x="27" y="69"/>
                    <a:pt x="49" y="50"/>
                  </a:cubicBezTo>
                  <a:cubicBezTo>
                    <a:pt x="70" y="31"/>
                    <a:pt x="90" y="20"/>
                    <a:pt x="132" y="17"/>
                  </a:cubicBezTo>
                  <a:cubicBezTo>
                    <a:pt x="173" y="13"/>
                    <a:pt x="245" y="0"/>
                    <a:pt x="298" y="30"/>
                  </a:cubicBezTo>
                  <a:cubicBezTo>
                    <a:pt x="352" y="60"/>
                    <a:pt x="419" y="145"/>
                    <a:pt x="451" y="196"/>
                  </a:cubicBezTo>
                  <a:cubicBezTo>
                    <a:pt x="484" y="247"/>
                    <a:pt x="483" y="281"/>
                    <a:pt x="496" y="335"/>
                  </a:cubicBezTo>
                  <a:cubicBezTo>
                    <a:pt x="509" y="389"/>
                    <a:pt x="529" y="464"/>
                    <a:pt x="528" y="521"/>
                  </a:cubicBezTo>
                  <a:cubicBezTo>
                    <a:pt x="527" y="579"/>
                    <a:pt x="510" y="645"/>
                    <a:pt x="490" y="681"/>
                  </a:cubicBezTo>
                  <a:cubicBezTo>
                    <a:pt x="470" y="717"/>
                    <a:pt x="442" y="724"/>
                    <a:pt x="407" y="734"/>
                  </a:cubicBezTo>
                  <a:cubicBezTo>
                    <a:pt x="372" y="744"/>
                    <a:pt x="326" y="742"/>
                    <a:pt x="279" y="741"/>
                  </a:cubicBezTo>
                  <a:cubicBezTo>
                    <a:pt x="232" y="740"/>
                    <a:pt x="164" y="741"/>
                    <a:pt x="125" y="727"/>
                  </a:cubicBezTo>
                  <a:cubicBezTo>
                    <a:pt x="87" y="714"/>
                    <a:pt x="66" y="688"/>
                    <a:pt x="49" y="661"/>
                  </a:cubicBezTo>
                  <a:cubicBezTo>
                    <a:pt x="32" y="634"/>
                    <a:pt x="31" y="583"/>
                    <a:pt x="23" y="561"/>
                  </a:cubicBezTo>
                  <a:cubicBezTo>
                    <a:pt x="15" y="539"/>
                    <a:pt x="5" y="535"/>
                    <a:pt x="0" y="528"/>
                  </a:cubicBezTo>
                </a:path>
              </a:pathLst>
            </a:custGeom>
            <a:solidFill>
              <a:srgbClr val="cccc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1054440" y="2048400"/>
              <a:ext cx="891360" cy="1207080"/>
            </a:xfrm>
            <a:custGeom>
              <a:avLst/>
              <a:gdLst/>
              <a:ahLst/>
              <a:rect l="l" t="t" r="r" b="b"/>
              <a:pathLst>
                <a:path w="433" h="557">
                  <a:moveTo>
                    <a:pt x="0" y="229"/>
                  </a:moveTo>
                  <a:cubicBezTo>
                    <a:pt x="17" y="229"/>
                    <a:pt x="35" y="230"/>
                    <a:pt x="52" y="229"/>
                  </a:cubicBezTo>
                  <a:cubicBezTo>
                    <a:pt x="69" y="228"/>
                    <a:pt x="88" y="244"/>
                    <a:pt x="100" y="225"/>
                  </a:cubicBezTo>
                  <a:cubicBezTo>
                    <a:pt x="112" y="206"/>
                    <a:pt x="116" y="144"/>
                    <a:pt x="124" y="117"/>
                  </a:cubicBezTo>
                  <a:cubicBezTo>
                    <a:pt x="132" y="90"/>
                    <a:pt x="137" y="74"/>
                    <a:pt x="148" y="61"/>
                  </a:cubicBezTo>
                  <a:cubicBezTo>
                    <a:pt x="159" y="48"/>
                    <a:pt x="170" y="43"/>
                    <a:pt x="188" y="37"/>
                  </a:cubicBezTo>
                  <a:cubicBezTo>
                    <a:pt x="206" y="31"/>
                    <a:pt x="234" y="29"/>
                    <a:pt x="256" y="25"/>
                  </a:cubicBezTo>
                  <a:cubicBezTo>
                    <a:pt x="278" y="21"/>
                    <a:pt x="305" y="17"/>
                    <a:pt x="320" y="13"/>
                  </a:cubicBezTo>
                  <a:cubicBezTo>
                    <a:pt x="335" y="9"/>
                    <a:pt x="341" y="0"/>
                    <a:pt x="348" y="1"/>
                  </a:cubicBezTo>
                  <a:cubicBezTo>
                    <a:pt x="355" y="2"/>
                    <a:pt x="365" y="7"/>
                    <a:pt x="364" y="21"/>
                  </a:cubicBezTo>
                  <a:cubicBezTo>
                    <a:pt x="363" y="35"/>
                    <a:pt x="348" y="57"/>
                    <a:pt x="340" y="85"/>
                  </a:cubicBezTo>
                  <a:cubicBezTo>
                    <a:pt x="332" y="113"/>
                    <a:pt x="326" y="164"/>
                    <a:pt x="316" y="189"/>
                  </a:cubicBezTo>
                  <a:cubicBezTo>
                    <a:pt x="306" y="214"/>
                    <a:pt x="274" y="224"/>
                    <a:pt x="280" y="237"/>
                  </a:cubicBezTo>
                  <a:cubicBezTo>
                    <a:pt x="286" y="250"/>
                    <a:pt x="329" y="252"/>
                    <a:pt x="352" y="265"/>
                  </a:cubicBezTo>
                  <a:cubicBezTo>
                    <a:pt x="375" y="278"/>
                    <a:pt x="403" y="296"/>
                    <a:pt x="416" y="317"/>
                  </a:cubicBezTo>
                  <a:cubicBezTo>
                    <a:pt x="429" y="338"/>
                    <a:pt x="431" y="365"/>
                    <a:pt x="432" y="389"/>
                  </a:cubicBezTo>
                  <a:cubicBezTo>
                    <a:pt x="433" y="413"/>
                    <a:pt x="429" y="436"/>
                    <a:pt x="424" y="461"/>
                  </a:cubicBezTo>
                  <a:cubicBezTo>
                    <a:pt x="419" y="486"/>
                    <a:pt x="417" y="526"/>
                    <a:pt x="404" y="541"/>
                  </a:cubicBezTo>
                  <a:cubicBezTo>
                    <a:pt x="391" y="556"/>
                    <a:pt x="365" y="550"/>
                    <a:pt x="348" y="553"/>
                  </a:cubicBezTo>
                  <a:cubicBezTo>
                    <a:pt x="331" y="556"/>
                    <a:pt x="319" y="557"/>
                    <a:pt x="300" y="557"/>
                  </a:cubicBezTo>
                  <a:cubicBezTo>
                    <a:pt x="281" y="557"/>
                    <a:pt x="250" y="556"/>
                    <a:pt x="236" y="553"/>
                  </a:cubicBezTo>
                  <a:cubicBezTo>
                    <a:pt x="222" y="550"/>
                    <a:pt x="227" y="545"/>
                    <a:pt x="216" y="537"/>
                  </a:cubicBezTo>
                  <a:cubicBezTo>
                    <a:pt x="205" y="529"/>
                    <a:pt x="184" y="516"/>
                    <a:pt x="172" y="505"/>
                  </a:cubicBezTo>
                  <a:cubicBezTo>
                    <a:pt x="160" y="494"/>
                    <a:pt x="152" y="484"/>
                    <a:pt x="144" y="473"/>
                  </a:cubicBezTo>
                  <a:cubicBezTo>
                    <a:pt x="136" y="462"/>
                    <a:pt x="129" y="451"/>
                    <a:pt x="124" y="441"/>
                  </a:cubicBezTo>
                  <a:cubicBezTo>
                    <a:pt x="119" y="431"/>
                    <a:pt x="121" y="420"/>
                    <a:pt x="116" y="413"/>
                  </a:cubicBezTo>
                  <a:cubicBezTo>
                    <a:pt x="111" y="406"/>
                    <a:pt x="101" y="406"/>
                    <a:pt x="92" y="401"/>
                  </a:cubicBezTo>
                  <a:cubicBezTo>
                    <a:pt x="83" y="396"/>
                    <a:pt x="79" y="390"/>
                    <a:pt x="64" y="385"/>
                  </a:cubicBezTo>
                  <a:cubicBezTo>
                    <a:pt x="49" y="380"/>
                    <a:pt x="13" y="372"/>
                    <a:pt x="0" y="369"/>
                  </a:cubicBez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073320" y="4441680"/>
            <a:ext cx="4122720" cy="104796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ff2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863960" y="4772160"/>
            <a:ext cx="901800" cy="152280"/>
          </a:xfrm>
          <a:prstGeom prst="ellipse">
            <a:avLst/>
          </a:prstGeom>
          <a:gradFill rotWithShape="0">
            <a:gsLst>
              <a:gs pos="0">
                <a:srgbClr val="fefeaf"/>
              </a:gs>
              <a:gs pos="100000">
                <a:srgbClr val="ffff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400560" y="2222640"/>
            <a:ext cx="17136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517920" y="2273400"/>
            <a:ext cx="1827360" cy="2552760"/>
          </a:xfrm>
          <a:custGeom>
            <a:avLst/>
            <a:gdLst/>
            <a:ahLst/>
            <a:rect l="l" t="t" r="r" b="b"/>
            <a:pathLst>
              <a:path w="1151" h="1608">
                <a:moveTo>
                  <a:pt x="32" y="0"/>
                </a:moveTo>
                <a:cubicBezTo>
                  <a:pt x="16" y="13"/>
                  <a:pt x="0" y="27"/>
                  <a:pt x="24" y="56"/>
                </a:cubicBezTo>
                <a:cubicBezTo>
                  <a:pt x="48" y="85"/>
                  <a:pt x="71" y="116"/>
                  <a:pt x="176" y="176"/>
                </a:cubicBezTo>
                <a:cubicBezTo>
                  <a:pt x="281" y="236"/>
                  <a:pt x="517" y="345"/>
                  <a:pt x="656" y="416"/>
                </a:cubicBezTo>
                <a:cubicBezTo>
                  <a:pt x="795" y="487"/>
                  <a:pt x="933" y="556"/>
                  <a:pt x="1008" y="600"/>
                </a:cubicBezTo>
                <a:cubicBezTo>
                  <a:pt x="1083" y="644"/>
                  <a:pt x="1081" y="629"/>
                  <a:pt x="1104" y="680"/>
                </a:cubicBezTo>
                <a:cubicBezTo>
                  <a:pt x="1127" y="731"/>
                  <a:pt x="1137" y="811"/>
                  <a:pt x="1144" y="904"/>
                </a:cubicBezTo>
                <a:cubicBezTo>
                  <a:pt x="1151" y="997"/>
                  <a:pt x="1144" y="1123"/>
                  <a:pt x="1144" y="1240"/>
                </a:cubicBezTo>
                <a:cubicBezTo>
                  <a:pt x="1144" y="1357"/>
                  <a:pt x="1145" y="1548"/>
                  <a:pt x="1144" y="1608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341440" y="2008080"/>
            <a:ext cx="1113120" cy="912960"/>
          </a:xfrm>
          <a:custGeom>
            <a:avLst/>
            <a:gdLst/>
            <a:ahLst/>
            <a:rect l="l" t="t" r="r" b="b"/>
            <a:pathLst>
              <a:path w="701" h="575">
                <a:moveTo>
                  <a:pt x="701" y="175"/>
                </a:moveTo>
                <a:cubicBezTo>
                  <a:pt x="691" y="193"/>
                  <a:pt x="681" y="212"/>
                  <a:pt x="645" y="199"/>
                </a:cubicBezTo>
                <a:cubicBezTo>
                  <a:pt x="609" y="186"/>
                  <a:pt x="534" y="126"/>
                  <a:pt x="485" y="95"/>
                </a:cubicBezTo>
                <a:cubicBezTo>
                  <a:pt x="436" y="64"/>
                  <a:pt x="386" y="30"/>
                  <a:pt x="349" y="15"/>
                </a:cubicBezTo>
                <a:cubicBezTo>
                  <a:pt x="312" y="0"/>
                  <a:pt x="288" y="2"/>
                  <a:pt x="261" y="7"/>
                </a:cubicBezTo>
                <a:cubicBezTo>
                  <a:pt x="234" y="12"/>
                  <a:pt x="221" y="22"/>
                  <a:pt x="189" y="47"/>
                </a:cubicBezTo>
                <a:cubicBezTo>
                  <a:pt x="157" y="72"/>
                  <a:pt x="100" y="107"/>
                  <a:pt x="69" y="159"/>
                </a:cubicBezTo>
                <a:cubicBezTo>
                  <a:pt x="38" y="211"/>
                  <a:pt x="0" y="290"/>
                  <a:pt x="5" y="359"/>
                </a:cubicBezTo>
                <a:cubicBezTo>
                  <a:pt x="10" y="428"/>
                  <a:pt x="81" y="530"/>
                  <a:pt x="101" y="575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600280" y="3000240"/>
            <a:ext cx="1878120" cy="1809720"/>
          </a:xfrm>
          <a:custGeom>
            <a:avLst/>
            <a:gdLst/>
            <a:ahLst/>
            <a:rect l="l" t="t" r="r" b="b"/>
            <a:pathLst>
              <a:path w="1183" h="1140">
                <a:moveTo>
                  <a:pt x="0" y="0"/>
                </a:moveTo>
                <a:cubicBezTo>
                  <a:pt x="196" y="96"/>
                  <a:pt x="393" y="193"/>
                  <a:pt x="534" y="264"/>
                </a:cubicBezTo>
                <a:cubicBezTo>
                  <a:pt x="675" y="335"/>
                  <a:pt x="770" y="385"/>
                  <a:pt x="846" y="426"/>
                </a:cubicBezTo>
                <a:cubicBezTo>
                  <a:pt x="922" y="467"/>
                  <a:pt x="939" y="464"/>
                  <a:pt x="990" y="510"/>
                </a:cubicBezTo>
                <a:cubicBezTo>
                  <a:pt x="1041" y="556"/>
                  <a:pt x="1121" y="625"/>
                  <a:pt x="1152" y="702"/>
                </a:cubicBezTo>
                <a:cubicBezTo>
                  <a:pt x="1183" y="779"/>
                  <a:pt x="1172" y="899"/>
                  <a:pt x="1176" y="972"/>
                </a:cubicBezTo>
                <a:cubicBezTo>
                  <a:pt x="1180" y="1045"/>
                  <a:pt x="1178" y="1092"/>
                  <a:pt x="1176" y="1140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334120" y="4809960"/>
            <a:ext cx="225360" cy="92160"/>
          </a:xfrm>
          <a:custGeom>
            <a:avLst/>
            <a:gdLst/>
            <a:ahLst/>
            <a:rect l="l" t="t" r="r" b="b"/>
            <a:pathLst>
              <a:path w="166" h="94">
                <a:moveTo>
                  <a:pt x="0" y="0"/>
                </a:moveTo>
                <a:cubicBezTo>
                  <a:pt x="49" y="6"/>
                  <a:pt x="52" y="1"/>
                  <a:pt x="66" y="42"/>
                </a:cubicBezTo>
                <a:cubicBezTo>
                  <a:pt x="59" y="62"/>
                  <a:pt x="49" y="94"/>
                  <a:pt x="36" y="54"/>
                </a:cubicBezTo>
                <a:cubicBezTo>
                  <a:pt x="46" y="4"/>
                  <a:pt x="56" y="12"/>
                  <a:pt x="108" y="18"/>
                </a:cubicBezTo>
                <a:cubicBezTo>
                  <a:pt x="106" y="36"/>
                  <a:pt x="110" y="56"/>
                  <a:pt x="102" y="72"/>
                </a:cubicBezTo>
                <a:cubicBezTo>
                  <a:pt x="99" y="78"/>
                  <a:pt x="86" y="72"/>
                  <a:pt x="84" y="66"/>
                </a:cubicBezTo>
                <a:cubicBezTo>
                  <a:pt x="81" y="52"/>
                  <a:pt x="84" y="37"/>
                  <a:pt x="90" y="24"/>
                </a:cubicBezTo>
                <a:cubicBezTo>
                  <a:pt x="94" y="15"/>
                  <a:pt x="118" y="9"/>
                  <a:pt x="126" y="6"/>
                </a:cubicBezTo>
                <a:cubicBezTo>
                  <a:pt x="132" y="8"/>
                  <a:pt x="140" y="7"/>
                  <a:pt x="144" y="12"/>
                </a:cubicBezTo>
                <a:cubicBezTo>
                  <a:pt x="156" y="29"/>
                  <a:pt x="166" y="59"/>
                  <a:pt x="156" y="78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299120" y="4762440"/>
            <a:ext cx="317160" cy="152640"/>
          </a:xfrm>
          <a:prstGeom prst="flowChartExtra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806360" y="548964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us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961080" y="225108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ibre sensi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5628960" y="4248000"/>
            <a:ext cx="361800" cy="5810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904360" y="3936960"/>
            <a:ext cx="25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useau neuro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455560" y="3790800"/>
            <a:ext cx="16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toneurone </a:t>
            </a:r>
            <a:r>
              <a:rPr b="1" lang="fr-FR" sz="1600" spc="-1" strike="noStrike">
                <a:solidFill>
                  <a:srgbClr val="5f5f5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527200" y="431640"/>
            <a:ext cx="338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096920" y="355608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060560" y="4349880"/>
            <a:ext cx="26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jonction neuro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692520" y="4578480"/>
            <a:ext cx="654120" cy="2505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517840" y="2911320"/>
            <a:ext cx="203040" cy="1908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81080" y="206280"/>
            <a:ext cx="88297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ise en jeu de l’arc réfl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857160" y="1886040"/>
            <a:ext cx="2166480" cy="1612440"/>
            <a:chOff x="857160" y="1886040"/>
            <a:chExt cx="2166480" cy="1612440"/>
          </a:xfrm>
        </p:grpSpPr>
        <p:grpSp>
          <p:nvGrpSpPr>
            <p:cNvPr id="1383" name=""/>
            <p:cNvGrpSpPr/>
            <p:nvPr/>
          </p:nvGrpSpPr>
          <p:grpSpPr>
            <a:xfrm>
              <a:off x="1935720" y="1886040"/>
              <a:ext cx="1087920" cy="1612080"/>
              <a:chOff x="1935720" y="1886040"/>
              <a:chExt cx="1087920" cy="1612080"/>
            </a:xfrm>
          </p:grpSpPr>
          <p:sp>
            <p:nvSpPr>
              <p:cNvPr id="1384" name=""/>
              <p:cNvSpPr/>
              <p:nvPr/>
            </p:nvSpPr>
            <p:spPr>
              <a:xfrm>
                <a:off x="1935720" y="1886040"/>
                <a:ext cx="1087920" cy="1612080"/>
              </a:xfrm>
              <a:custGeom>
                <a:avLst/>
                <a:gdLst/>
                <a:ahLst/>
                <a:rect l="l" t="t" r="r" b="b"/>
                <a:pathLst>
                  <a:path w="529" h="744">
                    <a:moveTo>
                      <a:pt x="4" y="130"/>
                    </a:moveTo>
                    <a:cubicBezTo>
                      <a:pt x="13" y="116"/>
                      <a:pt x="27" y="69"/>
                      <a:pt x="49" y="50"/>
                    </a:cubicBezTo>
                    <a:cubicBezTo>
                      <a:pt x="70" y="31"/>
                      <a:pt x="90" y="20"/>
                      <a:pt x="132" y="17"/>
                    </a:cubicBezTo>
                    <a:cubicBezTo>
                      <a:pt x="173" y="13"/>
                      <a:pt x="245" y="0"/>
                      <a:pt x="298" y="30"/>
                    </a:cubicBezTo>
                    <a:cubicBezTo>
                      <a:pt x="352" y="60"/>
                      <a:pt x="419" y="145"/>
                      <a:pt x="451" y="196"/>
                    </a:cubicBezTo>
                    <a:cubicBezTo>
                      <a:pt x="484" y="247"/>
                      <a:pt x="483" y="281"/>
                      <a:pt x="496" y="335"/>
                    </a:cubicBezTo>
                    <a:cubicBezTo>
                      <a:pt x="509" y="389"/>
                      <a:pt x="529" y="464"/>
                      <a:pt x="528" y="521"/>
                    </a:cubicBezTo>
                    <a:cubicBezTo>
                      <a:pt x="527" y="579"/>
                      <a:pt x="510" y="645"/>
                      <a:pt x="490" y="681"/>
                    </a:cubicBezTo>
                    <a:cubicBezTo>
                      <a:pt x="470" y="717"/>
                      <a:pt x="442" y="724"/>
                      <a:pt x="407" y="734"/>
                    </a:cubicBezTo>
                    <a:cubicBezTo>
                      <a:pt x="372" y="744"/>
                      <a:pt x="326" y="742"/>
                      <a:pt x="279" y="741"/>
                    </a:cubicBezTo>
                    <a:cubicBezTo>
                      <a:pt x="232" y="740"/>
                      <a:pt x="164" y="741"/>
                      <a:pt x="125" y="727"/>
                    </a:cubicBezTo>
                    <a:cubicBezTo>
                      <a:pt x="87" y="714"/>
                      <a:pt x="66" y="688"/>
                      <a:pt x="49" y="661"/>
                    </a:cubicBezTo>
                    <a:cubicBezTo>
                      <a:pt x="32" y="634"/>
                      <a:pt x="31" y="583"/>
                      <a:pt x="23" y="561"/>
                    </a:cubicBezTo>
                    <a:cubicBezTo>
                      <a:pt x="15" y="539"/>
                      <a:pt x="5" y="535"/>
                      <a:pt x="0" y="528"/>
                    </a:cubicBez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943640" y="2048400"/>
                <a:ext cx="891000" cy="1206720"/>
              </a:xfrm>
              <a:custGeom>
                <a:avLst/>
                <a:gdLst/>
                <a:ahLst/>
                <a:rect l="l" t="t" r="r" b="b"/>
                <a:pathLst>
                  <a:path w="433" h="557">
                    <a:moveTo>
                      <a:pt x="0" y="229"/>
                    </a:moveTo>
                    <a:cubicBezTo>
                      <a:pt x="17" y="229"/>
                      <a:pt x="35" y="230"/>
                      <a:pt x="52" y="229"/>
                    </a:cubicBezTo>
                    <a:cubicBezTo>
                      <a:pt x="69" y="228"/>
                      <a:pt x="88" y="244"/>
                      <a:pt x="100" y="225"/>
                    </a:cubicBezTo>
                    <a:cubicBezTo>
                      <a:pt x="112" y="206"/>
                      <a:pt x="116" y="144"/>
                      <a:pt x="124" y="117"/>
                    </a:cubicBezTo>
                    <a:cubicBezTo>
                      <a:pt x="132" y="90"/>
                      <a:pt x="137" y="74"/>
                      <a:pt x="148" y="61"/>
                    </a:cubicBezTo>
                    <a:cubicBezTo>
                      <a:pt x="159" y="48"/>
                      <a:pt x="170" y="43"/>
                      <a:pt x="188" y="37"/>
                    </a:cubicBezTo>
                    <a:cubicBezTo>
                      <a:pt x="206" y="31"/>
                      <a:pt x="234" y="29"/>
                      <a:pt x="256" y="25"/>
                    </a:cubicBezTo>
                    <a:cubicBezTo>
                      <a:pt x="278" y="21"/>
                      <a:pt x="305" y="17"/>
                      <a:pt x="320" y="13"/>
                    </a:cubicBezTo>
                    <a:cubicBezTo>
                      <a:pt x="335" y="9"/>
                      <a:pt x="341" y="0"/>
                      <a:pt x="348" y="1"/>
                    </a:cubicBezTo>
                    <a:cubicBezTo>
                      <a:pt x="355" y="2"/>
                      <a:pt x="365" y="7"/>
                      <a:pt x="364" y="21"/>
                    </a:cubicBezTo>
                    <a:cubicBezTo>
                      <a:pt x="363" y="35"/>
                      <a:pt x="348" y="57"/>
                      <a:pt x="340" y="85"/>
                    </a:cubicBezTo>
                    <a:cubicBezTo>
                      <a:pt x="332" y="113"/>
                      <a:pt x="326" y="164"/>
                      <a:pt x="316" y="189"/>
                    </a:cubicBezTo>
                    <a:cubicBezTo>
                      <a:pt x="306" y="214"/>
                      <a:pt x="274" y="224"/>
                      <a:pt x="280" y="237"/>
                    </a:cubicBezTo>
                    <a:cubicBezTo>
                      <a:pt x="286" y="250"/>
                      <a:pt x="329" y="252"/>
                      <a:pt x="352" y="265"/>
                    </a:cubicBezTo>
                    <a:cubicBezTo>
                      <a:pt x="375" y="278"/>
                      <a:pt x="403" y="296"/>
                      <a:pt x="416" y="317"/>
                    </a:cubicBezTo>
                    <a:cubicBezTo>
                      <a:pt x="429" y="338"/>
                      <a:pt x="431" y="365"/>
                      <a:pt x="432" y="389"/>
                    </a:cubicBezTo>
                    <a:cubicBezTo>
                      <a:pt x="433" y="413"/>
                      <a:pt x="429" y="436"/>
                      <a:pt x="424" y="461"/>
                    </a:cubicBezTo>
                    <a:cubicBezTo>
                      <a:pt x="419" y="486"/>
                      <a:pt x="417" y="526"/>
                      <a:pt x="404" y="541"/>
                    </a:cubicBezTo>
                    <a:cubicBezTo>
                      <a:pt x="391" y="556"/>
                      <a:pt x="365" y="550"/>
                      <a:pt x="348" y="553"/>
                    </a:cubicBezTo>
                    <a:cubicBezTo>
                      <a:pt x="331" y="556"/>
                      <a:pt x="319" y="557"/>
                      <a:pt x="300" y="557"/>
                    </a:cubicBezTo>
                    <a:cubicBezTo>
                      <a:pt x="281" y="557"/>
                      <a:pt x="250" y="556"/>
                      <a:pt x="236" y="553"/>
                    </a:cubicBezTo>
                    <a:cubicBezTo>
                      <a:pt x="222" y="550"/>
                      <a:pt x="227" y="545"/>
                      <a:pt x="216" y="537"/>
                    </a:cubicBezTo>
                    <a:cubicBezTo>
                      <a:pt x="205" y="529"/>
                      <a:pt x="184" y="516"/>
                      <a:pt x="172" y="505"/>
                    </a:cubicBezTo>
                    <a:cubicBezTo>
                      <a:pt x="160" y="494"/>
                      <a:pt x="152" y="484"/>
                      <a:pt x="144" y="473"/>
                    </a:cubicBezTo>
                    <a:cubicBezTo>
                      <a:pt x="136" y="462"/>
                      <a:pt x="129" y="451"/>
                      <a:pt x="124" y="441"/>
                    </a:cubicBezTo>
                    <a:cubicBezTo>
                      <a:pt x="119" y="431"/>
                      <a:pt x="121" y="420"/>
                      <a:pt x="116" y="413"/>
                    </a:cubicBezTo>
                    <a:cubicBezTo>
                      <a:pt x="111" y="406"/>
                      <a:pt x="101" y="406"/>
                      <a:pt x="92" y="401"/>
                    </a:cubicBezTo>
                    <a:cubicBezTo>
                      <a:pt x="83" y="396"/>
                      <a:pt x="79" y="390"/>
                      <a:pt x="64" y="385"/>
                    </a:cubicBezTo>
                    <a:cubicBezTo>
                      <a:pt x="49" y="380"/>
                      <a:pt x="13" y="372"/>
                      <a:pt x="0" y="369"/>
                    </a:cubicBez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6" name=""/>
            <p:cNvSpPr/>
            <p:nvPr/>
          </p:nvSpPr>
          <p:spPr>
            <a:xfrm flipH="1">
              <a:off x="857160" y="1886040"/>
              <a:ext cx="1088640" cy="1612440"/>
            </a:xfrm>
            <a:custGeom>
              <a:avLst/>
              <a:gdLst/>
              <a:ahLst/>
              <a:rect l="l" t="t" r="r" b="b"/>
              <a:pathLst>
                <a:path w="529" h="744">
                  <a:moveTo>
                    <a:pt x="4" y="130"/>
                  </a:moveTo>
                  <a:cubicBezTo>
                    <a:pt x="13" y="116"/>
                    <a:pt x="27" y="69"/>
                    <a:pt x="49" y="50"/>
                  </a:cubicBezTo>
                  <a:cubicBezTo>
                    <a:pt x="70" y="31"/>
                    <a:pt x="90" y="20"/>
                    <a:pt x="132" y="17"/>
                  </a:cubicBezTo>
                  <a:cubicBezTo>
                    <a:pt x="173" y="13"/>
                    <a:pt x="245" y="0"/>
                    <a:pt x="298" y="30"/>
                  </a:cubicBezTo>
                  <a:cubicBezTo>
                    <a:pt x="352" y="60"/>
                    <a:pt x="419" y="145"/>
                    <a:pt x="451" y="196"/>
                  </a:cubicBezTo>
                  <a:cubicBezTo>
                    <a:pt x="484" y="247"/>
                    <a:pt x="483" y="281"/>
                    <a:pt x="496" y="335"/>
                  </a:cubicBezTo>
                  <a:cubicBezTo>
                    <a:pt x="509" y="389"/>
                    <a:pt x="529" y="464"/>
                    <a:pt x="528" y="521"/>
                  </a:cubicBezTo>
                  <a:cubicBezTo>
                    <a:pt x="527" y="579"/>
                    <a:pt x="510" y="645"/>
                    <a:pt x="490" y="681"/>
                  </a:cubicBezTo>
                  <a:cubicBezTo>
                    <a:pt x="470" y="717"/>
                    <a:pt x="442" y="724"/>
                    <a:pt x="407" y="734"/>
                  </a:cubicBezTo>
                  <a:cubicBezTo>
                    <a:pt x="372" y="744"/>
                    <a:pt x="326" y="742"/>
                    <a:pt x="279" y="741"/>
                  </a:cubicBezTo>
                  <a:cubicBezTo>
                    <a:pt x="232" y="740"/>
                    <a:pt x="164" y="741"/>
                    <a:pt x="125" y="727"/>
                  </a:cubicBezTo>
                  <a:cubicBezTo>
                    <a:pt x="87" y="714"/>
                    <a:pt x="66" y="688"/>
                    <a:pt x="49" y="661"/>
                  </a:cubicBezTo>
                  <a:cubicBezTo>
                    <a:pt x="32" y="634"/>
                    <a:pt x="31" y="583"/>
                    <a:pt x="23" y="561"/>
                  </a:cubicBezTo>
                  <a:cubicBezTo>
                    <a:pt x="15" y="539"/>
                    <a:pt x="5" y="535"/>
                    <a:pt x="0" y="528"/>
                  </a:cubicBezTo>
                </a:path>
              </a:pathLst>
            </a:custGeom>
            <a:solidFill>
              <a:srgbClr val="cccc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1054440" y="2048400"/>
              <a:ext cx="891360" cy="1207080"/>
            </a:xfrm>
            <a:custGeom>
              <a:avLst/>
              <a:gdLst/>
              <a:ahLst/>
              <a:rect l="l" t="t" r="r" b="b"/>
              <a:pathLst>
                <a:path w="433" h="557">
                  <a:moveTo>
                    <a:pt x="0" y="229"/>
                  </a:moveTo>
                  <a:cubicBezTo>
                    <a:pt x="17" y="229"/>
                    <a:pt x="35" y="230"/>
                    <a:pt x="52" y="229"/>
                  </a:cubicBezTo>
                  <a:cubicBezTo>
                    <a:pt x="69" y="228"/>
                    <a:pt x="88" y="244"/>
                    <a:pt x="100" y="225"/>
                  </a:cubicBezTo>
                  <a:cubicBezTo>
                    <a:pt x="112" y="206"/>
                    <a:pt x="116" y="144"/>
                    <a:pt x="124" y="117"/>
                  </a:cubicBezTo>
                  <a:cubicBezTo>
                    <a:pt x="132" y="90"/>
                    <a:pt x="137" y="74"/>
                    <a:pt x="148" y="61"/>
                  </a:cubicBezTo>
                  <a:cubicBezTo>
                    <a:pt x="159" y="48"/>
                    <a:pt x="170" y="43"/>
                    <a:pt x="188" y="37"/>
                  </a:cubicBezTo>
                  <a:cubicBezTo>
                    <a:pt x="206" y="31"/>
                    <a:pt x="234" y="29"/>
                    <a:pt x="256" y="25"/>
                  </a:cubicBezTo>
                  <a:cubicBezTo>
                    <a:pt x="278" y="21"/>
                    <a:pt x="305" y="17"/>
                    <a:pt x="320" y="13"/>
                  </a:cubicBezTo>
                  <a:cubicBezTo>
                    <a:pt x="335" y="9"/>
                    <a:pt x="341" y="0"/>
                    <a:pt x="348" y="1"/>
                  </a:cubicBezTo>
                  <a:cubicBezTo>
                    <a:pt x="355" y="2"/>
                    <a:pt x="365" y="7"/>
                    <a:pt x="364" y="21"/>
                  </a:cubicBezTo>
                  <a:cubicBezTo>
                    <a:pt x="363" y="35"/>
                    <a:pt x="348" y="57"/>
                    <a:pt x="340" y="85"/>
                  </a:cubicBezTo>
                  <a:cubicBezTo>
                    <a:pt x="332" y="113"/>
                    <a:pt x="326" y="164"/>
                    <a:pt x="316" y="189"/>
                  </a:cubicBezTo>
                  <a:cubicBezTo>
                    <a:pt x="306" y="214"/>
                    <a:pt x="274" y="224"/>
                    <a:pt x="280" y="237"/>
                  </a:cubicBezTo>
                  <a:cubicBezTo>
                    <a:pt x="286" y="250"/>
                    <a:pt x="329" y="252"/>
                    <a:pt x="352" y="265"/>
                  </a:cubicBezTo>
                  <a:cubicBezTo>
                    <a:pt x="375" y="278"/>
                    <a:pt x="403" y="296"/>
                    <a:pt x="416" y="317"/>
                  </a:cubicBezTo>
                  <a:cubicBezTo>
                    <a:pt x="429" y="338"/>
                    <a:pt x="431" y="365"/>
                    <a:pt x="432" y="389"/>
                  </a:cubicBezTo>
                  <a:cubicBezTo>
                    <a:pt x="433" y="413"/>
                    <a:pt x="429" y="436"/>
                    <a:pt x="424" y="461"/>
                  </a:cubicBezTo>
                  <a:cubicBezTo>
                    <a:pt x="419" y="486"/>
                    <a:pt x="417" y="526"/>
                    <a:pt x="404" y="541"/>
                  </a:cubicBezTo>
                  <a:cubicBezTo>
                    <a:pt x="391" y="556"/>
                    <a:pt x="365" y="550"/>
                    <a:pt x="348" y="553"/>
                  </a:cubicBezTo>
                  <a:cubicBezTo>
                    <a:pt x="331" y="556"/>
                    <a:pt x="319" y="557"/>
                    <a:pt x="300" y="557"/>
                  </a:cubicBezTo>
                  <a:cubicBezTo>
                    <a:pt x="281" y="557"/>
                    <a:pt x="250" y="556"/>
                    <a:pt x="236" y="553"/>
                  </a:cubicBezTo>
                  <a:cubicBezTo>
                    <a:pt x="222" y="550"/>
                    <a:pt x="227" y="545"/>
                    <a:pt x="216" y="537"/>
                  </a:cubicBezTo>
                  <a:cubicBezTo>
                    <a:pt x="205" y="529"/>
                    <a:pt x="184" y="516"/>
                    <a:pt x="172" y="505"/>
                  </a:cubicBezTo>
                  <a:cubicBezTo>
                    <a:pt x="160" y="494"/>
                    <a:pt x="152" y="484"/>
                    <a:pt x="144" y="473"/>
                  </a:cubicBezTo>
                  <a:cubicBezTo>
                    <a:pt x="136" y="462"/>
                    <a:pt x="129" y="451"/>
                    <a:pt x="124" y="441"/>
                  </a:cubicBezTo>
                  <a:cubicBezTo>
                    <a:pt x="119" y="431"/>
                    <a:pt x="121" y="420"/>
                    <a:pt x="116" y="413"/>
                  </a:cubicBezTo>
                  <a:cubicBezTo>
                    <a:pt x="111" y="406"/>
                    <a:pt x="101" y="406"/>
                    <a:pt x="92" y="401"/>
                  </a:cubicBezTo>
                  <a:cubicBezTo>
                    <a:pt x="83" y="396"/>
                    <a:pt x="79" y="390"/>
                    <a:pt x="64" y="385"/>
                  </a:cubicBezTo>
                  <a:cubicBezTo>
                    <a:pt x="49" y="380"/>
                    <a:pt x="13" y="372"/>
                    <a:pt x="0" y="369"/>
                  </a:cubicBez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8" name=""/>
          <p:cNvSpPr/>
          <p:nvPr/>
        </p:nvSpPr>
        <p:spPr>
          <a:xfrm>
            <a:off x="3073320" y="4441680"/>
            <a:ext cx="4122720" cy="104796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ff2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863960" y="4772160"/>
            <a:ext cx="901800" cy="152280"/>
          </a:xfrm>
          <a:prstGeom prst="ellipse">
            <a:avLst/>
          </a:prstGeom>
          <a:gradFill rotWithShape="0">
            <a:gsLst>
              <a:gs pos="0">
                <a:srgbClr val="fefeaf"/>
              </a:gs>
              <a:gs pos="100000">
                <a:srgbClr val="ffff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400560" y="2222640"/>
            <a:ext cx="17136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517920" y="2273400"/>
            <a:ext cx="1827360" cy="2552760"/>
          </a:xfrm>
          <a:custGeom>
            <a:avLst/>
            <a:gdLst/>
            <a:ahLst/>
            <a:rect l="l" t="t" r="r" b="b"/>
            <a:pathLst>
              <a:path w="1151" h="1608">
                <a:moveTo>
                  <a:pt x="32" y="0"/>
                </a:moveTo>
                <a:cubicBezTo>
                  <a:pt x="16" y="13"/>
                  <a:pt x="0" y="27"/>
                  <a:pt x="24" y="56"/>
                </a:cubicBezTo>
                <a:cubicBezTo>
                  <a:pt x="48" y="85"/>
                  <a:pt x="71" y="116"/>
                  <a:pt x="176" y="176"/>
                </a:cubicBezTo>
                <a:cubicBezTo>
                  <a:pt x="281" y="236"/>
                  <a:pt x="517" y="345"/>
                  <a:pt x="656" y="416"/>
                </a:cubicBezTo>
                <a:cubicBezTo>
                  <a:pt x="795" y="487"/>
                  <a:pt x="933" y="556"/>
                  <a:pt x="1008" y="600"/>
                </a:cubicBezTo>
                <a:cubicBezTo>
                  <a:pt x="1083" y="644"/>
                  <a:pt x="1081" y="629"/>
                  <a:pt x="1104" y="680"/>
                </a:cubicBezTo>
                <a:cubicBezTo>
                  <a:pt x="1127" y="731"/>
                  <a:pt x="1137" y="811"/>
                  <a:pt x="1144" y="904"/>
                </a:cubicBezTo>
                <a:cubicBezTo>
                  <a:pt x="1151" y="997"/>
                  <a:pt x="1144" y="1123"/>
                  <a:pt x="1144" y="1240"/>
                </a:cubicBezTo>
                <a:cubicBezTo>
                  <a:pt x="1144" y="1357"/>
                  <a:pt x="1145" y="1548"/>
                  <a:pt x="1144" y="1608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341440" y="2008080"/>
            <a:ext cx="1113120" cy="912960"/>
          </a:xfrm>
          <a:custGeom>
            <a:avLst/>
            <a:gdLst/>
            <a:ahLst/>
            <a:rect l="l" t="t" r="r" b="b"/>
            <a:pathLst>
              <a:path w="701" h="575">
                <a:moveTo>
                  <a:pt x="701" y="175"/>
                </a:moveTo>
                <a:cubicBezTo>
                  <a:pt x="691" y="193"/>
                  <a:pt x="681" y="212"/>
                  <a:pt x="645" y="199"/>
                </a:cubicBezTo>
                <a:cubicBezTo>
                  <a:pt x="609" y="186"/>
                  <a:pt x="534" y="126"/>
                  <a:pt x="485" y="95"/>
                </a:cubicBezTo>
                <a:cubicBezTo>
                  <a:pt x="436" y="64"/>
                  <a:pt x="386" y="30"/>
                  <a:pt x="349" y="15"/>
                </a:cubicBezTo>
                <a:cubicBezTo>
                  <a:pt x="312" y="0"/>
                  <a:pt x="288" y="2"/>
                  <a:pt x="261" y="7"/>
                </a:cubicBezTo>
                <a:cubicBezTo>
                  <a:pt x="234" y="12"/>
                  <a:pt x="221" y="22"/>
                  <a:pt x="189" y="47"/>
                </a:cubicBezTo>
                <a:cubicBezTo>
                  <a:pt x="157" y="72"/>
                  <a:pt x="100" y="107"/>
                  <a:pt x="69" y="159"/>
                </a:cubicBezTo>
                <a:cubicBezTo>
                  <a:pt x="38" y="211"/>
                  <a:pt x="0" y="290"/>
                  <a:pt x="5" y="359"/>
                </a:cubicBezTo>
                <a:cubicBezTo>
                  <a:pt x="10" y="428"/>
                  <a:pt x="81" y="530"/>
                  <a:pt x="101" y="575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600280" y="3000240"/>
            <a:ext cx="1878120" cy="1809720"/>
          </a:xfrm>
          <a:custGeom>
            <a:avLst/>
            <a:gdLst/>
            <a:ahLst/>
            <a:rect l="l" t="t" r="r" b="b"/>
            <a:pathLst>
              <a:path w="1183" h="1140">
                <a:moveTo>
                  <a:pt x="0" y="0"/>
                </a:moveTo>
                <a:cubicBezTo>
                  <a:pt x="196" y="96"/>
                  <a:pt x="393" y="193"/>
                  <a:pt x="534" y="264"/>
                </a:cubicBezTo>
                <a:cubicBezTo>
                  <a:pt x="675" y="335"/>
                  <a:pt x="770" y="385"/>
                  <a:pt x="846" y="426"/>
                </a:cubicBezTo>
                <a:cubicBezTo>
                  <a:pt x="922" y="467"/>
                  <a:pt x="939" y="464"/>
                  <a:pt x="990" y="510"/>
                </a:cubicBezTo>
                <a:cubicBezTo>
                  <a:pt x="1041" y="556"/>
                  <a:pt x="1121" y="625"/>
                  <a:pt x="1152" y="702"/>
                </a:cubicBezTo>
                <a:cubicBezTo>
                  <a:pt x="1183" y="779"/>
                  <a:pt x="1172" y="899"/>
                  <a:pt x="1176" y="972"/>
                </a:cubicBezTo>
                <a:cubicBezTo>
                  <a:pt x="1180" y="1045"/>
                  <a:pt x="1178" y="1092"/>
                  <a:pt x="1176" y="1140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334120" y="4809960"/>
            <a:ext cx="225360" cy="92160"/>
          </a:xfrm>
          <a:custGeom>
            <a:avLst/>
            <a:gdLst/>
            <a:ahLst/>
            <a:rect l="l" t="t" r="r" b="b"/>
            <a:pathLst>
              <a:path w="166" h="94">
                <a:moveTo>
                  <a:pt x="0" y="0"/>
                </a:moveTo>
                <a:cubicBezTo>
                  <a:pt x="49" y="6"/>
                  <a:pt x="52" y="1"/>
                  <a:pt x="66" y="42"/>
                </a:cubicBezTo>
                <a:cubicBezTo>
                  <a:pt x="59" y="62"/>
                  <a:pt x="49" y="94"/>
                  <a:pt x="36" y="54"/>
                </a:cubicBezTo>
                <a:cubicBezTo>
                  <a:pt x="46" y="4"/>
                  <a:pt x="56" y="12"/>
                  <a:pt x="108" y="18"/>
                </a:cubicBezTo>
                <a:cubicBezTo>
                  <a:pt x="106" y="36"/>
                  <a:pt x="110" y="56"/>
                  <a:pt x="102" y="72"/>
                </a:cubicBezTo>
                <a:cubicBezTo>
                  <a:pt x="99" y="78"/>
                  <a:pt x="86" y="72"/>
                  <a:pt x="84" y="66"/>
                </a:cubicBezTo>
                <a:cubicBezTo>
                  <a:pt x="81" y="52"/>
                  <a:pt x="84" y="37"/>
                  <a:pt x="90" y="24"/>
                </a:cubicBezTo>
                <a:cubicBezTo>
                  <a:pt x="94" y="15"/>
                  <a:pt x="118" y="9"/>
                  <a:pt x="126" y="6"/>
                </a:cubicBezTo>
                <a:cubicBezTo>
                  <a:pt x="132" y="8"/>
                  <a:pt x="140" y="7"/>
                  <a:pt x="144" y="12"/>
                </a:cubicBezTo>
                <a:cubicBezTo>
                  <a:pt x="156" y="29"/>
                  <a:pt x="166" y="59"/>
                  <a:pt x="156" y="78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299120" y="4762440"/>
            <a:ext cx="317160" cy="152640"/>
          </a:xfrm>
          <a:prstGeom prst="flowChartExtra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806360" y="548964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us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096920" y="355608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961080" y="225108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ibre sensi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H="1">
            <a:off x="5628960" y="4248000"/>
            <a:ext cx="361800" cy="5810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904360" y="3936960"/>
            <a:ext cx="25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useau neuro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455560" y="3790800"/>
            <a:ext cx="16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toneurone </a:t>
            </a:r>
            <a:r>
              <a:rPr b="1" lang="fr-FR" sz="1600" spc="-1" strike="noStrike">
                <a:solidFill>
                  <a:srgbClr val="5f5f5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098880" y="4699080"/>
            <a:ext cx="0" cy="14223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175520" y="4699080"/>
            <a:ext cx="0" cy="14223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086280" y="6091200"/>
            <a:ext cx="4089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951800" y="609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84120" y="892080"/>
            <a:ext cx="85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état stable : longueur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517840" y="2911320"/>
            <a:ext cx="203040" cy="1908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9" name=""/>
          <p:cNvGrpSpPr/>
          <p:nvPr/>
        </p:nvGrpSpPr>
        <p:grpSpPr>
          <a:xfrm>
            <a:off x="2413080" y="4568760"/>
            <a:ext cx="5303520" cy="730440"/>
            <a:chOff x="2413080" y="4568760"/>
            <a:chExt cx="5303520" cy="730440"/>
          </a:xfrm>
        </p:grpSpPr>
        <p:sp>
          <p:nvSpPr>
            <p:cNvPr id="1410" name=""/>
            <p:cNvSpPr/>
            <p:nvPr/>
          </p:nvSpPr>
          <p:spPr>
            <a:xfrm>
              <a:off x="2413080" y="4568760"/>
              <a:ext cx="5303520" cy="730440"/>
            </a:xfrm>
            <a:custGeom>
              <a:avLst/>
              <a:gdLst/>
              <a:ahLst/>
              <a:rect l="l" t="t" r="r" b="b"/>
              <a:pathLst>
                <a:path w="4019" h="568">
                  <a:moveTo>
                    <a:pt x="48" y="304"/>
                  </a:moveTo>
                  <a:cubicBezTo>
                    <a:pt x="183" y="298"/>
                    <a:pt x="324" y="289"/>
                    <a:pt x="456" y="256"/>
                  </a:cubicBezTo>
                  <a:cubicBezTo>
                    <a:pt x="588" y="223"/>
                    <a:pt x="720" y="179"/>
                    <a:pt x="856" y="160"/>
                  </a:cubicBezTo>
                  <a:cubicBezTo>
                    <a:pt x="997" y="113"/>
                    <a:pt x="1149" y="72"/>
                    <a:pt x="1296" y="56"/>
                  </a:cubicBezTo>
                  <a:cubicBezTo>
                    <a:pt x="1367" y="38"/>
                    <a:pt x="1388" y="38"/>
                    <a:pt x="1480" y="32"/>
                  </a:cubicBezTo>
                  <a:cubicBezTo>
                    <a:pt x="1560" y="12"/>
                    <a:pt x="1522" y="20"/>
                    <a:pt x="1592" y="8"/>
                  </a:cubicBezTo>
                  <a:cubicBezTo>
                    <a:pt x="1732" y="14"/>
                    <a:pt x="1877" y="28"/>
                    <a:pt x="2016" y="0"/>
                  </a:cubicBezTo>
                  <a:cubicBezTo>
                    <a:pt x="2099" y="3"/>
                    <a:pt x="2181" y="3"/>
                    <a:pt x="2264" y="8"/>
                  </a:cubicBezTo>
                  <a:cubicBezTo>
                    <a:pt x="2295" y="10"/>
                    <a:pt x="2329" y="27"/>
                    <a:pt x="2360" y="32"/>
                  </a:cubicBezTo>
                  <a:cubicBezTo>
                    <a:pt x="2455" y="47"/>
                    <a:pt x="2545" y="71"/>
                    <a:pt x="2640" y="80"/>
                  </a:cubicBezTo>
                  <a:cubicBezTo>
                    <a:pt x="2758" y="104"/>
                    <a:pt x="2855" y="100"/>
                    <a:pt x="2984" y="104"/>
                  </a:cubicBezTo>
                  <a:cubicBezTo>
                    <a:pt x="3044" y="111"/>
                    <a:pt x="3129" y="118"/>
                    <a:pt x="3184" y="136"/>
                  </a:cubicBezTo>
                  <a:cubicBezTo>
                    <a:pt x="3252" y="159"/>
                    <a:pt x="3337" y="186"/>
                    <a:pt x="3408" y="200"/>
                  </a:cubicBezTo>
                  <a:cubicBezTo>
                    <a:pt x="3439" y="206"/>
                    <a:pt x="3474" y="213"/>
                    <a:pt x="3504" y="224"/>
                  </a:cubicBezTo>
                  <a:cubicBezTo>
                    <a:pt x="3515" y="228"/>
                    <a:pt x="3524" y="237"/>
                    <a:pt x="3536" y="240"/>
                  </a:cubicBezTo>
                  <a:cubicBezTo>
                    <a:pt x="3628" y="265"/>
                    <a:pt x="3758" y="261"/>
                    <a:pt x="3840" y="264"/>
                  </a:cubicBezTo>
                  <a:cubicBezTo>
                    <a:pt x="3868" y="273"/>
                    <a:pt x="3902" y="274"/>
                    <a:pt x="3928" y="288"/>
                  </a:cubicBezTo>
                  <a:cubicBezTo>
                    <a:pt x="3945" y="297"/>
                    <a:pt x="3960" y="309"/>
                    <a:pt x="3976" y="320"/>
                  </a:cubicBezTo>
                  <a:cubicBezTo>
                    <a:pt x="3984" y="325"/>
                    <a:pt x="4000" y="336"/>
                    <a:pt x="4000" y="336"/>
                  </a:cubicBezTo>
                  <a:cubicBezTo>
                    <a:pt x="4008" y="359"/>
                    <a:pt x="4019" y="366"/>
                    <a:pt x="3984" y="368"/>
                  </a:cubicBezTo>
                  <a:cubicBezTo>
                    <a:pt x="3891" y="373"/>
                    <a:pt x="3797" y="373"/>
                    <a:pt x="3704" y="376"/>
                  </a:cubicBezTo>
                  <a:cubicBezTo>
                    <a:pt x="3632" y="400"/>
                    <a:pt x="3548" y="400"/>
                    <a:pt x="3472" y="408"/>
                  </a:cubicBezTo>
                  <a:cubicBezTo>
                    <a:pt x="3430" y="422"/>
                    <a:pt x="3387" y="426"/>
                    <a:pt x="3344" y="432"/>
                  </a:cubicBezTo>
                  <a:cubicBezTo>
                    <a:pt x="3239" y="467"/>
                    <a:pt x="3132" y="479"/>
                    <a:pt x="3024" y="496"/>
                  </a:cubicBezTo>
                  <a:cubicBezTo>
                    <a:pt x="2968" y="505"/>
                    <a:pt x="2912" y="525"/>
                    <a:pt x="2856" y="536"/>
                  </a:cubicBezTo>
                  <a:cubicBezTo>
                    <a:pt x="2759" y="555"/>
                    <a:pt x="2659" y="548"/>
                    <a:pt x="2560" y="552"/>
                  </a:cubicBezTo>
                  <a:cubicBezTo>
                    <a:pt x="2397" y="568"/>
                    <a:pt x="2237" y="561"/>
                    <a:pt x="2072" y="552"/>
                  </a:cubicBezTo>
                  <a:cubicBezTo>
                    <a:pt x="1933" y="517"/>
                    <a:pt x="2084" y="552"/>
                    <a:pt x="1720" y="552"/>
                  </a:cubicBezTo>
                  <a:cubicBezTo>
                    <a:pt x="1499" y="552"/>
                    <a:pt x="1277" y="547"/>
                    <a:pt x="1056" y="544"/>
                  </a:cubicBezTo>
                  <a:cubicBezTo>
                    <a:pt x="969" y="532"/>
                    <a:pt x="892" y="499"/>
                    <a:pt x="808" y="480"/>
                  </a:cubicBezTo>
                  <a:cubicBezTo>
                    <a:pt x="743" y="466"/>
                    <a:pt x="674" y="463"/>
                    <a:pt x="608" y="456"/>
                  </a:cubicBezTo>
                  <a:cubicBezTo>
                    <a:pt x="566" y="442"/>
                    <a:pt x="522" y="437"/>
                    <a:pt x="480" y="424"/>
                  </a:cubicBezTo>
                  <a:cubicBezTo>
                    <a:pt x="432" y="410"/>
                    <a:pt x="378" y="386"/>
                    <a:pt x="328" y="384"/>
                  </a:cubicBezTo>
                  <a:cubicBezTo>
                    <a:pt x="229" y="379"/>
                    <a:pt x="131" y="379"/>
                    <a:pt x="32" y="376"/>
                  </a:cubicBezTo>
                  <a:cubicBezTo>
                    <a:pt x="24" y="368"/>
                    <a:pt x="12" y="363"/>
                    <a:pt x="8" y="352"/>
                  </a:cubicBezTo>
                  <a:cubicBezTo>
                    <a:pt x="0" y="328"/>
                    <a:pt x="36" y="316"/>
                    <a:pt x="48" y="304"/>
                  </a:cubicBezTo>
                  <a:close/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716360" y="4798800"/>
              <a:ext cx="1159920" cy="105840"/>
            </a:xfrm>
            <a:prstGeom prst="ellipse">
              <a:avLst/>
            </a:prstGeom>
            <a:gradFill rotWithShape="0">
              <a:gsLst>
                <a:gs pos="0">
                  <a:srgbClr val="fefeaf"/>
                </a:gs>
                <a:gs pos="100000">
                  <a:srgbClr val="ffff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321520" y="4825440"/>
              <a:ext cx="289800" cy="64080"/>
            </a:xfrm>
            <a:custGeom>
              <a:avLst/>
              <a:gdLst/>
              <a:ahLst/>
              <a:rect l="l" t="t" r="r" b="b"/>
              <a:pathLst>
                <a:path w="166" h="94">
                  <a:moveTo>
                    <a:pt x="0" y="0"/>
                  </a:moveTo>
                  <a:cubicBezTo>
                    <a:pt x="49" y="6"/>
                    <a:pt x="52" y="1"/>
                    <a:pt x="66" y="42"/>
                  </a:cubicBezTo>
                  <a:cubicBezTo>
                    <a:pt x="59" y="62"/>
                    <a:pt x="49" y="94"/>
                    <a:pt x="36" y="54"/>
                  </a:cubicBezTo>
                  <a:cubicBezTo>
                    <a:pt x="46" y="4"/>
                    <a:pt x="56" y="12"/>
                    <a:pt x="108" y="18"/>
                  </a:cubicBezTo>
                  <a:cubicBezTo>
                    <a:pt x="106" y="36"/>
                    <a:pt x="110" y="56"/>
                    <a:pt x="102" y="72"/>
                  </a:cubicBezTo>
                  <a:cubicBezTo>
                    <a:pt x="99" y="78"/>
                    <a:pt x="86" y="72"/>
                    <a:pt x="84" y="66"/>
                  </a:cubicBezTo>
                  <a:cubicBezTo>
                    <a:pt x="81" y="52"/>
                    <a:pt x="84" y="37"/>
                    <a:pt x="90" y="24"/>
                  </a:cubicBezTo>
                  <a:cubicBezTo>
                    <a:pt x="94" y="15"/>
                    <a:pt x="118" y="9"/>
                    <a:pt x="126" y="6"/>
                  </a:cubicBezTo>
                  <a:cubicBezTo>
                    <a:pt x="132" y="8"/>
                    <a:pt x="140" y="7"/>
                    <a:pt x="144" y="12"/>
                  </a:cubicBezTo>
                  <a:cubicBezTo>
                    <a:pt x="156" y="29"/>
                    <a:pt x="166" y="59"/>
                    <a:pt x="156" y="7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81080" y="206280"/>
            <a:ext cx="88297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ise en jeu de l’arc réfl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857160" y="1886040"/>
            <a:ext cx="2166480" cy="1612440"/>
            <a:chOff x="857160" y="1886040"/>
            <a:chExt cx="2166480" cy="1612440"/>
          </a:xfrm>
        </p:grpSpPr>
        <p:grpSp>
          <p:nvGrpSpPr>
            <p:cNvPr id="1416" name=""/>
            <p:cNvGrpSpPr/>
            <p:nvPr/>
          </p:nvGrpSpPr>
          <p:grpSpPr>
            <a:xfrm>
              <a:off x="1935720" y="1886040"/>
              <a:ext cx="1087920" cy="1612080"/>
              <a:chOff x="1935720" y="1886040"/>
              <a:chExt cx="1087920" cy="1612080"/>
            </a:xfrm>
          </p:grpSpPr>
          <p:sp>
            <p:nvSpPr>
              <p:cNvPr id="1417" name=""/>
              <p:cNvSpPr/>
              <p:nvPr/>
            </p:nvSpPr>
            <p:spPr>
              <a:xfrm>
                <a:off x="1935720" y="1886040"/>
                <a:ext cx="1087920" cy="1612080"/>
              </a:xfrm>
              <a:custGeom>
                <a:avLst/>
                <a:gdLst/>
                <a:ahLst/>
                <a:rect l="l" t="t" r="r" b="b"/>
                <a:pathLst>
                  <a:path w="529" h="744">
                    <a:moveTo>
                      <a:pt x="4" y="130"/>
                    </a:moveTo>
                    <a:cubicBezTo>
                      <a:pt x="13" y="116"/>
                      <a:pt x="27" y="69"/>
                      <a:pt x="49" y="50"/>
                    </a:cubicBezTo>
                    <a:cubicBezTo>
                      <a:pt x="70" y="31"/>
                      <a:pt x="90" y="20"/>
                      <a:pt x="132" y="17"/>
                    </a:cubicBezTo>
                    <a:cubicBezTo>
                      <a:pt x="173" y="13"/>
                      <a:pt x="245" y="0"/>
                      <a:pt x="298" y="30"/>
                    </a:cubicBezTo>
                    <a:cubicBezTo>
                      <a:pt x="352" y="60"/>
                      <a:pt x="419" y="145"/>
                      <a:pt x="451" y="196"/>
                    </a:cubicBezTo>
                    <a:cubicBezTo>
                      <a:pt x="484" y="247"/>
                      <a:pt x="483" y="281"/>
                      <a:pt x="496" y="335"/>
                    </a:cubicBezTo>
                    <a:cubicBezTo>
                      <a:pt x="509" y="389"/>
                      <a:pt x="529" y="464"/>
                      <a:pt x="528" y="521"/>
                    </a:cubicBezTo>
                    <a:cubicBezTo>
                      <a:pt x="527" y="579"/>
                      <a:pt x="510" y="645"/>
                      <a:pt x="490" y="681"/>
                    </a:cubicBezTo>
                    <a:cubicBezTo>
                      <a:pt x="470" y="717"/>
                      <a:pt x="442" y="724"/>
                      <a:pt x="407" y="734"/>
                    </a:cubicBezTo>
                    <a:cubicBezTo>
                      <a:pt x="372" y="744"/>
                      <a:pt x="326" y="742"/>
                      <a:pt x="279" y="741"/>
                    </a:cubicBezTo>
                    <a:cubicBezTo>
                      <a:pt x="232" y="740"/>
                      <a:pt x="164" y="741"/>
                      <a:pt x="125" y="727"/>
                    </a:cubicBezTo>
                    <a:cubicBezTo>
                      <a:pt x="87" y="714"/>
                      <a:pt x="66" y="688"/>
                      <a:pt x="49" y="661"/>
                    </a:cubicBezTo>
                    <a:cubicBezTo>
                      <a:pt x="32" y="634"/>
                      <a:pt x="31" y="583"/>
                      <a:pt x="23" y="561"/>
                    </a:cubicBezTo>
                    <a:cubicBezTo>
                      <a:pt x="15" y="539"/>
                      <a:pt x="5" y="535"/>
                      <a:pt x="0" y="528"/>
                    </a:cubicBez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943640" y="2048400"/>
                <a:ext cx="891000" cy="1206720"/>
              </a:xfrm>
              <a:custGeom>
                <a:avLst/>
                <a:gdLst/>
                <a:ahLst/>
                <a:rect l="l" t="t" r="r" b="b"/>
                <a:pathLst>
                  <a:path w="433" h="557">
                    <a:moveTo>
                      <a:pt x="0" y="229"/>
                    </a:moveTo>
                    <a:cubicBezTo>
                      <a:pt x="17" y="229"/>
                      <a:pt x="35" y="230"/>
                      <a:pt x="52" y="229"/>
                    </a:cubicBezTo>
                    <a:cubicBezTo>
                      <a:pt x="69" y="228"/>
                      <a:pt x="88" y="244"/>
                      <a:pt x="100" y="225"/>
                    </a:cubicBezTo>
                    <a:cubicBezTo>
                      <a:pt x="112" y="206"/>
                      <a:pt x="116" y="144"/>
                      <a:pt x="124" y="117"/>
                    </a:cubicBezTo>
                    <a:cubicBezTo>
                      <a:pt x="132" y="90"/>
                      <a:pt x="137" y="74"/>
                      <a:pt x="148" y="61"/>
                    </a:cubicBezTo>
                    <a:cubicBezTo>
                      <a:pt x="159" y="48"/>
                      <a:pt x="170" y="43"/>
                      <a:pt x="188" y="37"/>
                    </a:cubicBezTo>
                    <a:cubicBezTo>
                      <a:pt x="206" y="31"/>
                      <a:pt x="234" y="29"/>
                      <a:pt x="256" y="25"/>
                    </a:cubicBezTo>
                    <a:cubicBezTo>
                      <a:pt x="278" y="21"/>
                      <a:pt x="305" y="17"/>
                      <a:pt x="320" y="13"/>
                    </a:cubicBezTo>
                    <a:cubicBezTo>
                      <a:pt x="335" y="9"/>
                      <a:pt x="341" y="0"/>
                      <a:pt x="348" y="1"/>
                    </a:cubicBezTo>
                    <a:cubicBezTo>
                      <a:pt x="355" y="2"/>
                      <a:pt x="365" y="7"/>
                      <a:pt x="364" y="21"/>
                    </a:cubicBezTo>
                    <a:cubicBezTo>
                      <a:pt x="363" y="35"/>
                      <a:pt x="348" y="57"/>
                      <a:pt x="340" y="85"/>
                    </a:cubicBezTo>
                    <a:cubicBezTo>
                      <a:pt x="332" y="113"/>
                      <a:pt x="326" y="164"/>
                      <a:pt x="316" y="189"/>
                    </a:cubicBezTo>
                    <a:cubicBezTo>
                      <a:pt x="306" y="214"/>
                      <a:pt x="274" y="224"/>
                      <a:pt x="280" y="237"/>
                    </a:cubicBezTo>
                    <a:cubicBezTo>
                      <a:pt x="286" y="250"/>
                      <a:pt x="329" y="252"/>
                      <a:pt x="352" y="265"/>
                    </a:cubicBezTo>
                    <a:cubicBezTo>
                      <a:pt x="375" y="278"/>
                      <a:pt x="403" y="296"/>
                      <a:pt x="416" y="317"/>
                    </a:cubicBezTo>
                    <a:cubicBezTo>
                      <a:pt x="429" y="338"/>
                      <a:pt x="431" y="365"/>
                      <a:pt x="432" y="389"/>
                    </a:cubicBezTo>
                    <a:cubicBezTo>
                      <a:pt x="433" y="413"/>
                      <a:pt x="429" y="436"/>
                      <a:pt x="424" y="461"/>
                    </a:cubicBezTo>
                    <a:cubicBezTo>
                      <a:pt x="419" y="486"/>
                      <a:pt x="417" y="526"/>
                      <a:pt x="404" y="541"/>
                    </a:cubicBezTo>
                    <a:cubicBezTo>
                      <a:pt x="391" y="556"/>
                      <a:pt x="365" y="550"/>
                      <a:pt x="348" y="553"/>
                    </a:cubicBezTo>
                    <a:cubicBezTo>
                      <a:pt x="331" y="556"/>
                      <a:pt x="319" y="557"/>
                      <a:pt x="300" y="557"/>
                    </a:cubicBezTo>
                    <a:cubicBezTo>
                      <a:pt x="281" y="557"/>
                      <a:pt x="250" y="556"/>
                      <a:pt x="236" y="553"/>
                    </a:cubicBezTo>
                    <a:cubicBezTo>
                      <a:pt x="222" y="550"/>
                      <a:pt x="227" y="545"/>
                      <a:pt x="216" y="537"/>
                    </a:cubicBezTo>
                    <a:cubicBezTo>
                      <a:pt x="205" y="529"/>
                      <a:pt x="184" y="516"/>
                      <a:pt x="172" y="505"/>
                    </a:cubicBezTo>
                    <a:cubicBezTo>
                      <a:pt x="160" y="494"/>
                      <a:pt x="152" y="484"/>
                      <a:pt x="144" y="473"/>
                    </a:cubicBezTo>
                    <a:cubicBezTo>
                      <a:pt x="136" y="462"/>
                      <a:pt x="129" y="451"/>
                      <a:pt x="124" y="441"/>
                    </a:cubicBezTo>
                    <a:cubicBezTo>
                      <a:pt x="119" y="431"/>
                      <a:pt x="121" y="420"/>
                      <a:pt x="116" y="413"/>
                    </a:cubicBezTo>
                    <a:cubicBezTo>
                      <a:pt x="111" y="406"/>
                      <a:pt x="101" y="406"/>
                      <a:pt x="92" y="401"/>
                    </a:cubicBezTo>
                    <a:cubicBezTo>
                      <a:pt x="83" y="396"/>
                      <a:pt x="79" y="390"/>
                      <a:pt x="64" y="385"/>
                    </a:cubicBezTo>
                    <a:cubicBezTo>
                      <a:pt x="49" y="380"/>
                      <a:pt x="13" y="372"/>
                      <a:pt x="0" y="369"/>
                    </a:cubicBez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9" name=""/>
            <p:cNvSpPr/>
            <p:nvPr/>
          </p:nvSpPr>
          <p:spPr>
            <a:xfrm flipH="1">
              <a:off x="857160" y="1886040"/>
              <a:ext cx="1088640" cy="1612440"/>
            </a:xfrm>
            <a:custGeom>
              <a:avLst/>
              <a:gdLst/>
              <a:ahLst/>
              <a:rect l="l" t="t" r="r" b="b"/>
              <a:pathLst>
                <a:path w="529" h="744">
                  <a:moveTo>
                    <a:pt x="4" y="130"/>
                  </a:moveTo>
                  <a:cubicBezTo>
                    <a:pt x="13" y="116"/>
                    <a:pt x="27" y="69"/>
                    <a:pt x="49" y="50"/>
                  </a:cubicBezTo>
                  <a:cubicBezTo>
                    <a:pt x="70" y="31"/>
                    <a:pt x="90" y="20"/>
                    <a:pt x="132" y="17"/>
                  </a:cubicBezTo>
                  <a:cubicBezTo>
                    <a:pt x="173" y="13"/>
                    <a:pt x="245" y="0"/>
                    <a:pt x="298" y="30"/>
                  </a:cubicBezTo>
                  <a:cubicBezTo>
                    <a:pt x="352" y="60"/>
                    <a:pt x="419" y="145"/>
                    <a:pt x="451" y="196"/>
                  </a:cubicBezTo>
                  <a:cubicBezTo>
                    <a:pt x="484" y="247"/>
                    <a:pt x="483" y="281"/>
                    <a:pt x="496" y="335"/>
                  </a:cubicBezTo>
                  <a:cubicBezTo>
                    <a:pt x="509" y="389"/>
                    <a:pt x="529" y="464"/>
                    <a:pt x="528" y="521"/>
                  </a:cubicBezTo>
                  <a:cubicBezTo>
                    <a:pt x="527" y="579"/>
                    <a:pt x="510" y="645"/>
                    <a:pt x="490" y="681"/>
                  </a:cubicBezTo>
                  <a:cubicBezTo>
                    <a:pt x="470" y="717"/>
                    <a:pt x="442" y="724"/>
                    <a:pt x="407" y="734"/>
                  </a:cubicBezTo>
                  <a:cubicBezTo>
                    <a:pt x="372" y="744"/>
                    <a:pt x="326" y="742"/>
                    <a:pt x="279" y="741"/>
                  </a:cubicBezTo>
                  <a:cubicBezTo>
                    <a:pt x="232" y="740"/>
                    <a:pt x="164" y="741"/>
                    <a:pt x="125" y="727"/>
                  </a:cubicBezTo>
                  <a:cubicBezTo>
                    <a:pt x="87" y="714"/>
                    <a:pt x="66" y="688"/>
                    <a:pt x="49" y="661"/>
                  </a:cubicBezTo>
                  <a:cubicBezTo>
                    <a:pt x="32" y="634"/>
                    <a:pt x="31" y="583"/>
                    <a:pt x="23" y="561"/>
                  </a:cubicBezTo>
                  <a:cubicBezTo>
                    <a:pt x="15" y="539"/>
                    <a:pt x="5" y="535"/>
                    <a:pt x="0" y="528"/>
                  </a:cubicBezTo>
                </a:path>
              </a:pathLst>
            </a:custGeom>
            <a:solidFill>
              <a:srgbClr val="cccc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1054440" y="2048400"/>
              <a:ext cx="891360" cy="1207080"/>
            </a:xfrm>
            <a:custGeom>
              <a:avLst/>
              <a:gdLst/>
              <a:ahLst/>
              <a:rect l="l" t="t" r="r" b="b"/>
              <a:pathLst>
                <a:path w="433" h="557">
                  <a:moveTo>
                    <a:pt x="0" y="229"/>
                  </a:moveTo>
                  <a:cubicBezTo>
                    <a:pt x="17" y="229"/>
                    <a:pt x="35" y="230"/>
                    <a:pt x="52" y="229"/>
                  </a:cubicBezTo>
                  <a:cubicBezTo>
                    <a:pt x="69" y="228"/>
                    <a:pt x="88" y="244"/>
                    <a:pt x="100" y="225"/>
                  </a:cubicBezTo>
                  <a:cubicBezTo>
                    <a:pt x="112" y="206"/>
                    <a:pt x="116" y="144"/>
                    <a:pt x="124" y="117"/>
                  </a:cubicBezTo>
                  <a:cubicBezTo>
                    <a:pt x="132" y="90"/>
                    <a:pt x="137" y="74"/>
                    <a:pt x="148" y="61"/>
                  </a:cubicBezTo>
                  <a:cubicBezTo>
                    <a:pt x="159" y="48"/>
                    <a:pt x="170" y="43"/>
                    <a:pt x="188" y="37"/>
                  </a:cubicBezTo>
                  <a:cubicBezTo>
                    <a:pt x="206" y="31"/>
                    <a:pt x="234" y="29"/>
                    <a:pt x="256" y="25"/>
                  </a:cubicBezTo>
                  <a:cubicBezTo>
                    <a:pt x="278" y="21"/>
                    <a:pt x="305" y="17"/>
                    <a:pt x="320" y="13"/>
                  </a:cubicBezTo>
                  <a:cubicBezTo>
                    <a:pt x="335" y="9"/>
                    <a:pt x="341" y="0"/>
                    <a:pt x="348" y="1"/>
                  </a:cubicBezTo>
                  <a:cubicBezTo>
                    <a:pt x="355" y="2"/>
                    <a:pt x="365" y="7"/>
                    <a:pt x="364" y="21"/>
                  </a:cubicBezTo>
                  <a:cubicBezTo>
                    <a:pt x="363" y="35"/>
                    <a:pt x="348" y="57"/>
                    <a:pt x="340" y="85"/>
                  </a:cubicBezTo>
                  <a:cubicBezTo>
                    <a:pt x="332" y="113"/>
                    <a:pt x="326" y="164"/>
                    <a:pt x="316" y="189"/>
                  </a:cubicBezTo>
                  <a:cubicBezTo>
                    <a:pt x="306" y="214"/>
                    <a:pt x="274" y="224"/>
                    <a:pt x="280" y="237"/>
                  </a:cubicBezTo>
                  <a:cubicBezTo>
                    <a:pt x="286" y="250"/>
                    <a:pt x="329" y="252"/>
                    <a:pt x="352" y="265"/>
                  </a:cubicBezTo>
                  <a:cubicBezTo>
                    <a:pt x="375" y="278"/>
                    <a:pt x="403" y="296"/>
                    <a:pt x="416" y="317"/>
                  </a:cubicBezTo>
                  <a:cubicBezTo>
                    <a:pt x="429" y="338"/>
                    <a:pt x="431" y="365"/>
                    <a:pt x="432" y="389"/>
                  </a:cubicBezTo>
                  <a:cubicBezTo>
                    <a:pt x="433" y="413"/>
                    <a:pt x="429" y="436"/>
                    <a:pt x="424" y="461"/>
                  </a:cubicBezTo>
                  <a:cubicBezTo>
                    <a:pt x="419" y="486"/>
                    <a:pt x="417" y="526"/>
                    <a:pt x="404" y="541"/>
                  </a:cubicBezTo>
                  <a:cubicBezTo>
                    <a:pt x="391" y="556"/>
                    <a:pt x="365" y="550"/>
                    <a:pt x="348" y="553"/>
                  </a:cubicBezTo>
                  <a:cubicBezTo>
                    <a:pt x="331" y="556"/>
                    <a:pt x="319" y="557"/>
                    <a:pt x="300" y="557"/>
                  </a:cubicBezTo>
                  <a:cubicBezTo>
                    <a:pt x="281" y="557"/>
                    <a:pt x="250" y="556"/>
                    <a:pt x="236" y="553"/>
                  </a:cubicBezTo>
                  <a:cubicBezTo>
                    <a:pt x="222" y="550"/>
                    <a:pt x="227" y="545"/>
                    <a:pt x="216" y="537"/>
                  </a:cubicBezTo>
                  <a:cubicBezTo>
                    <a:pt x="205" y="529"/>
                    <a:pt x="184" y="516"/>
                    <a:pt x="172" y="505"/>
                  </a:cubicBezTo>
                  <a:cubicBezTo>
                    <a:pt x="160" y="494"/>
                    <a:pt x="152" y="484"/>
                    <a:pt x="144" y="473"/>
                  </a:cubicBezTo>
                  <a:cubicBezTo>
                    <a:pt x="136" y="462"/>
                    <a:pt x="129" y="451"/>
                    <a:pt x="124" y="441"/>
                  </a:cubicBezTo>
                  <a:cubicBezTo>
                    <a:pt x="119" y="431"/>
                    <a:pt x="121" y="420"/>
                    <a:pt x="116" y="413"/>
                  </a:cubicBezTo>
                  <a:cubicBezTo>
                    <a:pt x="111" y="406"/>
                    <a:pt x="101" y="406"/>
                    <a:pt x="92" y="401"/>
                  </a:cubicBezTo>
                  <a:cubicBezTo>
                    <a:pt x="83" y="396"/>
                    <a:pt x="79" y="390"/>
                    <a:pt x="64" y="385"/>
                  </a:cubicBezTo>
                  <a:cubicBezTo>
                    <a:pt x="49" y="380"/>
                    <a:pt x="13" y="372"/>
                    <a:pt x="0" y="369"/>
                  </a:cubicBez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1" name=""/>
          <p:cNvSpPr/>
          <p:nvPr/>
        </p:nvSpPr>
        <p:spPr>
          <a:xfrm>
            <a:off x="3400560" y="2222640"/>
            <a:ext cx="17136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517920" y="2273400"/>
            <a:ext cx="1827360" cy="2552760"/>
          </a:xfrm>
          <a:custGeom>
            <a:avLst/>
            <a:gdLst/>
            <a:ahLst/>
            <a:rect l="l" t="t" r="r" b="b"/>
            <a:pathLst>
              <a:path w="1151" h="1608">
                <a:moveTo>
                  <a:pt x="32" y="0"/>
                </a:moveTo>
                <a:cubicBezTo>
                  <a:pt x="16" y="13"/>
                  <a:pt x="0" y="27"/>
                  <a:pt x="24" y="56"/>
                </a:cubicBezTo>
                <a:cubicBezTo>
                  <a:pt x="48" y="85"/>
                  <a:pt x="71" y="116"/>
                  <a:pt x="176" y="176"/>
                </a:cubicBezTo>
                <a:cubicBezTo>
                  <a:pt x="281" y="236"/>
                  <a:pt x="517" y="345"/>
                  <a:pt x="656" y="416"/>
                </a:cubicBezTo>
                <a:cubicBezTo>
                  <a:pt x="795" y="487"/>
                  <a:pt x="933" y="556"/>
                  <a:pt x="1008" y="600"/>
                </a:cubicBezTo>
                <a:cubicBezTo>
                  <a:pt x="1083" y="644"/>
                  <a:pt x="1081" y="629"/>
                  <a:pt x="1104" y="680"/>
                </a:cubicBezTo>
                <a:cubicBezTo>
                  <a:pt x="1127" y="731"/>
                  <a:pt x="1137" y="811"/>
                  <a:pt x="1144" y="904"/>
                </a:cubicBezTo>
                <a:cubicBezTo>
                  <a:pt x="1151" y="997"/>
                  <a:pt x="1144" y="1123"/>
                  <a:pt x="1144" y="1240"/>
                </a:cubicBezTo>
                <a:cubicBezTo>
                  <a:pt x="1144" y="1357"/>
                  <a:pt x="1145" y="1548"/>
                  <a:pt x="1144" y="1608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341440" y="2008080"/>
            <a:ext cx="1113120" cy="912960"/>
          </a:xfrm>
          <a:custGeom>
            <a:avLst/>
            <a:gdLst/>
            <a:ahLst/>
            <a:rect l="l" t="t" r="r" b="b"/>
            <a:pathLst>
              <a:path w="701" h="575">
                <a:moveTo>
                  <a:pt x="701" y="175"/>
                </a:moveTo>
                <a:cubicBezTo>
                  <a:pt x="691" y="193"/>
                  <a:pt x="681" y="212"/>
                  <a:pt x="645" y="199"/>
                </a:cubicBezTo>
                <a:cubicBezTo>
                  <a:pt x="609" y="186"/>
                  <a:pt x="534" y="126"/>
                  <a:pt x="485" y="95"/>
                </a:cubicBezTo>
                <a:cubicBezTo>
                  <a:pt x="436" y="64"/>
                  <a:pt x="386" y="30"/>
                  <a:pt x="349" y="15"/>
                </a:cubicBezTo>
                <a:cubicBezTo>
                  <a:pt x="312" y="0"/>
                  <a:pt x="288" y="2"/>
                  <a:pt x="261" y="7"/>
                </a:cubicBezTo>
                <a:cubicBezTo>
                  <a:pt x="234" y="12"/>
                  <a:pt x="221" y="22"/>
                  <a:pt x="189" y="47"/>
                </a:cubicBezTo>
                <a:cubicBezTo>
                  <a:pt x="157" y="72"/>
                  <a:pt x="100" y="107"/>
                  <a:pt x="69" y="159"/>
                </a:cubicBezTo>
                <a:cubicBezTo>
                  <a:pt x="38" y="211"/>
                  <a:pt x="0" y="290"/>
                  <a:pt x="5" y="359"/>
                </a:cubicBezTo>
                <a:cubicBezTo>
                  <a:pt x="10" y="428"/>
                  <a:pt x="81" y="530"/>
                  <a:pt x="101" y="575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600280" y="3000240"/>
            <a:ext cx="1878120" cy="1809720"/>
          </a:xfrm>
          <a:custGeom>
            <a:avLst/>
            <a:gdLst/>
            <a:ahLst/>
            <a:rect l="l" t="t" r="r" b="b"/>
            <a:pathLst>
              <a:path w="1183" h="1140">
                <a:moveTo>
                  <a:pt x="0" y="0"/>
                </a:moveTo>
                <a:cubicBezTo>
                  <a:pt x="196" y="96"/>
                  <a:pt x="393" y="193"/>
                  <a:pt x="534" y="264"/>
                </a:cubicBezTo>
                <a:cubicBezTo>
                  <a:pt x="675" y="335"/>
                  <a:pt x="770" y="385"/>
                  <a:pt x="846" y="426"/>
                </a:cubicBezTo>
                <a:cubicBezTo>
                  <a:pt x="922" y="467"/>
                  <a:pt x="939" y="464"/>
                  <a:pt x="990" y="510"/>
                </a:cubicBezTo>
                <a:cubicBezTo>
                  <a:pt x="1041" y="556"/>
                  <a:pt x="1121" y="625"/>
                  <a:pt x="1152" y="702"/>
                </a:cubicBezTo>
                <a:cubicBezTo>
                  <a:pt x="1183" y="779"/>
                  <a:pt x="1172" y="899"/>
                  <a:pt x="1176" y="972"/>
                </a:cubicBezTo>
                <a:cubicBezTo>
                  <a:pt x="1180" y="1045"/>
                  <a:pt x="1178" y="1092"/>
                  <a:pt x="1176" y="1140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806360" y="548964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us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961080" y="225108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ibre sensi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H="1">
            <a:off x="5628960" y="4248000"/>
            <a:ext cx="361800" cy="5810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904360" y="3936960"/>
            <a:ext cx="25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useau neuro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455560" y="3790800"/>
            <a:ext cx="16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toneurone </a:t>
            </a:r>
            <a:r>
              <a:rPr b="1" lang="fr-FR" sz="1600" spc="-1" strike="noStrike">
                <a:solidFill>
                  <a:srgbClr val="5f5f5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098880" y="4699080"/>
            <a:ext cx="0" cy="11001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175520" y="4699080"/>
            <a:ext cx="0" cy="11001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438280" y="6091200"/>
            <a:ext cx="52200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951800" y="609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84120" y="892080"/>
            <a:ext cx="85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étirement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allongement du muscle et des fuseaux neuromusc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451240" y="4668840"/>
            <a:ext cx="0" cy="14223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683480" y="4668840"/>
            <a:ext cx="0" cy="14223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096920" y="355608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299120" y="4762440"/>
            <a:ext cx="317160" cy="152640"/>
          </a:xfrm>
          <a:prstGeom prst="flowChartExtra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451240" y="58039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7175160" y="579924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517840" y="2911320"/>
            <a:ext cx="203040" cy="1908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3" name=""/>
          <p:cNvGrpSpPr/>
          <p:nvPr/>
        </p:nvGrpSpPr>
        <p:grpSpPr>
          <a:xfrm>
            <a:off x="2413080" y="4568760"/>
            <a:ext cx="5303520" cy="730440"/>
            <a:chOff x="2413080" y="4568760"/>
            <a:chExt cx="5303520" cy="730440"/>
          </a:xfrm>
        </p:grpSpPr>
        <p:sp>
          <p:nvSpPr>
            <p:cNvPr id="1444" name=""/>
            <p:cNvSpPr/>
            <p:nvPr/>
          </p:nvSpPr>
          <p:spPr>
            <a:xfrm>
              <a:off x="2413080" y="4568760"/>
              <a:ext cx="5303520" cy="730440"/>
            </a:xfrm>
            <a:custGeom>
              <a:avLst/>
              <a:gdLst/>
              <a:ahLst/>
              <a:rect l="l" t="t" r="r" b="b"/>
              <a:pathLst>
                <a:path w="4019" h="568">
                  <a:moveTo>
                    <a:pt x="48" y="304"/>
                  </a:moveTo>
                  <a:cubicBezTo>
                    <a:pt x="183" y="298"/>
                    <a:pt x="324" y="289"/>
                    <a:pt x="456" y="256"/>
                  </a:cubicBezTo>
                  <a:cubicBezTo>
                    <a:pt x="588" y="223"/>
                    <a:pt x="720" y="179"/>
                    <a:pt x="856" y="160"/>
                  </a:cubicBezTo>
                  <a:cubicBezTo>
                    <a:pt x="997" y="113"/>
                    <a:pt x="1149" y="72"/>
                    <a:pt x="1296" y="56"/>
                  </a:cubicBezTo>
                  <a:cubicBezTo>
                    <a:pt x="1367" y="38"/>
                    <a:pt x="1388" y="38"/>
                    <a:pt x="1480" y="32"/>
                  </a:cubicBezTo>
                  <a:cubicBezTo>
                    <a:pt x="1560" y="12"/>
                    <a:pt x="1522" y="20"/>
                    <a:pt x="1592" y="8"/>
                  </a:cubicBezTo>
                  <a:cubicBezTo>
                    <a:pt x="1732" y="14"/>
                    <a:pt x="1877" y="28"/>
                    <a:pt x="2016" y="0"/>
                  </a:cubicBezTo>
                  <a:cubicBezTo>
                    <a:pt x="2099" y="3"/>
                    <a:pt x="2181" y="3"/>
                    <a:pt x="2264" y="8"/>
                  </a:cubicBezTo>
                  <a:cubicBezTo>
                    <a:pt x="2295" y="10"/>
                    <a:pt x="2329" y="27"/>
                    <a:pt x="2360" y="32"/>
                  </a:cubicBezTo>
                  <a:cubicBezTo>
                    <a:pt x="2455" y="47"/>
                    <a:pt x="2545" y="71"/>
                    <a:pt x="2640" y="80"/>
                  </a:cubicBezTo>
                  <a:cubicBezTo>
                    <a:pt x="2758" y="104"/>
                    <a:pt x="2855" y="100"/>
                    <a:pt x="2984" y="104"/>
                  </a:cubicBezTo>
                  <a:cubicBezTo>
                    <a:pt x="3044" y="111"/>
                    <a:pt x="3129" y="118"/>
                    <a:pt x="3184" y="136"/>
                  </a:cubicBezTo>
                  <a:cubicBezTo>
                    <a:pt x="3252" y="159"/>
                    <a:pt x="3337" y="186"/>
                    <a:pt x="3408" y="200"/>
                  </a:cubicBezTo>
                  <a:cubicBezTo>
                    <a:pt x="3439" y="206"/>
                    <a:pt x="3474" y="213"/>
                    <a:pt x="3504" y="224"/>
                  </a:cubicBezTo>
                  <a:cubicBezTo>
                    <a:pt x="3515" y="228"/>
                    <a:pt x="3524" y="237"/>
                    <a:pt x="3536" y="240"/>
                  </a:cubicBezTo>
                  <a:cubicBezTo>
                    <a:pt x="3628" y="265"/>
                    <a:pt x="3758" y="261"/>
                    <a:pt x="3840" y="264"/>
                  </a:cubicBezTo>
                  <a:cubicBezTo>
                    <a:pt x="3868" y="273"/>
                    <a:pt x="3902" y="274"/>
                    <a:pt x="3928" y="288"/>
                  </a:cubicBezTo>
                  <a:cubicBezTo>
                    <a:pt x="3945" y="297"/>
                    <a:pt x="3960" y="309"/>
                    <a:pt x="3976" y="320"/>
                  </a:cubicBezTo>
                  <a:cubicBezTo>
                    <a:pt x="3984" y="325"/>
                    <a:pt x="4000" y="336"/>
                    <a:pt x="4000" y="336"/>
                  </a:cubicBezTo>
                  <a:cubicBezTo>
                    <a:pt x="4008" y="359"/>
                    <a:pt x="4019" y="366"/>
                    <a:pt x="3984" y="368"/>
                  </a:cubicBezTo>
                  <a:cubicBezTo>
                    <a:pt x="3891" y="373"/>
                    <a:pt x="3797" y="373"/>
                    <a:pt x="3704" y="376"/>
                  </a:cubicBezTo>
                  <a:cubicBezTo>
                    <a:pt x="3632" y="400"/>
                    <a:pt x="3548" y="400"/>
                    <a:pt x="3472" y="408"/>
                  </a:cubicBezTo>
                  <a:cubicBezTo>
                    <a:pt x="3430" y="422"/>
                    <a:pt x="3387" y="426"/>
                    <a:pt x="3344" y="432"/>
                  </a:cubicBezTo>
                  <a:cubicBezTo>
                    <a:pt x="3239" y="467"/>
                    <a:pt x="3132" y="479"/>
                    <a:pt x="3024" y="496"/>
                  </a:cubicBezTo>
                  <a:cubicBezTo>
                    <a:pt x="2968" y="505"/>
                    <a:pt x="2912" y="525"/>
                    <a:pt x="2856" y="536"/>
                  </a:cubicBezTo>
                  <a:cubicBezTo>
                    <a:pt x="2759" y="555"/>
                    <a:pt x="2659" y="548"/>
                    <a:pt x="2560" y="552"/>
                  </a:cubicBezTo>
                  <a:cubicBezTo>
                    <a:pt x="2397" y="568"/>
                    <a:pt x="2237" y="561"/>
                    <a:pt x="2072" y="552"/>
                  </a:cubicBezTo>
                  <a:cubicBezTo>
                    <a:pt x="1933" y="517"/>
                    <a:pt x="2084" y="552"/>
                    <a:pt x="1720" y="552"/>
                  </a:cubicBezTo>
                  <a:cubicBezTo>
                    <a:pt x="1499" y="552"/>
                    <a:pt x="1277" y="547"/>
                    <a:pt x="1056" y="544"/>
                  </a:cubicBezTo>
                  <a:cubicBezTo>
                    <a:pt x="969" y="532"/>
                    <a:pt x="892" y="499"/>
                    <a:pt x="808" y="480"/>
                  </a:cubicBezTo>
                  <a:cubicBezTo>
                    <a:pt x="743" y="466"/>
                    <a:pt x="674" y="463"/>
                    <a:pt x="608" y="456"/>
                  </a:cubicBezTo>
                  <a:cubicBezTo>
                    <a:pt x="566" y="442"/>
                    <a:pt x="522" y="437"/>
                    <a:pt x="480" y="424"/>
                  </a:cubicBezTo>
                  <a:cubicBezTo>
                    <a:pt x="432" y="410"/>
                    <a:pt x="378" y="386"/>
                    <a:pt x="328" y="384"/>
                  </a:cubicBezTo>
                  <a:cubicBezTo>
                    <a:pt x="229" y="379"/>
                    <a:pt x="131" y="379"/>
                    <a:pt x="32" y="376"/>
                  </a:cubicBezTo>
                  <a:cubicBezTo>
                    <a:pt x="24" y="368"/>
                    <a:pt x="12" y="363"/>
                    <a:pt x="8" y="352"/>
                  </a:cubicBezTo>
                  <a:cubicBezTo>
                    <a:pt x="0" y="328"/>
                    <a:pt x="36" y="316"/>
                    <a:pt x="48" y="304"/>
                  </a:cubicBezTo>
                  <a:close/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716360" y="4798800"/>
              <a:ext cx="1159920" cy="105840"/>
            </a:xfrm>
            <a:prstGeom prst="ellipse">
              <a:avLst/>
            </a:prstGeom>
            <a:gradFill rotWithShape="0">
              <a:gsLst>
                <a:gs pos="0">
                  <a:srgbClr val="fefeaf"/>
                </a:gs>
                <a:gs pos="100000">
                  <a:srgbClr val="ffff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321520" y="4825440"/>
              <a:ext cx="289800" cy="64080"/>
            </a:xfrm>
            <a:custGeom>
              <a:avLst/>
              <a:gdLst/>
              <a:ahLst/>
              <a:rect l="l" t="t" r="r" b="b"/>
              <a:pathLst>
                <a:path w="166" h="94">
                  <a:moveTo>
                    <a:pt x="0" y="0"/>
                  </a:moveTo>
                  <a:cubicBezTo>
                    <a:pt x="49" y="6"/>
                    <a:pt x="52" y="1"/>
                    <a:pt x="66" y="42"/>
                  </a:cubicBezTo>
                  <a:cubicBezTo>
                    <a:pt x="59" y="62"/>
                    <a:pt x="49" y="94"/>
                    <a:pt x="36" y="54"/>
                  </a:cubicBezTo>
                  <a:cubicBezTo>
                    <a:pt x="46" y="4"/>
                    <a:pt x="56" y="12"/>
                    <a:pt x="108" y="18"/>
                  </a:cubicBezTo>
                  <a:cubicBezTo>
                    <a:pt x="106" y="36"/>
                    <a:pt x="110" y="56"/>
                    <a:pt x="102" y="72"/>
                  </a:cubicBezTo>
                  <a:cubicBezTo>
                    <a:pt x="99" y="78"/>
                    <a:pt x="86" y="72"/>
                    <a:pt x="84" y="66"/>
                  </a:cubicBezTo>
                  <a:cubicBezTo>
                    <a:pt x="81" y="52"/>
                    <a:pt x="84" y="37"/>
                    <a:pt x="90" y="24"/>
                  </a:cubicBezTo>
                  <a:cubicBezTo>
                    <a:pt x="94" y="15"/>
                    <a:pt x="118" y="9"/>
                    <a:pt x="126" y="6"/>
                  </a:cubicBezTo>
                  <a:cubicBezTo>
                    <a:pt x="132" y="8"/>
                    <a:pt x="140" y="7"/>
                    <a:pt x="144" y="12"/>
                  </a:cubicBezTo>
                  <a:cubicBezTo>
                    <a:pt x="156" y="29"/>
                    <a:pt x="166" y="59"/>
                    <a:pt x="156" y="7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81080" y="206280"/>
            <a:ext cx="88297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ise en jeu de l’arc réfl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857160" y="1886040"/>
            <a:ext cx="2166480" cy="1612440"/>
            <a:chOff x="857160" y="1886040"/>
            <a:chExt cx="2166480" cy="1612440"/>
          </a:xfrm>
        </p:grpSpPr>
        <p:grpSp>
          <p:nvGrpSpPr>
            <p:cNvPr id="1450" name=""/>
            <p:cNvGrpSpPr/>
            <p:nvPr/>
          </p:nvGrpSpPr>
          <p:grpSpPr>
            <a:xfrm>
              <a:off x="1935720" y="1886040"/>
              <a:ext cx="1087920" cy="1612080"/>
              <a:chOff x="1935720" y="1886040"/>
              <a:chExt cx="1087920" cy="1612080"/>
            </a:xfrm>
          </p:grpSpPr>
          <p:sp>
            <p:nvSpPr>
              <p:cNvPr id="1451" name=""/>
              <p:cNvSpPr/>
              <p:nvPr/>
            </p:nvSpPr>
            <p:spPr>
              <a:xfrm>
                <a:off x="1935720" y="1886040"/>
                <a:ext cx="1087920" cy="1612080"/>
              </a:xfrm>
              <a:custGeom>
                <a:avLst/>
                <a:gdLst/>
                <a:ahLst/>
                <a:rect l="l" t="t" r="r" b="b"/>
                <a:pathLst>
                  <a:path w="529" h="744">
                    <a:moveTo>
                      <a:pt x="4" y="130"/>
                    </a:moveTo>
                    <a:cubicBezTo>
                      <a:pt x="13" y="116"/>
                      <a:pt x="27" y="69"/>
                      <a:pt x="49" y="50"/>
                    </a:cubicBezTo>
                    <a:cubicBezTo>
                      <a:pt x="70" y="31"/>
                      <a:pt x="90" y="20"/>
                      <a:pt x="132" y="17"/>
                    </a:cubicBezTo>
                    <a:cubicBezTo>
                      <a:pt x="173" y="13"/>
                      <a:pt x="245" y="0"/>
                      <a:pt x="298" y="30"/>
                    </a:cubicBezTo>
                    <a:cubicBezTo>
                      <a:pt x="352" y="60"/>
                      <a:pt x="419" y="145"/>
                      <a:pt x="451" y="196"/>
                    </a:cubicBezTo>
                    <a:cubicBezTo>
                      <a:pt x="484" y="247"/>
                      <a:pt x="483" y="281"/>
                      <a:pt x="496" y="335"/>
                    </a:cubicBezTo>
                    <a:cubicBezTo>
                      <a:pt x="509" y="389"/>
                      <a:pt x="529" y="464"/>
                      <a:pt x="528" y="521"/>
                    </a:cubicBezTo>
                    <a:cubicBezTo>
                      <a:pt x="527" y="579"/>
                      <a:pt x="510" y="645"/>
                      <a:pt x="490" y="681"/>
                    </a:cubicBezTo>
                    <a:cubicBezTo>
                      <a:pt x="470" y="717"/>
                      <a:pt x="442" y="724"/>
                      <a:pt x="407" y="734"/>
                    </a:cubicBezTo>
                    <a:cubicBezTo>
                      <a:pt x="372" y="744"/>
                      <a:pt x="326" y="742"/>
                      <a:pt x="279" y="741"/>
                    </a:cubicBezTo>
                    <a:cubicBezTo>
                      <a:pt x="232" y="740"/>
                      <a:pt x="164" y="741"/>
                      <a:pt x="125" y="727"/>
                    </a:cubicBezTo>
                    <a:cubicBezTo>
                      <a:pt x="87" y="714"/>
                      <a:pt x="66" y="688"/>
                      <a:pt x="49" y="661"/>
                    </a:cubicBezTo>
                    <a:cubicBezTo>
                      <a:pt x="32" y="634"/>
                      <a:pt x="31" y="583"/>
                      <a:pt x="23" y="561"/>
                    </a:cubicBezTo>
                    <a:cubicBezTo>
                      <a:pt x="15" y="539"/>
                      <a:pt x="5" y="535"/>
                      <a:pt x="0" y="528"/>
                    </a:cubicBez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943640" y="2048400"/>
                <a:ext cx="891000" cy="1206720"/>
              </a:xfrm>
              <a:custGeom>
                <a:avLst/>
                <a:gdLst/>
                <a:ahLst/>
                <a:rect l="l" t="t" r="r" b="b"/>
                <a:pathLst>
                  <a:path w="433" h="557">
                    <a:moveTo>
                      <a:pt x="0" y="229"/>
                    </a:moveTo>
                    <a:cubicBezTo>
                      <a:pt x="17" y="229"/>
                      <a:pt x="35" y="230"/>
                      <a:pt x="52" y="229"/>
                    </a:cubicBezTo>
                    <a:cubicBezTo>
                      <a:pt x="69" y="228"/>
                      <a:pt x="88" y="244"/>
                      <a:pt x="100" y="225"/>
                    </a:cubicBezTo>
                    <a:cubicBezTo>
                      <a:pt x="112" y="206"/>
                      <a:pt x="116" y="144"/>
                      <a:pt x="124" y="117"/>
                    </a:cubicBezTo>
                    <a:cubicBezTo>
                      <a:pt x="132" y="90"/>
                      <a:pt x="137" y="74"/>
                      <a:pt x="148" y="61"/>
                    </a:cubicBezTo>
                    <a:cubicBezTo>
                      <a:pt x="159" y="48"/>
                      <a:pt x="170" y="43"/>
                      <a:pt x="188" y="37"/>
                    </a:cubicBezTo>
                    <a:cubicBezTo>
                      <a:pt x="206" y="31"/>
                      <a:pt x="234" y="29"/>
                      <a:pt x="256" y="25"/>
                    </a:cubicBezTo>
                    <a:cubicBezTo>
                      <a:pt x="278" y="21"/>
                      <a:pt x="305" y="17"/>
                      <a:pt x="320" y="13"/>
                    </a:cubicBezTo>
                    <a:cubicBezTo>
                      <a:pt x="335" y="9"/>
                      <a:pt x="341" y="0"/>
                      <a:pt x="348" y="1"/>
                    </a:cubicBezTo>
                    <a:cubicBezTo>
                      <a:pt x="355" y="2"/>
                      <a:pt x="365" y="7"/>
                      <a:pt x="364" y="21"/>
                    </a:cubicBezTo>
                    <a:cubicBezTo>
                      <a:pt x="363" y="35"/>
                      <a:pt x="348" y="57"/>
                      <a:pt x="340" y="85"/>
                    </a:cubicBezTo>
                    <a:cubicBezTo>
                      <a:pt x="332" y="113"/>
                      <a:pt x="326" y="164"/>
                      <a:pt x="316" y="189"/>
                    </a:cubicBezTo>
                    <a:cubicBezTo>
                      <a:pt x="306" y="214"/>
                      <a:pt x="274" y="224"/>
                      <a:pt x="280" y="237"/>
                    </a:cubicBezTo>
                    <a:cubicBezTo>
                      <a:pt x="286" y="250"/>
                      <a:pt x="329" y="252"/>
                      <a:pt x="352" y="265"/>
                    </a:cubicBezTo>
                    <a:cubicBezTo>
                      <a:pt x="375" y="278"/>
                      <a:pt x="403" y="296"/>
                      <a:pt x="416" y="317"/>
                    </a:cubicBezTo>
                    <a:cubicBezTo>
                      <a:pt x="429" y="338"/>
                      <a:pt x="431" y="365"/>
                      <a:pt x="432" y="389"/>
                    </a:cubicBezTo>
                    <a:cubicBezTo>
                      <a:pt x="433" y="413"/>
                      <a:pt x="429" y="436"/>
                      <a:pt x="424" y="461"/>
                    </a:cubicBezTo>
                    <a:cubicBezTo>
                      <a:pt x="419" y="486"/>
                      <a:pt x="417" y="526"/>
                      <a:pt x="404" y="541"/>
                    </a:cubicBezTo>
                    <a:cubicBezTo>
                      <a:pt x="391" y="556"/>
                      <a:pt x="365" y="550"/>
                      <a:pt x="348" y="553"/>
                    </a:cubicBezTo>
                    <a:cubicBezTo>
                      <a:pt x="331" y="556"/>
                      <a:pt x="319" y="557"/>
                      <a:pt x="300" y="557"/>
                    </a:cubicBezTo>
                    <a:cubicBezTo>
                      <a:pt x="281" y="557"/>
                      <a:pt x="250" y="556"/>
                      <a:pt x="236" y="553"/>
                    </a:cubicBezTo>
                    <a:cubicBezTo>
                      <a:pt x="222" y="550"/>
                      <a:pt x="227" y="545"/>
                      <a:pt x="216" y="537"/>
                    </a:cubicBezTo>
                    <a:cubicBezTo>
                      <a:pt x="205" y="529"/>
                      <a:pt x="184" y="516"/>
                      <a:pt x="172" y="505"/>
                    </a:cubicBezTo>
                    <a:cubicBezTo>
                      <a:pt x="160" y="494"/>
                      <a:pt x="152" y="484"/>
                      <a:pt x="144" y="473"/>
                    </a:cubicBezTo>
                    <a:cubicBezTo>
                      <a:pt x="136" y="462"/>
                      <a:pt x="129" y="451"/>
                      <a:pt x="124" y="441"/>
                    </a:cubicBezTo>
                    <a:cubicBezTo>
                      <a:pt x="119" y="431"/>
                      <a:pt x="121" y="420"/>
                      <a:pt x="116" y="413"/>
                    </a:cubicBezTo>
                    <a:cubicBezTo>
                      <a:pt x="111" y="406"/>
                      <a:pt x="101" y="406"/>
                      <a:pt x="92" y="401"/>
                    </a:cubicBezTo>
                    <a:cubicBezTo>
                      <a:pt x="83" y="396"/>
                      <a:pt x="79" y="390"/>
                      <a:pt x="64" y="385"/>
                    </a:cubicBezTo>
                    <a:cubicBezTo>
                      <a:pt x="49" y="380"/>
                      <a:pt x="13" y="372"/>
                      <a:pt x="0" y="369"/>
                    </a:cubicBez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"/>
            <p:cNvSpPr/>
            <p:nvPr/>
          </p:nvSpPr>
          <p:spPr>
            <a:xfrm flipH="1">
              <a:off x="857160" y="1886040"/>
              <a:ext cx="1088640" cy="1612440"/>
            </a:xfrm>
            <a:custGeom>
              <a:avLst/>
              <a:gdLst/>
              <a:ahLst/>
              <a:rect l="l" t="t" r="r" b="b"/>
              <a:pathLst>
                <a:path w="529" h="744">
                  <a:moveTo>
                    <a:pt x="4" y="130"/>
                  </a:moveTo>
                  <a:cubicBezTo>
                    <a:pt x="13" y="116"/>
                    <a:pt x="27" y="69"/>
                    <a:pt x="49" y="50"/>
                  </a:cubicBezTo>
                  <a:cubicBezTo>
                    <a:pt x="70" y="31"/>
                    <a:pt x="90" y="20"/>
                    <a:pt x="132" y="17"/>
                  </a:cubicBezTo>
                  <a:cubicBezTo>
                    <a:pt x="173" y="13"/>
                    <a:pt x="245" y="0"/>
                    <a:pt x="298" y="30"/>
                  </a:cubicBezTo>
                  <a:cubicBezTo>
                    <a:pt x="352" y="60"/>
                    <a:pt x="419" y="145"/>
                    <a:pt x="451" y="196"/>
                  </a:cubicBezTo>
                  <a:cubicBezTo>
                    <a:pt x="484" y="247"/>
                    <a:pt x="483" y="281"/>
                    <a:pt x="496" y="335"/>
                  </a:cubicBezTo>
                  <a:cubicBezTo>
                    <a:pt x="509" y="389"/>
                    <a:pt x="529" y="464"/>
                    <a:pt x="528" y="521"/>
                  </a:cubicBezTo>
                  <a:cubicBezTo>
                    <a:pt x="527" y="579"/>
                    <a:pt x="510" y="645"/>
                    <a:pt x="490" y="681"/>
                  </a:cubicBezTo>
                  <a:cubicBezTo>
                    <a:pt x="470" y="717"/>
                    <a:pt x="442" y="724"/>
                    <a:pt x="407" y="734"/>
                  </a:cubicBezTo>
                  <a:cubicBezTo>
                    <a:pt x="372" y="744"/>
                    <a:pt x="326" y="742"/>
                    <a:pt x="279" y="741"/>
                  </a:cubicBezTo>
                  <a:cubicBezTo>
                    <a:pt x="232" y="740"/>
                    <a:pt x="164" y="741"/>
                    <a:pt x="125" y="727"/>
                  </a:cubicBezTo>
                  <a:cubicBezTo>
                    <a:pt x="87" y="714"/>
                    <a:pt x="66" y="688"/>
                    <a:pt x="49" y="661"/>
                  </a:cubicBezTo>
                  <a:cubicBezTo>
                    <a:pt x="32" y="634"/>
                    <a:pt x="31" y="583"/>
                    <a:pt x="23" y="561"/>
                  </a:cubicBezTo>
                  <a:cubicBezTo>
                    <a:pt x="15" y="539"/>
                    <a:pt x="5" y="535"/>
                    <a:pt x="0" y="528"/>
                  </a:cubicBezTo>
                </a:path>
              </a:pathLst>
            </a:custGeom>
            <a:solidFill>
              <a:srgbClr val="cccc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1054440" y="2048400"/>
              <a:ext cx="891360" cy="1207080"/>
            </a:xfrm>
            <a:custGeom>
              <a:avLst/>
              <a:gdLst/>
              <a:ahLst/>
              <a:rect l="l" t="t" r="r" b="b"/>
              <a:pathLst>
                <a:path w="433" h="557">
                  <a:moveTo>
                    <a:pt x="0" y="229"/>
                  </a:moveTo>
                  <a:cubicBezTo>
                    <a:pt x="17" y="229"/>
                    <a:pt x="35" y="230"/>
                    <a:pt x="52" y="229"/>
                  </a:cubicBezTo>
                  <a:cubicBezTo>
                    <a:pt x="69" y="228"/>
                    <a:pt x="88" y="244"/>
                    <a:pt x="100" y="225"/>
                  </a:cubicBezTo>
                  <a:cubicBezTo>
                    <a:pt x="112" y="206"/>
                    <a:pt x="116" y="144"/>
                    <a:pt x="124" y="117"/>
                  </a:cubicBezTo>
                  <a:cubicBezTo>
                    <a:pt x="132" y="90"/>
                    <a:pt x="137" y="74"/>
                    <a:pt x="148" y="61"/>
                  </a:cubicBezTo>
                  <a:cubicBezTo>
                    <a:pt x="159" y="48"/>
                    <a:pt x="170" y="43"/>
                    <a:pt x="188" y="37"/>
                  </a:cubicBezTo>
                  <a:cubicBezTo>
                    <a:pt x="206" y="31"/>
                    <a:pt x="234" y="29"/>
                    <a:pt x="256" y="25"/>
                  </a:cubicBezTo>
                  <a:cubicBezTo>
                    <a:pt x="278" y="21"/>
                    <a:pt x="305" y="17"/>
                    <a:pt x="320" y="13"/>
                  </a:cubicBezTo>
                  <a:cubicBezTo>
                    <a:pt x="335" y="9"/>
                    <a:pt x="341" y="0"/>
                    <a:pt x="348" y="1"/>
                  </a:cubicBezTo>
                  <a:cubicBezTo>
                    <a:pt x="355" y="2"/>
                    <a:pt x="365" y="7"/>
                    <a:pt x="364" y="21"/>
                  </a:cubicBezTo>
                  <a:cubicBezTo>
                    <a:pt x="363" y="35"/>
                    <a:pt x="348" y="57"/>
                    <a:pt x="340" y="85"/>
                  </a:cubicBezTo>
                  <a:cubicBezTo>
                    <a:pt x="332" y="113"/>
                    <a:pt x="326" y="164"/>
                    <a:pt x="316" y="189"/>
                  </a:cubicBezTo>
                  <a:cubicBezTo>
                    <a:pt x="306" y="214"/>
                    <a:pt x="274" y="224"/>
                    <a:pt x="280" y="237"/>
                  </a:cubicBezTo>
                  <a:cubicBezTo>
                    <a:pt x="286" y="250"/>
                    <a:pt x="329" y="252"/>
                    <a:pt x="352" y="265"/>
                  </a:cubicBezTo>
                  <a:cubicBezTo>
                    <a:pt x="375" y="278"/>
                    <a:pt x="403" y="296"/>
                    <a:pt x="416" y="317"/>
                  </a:cubicBezTo>
                  <a:cubicBezTo>
                    <a:pt x="429" y="338"/>
                    <a:pt x="431" y="365"/>
                    <a:pt x="432" y="389"/>
                  </a:cubicBezTo>
                  <a:cubicBezTo>
                    <a:pt x="433" y="413"/>
                    <a:pt x="429" y="436"/>
                    <a:pt x="424" y="461"/>
                  </a:cubicBezTo>
                  <a:cubicBezTo>
                    <a:pt x="419" y="486"/>
                    <a:pt x="417" y="526"/>
                    <a:pt x="404" y="541"/>
                  </a:cubicBezTo>
                  <a:cubicBezTo>
                    <a:pt x="391" y="556"/>
                    <a:pt x="365" y="550"/>
                    <a:pt x="348" y="553"/>
                  </a:cubicBezTo>
                  <a:cubicBezTo>
                    <a:pt x="331" y="556"/>
                    <a:pt x="319" y="557"/>
                    <a:pt x="300" y="557"/>
                  </a:cubicBezTo>
                  <a:cubicBezTo>
                    <a:pt x="281" y="557"/>
                    <a:pt x="250" y="556"/>
                    <a:pt x="236" y="553"/>
                  </a:cubicBezTo>
                  <a:cubicBezTo>
                    <a:pt x="222" y="550"/>
                    <a:pt x="227" y="545"/>
                    <a:pt x="216" y="537"/>
                  </a:cubicBezTo>
                  <a:cubicBezTo>
                    <a:pt x="205" y="529"/>
                    <a:pt x="184" y="516"/>
                    <a:pt x="172" y="505"/>
                  </a:cubicBezTo>
                  <a:cubicBezTo>
                    <a:pt x="160" y="494"/>
                    <a:pt x="152" y="484"/>
                    <a:pt x="144" y="473"/>
                  </a:cubicBezTo>
                  <a:cubicBezTo>
                    <a:pt x="136" y="462"/>
                    <a:pt x="129" y="451"/>
                    <a:pt x="124" y="441"/>
                  </a:cubicBezTo>
                  <a:cubicBezTo>
                    <a:pt x="119" y="431"/>
                    <a:pt x="121" y="420"/>
                    <a:pt x="116" y="413"/>
                  </a:cubicBezTo>
                  <a:cubicBezTo>
                    <a:pt x="111" y="406"/>
                    <a:pt x="101" y="406"/>
                    <a:pt x="92" y="401"/>
                  </a:cubicBezTo>
                  <a:cubicBezTo>
                    <a:pt x="83" y="396"/>
                    <a:pt x="79" y="390"/>
                    <a:pt x="64" y="385"/>
                  </a:cubicBezTo>
                  <a:cubicBezTo>
                    <a:pt x="49" y="380"/>
                    <a:pt x="13" y="372"/>
                    <a:pt x="0" y="369"/>
                  </a:cubicBez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3400560" y="2222640"/>
            <a:ext cx="17136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17920" y="2273400"/>
            <a:ext cx="1827360" cy="2552760"/>
          </a:xfrm>
          <a:custGeom>
            <a:avLst/>
            <a:gdLst/>
            <a:ahLst/>
            <a:rect l="l" t="t" r="r" b="b"/>
            <a:pathLst>
              <a:path w="1151" h="1608">
                <a:moveTo>
                  <a:pt x="32" y="0"/>
                </a:moveTo>
                <a:cubicBezTo>
                  <a:pt x="16" y="13"/>
                  <a:pt x="0" y="27"/>
                  <a:pt x="24" y="56"/>
                </a:cubicBezTo>
                <a:cubicBezTo>
                  <a:pt x="48" y="85"/>
                  <a:pt x="71" y="116"/>
                  <a:pt x="176" y="176"/>
                </a:cubicBezTo>
                <a:cubicBezTo>
                  <a:pt x="281" y="236"/>
                  <a:pt x="517" y="345"/>
                  <a:pt x="656" y="416"/>
                </a:cubicBezTo>
                <a:cubicBezTo>
                  <a:pt x="795" y="487"/>
                  <a:pt x="933" y="556"/>
                  <a:pt x="1008" y="600"/>
                </a:cubicBezTo>
                <a:cubicBezTo>
                  <a:pt x="1083" y="644"/>
                  <a:pt x="1081" y="629"/>
                  <a:pt x="1104" y="680"/>
                </a:cubicBezTo>
                <a:cubicBezTo>
                  <a:pt x="1127" y="731"/>
                  <a:pt x="1137" y="811"/>
                  <a:pt x="1144" y="904"/>
                </a:cubicBezTo>
                <a:cubicBezTo>
                  <a:pt x="1151" y="997"/>
                  <a:pt x="1144" y="1123"/>
                  <a:pt x="1144" y="1240"/>
                </a:cubicBezTo>
                <a:cubicBezTo>
                  <a:pt x="1144" y="1357"/>
                  <a:pt x="1145" y="1548"/>
                  <a:pt x="1144" y="1608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341440" y="2008080"/>
            <a:ext cx="1113120" cy="912960"/>
          </a:xfrm>
          <a:custGeom>
            <a:avLst/>
            <a:gdLst/>
            <a:ahLst/>
            <a:rect l="l" t="t" r="r" b="b"/>
            <a:pathLst>
              <a:path w="701" h="575">
                <a:moveTo>
                  <a:pt x="701" y="175"/>
                </a:moveTo>
                <a:cubicBezTo>
                  <a:pt x="691" y="193"/>
                  <a:pt x="681" y="212"/>
                  <a:pt x="645" y="199"/>
                </a:cubicBezTo>
                <a:cubicBezTo>
                  <a:pt x="609" y="186"/>
                  <a:pt x="534" y="126"/>
                  <a:pt x="485" y="95"/>
                </a:cubicBezTo>
                <a:cubicBezTo>
                  <a:pt x="436" y="64"/>
                  <a:pt x="386" y="30"/>
                  <a:pt x="349" y="15"/>
                </a:cubicBezTo>
                <a:cubicBezTo>
                  <a:pt x="312" y="0"/>
                  <a:pt x="288" y="2"/>
                  <a:pt x="261" y="7"/>
                </a:cubicBezTo>
                <a:cubicBezTo>
                  <a:pt x="234" y="12"/>
                  <a:pt x="221" y="22"/>
                  <a:pt x="189" y="47"/>
                </a:cubicBezTo>
                <a:cubicBezTo>
                  <a:pt x="157" y="72"/>
                  <a:pt x="100" y="107"/>
                  <a:pt x="69" y="159"/>
                </a:cubicBezTo>
                <a:cubicBezTo>
                  <a:pt x="38" y="211"/>
                  <a:pt x="0" y="290"/>
                  <a:pt x="5" y="359"/>
                </a:cubicBezTo>
                <a:cubicBezTo>
                  <a:pt x="10" y="428"/>
                  <a:pt x="81" y="530"/>
                  <a:pt x="101" y="575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600280" y="3000240"/>
            <a:ext cx="1878120" cy="1809720"/>
          </a:xfrm>
          <a:custGeom>
            <a:avLst/>
            <a:gdLst/>
            <a:ahLst/>
            <a:rect l="l" t="t" r="r" b="b"/>
            <a:pathLst>
              <a:path w="1183" h="1140">
                <a:moveTo>
                  <a:pt x="0" y="0"/>
                </a:moveTo>
                <a:cubicBezTo>
                  <a:pt x="196" y="96"/>
                  <a:pt x="393" y="193"/>
                  <a:pt x="534" y="264"/>
                </a:cubicBezTo>
                <a:cubicBezTo>
                  <a:pt x="675" y="335"/>
                  <a:pt x="770" y="385"/>
                  <a:pt x="846" y="426"/>
                </a:cubicBezTo>
                <a:cubicBezTo>
                  <a:pt x="922" y="467"/>
                  <a:pt x="939" y="464"/>
                  <a:pt x="990" y="510"/>
                </a:cubicBezTo>
                <a:cubicBezTo>
                  <a:pt x="1041" y="556"/>
                  <a:pt x="1121" y="625"/>
                  <a:pt x="1152" y="702"/>
                </a:cubicBezTo>
                <a:cubicBezTo>
                  <a:pt x="1183" y="779"/>
                  <a:pt x="1172" y="899"/>
                  <a:pt x="1176" y="972"/>
                </a:cubicBezTo>
                <a:cubicBezTo>
                  <a:pt x="1180" y="1045"/>
                  <a:pt x="1178" y="1092"/>
                  <a:pt x="1176" y="1140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806360" y="548964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us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961080" y="225108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ibre sensi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5628960" y="4248000"/>
            <a:ext cx="361800" cy="5810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904360" y="3936960"/>
            <a:ext cx="25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useau neuro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455560" y="3790800"/>
            <a:ext cx="16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toneurone </a:t>
            </a:r>
            <a:r>
              <a:rPr b="1" lang="fr-FR" sz="1600" spc="-1" strike="noStrike">
                <a:solidFill>
                  <a:srgbClr val="5f5f5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098880" y="4699080"/>
            <a:ext cx="0" cy="11001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175520" y="4699080"/>
            <a:ext cx="0" cy="11001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438280" y="6091200"/>
            <a:ext cx="52200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951800" y="609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84120" y="892080"/>
            <a:ext cx="850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étirement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allongement du muscle et des fuseaux neuromusc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timulation des fibres Ia et 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451240" y="4668840"/>
            <a:ext cx="0" cy="14223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7683480" y="4668840"/>
            <a:ext cx="0" cy="14223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345280" y="41878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243760" y="31212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697640" y="27655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383200" y="25369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370240" y="22068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60880" y="25239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210120" y="18892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357880" y="37306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096920" y="355608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299120" y="4762440"/>
            <a:ext cx="317160" cy="152640"/>
          </a:xfrm>
          <a:prstGeom prst="flowChartExtra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451240" y="58039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7175160" y="579924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517840" y="2911320"/>
            <a:ext cx="203040" cy="1908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5" name=""/>
          <p:cNvGrpSpPr/>
          <p:nvPr/>
        </p:nvGrpSpPr>
        <p:grpSpPr>
          <a:xfrm>
            <a:off x="2413080" y="4568760"/>
            <a:ext cx="5303520" cy="730440"/>
            <a:chOff x="2413080" y="4568760"/>
            <a:chExt cx="5303520" cy="730440"/>
          </a:xfrm>
        </p:grpSpPr>
        <p:sp>
          <p:nvSpPr>
            <p:cNvPr id="1486" name=""/>
            <p:cNvSpPr/>
            <p:nvPr/>
          </p:nvSpPr>
          <p:spPr>
            <a:xfrm>
              <a:off x="2413080" y="4568760"/>
              <a:ext cx="5303520" cy="730440"/>
            </a:xfrm>
            <a:custGeom>
              <a:avLst/>
              <a:gdLst/>
              <a:ahLst/>
              <a:rect l="l" t="t" r="r" b="b"/>
              <a:pathLst>
                <a:path w="4019" h="568">
                  <a:moveTo>
                    <a:pt x="48" y="304"/>
                  </a:moveTo>
                  <a:cubicBezTo>
                    <a:pt x="183" y="298"/>
                    <a:pt x="324" y="289"/>
                    <a:pt x="456" y="256"/>
                  </a:cubicBezTo>
                  <a:cubicBezTo>
                    <a:pt x="588" y="223"/>
                    <a:pt x="720" y="179"/>
                    <a:pt x="856" y="160"/>
                  </a:cubicBezTo>
                  <a:cubicBezTo>
                    <a:pt x="997" y="113"/>
                    <a:pt x="1149" y="72"/>
                    <a:pt x="1296" y="56"/>
                  </a:cubicBezTo>
                  <a:cubicBezTo>
                    <a:pt x="1367" y="38"/>
                    <a:pt x="1388" y="38"/>
                    <a:pt x="1480" y="32"/>
                  </a:cubicBezTo>
                  <a:cubicBezTo>
                    <a:pt x="1560" y="12"/>
                    <a:pt x="1522" y="20"/>
                    <a:pt x="1592" y="8"/>
                  </a:cubicBezTo>
                  <a:cubicBezTo>
                    <a:pt x="1732" y="14"/>
                    <a:pt x="1877" y="28"/>
                    <a:pt x="2016" y="0"/>
                  </a:cubicBezTo>
                  <a:cubicBezTo>
                    <a:pt x="2099" y="3"/>
                    <a:pt x="2181" y="3"/>
                    <a:pt x="2264" y="8"/>
                  </a:cubicBezTo>
                  <a:cubicBezTo>
                    <a:pt x="2295" y="10"/>
                    <a:pt x="2329" y="27"/>
                    <a:pt x="2360" y="32"/>
                  </a:cubicBezTo>
                  <a:cubicBezTo>
                    <a:pt x="2455" y="47"/>
                    <a:pt x="2545" y="71"/>
                    <a:pt x="2640" y="80"/>
                  </a:cubicBezTo>
                  <a:cubicBezTo>
                    <a:pt x="2758" y="104"/>
                    <a:pt x="2855" y="100"/>
                    <a:pt x="2984" y="104"/>
                  </a:cubicBezTo>
                  <a:cubicBezTo>
                    <a:pt x="3044" y="111"/>
                    <a:pt x="3129" y="118"/>
                    <a:pt x="3184" y="136"/>
                  </a:cubicBezTo>
                  <a:cubicBezTo>
                    <a:pt x="3252" y="159"/>
                    <a:pt x="3337" y="186"/>
                    <a:pt x="3408" y="200"/>
                  </a:cubicBezTo>
                  <a:cubicBezTo>
                    <a:pt x="3439" y="206"/>
                    <a:pt x="3474" y="213"/>
                    <a:pt x="3504" y="224"/>
                  </a:cubicBezTo>
                  <a:cubicBezTo>
                    <a:pt x="3515" y="228"/>
                    <a:pt x="3524" y="237"/>
                    <a:pt x="3536" y="240"/>
                  </a:cubicBezTo>
                  <a:cubicBezTo>
                    <a:pt x="3628" y="265"/>
                    <a:pt x="3758" y="261"/>
                    <a:pt x="3840" y="264"/>
                  </a:cubicBezTo>
                  <a:cubicBezTo>
                    <a:pt x="3868" y="273"/>
                    <a:pt x="3902" y="274"/>
                    <a:pt x="3928" y="288"/>
                  </a:cubicBezTo>
                  <a:cubicBezTo>
                    <a:pt x="3945" y="297"/>
                    <a:pt x="3960" y="309"/>
                    <a:pt x="3976" y="320"/>
                  </a:cubicBezTo>
                  <a:cubicBezTo>
                    <a:pt x="3984" y="325"/>
                    <a:pt x="4000" y="336"/>
                    <a:pt x="4000" y="336"/>
                  </a:cubicBezTo>
                  <a:cubicBezTo>
                    <a:pt x="4008" y="359"/>
                    <a:pt x="4019" y="366"/>
                    <a:pt x="3984" y="368"/>
                  </a:cubicBezTo>
                  <a:cubicBezTo>
                    <a:pt x="3891" y="373"/>
                    <a:pt x="3797" y="373"/>
                    <a:pt x="3704" y="376"/>
                  </a:cubicBezTo>
                  <a:cubicBezTo>
                    <a:pt x="3632" y="400"/>
                    <a:pt x="3548" y="400"/>
                    <a:pt x="3472" y="408"/>
                  </a:cubicBezTo>
                  <a:cubicBezTo>
                    <a:pt x="3430" y="422"/>
                    <a:pt x="3387" y="426"/>
                    <a:pt x="3344" y="432"/>
                  </a:cubicBezTo>
                  <a:cubicBezTo>
                    <a:pt x="3239" y="467"/>
                    <a:pt x="3132" y="479"/>
                    <a:pt x="3024" y="496"/>
                  </a:cubicBezTo>
                  <a:cubicBezTo>
                    <a:pt x="2968" y="505"/>
                    <a:pt x="2912" y="525"/>
                    <a:pt x="2856" y="536"/>
                  </a:cubicBezTo>
                  <a:cubicBezTo>
                    <a:pt x="2759" y="555"/>
                    <a:pt x="2659" y="548"/>
                    <a:pt x="2560" y="552"/>
                  </a:cubicBezTo>
                  <a:cubicBezTo>
                    <a:pt x="2397" y="568"/>
                    <a:pt x="2237" y="561"/>
                    <a:pt x="2072" y="552"/>
                  </a:cubicBezTo>
                  <a:cubicBezTo>
                    <a:pt x="1933" y="517"/>
                    <a:pt x="2084" y="552"/>
                    <a:pt x="1720" y="552"/>
                  </a:cubicBezTo>
                  <a:cubicBezTo>
                    <a:pt x="1499" y="552"/>
                    <a:pt x="1277" y="547"/>
                    <a:pt x="1056" y="544"/>
                  </a:cubicBezTo>
                  <a:cubicBezTo>
                    <a:pt x="969" y="532"/>
                    <a:pt x="892" y="499"/>
                    <a:pt x="808" y="480"/>
                  </a:cubicBezTo>
                  <a:cubicBezTo>
                    <a:pt x="743" y="466"/>
                    <a:pt x="674" y="463"/>
                    <a:pt x="608" y="456"/>
                  </a:cubicBezTo>
                  <a:cubicBezTo>
                    <a:pt x="566" y="442"/>
                    <a:pt x="522" y="437"/>
                    <a:pt x="480" y="424"/>
                  </a:cubicBezTo>
                  <a:cubicBezTo>
                    <a:pt x="432" y="410"/>
                    <a:pt x="378" y="386"/>
                    <a:pt x="328" y="384"/>
                  </a:cubicBezTo>
                  <a:cubicBezTo>
                    <a:pt x="229" y="379"/>
                    <a:pt x="131" y="379"/>
                    <a:pt x="32" y="376"/>
                  </a:cubicBezTo>
                  <a:cubicBezTo>
                    <a:pt x="24" y="368"/>
                    <a:pt x="12" y="363"/>
                    <a:pt x="8" y="352"/>
                  </a:cubicBezTo>
                  <a:cubicBezTo>
                    <a:pt x="0" y="328"/>
                    <a:pt x="36" y="316"/>
                    <a:pt x="48" y="304"/>
                  </a:cubicBezTo>
                  <a:close/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716360" y="4798800"/>
              <a:ext cx="1159920" cy="105840"/>
            </a:xfrm>
            <a:prstGeom prst="ellipse">
              <a:avLst/>
            </a:prstGeom>
            <a:gradFill rotWithShape="0">
              <a:gsLst>
                <a:gs pos="0">
                  <a:srgbClr val="fefeaf"/>
                </a:gs>
                <a:gs pos="100000">
                  <a:srgbClr val="ffff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321520" y="4825440"/>
              <a:ext cx="289800" cy="64080"/>
            </a:xfrm>
            <a:custGeom>
              <a:avLst/>
              <a:gdLst/>
              <a:ahLst/>
              <a:rect l="l" t="t" r="r" b="b"/>
              <a:pathLst>
                <a:path w="166" h="94">
                  <a:moveTo>
                    <a:pt x="0" y="0"/>
                  </a:moveTo>
                  <a:cubicBezTo>
                    <a:pt x="49" y="6"/>
                    <a:pt x="52" y="1"/>
                    <a:pt x="66" y="42"/>
                  </a:cubicBezTo>
                  <a:cubicBezTo>
                    <a:pt x="59" y="62"/>
                    <a:pt x="49" y="94"/>
                    <a:pt x="36" y="54"/>
                  </a:cubicBezTo>
                  <a:cubicBezTo>
                    <a:pt x="46" y="4"/>
                    <a:pt x="56" y="12"/>
                    <a:pt x="108" y="18"/>
                  </a:cubicBezTo>
                  <a:cubicBezTo>
                    <a:pt x="106" y="36"/>
                    <a:pt x="110" y="56"/>
                    <a:pt x="102" y="72"/>
                  </a:cubicBezTo>
                  <a:cubicBezTo>
                    <a:pt x="99" y="78"/>
                    <a:pt x="86" y="72"/>
                    <a:pt x="84" y="66"/>
                  </a:cubicBezTo>
                  <a:cubicBezTo>
                    <a:pt x="81" y="52"/>
                    <a:pt x="84" y="37"/>
                    <a:pt x="90" y="24"/>
                  </a:cubicBezTo>
                  <a:cubicBezTo>
                    <a:pt x="94" y="15"/>
                    <a:pt x="118" y="9"/>
                    <a:pt x="126" y="6"/>
                  </a:cubicBezTo>
                  <a:cubicBezTo>
                    <a:pt x="132" y="8"/>
                    <a:pt x="140" y="7"/>
                    <a:pt x="144" y="12"/>
                  </a:cubicBezTo>
                  <a:cubicBezTo>
                    <a:pt x="156" y="29"/>
                    <a:pt x="166" y="59"/>
                    <a:pt x="156" y="7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81080" y="206280"/>
            <a:ext cx="88297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ise en jeu de l’arc réfl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" name=""/>
          <p:cNvGrpSpPr/>
          <p:nvPr/>
        </p:nvGrpSpPr>
        <p:grpSpPr>
          <a:xfrm>
            <a:off x="857160" y="1886040"/>
            <a:ext cx="2166480" cy="1612440"/>
            <a:chOff x="857160" y="1886040"/>
            <a:chExt cx="2166480" cy="1612440"/>
          </a:xfrm>
        </p:grpSpPr>
        <p:grpSp>
          <p:nvGrpSpPr>
            <p:cNvPr id="1492" name=""/>
            <p:cNvGrpSpPr/>
            <p:nvPr/>
          </p:nvGrpSpPr>
          <p:grpSpPr>
            <a:xfrm>
              <a:off x="1935720" y="1886040"/>
              <a:ext cx="1087920" cy="1612080"/>
              <a:chOff x="1935720" y="1886040"/>
              <a:chExt cx="1087920" cy="1612080"/>
            </a:xfrm>
          </p:grpSpPr>
          <p:sp>
            <p:nvSpPr>
              <p:cNvPr id="1493" name=""/>
              <p:cNvSpPr/>
              <p:nvPr/>
            </p:nvSpPr>
            <p:spPr>
              <a:xfrm>
                <a:off x="1935720" y="1886040"/>
                <a:ext cx="1087920" cy="1612080"/>
              </a:xfrm>
              <a:custGeom>
                <a:avLst/>
                <a:gdLst/>
                <a:ahLst/>
                <a:rect l="l" t="t" r="r" b="b"/>
                <a:pathLst>
                  <a:path w="529" h="744">
                    <a:moveTo>
                      <a:pt x="4" y="130"/>
                    </a:moveTo>
                    <a:cubicBezTo>
                      <a:pt x="13" y="116"/>
                      <a:pt x="27" y="69"/>
                      <a:pt x="49" y="50"/>
                    </a:cubicBezTo>
                    <a:cubicBezTo>
                      <a:pt x="70" y="31"/>
                      <a:pt x="90" y="20"/>
                      <a:pt x="132" y="17"/>
                    </a:cubicBezTo>
                    <a:cubicBezTo>
                      <a:pt x="173" y="13"/>
                      <a:pt x="245" y="0"/>
                      <a:pt x="298" y="30"/>
                    </a:cubicBezTo>
                    <a:cubicBezTo>
                      <a:pt x="352" y="60"/>
                      <a:pt x="419" y="145"/>
                      <a:pt x="451" y="196"/>
                    </a:cubicBezTo>
                    <a:cubicBezTo>
                      <a:pt x="484" y="247"/>
                      <a:pt x="483" y="281"/>
                      <a:pt x="496" y="335"/>
                    </a:cubicBezTo>
                    <a:cubicBezTo>
                      <a:pt x="509" y="389"/>
                      <a:pt x="529" y="464"/>
                      <a:pt x="528" y="521"/>
                    </a:cubicBezTo>
                    <a:cubicBezTo>
                      <a:pt x="527" y="579"/>
                      <a:pt x="510" y="645"/>
                      <a:pt x="490" y="681"/>
                    </a:cubicBezTo>
                    <a:cubicBezTo>
                      <a:pt x="470" y="717"/>
                      <a:pt x="442" y="724"/>
                      <a:pt x="407" y="734"/>
                    </a:cubicBezTo>
                    <a:cubicBezTo>
                      <a:pt x="372" y="744"/>
                      <a:pt x="326" y="742"/>
                      <a:pt x="279" y="741"/>
                    </a:cubicBezTo>
                    <a:cubicBezTo>
                      <a:pt x="232" y="740"/>
                      <a:pt x="164" y="741"/>
                      <a:pt x="125" y="727"/>
                    </a:cubicBezTo>
                    <a:cubicBezTo>
                      <a:pt x="87" y="714"/>
                      <a:pt x="66" y="688"/>
                      <a:pt x="49" y="661"/>
                    </a:cubicBezTo>
                    <a:cubicBezTo>
                      <a:pt x="32" y="634"/>
                      <a:pt x="31" y="583"/>
                      <a:pt x="23" y="561"/>
                    </a:cubicBezTo>
                    <a:cubicBezTo>
                      <a:pt x="15" y="539"/>
                      <a:pt x="5" y="535"/>
                      <a:pt x="0" y="528"/>
                    </a:cubicBez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943640" y="2048400"/>
                <a:ext cx="891000" cy="1206720"/>
              </a:xfrm>
              <a:custGeom>
                <a:avLst/>
                <a:gdLst/>
                <a:ahLst/>
                <a:rect l="l" t="t" r="r" b="b"/>
                <a:pathLst>
                  <a:path w="433" h="557">
                    <a:moveTo>
                      <a:pt x="0" y="229"/>
                    </a:moveTo>
                    <a:cubicBezTo>
                      <a:pt x="17" y="229"/>
                      <a:pt x="35" y="230"/>
                      <a:pt x="52" y="229"/>
                    </a:cubicBezTo>
                    <a:cubicBezTo>
                      <a:pt x="69" y="228"/>
                      <a:pt x="88" y="244"/>
                      <a:pt x="100" y="225"/>
                    </a:cubicBezTo>
                    <a:cubicBezTo>
                      <a:pt x="112" y="206"/>
                      <a:pt x="116" y="144"/>
                      <a:pt x="124" y="117"/>
                    </a:cubicBezTo>
                    <a:cubicBezTo>
                      <a:pt x="132" y="90"/>
                      <a:pt x="137" y="74"/>
                      <a:pt x="148" y="61"/>
                    </a:cubicBezTo>
                    <a:cubicBezTo>
                      <a:pt x="159" y="48"/>
                      <a:pt x="170" y="43"/>
                      <a:pt x="188" y="37"/>
                    </a:cubicBezTo>
                    <a:cubicBezTo>
                      <a:pt x="206" y="31"/>
                      <a:pt x="234" y="29"/>
                      <a:pt x="256" y="25"/>
                    </a:cubicBezTo>
                    <a:cubicBezTo>
                      <a:pt x="278" y="21"/>
                      <a:pt x="305" y="17"/>
                      <a:pt x="320" y="13"/>
                    </a:cubicBezTo>
                    <a:cubicBezTo>
                      <a:pt x="335" y="9"/>
                      <a:pt x="341" y="0"/>
                      <a:pt x="348" y="1"/>
                    </a:cubicBezTo>
                    <a:cubicBezTo>
                      <a:pt x="355" y="2"/>
                      <a:pt x="365" y="7"/>
                      <a:pt x="364" y="21"/>
                    </a:cubicBezTo>
                    <a:cubicBezTo>
                      <a:pt x="363" y="35"/>
                      <a:pt x="348" y="57"/>
                      <a:pt x="340" y="85"/>
                    </a:cubicBezTo>
                    <a:cubicBezTo>
                      <a:pt x="332" y="113"/>
                      <a:pt x="326" y="164"/>
                      <a:pt x="316" y="189"/>
                    </a:cubicBezTo>
                    <a:cubicBezTo>
                      <a:pt x="306" y="214"/>
                      <a:pt x="274" y="224"/>
                      <a:pt x="280" y="237"/>
                    </a:cubicBezTo>
                    <a:cubicBezTo>
                      <a:pt x="286" y="250"/>
                      <a:pt x="329" y="252"/>
                      <a:pt x="352" y="265"/>
                    </a:cubicBezTo>
                    <a:cubicBezTo>
                      <a:pt x="375" y="278"/>
                      <a:pt x="403" y="296"/>
                      <a:pt x="416" y="317"/>
                    </a:cubicBezTo>
                    <a:cubicBezTo>
                      <a:pt x="429" y="338"/>
                      <a:pt x="431" y="365"/>
                      <a:pt x="432" y="389"/>
                    </a:cubicBezTo>
                    <a:cubicBezTo>
                      <a:pt x="433" y="413"/>
                      <a:pt x="429" y="436"/>
                      <a:pt x="424" y="461"/>
                    </a:cubicBezTo>
                    <a:cubicBezTo>
                      <a:pt x="419" y="486"/>
                      <a:pt x="417" y="526"/>
                      <a:pt x="404" y="541"/>
                    </a:cubicBezTo>
                    <a:cubicBezTo>
                      <a:pt x="391" y="556"/>
                      <a:pt x="365" y="550"/>
                      <a:pt x="348" y="553"/>
                    </a:cubicBezTo>
                    <a:cubicBezTo>
                      <a:pt x="331" y="556"/>
                      <a:pt x="319" y="557"/>
                      <a:pt x="300" y="557"/>
                    </a:cubicBezTo>
                    <a:cubicBezTo>
                      <a:pt x="281" y="557"/>
                      <a:pt x="250" y="556"/>
                      <a:pt x="236" y="553"/>
                    </a:cubicBezTo>
                    <a:cubicBezTo>
                      <a:pt x="222" y="550"/>
                      <a:pt x="227" y="545"/>
                      <a:pt x="216" y="537"/>
                    </a:cubicBezTo>
                    <a:cubicBezTo>
                      <a:pt x="205" y="529"/>
                      <a:pt x="184" y="516"/>
                      <a:pt x="172" y="505"/>
                    </a:cubicBezTo>
                    <a:cubicBezTo>
                      <a:pt x="160" y="494"/>
                      <a:pt x="152" y="484"/>
                      <a:pt x="144" y="473"/>
                    </a:cubicBezTo>
                    <a:cubicBezTo>
                      <a:pt x="136" y="462"/>
                      <a:pt x="129" y="451"/>
                      <a:pt x="124" y="441"/>
                    </a:cubicBezTo>
                    <a:cubicBezTo>
                      <a:pt x="119" y="431"/>
                      <a:pt x="121" y="420"/>
                      <a:pt x="116" y="413"/>
                    </a:cubicBezTo>
                    <a:cubicBezTo>
                      <a:pt x="111" y="406"/>
                      <a:pt x="101" y="406"/>
                      <a:pt x="92" y="401"/>
                    </a:cubicBezTo>
                    <a:cubicBezTo>
                      <a:pt x="83" y="396"/>
                      <a:pt x="79" y="390"/>
                      <a:pt x="64" y="385"/>
                    </a:cubicBezTo>
                    <a:cubicBezTo>
                      <a:pt x="49" y="380"/>
                      <a:pt x="13" y="372"/>
                      <a:pt x="0" y="369"/>
                    </a:cubicBez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5" name=""/>
            <p:cNvSpPr/>
            <p:nvPr/>
          </p:nvSpPr>
          <p:spPr>
            <a:xfrm flipH="1">
              <a:off x="857160" y="1886040"/>
              <a:ext cx="1088640" cy="1612440"/>
            </a:xfrm>
            <a:custGeom>
              <a:avLst/>
              <a:gdLst/>
              <a:ahLst/>
              <a:rect l="l" t="t" r="r" b="b"/>
              <a:pathLst>
                <a:path w="529" h="744">
                  <a:moveTo>
                    <a:pt x="4" y="130"/>
                  </a:moveTo>
                  <a:cubicBezTo>
                    <a:pt x="13" y="116"/>
                    <a:pt x="27" y="69"/>
                    <a:pt x="49" y="50"/>
                  </a:cubicBezTo>
                  <a:cubicBezTo>
                    <a:pt x="70" y="31"/>
                    <a:pt x="90" y="20"/>
                    <a:pt x="132" y="17"/>
                  </a:cubicBezTo>
                  <a:cubicBezTo>
                    <a:pt x="173" y="13"/>
                    <a:pt x="245" y="0"/>
                    <a:pt x="298" y="30"/>
                  </a:cubicBezTo>
                  <a:cubicBezTo>
                    <a:pt x="352" y="60"/>
                    <a:pt x="419" y="145"/>
                    <a:pt x="451" y="196"/>
                  </a:cubicBezTo>
                  <a:cubicBezTo>
                    <a:pt x="484" y="247"/>
                    <a:pt x="483" y="281"/>
                    <a:pt x="496" y="335"/>
                  </a:cubicBezTo>
                  <a:cubicBezTo>
                    <a:pt x="509" y="389"/>
                    <a:pt x="529" y="464"/>
                    <a:pt x="528" y="521"/>
                  </a:cubicBezTo>
                  <a:cubicBezTo>
                    <a:pt x="527" y="579"/>
                    <a:pt x="510" y="645"/>
                    <a:pt x="490" y="681"/>
                  </a:cubicBezTo>
                  <a:cubicBezTo>
                    <a:pt x="470" y="717"/>
                    <a:pt x="442" y="724"/>
                    <a:pt x="407" y="734"/>
                  </a:cubicBezTo>
                  <a:cubicBezTo>
                    <a:pt x="372" y="744"/>
                    <a:pt x="326" y="742"/>
                    <a:pt x="279" y="741"/>
                  </a:cubicBezTo>
                  <a:cubicBezTo>
                    <a:pt x="232" y="740"/>
                    <a:pt x="164" y="741"/>
                    <a:pt x="125" y="727"/>
                  </a:cubicBezTo>
                  <a:cubicBezTo>
                    <a:pt x="87" y="714"/>
                    <a:pt x="66" y="688"/>
                    <a:pt x="49" y="661"/>
                  </a:cubicBezTo>
                  <a:cubicBezTo>
                    <a:pt x="32" y="634"/>
                    <a:pt x="31" y="583"/>
                    <a:pt x="23" y="561"/>
                  </a:cubicBezTo>
                  <a:cubicBezTo>
                    <a:pt x="15" y="539"/>
                    <a:pt x="5" y="535"/>
                    <a:pt x="0" y="528"/>
                  </a:cubicBezTo>
                </a:path>
              </a:pathLst>
            </a:custGeom>
            <a:solidFill>
              <a:srgbClr val="cccc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1054440" y="2048400"/>
              <a:ext cx="891360" cy="1207080"/>
            </a:xfrm>
            <a:custGeom>
              <a:avLst/>
              <a:gdLst/>
              <a:ahLst/>
              <a:rect l="l" t="t" r="r" b="b"/>
              <a:pathLst>
                <a:path w="433" h="557">
                  <a:moveTo>
                    <a:pt x="0" y="229"/>
                  </a:moveTo>
                  <a:cubicBezTo>
                    <a:pt x="17" y="229"/>
                    <a:pt x="35" y="230"/>
                    <a:pt x="52" y="229"/>
                  </a:cubicBezTo>
                  <a:cubicBezTo>
                    <a:pt x="69" y="228"/>
                    <a:pt x="88" y="244"/>
                    <a:pt x="100" y="225"/>
                  </a:cubicBezTo>
                  <a:cubicBezTo>
                    <a:pt x="112" y="206"/>
                    <a:pt x="116" y="144"/>
                    <a:pt x="124" y="117"/>
                  </a:cubicBezTo>
                  <a:cubicBezTo>
                    <a:pt x="132" y="90"/>
                    <a:pt x="137" y="74"/>
                    <a:pt x="148" y="61"/>
                  </a:cubicBezTo>
                  <a:cubicBezTo>
                    <a:pt x="159" y="48"/>
                    <a:pt x="170" y="43"/>
                    <a:pt x="188" y="37"/>
                  </a:cubicBezTo>
                  <a:cubicBezTo>
                    <a:pt x="206" y="31"/>
                    <a:pt x="234" y="29"/>
                    <a:pt x="256" y="25"/>
                  </a:cubicBezTo>
                  <a:cubicBezTo>
                    <a:pt x="278" y="21"/>
                    <a:pt x="305" y="17"/>
                    <a:pt x="320" y="13"/>
                  </a:cubicBezTo>
                  <a:cubicBezTo>
                    <a:pt x="335" y="9"/>
                    <a:pt x="341" y="0"/>
                    <a:pt x="348" y="1"/>
                  </a:cubicBezTo>
                  <a:cubicBezTo>
                    <a:pt x="355" y="2"/>
                    <a:pt x="365" y="7"/>
                    <a:pt x="364" y="21"/>
                  </a:cubicBezTo>
                  <a:cubicBezTo>
                    <a:pt x="363" y="35"/>
                    <a:pt x="348" y="57"/>
                    <a:pt x="340" y="85"/>
                  </a:cubicBezTo>
                  <a:cubicBezTo>
                    <a:pt x="332" y="113"/>
                    <a:pt x="326" y="164"/>
                    <a:pt x="316" y="189"/>
                  </a:cubicBezTo>
                  <a:cubicBezTo>
                    <a:pt x="306" y="214"/>
                    <a:pt x="274" y="224"/>
                    <a:pt x="280" y="237"/>
                  </a:cubicBezTo>
                  <a:cubicBezTo>
                    <a:pt x="286" y="250"/>
                    <a:pt x="329" y="252"/>
                    <a:pt x="352" y="265"/>
                  </a:cubicBezTo>
                  <a:cubicBezTo>
                    <a:pt x="375" y="278"/>
                    <a:pt x="403" y="296"/>
                    <a:pt x="416" y="317"/>
                  </a:cubicBezTo>
                  <a:cubicBezTo>
                    <a:pt x="429" y="338"/>
                    <a:pt x="431" y="365"/>
                    <a:pt x="432" y="389"/>
                  </a:cubicBezTo>
                  <a:cubicBezTo>
                    <a:pt x="433" y="413"/>
                    <a:pt x="429" y="436"/>
                    <a:pt x="424" y="461"/>
                  </a:cubicBezTo>
                  <a:cubicBezTo>
                    <a:pt x="419" y="486"/>
                    <a:pt x="417" y="526"/>
                    <a:pt x="404" y="541"/>
                  </a:cubicBezTo>
                  <a:cubicBezTo>
                    <a:pt x="391" y="556"/>
                    <a:pt x="365" y="550"/>
                    <a:pt x="348" y="553"/>
                  </a:cubicBezTo>
                  <a:cubicBezTo>
                    <a:pt x="331" y="556"/>
                    <a:pt x="319" y="557"/>
                    <a:pt x="300" y="557"/>
                  </a:cubicBezTo>
                  <a:cubicBezTo>
                    <a:pt x="281" y="557"/>
                    <a:pt x="250" y="556"/>
                    <a:pt x="236" y="553"/>
                  </a:cubicBezTo>
                  <a:cubicBezTo>
                    <a:pt x="222" y="550"/>
                    <a:pt x="227" y="545"/>
                    <a:pt x="216" y="537"/>
                  </a:cubicBezTo>
                  <a:cubicBezTo>
                    <a:pt x="205" y="529"/>
                    <a:pt x="184" y="516"/>
                    <a:pt x="172" y="505"/>
                  </a:cubicBezTo>
                  <a:cubicBezTo>
                    <a:pt x="160" y="494"/>
                    <a:pt x="152" y="484"/>
                    <a:pt x="144" y="473"/>
                  </a:cubicBezTo>
                  <a:cubicBezTo>
                    <a:pt x="136" y="462"/>
                    <a:pt x="129" y="451"/>
                    <a:pt x="124" y="441"/>
                  </a:cubicBezTo>
                  <a:cubicBezTo>
                    <a:pt x="119" y="431"/>
                    <a:pt x="121" y="420"/>
                    <a:pt x="116" y="413"/>
                  </a:cubicBezTo>
                  <a:cubicBezTo>
                    <a:pt x="111" y="406"/>
                    <a:pt x="101" y="406"/>
                    <a:pt x="92" y="401"/>
                  </a:cubicBezTo>
                  <a:cubicBezTo>
                    <a:pt x="83" y="396"/>
                    <a:pt x="79" y="390"/>
                    <a:pt x="64" y="385"/>
                  </a:cubicBezTo>
                  <a:cubicBezTo>
                    <a:pt x="49" y="380"/>
                    <a:pt x="13" y="372"/>
                    <a:pt x="0" y="369"/>
                  </a:cubicBez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" name=""/>
          <p:cNvSpPr/>
          <p:nvPr/>
        </p:nvSpPr>
        <p:spPr>
          <a:xfrm>
            <a:off x="3400560" y="2222640"/>
            <a:ext cx="17136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517920" y="2273400"/>
            <a:ext cx="1827360" cy="2552760"/>
          </a:xfrm>
          <a:custGeom>
            <a:avLst/>
            <a:gdLst/>
            <a:ahLst/>
            <a:rect l="l" t="t" r="r" b="b"/>
            <a:pathLst>
              <a:path w="1151" h="1608">
                <a:moveTo>
                  <a:pt x="32" y="0"/>
                </a:moveTo>
                <a:cubicBezTo>
                  <a:pt x="16" y="13"/>
                  <a:pt x="0" y="27"/>
                  <a:pt x="24" y="56"/>
                </a:cubicBezTo>
                <a:cubicBezTo>
                  <a:pt x="48" y="85"/>
                  <a:pt x="71" y="116"/>
                  <a:pt x="176" y="176"/>
                </a:cubicBezTo>
                <a:cubicBezTo>
                  <a:pt x="281" y="236"/>
                  <a:pt x="517" y="345"/>
                  <a:pt x="656" y="416"/>
                </a:cubicBezTo>
                <a:cubicBezTo>
                  <a:pt x="795" y="487"/>
                  <a:pt x="933" y="556"/>
                  <a:pt x="1008" y="600"/>
                </a:cubicBezTo>
                <a:cubicBezTo>
                  <a:pt x="1083" y="644"/>
                  <a:pt x="1081" y="629"/>
                  <a:pt x="1104" y="680"/>
                </a:cubicBezTo>
                <a:cubicBezTo>
                  <a:pt x="1127" y="731"/>
                  <a:pt x="1137" y="811"/>
                  <a:pt x="1144" y="904"/>
                </a:cubicBezTo>
                <a:cubicBezTo>
                  <a:pt x="1151" y="997"/>
                  <a:pt x="1144" y="1123"/>
                  <a:pt x="1144" y="1240"/>
                </a:cubicBezTo>
                <a:cubicBezTo>
                  <a:pt x="1144" y="1357"/>
                  <a:pt x="1145" y="1548"/>
                  <a:pt x="1144" y="1608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341440" y="2008080"/>
            <a:ext cx="1113120" cy="912960"/>
          </a:xfrm>
          <a:custGeom>
            <a:avLst/>
            <a:gdLst/>
            <a:ahLst/>
            <a:rect l="l" t="t" r="r" b="b"/>
            <a:pathLst>
              <a:path w="701" h="575">
                <a:moveTo>
                  <a:pt x="701" y="175"/>
                </a:moveTo>
                <a:cubicBezTo>
                  <a:pt x="691" y="193"/>
                  <a:pt x="681" y="212"/>
                  <a:pt x="645" y="199"/>
                </a:cubicBezTo>
                <a:cubicBezTo>
                  <a:pt x="609" y="186"/>
                  <a:pt x="534" y="126"/>
                  <a:pt x="485" y="95"/>
                </a:cubicBezTo>
                <a:cubicBezTo>
                  <a:pt x="436" y="64"/>
                  <a:pt x="386" y="30"/>
                  <a:pt x="349" y="15"/>
                </a:cubicBezTo>
                <a:cubicBezTo>
                  <a:pt x="312" y="0"/>
                  <a:pt x="288" y="2"/>
                  <a:pt x="261" y="7"/>
                </a:cubicBezTo>
                <a:cubicBezTo>
                  <a:pt x="234" y="12"/>
                  <a:pt x="221" y="22"/>
                  <a:pt x="189" y="47"/>
                </a:cubicBezTo>
                <a:cubicBezTo>
                  <a:pt x="157" y="72"/>
                  <a:pt x="100" y="107"/>
                  <a:pt x="69" y="159"/>
                </a:cubicBezTo>
                <a:cubicBezTo>
                  <a:pt x="38" y="211"/>
                  <a:pt x="0" y="290"/>
                  <a:pt x="5" y="359"/>
                </a:cubicBezTo>
                <a:cubicBezTo>
                  <a:pt x="10" y="428"/>
                  <a:pt x="81" y="530"/>
                  <a:pt x="101" y="575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600280" y="3000240"/>
            <a:ext cx="1878120" cy="1809720"/>
          </a:xfrm>
          <a:custGeom>
            <a:avLst/>
            <a:gdLst/>
            <a:ahLst/>
            <a:rect l="l" t="t" r="r" b="b"/>
            <a:pathLst>
              <a:path w="1183" h="1140">
                <a:moveTo>
                  <a:pt x="0" y="0"/>
                </a:moveTo>
                <a:cubicBezTo>
                  <a:pt x="196" y="96"/>
                  <a:pt x="393" y="193"/>
                  <a:pt x="534" y="264"/>
                </a:cubicBezTo>
                <a:cubicBezTo>
                  <a:pt x="675" y="335"/>
                  <a:pt x="770" y="385"/>
                  <a:pt x="846" y="426"/>
                </a:cubicBezTo>
                <a:cubicBezTo>
                  <a:pt x="922" y="467"/>
                  <a:pt x="939" y="464"/>
                  <a:pt x="990" y="510"/>
                </a:cubicBezTo>
                <a:cubicBezTo>
                  <a:pt x="1041" y="556"/>
                  <a:pt x="1121" y="625"/>
                  <a:pt x="1152" y="702"/>
                </a:cubicBezTo>
                <a:cubicBezTo>
                  <a:pt x="1183" y="779"/>
                  <a:pt x="1172" y="899"/>
                  <a:pt x="1176" y="972"/>
                </a:cubicBezTo>
                <a:cubicBezTo>
                  <a:pt x="1180" y="1045"/>
                  <a:pt x="1178" y="1092"/>
                  <a:pt x="1176" y="1140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806360" y="548964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us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961080" y="225108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ibre sensi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5628960" y="4248000"/>
            <a:ext cx="361800" cy="5810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904360" y="3936960"/>
            <a:ext cx="25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useau neuro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455560" y="3790800"/>
            <a:ext cx="16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toneurone </a:t>
            </a:r>
            <a:r>
              <a:rPr b="1" lang="fr-FR" sz="1600" spc="-1" strike="noStrike">
                <a:solidFill>
                  <a:srgbClr val="5f5f5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098880" y="4699080"/>
            <a:ext cx="0" cy="11001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175520" y="4699080"/>
            <a:ext cx="0" cy="11001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438280" y="6091200"/>
            <a:ext cx="52200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951800" y="609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84120" y="892080"/>
            <a:ext cx="85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étirement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allongement du muscle et des fuseaux neuromusc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timulation des fibres Ia et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activation du motoneurone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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451240" y="4668840"/>
            <a:ext cx="0" cy="14223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683480" y="4668840"/>
            <a:ext cx="0" cy="14223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345280" y="41878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243760" y="31212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697640" y="27655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383200" y="25369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370240" y="22068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160880" y="25239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210120" y="18892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357880" y="37306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096920" y="355608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652840" y="27273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008520" y="29941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13240" y="31971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037400" y="34131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316760" y="37306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456440" y="42004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299120" y="4762440"/>
            <a:ext cx="317160" cy="152640"/>
          </a:xfrm>
          <a:prstGeom prst="flowChartExtra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469040" y="45687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451240" y="58039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7175160" y="579924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517840" y="2911320"/>
            <a:ext cx="203040" cy="1908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1800" y="968400"/>
            <a:ext cx="84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le réflexe myot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8000" y="1434960"/>
            <a:ext cx="84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réflexe médullaire qui permet de contrôler l’activité des muscles squelet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49440" y="431640"/>
            <a:ext cx="25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1440" y="206280"/>
            <a:ext cx="74970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troduc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définition e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ise en év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9200" y="2378160"/>
            <a:ext cx="84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mise en évidence : les réflexe rotulien et achillé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0240" y="2817720"/>
            <a:ext cx="6744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réflexe rotulie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embre inférieur fléchi en repose (as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oup sec au-dessous de la rotule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extension de la jam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réflexe achillée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embre inférieur en appui sur le genou, pied dans le v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oup sec sur le tendon d’Achille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extension du p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81080" y="206280"/>
            <a:ext cx="88297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ise en jeu de l’arc réfl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3073320" y="4441680"/>
            <a:ext cx="4122720" cy="1986840"/>
            <a:chOff x="3073320" y="4441680"/>
            <a:chExt cx="4122720" cy="1986840"/>
          </a:xfrm>
        </p:grpSpPr>
        <p:sp>
          <p:nvSpPr>
            <p:cNvPr id="1538" name=""/>
            <p:cNvSpPr/>
            <p:nvPr/>
          </p:nvSpPr>
          <p:spPr>
            <a:xfrm>
              <a:off x="3073320" y="4441680"/>
              <a:ext cx="4122720" cy="1047960"/>
            </a:xfrm>
            <a:custGeom>
              <a:avLst/>
              <a:gdLst/>
              <a:ahLst/>
              <a:rect l="l" t="t" r="r" b="b"/>
              <a:pathLst>
                <a:path w="4019" h="568">
                  <a:moveTo>
                    <a:pt x="48" y="304"/>
                  </a:moveTo>
                  <a:cubicBezTo>
                    <a:pt x="183" y="298"/>
                    <a:pt x="324" y="289"/>
                    <a:pt x="456" y="256"/>
                  </a:cubicBezTo>
                  <a:cubicBezTo>
                    <a:pt x="588" y="223"/>
                    <a:pt x="720" y="179"/>
                    <a:pt x="856" y="160"/>
                  </a:cubicBezTo>
                  <a:cubicBezTo>
                    <a:pt x="997" y="113"/>
                    <a:pt x="1149" y="72"/>
                    <a:pt x="1296" y="56"/>
                  </a:cubicBezTo>
                  <a:cubicBezTo>
                    <a:pt x="1367" y="38"/>
                    <a:pt x="1388" y="38"/>
                    <a:pt x="1480" y="32"/>
                  </a:cubicBezTo>
                  <a:cubicBezTo>
                    <a:pt x="1560" y="12"/>
                    <a:pt x="1522" y="20"/>
                    <a:pt x="1592" y="8"/>
                  </a:cubicBezTo>
                  <a:cubicBezTo>
                    <a:pt x="1732" y="14"/>
                    <a:pt x="1877" y="28"/>
                    <a:pt x="2016" y="0"/>
                  </a:cubicBezTo>
                  <a:cubicBezTo>
                    <a:pt x="2099" y="3"/>
                    <a:pt x="2181" y="3"/>
                    <a:pt x="2264" y="8"/>
                  </a:cubicBezTo>
                  <a:cubicBezTo>
                    <a:pt x="2295" y="10"/>
                    <a:pt x="2329" y="27"/>
                    <a:pt x="2360" y="32"/>
                  </a:cubicBezTo>
                  <a:cubicBezTo>
                    <a:pt x="2455" y="47"/>
                    <a:pt x="2545" y="71"/>
                    <a:pt x="2640" y="80"/>
                  </a:cubicBezTo>
                  <a:cubicBezTo>
                    <a:pt x="2758" y="104"/>
                    <a:pt x="2855" y="100"/>
                    <a:pt x="2984" y="104"/>
                  </a:cubicBezTo>
                  <a:cubicBezTo>
                    <a:pt x="3044" y="111"/>
                    <a:pt x="3129" y="118"/>
                    <a:pt x="3184" y="136"/>
                  </a:cubicBezTo>
                  <a:cubicBezTo>
                    <a:pt x="3252" y="159"/>
                    <a:pt x="3337" y="186"/>
                    <a:pt x="3408" y="200"/>
                  </a:cubicBezTo>
                  <a:cubicBezTo>
                    <a:pt x="3439" y="206"/>
                    <a:pt x="3474" y="213"/>
                    <a:pt x="3504" y="224"/>
                  </a:cubicBezTo>
                  <a:cubicBezTo>
                    <a:pt x="3515" y="228"/>
                    <a:pt x="3524" y="237"/>
                    <a:pt x="3536" y="240"/>
                  </a:cubicBezTo>
                  <a:cubicBezTo>
                    <a:pt x="3628" y="265"/>
                    <a:pt x="3758" y="261"/>
                    <a:pt x="3840" y="264"/>
                  </a:cubicBezTo>
                  <a:cubicBezTo>
                    <a:pt x="3868" y="273"/>
                    <a:pt x="3902" y="274"/>
                    <a:pt x="3928" y="288"/>
                  </a:cubicBezTo>
                  <a:cubicBezTo>
                    <a:pt x="3945" y="297"/>
                    <a:pt x="3960" y="309"/>
                    <a:pt x="3976" y="320"/>
                  </a:cubicBezTo>
                  <a:cubicBezTo>
                    <a:pt x="3984" y="325"/>
                    <a:pt x="4000" y="336"/>
                    <a:pt x="4000" y="336"/>
                  </a:cubicBezTo>
                  <a:cubicBezTo>
                    <a:pt x="4008" y="359"/>
                    <a:pt x="4019" y="366"/>
                    <a:pt x="3984" y="368"/>
                  </a:cubicBezTo>
                  <a:cubicBezTo>
                    <a:pt x="3891" y="373"/>
                    <a:pt x="3797" y="373"/>
                    <a:pt x="3704" y="376"/>
                  </a:cubicBezTo>
                  <a:cubicBezTo>
                    <a:pt x="3632" y="400"/>
                    <a:pt x="3548" y="400"/>
                    <a:pt x="3472" y="408"/>
                  </a:cubicBezTo>
                  <a:cubicBezTo>
                    <a:pt x="3430" y="422"/>
                    <a:pt x="3387" y="426"/>
                    <a:pt x="3344" y="432"/>
                  </a:cubicBezTo>
                  <a:cubicBezTo>
                    <a:pt x="3239" y="467"/>
                    <a:pt x="3132" y="479"/>
                    <a:pt x="3024" y="496"/>
                  </a:cubicBezTo>
                  <a:cubicBezTo>
                    <a:pt x="2968" y="505"/>
                    <a:pt x="2912" y="525"/>
                    <a:pt x="2856" y="536"/>
                  </a:cubicBezTo>
                  <a:cubicBezTo>
                    <a:pt x="2759" y="555"/>
                    <a:pt x="2659" y="548"/>
                    <a:pt x="2560" y="552"/>
                  </a:cubicBezTo>
                  <a:cubicBezTo>
                    <a:pt x="2397" y="568"/>
                    <a:pt x="2237" y="561"/>
                    <a:pt x="2072" y="552"/>
                  </a:cubicBezTo>
                  <a:cubicBezTo>
                    <a:pt x="1933" y="517"/>
                    <a:pt x="2084" y="552"/>
                    <a:pt x="1720" y="552"/>
                  </a:cubicBezTo>
                  <a:cubicBezTo>
                    <a:pt x="1499" y="552"/>
                    <a:pt x="1277" y="547"/>
                    <a:pt x="1056" y="544"/>
                  </a:cubicBezTo>
                  <a:cubicBezTo>
                    <a:pt x="969" y="532"/>
                    <a:pt x="892" y="499"/>
                    <a:pt x="808" y="480"/>
                  </a:cubicBezTo>
                  <a:cubicBezTo>
                    <a:pt x="743" y="466"/>
                    <a:pt x="674" y="463"/>
                    <a:pt x="608" y="456"/>
                  </a:cubicBezTo>
                  <a:cubicBezTo>
                    <a:pt x="566" y="442"/>
                    <a:pt x="522" y="437"/>
                    <a:pt x="480" y="424"/>
                  </a:cubicBezTo>
                  <a:cubicBezTo>
                    <a:pt x="432" y="410"/>
                    <a:pt x="378" y="386"/>
                    <a:pt x="328" y="384"/>
                  </a:cubicBezTo>
                  <a:cubicBezTo>
                    <a:pt x="229" y="379"/>
                    <a:pt x="131" y="379"/>
                    <a:pt x="32" y="376"/>
                  </a:cubicBezTo>
                  <a:cubicBezTo>
                    <a:pt x="24" y="368"/>
                    <a:pt x="12" y="363"/>
                    <a:pt x="8" y="352"/>
                  </a:cubicBezTo>
                  <a:cubicBezTo>
                    <a:pt x="0" y="328"/>
                    <a:pt x="36" y="316"/>
                    <a:pt x="48" y="304"/>
                  </a:cubicBezTo>
                  <a:close/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863960" y="4772160"/>
              <a:ext cx="901800" cy="152280"/>
            </a:xfrm>
            <a:prstGeom prst="ellipse">
              <a:avLst/>
            </a:prstGeom>
            <a:gradFill rotWithShape="0">
              <a:gsLst>
                <a:gs pos="0">
                  <a:srgbClr val="fefeaf"/>
                </a:gs>
                <a:gs pos="100000">
                  <a:srgbClr val="ffff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4120" y="4809960"/>
              <a:ext cx="225360" cy="92160"/>
            </a:xfrm>
            <a:custGeom>
              <a:avLst/>
              <a:gdLst/>
              <a:ahLst/>
              <a:rect l="l" t="t" r="r" b="b"/>
              <a:pathLst>
                <a:path w="166" h="94">
                  <a:moveTo>
                    <a:pt x="0" y="0"/>
                  </a:moveTo>
                  <a:cubicBezTo>
                    <a:pt x="49" y="6"/>
                    <a:pt x="52" y="1"/>
                    <a:pt x="66" y="42"/>
                  </a:cubicBezTo>
                  <a:cubicBezTo>
                    <a:pt x="59" y="62"/>
                    <a:pt x="49" y="94"/>
                    <a:pt x="36" y="54"/>
                  </a:cubicBezTo>
                  <a:cubicBezTo>
                    <a:pt x="46" y="4"/>
                    <a:pt x="56" y="12"/>
                    <a:pt x="108" y="18"/>
                  </a:cubicBezTo>
                  <a:cubicBezTo>
                    <a:pt x="106" y="36"/>
                    <a:pt x="110" y="56"/>
                    <a:pt x="102" y="72"/>
                  </a:cubicBezTo>
                  <a:cubicBezTo>
                    <a:pt x="99" y="78"/>
                    <a:pt x="86" y="72"/>
                    <a:pt x="84" y="66"/>
                  </a:cubicBezTo>
                  <a:cubicBezTo>
                    <a:pt x="81" y="52"/>
                    <a:pt x="84" y="37"/>
                    <a:pt x="90" y="24"/>
                  </a:cubicBezTo>
                  <a:cubicBezTo>
                    <a:pt x="94" y="15"/>
                    <a:pt x="118" y="9"/>
                    <a:pt x="126" y="6"/>
                  </a:cubicBezTo>
                  <a:cubicBezTo>
                    <a:pt x="132" y="8"/>
                    <a:pt x="140" y="7"/>
                    <a:pt x="144" y="12"/>
                  </a:cubicBezTo>
                  <a:cubicBezTo>
                    <a:pt x="156" y="29"/>
                    <a:pt x="166" y="59"/>
                    <a:pt x="156" y="7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299120" y="4762440"/>
              <a:ext cx="317160" cy="152640"/>
            </a:xfrm>
            <a:prstGeom prst="flowChartExtra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806360" y="548964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5f5f5f"/>
                  </a:solidFill>
                  <a:latin typeface="Arial"/>
                </a:rPr>
                <a:t>mus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098880" y="4699080"/>
              <a:ext cx="0" cy="1422360"/>
            </a:xfrm>
            <a:prstGeom prst="line">
              <a:avLst/>
            </a:prstGeom>
            <a:ln w="936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175520" y="4699080"/>
              <a:ext cx="0" cy="1422360"/>
            </a:xfrm>
            <a:prstGeom prst="line">
              <a:avLst/>
            </a:prstGeom>
            <a:ln w="936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086280" y="6091200"/>
              <a:ext cx="40892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951800" y="609120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Arial"/>
                </a:rPr>
                <a:t>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7" name=""/>
          <p:cNvSpPr/>
          <p:nvPr/>
        </p:nvSpPr>
        <p:spPr>
          <a:xfrm>
            <a:off x="384120" y="892080"/>
            <a:ext cx="8508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étirement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allongement du muscle et des fuseaux neuromusc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timulation des fibres Ia et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activation du motoneurone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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ontraction muscula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8" name=""/>
          <p:cNvGrpSpPr/>
          <p:nvPr/>
        </p:nvGrpSpPr>
        <p:grpSpPr>
          <a:xfrm>
            <a:off x="857160" y="1886040"/>
            <a:ext cx="2166480" cy="1612440"/>
            <a:chOff x="857160" y="1886040"/>
            <a:chExt cx="2166480" cy="1612440"/>
          </a:xfrm>
        </p:grpSpPr>
        <p:grpSp>
          <p:nvGrpSpPr>
            <p:cNvPr id="1549" name=""/>
            <p:cNvGrpSpPr/>
            <p:nvPr/>
          </p:nvGrpSpPr>
          <p:grpSpPr>
            <a:xfrm>
              <a:off x="1935720" y="1886040"/>
              <a:ext cx="1087920" cy="1612080"/>
              <a:chOff x="1935720" y="1886040"/>
              <a:chExt cx="1087920" cy="1612080"/>
            </a:xfrm>
          </p:grpSpPr>
          <p:sp>
            <p:nvSpPr>
              <p:cNvPr id="1550" name=""/>
              <p:cNvSpPr/>
              <p:nvPr/>
            </p:nvSpPr>
            <p:spPr>
              <a:xfrm>
                <a:off x="1935720" y="1886040"/>
                <a:ext cx="1087920" cy="1612080"/>
              </a:xfrm>
              <a:custGeom>
                <a:avLst/>
                <a:gdLst/>
                <a:ahLst/>
                <a:rect l="l" t="t" r="r" b="b"/>
                <a:pathLst>
                  <a:path w="529" h="744">
                    <a:moveTo>
                      <a:pt x="4" y="130"/>
                    </a:moveTo>
                    <a:cubicBezTo>
                      <a:pt x="13" y="116"/>
                      <a:pt x="27" y="69"/>
                      <a:pt x="49" y="50"/>
                    </a:cubicBezTo>
                    <a:cubicBezTo>
                      <a:pt x="70" y="31"/>
                      <a:pt x="90" y="20"/>
                      <a:pt x="132" y="17"/>
                    </a:cubicBezTo>
                    <a:cubicBezTo>
                      <a:pt x="173" y="13"/>
                      <a:pt x="245" y="0"/>
                      <a:pt x="298" y="30"/>
                    </a:cubicBezTo>
                    <a:cubicBezTo>
                      <a:pt x="352" y="60"/>
                      <a:pt x="419" y="145"/>
                      <a:pt x="451" y="196"/>
                    </a:cubicBezTo>
                    <a:cubicBezTo>
                      <a:pt x="484" y="247"/>
                      <a:pt x="483" y="281"/>
                      <a:pt x="496" y="335"/>
                    </a:cubicBezTo>
                    <a:cubicBezTo>
                      <a:pt x="509" y="389"/>
                      <a:pt x="529" y="464"/>
                      <a:pt x="528" y="521"/>
                    </a:cubicBezTo>
                    <a:cubicBezTo>
                      <a:pt x="527" y="579"/>
                      <a:pt x="510" y="645"/>
                      <a:pt x="490" y="681"/>
                    </a:cubicBezTo>
                    <a:cubicBezTo>
                      <a:pt x="470" y="717"/>
                      <a:pt x="442" y="724"/>
                      <a:pt x="407" y="734"/>
                    </a:cubicBezTo>
                    <a:cubicBezTo>
                      <a:pt x="372" y="744"/>
                      <a:pt x="326" y="742"/>
                      <a:pt x="279" y="741"/>
                    </a:cubicBezTo>
                    <a:cubicBezTo>
                      <a:pt x="232" y="740"/>
                      <a:pt x="164" y="741"/>
                      <a:pt x="125" y="727"/>
                    </a:cubicBezTo>
                    <a:cubicBezTo>
                      <a:pt x="87" y="714"/>
                      <a:pt x="66" y="688"/>
                      <a:pt x="49" y="661"/>
                    </a:cubicBezTo>
                    <a:cubicBezTo>
                      <a:pt x="32" y="634"/>
                      <a:pt x="31" y="583"/>
                      <a:pt x="23" y="561"/>
                    </a:cubicBezTo>
                    <a:cubicBezTo>
                      <a:pt x="15" y="539"/>
                      <a:pt x="5" y="535"/>
                      <a:pt x="0" y="528"/>
                    </a:cubicBez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1943640" y="2048400"/>
                <a:ext cx="891000" cy="1206720"/>
              </a:xfrm>
              <a:custGeom>
                <a:avLst/>
                <a:gdLst/>
                <a:ahLst/>
                <a:rect l="l" t="t" r="r" b="b"/>
                <a:pathLst>
                  <a:path w="433" h="557">
                    <a:moveTo>
                      <a:pt x="0" y="229"/>
                    </a:moveTo>
                    <a:cubicBezTo>
                      <a:pt x="17" y="229"/>
                      <a:pt x="35" y="230"/>
                      <a:pt x="52" y="229"/>
                    </a:cubicBezTo>
                    <a:cubicBezTo>
                      <a:pt x="69" y="228"/>
                      <a:pt x="88" y="244"/>
                      <a:pt x="100" y="225"/>
                    </a:cubicBezTo>
                    <a:cubicBezTo>
                      <a:pt x="112" y="206"/>
                      <a:pt x="116" y="144"/>
                      <a:pt x="124" y="117"/>
                    </a:cubicBezTo>
                    <a:cubicBezTo>
                      <a:pt x="132" y="90"/>
                      <a:pt x="137" y="74"/>
                      <a:pt x="148" y="61"/>
                    </a:cubicBezTo>
                    <a:cubicBezTo>
                      <a:pt x="159" y="48"/>
                      <a:pt x="170" y="43"/>
                      <a:pt x="188" y="37"/>
                    </a:cubicBezTo>
                    <a:cubicBezTo>
                      <a:pt x="206" y="31"/>
                      <a:pt x="234" y="29"/>
                      <a:pt x="256" y="25"/>
                    </a:cubicBezTo>
                    <a:cubicBezTo>
                      <a:pt x="278" y="21"/>
                      <a:pt x="305" y="17"/>
                      <a:pt x="320" y="13"/>
                    </a:cubicBezTo>
                    <a:cubicBezTo>
                      <a:pt x="335" y="9"/>
                      <a:pt x="341" y="0"/>
                      <a:pt x="348" y="1"/>
                    </a:cubicBezTo>
                    <a:cubicBezTo>
                      <a:pt x="355" y="2"/>
                      <a:pt x="365" y="7"/>
                      <a:pt x="364" y="21"/>
                    </a:cubicBezTo>
                    <a:cubicBezTo>
                      <a:pt x="363" y="35"/>
                      <a:pt x="348" y="57"/>
                      <a:pt x="340" y="85"/>
                    </a:cubicBezTo>
                    <a:cubicBezTo>
                      <a:pt x="332" y="113"/>
                      <a:pt x="326" y="164"/>
                      <a:pt x="316" y="189"/>
                    </a:cubicBezTo>
                    <a:cubicBezTo>
                      <a:pt x="306" y="214"/>
                      <a:pt x="274" y="224"/>
                      <a:pt x="280" y="237"/>
                    </a:cubicBezTo>
                    <a:cubicBezTo>
                      <a:pt x="286" y="250"/>
                      <a:pt x="329" y="252"/>
                      <a:pt x="352" y="265"/>
                    </a:cubicBezTo>
                    <a:cubicBezTo>
                      <a:pt x="375" y="278"/>
                      <a:pt x="403" y="296"/>
                      <a:pt x="416" y="317"/>
                    </a:cubicBezTo>
                    <a:cubicBezTo>
                      <a:pt x="429" y="338"/>
                      <a:pt x="431" y="365"/>
                      <a:pt x="432" y="389"/>
                    </a:cubicBezTo>
                    <a:cubicBezTo>
                      <a:pt x="433" y="413"/>
                      <a:pt x="429" y="436"/>
                      <a:pt x="424" y="461"/>
                    </a:cubicBezTo>
                    <a:cubicBezTo>
                      <a:pt x="419" y="486"/>
                      <a:pt x="417" y="526"/>
                      <a:pt x="404" y="541"/>
                    </a:cubicBezTo>
                    <a:cubicBezTo>
                      <a:pt x="391" y="556"/>
                      <a:pt x="365" y="550"/>
                      <a:pt x="348" y="553"/>
                    </a:cubicBezTo>
                    <a:cubicBezTo>
                      <a:pt x="331" y="556"/>
                      <a:pt x="319" y="557"/>
                      <a:pt x="300" y="557"/>
                    </a:cubicBezTo>
                    <a:cubicBezTo>
                      <a:pt x="281" y="557"/>
                      <a:pt x="250" y="556"/>
                      <a:pt x="236" y="553"/>
                    </a:cubicBezTo>
                    <a:cubicBezTo>
                      <a:pt x="222" y="550"/>
                      <a:pt x="227" y="545"/>
                      <a:pt x="216" y="537"/>
                    </a:cubicBezTo>
                    <a:cubicBezTo>
                      <a:pt x="205" y="529"/>
                      <a:pt x="184" y="516"/>
                      <a:pt x="172" y="505"/>
                    </a:cubicBezTo>
                    <a:cubicBezTo>
                      <a:pt x="160" y="494"/>
                      <a:pt x="152" y="484"/>
                      <a:pt x="144" y="473"/>
                    </a:cubicBezTo>
                    <a:cubicBezTo>
                      <a:pt x="136" y="462"/>
                      <a:pt x="129" y="451"/>
                      <a:pt x="124" y="441"/>
                    </a:cubicBezTo>
                    <a:cubicBezTo>
                      <a:pt x="119" y="431"/>
                      <a:pt x="121" y="420"/>
                      <a:pt x="116" y="413"/>
                    </a:cubicBezTo>
                    <a:cubicBezTo>
                      <a:pt x="111" y="406"/>
                      <a:pt x="101" y="406"/>
                      <a:pt x="92" y="401"/>
                    </a:cubicBezTo>
                    <a:cubicBezTo>
                      <a:pt x="83" y="396"/>
                      <a:pt x="79" y="390"/>
                      <a:pt x="64" y="385"/>
                    </a:cubicBezTo>
                    <a:cubicBezTo>
                      <a:pt x="49" y="380"/>
                      <a:pt x="13" y="372"/>
                      <a:pt x="0" y="369"/>
                    </a:cubicBez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2" name=""/>
            <p:cNvSpPr/>
            <p:nvPr/>
          </p:nvSpPr>
          <p:spPr>
            <a:xfrm flipH="1">
              <a:off x="857160" y="1886040"/>
              <a:ext cx="1088640" cy="1612440"/>
            </a:xfrm>
            <a:custGeom>
              <a:avLst/>
              <a:gdLst/>
              <a:ahLst/>
              <a:rect l="l" t="t" r="r" b="b"/>
              <a:pathLst>
                <a:path w="529" h="744">
                  <a:moveTo>
                    <a:pt x="4" y="130"/>
                  </a:moveTo>
                  <a:cubicBezTo>
                    <a:pt x="13" y="116"/>
                    <a:pt x="27" y="69"/>
                    <a:pt x="49" y="50"/>
                  </a:cubicBezTo>
                  <a:cubicBezTo>
                    <a:pt x="70" y="31"/>
                    <a:pt x="90" y="20"/>
                    <a:pt x="132" y="17"/>
                  </a:cubicBezTo>
                  <a:cubicBezTo>
                    <a:pt x="173" y="13"/>
                    <a:pt x="245" y="0"/>
                    <a:pt x="298" y="30"/>
                  </a:cubicBezTo>
                  <a:cubicBezTo>
                    <a:pt x="352" y="60"/>
                    <a:pt x="419" y="145"/>
                    <a:pt x="451" y="196"/>
                  </a:cubicBezTo>
                  <a:cubicBezTo>
                    <a:pt x="484" y="247"/>
                    <a:pt x="483" y="281"/>
                    <a:pt x="496" y="335"/>
                  </a:cubicBezTo>
                  <a:cubicBezTo>
                    <a:pt x="509" y="389"/>
                    <a:pt x="529" y="464"/>
                    <a:pt x="528" y="521"/>
                  </a:cubicBezTo>
                  <a:cubicBezTo>
                    <a:pt x="527" y="579"/>
                    <a:pt x="510" y="645"/>
                    <a:pt x="490" y="681"/>
                  </a:cubicBezTo>
                  <a:cubicBezTo>
                    <a:pt x="470" y="717"/>
                    <a:pt x="442" y="724"/>
                    <a:pt x="407" y="734"/>
                  </a:cubicBezTo>
                  <a:cubicBezTo>
                    <a:pt x="372" y="744"/>
                    <a:pt x="326" y="742"/>
                    <a:pt x="279" y="741"/>
                  </a:cubicBezTo>
                  <a:cubicBezTo>
                    <a:pt x="232" y="740"/>
                    <a:pt x="164" y="741"/>
                    <a:pt x="125" y="727"/>
                  </a:cubicBezTo>
                  <a:cubicBezTo>
                    <a:pt x="87" y="714"/>
                    <a:pt x="66" y="688"/>
                    <a:pt x="49" y="661"/>
                  </a:cubicBezTo>
                  <a:cubicBezTo>
                    <a:pt x="32" y="634"/>
                    <a:pt x="31" y="583"/>
                    <a:pt x="23" y="561"/>
                  </a:cubicBezTo>
                  <a:cubicBezTo>
                    <a:pt x="15" y="539"/>
                    <a:pt x="5" y="535"/>
                    <a:pt x="0" y="528"/>
                  </a:cubicBezTo>
                </a:path>
              </a:pathLst>
            </a:custGeom>
            <a:solidFill>
              <a:srgbClr val="cccc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>
              <a:off x="1054440" y="2048400"/>
              <a:ext cx="891360" cy="1207080"/>
            </a:xfrm>
            <a:custGeom>
              <a:avLst/>
              <a:gdLst/>
              <a:ahLst/>
              <a:rect l="l" t="t" r="r" b="b"/>
              <a:pathLst>
                <a:path w="433" h="557">
                  <a:moveTo>
                    <a:pt x="0" y="229"/>
                  </a:moveTo>
                  <a:cubicBezTo>
                    <a:pt x="17" y="229"/>
                    <a:pt x="35" y="230"/>
                    <a:pt x="52" y="229"/>
                  </a:cubicBezTo>
                  <a:cubicBezTo>
                    <a:pt x="69" y="228"/>
                    <a:pt x="88" y="244"/>
                    <a:pt x="100" y="225"/>
                  </a:cubicBezTo>
                  <a:cubicBezTo>
                    <a:pt x="112" y="206"/>
                    <a:pt x="116" y="144"/>
                    <a:pt x="124" y="117"/>
                  </a:cubicBezTo>
                  <a:cubicBezTo>
                    <a:pt x="132" y="90"/>
                    <a:pt x="137" y="74"/>
                    <a:pt x="148" y="61"/>
                  </a:cubicBezTo>
                  <a:cubicBezTo>
                    <a:pt x="159" y="48"/>
                    <a:pt x="170" y="43"/>
                    <a:pt x="188" y="37"/>
                  </a:cubicBezTo>
                  <a:cubicBezTo>
                    <a:pt x="206" y="31"/>
                    <a:pt x="234" y="29"/>
                    <a:pt x="256" y="25"/>
                  </a:cubicBezTo>
                  <a:cubicBezTo>
                    <a:pt x="278" y="21"/>
                    <a:pt x="305" y="17"/>
                    <a:pt x="320" y="13"/>
                  </a:cubicBezTo>
                  <a:cubicBezTo>
                    <a:pt x="335" y="9"/>
                    <a:pt x="341" y="0"/>
                    <a:pt x="348" y="1"/>
                  </a:cubicBezTo>
                  <a:cubicBezTo>
                    <a:pt x="355" y="2"/>
                    <a:pt x="365" y="7"/>
                    <a:pt x="364" y="21"/>
                  </a:cubicBezTo>
                  <a:cubicBezTo>
                    <a:pt x="363" y="35"/>
                    <a:pt x="348" y="57"/>
                    <a:pt x="340" y="85"/>
                  </a:cubicBezTo>
                  <a:cubicBezTo>
                    <a:pt x="332" y="113"/>
                    <a:pt x="326" y="164"/>
                    <a:pt x="316" y="189"/>
                  </a:cubicBezTo>
                  <a:cubicBezTo>
                    <a:pt x="306" y="214"/>
                    <a:pt x="274" y="224"/>
                    <a:pt x="280" y="237"/>
                  </a:cubicBezTo>
                  <a:cubicBezTo>
                    <a:pt x="286" y="250"/>
                    <a:pt x="329" y="252"/>
                    <a:pt x="352" y="265"/>
                  </a:cubicBezTo>
                  <a:cubicBezTo>
                    <a:pt x="375" y="278"/>
                    <a:pt x="403" y="296"/>
                    <a:pt x="416" y="317"/>
                  </a:cubicBezTo>
                  <a:cubicBezTo>
                    <a:pt x="429" y="338"/>
                    <a:pt x="431" y="365"/>
                    <a:pt x="432" y="389"/>
                  </a:cubicBezTo>
                  <a:cubicBezTo>
                    <a:pt x="433" y="413"/>
                    <a:pt x="429" y="436"/>
                    <a:pt x="424" y="461"/>
                  </a:cubicBezTo>
                  <a:cubicBezTo>
                    <a:pt x="419" y="486"/>
                    <a:pt x="417" y="526"/>
                    <a:pt x="404" y="541"/>
                  </a:cubicBezTo>
                  <a:cubicBezTo>
                    <a:pt x="391" y="556"/>
                    <a:pt x="365" y="550"/>
                    <a:pt x="348" y="553"/>
                  </a:cubicBezTo>
                  <a:cubicBezTo>
                    <a:pt x="331" y="556"/>
                    <a:pt x="319" y="557"/>
                    <a:pt x="300" y="557"/>
                  </a:cubicBezTo>
                  <a:cubicBezTo>
                    <a:pt x="281" y="557"/>
                    <a:pt x="250" y="556"/>
                    <a:pt x="236" y="553"/>
                  </a:cubicBezTo>
                  <a:cubicBezTo>
                    <a:pt x="222" y="550"/>
                    <a:pt x="227" y="545"/>
                    <a:pt x="216" y="537"/>
                  </a:cubicBezTo>
                  <a:cubicBezTo>
                    <a:pt x="205" y="529"/>
                    <a:pt x="184" y="516"/>
                    <a:pt x="172" y="505"/>
                  </a:cubicBezTo>
                  <a:cubicBezTo>
                    <a:pt x="160" y="494"/>
                    <a:pt x="152" y="484"/>
                    <a:pt x="144" y="473"/>
                  </a:cubicBezTo>
                  <a:cubicBezTo>
                    <a:pt x="136" y="462"/>
                    <a:pt x="129" y="451"/>
                    <a:pt x="124" y="441"/>
                  </a:cubicBezTo>
                  <a:cubicBezTo>
                    <a:pt x="119" y="431"/>
                    <a:pt x="121" y="420"/>
                    <a:pt x="116" y="413"/>
                  </a:cubicBezTo>
                  <a:cubicBezTo>
                    <a:pt x="111" y="406"/>
                    <a:pt x="101" y="406"/>
                    <a:pt x="92" y="401"/>
                  </a:cubicBezTo>
                  <a:cubicBezTo>
                    <a:pt x="83" y="396"/>
                    <a:pt x="79" y="390"/>
                    <a:pt x="64" y="385"/>
                  </a:cubicBezTo>
                  <a:cubicBezTo>
                    <a:pt x="49" y="380"/>
                    <a:pt x="13" y="372"/>
                    <a:pt x="0" y="369"/>
                  </a:cubicBez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4" name=""/>
          <p:cNvSpPr/>
          <p:nvPr/>
        </p:nvSpPr>
        <p:spPr>
          <a:xfrm>
            <a:off x="3400560" y="2222640"/>
            <a:ext cx="17136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517920" y="2273400"/>
            <a:ext cx="1827360" cy="2552760"/>
          </a:xfrm>
          <a:custGeom>
            <a:avLst/>
            <a:gdLst/>
            <a:ahLst/>
            <a:rect l="l" t="t" r="r" b="b"/>
            <a:pathLst>
              <a:path w="1151" h="1608">
                <a:moveTo>
                  <a:pt x="32" y="0"/>
                </a:moveTo>
                <a:cubicBezTo>
                  <a:pt x="16" y="13"/>
                  <a:pt x="0" y="27"/>
                  <a:pt x="24" y="56"/>
                </a:cubicBezTo>
                <a:cubicBezTo>
                  <a:pt x="48" y="85"/>
                  <a:pt x="71" y="116"/>
                  <a:pt x="176" y="176"/>
                </a:cubicBezTo>
                <a:cubicBezTo>
                  <a:pt x="281" y="236"/>
                  <a:pt x="517" y="345"/>
                  <a:pt x="656" y="416"/>
                </a:cubicBezTo>
                <a:cubicBezTo>
                  <a:pt x="795" y="487"/>
                  <a:pt x="933" y="556"/>
                  <a:pt x="1008" y="600"/>
                </a:cubicBezTo>
                <a:cubicBezTo>
                  <a:pt x="1083" y="644"/>
                  <a:pt x="1081" y="629"/>
                  <a:pt x="1104" y="680"/>
                </a:cubicBezTo>
                <a:cubicBezTo>
                  <a:pt x="1127" y="731"/>
                  <a:pt x="1137" y="811"/>
                  <a:pt x="1144" y="904"/>
                </a:cubicBezTo>
                <a:cubicBezTo>
                  <a:pt x="1151" y="997"/>
                  <a:pt x="1144" y="1123"/>
                  <a:pt x="1144" y="1240"/>
                </a:cubicBezTo>
                <a:cubicBezTo>
                  <a:pt x="1144" y="1357"/>
                  <a:pt x="1145" y="1548"/>
                  <a:pt x="1144" y="1608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341440" y="2008080"/>
            <a:ext cx="1113120" cy="912960"/>
          </a:xfrm>
          <a:custGeom>
            <a:avLst/>
            <a:gdLst/>
            <a:ahLst/>
            <a:rect l="l" t="t" r="r" b="b"/>
            <a:pathLst>
              <a:path w="701" h="575">
                <a:moveTo>
                  <a:pt x="701" y="175"/>
                </a:moveTo>
                <a:cubicBezTo>
                  <a:pt x="691" y="193"/>
                  <a:pt x="681" y="212"/>
                  <a:pt x="645" y="199"/>
                </a:cubicBezTo>
                <a:cubicBezTo>
                  <a:pt x="609" y="186"/>
                  <a:pt x="534" y="126"/>
                  <a:pt x="485" y="95"/>
                </a:cubicBezTo>
                <a:cubicBezTo>
                  <a:pt x="436" y="64"/>
                  <a:pt x="386" y="30"/>
                  <a:pt x="349" y="15"/>
                </a:cubicBezTo>
                <a:cubicBezTo>
                  <a:pt x="312" y="0"/>
                  <a:pt x="288" y="2"/>
                  <a:pt x="261" y="7"/>
                </a:cubicBezTo>
                <a:cubicBezTo>
                  <a:pt x="234" y="12"/>
                  <a:pt x="221" y="22"/>
                  <a:pt x="189" y="47"/>
                </a:cubicBezTo>
                <a:cubicBezTo>
                  <a:pt x="157" y="72"/>
                  <a:pt x="100" y="107"/>
                  <a:pt x="69" y="159"/>
                </a:cubicBezTo>
                <a:cubicBezTo>
                  <a:pt x="38" y="211"/>
                  <a:pt x="0" y="290"/>
                  <a:pt x="5" y="359"/>
                </a:cubicBezTo>
                <a:cubicBezTo>
                  <a:pt x="10" y="428"/>
                  <a:pt x="81" y="530"/>
                  <a:pt x="101" y="575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600280" y="3000240"/>
            <a:ext cx="1878120" cy="1809720"/>
          </a:xfrm>
          <a:custGeom>
            <a:avLst/>
            <a:gdLst/>
            <a:ahLst/>
            <a:rect l="l" t="t" r="r" b="b"/>
            <a:pathLst>
              <a:path w="1183" h="1140">
                <a:moveTo>
                  <a:pt x="0" y="0"/>
                </a:moveTo>
                <a:cubicBezTo>
                  <a:pt x="196" y="96"/>
                  <a:pt x="393" y="193"/>
                  <a:pt x="534" y="264"/>
                </a:cubicBezTo>
                <a:cubicBezTo>
                  <a:pt x="675" y="335"/>
                  <a:pt x="770" y="385"/>
                  <a:pt x="846" y="426"/>
                </a:cubicBezTo>
                <a:cubicBezTo>
                  <a:pt x="922" y="467"/>
                  <a:pt x="939" y="464"/>
                  <a:pt x="990" y="510"/>
                </a:cubicBezTo>
                <a:cubicBezTo>
                  <a:pt x="1041" y="556"/>
                  <a:pt x="1121" y="625"/>
                  <a:pt x="1152" y="702"/>
                </a:cubicBezTo>
                <a:cubicBezTo>
                  <a:pt x="1183" y="779"/>
                  <a:pt x="1172" y="899"/>
                  <a:pt x="1176" y="972"/>
                </a:cubicBezTo>
                <a:cubicBezTo>
                  <a:pt x="1180" y="1045"/>
                  <a:pt x="1178" y="1092"/>
                  <a:pt x="1176" y="1140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961080" y="225108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ibre sensi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5628960" y="4248000"/>
            <a:ext cx="361800" cy="5810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5904360" y="3936960"/>
            <a:ext cx="25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useau neuro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455560" y="3790800"/>
            <a:ext cx="16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toneurone </a:t>
            </a:r>
            <a:r>
              <a:rPr b="1" lang="fr-FR" sz="1600" spc="-1" strike="noStrike">
                <a:solidFill>
                  <a:srgbClr val="5f5f5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345280" y="41878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243760" y="31212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697640" y="27655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383200" y="25369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2370240" y="22068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160880" y="25239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210120" y="18892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5357880" y="37306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096920" y="355608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652840" y="27273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008520" y="29941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513240" y="31971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037400" y="34131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316760" y="37306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456440" y="42004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299120" y="4762440"/>
            <a:ext cx="317160" cy="152640"/>
          </a:xfrm>
          <a:prstGeom prst="flowChartExtra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469040" y="45687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451240" y="4668840"/>
            <a:ext cx="0" cy="14223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683480" y="4668840"/>
            <a:ext cx="0" cy="14223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513240" y="53308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2f2f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396040" y="32734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983400" y="54579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2f2f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415040" y="54705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2f2f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646960" y="54072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2f2f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6078600" y="53053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2f2f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535800" y="515304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2f2f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451240" y="58039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7175160" y="579924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2517840" y="2911320"/>
            <a:ext cx="203040" cy="1908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181080" y="206280"/>
            <a:ext cx="88297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ise en jeu de l’arc réfl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4" name=""/>
          <p:cNvGrpSpPr/>
          <p:nvPr/>
        </p:nvGrpSpPr>
        <p:grpSpPr>
          <a:xfrm>
            <a:off x="3073320" y="4441680"/>
            <a:ext cx="4122720" cy="1986840"/>
            <a:chOff x="3073320" y="4441680"/>
            <a:chExt cx="4122720" cy="1986840"/>
          </a:xfrm>
        </p:grpSpPr>
        <p:sp>
          <p:nvSpPr>
            <p:cNvPr id="1595" name=""/>
            <p:cNvSpPr/>
            <p:nvPr/>
          </p:nvSpPr>
          <p:spPr>
            <a:xfrm>
              <a:off x="3073320" y="4441680"/>
              <a:ext cx="4122720" cy="1047960"/>
            </a:xfrm>
            <a:custGeom>
              <a:avLst/>
              <a:gdLst/>
              <a:ahLst/>
              <a:rect l="l" t="t" r="r" b="b"/>
              <a:pathLst>
                <a:path w="4019" h="568">
                  <a:moveTo>
                    <a:pt x="48" y="304"/>
                  </a:moveTo>
                  <a:cubicBezTo>
                    <a:pt x="183" y="298"/>
                    <a:pt x="324" y="289"/>
                    <a:pt x="456" y="256"/>
                  </a:cubicBezTo>
                  <a:cubicBezTo>
                    <a:pt x="588" y="223"/>
                    <a:pt x="720" y="179"/>
                    <a:pt x="856" y="160"/>
                  </a:cubicBezTo>
                  <a:cubicBezTo>
                    <a:pt x="997" y="113"/>
                    <a:pt x="1149" y="72"/>
                    <a:pt x="1296" y="56"/>
                  </a:cubicBezTo>
                  <a:cubicBezTo>
                    <a:pt x="1367" y="38"/>
                    <a:pt x="1388" y="38"/>
                    <a:pt x="1480" y="32"/>
                  </a:cubicBezTo>
                  <a:cubicBezTo>
                    <a:pt x="1560" y="12"/>
                    <a:pt x="1522" y="20"/>
                    <a:pt x="1592" y="8"/>
                  </a:cubicBezTo>
                  <a:cubicBezTo>
                    <a:pt x="1732" y="14"/>
                    <a:pt x="1877" y="28"/>
                    <a:pt x="2016" y="0"/>
                  </a:cubicBezTo>
                  <a:cubicBezTo>
                    <a:pt x="2099" y="3"/>
                    <a:pt x="2181" y="3"/>
                    <a:pt x="2264" y="8"/>
                  </a:cubicBezTo>
                  <a:cubicBezTo>
                    <a:pt x="2295" y="10"/>
                    <a:pt x="2329" y="27"/>
                    <a:pt x="2360" y="32"/>
                  </a:cubicBezTo>
                  <a:cubicBezTo>
                    <a:pt x="2455" y="47"/>
                    <a:pt x="2545" y="71"/>
                    <a:pt x="2640" y="80"/>
                  </a:cubicBezTo>
                  <a:cubicBezTo>
                    <a:pt x="2758" y="104"/>
                    <a:pt x="2855" y="100"/>
                    <a:pt x="2984" y="104"/>
                  </a:cubicBezTo>
                  <a:cubicBezTo>
                    <a:pt x="3044" y="111"/>
                    <a:pt x="3129" y="118"/>
                    <a:pt x="3184" y="136"/>
                  </a:cubicBezTo>
                  <a:cubicBezTo>
                    <a:pt x="3252" y="159"/>
                    <a:pt x="3337" y="186"/>
                    <a:pt x="3408" y="200"/>
                  </a:cubicBezTo>
                  <a:cubicBezTo>
                    <a:pt x="3439" y="206"/>
                    <a:pt x="3474" y="213"/>
                    <a:pt x="3504" y="224"/>
                  </a:cubicBezTo>
                  <a:cubicBezTo>
                    <a:pt x="3515" y="228"/>
                    <a:pt x="3524" y="237"/>
                    <a:pt x="3536" y="240"/>
                  </a:cubicBezTo>
                  <a:cubicBezTo>
                    <a:pt x="3628" y="265"/>
                    <a:pt x="3758" y="261"/>
                    <a:pt x="3840" y="264"/>
                  </a:cubicBezTo>
                  <a:cubicBezTo>
                    <a:pt x="3868" y="273"/>
                    <a:pt x="3902" y="274"/>
                    <a:pt x="3928" y="288"/>
                  </a:cubicBezTo>
                  <a:cubicBezTo>
                    <a:pt x="3945" y="297"/>
                    <a:pt x="3960" y="309"/>
                    <a:pt x="3976" y="320"/>
                  </a:cubicBezTo>
                  <a:cubicBezTo>
                    <a:pt x="3984" y="325"/>
                    <a:pt x="4000" y="336"/>
                    <a:pt x="4000" y="336"/>
                  </a:cubicBezTo>
                  <a:cubicBezTo>
                    <a:pt x="4008" y="359"/>
                    <a:pt x="4019" y="366"/>
                    <a:pt x="3984" y="368"/>
                  </a:cubicBezTo>
                  <a:cubicBezTo>
                    <a:pt x="3891" y="373"/>
                    <a:pt x="3797" y="373"/>
                    <a:pt x="3704" y="376"/>
                  </a:cubicBezTo>
                  <a:cubicBezTo>
                    <a:pt x="3632" y="400"/>
                    <a:pt x="3548" y="400"/>
                    <a:pt x="3472" y="408"/>
                  </a:cubicBezTo>
                  <a:cubicBezTo>
                    <a:pt x="3430" y="422"/>
                    <a:pt x="3387" y="426"/>
                    <a:pt x="3344" y="432"/>
                  </a:cubicBezTo>
                  <a:cubicBezTo>
                    <a:pt x="3239" y="467"/>
                    <a:pt x="3132" y="479"/>
                    <a:pt x="3024" y="496"/>
                  </a:cubicBezTo>
                  <a:cubicBezTo>
                    <a:pt x="2968" y="505"/>
                    <a:pt x="2912" y="525"/>
                    <a:pt x="2856" y="536"/>
                  </a:cubicBezTo>
                  <a:cubicBezTo>
                    <a:pt x="2759" y="555"/>
                    <a:pt x="2659" y="548"/>
                    <a:pt x="2560" y="552"/>
                  </a:cubicBezTo>
                  <a:cubicBezTo>
                    <a:pt x="2397" y="568"/>
                    <a:pt x="2237" y="561"/>
                    <a:pt x="2072" y="552"/>
                  </a:cubicBezTo>
                  <a:cubicBezTo>
                    <a:pt x="1933" y="517"/>
                    <a:pt x="2084" y="552"/>
                    <a:pt x="1720" y="552"/>
                  </a:cubicBezTo>
                  <a:cubicBezTo>
                    <a:pt x="1499" y="552"/>
                    <a:pt x="1277" y="547"/>
                    <a:pt x="1056" y="544"/>
                  </a:cubicBezTo>
                  <a:cubicBezTo>
                    <a:pt x="969" y="532"/>
                    <a:pt x="892" y="499"/>
                    <a:pt x="808" y="480"/>
                  </a:cubicBezTo>
                  <a:cubicBezTo>
                    <a:pt x="743" y="466"/>
                    <a:pt x="674" y="463"/>
                    <a:pt x="608" y="456"/>
                  </a:cubicBezTo>
                  <a:cubicBezTo>
                    <a:pt x="566" y="442"/>
                    <a:pt x="522" y="437"/>
                    <a:pt x="480" y="424"/>
                  </a:cubicBezTo>
                  <a:cubicBezTo>
                    <a:pt x="432" y="410"/>
                    <a:pt x="378" y="386"/>
                    <a:pt x="328" y="384"/>
                  </a:cubicBezTo>
                  <a:cubicBezTo>
                    <a:pt x="229" y="379"/>
                    <a:pt x="131" y="379"/>
                    <a:pt x="32" y="376"/>
                  </a:cubicBezTo>
                  <a:cubicBezTo>
                    <a:pt x="24" y="368"/>
                    <a:pt x="12" y="363"/>
                    <a:pt x="8" y="352"/>
                  </a:cubicBezTo>
                  <a:cubicBezTo>
                    <a:pt x="0" y="328"/>
                    <a:pt x="36" y="316"/>
                    <a:pt x="48" y="304"/>
                  </a:cubicBezTo>
                  <a:close/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863960" y="4772160"/>
              <a:ext cx="901800" cy="152280"/>
            </a:xfrm>
            <a:prstGeom prst="ellipse">
              <a:avLst/>
            </a:prstGeom>
            <a:gradFill rotWithShape="0">
              <a:gsLst>
                <a:gs pos="0">
                  <a:srgbClr val="fefeaf"/>
                </a:gs>
                <a:gs pos="100000">
                  <a:srgbClr val="ffff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334120" y="4809960"/>
              <a:ext cx="225360" cy="92160"/>
            </a:xfrm>
            <a:custGeom>
              <a:avLst/>
              <a:gdLst/>
              <a:ahLst/>
              <a:rect l="l" t="t" r="r" b="b"/>
              <a:pathLst>
                <a:path w="166" h="94">
                  <a:moveTo>
                    <a:pt x="0" y="0"/>
                  </a:moveTo>
                  <a:cubicBezTo>
                    <a:pt x="49" y="6"/>
                    <a:pt x="52" y="1"/>
                    <a:pt x="66" y="42"/>
                  </a:cubicBezTo>
                  <a:cubicBezTo>
                    <a:pt x="59" y="62"/>
                    <a:pt x="49" y="94"/>
                    <a:pt x="36" y="54"/>
                  </a:cubicBezTo>
                  <a:cubicBezTo>
                    <a:pt x="46" y="4"/>
                    <a:pt x="56" y="12"/>
                    <a:pt x="108" y="18"/>
                  </a:cubicBezTo>
                  <a:cubicBezTo>
                    <a:pt x="106" y="36"/>
                    <a:pt x="110" y="56"/>
                    <a:pt x="102" y="72"/>
                  </a:cubicBezTo>
                  <a:cubicBezTo>
                    <a:pt x="99" y="78"/>
                    <a:pt x="86" y="72"/>
                    <a:pt x="84" y="66"/>
                  </a:cubicBezTo>
                  <a:cubicBezTo>
                    <a:pt x="81" y="52"/>
                    <a:pt x="84" y="37"/>
                    <a:pt x="90" y="24"/>
                  </a:cubicBezTo>
                  <a:cubicBezTo>
                    <a:pt x="94" y="15"/>
                    <a:pt x="118" y="9"/>
                    <a:pt x="126" y="6"/>
                  </a:cubicBezTo>
                  <a:cubicBezTo>
                    <a:pt x="132" y="8"/>
                    <a:pt x="140" y="7"/>
                    <a:pt x="144" y="12"/>
                  </a:cubicBezTo>
                  <a:cubicBezTo>
                    <a:pt x="156" y="29"/>
                    <a:pt x="166" y="59"/>
                    <a:pt x="156" y="7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299120" y="4762440"/>
              <a:ext cx="317160" cy="152640"/>
            </a:xfrm>
            <a:prstGeom prst="flowChartExtra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806360" y="548964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5f5f5f"/>
                  </a:solidFill>
                  <a:latin typeface="Arial"/>
                </a:rPr>
                <a:t>mus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098880" y="4699080"/>
              <a:ext cx="0" cy="1422360"/>
            </a:xfrm>
            <a:prstGeom prst="line">
              <a:avLst/>
            </a:prstGeom>
            <a:ln w="936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75520" y="4699080"/>
              <a:ext cx="0" cy="1422360"/>
            </a:xfrm>
            <a:prstGeom prst="line">
              <a:avLst/>
            </a:prstGeom>
            <a:ln w="936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086280" y="6091200"/>
              <a:ext cx="40892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951800" y="609120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Arial"/>
                </a:rPr>
                <a:t>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4" name=""/>
          <p:cNvSpPr/>
          <p:nvPr/>
        </p:nvSpPr>
        <p:spPr>
          <a:xfrm>
            <a:off x="384120" y="892080"/>
            <a:ext cx="850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retour à la longueur initiale : arrêt de la stimulation réflex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5" name=""/>
          <p:cNvGrpSpPr/>
          <p:nvPr/>
        </p:nvGrpSpPr>
        <p:grpSpPr>
          <a:xfrm>
            <a:off x="1935000" y="1886040"/>
            <a:ext cx="1089000" cy="1612440"/>
            <a:chOff x="1935000" y="1886040"/>
            <a:chExt cx="1089000" cy="1612440"/>
          </a:xfrm>
        </p:grpSpPr>
        <p:sp>
          <p:nvSpPr>
            <p:cNvPr id="1606" name=""/>
            <p:cNvSpPr/>
            <p:nvPr/>
          </p:nvSpPr>
          <p:spPr>
            <a:xfrm>
              <a:off x="1935000" y="1886040"/>
              <a:ext cx="1089000" cy="1612440"/>
            </a:xfrm>
            <a:custGeom>
              <a:avLst/>
              <a:gdLst/>
              <a:ahLst/>
              <a:rect l="l" t="t" r="r" b="b"/>
              <a:pathLst>
                <a:path w="529" h="744">
                  <a:moveTo>
                    <a:pt x="4" y="130"/>
                  </a:moveTo>
                  <a:cubicBezTo>
                    <a:pt x="13" y="116"/>
                    <a:pt x="27" y="69"/>
                    <a:pt x="49" y="50"/>
                  </a:cubicBezTo>
                  <a:cubicBezTo>
                    <a:pt x="70" y="31"/>
                    <a:pt x="90" y="20"/>
                    <a:pt x="132" y="17"/>
                  </a:cubicBezTo>
                  <a:cubicBezTo>
                    <a:pt x="173" y="13"/>
                    <a:pt x="245" y="0"/>
                    <a:pt x="298" y="30"/>
                  </a:cubicBezTo>
                  <a:cubicBezTo>
                    <a:pt x="352" y="60"/>
                    <a:pt x="419" y="145"/>
                    <a:pt x="451" y="196"/>
                  </a:cubicBezTo>
                  <a:cubicBezTo>
                    <a:pt x="484" y="247"/>
                    <a:pt x="483" y="281"/>
                    <a:pt x="496" y="335"/>
                  </a:cubicBezTo>
                  <a:cubicBezTo>
                    <a:pt x="509" y="389"/>
                    <a:pt x="529" y="464"/>
                    <a:pt x="528" y="521"/>
                  </a:cubicBezTo>
                  <a:cubicBezTo>
                    <a:pt x="527" y="579"/>
                    <a:pt x="510" y="645"/>
                    <a:pt x="490" y="681"/>
                  </a:cubicBezTo>
                  <a:cubicBezTo>
                    <a:pt x="470" y="717"/>
                    <a:pt x="442" y="724"/>
                    <a:pt x="407" y="734"/>
                  </a:cubicBezTo>
                  <a:cubicBezTo>
                    <a:pt x="372" y="744"/>
                    <a:pt x="326" y="742"/>
                    <a:pt x="279" y="741"/>
                  </a:cubicBezTo>
                  <a:cubicBezTo>
                    <a:pt x="232" y="740"/>
                    <a:pt x="164" y="741"/>
                    <a:pt x="125" y="727"/>
                  </a:cubicBezTo>
                  <a:cubicBezTo>
                    <a:pt x="87" y="714"/>
                    <a:pt x="66" y="688"/>
                    <a:pt x="49" y="661"/>
                  </a:cubicBezTo>
                  <a:cubicBezTo>
                    <a:pt x="32" y="634"/>
                    <a:pt x="31" y="583"/>
                    <a:pt x="23" y="561"/>
                  </a:cubicBezTo>
                  <a:cubicBezTo>
                    <a:pt x="15" y="539"/>
                    <a:pt x="5" y="535"/>
                    <a:pt x="0" y="528"/>
                  </a:cubicBezTo>
                </a:path>
              </a:pathLst>
            </a:custGeom>
            <a:solidFill>
              <a:srgbClr val="cccc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942920" y="2048400"/>
              <a:ext cx="892080" cy="1207080"/>
            </a:xfrm>
            <a:custGeom>
              <a:avLst/>
              <a:gdLst/>
              <a:ahLst/>
              <a:rect l="l" t="t" r="r" b="b"/>
              <a:pathLst>
                <a:path w="433" h="557">
                  <a:moveTo>
                    <a:pt x="0" y="229"/>
                  </a:moveTo>
                  <a:cubicBezTo>
                    <a:pt x="17" y="229"/>
                    <a:pt x="35" y="230"/>
                    <a:pt x="52" y="229"/>
                  </a:cubicBezTo>
                  <a:cubicBezTo>
                    <a:pt x="69" y="228"/>
                    <a:pt x="88" y="244"/>
                    <a:pt x="100" y="225"/>
                  </a:cubicBezTo>
                  <a:cubicBezTo>
                    <a:pt x="112" y="206"/>
                    <a:pt x="116" y="144"/>
                    <a:pt x="124" y="117"/>
                  </a:cubicBezTo>
                  <a:cubicBezTo>
                    <a:pt x="132" y="90"/>
                    <a:pt x="137" y="74"/>
                    <a:pt x="148" y="61"/>
                  </a:cubicBezTo>
                  <a:cubicBezTo>
                    <a:pt x="159" y="48"/>
                    <a:pt x="170" y="43"/>
                    <a:pt x="188" y="37"/>
                  </a:cubicBezTo>
                  <a:cubicBezTo>
                    <a:pt x="206" y="31"/>
                    <a:pt x="234" y="29"/>
                    <a:pt x="256" y="25"/>
                  </a:cubicBezTo>
                  <a:cubicBezTo>
                    <a:pt x="278" y="21"/>
                    <a:pt x="305" y="17"/>
                    <a:pt x="320" y="13"/>
                  </a:cubicBezTo>
                  <a:cubicBezTo>
                    <a:pt x="335" y="9"/>
                    <a:pt x="341" y="0"/>
                    <a:pt x="348" y="1"/>
                  </a:cubicBezTo>
                  <a:cubicBezTo>
                    <a:pt x="355" y="2"/>
                    <a:pt x="365" y="7"/>
                    <a:pt x="364" y="21"/>
                  </a:cubicBezTo>
                  <a:cubicBezTo>
                    <a:pt x="363" y="35"/>
                    <a:pt x="348" y="57"/>
                    <a:pt x="340" y="85"/>
                  </a:cubicBezTo>
                  <a:cubicBezTo>
                    <a:pt x="332" y="113"/>
                    <a:pt x="326" y="164"/>
                    <a:pt x="316" y="189"/>
                  </a:cubicBezTo>
                  <a:cubicBezTo>
                    <a:pt x="306" y="214"/>
                    <a:pt x="274" y="224"/>
                    <a:pt x="280" y="237"/>
                  </a:cubicBezTo>
                  <a:cubicBezTo>
                    <a:pt x="286" y="250"/>
                    <a:pt x="329" y="252"/>
                    <a:pt x="352" y="265"/>
                  </a:cubicBezTo>
                  <a:cubicBezTo>
                    <a:pt x="375" y="278"/>
                    <a:pt x="403" y="296"/>
                    <a:pt x="416" y="317"/>
                  </a:cubicBezTo>
                  <a:cubicBezTo>
                    <a:pt x="429" y="338"/>
                    <a:pt x="431" y="365"/>
                    <a:pt x="432" y="389"/>
                  </a:cubicBezTo>
                  <a:cubicBezTo>
                    <a:pt x="433" y="413"/>
                    <a:pt x="429" y="436"/>
                    <a:pt x="424" y="461"/>
                  </a:cubicBezTo>
                  <a:cubicBezTo>
                    <a:pt x="419" y="486"/>
                    <a:pt x="417" y="526"/>
                    <a:pt x="404" y="541"/>
                  </a:cubicBezTo>
                  <a:cubicBezTo>
                    <a:pt x="391" y="556"/>
                    <a:pt x="365" y="550"/>
                    <a:pt x="348" y="553"/>
                  </a:cubicBezTo>
                  <a:cubicBezTo>
                    <a:pt x="331" y="556"/>
                    <a:pt x="319" y="557"/>
                    <a:pt x="300" y="557"/>
                  </a:cubicBezTo>
                  <a:cubicBezTo>
                    <a:pt x="281" y="557"/>
                    <a:pt x="250" y="556"/>
                    <a:pt x="236" y="553"/>
                  </a:cubicBezTo>
                  <a:cubicBezTo>
                    <a:pt x="222" y="550"/>
                    <a:pt x="227" y="545"/>
                    <a:pt x="216" y="537"/>
                  </a:cubicBezTo>
                  <a:cubicBezTo>
                    <a:pt x="205" y="529"/>
                    <a:pt x="184" y="516"/>
                    <a:pt x="172" y="505"/>
                  </a:cubicBezTo>
                  <a:cubicBezTo>
                    <a:pt x="160" y="494"/>
                    <a:pt x="152" y="484"/>
                    <a:pt x="144" y="473"/>
                  </a:cubicBezTo>
                  <a:cubicBezTo>
                    <a:pt x="136" y="462"/>
                    <a:pt x="129" y="451"/>
                    <a:pt x="124" y="441"/>
                  </a:cubicBezTo>
                  <a:cubicBezTo>
                    <a:pt x="119" y="431"/>
                    <a:pt x="121" y="420"/>
                    <a:pt x="116" y="413"/>
                  </a:cubicBezTo>
                  <a:cubicBezTo>
                    <a:pt x="111" y="406"/>
                    <a:pt x="101" y="406"/>
                    <a:pt x="92" y="401"/>
                  </a:cubicBezTo>
                  <a:cubicBezTo>
                    <a:pt x="83" y="396"/>
                    <a:pt x="79" y="390"/>
                    <a:pt x="64" y="385"/>
                  </a:cubicBezTo>
                  <a:cubicBezTo>
                    <a:pt x="49" y="380"/>
                    <a:pt x="13" y="372"/>
                    <a:pt x="0" y="369"/>
                  </a:cubicBez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8" name=""/>
          <p:cNvSpPr/>
          <p:nvPr/>
        </p:nvSpPr>
        <p:spPr>
          <a:xfrm flipH="1">
            <a:off x="856440" y="1886040"/>
            <a:ext cx="1089000" cy="1612800"/>
          </a:xfrm>
          <a:custGeom>
            <a:avLst/>
            <a:gdLst/>
            <a:ahLst/>
            <a:rect l="l" t="t" r="r" b="b"/>
            <a:pathLst>
              <a:path w="529" h="744">
                <a:moveTo>
                  <a:pt x="4" y="130"/>
                </a:moveTo>
                <a:cubicBezTo>
                  <a:pt x="13" y="116"/>
                  <a:pt x="27" y="69"/>
                  <a:pt x="49" y="50"/>
                </a:cubicBezTo>
                <a:cubicBezTo>
                  <a:pt x="70" y="31"/>
                  <a:pt x="90" y="20"/>
                  <a:pt x="132" y="17"/>
                </a:cubicBezTo>
                <a:cubicBezTo>
                  <a:pt x="173" y="13"/>
                  <a:pt x="245" y="0"/>
                  <a:pt x="298" y="30"/>
                </a:cubicBezTo>
                <a:cubicBezTo>
                  <a:pt x="352" y="60"/>
                  <a:pt x="419" y="145"/>
                  <a:pt x="451" y="196"/>
                </a:cubicBezTo>
                <a:cubicBezTo>
                  <a:pt x="484" y="247"/>
                  <a:pt x="483" y="281"/>
                  <a:pt x="496" y="335"/>
                </a:cubicBezTo>
                <a:cubicBezTo>
                  <a:pt x="509" y="389"/>
                  <a:pt x="529" y="464"/>
                  <a:pt x="528" y="521"/>
                </a:cubicBezTo>
                <a:cubicBezTo>
                  <a:pt x="527" y="579"/>
                  <a:pt x="510" y="645"/>
                  <a:pt x="490" y="681"/>
                </a:cubicBezTo>
                <a:cubicBezTo>
                  <a:pt x="470" y="717"/>
                  <a:pt x="442" y="724"/>
                  <a:pt x="407" y="734"/>
                </a:cubicBezTo>
                <a:cubicBezTo>
                  <a:pt x="372" y="744"/>
                  <a:pt x="326" y="742"/>
                  <a:pt x="279" y="741"/>
                </a:cubicBezTo>
                <a:cubicBezTo>
                  <a:pt x="232" y="740"/>
                  <a:pt x="164" y="741"/>
                  <a:pt x="125" y="727"/>
                </a:cubicBezTo>
                <a:cubicBezTo>
                  <a:pt x="87" y="714"/>
                  <a:pt x="66" y="688"/>
                  <a:pt x="49" y="661"/>
                </a:cubicBezTo>
                <a:cubicBezTo>
                  <a:pt x="32" y="634"/>
                  <a:pt x="31" y="583"/>
                  <a:pt x="23" y="561"/>
                </a:cubicBezTo>
                <a:cubicBezTo>
                  <a:pt x="15" y="539"/>
                  <a:pt x="5" y="535"/>
                  <a:pt x="0" y="528"/>
                </a:cubicBezTo>
              </a:path>
            </a:pathLst>
          </a:custGeom>
          <a:solidFill>
            <a:srgbClr val="ccccf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H="1">
            <a:off x="1054080" y="2048040"/>
            <a:ext cx="892080" cy="1207800"/>
          </a:xfrm>
          <a:custGeom>
            <a:avLst/>
            <a:gdLst/>
            <a:ahLst/>
            <a:rect l="l" t="t" r="r" b="b"/>
            <a:pathLst>
              <a:path w="433" h="557">
                <a:moveTo>
                  <a:pt x="0" y="229"/>
                </a:moveTo>
                <a:cubicBezTo>
                  <a:pt x="17" y="229"/>
                  <a:pt x="35" y="230"/>
                  <a:pt x="52" y="229"/>
                </a:cubicBezTo>
                <a:cubicBezTo>
                  <a:pt x="69" y="228"/>
                  <a:pt x="88" y="244"/>
                  <a:pt x="100" y="225"/>
                </a:cubicBezTo>
                <a:cubicBezTo>
                  <a:pt x="112" y="206"/>
                  <a:pt x="116" y="144"/>
                  <a:pt x="124" y="117"/>
                </a:cubicBezTo>
                <a:cubicBezTo>
                  <a:pt x="132" y="90"/>
                  <a:pt x="137" y="74"/>
                  <a:pt x="148" y="61"/>
                </a:cubicBezTo>
                <a:cubicBezTo>
                  <a:pt x="159" y="48"/>
                  <a:pt x="170" y="43"/>
                  <a:pt x="188" y="37"/>
                </a:cubicBezTo>
                <a:cubicBezTo>
                  <a:pt x="206" y="31"/>
                  <a:pt x="234" y="29"/>
                  <a:pt x="256" y="25"/>
                </a:cubicBezTo>
                <a:cubicBezTo>
                  <a:pt x="278" y="21"/>
                  <a:pt x="305" y="17"/>
                  <a:pt x="320" y="13"/>
                </a:cubicBezTo>
                <a:cubicBezTo>
                  <a:pt x="335" y="9"/>
                  <a:pt x="341" y="0"/>
                  <a:pt x="348" y="1"/>
                </a:cubicBezTo>
                <a:cubicBezTo>
                  <a:pt x="355" y="2"/>
                  <a:pt x="365" y="7"/>
                  <a:pt x="364" y="21"/>
                </a:cubicBezTo>
                <a:cubicBezTo>
                  <a:pt x="363" y="35"/>
                  <a:pt x="348" y="57"/>
                  <a:pt x="340" y="85"/>
                </a:cubicBezTo>
                <a:cubicBezTo>
                  <a:pt x="332" y="113"/>
                  <a:pt x="326" y="164"/>
                  <a:pt x="316" y="189"/>
                </a:cubicBezTo>
                <a:cubicBezTo>
                  <a:pt x="306" y="214"/>
                  <a:pt x="274" y="224"/>
                  <a:pt x="280" y="237"/>
                </a:cubicBezTo>
                <a:cubicBezTo>
                  <a:pt x="286" y="250"/>
                  <a:pt x="329" y="252"/>
                  <a:pt x="352" y="265"/>
                </a:cubicBezTo>
                <a:cubicBezTo>
                  <a:pt x="375" y="278"/>
                  <a:pt x="403" y="296"/>
                  <a:pt x="416" y="317"/>
                </a:cubicBezTo>
                <a:cubicBezTo>
                  <a:pt x="429" y="338"/>
                  <a:pt x="431" y="365"/>
                  <a:pt x="432" y="389"/>
                </a:cubicBezTo>
                <a:cubicBezTo>
                  <a:pt x="433" y="413"/>
                  <a:pt x="429" y="436"/>
                  <a:pt x="424" y="461"/>
                </a:cubicBezTo>
                <a:cubicBezTo>
                  <a:pt x="419" y="486"/>
                  <a:pt x="417" y="526"/>
                  <a:pt x="404" y="541"/>
                </a:cubicBezTo>
                <a:cubicBezTo>
                  <a:pt x="391" y="556"/>
                  <a:pt x="365" y="550"/>
                  <a:pt x="348" y="553"/>
                </a:cubicBezTo>
                <a:cubicBezTo>
                  <a:pt x="331" y="556"/>
                  <a:pt x="319" y="557"/>
                  <a:pt x="300" y="557"/>
                </a:cubicBezTo>
                <a:cubicBezTo>
                  <a:pt x="281" y="557"/>
                  <a:pt x="250" y="556"/>
                  <a:pt x="236" y="553"/>
                </a:cubicBezTo>
                <a:cubicBezTo>
                  <a:pt x="222" y="550"/>
                  <a:pt x="227" y="545"/>
                  <a:pt x="216" y="537"/>
                </a:cubicBezTo>
                <a:cubicBezTo>
                  <a:pt x="205" y="529"/>
                  <a:pt x="184" y="516"/>
                  <a:pt x="172" y="505"/>
                </a:cubicBezTo>
                <a:cubicBezTo>
                  <a:pt x="160" y="494"/>
                  <a:pt x="152" y="484"/>
                  <a:pt x="144" y="473"/>
                </a:cubicBezTo>
                <a:cubicBezTo>
                  <a:pt x="136" y="462"/>
                  <a:pt x="129" y="451"/>
                  <a:pt x="124" y="441"/>
                </a:cubicBezTo>
                <a:cubicBezTo>
                  <a:pt x="119" y="431"/>
                  <a:pt x="121" y="420"/>
                  <a:pt x="116" y="413"/>
                </a:cubicBezTo>
                <a:cubicBezTo>
                  <a:pt x="111" y="406"/>
                  <a:pt x="101" y="406"/>
                  <a:pt x="92" y="401"/>
                </a:cubicBezTo>
                <a:cubicBezTo>
                  <a:pt x="83" y="396"/>
                  <a:pt x="79" y="390"/>
                  <a:pt x="64" y="385"/>
                </a:cubicBezTo>
                <a:cubicBezTo>
                  <a:pt x="49" y="380"/>
                  <a:pt x="13" y="372"/>
                  <a:pt x="0" y="369"/>
                </a:cubicBez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400560" y="2222640"/>
            <a:ext cx="17136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3517920" y="2273400"/>
            <a:ext cx="1827360" cy="2552760"/>
          </a:xfrm>
          <a:custGeom>
            <a:avLst/>
            <a:gdLst/>
            <a:ahLst/>
            <a:rect l="l" t="t" r="r" b="b"/>
            <a:pathLst>
              <a:path w="1151" h="1608">
                <a:moveTo>
                  <a:pt x="32" y="0"/>
                </a:moveTo>
                <a:cubicBezTo>
                  <a:pt x="16" y="13"/>
                  <a:pt x="0" y="27"/>
                  <a:pt x="24" y="56"/>
                </a:cubicBezTo>
                <a:cubicBezTo>
                  <a:pt x="48" y="85"/>
                  <a:pt x="71" y="116"/>
                  <a:pt x="176" y="176"/>
                </a:cubicBezTo>
                <a:cubicBezTo>
                  <a:pt x="281" y="236"/>
                  <a:pt x="517" y="345"/>
                  <a:pt x="656" y="416"/>
                </a:cubicBezTo>
                <a:cubicBezTo>
                  <a:pt x="795" y="487"/>
                  <a:pt x="933" y="556"/>
                  <a:pt x="1008" y="600"/>
                </a:cubicBezTo>
                <a:cubicBezTo>
                  <a:pt x="1083" y="644"/>
                  <a:pt x="1081" y="629"/>
                  <a:pt x="1104" y="680"/>
                </a:cubicBezTo>
                <a:cubicBezTo>
                  <a:pt x="1127" y="731"/>
                  <a:pt x="1137" y="811"/>
                  <a:pt x="1144" y="904"/>
                </a:cubicBezTo>
                <a:cubicBezTo>
                  <a:pt x="1151" y="997"/>
                  <a:pt x="1144" y="1123"/>
                  <a:pt x="1144" y="1240"/>
                </a:cubicBezTo>
                <a:cubicBezTo>
                  <a:pt x="1144" y="1357"/>
                  <a:pt x="1145" y="1548"/>
                  <a:pt x="1144" y="1608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341440" y="2008080"/>
            <a:ext cx="1113120" cy="912960"/>
          </a:xfrm>
          <a:custGeom>
            <a:avLst/>
            <a:gdLst/>
            <a:ahLst/>
            <a:rect l="l" t="t" r="r" b="b"/>
            <a:pathLst>
              <a:path w="701" h="575">
                <a:moveTo>
                  <a:pt x="701" y="175"/>
                </a:moveTo>
                <a:cubicBezTo>
                  <a:pt x="691" y="193"/>
                  <a:pt x="681" y="212"/>
                  <a:pt x="645" y="199"/>
                </a:cubicBezTo>
                <a:cubicBezTo>
                  <a:pt x="609" y="186"/>
                  <a:pt x="534" y="126"/>
                  <a:pt x="485" y="95"/>
                </a:cubicBezTo>
                <a:cubicBezTo>
                  <a:pt x="436" y="64"/>
                  <a:pt x="386" y="30"/>
                  <a:pt x="349" y="15"/>
                </a:cubicBezTo>
                <a:cubicBezTo>
                  <a:pt x="312" y="0"/>
                  <a:pt x="288" y="2"/>
                  <a:pt x="261" y="7"/>
                </a:cubicBezTo>
                <a:cubicBezTo>
                  <a:pt x="234" y="12"/>
                  <a:pt x="221" y="22"/>
                  <a:pt x="189" y="47"/>
                </a:cubicBezTo>
                <a:cubicBezTo>
                  <a:pt x="157" y="72"/>
                  <a:pt x="100" y="107"/>
                  <a:pt x="69" y="159"/>
                </a:cubicBezTo>
                <a:cubicBezTo>
                  <a:pt x="38" y="211"/>
                  <a:pt x="0" y="290"/>
                  <a:pt x="5" y="359"/>
                </a:cubicBezTo>
                <a:cubicBezTo>
                  <a:pt x="10" y="428"/>
                  <a:pt x="81" y="530"/>
                  <a:pt x="101" y="575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600280" y="3000240"/>
            <a:ext cx="1878120" cy="1809720"/>
          </a:xfrm>
          <a:custGeom>
            <a:avLst/>
            <a:gdLst/>
            <a:ahLst/>
            <a:rect l="l" t="t" r="r" b="b"/>
            <a:pathLst>
              <a:path w="1183" h="1140">
                <a:moveTo>
                  <a:pt x="0" y="0"/>
                </a:moveTo>
                <a:cubicBezTo>
                  <a:pt x="196" y="96"/>
                  <a:pt x="393" y="193"/>
                  <a:pt x="534" y="264"/>
                </a:cubicBezTo>
                <a:cubicBezTo>
                  <a:pt x="675" y="335"/>
                  <a:pt x="770" y="385"/>
                  <a:pt x="846" y="426"/>
                </a:cubicBezTo>
                <a:cubicBezTo>
                  <a:pt x="922" y="467"/>
                  <a:pt x="939" y="464"/>
                  <a:pt x="990" y="510"/>
                </a:cubicBezTo>
                <a:cubicBezTo>
                  <a:pt x="1041" y="556"/>
                  <a:pt x="1121" y="625"/>
                  <a:pt x="1152" y="702"/>
                </a:cubicBezTo>
                <a:cubicBezTo>
                  <a:pt x="1183" y="779"/>
                  <a:pt x="1172" y="899"/>
                  <a:pt x="1176" y="972"/>
                </a:cubicBezTo>
                <a:cubicBezTo>
                  <a:pt x="1180" y="1045"/>
                  <a:pt x="1178" y="1092"/>
                  <a:pt x="1176" y="1140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961080" y="225108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ibre sensi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5628960" y="4248000"/>
            <a:ext cx="361800" cy="5810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904360" y="3936960"/>
            <a:ext cx="25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useau neuro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2455560" y="3790800"/>
            <a:ext cx="16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toneurone </a:t>
            </a:r>
            <a:r>
              <a:rPr b="1" lang="fr-FR" sz="1600" spc="-1" strike="noStrike">
                <a:solidFill>
                  <a:srgbClr val="5f5f5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096920" y="355608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299120" y="4762440"/>
            <a:ext cx="317160" cy="152640"/>
          </a:xfrm>
          <a:prstGeom prst="flowChartExtra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517840" y="2911320"/>
            <a:ext cx="203040" cy="1908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81080" y="206280"/>
            <a:ext cx="88297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ise en jeu de l’arc réfl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84120" y="1679400"/>
            <a:ext cx="8508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ibre Ia : réponse phasique à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réponse rapi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dépassement : raccourcissement plus important que l’étirement init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timulation excessive des fibres Ia : spasticité (spasmes contract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ibre II : réponse tonique à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timulation excessive des fibres Ia : hypertonic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rôle des fibres Ia et fibres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60560" y="206280"/>
            <a:ext cx="869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es motoneurones </a:t>
            </a:r>
            <a:r>
              <a:rPr b="0" lang="en-GB" sz="2000" spc="-1" strike="noStrike">
                <a:solidFill>
                  <a:srgbClr val="800000"/>
                </a:solidFill>
                <a:latin typeface="Symbol"/>
                <a:ea typeface="Symbol"/>
              </a:rPr>
              <a:t>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activation du réflexe myotatique en absence de stimulation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104840" y="3848040"/>
            <a:ext cx="1193760" cy="1143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168560" y="2273400"/>
            <a:ext cx="105408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914400" y="187632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centre céréb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842760" y="5288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4" name=""/>
          <p:cNvGrpSpPr/>
          <p:nvPr/>
        </p:nvGrpSpPr>
        <p:grpSpPr>
          <a:xfrm>
            <a:off x="1219320" y="3936960"/>
            <a:ext cx="964800" cy="939240"/>
            <a:chOff x="1219320" y="3936960"/>
            <a:chExt cx="964800" cy="939240"/>
          </a:xfrm>
        </p:grpSpPr>
        <p:sp>
          <p:nvSpPr>
            <p:cNvPr id="1635" name=""/>
            <p:cNvSpPr/>
            <p:nvPr/>
          </p:nvSpPr>
          <p:spPr>
            <a:xfrm>
              <a:off x="168300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70136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21932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23768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442160" y="41673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1701720" y="2730600"/>
            <a:ext cx="254160" cy="1942920"/>
          </a:xfrm>
          <a:custGeom>
            <a:avLst/>
            <a:gdLst/>
            <a:ahLst/>
            <a:rect l="l" t="t" r="r" b="b"/>
            <a:pathLst>
              <a:path w="160" h="1224">
                <a:moveTo>
                  <a:pt x="0" y="0"/>
                </a:moveTo>
                <a:lnTo>
                  <a:pt x="2" y="1118"/>
                </a:lnTo>
                <a:lnTo>
                  <a:pt x="160" y="12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981080" y="4686480"/>
            <a:ext cx="3111480" cy="469800"/>
          </a:xfrm>
          <a:custGeom>
            <a:avLst/>
            <a:gdLst/>
            <a:ahLst/>
            <a:rect l="l" t="t" r="r" b="b"/>
            <a:pathLst>
              <a:path w="1920" h="360">
                <a:moveTo>
                  <a:pt x="0" y="0"/>
                </a:moveTo>
                <a:lnTo>
                  <a:pt x="360" y="360"/>
                </a:lnTo>
                <a:lnTo>
                  <a:pt x="1920" y="360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959120" y="4664160"/>
            <a:ext cx="88920" cy="889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3" name=""/>
          <p:cNvGrpSpPr/>
          <p:nvPr/>
        </p:nvGrpSpPr>
        <p:grpSpPr>
          <a:xfrm>
            <a:off x="5024520" y="2260440"/>
            <a:ext cx="905760" cy="4165560"/>
            <a:chOff x="5024520" y="2260440"/>
            <a:chExt cx="905760" cy="4165560"/>
          </a:xfrm>
        </p:grpSpPr>
        <p:grpSp>
          <p:nvGrpSpPr>
            <p:cNvPr id="1644" name=""/>
            <p:cNvGrpSpPr/>
            <p:nvPr/>
          </p:nvGrpSpPr>
          <p:grpSpPr>
            <a:xfrm>
              <a:off x="5024520" y="2260440"/>
              <a:ext cx="905760" cy="4165560"/>
              <a:chOff x="5024520" y="2260440"/>
              <a:chExt cx="905760" cy="4165560"/>
            </a:xfrm>
          </p:grpSpPr>
          <p:sp>
            <p:nvSpPr>
              <p:cNvPr id="1645" name=""/>
              <p:cNvSpPr/>
              <p:nvPr/>
            </p:nvSpPr>
            <p:spPr>
              <a:xfrm>
                <a:off x="5024520" y="2260440"/>
                <a:ext cx="455400" cy="416556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solidFill>
                <a:srgbClr val="ff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H="1">
                <a:off x="5474520" y="2260440"/>
                <a:ext cx="455400" cy="416556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solidFill>
                <a:srgbClr val="ff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7" name=""/>
            <p:cNvGrpSpPr/>
            <p:nvPr/>
          </p:nvGrpSpPr>
          <p:grpSpPr>
            <a:xfrm>
              <a:off x="5278320" y="3149640"/>
              <a:ext cx="453960" cy="2084400"/>
              <a:chOff x="5278320" y="3149640"/>
              <a:chExt cx="453960" cy="2084400"/>
            </a:xfrm>
          </p:grpSpPr>
          <p:sp>
            <p:nvSpPr>
              <p:cNvPr id="1648" name=""/>
              <p:cNvSpPr/>
              <p:nvPr/>
            </p:nvSpPr>
            <p:spPr>
              <a:xfrm>
                <a:off x="5278320" y="3149640"/>
                <a:ext cx="228240" cy="208440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gradFill rotWithShape="0">
                <a:gsLst>
                  <a:gs pos="0">
                    <a:srgbClr val="fefeaf"/>
                  </a:gs>
                  <a:gs pos="100000">
                    <a:srgbClr val="ffff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H="1">
                <a:off x="5504040" y="3149640"/>
                <a:ext cx="228240" cy="208440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gradFill rotWithShape="0">
                <a:gsLst>
                  <a:gs pos="0">
                    <a:srgbClr val="fefeaf"/>
                  </a:gs>
                  <a:gs pos="100000">
                    <a:srgbClr val="ffff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0" name=""/>
            <p:cNvSpPr/>
            <p:nvPr/>
          </p:nvSpPr>
          <p:spPr>
            <a:xfrm>
              <a:off x="5495760" y="3952800"/>
              <a:ext cx="0" cy="218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1" name=""/>
          <p:cNvSpPr/>
          <p:nvPr/>
        </p:nvSpPr>
        <p:spPr>
          <a:xfrm>
            <a:off x="478800" y="299412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mma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ntrac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148920" y="5116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fibre </a:t>
            </a:r>
            <a:r>
              <a:rPr b="0" lang="fr-FR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2968200" y="3699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738080" y="3192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486400" y="3162240"/>
            <a:ext cx="1434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511960" y="5219640"/>
            <a:ext cx="1434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012640" y="634212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mus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886440" y="3191040"/>
            <a:ext cx="0" cy="2019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263280" y="3935520"/>
            <a:ext cx="2521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fuseau neuro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1819440" y="4057560"/>
            <a:ext cx="3676320" cy="542880"/>
          </a:xfrm>
          <a:custGeom>
            <a:avLst/>
            <a:gdLst/>
            <a:ahLst/>
            <a:rect l="l" t="t" r="r" b="b"/>
            <a:pathLst>
              <a:path w="2316" h="342">
                <a:moveTo>
                  <a:pt x="2316" y="0"/>
                </a:moveTo>
                <a:lnTo>
                  <a:pt x="72" y="0"/>
                </a:lnTo>
                <a:lnTo>
                  <a:pt x="0" y="174"/>
                </a:lnTo>
                <a:lnTo>
                  <a:pt x="96" y="342"/>
                </a:ln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1" name=""/>
          <p:cNvGrpSpPr/>
          <p:nvPr/>
        </p:nvGrpSpPr>
        <p:grpSpPr>
          <a:xfrm>
            <a:off x="4524480" y="1504800"/>
            <a:ext cx="4035240" cy="622080"/>
            <a:chOff x="4524480" y="1504800"/>
            <a:chExt cx="4035240" cy="622080"/>
          </a:xfrm>
        </p:grpSpPr>
        <p:grpSp>
          <p:nvGrpSpPr>
            <p:cNvPr id="1662" name=""/>
            <p:cNvGrpSpPr/>
            <p:nvPr/>
          </p:nvGrpSpPr>
          <p:grpSpPr>
            <a:xfrm>
              <a:off x="4524480" y="1557720"/>
              <a:ext cx="4035240" cy="540000"/>
              <a:chOff x="4524480" y="1557720"/>
              <a:chExt cx="4035240" cy="540000"/>
            </a:xfrm>
          </p:grpSpPr>
          <p:sp>
            <p:nvSpPr>
              <p:cNvPr id="1663" name=""/>
              <p:cNvSpPr/>
              <p:nvPr/>
            </p:nvSpPr>
            <p:spPr>
              <a:xfrm>
                <a:off x="4526640" y="1664280"/>
                <a:ext cx="4033080" cy="319680"/>
              </a:xfrm>
              <a:prstGeom prst="rect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635440" y="1557720"/>
                <a:ext cx="1848600" cy="540000"/>
              </a:xfrm>
              <a:prstGeom prst="ellipse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088680" y="1666800"/>
                <a:ext cx="23976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435360" y="1780200"/>
                <a:ext cx="23976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604200" y="1922760"/>
                <a:ext cx="23976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386480" y="1664280"/>
                <a:ext cx="23076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795080" y="1663200"/>
                <a:ext cx="230760" cy="312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706160" y="1664280"/>
                <a:ext cx="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8221680" y="1663200"/>
                <a:ext cx="230760" cy="312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8132760" y="1664280"/>
                <a:ext cx="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297560" y="1657080"/>
                <a:ext cx="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8550720" y="1666800"/>
                <a:ext cx="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4613400" y="1664280"/>
                <a:ext cx="23076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022000" y="1663200"/>
                <a:ext cx="230760" cy="312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933080" y="1657080"/>
                <a:ext cx="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448600" y="1663200"/>
                <a:ext cx="231120" cy="312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360040" y="1664280"/>
                <a:ext cx="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524480" y="1657080"/>
                <a:ext cx="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777640" y="1659600"/>
                <a:ext cx="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799680" y="1688040"/>
                <a:ext cx="23976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6221880" y="1872720"/>
                <a:ext cx="23976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453000" y="1617120"/>
                <a:ext cx="23976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5" name=""/>
            <p:cNvSpPr/>
            <p:nvPr/>
          </p:nvSpPr>
          <p:spPr>
            <a:xfrm>
              <a:off x="6157800" y="1531080"/>
              <a:ext cx="355320" cy="59580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397560" y="1531080"/>
              <a:ext cx="355320" cy="59580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961960" y="1575720"/>
              <a:ext cx="284400" cy="54252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837760" y="1504800"/>
              <a:ext cx="195480" cy="610200"/>
            </a:xfrm>
            <a:custGeom>
              <a:avLst/>
              <a:gdLst/>
              <a:ahLst/>
              <a:rect l="l" t="t" r="r" b="b"/>
              <a:pathLst>
                <a:path w="176" h="477">
                  <a:moveTo>
                    <a:pt x="176" y="416"/>
                  </a:moveTo>
                  <a:cubicBezTo>
                    <a:pt x="164" y="463"/>
                    <a:pt x="172" y="477"/>
                    <a:pt x="120" y="464"/>
                  </a:cubicBezTo>
                  <a:cubicBezTo>
                    <a:pt x="89" y="417"/>
                    <a:pt x="82" y="366"/>
                    <a:pt x="72" y="312"/>
                  </a:cubicBezTo>
                  <a:cubicBezTo>
                    <a:pt x="62" y="255"/>
                    <a:pt x="43" y="192"/>
                    <a:pt x="24" y="136"/>
                  </a:cubicBezTo>
                  <a:cubicBezTo>
                    <a:pt x="21" y="109"/>
                    <a:pt x="20" y="82"/>
                    <a:pt x="16" y="56"/>
                  </a:cubicBezTo>
                  <a:cubicBezTo>
                    <a:pt x="13" y="37"/>
                    <a:pt x="0" y="0"/>
                    <a:pt x="0" y="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9" name=""/>
          <p:cNvGrpSpPr/>
          <p:nvPr/>
        </p:nvGrpSpPr>
        <p:grpSpPr>
          <a:xfrm>
            <a:off x="5024520" y="2692440"/>
            <a:ext cx="905760" cy="3124080"/>
            <a:chOff x="5024520" y="2692440"/>
            <a:chExt cx="905760" cy="3124080"/>
          </a:xfrm>
        </p:grpSpPr>
        <p:sp>
          <p:nvSpPr>
            <p:cNvPr id="1690" name=""/>
            <p:cNvSpPr/>
            <p:nvPr/>
          </p:nvSpPr>
          <p:spPr>
            <a:xfrm>
              <a:off x="5024520" y="2692440"/>
              <a:ext cx="455400" cy="312408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5474520" y="2692440"/>
              <a:ext cx="455400" cy="312408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2" name=""/>
          <p:cNvSpPr/>
          <p:nvPr/>
        </p:nvSpPr>
        <p:spPr>
          <a:xfrm>
            <a:off x="5321160" y="3368520"/>
            <a:ext cx="185760" cy="1563840"/>
          </a:xfrm>
          <a:custGeom>
            <a:avLst/>
            <a:gdLst/>
            <a:ahLst/>
            <a:rect l="l" t="t" r="r" b="b"/>
            <a:pathLst>
              <a:path w="117" h="985">
                <a:moveTo>
                  <a:pt x="117" y="0"/>
                </a:moveTo>
                <a:cubicBezTo>
                  <a:pt x="105" y="31"/>
                  <a:pt x="56" y="125"/>
                  <a:pt x="44" y="188"/>
                </a:cubicBezTo>
                <a:cubicBezTo>
                  <a:pt x="32" y="251"/>
                  <a:pt x="50" y="288"/>
                  <a:pt x="44" y="380"/>
                </a:cubicBezTo>
                <a:cubicBezTo>
                  <a:pt x="38" y="472"/>
                  <a:pt x="0" y="649"/>
                  <a:pt x="7" y="739"/>
                </a:cubicBezTo>
                <a:cubicBezTo>
                  <a:pt x="14" y="829"/>
                  <a:pt x="70" y="878"/>
                  <a:pt x="89" y="919"/>
                </a:cubicBezTo>
                <a:cubicBezTo>
                  <a:pt x="107" y="960"/>
                  <a:pt x="112" y="972"/>
                  <a:pt x="117" y="985"/>
                </a:cubicBezTo>
              </a:path>
            </a:pathLst>
          </a:custGeom>
          <a:gradFill rotWithShape="0">
            <a:gsLst>
              <a:gs pos="0">
                <a:srgbClr val="fefeaf"/>
              </a:gs>
              <a:gs pos="100000">
                <a:srgbClr val="ffff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5504040" y="3368520"/>
            <a:ext cx="258480" cy="1563840"/>
          </a:xfrm>
          <a:custGeom>
            <a:avLst/>
            <a:gdLst/>
            <a:ahLst/>
            <a:rect l="l" t="t" r="r" b="b"/>
            <a:pathLst>
              <a:path w="163" h="985">
                <a:moveTo>
                  <a:pt x="0" y="0"/>
                </a:moveTo>
                <a:cubicBezTo>
                  <a:pt x="23" y="46"/>
                  <a:pt x="115" y="197"/>
                  <a:pt x="139" y="278"/>
                </a:cubicBezTo>
                <a:cubicBezTo>
                  <a:pt x="163" y="359"/>
                  <a:pt x="155" y="411"/>
                  <a:pt x="142" y="486"/>
                </a:cubicBezTo>
                <a:cubicBezTo>
                  <a:pt x="129" y="561"/>
                  <a:pt x="74" y="656"/>
                  <a:pt x="61" y="728"/>
                </a:cubicBezTo>
                <a:cubicBezTo>
                  <a:pt x="48" y="800"/>
                  <a:pt x="71" y="877"/>
                  <a:pt x="61" y="920"/>
                </a:cubicBezTo>
                <a:cubicBezTo>
                  <a:pt x="51" y="963"/>
                  <a:pt x="13" y="972"/>
                  <a:pt x="0" y="985"/>
                </a:cubicBezTo>
              </a:path>
            </a:pathLst>
          </a:custGeom>
          <a:gradFill rotWithShape="0">
            <a:gsLst>
              <a:gs pos="0">
                <a:srgbClr val="fefeaf"/>
              </a:gs>
              <a:gs pos="100000">
                <a:srgbClr val="ffff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5495760" y="3971880"/>
            <a:ext cx="0" cy="1634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160560" y="206280"/>
            <a:ext cx="869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es motoneurones </a:t>
            </a:r>
            <a:r>
              <a:rPr b="0" lang="en-GB" sz="2000" spc="-1" strike="noStrike">
                <a:solidFill>
                  <a:srgbClr val="800000"/>
                </a:solidFill>
                <a:latin typeface="Symbol"/>
                <a:ea typeface="Symbol"/>
              </a:rPr>
              <a:t>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104840" y="3848040"/>
            <a:ext cx="1193760" cy="1143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168560" y="2273400"/>
            <a:ext cx="105408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914400" y="187632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centre céréb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842760" y="5288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1219320" y="3936960"/>
            <a:ext cx="964800" cy="939240"/>
            <a:chOff x="1219320" y="3936960"/>
            <a:chExt cx="964800" cy="939240"/>
          </a:xfrm>
        </p:grpSpPr>
        <p:sp>
          <p:nvSpPr>
            <p:cNvPr id="1703" name=""/>
            <p:cNvSpPr/>
            <p:nvPr/>
          </p:nvSpPr>
          <p:spPr>
            <a:xfrm>
              <a:off x="168300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70136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21932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23768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442160" y="41673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8" name=""/>
          <p:cNvSpPr/>
          <p:nvPr/>
        </p:nvSpPr>
        <p:spPr>
          <a:xfrm>
            <a:off x="1701720" y="2730600"/>
            <a:ext cx="254160" cy="1942920"/>
          </a:xfrm>
          <a:custGeom>
            <a:avLst/>
            <a:gdLst/>
            <a:ahLst/>
            <a:rect l="l" t="t" r="r" b="b"/>
            <a:pathLst>
              <a:path w="160" h="1224">
                <a:moveTo>
                  <a:pt x="0" y="0"/>
                </a:moveTo>
                <a:lnTo>
                  <a:pt x="2" y="1118"/>
                </a:lnTo>
                <a:lnTo>
                  <a:pt x="160" y="12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981080" y="4686480"/>
            <a:ext cx="3111480" cy="469800"/>
          </a:xfrm>
          <a:custGeom>
            <a:avLst/>
            <a:gdLst/>
            <a:ahLst/>
            <a:rect l="l" t="t" r="r" b="b"/>
            <a:pathLst>
              <a:path w="1920" h="360">
                <a:moveTo>
                  <a:pt x="0" y="0"/>
                </a:moveTo>
                <a:lnTo>
                  <a:pt x="360" y="360"/>
                </a:lnTo>
                <a:lnTo>
                  <a:pt x="1920" y="360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1959120" y="4664160"/>
            <a:ext cx="88920" cy="889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1819440" y="4057560"/>
            <a:ext cx="3676320" cy="542880"/>
          </a:xfrm>
          <a:custGeom>
            <a:avLst/>
            <a:gdLst/>
            <a:ahLst/>
            <a:rect l="l" t="t" r="r" b="b"/>
            <a:pathLst>
              <a:path w="2316" h="342">
                <a:moveTo>
                  <a:pt x="2316" y="0"/>
                </a:moveTo>
                <a:lnTo>
                  <a:pt x="72" y="0"/>
                </a:lnTo>
                <a:lnTo>
                  <a:pt x="0" y="174"/>
                </a:lnTo>
                <a:lnTo>
                  <a:pt x="96" y="342"/>
                </a:ln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78800" y="299412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mma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ntrac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148920" y="5116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fibre </a:t>
            </a:r>
            <a:r>
              <a:rPr b="0" lang="fr-FR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968200" y="3699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1738080" y="3192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395520" y="4773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activation du réflexe myotatique en absence de stimulation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263280" y="393552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relâchement 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useau neuro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330440" y="608796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contraction 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0" name=""/>
          <p:cNvGrpSpPr/>
          <p:nvPr/>
        </p:nvGrpSpPr>
        <p:grpSpPr>
          <a:xfrm>
            <a:off x="4811760" y="1515960"/>
            <a:ext cx="3451320" cy="601920"/>
            <a:chOff x="4811760" y="1515960"/>
            <a:chExt cx="3451320" cy="601920"/>
          </a:xfrm>
        </p:grpSpPr>
        <p:grpSp>
          <p:nvGrpSpPr>
            <p:cNvPr id="1721" name=""/>
            <p:cNvGrpSpPr/>
            <p:nvPr/>
          </p:nvGrpSpPr>
          <p:grpSpPr>
            <a:xfrm>
              <a:off x="4811760" y="1548000"/>
              <a:ext cx="3451320" cy="539640"/>
              <a:chOff x="4811760" y="1548000"/>
              <a:chExt cx="3451320" cy="539640"/>
            </a:xfrm>
          </p:grpSpPr>
          <p:sp>
            <p:nvSpPr>
              <p:cNvPr id="1722" name=""/>
              <p:cNvSpPr/>
              <p:nvPr/>
            </p:nvSpPr>
            <p:spPr>
              <a:xfrm>
                <a:off x="4813560" y="1654200"/>
                <a:ext cx="3449520" cy="319320"/>
              </a:xfrm>
              <a:prstGeom prst="rect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5761800" y="1548000"/>
                <a:ext cx="1581120" cy="539640"/>
              </a:xfrm>
              <a:prstGeom prst="ellipse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149520" y="1657080"/>
                <a:ext cx="20520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6446160" y="1770480"/>
                <a:ext cx="20520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590520" y="1912680"/>
                <a:ext cx="20520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259400" y="1654200"/>
                <a:ext cx="19728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609320" y="1653480"/>
                <a:ext cx="19728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533360" y="165420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974000" y="1653480"/>
                <a:ext cx="19728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898040" y="165420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183440" y="164736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8255160" y="1657080"/>
                <a:ext cx="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4887720" y="1654200"/>
                <a:ext cx="19728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237280" y="1653480"/>
                <a:ext cx="19728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5161320" y="164736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602320" y="1653480"/>
                <a:ext cx="19764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526360" y="165420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811760" y="164736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883480" y="164988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757920" y="1678320"/>
                <a:ext cx="20484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263640" y="1863000"/>
                <a:ext cx="20520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461280" y="1607040"/>
                <a:ext cx="20484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4" name=""/>
            <p:cNvSpPr/>
            <p:nvPr/>
          </p:nvSpPr>
          <p:spPr>
            <a:xfrm>
              <a:off x="6206760" y="1521360"/>
              <a:ext cx="234000" cy="59544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365520" y="1521360"/>
              <a:ext cx="234000" cy="59544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077880" y="1565640"/>
              <a:ext cx="187200" cy="54180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969160" y="1515960"/>
              <a:ext cx="155160" cy="601920"/>
            </a:xfrm>
            <a:custGeom>
              <a:avLst/>
              <a:gdLst/>
              <a:ahLst/>
              <a:rect l="l" t="t" r="r" b="b"/>
              <a:pathLst>
                <a:path w="176" h="477">
                  <a:moveTo>
                    <a:pt x="176" y="416"/>
                  </a:moveTo>
                  <a:cubicBezTo>
                    <a:pt x="164" y="463"/>
                    <a:pt x="172" y="477"/>
                    <a:pt x="120" y="464"/>
                  </a:cubicBezTo>
                  <a:cubicBezTo>
                    <a:pt x="89" y="417"/>
                    <a:pt x="82" y="366"/>
                    <a:pt x="72" y="312"/>
                  </a:cubicBezTo>
                  <a:cubicBezTo>
                    <a:pt x="62" y="255"/>
                    <a:pt x="43" y="192"/>
                    <a:pt x="24" y="136"/>
                  </a:cubicBezTo>
                  <a:cubicBezTo>
                    <a:pt x="21" y="109"/>
                    <a:pt x="20" y="82"/>
                    <a:pt x="16" y="56"/>
                  </a:cubicBezTo>
                  <a:cubicBezTo>
                    <a:pt x="13" y="37"/>
                    <a:pt x="0" y="0"/>
                    <a:pt x="0" y="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8" name=""/>
          <p:cNvGrpSpPr/>
          <p:nvPr/>
        </p:nvGrpSpPr>
        <p:grpSpPr>
          <a:xfrm>
            <a:off x="5024520" y="2692440"/>
            <a:ext cx="905760" cy="3124080"/>
            <a:chOff x="5024520" y="2692440"/>
            <a:chExt cx="905760" cy="3124080"/>
          </a:xfrm>
        </p:grpSpPr>
        <p:sp>
          <p:nvSpPr>
            <p:cNvPr id="1749" name=""/>
            <p:cNvSpPr/>
            <p:nvPr/>
          </p:nvSpPr>
          <p:spPr>
            <a:xfrm>
              <a:off x="5024520" y="2692440"/>
              <a:ext cx="455400" cy="312408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H="1">
              <a:off x="5474520" y="2692440"/>
              <a:ext cx="455400" cy="312408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60560" y="206280"/>
            <a:ext cx="869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es motoneurones </a:t>
            </a:r>
            <a:r>
              <a:rPr b="0" lang="en-GB" sz="2000" spc="-1" strike="noStrike">
                <a:solidFill>
                  <a:srgbClr val="800000"/>
                </a:solidFill>
                <a:latin typeface="Symbol"/>
                <a:ea typeface="Symbol"/>
              </a:rPr>
              <a:t>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104840" y="3848040"/>
            <a:ext cx="1193760" cy="1143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168560" y="2273400"/>
            <a:ext cx="105408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914400" y="187632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centre céréb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42760" y="5288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8" name=""/>
          <p:cNvGrpSpPr/>
          <p:nvPr/>
        </p:nvGrpSpPr>
        <p:grpSpPr>
          <a:xfrm>
            <a:off x="1219320" y="3936960"/>
            <a:ext cx="964800" cy="939240"/>
            <a:chOff x="1219320" y="3936960"/>
            <a:chExt cx="964800" cy="939240"/>
          </a:xfrm>
        </p:grpSpPr>
        <p:sp>
          <p:nvSpPr>
            <p:cNvPr id="1759" name=""/>
            <p:cNvSpPr/>
            <p:nvPr/>
          </p:nvSpPr>
          <p:spPr>
            <a:xfrm>
              <a:off x="168300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70136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21932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23768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442160" y="41673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4" name=""/>
          <p:cNvSpPr/>
          <p:nvPr/>
        </p:nvSpPr>
        <p:spPr>
          <a:xfrm>
            <a:off x="1701720" y="2730600"/>
            <a:ext cx="254160" cy="1942920"/>
          </a:xfrm>
          <a:custGeom>
            <a:avLst/>
            <a:gdLst/>
            <a:ahLst/>
            <a:rect l="l" t="t" r="r" b="b"/>
            <a:pathLst>
              <a:path w="160" h="1224">
                <a:moveTo>
                  <a:pt x="0" y="0"/>
                </a:moveTo>
                <a:lnTo>
                  <a:pt x="2" y="1118"/>
                </a:lnTo>
                <a:lnTo>
                  <a:pt x="160" y="12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981080" y="4686480"/>
            <a:ext cx="3111480" cy="469800"/>
          </a:xfrm>
          <a:custGeom>
            <a:avLst/>
            <a:gdLst/>
            <a:ahLst/>
            <a:rect l="l" t="t" r="r" b="b"/>
            <a:pathLst>
              <a:path w="1920" h="360">
                <a:moveTo>
                  <a:pt x="0" y="0"/>
                </a:moveTo>
                <a:lnTo>
                  <a:pt x="360" y="360"/>
                </a:lnTo>
                <a:lnTo>
                  <a:pt x="1920" y="360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1959120" y="4664160"/>
            <a:ext cx="88920" cy="889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78800" y="299412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mma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ntrac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148920" y="5116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fibre </a:t>
            </a:r>
            <a:r>
              <a:rPr b="0" lang="fr-FR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2968200" y="3699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738080" y="3192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395520" y="4773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activation du réflexe myotatique en absence de stimulation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330440" y="608796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contraction 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263280" y="393552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relâchement 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useau neuro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290760" y="39434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276280" y="3241800"/>
            <a:ext cx="26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arrêt des PA de la 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321160" y="3368520"/>
            <a:ext cx="185760" cy="1563840"/>
          </a:xfrm>
          <a:custGeom>
            <a:avLst/>
            <a:gdLst/>
            <a:ahLst/>
            <a:rect l="l" t="t" r="r" b="b"/>
            <a:pathLst>
              <a:path w="117" h="985">
                <a:moveTo>
                  <a:pt x="117" y="0"/>
                </a:moveTo>
                <a:cubicBezTo>
                  <a:pt x="105" y="31"/>
                  <a:pt x="56" y="125"/>
                  <a:pt x="44" y="188"/>
                </a:cubicBezTo>
                <a:cubicBezTo>
                  <a:pt x="32" y="251"/>
                  <a:pt x="50" y="288"/>
                  <a:pt x="44" y="380"/>
                </a:cubicBezTo>
                <a:cubicBezTo>
                  <a:pt x="38" y="472"/>
                  <a:pt x="0" y="649"/>
                  <a:pt x="7" y="739"/>
                </a:cubicBezTo>
                <a:cubicBezTo>
                  <a:pt x="14" y="829"/>
                  <a:pt x="70" y="878"/>
                  <a:pt x="89" y="919"/>
                </a:cubicBezTo>
                <a:cubicBezTo>
                  <a:pt x="107" y="960"/>
                  <a:pt x="112" y="972"/>
                  <a:pt x="117" y="985"/>
                </a:cubicBezTo>
              </a:path>
            </a:pathLst>
          </a:custGeom>
          <a:gradFill rotWithShape="0">
            <a:gsLst>
              <a:gs pos="0">
                <a:srgbClr val="fefeaf"/>
              </a:gs>
              <a:gs pos="100000">
                <a:srgbClr val="ffff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504040" y="3368520"/>
            <a:ext cx="258480" cy="1563840"/>
          </a:xfrm>
          <a:custGeom>
            <a:avLst/>
            <a:gdLst/>
            <a:ahLst/>
            <a:rect l="l" t="t" r="r" b="b"/>
            <a:pathLst>
              <a:path w="163" h="985">
                <a:moveTo>
                  <a:pt x="0" y="0"/>
                </a:moveTo>
                <a:cubicBezTo>
                  <a:pt x="23" y="46"/>
                  <a:pt x="115" y="197"/>
                  <a:pt x="139" y="278"/>
                </a:cubicBezTo>
                <a:cubicBezTo>
                  <a:pt x="163" y="359"/>
                  <a:pt x="155" y="411"/>
                  <a:pt x="142" y="486"/>
                </a:cubicBezTo>
                <a:cubicBezTo>
                  <a:pt x="129" y="561"/>
                  <a:pt x="74" y="656"/>
                  <a:pt x="61" y="728"/>
                </a:cubicBezTo>
                <a:cubicBezTo>
                  <a:pt x="48" y="800"/>
                  <a:pt x="71" y="877"/>
                  <a:pt x="61" y="920"/>
                </a:cubicBezTo>
                <a:cubicBezTo>
                  <a:pt x="51" y="963"/>
                  <a:pt x="13" y="972"/>
                  <a:pt x="0" y="985"/>
                </a:cubicBezTo>
              </a:path>
            </a:pathLst>
          </a:custGeom>
          <a:gradFill rotWithShape="0">
            <a:gsLst>
              <a:gs pos="0">
                <a:srgbClr val="fefeaf"/>
              </a:gs>
              <a:gs pos="100000">
                <a:srgbClr val="ffff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495760" y="3971880"/>
            <a:ext cx="0" cy="1634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819440" y="4057560"/>
            <a:ext cx="3676320" cy="542880"/>
          </a:xfrm>
          <a:custGeom>
            <a:avLst/>
            <a:gdLst/>
            <a:ahLst/>
            <a:rect l="l" t="t" r="r" b="b"/>
            <a:pathLst>
              <a:path w="2316" h="342">
                <a:moveTo>
                  <a:pt x="2316" y="0"/>
                </a:moveTo>
                <a:lnTo>
                  <a:pt x="72" y="0"/>
                </a:lnTo>
                <a:lnTo>
                  <a:pt x="0" y="174"/>
                </a:lnTo>
                <a:lnTo>
                  <a:pt x="96" y="342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1" name=""/>
          <p:cNvGrpSpPr/>
          <p:nvPr/>
        </p:nvGrpSpPr>
        <p:grpSpPr>
          <a:xfrm>
            <a:off x="4811760" y="1515960"/>
            <a:ext cx="3451320" cy="601920"/>
            <a:chOff x="4811760" y="1515960"/>
            <a:chExt cx="3451320" cy="601920"/>
          </a:xfrm>
        </p:grpSpPr>
        <p:grpSp>
          <p:nvGrpSpPr>
            <p:cNvPr id="1782" name=""/>
            <p:cNvGrpSpPr/>
            <p:nvPr/>
          </p:nvGrpSpPr>
          <p:grpSpPr>
            <a:xfrm>
              <a:off x="4811760" y="1548000"/>
              <a:ext cx="3451320" cy="539640"/>
              <a:chOff x="4811760" y="1548000"/>
              <a:chExt cx="3451320" cy="539640"/>
            </a:xfrm>
          </p:grpSpPr>
          <p:sp>
            <p:nvSpPr>
              <p:cNvPr id="1783" name=""/>
              <p:cNvSpPr/>
              <p:nvPr/>
            </p:nvSpPr>
            <p:spPr>
              <a:xfrm>
                <a:off x="4813560" y="1654200"/>
                <a:ext cx="3449520" cy="319320"/>
              </a:xfrm>
              <a:prstGeom prst="rect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5761800" y="1548000"/>
                <a:ext cx="1581120" cy="539640"/>
              </a:xfrm>
              <a:prstGeom prst="ellipse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149520" y="1657080"/>
                <a:ext cx="20520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6446160" y="1770480"/>
                <a:ext cx="20520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6590520" y="1912680"/>
                <a:ext cx="20520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7259400" y="1654200"/>
                <a:ext cx="19728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7609320" y="1653480"/>
                <a:ext cx="19728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7533360" y="165420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7974000" y="1653480"/>
                <a:ext cx="19728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898040" y="165420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183440" y="164736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8255160" y="1657080"/>
                <a:ext cx="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887720" y="1654200"/>
                <a:ext cx="19728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237280" y="1653480"/>
                <a:ext cx="19728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161320" y="164736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602320" y="1653480"/>
                <a:ext cx="19764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526360" y="165420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811760" y="164736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883480" y="164988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757920" y="1678320"/>
                <a:ext cx="20484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263640" y="1863000"/>
                <a:ext cx="20520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461280" y="1607040"/>
                <a:ext cx="20484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5" name=""/>
            <p:cNvSpPr/>
            <p:nvPr/>
          </p:nvSpPr>
          <p:spPr>
            <a:xfrm>
              <a:off x="6206760" y="1521360"/>
              <a:ext cx="234000" cy="59544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365520" y="1521360"/>
              <a:ext cx="234000" cy="59544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077880" y="1565640"/>
              <a:ext cx="187200" cy="54180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969160" y="1515960"/>
              <a:ext cx="155160" cy="601920"/>
            </a:xfrm>
            <a:custGeom>
              <a:avLst/>
              <a:gdLst/>
              <a:ahLst/>
              <a:rect l="l" t="t" r="r" b="b"/>
              <a:pathLst>
                <a:path w="176" h="477">
                  <a:moveTo>
                    <a:pt x="176" y="416"/>
                  </a:moveTo>
                  <a:cubicBezTo>
                    <a:pt x="164" y="463"/>
                    <a:pt x="172" y="477"/>
                    <a:pt x="120" y="464"/>
                  </a:cubicBezTo>
                  <a:cubicBezTo>
                    <a:pt x="89" y="417"/>
                    <a:pt x="82" y="366"/>
                    <a:pt x="72" y="312"/>
                  </a:cubicBezTo>
                  <a:cubicBezTo>
                    <a:pt x="62" y="255"/>
                    <a:pt x="43" y="192"/>
                    <a:pt x="24" y="136"/>
                  </a:cubicBezTo>
                  <a:cubicBezTo>
                    <a:pt x="21" y="109"/>
                    <a:pt x="20" y="82"/>
                    <a:pt x="16" y="56"/>
                  </a:cubicBezTo>
                  <a:cubicBezTo>
                    <a:pt x="13" y="37"/>
                    <a:pt x="0" y="0"/>
                    <a:pt x="0" y="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60560" y="206280"/>
            <a:ext cx="869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es motoneurones </a:t>
            </a:r>
            <a:r>
              <a:rPr b="0" lang="en-GB" sz="2000" spc="-1" strike="noStrike">
                <a:solidFill>
                  <a:srgbClr val="800000"/>
                </a:solidFill>
                <a:latin typeface="Symbol"/>
                <a:ea typeface="Symbol"/>
              </a:rPr>
              <a:t>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104840" y="3848040"/>
            <a:ext cx="1193760" cy="1143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168560" y="2273400"/>
            <a:ext cx="105408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914400" y="187632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centre céréb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42760" y="5288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6" name=""/>
          <p:cNvGrpSpPr/>
          <p:nvPr/>
        </p:nvGrpSpPr>
        <p:grpSpPr>
          <a:xfrm>
            <a:off x="1219320" y="3936960"/>
            <a:ext cx="964800" cy="939240"/>
            <a:chOff x="1219320" y="3936960"/>
            <a:chExt cx="964800" cy="939240"/>
          </a:xfrm>
        </p:grpSpPr>
        <p:sp>
          <p:nvSpPr>
            <p:cNvPr id="1817" name=""/>
            <p:cNvSpPr/>
            <p:nvPr/>
          </p:nvSpPr>
          <p:spPr>
            <a:xfrm>
              <a:off x="168300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70136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21932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23768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442160" y="41673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2" name=""/>
          <p:cNvSpPr/>
          <p:nvPr/>
        </p:nvSpPr>
        <p:spPr>
          <a:xfrm>
            <a:off x="1701720" y="2730600"/>
            <a:ext cx="254160" cy="1942920"/>
          </a:xfrm>
          <a:custGeom>
            <a:avLst/>
            <a:gdLst/>
            <a:ahLst/>
            <a:rect l="l" t="t" r="r" b="b"/>
            <a:pathLst>
              <a:path w="160" h="1224">
                <a:moveTo>
                  <a:pt x="0" y="0"/>
                </a:moveTo>
                <a:lnTo>
                  <a:pt x="2" y="1118"/>
                </a:lnTo>
                <a:lnTo>
                  <a:pt x="160" y="12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1981080" y="4686480"/>
            <a:ext cx="3111480" cy="469800"/>
          </a:xfrm>
          <a:custGeom>
            <a:avLst/>
            <a:gdLst/>
            <a:ahLst/>
            <a:rect l="l" t="t" r="r" b="b"/>
            <a:pathLst>
              <a:path w="1920" h="360">
                <a:moveTo>
                  <a:pt x="0" y="0"/>
                </a:moveTo>
                <a:lnTo>
                  <a:pt x="360" y="360"/>
                </a:lnTo>
                <a:lnTo>
                  <a:pt x="1920" y="360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1959120" y="4664160"/>
            <a:ext cx="88920" cy="889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78800" y="299412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mma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ntrac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148920" y="5116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fibre </a:t>
            </a:r>
            <a:r>
              <a:rPr b="0" lang="fr-FR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2968200" y="3699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1738080" y="3192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395520" y="4773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activation du réflexe myotatique en absence de stimulation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701640" y="6202440"/>
            <a:ext cx="442656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inhibition de la contraction mu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290760" y="39434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2276280" y="3241800"/>
            <a:ext cx="26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arrêt des PA de la 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4" name=""/>
          <p:cNvGrpSpPr/>
          <p:nvPr/>
        </p:nvGrpSpPr>
        <p:grpSpPr>
          <a:xfrm>
            <a:off x="5024520" y="2260440"/>
            <a:ext cx="905760" cy="4165560"/>
            <a:chOff x="5024520" y="2260440"/>
            <a:chExt cx="905760" cy="4165560"/>
          </a:xfrm>
        </p:grpSpPr>
        <p:grpSp>
          <p:nvGrpSpPr>
            <p:cNvPr id="1835" name=""/>
            <p:cNvGrpSpPr/>
            <p:nvPr/>
          </p:nvGrpSpPr>
          <p:grpSpPr>
            <a:xfrm>
              <a:off x="5024520" y="2260440"/>
              <a:ext cx="905760" cy="4165560"/>
              <a:chOff x="5024520" y="2260440"/>
              <a:chExt cx="905760" cy="4165560"/>
            </a:xfrm>
          </p:grpSpPr>
          <p:sp>
            <p:nvSpPr>
              <p:cNvPr id="1836" name=""/>
              <p:cNvSpPr/>
              <p:nvPr/>
            </p:nvSpPr>
            <p:spPr>
              <a:xfrm>
                <a:off x="5024520" y="2260440"/>
                <a:ext cx="455400" cy="416556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solidFill>
                <a:srgbClr val="ff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>
                <a:off x="5474520" y="2260440"/>
                <a:ext cx="455400" cy="416556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solidFill>
                <a:srgbClr val="ff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8" name=""/>
            <p:cNvGrpSpPr/>
            <p:nvPr/>
          </p:nvGrpSpPr>
          <p:grpSpPr>
            <a:xfrm>
              <a:off x="5278320" y="3149640"/>
              <a:ext cx="453960" cy="2084400"/>
              <a:chOff x="5278320" y="3149640"/>
              <a:chExt cx="453960" cy="2084400"/>
            </a:xfrm>
          </p:grpSpPr>
          <p:sp>
            <p:nvSpPr>
              <p:cNvPr id="1839" name=""/>
              <p:cNvSpPr/>
              <p:nvPr/>
            </p:nvSpPr>
            <p:spPr>
              <a:xfrm>
                <a:off x="5278320" y="3149640"/>
                <a:ext cx="228240" cy="208440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gradFill rotWithShape="0">
                <a:gsLst>
                  <a:gs pos="0">
                    <a:srgbClr val="fefeaf"/>
                  </a:gs>
                  <a:gs pos="100000">
                    <a:srgbClr val="ffff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flipH="1">
                <a:off x="5504040" y="3149640"/>
                <a:ext cx="228240" cy="208440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gradFill rotWithShape="0">
                <a:gsLst>
                  <a:gs pos="0">
                    <a:srgbClr val="fefeaf"/>
                  </a:gs>
                  <a:gs pos="100000">
                    <a:srgbClr val="ffff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1" name=""/>
            <p:cNvSpPr/>
            <p:nvPr/>
          </p:nvSpPr>
          <p:spPr>
            <a:xfrm>
              <a:off x="5495760" y="3952800"/>
              <a:ext cx="0" cy="218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2" name=""/>
          <p:cNvSpPr/>
          <p:nvPr/>
        </p:nvSpPr>
        <p:spPr>
          <a:xfrm>
            <a:off x="2419200" y="5452920"/>
            <a:ext cx="25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arrêt des PA de la fibre </a:t>
            </a:r>
            <a:r>
              <a:rPr b="1" lang="fr-FR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819440" y="4057560"/>
            <a:ext cx="3676320" cy="542880"/>
          </a:xfrm>
          <a:custGeom>
            <a:avLst/>
            <a:gdLst/>
            <a:ahLst/>
            <a:rect l="l" t="t" r="r" b="b"/>
            <a:pathLst>
              <a:path w="2316" h="342">
                <a:moveTo>
                  <a:pt x="2316" y="0"/>
                </a:moveTo>
                <a:lnTo>
                  <a:pt x="72" y="0"/>
                </a:lnTo>
                <a:lnTo>
                  <a:pt x="0" y="174"/>
                </a:lnTo>
                <a:lnTo>
                  <a:pt x="96" y="342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160560" y="206280"/>
            <a:ext cx="869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es motoneurones </a:t>
            </a:r>
            <a:r>
              <a:rPr b="0" lang="en-GB" sz="2000" spc="-1" strike="noStrike">
                <a:solidFill>
                  <a:srgbClr val="800000"/>
                </a:solidFill>
                <a:latin typeface="Symbol"/>
                <a:ea typeface="Symbol"/>
              </a:rPr>
              <a:t>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activation du réflexe myotatique avec les motoneurones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1104840" y="3848040"/>
            <a:ext cx="1193760" cy="1143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1168560" y="2273400"/>
            <a:ext cx="105408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914400" y="187632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centre céréb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842760" y="5288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2" name=""/>
          <p:cNvGrpSpPr/>
          <p:nvPr/>
        </p:nvGrpSpPr>
        <p:grpSpPr>
          <a:xfrm>
            <a:off x="1219320" y="3936960"/>
            <a:ext cx="964800" cy="939240"/>
            <a:chOff x="1219320" y="3936960"/>
            <a:chExt cx="964800" cy="939240"/>
          </a:xfrm>
        </p:grpSpPr>
        <p:sp>
          <p:nvSpPr>
            <p:cNvPr id="1853" name=""/>
            <p:cNvSpPr/>
            <p:nvPr/>
          </p:nvSpPr>
          <p:spPr>
            <a:xfrm>
              <a:off x="168300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70136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21932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23768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442160" y="41673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8" name=""/>
          <p:cNvSpPr/>
          <p:nvPr/>
        </p:nvSpPr>
        <p:spPr>
          <a:xfrm>
            <a:off x="1701720" y="2730600"/>
            <a:ext cx="254160" cy="1942920"/>
          </a:xfrm>
          <a:custGeom>
            <a:avLst/>
            <a:gdLst/>
            <a:ahLst/>
            <a:rect l="l" t="t" r="r" b="b"/>
            <a:pathLst>
              <a:path w="160" h="1224">
                <a:moveTo>
                  <a:pt x="0" y="0"/>
                </a:moveTo>
                <a:lnTo>
                  <a:pt x="2" y="1118"/>
                </a:lnTo>
                <a:lnTo>
                  <a:pt x="160" y="12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981080" y="4724280"/>
            <a:ext cx="3111480" cy="432000"/>
          </a:xfrm>
          <a:custGeom>
            <a:avLst/>
            <a:gdLst/>
            <a:ahLst/>
            <a:rect l="l" t="t" r="r" b="b"/>
            <a:pathLst>
              <a:path w="1920" h="360">
                <a:moveTo>
                  <a:pt x="0" y="0"/>
                </a:moveTo>
                <a:lnTo>
                  <a:pt x="360" y="360"/>
                </a:lnTo>
                <a:lnTo>
                  <a:pt x="1920" y="360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940040" y="4683240"/>
            <a:ext cx="88920" cy="889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1" name=""/>
          <p:cNvGrpSpPr/>
          <p:nvPr/>
        </p:nvGrpSpPr>
        <p:grpSpPr>
          <a:xfrm>
            <a:off x="5024520" y="2260440"/>
            <a:ext cx="905760" cy="4165560"/>
            <a:chOff x="5024520" y="2260440"/>
            <a:chExt cx="905760" cy="4165560"/>
          </a:xfrm>
        </p:grpSpPr>
        <p:sp>
          <p:nvSpPr>
            <p:cNvPr id="1862" name=""/>
            <p:cNvSpPr/>
            <p:nvPr/>
          </p:nvSpPr>
          <p:spPr>
            <a:xfrm>
              <a:off x="5024520" y="2260440"/>
              <a:ext cx="455400" cy="416556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5474520" y="2260440"/>
              <a:ext cx="455400" cy="416556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4" name=""/>
          <p:cNvGrpSpPr/>
          <p:nvPr/>
        </p:nvGrpSpPr>
        <p:grpSpPr>
          <a:xfrm>
            <a:off x="5278320" y="3149640"/>
            <a:ext cx="453960" cy="2084400"/>
            <a:chOff x="5278320" y="3149640"/>
            <a:chExt cx="453960" cy="2084400"/>
          </a:xfrm>
        </p:grpSpPr>
        <p:grpSp>
          <p:nvGrpSpPr>
            <p:cNvPr id="1865" name=""/>
            <p:cNvGrpSpPr/>
            <p:nvPr/>
          </p:nvGrpSpPr>
          <p:grpSpPr>
            <a:xfrm>
              <a:off x="5278320" y="3149640"/>
              <a:ext cx="453960" cy="2084400"/>
              <a:chOff x="5278320" y="3149640"/>
              <a:chExt cx="453960" cy="2084400"/>
            </a:xfrm>
          </p:grpSpPr>
          <p:sp>
            <p:nvSpPr>
              <p:cNvPr id="1866" name=""/>
              <p:cNvSpPr/>
              <p:nvPr/>
            </p:nvSpPr>
            <p:spPr>
              <a:xfrm>
                <a:off x="5278320" y="3149640"/>
                <a:ext cx="228240" cy="208440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gradFill rotWithShape="0">
                <a:gsLst>
                  <a:gs pos="0">
                    <a:srgbClr val="fefeaf"/>
                  </a:gs>
                  <a:gs pos="100000">
                    <a:srgbClr val="ffff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H="1">
                <a:off x="5504040" y="3149640"/>
                <a:ext cx="228240" cy="208440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gradFill rotWithShape="0">
                <a:gsLst>
                  <a:gs pos="0">
                    <a:srgbClr val="fefeaf"/>
                  </a:gs>
                  <a:gs pos="100000">
                    <a:srgbClr val="ffff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8" name=""/>
            <p:cNvSpPr/>
            <p:nvPr/>
          </p:nvSpPr>
          <p:spPr>
            <a:xfrm>
              <a:off x="5495760" y="3952800"/>
              <a:ext cx="0" cy="219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9" name=""/>
          <p:cNvSpPr/>
          <p:nvPr/>
        </p:nvSpPr>
        <p:spPr>
          <a:xfrm>
            <a:off x="478800" y="299412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mma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ntrac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148920" y="5116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fibre </a:t>
            </a:r>
            <a:r>
              <a:rPr b="0" lang="fr-FR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2968200" y="3699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1738080" y="3192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012640" y="634212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mus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4" name=""/>
          <p:cNvGrpSpPr/>
          <p:nvPr/>
        </p:nvGrpSpPr>
        <p:grpSpPr>
          <a:xfrm>
            <a:off x="5486400" y="3162240"/>
            <a:ext cx="3298320" cy="2057400"/>
            <a:chOff x="5486400" y="3162240"/>
            <a:chExt cx="3298320" cy="2057400"/>
          </a:xfrm>
        </p:grpSpPr>
        <p:sp>
          <p:nvSpPr>
            <p:cNvPr id="1875" name=""/>
            <p:cNvSpPr/>
            <p:nvPr/>
          </p:nvSpPr>
          <p:spPr>
            <a:xfrm>
              <a:off x="5486400" y="3162240"/>
              <a:ext cx="1434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511960" y="5219640"/>
              <a:ext cx="1434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886440" y="3191040"/>
              <a:ext cx="0" cy="20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263280" y="3449520"/>
              <a:ext cx="25214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33"/>
                  </a:solidFill>
                  <a:latin typeface="Arial"/>
                </a:rPr>
                <a:t>fuseau neuromuscula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9" name=""/>
          <p:cNvSpPr/>
          <p:nvPr/>
        </p:nvSpPr>
        <p:spPr>
          <a:xfrm>
            <a:off x="1819440" y="4057560"/>
            <a:ext cx="3676320" cy="542880"/>
          </a:xfrm>
          <a:custGeom>
            <a:avLst/>
            <a:gdLst/>
            <a:ahLst/>
            <a:rect l="l" t="t" r="r" b="b"/>
            <a:pathLst>
              <a:path w="2316" h="342">
                <a:moveTo>
                  <a:pt x="2316" y="0"/>
                </a:moveTo>
                <a:lnTo>
                  <a:pt x="72" y="0"/>
                </a:lnTo>
                <a:lnTo>
                  <a:pt x="0" y="174"/>
                </a:lnTo>
                <a:lnTo>
                  <a:pt x="96" y="342"/>
                </a:ln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2095560" y="4705200"/>
            <a:ext cx="3400200" cy="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3172680" y="437364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9966"/>
                </a:solidFill>
                <a:latin typeface="Arial"/>
              </a:rPr>
              <a:t>fibre </a:t>
            </a:r>
            <a:r>
              <a:rPr b="1" lang="fr-FR" sz="1600" spc="-1" strike="noStrike">
                <a:solidFill>
                  <a:srgbClr val="339966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4518000" y="1584360"/>
            <a:ext cx="4046040" cy="542880"/>
            <a:chOff x="4518000" y="1584360"/>
            <a:chExt cx="4046040" cy="542880"/>
          </a:xfrm>
        </p:grpSpPr>
        <p:sp>
          <p:nvSpPr>
            <p:cNvPr id="1883" name=""/>
            <p:cNvSpPr/>
            <p:nvPr/>
          </p:nvSpPr>
          <p:spPr>
            <a:xfrm>
              <a:off x="4520160" y="1691280"/>
              <a:ext cx="4043880" cy="32112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631840" y="1584360"/>
              <a:ext cx="1853640" cy="542880"/>
            </a:xfrm>
            <a:prstGeom prst="ellipse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086520" y="1693800"/>
              <a:ext cx="240480" cy="121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433920" y="1808280"/>
              <a:ext cx="240480" cy="121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603480" y="1951200"/>
              <a:ext cx="240480" cy="121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7387920" y="1691280"/>
              <a:ext cx="231480" cy="31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797960" y="1690200"/>
              <a:ext cx="231480" cy="31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708680" y="1691280"/>
              <a:ext cx="0" cy="3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8225640" y="1690200"/>
              <a:ext cx="231480" cy="31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8136360" y="1691280"/>
              <a:ext cx="0" cy="3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298640" y="1684080"/>
              <a:ext cx="0" cy="3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8555400" y="1693800"/>
              <a:ext cx="0" cy="32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606920" y="1691280"/>
              <a:ext cx="231480" cy="31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016960" y="1690200"/>
              <a:ext cx="231480" cy="31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927680" y="1684080"/>
              <a:ext cx="0" cy="3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444640" y="1690200"/>
              <a:ext cx="231840" cy="31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355720" y="1691280"/>
              <a:ext cx="0" cy="3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18000" y="1684080"/>
              <a:ext cx="0" cy="3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774760" y="1686960"/>
              <a:ext cx="0" cy="3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799680" y="1715400"/>
              <a:ext cx="240480" cy="121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220080" y="1901160"/>
              <a:ext cx="240480" cy="121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451920" y="1643760"/>
              <a:ext cx="240480" cy="121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5" name=""/>
          <p:cNvSpPr/>
          <p:nvPr/>
        </p:nvSpPr>
        <p:spPr>
          <a:xfrm>
            <a:off x="6154560" y="1558800"/>
            <a:ext cx="357480" cy="5968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396120" y="1558800"/>
            <a:ext cx="357120" cy="5968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5959440" y="1603440"/>
            <a:ext cx="285840" cy="5428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5834160" y="1531800"/>
            <a:ext cx="196920" cy="61128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991640" y="1584360"/>
            <a:ext cx="223560" cy="108000"/>
          </a:xfrm>
          <a:prstGeom prst="flowChartExtra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8107200" y="1490760"/>
            <a:ext cx="457200" cy="141120"/>
          </a:xfrm>
          <a:custGeom>
            <a:avLst/>
            <a:gdLst/>
            <a:ahLst/>
            <a:rect l="l" t="t" r="r" b="b"/>
            <a:pathLst>
              <a:path w="1280" h="96">
                <a:moveTo>
                  <a:pt x="0" y="96"/>
                </a:moveTo>
                <a:lnTo>
                  <a:pt x="0" y="0"/>
                </a:lnTo>
                <a:lnTo>
                  <a:pt x="1280" y="0"/>
                </a:lnTo>
              </a:path>
            </a:pathLst>
          </a:custGeom>
          <a:noFill/>
          <a:ln w="284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1" name=""/>
          <p:cNvGrpSpPr/>
          <p:nvPr/>
        </p:nvGrpSpPr>
        <p:grpSpPr>
          <a:xfrm>
            <a:off x="4509000" y="1477800"/>
            <a:ext cx="572760" cy="214560"/>
            <a:chOff x="4509000" y="1477800"/>
            <a:chExt cx="572760" cy="214560"/>
          </a:xfrm>
        </p:grpSpPr>
        <p:sp>
          <p:nvSpPr>
            <p:cNvPr id="1912" name=""/>
            <p:cNvSpPr/>
            <p:nvPr/>
          </p:nvSpPr>
          <p:spPr>
            <a:xfrm flipH="1">
              <a:off x="4858560" y="1585080"/>
              <a:ext cx="222840" cy="107280"/>
            </a:xfrm>
            <a:prstGeom prst="flowChartExtra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H="1">
              <a:off x="4509000" y="1477800"/>
              <a:ext cx="457200" cy="140760"/>
            </a:xfrm>
            <a:custGeom>
              <a:avLst/>
              <a:gdLst/>
              <a:ahLst/>
              <a:rect l="l" t="t" r="r" b="b"/>
              <a:pathLst>
                <a:path w="1280" h="96">
                  <a:moveTo>
                    <a:pt x="0" y="96"/>
                  </a:moveTo>
                  <a:lnTo>
                    <a:pt x="0" y="0"/>
                  </a:lnTo>
                  <a:lnTo>
                    <a:pt x="1280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4" name=""/>
          <p:cNvGrpSpPr/>
          <p:nvPr/>
        </p:nvGrpSpPr>
        <p:grpSpPr>
          <a:xfrm>
            <a:off x="5024520" y="2692440"/>
            <a:ext cx="905760" cy="3124080"/>
            <a:chOff x="5024520" y="2692440"/>
            <a:chExt cx="905760" cy="3124080"/>
          </a:xfrm>
        </p:grpSpPr>
        <p:sp>
          <p:nvSpPr>
            <p:cNvPr id="1915" name=""/>
            <p:cNvSpPr/>
            <p:nvPr/>
          </p:nvSpPr>
          <p:spPr>
            <a:xfrm>
              <a:off x="5024520" y="2692440"/>
              <a:ext cx="455400" cy="312408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5474520" y="2692440"/>
              <a:ext cx="455400" cy="312408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60560" y="206280"/>
            <a:ext cx="869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es motoneurones </a:t>
            </a:r>
            <a:r>
              <a:rPr b="0" lang="en-GB" sz="2000" spc="-1" strike="noStrike">
                <a:solidFill>
                  <a:srgbClr val="800000"/>
                </a:solidFill>
                <a:latin typeface="Symbol"/>
                <a:ea typeface="Symbol"/>
              </a:rPr>
              <a:t>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104840" y="3848040"/>
            <a:ext cx="1193760" cy="1143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168560" y="2273400"/>
            <a:ext cx="105408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914400" y="187632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centre céréb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842760" y="5288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4" name=""/>
          <p:cNvGrpSpPr/>
          <p:nvPr/>
        </p:nvGrpSpPr>
        <p:grpSpPr>
          <a:xfrm>
            <a:off x="1219320" y="3936960"/>
            <a:ext cx="964800" cy="939240"/>
            <a:chOff x="1219320" y="3936960"/>
            <a:chExt cx="964800" cy="939240"/>
          </a:xfrm>
        </p:grpSpPr>
        <p:sp>
          <p:nvSpPr>
            <p:cNvPr id="1925" name=""/>
            <p:cNvSpPr/>
            <p:nvPr/>
          </p:nvSpPr>
          <p:spPr>
            <a:xfrm>
              <a:off x="168300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70136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21932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23768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442160" y="41673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0" name=""/>
          <p:cNvSpPr/>
          <p:nvPr/>
        </p:nvSpPr>
        <p:spPr>
          <a:xfrm>
            <a:off x="1701720" y="2730600"/>
            <a:ext cx="254160" cy="1942920"/>
          </a:xfrm>
          <a:custGeom>
            <a:avLst/>
            <a:gdLst/>
            <a:ahLst/>
            <a:rect l="l" t="t" r="r" b="b"/>
            <a:pathLst>
              <a:path w="160" h="1224">
                <a:moveTo>
                  <a:pt x="0" y="0"/>
                </a:moveTo>
                <a:lnTo>
                  <a:pt x="2" y="1118"/>
                </a:lnTo>
                <a:lnTo>
                  <a:pt x="160" y="12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478800" y="299412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mma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ntrac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2968200" y="3699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738080" y="3192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3395520" y="4773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4330440" y="608796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contraction 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005880" y="4678200"/>
            <a:ext cx="31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contraction de la partie p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1981080" y="4724280"/>
            <a:ext cx="3111480" cy="432000"/>
          </a:xfrm>
          <a:custGeom>
            <a:avLst/>
            <a:gdLst/>
            <a:ahLst/>
            <a:rect l="l" t="t" r="r" b="b"/>
            <a:pathLst>
              <a:path w="1920" h="360">
                <a:moveTo>
                  <a:pt x="0" y="0"/>
                </a:moveTo>
                <a:lnTo>
                  <a:pt x="360" y="360"/>
                </a:lnTo>
                <a:lnTo>
                  <a:pt x="1920" y="360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1940040" y="4683240"/>
            <a:ext cx="88920" cy="889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172680" y="437364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9966"/>
                </a:solidFill>
                <a:latin typeface="Arial"/>
              </a:rPr>
              <a:t>fibre </a:t>
            </a:r>
            <a:r>
              <a:rPr b="1" lang="fr-FR" sz="1600" spc="-1" strike="noStrike">
                <a:solidFill>
                  <a:srgbClr val="339966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148920" y="5116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fibre </a:t>
            </a:r>
            <a:r>
              <a:rPr b="0" lang="fr-FR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033800" y="4325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5319720" y="3149640"/>
            <a:ext cx="187200" cy="2084400"/>
          </a:xfrm>
          <a:custGeom>
            <a:avLst/>
            <a:gdLst/>
            <a:ahLst/>
            <a:rect l="l" t="t" r="r" b="b"/>
            <a:pathLst>
              <a:path w="118" h="1313">
                <a:moveTo>
                  <a:pt x="118" y="0"/>
                </a:moveTo>
                <a:cubicBezTo>
                  <a:pt x="101" y="46"/>
                  <a:pt x="30" y="198"/>
                  <a:pt x="15" y="278"/>
                </a:cubicBezTo>
                <a:cubicBezTo>
                  <a:pt x="0" y="358"/>
                  <a:pt x="20" y="400"/>
                  <a:pt x="27" y="482"/>
                </a:cubicBezTo>
                <a:cubicBezTo>
                  <a:pt x="34" y="564"/>
                  <a:pt x="57" y="681"/>
                  <a:pt x="57" y="770"/>
                </a:cubicBezTo>
                <a:cubicBezTo>
                  <a:pt x="57" y="859"/>
                  <a:pt x="17" y="926"/>
                  <a:pt x="27" y="1016"/>
                </a:cubicBezTo>
                <a:cubicBezTo>
                  <a:pt x="37" y="1106"/>
                  <a:pt x="99" y="1251"/>
                  <a:pt x="118" y="1313"/>
                </a:cubicBezTo>
              </a:path>
            </a:pathLst>
          </a:custGeom>
          <a:gradFill rotWithShape="0">
            <a:gsLst>
              <a:gs pos="0">
                <a:srgbClr val="fefeaf"/>
              </a:gs>
              <a:gs pos="100000">
                <a:srgbClr val="ffff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5504040" y="3149640"/>
            <a:ext cx="209520" cy="2084400"/>
          </a:xfrm>
          <a:custGeom>
            <a:avLst/>
            <a:gdLst/>
            <a:ahLst/>
            <a:rect l="l" t="t" r="r" b="b"/>
            <a:pathLst>
              <a:path w="132" h="1313">
                <a:moveTo>
                  <a:pt x="0" y="0"/>
                </a:moveTo>
                <a:cubicBezTo>
                  <a:pt x="47" y="76"/>
                  <a:pt x="104" y="172"/>
                  <a:pt x="118" y="260"/>
                </a:cubicBezTo>
                <a:cubicBezTo>
                  <a:pt x="132" y="348"/>
                  <a:pt x="89" y="446"/>
                  <a:pt x="85" y="530"/>
                </a:cubicBezTo>
                <a:cubicBezTo>
                  <a:pt x="81" y="614"/>
                  <a:pt x="88" y="688"/>
                  <a:pt x="91" y="764"/>
                </a:cubicBezTo>
                <a:cubicBezTo>
                  <a:pt x="94" y="840"/>
                  <a:pt x="118" y="895"/>
                  <a:pt x="103" y="986"/>
                </a:cubicBezTo>
                <a:cubicBezTo>
                  <a:pt x="88" y="1077"/>
                  <a:pt x="21" y="1245"/>
                  <a:pt x="0" y="1313"/>
                </a:cubicBezTo>
              </a:path>
            </a:pathLst>
          </a:custGeom>
          <a:gradFill rotWithShape="0">
            <a:gsLst>
              <a:gs pos="0">
                <a:srgbClr val="fefeaf"/>
              </a:gs>
              <a:gs pos="100000">
                <a:srgbClr val="ffff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495760" y="3971880"/>
            <a:ext cx="0" cy="1634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819440" y="4057560"/>
            <a:ext cx="3676320" cy="542880"/>
          </a:xfrm>
          <a:custGeom>
            <a:avLst/>
            <a:gdLst/>
            <a:ahLst/>
            <a:rect l="l" t="t" r="r" b="b"/>
            <a:pathLst>
              <a:path w="2316" h="342">
                <a:moveTo>
                  <a:pt x="2316" y="0"/>
                </a:moveTo>
                <a:lnTo>
                  <a:pt x="72" y="0"/>
                </a:lnTo>
                <a:lnTo>
                  <a:pt x="0" y="174"/>
                </a:lnTo>
                <a:lnTo>
                  <a:pt x="96" y="342"/>
                </a:ln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095560" y="4705200"/>
            <a:ext cx="3400200" cy="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341040" y="3929040"/>
            <a:ext cx="221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étirement de la part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équator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816440" y="1692360"/>
            <a:ext cx="3443400" cy="320760"/>
          </a:xfrm>
          <a:prstGeom prst="rect">
            <a:avLst/>
          </a:prstGeom>
          <a:gradFill rotWithShape="0">
            <a:gsLst>
              <a:gs pos="0">
                <a:srgbClr val="fe9372"/>
              </a:gs>
              <a:gs pos="50000">
                <a:srgbClr val="ff6d3f"/>
              </a:gs>
              <a:gs pos="100000">
                <a:srgbClr val="fe93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5635800" y="1585800"/>
            <a:ext cx="1847520" cy="540000"/>
          </a:xfrm>
          <a:prstGeom prst="ellipse">
            <a:avLst/>
          </a:prstGeom>
          <a:gradFill rotWithShape="0">
            <a:gsLst>
              <a:gs pos="0">
                <a:srgbClr val="fe9372"/>
              </a:gs>
              <a:gs pos="50000">
                <a:srgbClr val="ff6d3f"/>
              </a:gs>
              <a:gs pos="100000">
                <a:srgbClr val="fe93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087960" y="1695600"/>
            <a:ext cx="241560" cy="120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435720" y="1809720"/>
            <a:ext cx="239760" cy="119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6603840" y="1951200"/>
            <a:ext cx="239760" cy="120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3" name=""/>
          <p:cNvGrpSpPr/>
          <p:nvPr/>
        </p:nvGrpSpPr>
        <p:grpSpPr>
          <a:xfrm>
            <a:off x="4811760" y="1685880"/>
            <a:ext cx="966600" cy="327240"/>
            <a:chOff x="4811760" y="1685880"/>
            <a:chExt cx="966600" cy="327240"/>
          </a:xfrm>
        </p:grpSpPr>
        <p:sp>
          <p:nvSpPr>
            <p:cNvPr id="1954" name=""/>
            <p:cNvSpPr/>
            <p:nvPr/>
          </p:nvSpPr>
          <p:spPr>
            <a:xfrm>
              <a:off x="4853880" y="1692360"/>
              <a:ext cx="230760" cy="313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176080" y="1691280"/>
              <a:ext cx="230760" cy="312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127120" y="1685880"/>
              <a:ext cx="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496120" y="1691280"/>
              <a:ext cx="230760" cy="312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453640" y="1692360"/>
              <a:ext cx="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811760" y="1685880"/>
              <a:ext cx="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78360" y="1688040"/>
              <a:ext cx="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1" name=""/>
          <p:cNvSpPr/>
          <p:nvPr/>
        </p:nvSpPr>
        <p:spPr>
          <a:xfrm>
            <a:off x="6799320" y="1717560"/>
            <a:ext cx="239760" cy="119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221520" y="1901880"/>
            <a:ext cx="239760" cy="119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453360" y="1646280"/>
            <a:ext cx="239400" cy="119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157800" y="1558800"/>
            <a:ext cx="355680" cy="5954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6397560" y="1558800"/>
            <a:ext cx="355680" cy="5954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5962680" y="1603440"/>
            <a:ext cx="284040" cy="5428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7294680" y="1685880"/>
            <a:ext cx="965160" cy="327240"/>
            <a:chOff x="7294680" y="1685880"/>
            <a:chExt cx="965160" cy="327240"/>
          </a:xfrm>
        </p:grpSpPr>
        <p:sp>
          <p:nvSpPr>
            <p:cNvPr id="1968" name=""/>
            <p:cNvSpPr/>
            <p:nvPr/>
          </p:nvSpPr>
          <p:spPr>
            <a:xfrm>
              <a:off x="7336800" y="1692360"/>
              <a:ext cx="230400" cy="313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658640" y="1691280"/>
              <a:ext cx="230400" cy="312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7609680" y="1685880"/>
              <a:ext cx="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7977960" y="1691280"/>
              <a:ext cx="230400" cy="312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935840" y="1692360"/>
              <a:ext cx="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294680" y="1685880"/>
              <a:ext cx="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8259840" y="1688040"/>
              <a:ext cx="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5" name=""/>
          <p:cNvGrpSpPr/>
          <p:nvPr/>
        </p:nvGrpSpPr>
        <p:grpSpPr>
          <a:xfrm>
            <a:off x="7821720" y="1479600"/>
            <a:ext cx="569880" cy="212400"/>
            <a:chOff x="7821720" y="1479600"/>
            <a:chExt cx="569880" cy="212400"/>
          </a:xfrm>
        </p:grpSpPr>
        <p:sp>
          <p:nvSpPr>
            <p:cNvPr id="1976" name=""/>
            <p:cNvSpPr/>
            <p:nvPr/>
          </p:nvSpPr>
          <p:spPr>
            <a:xfrm>
              <a:off x="7821720" y="1585800"/>
              <a:ext cx="221400" cy="106200"/>
            </a:xfrm>
            <a:prstGeom prst="flowChartExtra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7936920" y="1479600"/>
              <a:ext cx="454680" cy="139320"/>
            </a:xfrm>
            <a:custGeom>
              <a:avLst/>
              <a:gdLst/>
              <a:ahLst/>
              <a:rect l="l" t="t" r="r" b="b"/>
              <a:pathLst>
                <a:path w="1280" h="96">
                  <a:moveTo>
                    <a:pt x="0" y="96"/>
                  </a:moveTo>
                  <a:lnTo>
                    <a:pt x="0" y="0"/>
                  </a:lnTo>
                  <a:lnTo>
                    <a:pt x="1280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8" name=""/>
          <p:cNvGrpSpPr/>
          <p:nvPr/>
        </p:nvGrpSpPr>
        <p:grpSpPr>
          <a:xfrm>
            <a:off x="4682880" y="1479600"/>
            <a:ext cx="569880" cy="212400"/>
            <a:chOff x="4682880" y="1479600"/>
            <a:chExt cx="569880" cy="212400"/>
          </a:xfrm>
        </p:grpSpPr>
        <p:sp>
          <p:nvSpPr>
            <p:cNvPr id="1979" name=""/>
            <p:cNvSpPr/>
            <p:nvPr/>
          </p:nvSpPr>
          <p:spPr>
            <a:xfrm flipH="1">
              <a:off x="5031000" y="1585800"/>
              <a:ext cx="221400" cy="106200"/>
            </a:xfrm>
            <a:prstGeom prst="flowChartExtra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4682520" y="1479600"/>
              <a:ext cx="454680" cy="139320"/>
            </a:xfrm>
            <a:custGeom>
              <a:avLst/>
              <a:gdLst/>
              <a:ahLst/>
              <a:rect l="l" t="t" r="r" b="b"/>
              <a:pathLst>
                <a:path w="1280" h="96">
                  <a:moveTo>
                    <a:pt x="0" y="96"/>
                  </a:moveTo>
                  <a:lnTo>
                    <a:pt x="0" y="0"/>
                  </a:lnTo>
                  <a:lnTo>
                    <a:pt x="1280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1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activation du réflexe myotatique avec les motoneurones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834160" y="1531800"/>
            <a:ext cx="196920" cy="61128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5486400" y="3162240"/>
            <a:ext cx="3298320" cy="2057400"/>
            <a:chOff x="5486400" y="3162240"/>
            <a:chExt cx="3298320" cy="2057400"/>
          </a:xfrm>
        </p:grpSpPr>
        <p:sp>
          <p:nvSpPr>
            <p:cNvPr id="1984" name=""/>
            <p:cNvSpPr/>
            <p:nvPr/>
          </p:nvSpPr>
          <p:spPr>
            <a:xfrm>
              <a:off x="5486400" y="3162240"/>
              <a:ext cx="1434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511960" y="5219640"/>
              <a:ext cx="1434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886440" y="3191040"/>
              <a:ext cx="0" cy="20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263280" y="3449520"/>
              <a:ext cx="25214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33"/>
                  </a:solidFill>
                  <a:latin typeface="Arial"/>
                </a:rPr>
                <a:t>fuseau neuromuscula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8" name=""/>
          <p:cNvGrpSpPr/>
          <p:nvPr/>
        </p:nvGrpSpPr>
        <p:grpSpPr>
          <a:xfrm>
            <a:off x="5024520" y="2692440"/>
            <a:ext cx="905760" cy="3124080"/>
            <a:chOff x="5024520" y="2692440"/>
            <a:chExt cx="905760" cy="3124080"/>
          </a:xfrm>
        </p:grpSpPr>
        <p:sp>
          <p:nvSpPr>
            <p:cNvPr id="1989" name=""/>
            <p:cNvSpPr/>
            <p:nvPr/>
          </p:nvSpPr>
          <p:spPr>
            <a:xfrm>
              <a:off x="5024520" y="2692440"/>
              <a:ext cx="455400" cy="312408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5474520" y="2692440"/>
              <a:ext cx="455400" cy="312408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160560" y="206280"/>
            <a:ext cx="869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es motoneurones </a:t>
            </a:r>
            <a:r>
              <a:rPr b="0" lang="en-GB" sz="2000" spc="-1" strike="noStrike">
                <a:solidFill>
                  <a:srgbClr val="800000"/>
                </a:solidFill>
                <a:latin typeface="Symbol"/>
                <a:ea typeface="Symbol"/>
              </a:rPr>
              <a:t>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104840" y="3848040"/>
            <a:ext cx="1193760" cy="1143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168560" y="2273400"/>
            <a:ext cx="105408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914400" y="187632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centre céréb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842760" y="5288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8" name=""/>
          <p:cNvGrpSpPr/>
          <p:nvPr/>
        </p:nvGrpSpPr>
        <p:grpSpPr>
          <a:xfrm>
            <a:off x="1219320" y="3936960"/>
            <a:ext cx="964800" cy="939240"/>
            <a:chOff x="1219320" y="3936960"/>
            <a:chExt cx="964800" cy="939240"/>
          </a:xfrm>
        </p:grpSpPr>
        <p:sp>
          <p:nvSpPr>
            <p:cNvPr id="1999" name=""/>
            <p:cNvSpPr/>
            <p:nvPr/>
          </p:nvSpPr>
          <p:spPr>
            <a:xfrm>
              <a:off x="168300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70136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21932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23768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442160" y="41673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1701720" y="2730600"/>
            <a:ext cx="254160" cy="1942920"/>
          </a:xfrm>
          <a:custGeom>
            <a:avLst/>
            <a:gdLst/>
            <a:ahLst/>
            <a:rect l="l" t="t" r="r" b="b"/>
            <a:pathLst>
              <a:path w="160" h="1224">
                <a:moveTo>
                  <a:pt x="0" y="0"/>
                </a:moveTo>
                <a:lnTo>
                  <a:pt x="2" y="1118"/>
                </a:lnTo>
                <a:lnTo>
                  <a:pt x="160" y="12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478800" y="299412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mma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ntrac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968200" y="3699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738080" y="3192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3395520" y="4773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6005880" y="4678200"/>
            <a:ext cx="31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contraction de la partie p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981080" y="4724280"/>
            <a:ext cx="3111480" cy="432000"/>
          </a:xfrm>
          <a:custGeom>
            <a:avLst/>
            <a:gdLst/>
            <a:ahLst/>
            <a:rect l="l" t="t" r="r" b="b"/>
            <a:pathLst>
              <a:path w="1920" h="360">
                <a:moveTo>
                  <a:pt x="0" y="0"/>
                </a:moveTo>
                <a:lnTo>
                  <a:pt x="360" y="360"/>
                </a:lnTo>
                <a:lnTo>
                  <a:pt x="1920" y="360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940040" y="4683240"/>
            <a:ext cx="88920" cy="889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172680" y="437364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9966"/>
                </a:solidFill>
                <a:latin typeface="Arial"/>
              </a:rPr>
              <a:t>fibre </a:t>
            </a:r>
            <a:r>
              <a:rPr b="1" lang="fr-FR" sz="1600" spc="-1" strike="noStrike">
                <a:solidFill>
                  <a:srgbClr val="339966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3148920" y="5116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fibre </a:t>
            </a:r>
            <a:r>
              <a:rPr b="0" lang="fr-FR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4033800" y="4325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319720" y="3149640"/>
            <a:ext cx="187200" cy="2084400"/>
          </a:xfrm>
          <a:custGeom>
            <a:avLst/>
            <a:gdLst/>
            <a:ahLst/>
            <a:rect l="l" t="t" r="r" b="b"/>
            <a:pathLst>
              <a:path w="118" h="1313">
                <a:moveTo>
                  <a:pt x="118" y="0"/>
                </a:moveTo>
                <a:cubicBezTo>
                  <a:pt x="101" y="46"/>
                  <a:pt x="30" y="198"/>
                  <a:pt x="15" y="278"/>
                </a:cubicBezTo>
                <a:cubicBezTo>
                  <a:pt x="0" y="358"/>
                  <a:pt x="20" y="400"/>
                  <a:pt x="27" y="482"/>
                </a:cubicBezTo>
                <a:cubicBezTo>
                  <a:pt x="34" y="564"/>
                  <a:pt x="57" y="681"/>
                  <a:pt x="57" y="770"/>
                </a:cubicBezTo>
                <a:cubicBezTo>
                  <a:pt x="57" y="859"/>
                  <a:pt x="17" y="926"/>
                  <a:pt x="27" y="1016"/>
                </a:cubicBezTo>
                <a:cubicBezTo>
                  <a:pt x="37" y="1106"/>
                  <a:pt x="99" y="1251"/>
                  <a:pt x="118" y="1313"/>
                </a:cubicBezTo>
              </a:path>
            </a:pathLst>
          </a:custGeom>
          <a:gradFill rotWithShape="0">
            <a:gsLst>
              <a:gs pos="0">
                <a:srgbClr val="fefeaf"/>
              </a:gs>
              <a:gs pos="100000">
                <a:srgbClr val="ffff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5504040" y="3149640"/>
            <a:ext cx="209520" cy="2084400"/>
          </a:xfrm>
          <a:custGeom>
            <a:avLst/>
            <a:gdLst/>
            <a:ahLst/>
            <a:rect l="l" t="t" r="r" b="b"/>
            <a:pathLst>
              <a:path w="132" h="1313">
                <a:moveTo>
                  <a:pt x="0" y="0"/>
                </a:moveTo>
                <a:cubicBezTo>
                  <a:pt x="47" y="76"/>
                  <a:pt x="104" y="172"/>
                  <a:pt x="118" y="260"/>
                </a:cubicBezTo>
                <a:cubicBezTo>
                  <a:pt x="132" y="348"/>
                  <a:pt x="89" y="446"/>
                  <a:pt x="85" y="530"/>
                </a:cubicBezTo>
                <a:cubicBezTo>
                  <a:pt x="81" y="614"/>
                  <a:pt x="88" y="688"/>
                  <a:pt x="91" y="764"/>
                </a:cubicBezTo>
                <a:cubicBezTo>
                  <a:pt x="94" y="840"/>
                  <a:pt x="118" y="895"/>
                  <a:pt x="103" y="986"/>
                </a:cubicBezTo>
                <a:cubicBezTo>
                  <a:pt x="88" y="1077"/>
                  <a:pt x="21" y="1245"/>
                  <a:pt x="0" y="1313"/>
                </a:cubicBezTo>
              </a:path>
            </a:pathLst>
          </a:custGeom>
          <a:gradFill rotWithShape="0">
            <a:gsLst>
              <a:gs pos="0">
                <a:srgbClr val="fefeaf"/>
              </a:gs>
              <a:gs pos="100000">
                <a:srgbClr val="ffff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5495760" y="3971880"/>
            <a:ext cx="0" cy="1634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819440" y="4057560"/>
            <a:ext cx="3676320" cy="542880"/>
          </a:xfrm>
          <a:custGeom>
            <a:avLst/>
            <a:gdLst/>
            <a:ahLst/>
            <a:rect l="l" t="t" r="r" b="b"/>
            <a:pathLst>
              <a:path w="2316" h="342">
                <a:moveTo>
                  <a:pt x="2316" y="0"/>
                </a:moveTo>
                <a:lnTo>
                  <a:pt x="72" y="0"/>
                </a:lnTo>
                <a:lnTo>
                  <a:pt x="0" y="174"/>
                </a:lnTo>
                <a:lnTo>
                  <a:pt x="96" y="342"/>
                </a:ln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095560" y="4705200"/>
            <a:ext cx="3400200" cy="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341040" y="3929040"/>
            <a:ext cx="221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étirement de la part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équator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activation du réflexe myotatique avec les motoneurones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0560" y="6202440"/>
            <a:ext cx="510624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pas d’inhibition de la contraction mu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4816440" y="1692360"/>
            <a:ext cx="3443400" cy="320760"/>
          </a:xfrm>
          <a:prstGeom prst="rect">
            <a:avLst/>
          </a:prstGeom>
          <a:gradFill rotWithShape="0">
            <a:gsLst>
              <a:gs pos="0">
                <a:srgbClr val="fe9372"/>
              </a:gs>
              <a:gs pos="50000">
                <a:srgbClr val="ff6d3f"/>
              </a:gs>
              <a:gs pos="100000">
                <a:srgbClr val="fe93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5635800" y="1585800"/>
            <a:ext cx="1847520" cy="540000"/>
          </a:xfrm>
          <a:prstGeom prst="ellipse">
            <a:avLst/>
          </a:prstGeom>
          <a:gradFill rotWithShape="0">
            <a:gsLst>
              <a:gs pos="0">
                <a:srgbClr val="fe9372"/>
              </a:gs>
              <a:gs pos="50000">
                <a:srgbClr val="ff6d3f"/>
              </a:gs>
              <a:gs pos="100000">
                <a:srgbClr val="fe93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087960" y="1695600"/>
            <a:ext cx="241560" cy="120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435720" y="1809720"/>
            <a:ext cx="239760" cy="119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603840" y="1951200"/>
            <a:ext cx="239760" cy="120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8" name=""/>
          <p:cNvGrpSpPr/>
          <p:nvPr/>
        </p:nvGrpSpPr>
        <p:grpSpPr>
          <a:xfrm>
            <a:off x="4811760" y="1685880"/>
            <a:ext cx="966600" cy="327240"/>
            <a:chOff x="4811760" y="1685880"/>
            <a:chExt cx="966600" cy="327240"/>
          </a:xfrm>
        </p:grpSpPr>
        <p:sp>
          <p:nvSpPr>
            <p:cNvPr id="2029" name=""/>
            <p:cNvSpPr/>
            <p:nvPr/>
          </p:nvSpPr>
          <p:spPr>
            <a:xfrm>
              <a:off x="4853880" y="1692360"/>
              <a:ext cx="230760" cy="313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176080" y="1691280"/>
              <a:ext cx="230760" cy="312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127120" y="1685880"/>
              <a:ext cx="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496120" y="1691280"/>
              <a:ext cx="230760" cy="312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453640" y="1692360"/>
              <a:ext cx="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4811760" y="1685880"/>
              <a:ext cx="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778360" y="1688040"/>
              <a:ext cx="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6" name=""/>
          <p:cNvSpPr/>
          <p:nvPr/>
        </p:nvSpPr>
        <p:spPr>
          <a:xfrm>
            <a:off x="6799320" y="1717560"/>
            <a:ext cx="239760" cy="119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221520" y="1901880"/>
            <a:ext cx="239760" cy="119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6453360" y="1646280"/>
            <a:ext cx="239400" cy="119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6157800" y="1558800"/>
            <a:ext cx="355680" cy="5954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6397560" y="1558800"/>
            <a:ext cx="355680" cy="5954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962680" y="1603440"/>
            <a:ext cx="284040" cy="5428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2" name=""/>
          <p:cNvGrpSpPr/>
          <p:nvPr/>
        </p:nvGrpSpPr>
        <p:grpSpPr>
          <a:xfrm>
            <a:off x="7294680" y="1685880"/>
            <a:ext cx="965160" cy="327240"/>
            <a:chOff x="7294680" y="1685880"/>
            <a:chExt cx="965160" cy="327240"/>
          </a:xfrm>
        </p:grpSpPr>
        <p:sp>
          <p:nvSpPr>
            <p:cNvPr id="2043" name=""/>
            <p:cNvSpPr/>
            <p:nvPr/>
          </p:nvSpPr>
          <p:spPr>
            <a:xfrm>
              <a:off x="7336800" y="1692360"/>
              <a:ext cx="230400" cy="313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58640" y="1691280"/>
              <a:ext cx="230400" cy="312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609680" y="1685880"/>
              <a:ext cx="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977960" y="1691280"/>
              <a:ext cx="230400" cy="312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935840" y="1692360"/>
              <a:ext cx="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294680" y="1685880"/>
              <a:ext cx="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8259840" y="1688040"/>
              <a:ext cx="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0" name=""/>
          <p:cNvGrpSpPr/>
          <p:nvPr/>
        </p:nvGrpSpPr>
        <p:grpSpPr>
          <a:xfrm>
            <a:off x="7821720" y="1479600"/>
            <a:ext cx="569880" cy="212400"/>
            <a:chOff x="7821720" y="1479600"/>
            <a:chExt cx="569880" cy="212400"/>
          </a:xfrm>
        </p:grpSpPr>
        <p:sp>
          <p:nvSpPr>
            <p:cNvPr id="2051" name=""/>
            <p:cNvSpPr/>
            <p:nvPr/>
          </p:nvSpPr>
          <p:spPr>
            <a:xfrm>
              <a:off x="7821720" y="1585800"/>
              <a:ext cx="221400" cy="106200"/>
            </a:xfrm>
            <a:prstGeom prst="flowChartExtra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936920" y="1479600"/>
              <a:ext cx="454680" cy="139320"/>
            </a:xfrm>
            <a:custGeom>
              <a:avLst/>
              <a:gdLst/>
              <a:ahLst/>
              <a:rect l="l" t="t" r="r" b="b"/>
              <a:pathLst>
                <a:path w="1280" h="96">
                  <a:moveTo>
                    <a:pt x="0" y="96"/>
                  </a:moveTo>
                  <a:lnTo>
                    <a:pt x="0" y="0"/>
                  </a:lnTo>
                  <a:lnTo>
                    <a:pt x="1280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3" name=""/>
          <p:cNvGrpSpPr/>
          <p:nvPr/>
        </p:nvGrpSpPr>
        <p:grpSpPr>
          <a:xfrm>
            <a:off x="4682880" y="1479600"/>
            <a:ext cx="569880" cy="212400"/>
            <a:chOff x="4682880" y="1479600"/>
            <a:chExt cx="569880" cy="212400"/>
          </a:xfrm>
        </p:grpSpPr>
        <p:sp>
          <p:nvSpPr>
            <p:cNvPr id="2054" name=""/>
            <p:cNvSpPr/>
            <p:nvPr/>
          </p:nvSpPr>
          <p:spPr>
            <a:xfrm flipH="1">
              <a:off x="5031000" y="1585800"/>
              <a:ext cx="221400" cy="106200"/>
            </a:xfrm>
            <a:prstGeom prst="flowChartExtra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flipH="1">
              <a:off x="4682520" y="1479600"/>
              <a:ext cx="454680" cy="139320"/>
            </a:xfrm>
            <a:custGeom>
              <a:avLst/>
              <a:gdLst/>
              <a:ahLst/>
              <a:rect l="l" t="t" r="r" b="b"/>
              <a:pathLst>
                <a:path w="1280" h="96">
                  <a:moveTo>
                    <a:pt x="0" y="96"/>
                  </a:moveTo>
                  <a:lnTo>
                    <a:pt x="0" y="0"/>
                  </a:lnTo>
                  <a:lnTo>
                    <a:pt x="1280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6" name=""/>
          <p:cNvSpPr/>
          <p:nvPr/>
        </p:nvSpPr>
        <p:spPr>
          <a:xfrm>
            <a:off x="5834160" y="1531800"/>
            <a:ext cx="196920" cy="61128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19120" y="2857680"/>
            <a:ext cx="3888000" cy="361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68400" y="2298600"/>
            <a:ext cx="4329000" cy="63504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44960" y="2857680"/>
            <a:ext cx="590760" cy="5140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92640" y="3486240"/>
            <a:ext cx="533520" cy="1887480"/>
          </a:xfrm>
          <a:custGeom>
            <a:avLst/>
            <a:gdLst>
              <a:gd name="textAreaLeft" fmla="*/ 117360 w 533520"/>
              <a:gd name="textAreaRight" fmla="*/ 416160 w 533520"/>
              <a:gd name="textAreaTop" fmla="*/ 415080 h 1887480"/>
              <a:gd name="textAreaBottom" fmla="*/ 1472400 h 188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0511600">
            <a:off x="5516280" y="2762280"/>
            <a:ext cx="247680" cy="3999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5040" y="2019240"/>
            <a:ext cx="175248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30800" y="3486240"/>
            <a:ext cx="0" cy="18874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649840" y="3067200"/>
            <a:ext cx="76320" cy="51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73560" y="2666880"/>
            <a:ext cx="514440" cy="20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2581200"/>
            <a:ext cx="86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14640" y="3038400"/>
            <a:ext cx="86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81240" y="297180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724000" y="3352680"/>
            <a:ext cx="7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43560" y="4067280"/>
            <a:ext cx="86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85320" y="240336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quadrice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48920" y="28512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ém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5560" y="3898800"/>
            <a:ext cx="81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tibia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péron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77040" y="27655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ot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48760" y="3165480"/>
            <a:ext cx="152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tendon rotul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9800" y="1139760"/>
            <a:ext cx="84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tructures anatom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72120" y="3343320"/>
            <a:ext cx="438120" cy="162000"/>
          </a:xfrm>
          <a:custGeom>
            <a:avLst/>
            <a:gdLst/>
            <a:ahLst/>
            <a:rect l="l" t="t" r="r" b="b"/>
            <a:pathLst>
              <a:path w="276" h="102">
                <a:moveTo>
                  <a:pt x="12" y="102"/>
                </a:moveTo>
                <a:lnTo>
                  <a:pt x="0" y="42"/>
                </a:lnTo>
                <a:lnTo>
                  <a:pt x="144" y="30"/>
                </a:lnTo>
                <a:lnTo>
                  <a:pt x="186" y="0"/>
                </a:lnTo>
                <a:lnTo>
                  <a:pt x="276" y="96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46320" y="431640"/>
            <a:ext cx="4589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3960" y="206280"/>
            <a:ext cx="75096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rotulie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7" name=""/>
          <p:cNvGrpSpPr/>
          <p:nvPr/>
        </p:nvGrpSpPr>
        <p:grpSpPr>
          <a:xfrm>
            <a:off x="5024520" y="2692440"/>
            <a:ext cx="905760" cy="3124080"/>
            <a:chOff x="5024520" y="2692440"/>
            <a:chExt cx="905760" cy="3124080"/>
          </a:xfrm>
        </p:grpSpPr>
        <p:sp>
          <p:nvSpPr>
            <p:cNvPr id="2058" name=""/>
            <p:cNvSpPr/>
            <p:nvPr/>
          </p:nvSpPr>
          <p:spPr>
            <a:xfrm>
              <a:off x="5024520" y="2692440"/>
              <a:ext cx="455400" cy="312408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 flipH="1">
              <a:off x="5474520" y="2692440"/>
              <a:ext cx="455400" cy="312408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60560" y="206280"/>
            <a:ext cx="869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es motoneurones </a:t>
            </a:r>
            <a:r>
              <a:rPr b="0" lang="en-GB" sz="2000" spc="-1" strike="noStrike">
                <a:solidFill>
                  <a:srgbClr val="800000"/>
                </a:solidFill>
                <a:latin typeface="Symbol"/>
                <a:ea typeface="Symbol"/>
              </a:rPr>
              <a:t>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104840" y="3848040"/>
            <a:ext cx="1193760" cy="1143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1168560" y="2273400"/>
            <a:ext cx="105408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914400" y="187632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centre céréb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652320" y="50468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7" name=""/>
          <p:cNvGrpSpPr/>
          <p:nvPr/>
        </p:nvGrpSpPr>
        <p:grpSpPr>
          <a:xfrm>
            <a:off x="1219320" y="3936960"/>
            <a:ext cx="964800" cy="939240"/>
            <a:chOff x="1219320" y="3936960"/>
            <a:chExt cx="964800" cy="939240"/>
          </a:xfrm>
        </p:grpSpPr>
        <p:sp>
          <p:nvSpPr>
            <p:cNvPr id="2068" name=""/>
            <p:cNvSpPr/>
            <p:nvPr/>
          </p:nvSpPr>
          <p:spPr>
            <a:xfrm>
              <a:off x="168300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70136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21932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23768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442160" y="41673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3" name=""/>
          <p:cNvSpPr/>
          <p:nvPr/>
        </p:nvSpPr>
        <p:spPr>
          <a:xfrm>
            <a:off x="1701720" y="2730600"/>
            <a:ext cx="254160" cy="1942920"/>
          </a:xfrm>
          <a:custGeom>
            <a:avLst/>
            <a:gdLst/>
            <a:ahLst/>
            <a:rect l="l" t="t" r="r" b="b"/>
            <a:pathLst>
              <a:path w="160" h="1224">
                <a:moveTo>
                  <a:pt x="0" y="0"/>
                </a:moveTo>
                <a:lnTo>
                  <a:pt x="2" y="1118"/>
                </a:lnTo>
                <a:lnTo>
                  <a:pt x="160" y="12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2968200" y="3699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rôle des motoneurones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1981080" y="4724280"/>
            <a:ext cx="3111480" cy="432000"/>
          </a:xfrm>
          <a:custGeom>
            <a:avLst/>
            <a:gdLst/>
            <a:ahLst/>
            <a:rect l="l" t="t" r="r" b="b"/>
            <a:pathLst>
              <a:path w="1920" h="360">
                <a:moveTo>
                  <a:pt x="0" y="0"/>
                </a:moveTo>
                <a:lnTo>
                  <a:pt x="360" y="360"/>
                </a:lnTo>
                <a:lnTo>
                  <a:pt x="1920" y="360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1940040" y="4683240"/>
            <a:ext cx="88920" cy="889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172680" y="437364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9966"/>
                </a:solidFill>
                <a:latin typeface="Arial"/>
              </a:rPr>
              <a:t>fibre </a:t>
            </a:r>
            <a:r>
              <a:rPr b="1" lang="fr-FR" sz="1600" spc="-1" strike="noStrike">
                <a:solidFill>
                  <a:srgbClr val="339966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148920" y="5116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fibre </a:t>
            </a:r>
            <a:r>
              <a:rPr b="0" lang="fr-FR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5319720" y="3149640"/>
            <a:ext cx="187200" cy="2084400"/>
          </a:xfrm>
          <a:custGeom>
            <a:avLst/>
            <a:gdLst/>
            <a:ahLst/>
            <a:rect l="l" t="t" r="r" b="b"/>
            <a:pathLst>
              <a:path w="118" h="1313">
                <a:moveTo>
                  <a:pt x="118" y="0"/>
                </a:moveTo>
                <a:cubicBezTo>
                  <a:pt x="101" y="46"/>
                  <a:pt x="30" y="198"/>
                  <a:pt x="15" y="278"/>
                </a:cubicBezTo>
                <a:cubicBezTo>
                  <a:pt x="0" y="358"/>
                  <a:pt x="20" y="400"/>
                  <a:pt x="27" y="482"/>
                </a:cubicBezTo>
                <a:cubicBezTo>
                  <a:pt x="34" y="564"/>
                  <a:pt x="57" y="681"/>
                  <a:pt x="57" y="770"/>
                </a:cubicBezTo>
                <a:cubicBezTo>
                  <a:pt x="57" y="859"/>
                  <a:pt x="17" y="926"/>
                  <a:pt x="27" y="1016"/>
                </a:cubicBezTo>
                <a:cubicBezTo>
                  <a:pt x="37" y="1106"/>
                  <a:pt x="99" y="1251"/>
                  <a:pt x="118" y="1313"/>
                </a:cubicBezTo>
              </a:path>
            </a:pathLst>
          </a:custGeom>
          <a:gradFill rotWithShape="0">
            <a:gsLst>
              <a:gs pos="0">
                <a:srgbClr val="fefeaf"/>
              </a:gs>
              <a:gs pos="100000">
                <a:srgbClr val="ffff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5504040" y="3149640"/>
            <a:ext cx="209520" cy="2084400"/>
          </a:xfrm>
          <a:custGeom>
            <a:avLst/>
            <a:gdLst/>
            <a:ahLst/>
            <a:rect l="l" t="t" r="r" b="b"/>
            <a:pathLst>
              <a:path w="132" h="1313">
                <a:moveTo>
                  <a:pt x="0" y="0"/>
                </a:moveTo>
                <a:cubicBezTo>
                  <a:pt x="47" y="76"/>
                  <a:pt x="104" y="172"/>
                  <a:pt x="118" y="260"/>
                </a:cubicBezTo>
                <a:cubicBezTo>
                  <a:pt x="132" y="348"/>
                  <a:pt x="89" y="446"/>
                  <a:pt x="85" y="530"/>
                </a:cubicBezTo>
                <a:cubicBezTo>
                  <a:pt x="81" y="614"/>
                  <a:pt x="88" y="688"/>
                  <a:pt x="91" y="764"/>
                </a:cubicBezTo>
                <a:cubicBezTo>
                  <a:pt x="94" y="840"/>
                  <a:pt x="118" y="895"/>
                  <a:pt x="103" y="986"/>
                </a:cubicBezTo>
                <a:cubicBezTo>
                  <a:pt x="88" y="1077"/>
                  <a:pt x="21" y="1245"/>
                  <a:pt x="0" y="1313"/>
                </a:cubicBezTo>
              </a:path>
            </a:pathLst>
          </a:custGeom>
          <a:gradFill rotWithShape="0">
            <a:gsLst>
              <a:gs pos="0">
                <a:srgbClr val="fefeaf"/>
              </a:gs>
              <a:gs pos="100000">
                <a:srgbClr val="ffff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5495760" y="3971880"/>
            <a:ext cx="0" cy="1634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1819440" y="4057560"/>
            <a:ext cx="3676320" cy="542880"/>
          </a:xfrm>
          <a:custGeom>
            <a:avLst/>
            <a:gdLst/>
            <a:ahLst/>
            <a:rect l="l" t="t" r="r" b="b"/>
            <a:pathLst>
              <a:path w="2316" h="342">
                <a:moveTo>
                  <a:pt x="2316" y="0"/>
                </a:moveTo>
                <a:lnTo>
                  <a:pt x="72" y="0"/>
                </a:lnTo>
                <a:lnTo>
                  <a:pt x="0" y="174"/>
                </a:lnTo>
                <a:lnTo>
                  <a:pt x="96" y="342"/>
                </a:ln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095560" y="4705200"/>
            <a:ext cx="3400200" cy="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43080" y="1817640"/>
            <a:ext cx="8800920" cy="4824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2799000" y="2120760"/>
            <a:ext cx="508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modulation de la sensibilité à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216000" y="5494320"/>
            <a:ext cx="690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990000"/>
                </a:solidFill>
                <a:latin typeface="Arial"/>
              </a:rPr>
              <a:t>pathologie : hyperactivité des neurones </a:t>
            </a:r>
            <a:r>
              <a:rPr b="1" i="1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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</a:t>
            </a:r>
            <a:r>
              <a:rPr b="1" i="1" lang="fr-FR" sz="2000" spc="-1" strike="noStrike">
                <a:solidFill>
                  <a:srgbClr val="990000"/>
                </a:solidFill>
                <a:latin typeface="Arial"/>
              </a:rPr>
              <a:t>hyperactivité des fibres sensitives Ia et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</a:t>
            </a:r>
            <a:r>
              <a:rPr b="1" i="1" lang="fr-FR" sz="2000" spc="-1" strike="noStrike">
                <a:solidFill>
                  <a:srgbClr val="990000"/>
                </a:solidFill>
                <a:latin typeface="Arial"/>
              </a:rPr>
              <a:t>spasticité et/ou hypertonic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8" name=""/>
          <p:cNvGrpSpPr/>
          <p:nvPr/>
        </p:nvGrpSpPr>
        <p:grpSpPr>
          <a:xfrm>
            <a:off x="4376880" y="1485360"/>
            <a:ext cx="1388160" cy="4242960"/>
            <a:chOff x="4376880" y="1485360"/>
            <a:chExt cx="1388160" cy="4242960"/>
          </a:xfrm>
        </p:grpSpPr>
        <p:sp>
          <p:nvSpPr>
            <p:cNvPr id="2089" name=""/>
            <p:cNvSpPr/>
            <p:nvPr/>
          </p:nvSpPr>
          <p:spPr>
            <a:xfrm rot="21195600">
              <a:off x="4619520" y="1550160"/>
              <a:ext cx="455400" cy="416556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H="1" rot="21195600">
              <a:off x="5066640" y="1497600"/>
              <a:ext cx="455400" cy="416556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1" name=""/>
          <p:cNvGrpSpPr/>
          <p:nvPr/>
        </p:nvGrpSpPr>
        <p:grpSpPr>
          <a:xfrm>
            <a:off x="4732560" y="2390400"/>
            <a:ext cx="695160" cy="2123280"/>
            <a:chOff x="4732560" y="2390400"/>
            <a:chExt cx="695160" cy="2123280"/>
          </a:xfrm>
        </p:grpSpPr>
        <p:sp>
          <p:nvSpPr>
            <p:cNvPr id="2092" name=""/>
            <p:cNvSpPr/>
            <p:nvPr/>
          </p:nvSpPr>
          <p:spPr>
            <a:xfrm rot="21195600">
              <a:off x="4853880" y="2422800"/>
              <a:ext cx="228240" cy="208440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gradFill rotWithShape="0">
              <a:gsLst>
                <a:gs pos="0">
                  <a:srgbClr val="fefeaf"/>
                </a:gs>
                <a:gs pos="100000">
                  <a:srgbClr val="ffff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 rot="21195600">
              <a:off x="5077440" y="2396520"/>
              <a:ext cx="228240" cy="208440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gradFill rotWithShape="0">
              <a:gsLst>
                <a:gs pos="0">
                  <a:srgbClr val="fefeaf"/>
                </a:gs>
                <a:gs pos="100000">
                  <a:srgbClr val="ffff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4" name=""/>
          <p:cNvSpPr/>
          <p:nvPr/>
        </p:nvSpPr>
        <p:spPr>
          <a:xfrm>
            <a:off x="5043240" y="3380400"/>
            <a:ext cx="25920" cy="2178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546120" y="2971800"/>
            <a:ext cx="2328840" cy="2230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768240" y="3144960"/>
            <a:ext cx="1883880" cy="1833840"/>
            <a:chOff x="768240" y="3144960"/>
            <a:chExt cx="1883880" cy="1833840"/>
          </a:xfrm>
        </p:grpSpPr>
        <p:sp>
          <p:nvSpPr>
            <p:cNvPr id="2097" name=""/>
            <p:cNvSpPr/>
            <p:nvPr/>
          </p:nvSpPr>
          <p:spPr>
            <a:xfrm>
              <a:off x="1673640" y="3144960"/>
              <a:ext cx="941400" cy="935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709640" y="4043160"/>
              <a:ext cx="942480" cy="935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68240" y="3144960"/>
              <a:ext cx="941400" cy="935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803880" y="4043160"/>
              <a:ext cx="942480" cy="935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1203480" y="3594600"/>
              <a:ext cx="941400" cy="935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2" name=""/>
          <p:cNvSpPr/>
          <p:nvPr/>
        </p:nvSpPr>
        <p:spPr>
          <a:xfrm>
            <a:off x="2276640" y="4486320"/>
            <a:ext cx="172800" cy="1746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181440" y="206280"/>
            <a:ext cx="80110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nervation croisé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1008000" y="251928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83840" y="35593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2387520" y="4594320"/>
            <a:ext cx="2705040" cy="180720"/>
          </a:xfrm>
          <a:custGeom>
            <a:avLst/>
            <a:gdLst/>
            <a:ahLst/>
            <a:rect l="l" t="t" r="r" b="b"/>
            <a:pathLst>
              <a:path w="1704" h="296">
                <a:moveTo>
                  <a:pt x="0" y="0"/>
                </a:moveTo>
                <a:lnTo>
                  <a:pt x="274" y="296"/>
                </a:lnTo>
                <a:lnTo>
                  <a:pt x="1704" y="296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2802240" y="4424400"/>
            <a:ext cx="21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fibre </a:t>
            </a:r>
            <a:r>
              <a:rPr b="0" lang="fr-FR" sz="1600" spc="-1" strike="noStrike">
                <a:solidFill>
                  <a:srgbClr val="003366"/>
                </a:solidFill>
                <a:latin typeface="Symbol"/>
                <a:ea typeface="Symbol"/>
              </a:rPr>
              <a:t></a:t>
            </a: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de l’extens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946160" y="3460680"/>
            <a:ext cx="3092400" cy="1035000"/>
          </a:xfrm>
          <a:custGeom>
            <a:avLst/>
            <a:gdLst/>
            <a:ahLst/>
            <a:rect l="l" t="t" r="r" b="b"/>
            <a:pathLst>
              <a:path w="1948" h="652">
                <a:moveTo>
                  <a:pt x="1948" y="0"/>
                </a:moveTo>
                <a:lnTo>
                  <a:pt x="61" y="0"/>
                </a:lnTo>
                <a:lnTo>
                  <a:pt x="0" y="329"/>
                </a:lnTo>
                <a:lnTo>
                  <a:pt x="198" y="652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5803920" y="1817640"/>
            <a:ext cx="365040" cy="2921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651640" y="4572000"/>
            <a:ext cx="669960" cy="5587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3" name=""/>
          <p:cNvGrpSpPr/>
          <p:nvPr/>
        </p:nvGrpSpPr>
        <p:grpSpPr>
          <a:xfrm>
            <a:off x="5722200" y="4887720"/>
            <a:ext cx="922680" cy="1534320"/>
            <a:chOff x="5722200" y="4887720"/>
            <a:chExt cx="922680" cy="1534320"/>
          </a:xfrm>
        </p:grpSpPr>
        <p:sp>
          <p:nvSpPr>
            <p:cNvPr id="2114" name=""/>
            <p:cNvSpPr/>
            <p:nvPr/>
          </p:nvSpPr>
          <p:spPr>
            <a:xfrm flipH="1" rot="4481400">
              <a:off x="5923080" y="4818600"/>
              <a:ext cx="419040" cy="73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rot="20681400">
              <a:off x="6130440" y="5213160"/>
              <a:ext cx="365040" cy="1181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6" name=""/>
          <p:cNvGrpSpPr/>
          <p:nvPr/>
        </p:nvGrpSpPr>
        <p:grpSpPr>
          <a:xfrm>
            <a:off x="6256800" y="1454400"/>
            <a:ext cx="1558800" cy="4257000"/>
            <a:chOff x="6256800" y="1454400"/>
            <a:chExt cx="1558800" cy="4257000"/>
          </a:xfrm>
        </p:grpSpPr>
        <p:sp>
          <p:nvSpPr>
            <p:cNvPr id="2117" name=""/>
            <p:cNvSpPr/>
            <p:nvPr/>
          </p:nvSpPr>
          <p:spPr>
            <a:xfrm rot="550800">
              <a:off x="6585840" y="1463760"/>
              <a:ext cx="455400" cy="416556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 rot="550800">
              <a:off x="7030080" y="1535760"/>
              <a:ext cx="455400" cy="416556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9" name=""/>
          <p:cNvGrpSpPr/>
          <p:nvPr/>
        </p:nvGrpSpPr>
        <p:grpSpPr>
          <a:xfrm>
            <a:off x="6696000" y="2370960"/>
            <a:ext cx="780840" cy="2130120"/>
            <a:chOff x="6696000" y="2370960"/>
            <a:chExt cx="780840" cy="2130120"/>
          </a:xfrm>
        </p:grpSpPr>
        <p:sp>
          <p:nvSpPr>
            <p:cNvPr id="2120" name=""/>
            <p:cNvSpPr/>
            <p:nvPr/>
          </p:nvSpPr>
          <p:spPr>
            <a:xfrm rot="550800">
              <a:off x="6860880" y="2375640"/>
              <a:ext cx="228240" cy="208440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gradFill rotWithShape="0">
              <a:gsLst>
                <a:gs pos="0">
                  <a:srgbClr val="fefeaf"/>
                </a:gs>
                <a:gs pos="100000">
                  <a:srgbClr val="ffff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 rot="550800">
              <a:off x="7083360" y="2411640"/>
              <a:ext cx="228240" cy="208440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gradFill rotWithShape="0">
              <a:gsLst>
                <a:gs pos="0">
                  <a:srgbClr val="fefeaf"/>
                </a:gs>
                <a:gs pos="100000">
                  <a:srgbClr val="ffff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2" name=""/>
          <p:cNvSpPr/>
          <p:nvPr/>
        </p:nvSpPr>
        <p:spPr>
          <a:xfrm flipH="1">
            <a:off x="1879200" y="3873600"/>
            <a:ext cx="88920" cy="2919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5308560" y="5575320"/>
            <a:ext cx="1028880" cy="71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 flipH="1">
            <a:off x="6603840" y="5562720"/>
            <a:ext cx="114480" cy="66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2038320" y="4676760"/>
            <a:ext cx="173160" cy="1746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149560" y="4803840"/>
            <a:ext cx="4667040" cy="123840"/>
          </a:xfrm>
          <a:custGeom>
            <a:avLst/>
            <a:gdLst/>
            <a:ahLst/>
            <a:rect l="l" t="t" r="r" b="b"/>
            <a:pathLst>
              <a:path w="1704" h="296">
                <a:moveTo>
                  <a:pt x="0" y="0"/>
                </a:moveTo>
                <a:lnTo>
                  <a:pt x="274" y="296"/>
                </a:lnTo>
                <a:lnTo>
                  <a:pt x="1704" y="296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1695600" y="4124160"/>
            <a:ext cx="257040" cy="257400"/>
          </a:xfrm>
          <a:prstGeom prst="star5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828800" y="4267080"/>
            <a:ext cx="22860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906640" y="498636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fibre </a:t>
            </a:r>
            <a:r>
              <a:rPr b="0" lang="fr-FR" sz="1600" spc="-1" strike="noStrike">
                <a:solidFill>
                  <a:srgbClr val="003366"/>
                </a:solidFill>
                <a:latin typeface="Symbol"/>
                <a:ea typeface="Symbol"/>
              </a:rPr>
              <a:t></a:t>
            </a: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du fléchiss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971640" y="5896080"/>
            <a:ext cx="257040" cy="257040"/>
          </a:xfrm>
          <a:prstGeom prst="star5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234440" y="5881680"/>
            <a:ext cx="231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interneurone inhibi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390600" y="835200"/>
            <a:ext cx="81439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odulation simultanée des muscles extenseurs et fléchiss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3395520" y="3084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4" name=""/>
          <p:cNvGrpSpPr/>
          <p:nvPr/>
        </p:nvGrpSpPr>
        <p:grpSpPr>
          <a:xfrm>
            <a:off x="4375800" y="1484280"/>
            <a:ext cx="1349280" cy="3910320"/>
            <a:chOff x="4375800" y="1484280"/>
            <a:chExt cx="1349280" cy="3910320"/>
          </a:xfrm>
        </p:grpSpPr>
        <p:sp>
          <p:nvSpPr>
            <p:cNvPr id="2135" name=""/>
            <p:cNvSpPr/>
            <p:nvPr/>
          </p:nvSpPr>
          <p:spPr>
            <a:xfrm rot="21195600">
              <a:off x="4599000" y="1550160"/>
              <a:ext cx="455400" cy="383076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H="1" rot="21195600">
              <a:off x="5046120" y="1497600"/>
              <a:ext cx="455400" cy="383076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4732560" y="2390400"/>
            <a:ext cx="695160" cy="2123280"/>
            <a:chOff x="4732560" y="2390400"/>
            <a:chExt cx="695160" cy="2123280"/>
          </a:xfrm>
        </p:grpSpPr>
        <p:sp>
          <p:nvSpPr>
            <p:cNvPr id="2138" name=""/>
            <p:cNvSpPr/>
            <p:nvPr/>
          </p:nvSpPr>
          <p:spPr>
            <a:xfrm rot="21195600">
              <a:off x="4853880" y="2422800"/>
              <a:ext cx="228240" cy="208440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gradFill rotWithShape="0">
              <a:gsLst>
                <a:gs pos="0">
                  <a:srgbClr val="fefeaf"/>
                </a:gs>
                <a:gs pos="100000">
                  <a:srgbClr val="ffff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H="1" rot="21195600">
              <a:off x="5077440" y="2396520"/>
              <a:ext cx="228240" cy="208440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gradFill rotWithShape="0">
              <a:gsLst>
                <a:gs pos="0">
                  <a:srgbClr val="fefeaf"/>
                </a:gs>
                <a:gs pos="100000">
                  <a:srgbClr val="ffff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0" name=""/>
          <p:cNvSpPr/>
          <p:nvPr/>
        </p:nvSpPr>
        <p:spPr>
          <a:xfrm>
            <a:off x="5043240" y="3380400"/>
            <a:ext cx="25920" cy="2178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546120" y="2971800"/>
            <a:ext cx="2328840" cy="2230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2" name=""/>
          <p:cNvGrpSpPr/>
          <p:nvPr/>
        </p:nvGrpSpPr>
        <p:grpSpPr>
          <a:xfrm>
            <a:off x="768240" y="3144960"/>
            <a:ext cx="1883880" cy="1833840"/>
            <a:chOff x="768240" y="3144960"/>
            <a:chExt cx="1883880" cy="1833840"/>
          </a:xfrm>
        </p:grpSpPr>
        <p:sp>
          <p:nvSpPr>
            <p:cNvPr id="2143" name=""/>
            <p:cNvSpPr/>
            <p:nvPr/>
          </p:nvSpPr>
          <p:spPr>
            <a:xfrm>
              <a:off x="1673640" y="3144960"/>
              <a:ext cx="941400" cy="935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1709640" y="4043160"/>
              <a:ext cx="942480" cy="935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68240" y="3144960"/>
              <a:ext cx="941400" cy="935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803880" y="4043160"/>
              <a:ext cx="942480" cy="935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1203480" y="3594600"/>
              <a:ext cx="941400" cy="935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8" name=""/>
          <p:cNvSpPr/>
          <p:nvPr/>
        </p:nvSpPr>
        <p:spPr>
          <a:xfrm>
            <a:off x="2276640" y="4486320"/>
            <a:ext cx="172800" cy="1746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81440" y="206280"/>
            <a:ext cx="80110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nervation croisé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2387520" y="4594320"/>
            <a:ext cx="2705040" cy="180720"/>
          </a:xfrm>
          <a:custGeom>
            <a:avLst/>
            <a:gdLst/>
            <a:ahLst/>
            <a:rect l="l" t="t" r="r" b="b"/>
            <a:pathLst>
              <a:path w="1704" h="296">
                <a:moveTo>
                  <a:pt x="0" y="0"/>
                </a:moveTo>
                <a:lnTo>
                  <a:pt x="274" y="296"/>
                </a:lnTo>
                <a:lnTo>
                  <a:pt x="1704" y="296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946160" y="3460680"/>
            <a:ext cx="3092400" cy="1035000"/>
          </a:xfrm>
          <a:custGeom>
            <a:avLst/>
            <a:gdLst/>
            <a:ahLst/>
            <a:rect l="l" t="t" r="r" b="b"/>
            <a:pathLst>
              <a:path w="1948" h="652">
                <a:moveTo>
                  <a:pt x="1948" y="0"/>
                </a:moveTo>
                <a:lnTo>
                  <a:pt x="61" y="0"/>
                </a:lnTo>
                <a:lnTo>
                  <a:pt x="0" y="329"/>
                </a:lnTo>
                <a:lnTo>
                  <a:pt x="198" y="652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5803920" y="1817640"/>
            <a:ext cx="365040" cy="2921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5651640" y="4572000"/>
            <a:ext cx="669960" cy="5587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6" name=""/>
          <p:cNvGrpSpPr/>
          <p:nvPr/>
        </p:nvGrpSpPr>
        <p:grpSpPr>
          <a:xfrm>
            <a:off x="5644800" y="4971960"/>
            <a:ext cx="751320" cy="1461600"/>
            <a:chOff x="5644800" y="4971960"/>
            <a:chExt cx="751320" cy="1461600"/>
          </a:xfrm>
        </p:grpSpPr>
        <p:sp>
          <p:nvSpPr>
            <p:cNvPr id="2157" name=""/>
            <p:cNvSpPr/>
            <p:nvPr/>
          </p:nvSpPr>
          <p:spPr>
            <a:xfrm flipH="1" rot="5275800">
              <a:off x="5810400" y="4826160"/>
              <a:ext cx="419040" cy="73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rot="21476400">
              <a:off x="5871960" y="5245920"/>
              <a:ext cx="365040" cy="1181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9" name=""/>
          <p:cNvGrpSpPr/>
          <p:nvPr/>
        </p:nvGrpSpPr>
        <p:grpSpPr>
          <a:xfrm>
            <a:off x="6067080" y="1298520"/>
            <a:ext cx="1798560" cy="4390200"/>
            <a:chOff x="6067080" y="1298520"/>
            <a:chExt cx="1798560" cy="4390200"/>
          </a:xfrm>
        </p:grpSpPr>
        <p:grpSp>
          <p:nvGrpSpPr>
            <p:cNvPr id="2160" name=""/>
            <p:cNvGrpSpPr/>
            <p:nvPr/>
          </p:nvGrpSpPr>
          <p:grpSpPr>
            <a:xfrm>
              <a:off x="6067080" y="1298520"/>
              <a:ext cx="1798560" cy="4390200"/>
              <a:chOff x="6067080" y="1298520"/>
              <a:chExt cx="1798560" cy="4390200"/>
            </a:xfrm>
          </p:grpSpPr>
          <p:sp>
            <p:nvSpPr>
              <p:cNvPr id="2161" name=""/>
              <p:cNvSpPr/>
              <p:nvPr/>
            </p:nvSpPr>
            <p:spPr>
              <a:xfrm rot="865800">
                <a:off x="6601680" y="1276200"/>
                <a:ext cx="372600" cy="434268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solidFill>
                <a:srgbClr val="ff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H="1" rot="865200">
                <a:off x="6958080" y="1368000"/>
                <a:ext cx="372600" cy="434268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solidFill>
                <a:srgbClr val="ff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3" name=""/>
            <p:cNvGrpSpPr/>
            <p:nvPr/>
          </p:nvGrpSpPr>
          <p:grpSpPr>
            <a:xfrm>
              <a:off x="6570720" y="2246040"/>
              <a:ext cx="901080" cy="2197440"/>
              <a:chOff x="6570720" y="2246040"/>
              <a:chExt cx="901080" cy="2197440"/>
            </a:xfrm>
          </p:grpSpPr>
          <p:sp>
            <p:nvSpPr>
              <p:cNvPr id="2164" name=""/>
              <p:cNvSpPr/>
              <p:nvPr/>
            </p:nvSpPr>
            <p:spPr>
              <a:xfrm rot="865800">
                <a:off x="6838200" y="2234880"/>
                <a:ext cx="186480" cy="217332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gradFill rotWithShape="0">
                <a:gsLst>
                  <a:gs pos="0">
                    <a:srgbClr val="fefeaf"/>
                  </a:gs>
                  <a:gs pos="100000">
                    <a:srgbClr val="ffff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H="1" rot="865200">
                <a:off x="7017120" y="2280960"/>
                <a:ext cx="186480" cy="217332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gradFill rotWithShape="0">
                <a:gsLst>
                  <a:gs pos="0">
                    <a:srgbClr val="fefeaf"/>
                  </a:gs>
                  <a:gs pos="100000">
                    <a:srgbClr val="ffff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6" name=""/>
          <p:cNvSpPr/>
          <p:nvPr/>
        </p:nvSpPr>
        <p:spPr>
          <a:xfrm flipH="1">
            <a:off x="1879200" y="3873600"/>
            <a:ext cx="88920" cy="2919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5243760" y="5196960"/>
            <a:ext cx="701280" cy="1036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6256800" y="5509440"/>
            <a:ext cx="199440" cy="639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2038320" y="4676760"/>
            <a:ext cx="173160" cy="1746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2149560" y="4803840"/>
            <a:ext cx="4667040" cy="123840"/>
          </a:xfrm>
          <a:custGeom>
            <a:avLst/>
            <a:gdLst/>
            <a:ahLst/>
            <a:rect l="l" t="t" r="r" b="b"/>
            <a:pathLst>
              <a:path w="1704" h="296">
                <a:moveTo>
                  <a:pt x="0" y="0"/>
                </a:moveTo>
                <a:lnTo>
                  <a:pt x="274" y="296"/>
                </a:lnTo>
                <a:lnTo>
                  <a:pt x="1704" y="296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1695600" y="4124160"/>
            <a:ext cx="257040" cy="257400"/>
          </a:xfrm>
          <a:prstGeom prst="star5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828800" y="4267080"/>
            <a:ext cx="22860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183840" y="35593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0600" y="835200"/>
            <a:ext cx="81439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odulation simultanée des muscles extenseurs et fléchiss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3395520" y="3084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655640" y="42530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471840" y="4379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763800" y="4849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2347560" y="5700600"/>
            <a:ext cx="30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contraction de l’extens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7046640" y="484992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relax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du fléchiss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353880" y="1444680"/>
            <a:ext cx="402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timulation de la fibre Ia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timulation de la fibr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de l’extens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ctivation de l’interneurone inhibi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nhibition de la fibr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du fléchiss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361800" y="968400"/>
            <a:ext cx="84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mus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378000" y="1434960"/>
            <a:ext cx="840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ystème(s) complex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ystème hiérarchisé : différents niveaux de complex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ystème intég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ystème régulé : réflexe myot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549440" y="431640"/>
            <a:ext cx="74214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85400" y="206280"/>
            <a:ext cx="33156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conclus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05040" y="2019240"/>
            <a:ext cx="4914720" cy="3353760"/>
            <a:chOff x="905040" y="2019240"/>
            <a:chExt cx="4914720" cy="3353760"/>
          </a:xfrm>
        </p:grpSpPr>
        <p:sp>
          <p:nvSpPr>
            <p:cNvPr id="82" name=""/>
            <p:cNvSpPr/>
            <p:nvPr/>
          </p:nvSpPr>
          <p:spPr>
            <a:xfrm>
              <a:off x="1419120" y="2857320"/>
              <a:ext cx="3886920" cy="362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68400" y="2298600"/>
              <a:ext cx="4328640" cy="635040"/>
            </a:xfrm>
            <a:custGeom>
              <a:avLst/>
              <a:gdLst/>
              <a:ahLst/>
              <a:rect l="l" t="t" r="r" b="b"/>
              <a:pathLst>
                <a:path w="4019" h="568">
                  <a:moveTo>
                    <a:pt x="48" y="304"/>
                  </a:moveTo>
                  <a:cubicBezTo>
                    <a:pt x="183" y="298"/>
                    <a:pt x="324" y="289"/>
                    <a:pt x="456" y="256"/>
                  </a:cubicBezTo>
                  <a:cubicBezTo>
                    <a:pt x="588" y="223"/>
                    <a:pt x="720" y="179"/>
                    <a:pt x="856" y="160"/>
                  </a:cubicBezTo>
                  <a:cubicBezTo>
                    <a:pt x="997" y="113"/>
                    <a:pt x="1149" y="72"/>
                    <a:pt x="1296" y="56"/>
                  </a:cubicBezTo>
                  <a:cubicBezTo>
                    <a:pt x="1367" y="38"/>
                    <a:pt x="1388" y="38"/>
                    <a:pt x="1480" y="32"/>
                  </a:cubicBezTo>
                  <a:cubicBezTo>
                    <a:pt x="1560" y="12"/>
                    <a:pt x="1522" y="20"/>
                    <a:pt x="1592" y="8"/>
                  </a:cubicBezTo>
                  <a:cubicBezTo>
                    <a:pt x="1732" y="14"/>
                    <a:pt x="1877" y="28"/>
                    <a:pt x="2016" y="0"/>
                  </a:cubicBezTo>
                  <a:cubicBezTo>
                    <a:pt x="2099" y="3"/>
                    <a:pt x="2181" y="3"/>
                    <a:pt x="2264" y="8"/>
                  </a:cubicBezTo>
                  <a:cubicBezTo>
                    <a:pt x="2295" y="10"/>
                    <a:pt x="2329" y="27"/>
                    <a:pt x="2360" y="32"/>
                  </a:cubicBezTo>
                  <a:cubicBezTo>
                    <a:pt x="2455" y="47"/>
                    <a:pt x="2545" y="71"/>
                    <a:pt x="2640" y="80"/>
                  </a:cubicBezTo>
                  <a:cubicBezTo>
                    <a:pt x="2758" y="104"/>
                    <a:pt x="2855" y="100"/>
                    <a:pt x="2984" y="104"/>
                  </a:cubicBezTo>
                  <a:cubicBezTo>
                    <a:pt x="3044" y="111"/>
                    <a:pt x="3129" y="118"/>
                    <a:pt x="3184" y="136"/>
                  </a:cubicBezTo>
                  <a:cubicBezTo>
                    <a:pt x="3252" y="159"/>
                    <a:pt x="3337" y="186"/>
                    <a:pt x="3408" y="200"/>
                  </a:cubicBezTo>
                  <a:cubicBezTo>
                    <a:pt x="3439" y="206"/>
                    <a:pt x="3474" y="213"/>
                    <a:pt x="3504" y="224"/>
                  </a:cubicBezTo>
                  <a:cubicBezTo>
                    <a:pt x="3515" y="228"/>
                    <a:pt x="3524" y="237"/>
                    <a:pt x="3536" y="240"/>
                  </a:cubicBezTo>
                  <a:cubicBezTo>
                    <a:pt x="3628" y="265"/>
                    <a:pt x="3758" y="261"/>
                    <a:pt x="3840" y="264"/>
                  </a:cubicBezTo>
                  <a:cubicBezTo>
                    <a:pt x="3868" y="273"/>
                    <a:pt x="3902" y="274"/>
                    <a:pt x="3928" y="288"/>
                  </a:cubicBezTo>
                  <a:cubicBezTo>
                    <a:pt x="3945" y="297"/>
                    <a:pt x="3960" y="309"/>
                    <a:pt x="3976" y="320"/>
                  </a:cubicBezTo>
                  <a:cubicBezTo>
                    <a:pt x="3984" y="325"/>
                    <a:pt x="4000" y="336"/>
                    <a:pt x="4000" y="336"/>
                  </a:cubicBezTo>
                  <a:cubicBezTo>
                    <a:pt x="4008" y="359"/>
                    <a:pt x="4019" y="366"/>
                    <a:pt x="3984" y="368"/>
                  </a:cubicBezTo>
                  <a:cubicBezTo>
                    <a:pt x="3891" y="373"/>
                    <a:pt x="3797" y="373"/>
                    <a:pt x="3704" y="376"/>
                  </a:cubicBezTo>
                  <a:cubicBezTo>
                    <a:pt x="3632" y="400"/>
                    <a:pt x="3548" y="400"/>
                    <a:pt x="3472" y="408"/>
                  </a:cubicBezTo>
                  <a:cubicBezTo>
                    <a:pt x="3430" y="422"/>
                    <a:pt x="3387" y="426"/>
                    <a:pt x="3344" y="432"/>
                  </a:cubicBezTo>
                  <a:cubicBezTo>
                    <a:pt x="3239" y="467"/>
                    <a:pt x="3132" y="479"/>
                    <a:pt x="3024" y="496"/>
                  </a:cubicBezTo>
                  <a:cubicBezTo>
                    <a:pt x="2968" y="505"/>
                    <a:pt x="2912" y="525"/>
                    <a:pt x="2856" y="536"/>
                  </a:cubicBezTo>
                  <a:cubicBezTo>
                    <a:pt x="2759" y="555"/>
                    <a:pt x="2659" y="548"/>
                    <a:pt x="2560" y="552"/>
                  </a:cubicBezTo>
                  <a:cubicBezTo>
                    <a:pt x="2397" y="568"/>
                    <a:pt x="2237" y="561"/>
                    <a:pt x="2072" y="552"/>
                  </a:cubicBezTo>
                  <a:cubicBezTo>
                    <a:pt x="1933" y="517"/>
                    <a:pt x="2084" y="552"/>
                    <a:pt x="1720" y="552"/>
                  </a:cubicBezTo>
                  <a:cubicBezTo>
                    <a:pt x="1499" y="552"/>
                    <a:pt x="1277" y="547"/>
                    <a:pt x="1056" y="544"/>
                  </a:cubicBezTo>
                  <a:cubicBezTo>
                    <a:pt x="969" y="532"/>
                    <a:pt x="892" y="499"/>
                    <a:pt x="808" y="480"/>
                  </a:cubicBezTo>
                  <a:cubicBezTo>
                    <a:pt x="743" y="466"/>
                    <a:pt x="674" y="463"/>
                    <a:pt x="608" y="456"/>
                  </a:cubicBezTo>
                  <a:cubicBezTo>
                    <a:pt x="566" y="442"/>
                    <a:pt x="522" y="437"/>
                    <a:pt x="480" y="424"/>
                  </a:cubicBezTo>
                  <a:cubicBezTo>
                    <a:pt x="432" y="410"/>
                    <a:pt x="378" y="386"/>
                    <a:pt x="328" y="384"/>
                  </a:cubicBezTo>
                  <a:cubicBezTo>
                    <a:pt x="229" y="379"/>
                    <a:pt x="131" y="379"/>
                    <a:pt x="32" y="376"/>
                  </a:cubicBezTo>
                  <a:cubicBezTo>
                    <a:pt x="24" y="368"/>
                    <a:pt x="12" y="363"/>
                    <a:pt x="8" y="352"/>
                  </a:cubicBezTo>
                  <a:cubicBezTo>
                    <a:pt x="0" y="328"/>
                    <a:pt x="36" y="316"/>
                    <a:pt x="48" y="304"/>
                  </a:cubicBezTo>
                  <a:close/>
                </a:path>
              </a:pathLst>
            </a:custGeom>
            <a:solidFill>
              <a:srgbClr val="c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44960" y="2857320"/>
              <a:ext cx="590400" cy="5148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92640" y="3486240"/>
              <a:ext cx="533520" cy="1886760"/>
            </a:xfrm>
            <a:custGeom>
              <a:avLst/>
              <a:gdLst>
                <a:gd name="textAreaLeft" fmla="*/ 117360 w 533520"/>
                <a:gd name="textAreaRight" fmla="*/ 416160 w 533520"/>
                <a:gd name="textAreaTop" fmla="*/ 414720 h 1886760"/>
                <a:gd name="textAreaBottom" fmla="*/ 1472040 h 18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20511600">
              <a:off x="5515920" y="2762280"/>
              <a:ext cx="247680" cy="4003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5040" y="2019240"/>
              <a:ext cx="1752840" cy="144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30800" y="3486240"/>
              <a:ext cx="0" cy="18867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5649840" y="3066840"/>
              <a:ext cx="76320" cy="5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73200" y="2667240"/>
              <a:ext cx="51480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 flipH="1">
            <a:off x="6000480" y="366696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886360" y="2276640"/>
            <a:ext cx="561960" cy="1266840"/>
            <a:chOff x="5886360" y="2276640"/>
            <a:chExt cx="561960" cy="1266840"/>
          </a:xfrm>
        </p:grpSpPr>
        <p:sp>
          <p:nvSpPr>
            <p:cNvPr id="93" name=""/>
            <p:cNvSpPr/>
            <p:nvPr/>
          </p:nvSpPr>
          <p:spPr>
            <a:xfrm>
              <a:off x="5886360" y="3362400"/>
              <a:ext cx="56196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62480" y="2276640"/>
              <a:ext cx="0" cy="1162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69800" y="1139760"/>
            <a:ext cx="84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oup sur le tendon rotuli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72120" y="3343320"/>
            <a:ext cx="438120" cy="162000"/>
          </a:xfrm>
          <a:custGeom>
            <a:avLst/>
            <a:gdLst/>
            <a:ahLst/>
            <a:rect l="l" t="t" r="r" b="b"/>
            <a:pathLst>
              <a:path w="276" h="102">
                <a:moveTo>
                  <a:pt x="12" y="102"/>
                </a:moveTo>
                <a:lnTo>
                  <a:pt x="0" y="42"/>
                </a:lnTo>
                <a:lnTo>
                  <a:pt x="144" y="30"/>
                </a:lnTo>
                <a:lnTo>
                  <a:pt x="186" y="0"/>
                </a:lnTo>
                <a:lnTo>
                  <a:pt x="276" y="96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46320" y="431640"/>
            <a:ext cx="4589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960" y="206280"/>
            <a:ext cx="75096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rotulie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19120" y="2857680"/>
            <a:ext cx="3888000" cy="361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68400" y="2298600"/>
            <a:ext cx="4443480" cy="63504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44960" y="2857680"/>
            <a:ext cx="590760" cy="5140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92640" y="3486240"/>
            <a:ext cx="533520" cy="1887480"/>
          </a:xfrm>
          <a:custGeom>
            <a:avLst/>
            <a:gdLst>
              <a:gd name="textAreaLeft" fmla="*/ 117360 w 533520"/>
              <a:gd name="textAreaRight" fmla="*/ 416160 w 533520"/>
              <a:gd name="textAreaTop" fmla="*/ 415080 h 1887480"/>
              <a:gd name="textAreaBottom" fmla="*/ 1472400 h 188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20511600">
            <a:off x="5525640" y="2867040"/>
            <a:ext cx="247680" cy="3999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5040" y="2019240"/>
            <a:ext cx="175248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30800" y="3486240"/>
            <a:ext cx="0" cy="18874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584680" y="2283120"/>
            <a:ext cx="588600" cy="1298520"/>
            <a:chOff x="5584680" y="2283120"/>
            <a:chExt cx="588600" cy="1298520"/>
          </a:xfrm>
        </p:grpSpPr>
        <p:sp>
          <p:nvSpPr>
            <p:cNvPr id="108" name=""/>
            <p:cNvSpPr/>
            <p:nvPr/>
          </p:nvSpPr>
          <p:spPr>
            <a:xfrm rot="806400">
              <a:off x="5598000" y="3337560"/>
              <a:ext cx="56196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5877720" y="2283120"/>
              <a:ext cx="270000" cy="1130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69800" y="1139760"/>
            <a:ext cx="84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étirement du quadrice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81800" y="3181320"/>
            <a:ext cx="123840" cy="390600"/>
          </a:xfrm>
          <a:custGeom>
            <a:avLst/>
            <a:gdLst/>
            <a:ahLst/>
            <a:rect l="l" t="t" r="r" b="b"/>
            <a:pathLst>
              <a:path w="78" h="246">
                <a:moveTo>
                  <a:pt x="78" y="0"/>
                </a:moveTo>
                <a:lnTo>
                  <a:pt x="0" y="120"/>
                </a:lnTo>
                <a:lnTo>
                  <a:pt x="72" y="24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82640" y="2643120"/>
            <a:ext cx="429480" cy="35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72120" y="3343320"/>
            <a:ext cx="438120" cy="162000"/>
          </a:xfrm>
          <a:custGeom>
            <a:avLst/>
            <a:gdLst/>
            <a:ahLst/>
            <a:rect l="l" t="t" r="r" b="b"/>
            <a:pathLst>
              <a:path w="276" h="102">
                <a:moveTo>
                  <a:pt x="12" y="102"/>
                </a:moveTo>
                <a:lnTo>
                  <a:pt x="0" y="42"/>
                </a:lnTo>
                <a:lnTo>
                  <a:pt x="144" y="30"/>
                </a:lnTo>
                <a:lnTo>
                  <a:pt x="186" y="0"/>
                </a:lnTo>
                <a:lnTo>
                  <a:pt x="276" y="96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43360" y="2629080"/>
            <a:ext cx="156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46320" y="431640"/>
            <a:ext cx="4589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3960" y="206280"/>
            <a:ext cx="75096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rotulie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19120" y="2857680"/>
            <a:ext cx="3888000" cy="361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68400" y="2298600"/>
            <a:ext cx="4167000" cy="63504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44960" y="2857680"/>
            <a:ext cx="590760" cy="5140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9585800">
            <a:off x="5450040" y="2685600"/>
            <a:ext cx="247320" cy="4003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05040" y="2019240"/>
            <a:ext cx="175248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15880" y="2667240"/>
            <a:ext cx="543960" cy="11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186160" y="3331440"/>
            <a:ext cx="773280" cy="2064240"/>
            <a:chOff x="5186160" y="3331440"/>
            <a:chExt cx="773280" cy="2064240"/>
          </a:xfrm>
        </p:grpSpPr>
        <p:sp>
          <p:nvSpPr>
            <p:cNvPr id="125" name=""/>
            <p:cNvSpPr/>
            <p:nvPr/>
          </p:nvSpPr>
          <p:spPr>
            <a:xfrm rot="21222000">
              <a:off x="5324040" y="3484440"/>
              <a:ext cx="533520" cy="1887480"/>
            </a:xfrm>
            <a:custGeom>
              <a:avLst/>
              <a:gdLst>
                <a:gd name="textAreaLeft" fmla="*/ 117360 w 533520"/>
                <a:gd name="textAreaRight" fmla="*/ 416160 w 533520"/>
                <a:gd name="textAreaTop" fmla="*/ 415080 h 1887480"/>
                <a:gd name="textAreaBottom" fmla="*/ 1472400 h 18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60320" y="3515400"/>
              <a:ext cx="207000" cy="1875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1222000">
              <a:off x="5193720" y="3354840"/>
              <a:ext cx="438120" cy="162000"/>
            </a:xfrm>
            <a:custGeom>
              <a:avLst/>
              <a:gdLst/>
              <a:ahLst/>
              <a:rect l="l" t="t" r="r" b="b"/>
              <a:pathLst>
                <a:path w="276" h="102">
                  <a:moveTo>
                    <a:pt x="12" y="102"/>
                  </a:moveTo>
                  <a:lnTo>
                    <a:pt x="0" y="42"/>
                  </a:lnTo>
                  <a:lnTo>
                    <a:pt x="144" y="30"/>
                  </a:lnTo>
                  <a:lnTo>
                    <a:pt x="186" y="0"/>
                  </a:lnTo>
                  <a:lnTo>
                    <a:pt x="276" y="9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5649840" y="3009960"/>
            <a:ext cx="76320" cy="51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9800" y="1139760"/>
            <a:ext cx="84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étirement du quadriceps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contraction du quadrice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62440" y="2647800"/>
            <a:ext cx="266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2647800"/>
            <a:ext cx="981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00000" y="2647800"/>
            <a:ext cx="266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46320" y="431640"/>
            <a:ext cx="4589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3960" y="206280"/>
            <a:ext cx="75096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rotulie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65360" y="431640"/>
            <a:ext cx="338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9800" y="113976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lorsqu’un muscle est étiré, il se contra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nécessite une innervation inta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1080" y="206280"/>
            <a:ext cx="7729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charactéris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74800" y="3452760"/>
            <a:ext cx="5543640" cy="131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intervention de la moelle épinièr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intervention des centres cérébraux supérieu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65360" y="431640"/>
            <a:ext cx="338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2760" y="2581200"/>
            <a:ext cx="8508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décérébration : section du tronc princip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éparation de la moelle épinière et des centres cérébraux supéri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expérience sur le chat décérébré (Sherringt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lexion des extenseurs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augmentation de la contraction des muscles extens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relâchement des muscles fléchiss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1080" y="206280"/>
            <a:ext cx="7729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charactéris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7680" y="1128600"/>
            <a:ext cx="5543280" cy="131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intervention de la moelle épinièr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intervention des centres cérébraux supérieu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5880" y="5091120"/>
            <a:ext cx="741528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réflexe myotatique = réflexe médul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innervation croisée  entre muscles fléchisseurs et extenseurs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7:47:16Z</dcterms:created>
  <dc:creator>esteve</dc:creator>
  <dc:description/>
  <dc:language>en-US</dc:language>
  <cp:lastModifiedBy>roux</cp:lastModifiedBy>
  <dcterms:modified xsi:type="dcterms:W3CDTF">2008-04-08T09:27:07Z</dcterms:modified>
  <cp:revision>1041</cp:revision>
  <dc:subject/>
  <dc:title>Présentation PowerPoint</dc:title>
</cp:coreProperties>
</file>